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017-A7B0-46A6-988E-5F6215F3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2F6-0D03-4793-B69D-947A06E6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785-1285-4A20-8215-5D176840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344-A1A7-45CE-B122-5B15D44C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23BA-E876-4FCF-BE64-F077981F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CE67-F17B-4773-A8B1-390F69CA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22E3-9EEA-454A-9B11-1E0531F8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E36D-E0F1-48AB-B448-D4BC6426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0B55-BEE5-414E-82DE-9F172EB5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55BD-37E3-4F5F-A64E-777B8D47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7A01-AF64-4F9D-847C-686959F4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780-C7B0-4ADA-86DF-DA2E244D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7810-2756-45DD-BB4F-32F80A44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B12D-AA91-4DB7-9E8D-57F2EF81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F4A9-6EAF-4E6D-ADD0-C361A441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811A-A105-480D-8590-CF73188D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C3DF-713C-46C4-B852-20539826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D49-5E6F-44F3-B4CD-83EF7C27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26E-9825-4D0F-91CD-EE374BE9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230-C57E-4BD3-BD1B-26B7C1ED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A13-8137-48A8-8414-9410038E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072-5370-4AC7-A584-DA0CBFA5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F51-ABF3-4758-A3CC-75E610C6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368-7FDB-4588-A001-D9DA60C0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C931-3064-4194-992B-5A67C99660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BF1C-90F1-4230-A215-009E6DC270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y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výběrový t-tes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 pro nezávislé výb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 pro závislé výb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výběrový t-t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One-Sample T Test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ednovýběrový t-test testuje, zda se průměr konkrétní proměnné liší od zadané hodnoty (např. průměr populac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norma…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říkaz vyvoláme z menu přes Analyze Compare Mean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One-Sample T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dáme testovanou proměnnou a hodnotu (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Test Value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Options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můžeme případně zadat konfidenční interval (je přednastaven na 95%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7596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386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výběrový t-t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Verdana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qvys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V populaci je průměrný IQ skór 100 bodů. Zjistěte, zda se průměrný počet bodů u zkoumaného vzorku liší statisticky významně od populac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ředpokládejme, že průměrná výška mužů v celé populaci je 179,5 cm. Spočítejte, zda se průměrná výška ve výběrovém souboru liší statisticky významně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ne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Independent-Samples T Test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estuje rozdíly mezi průměry dvou skupin případ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říkaz vyvoláme z menu přes Analyze Compare Means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Independent-Samples T Tes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dáme testovanou proměnnou (Test Variable) a proměnnou ro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ělující soubor na podskupiny (Grouping Variab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!j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 nutno skupiny dále vymezit hodnotami proměnné (Define Group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31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ne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Verdana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istěte, zda je statisticky významný rozdíl mezi průměrným počtem bodů na inteligenční test AIT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ait_celk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mezi žáky programu Obecná škola a žáky základní školy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skupina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istěte, zda je statisticky významný rozdíl mezi průměrným počtem bodů na didaktické testy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mezi žáky programu Obecná škola a žáky základní školy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skupina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aired-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Samples T Tes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nto t-test se používá k porovnání průměrů dvou proměnných u jedné skupiny osob, např. měření před a po působení nějaké proměnné. Jiná možnost je porovnávat skutečné páry osob v určité proměnné (pak musí být tyto proměnné v datech jako jeden případ – pár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říkaz vyvoláme z menu přes Analyze Compare Means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aired-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Samples T Tes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537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580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Příklad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 datovém souboru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anx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najdete údaje o úzkostnosti pacientů před terapií a po terapii. Kromě toho, byly pokaždé použity dva dotazníky: v jednom dotazníku posuzovali svou anxietu sami (anx_sub) a ve druhém byli posuzováni nezávislým odborníkem (anx_obj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jistěte, zda se úroveň úzkosti po terapii změnila a zda je rozdíl statisticky významn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alší příklady na procvič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GSS93 Sub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průměrný počet dětí v tomto souboru amerických respondentů od evropského průměru 1,79 dítěte (pozn. fiktivní hodnota)?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ild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alší příklady na procvič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1991 U.S. General Social Surve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ší se muži a ženy v míře prestiže jejich povolání? (proměnné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restg8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ší se matky a otcové respondentů v počtu let formálního vzdělání? (proměnné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a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a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 liší se respondenti a jejich manželky/manželé? (proměnné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sp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9T09:17:10Z</dcterms:modified>
  <cp:revision>270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