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483-C5EC-440B-B499-3F0F434D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37B-3F32-40CD-B09F-A81DD045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9C9E-94A8-4BAD-9EDB-112F7C3D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99D-C11B-4B1E-8A07-6587E725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A2AA-E7D9-4BEC-9E90-A7E892C0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2A5A-7482-4DBD-9115-8056B701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D1AD-9B55-4952-9703-5F0CD7DC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D324-1D1F-496E-B287-379EC7F0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EBD6-05C0-4F5F-ACF0-B1B3083E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7864-45C7-4C3C-BC81-4EFA0196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57E3-84CC-43E1-9194-29F0A4C9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69B-C73E-4B3F-B15E-9C7A78AF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FAF7-7BE9-4605-A88B-464B5B7A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56F0-3794-4FE9-B47E-7098E510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3E32-6A89-4270-9A5F-72873D02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FC56-1070-4EAA-A2D7-A285DDF6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EB68-B2A8-46BB-9831-7659DB8B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F42A-0873-4EEC-AA3B-929C999E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EB9-9432-4491-9D6A-5784A2F0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DD4-F9BF-4D13-A781-C7E92EC2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3D3-E73B-47D1-9A4A-EEB5732F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DB4-794B-430A-BB84-52A64685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C46-3777-4AEB-A61E-5B2E0500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A18-2C7B-46E9-A58A-A1D5AE57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D90C-5530-4A10-9FFF-1C37686E14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8502-DBE5-48CB-BB56-554A6CE90A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eskriptivní statisti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učitel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ý je vztah mezi délkou praxe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prax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prožívanou zátěží při práci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meist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ý je vztah mezi psychickou odolností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h_skor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prožívanou zátěží při práci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meist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kriptivní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pište rozdělení hodnot proměnné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vyjadřující počet bodů v didaktickém testu.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 byste řekli o žákovi, který získal 65 bodů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kriptivní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adolesc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typy škol navštěvovali zkoumaní adolescenti (proměnná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schoo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? Zobrazte i grafick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pořadí přisuzovali adolescenti ve svém hodnotovém žebříčku hodnotě "být užitečný společnosti" (proměnná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value4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? Proměnná je ordinální, rozsah hodnot 1-7, kde 1 je vysoce významná hodnota a 7 nevýznamná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kriptivní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o je nejčastějším předmětem hádek mezi adolescenty a jejich rodiči?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ight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ight1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Employee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 kolik průměrně je rozdíl ve výši nástupního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albeg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současného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alar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platu? je rozdíl statisticky významný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muži a ženy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gend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ve výši nástupního platu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albeg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v počtu let formálního vzdělání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edu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jaký vliv má na výši platu současně pohlaví zaměstnance a případná příslušnost k minoritě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minori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ý je vztah mezi pohlavím zaměstnance a jeho pracovním zařazením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jobca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dolesc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adolescenti z různých typů škol (school) ve své preferenci hodnoty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mít uspokojující práci (value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adolescenti z různých typů škol v položce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už jsi někdy něco ukradl? (steal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chlapci a dívky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v tom, jak jejich rodiče kontrolují, kam jdou večer ven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monit0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5-19T06:22:05Z</dcterms:modified>
  <cp:revision>299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