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CF80-39A5-45ED-BCB0-4158668E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8EA9-4B62-4117-9C71-4146821E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E0DD-D8B8-4CEE-8CEB-A4B14BB9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6243-CA2B-4A48-B6DA-2141AE60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6F14-F667-473F-B368-F5DCA296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2E9D-5072-4FDE-8A94-5185C00E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BBAD-5A86-4281-BF67-8AE0C3C2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8819-F923-4424-BCDE-2244DF02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E4F9-9AA8-4C48-8148-7DD5976F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B508-FE92-4FD5-B920-7DD05A72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A774-BA28-4F52-88A4-9798CB80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1425-FEE4-405F-ABE0-BF203D55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B7E4-2EC0-4EA8-8BBF-61DF6EB5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41D5-A3B6-4DDA-A210-EF02E3BC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F7AE-4CA8-447E-9FB2-82B627D9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3BAF-55E2-48B3-B50F-89A78B5C2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06B8-DB1A-4439-9098-475D637B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E83E-E35E-4AB9-B34E-4DAEADAE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24E1-AFE7-4063-BCF5-D556F61F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C57A-1A0D-4F3D-B3BD-C7557249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3576-45EC-424B-A5DD-4D2147AE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24E9-C6BE-49DF-B848-92795386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FCBE-A5D4-4162-938B-1EBFD672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8690-F131-41A9-82DE-EB046F14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B42E-06E2-4150-9536-1EB552B26F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1583-3C9B-4C6A-ADBC-05019FCF8B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parametrické pořadové tes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í-kvadrá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ntingenční tabulk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st dobré shod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ouvisí spolu skutečnost, že se rodiče respondenta rozvedli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rozvod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 vydařenost manželství (rodice), tak jej vnímali respondenti u svých rodičů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ouvisí spolu skutečnost, že se rodiče respondenta rozvedli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rozvod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 a vydařenost respondentova vlastního manželství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funkc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sou manželství podnikatelů méně vydařená? a co manželství učitelek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ý je vztah mezi hodnocením vydařeností manželství rodičů a hodnocením dětství respondent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parametrické testy najdeme v menu pod </a:t>
            </a:r>
            <a:br>
              <a:rPr sz="3000"/>
            </a:b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nalyze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-&gt;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 Nonparametric Tes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de si vybereme podle typu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nalýz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doles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rovnejte, zda se liší školní prospěch chlapců a dívek, měřený proměnnou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gr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tázka zněla „Jaké známky jsi měl na posledním vysvědčení?“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měnná má 7 kategorií od 1= převážně jedničky až po 7= převážně čtyřky a pětk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ingenční tabul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ntingenční tabulky spočítáme příkazem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nalyze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-&gt;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 Descriptive Statistics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-&gt;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 Crosst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í-kvadrát u nich zadáme tlačítkem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 Statistics…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Chi-squar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čekávané četnosti nebo relativní četnosti atd. zadáme tlačítkem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Cells…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2100" spc="-1" strike="noStrike">
                <a:solidFill>
                  <a:srgbClr val="000000"/>
                </a:solidFill>
                <a:latin typeface="Verdana"/>
              </a:rPr>
              <a:t>adoles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3 položky v dotazníku zjišťují výskyt chování pokládaného za nežádoucí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oměnná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mok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je odpověď na otázku „Už jsi někdy kouřil/a cigarety?“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oměnná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chea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„Už jsi někdy podváděl/a při písemce?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oměnná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teal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„Ukradl/a jsi někdy peníze nebo nějakou věc?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liší se výskyt některého z těchto nežádoucích projevů u chlapců a dívek? (proměnná </a:t>
            </a:r>
            <a:r>
              <a:rPr b="0" i="1" lang="cs-CZ" sz="2100" spc="-1" strike="noStrike">
                <a:solidFill>
                  <a:srgbClr val="000000"/>
                </a:solidFill>
                <a:latin typeface="Verdana"/>
              </a:rPr>
              <a:t>sex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a u studentů různých typů škol? (proměnná </a:t>
            </a:r>
            <a:r>
              <a:rPr b="0" i="1" lang="cs-CZ" sz="2100" spc="-1" strike="noStrike">
                <a:solidFill>
                  <a:srgbClr val="000000"/>
                </a:solidFill>
                <a:latin typeface="Verdana"/>
              </a:rPr>
              <a:t>school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vote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yl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rozdíl mezi muži a ženami v tom, koho volili v prezidentských volbách? (proměnné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sex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pres9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/ vote for clinton, bush, perot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yl rozdíl mezi voliči různého věku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geca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a vzdělání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degre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nominální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ordinální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yto míry spočítáme spolu s kontingenčními tabulkami - Crosstab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položky menu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nalyz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Descriptive Statistics 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Crosstab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 zadání proměnných klikneme n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tatistics…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a zvolíme příslušné koeficient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fami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stěte, zda spolu souvisí model rodinných kompetencí (proměnná model) a vydařenost manželství (rodice), tak jej vnímali respondenti u svých rodičů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měnné jsou zvlášť pro muže a ženy - liší se vztah těchto proměnných u mužů a ž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5-03T18:49:02Z</dcterms:modified>
  <cp:revision>266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