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0FB-2C20-46A8-B583-C38C6563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E15-E3EE-4D51-87B6-80F64809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E1A-5125-41A7-9FF5-300EA984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1C8-B7BF-41E7-BA99-34C85C05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C8E9-F321-4ACC-AE13-AE0D2C84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4F5B-7284-4B41-9104-194AEA35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B3DC-479A-4864-B193-7408518B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5018-43C9-487E-ABD3-4FCE35DF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818F-BE83-4FA8-943D-BE84E50A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A6A2-9431-4AFA-8070-C241014B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5058-260D-4C55-9C67-1D5653F3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5EF-E8DD-450A-9911-553C87C9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A834-BED1-4A6E-806B-9B1D57BB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9E39-AA40-4FB4-963A-605CFBC6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2FF6-7AC3-4F05-BECD-6C4FCCA3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C76F-9F1E-42A4-A072-24EC3C69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E5B1-CB87-4368-A177-D36BFA4B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26D-680B-4CC5-A58D-6F9D9E5A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45B-9DD8-4B97-AC35-E3BF3882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C13-ECC8-47F2-9B55-01B3C62E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4B6-DC2B-427F-98F5-7DDEFDBB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240-2A86-4DB5-AB8C-CE8634EC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D7A-9341-472F-95BD-F85D2693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BC3-DEF4-40E7-84F9-76C5EF39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4556-751B-445F-8754-7F6402AB5D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9BAB-5DB8-4D5F-9C6A-D934E22E31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prava dat před analýzo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spořádání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trola přesnosti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tvoření struktury databáz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kládání dat do P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ytvořte strukturu databáz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obsahující tyto proměnné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íslo os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méno os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k (v lete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hlaví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0 = muž, 1 = žen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dinný stav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0 = svobodný, 1 = ženatý/vdaná, 2 = rozvedený, 3 =vdovec/vdov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jem (Kč/měsí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čet dět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pověď na položku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Většinou jsem se sebou spokoje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pověď na položku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Občas si připadám jako bezcenný člověk</a:t>
            </a:r>
            <a:br>
              <a:rPr sz="2600"/>
            </a:b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pověď na položku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ám sám sebe rád</a:t>
            </a:r>
            <a:br>
              <a:rPr sz="2600"/>
            </a:b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1 = vůbec nesouhlasím, 2 = spíše nesouhlasím, 3 = něco mezi,  4 = spíše souhlasím, 5 = zcela souhlasí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Data uložt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o souboru pod názvem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este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adejte fiktivní 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5 – 10 osob: u jedné z osob budou některé údaje chybět (např. neuvedla příjem a odpověď na položku 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kontrolujt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zda rozsah hodnot proměnných u zadaných dat odpovídá předpokládanému rozs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ytvořte novou proměnnou – celkové sebehodnoc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která bude průměrem z položek 8 – 10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! Ještě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edtí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třeba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obrátit položku 9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která je formulována v opačném směru než ostatní dvě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Vytvořte novou proměnno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která rozdělí soubor na dvě skupiny –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bezdětné osoby a osoby s alespoň jedním dítěte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zachovejte i hodnoty původní proměn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Vytvořte novou proměnno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která rozdělí soubor na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tři příjmové skupin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osoby s příjmem pod 10 tis. Kč, 10 tis. – 20 tis. Kč a nad 20 tis. Kč (zachovejte i hodnoty původní proměn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všech proměnných (včetně nově vytvořených) určete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a jaké úrovni měř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sou měře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3-02T06:37:30Z</dcterms:modified>
  <cp:revision>213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