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DE2-4CDC-47D8-A847-A27A32FB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024-6222-4C4D-9A09-636535D0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DDA-8C20-453C-8C87-F1B1D186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311-EFBA-4182-910C-4DBD04C4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7855-C1A5-4CFA-8ADF-3EAC3AC3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CF8E-334E-4418-9332-98909A66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B40F-D04C-4AE1-AFDA-F6E0A132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2918-B71E-4985-A0AF-96079799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B414-43D4-445F-8983-83973E66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9A72-1E3D-43C1-90F7-035AEABB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8A38-AF3B-4B14-8A78-E06638F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857-7260-418B-98DE-D857EF2B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CB7B-5417-4A18-87FF-3BFB9061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94E8-662F-4A61-969E-6AD4F229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62A3-30A8-4115-938E-B258940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BEFD-85B7-4492-BA81-B6DC86B4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98A6-5031-45B6-A272-11527B20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150-1CC9-415D-9E75-97DC8F87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DBB-E5FA-4022-A0AA-58FDAB2E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6C7-C638-4C34-B282-98C97063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EC6-C80C-44CC-A11F-A124701E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1C4-B214-4953-9CFD-779381B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7C1-0774-4D92-BDC4-8ACF2E58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A5E-90F7-4E4E-8E27-120B59A5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D061-B065-468A-B2AB-3007D117E5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4876-C467-4AE1-9C11-B5333CB851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podsouboru (Random Sample of Cas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ová chyb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podí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áhodný výběr podsoubor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můžeme nechat vybrat náhodný vzorek případů z datového souboru pomocí příkaz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de zvolím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andom Sample of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ová chyba průměr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ní (výběrovou) chybu průměru můžeme vypočítat např. pomocí příkaz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olb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atistic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zatrhnem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.E.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olb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ption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Výběrová chyba průměru - příklad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GSS93sub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průměr, směrodatnou odchylku a standardní chybu průměru pro věk prvního sňatku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agewed - Age When First Marrie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berte náhodný vzorek o velikosti 10% původního souboru a spočítejte totéž, co v prvním příklad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stupně vyberte vzorky o velikosti 15%, 25%, 40%, 50%, 75% a 90% původního souboru a sledujte, jak se mění průměr v dané proměnné a standardní chyba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odhad průměru je v SPSS možno vypočítat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xplo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-Descriptive Statistic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příkaz počítá také statistiky pro podsoubory osob vymezené nějakou proměnnou (např. pohlaví responden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y (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GSS93subs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věk v době prvního sňatku (pro celý soubor a pro muže a ženy zvlášť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0% a 99% intervaly spolehlivosti pro věk v době prvního sňat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počet hodin strávených denně sledováním televiz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tvhours - Hours Per Day Watching TV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y spolehlivosti pro podí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podíl osob, kter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ouhlasí s trestem smrti za vražd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cappun - Favor or Oppose Death Penalty for Murder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i myslí, že marihuana by neměla být legalizována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grass - Should Marijuana Be Made Legal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kládají svůj život za vzrušující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life - Is Life Exciting or Dull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snášejí heavy metal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hvymetal - Heavy Metal Music, Dislike Very Much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04:24Z</dcterms:modified>
  <cp:revision>256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