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FFB-281E-4476-ADF1-D57568BD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2AE-FE02-48B4-94BF-AABB85D2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EE06-05B5-4C63-AB8F-EA22E01B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980-E75A-49F5-ADF9-5D2E1FE4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FDDB-3419-4FC5-9187-C31CAA1F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1356-8AB9-47A2-82D3-E7B3EA4E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7B81-2881-4044-8A54-5F587E31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1459-4CC8-40CC-A17B-46EAA109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9491-3AD9-49E0-BCEB-09988201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06FB-6E83-4774-B10E-3E04F1AF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88B0-6C4D-44BF-8708-C6BEFE93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BF3-9C7B-4D6A-B31E-50F67957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1BA6-1704-4D96-A21E-06283E92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90D1-E66E-4B4A-9632-034D29D6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B77C-6A2F-4675-A4EB-D4DD112F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3034-73E4-4BF4-8BE8-AF1C5642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7FEF-E078-4B9A-83C5-0A4A22AA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843-B5AC-4F2F-B41A-24E5F9C4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85A-3709-413E-B1BE-5F9485D3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F75-F3B8-42BF-AB51-BDBCA066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A57-E2E4-49C2-B82E-A7672E36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065-D26B-4477-8B44-4DEB292E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502-22FF-4B5B-89F4-68C3C740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140-89C9-4802-991A-D0686107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0CE0-A869-461C-91CD-509F8BAE04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51F1-198A-47E2-BADF-2545231818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y četností (Frequenci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 a var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pisné statistiky (Descriptiv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abulky četnos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y četností vytváříme příkazem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requenci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ožka menu ANALYZ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requenc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abulky četnos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vybereme ze seznamu zobrazeného vlev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rovněž nechat zobrazit grafy (jeho typ zvolíme kliknutím na Char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spočítat statistiky (Statistic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běr podsouboru případ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 výběru podsouboru případů, vymezených určitou kategorií proměnné, slouží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elect Cas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oložka men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chceme pouze spočítat výsledky zvlášť pro každou kategorii určité proměnné, použijeme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plit Fil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tamtéž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 (Frequencie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bylo složení souboru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adolescen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(pohlaví, věk, typ školy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pište, k jakému náboženství se respondenti hlásí, jakou udávájí míru religiozity a frekvence návštěvy kostela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relig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howrelig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urchgo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lik sourozenců adolescenti nejčastěji mají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ib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a kolik přátel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rndnum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Kolik % adolescentů má max. 5 přáte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terý z nežádoucích projevů je u adolescentů nejčastější - krádeže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ea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, kouření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mok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 nebo podvádění při písemkách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ea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Jak je tomu u dívek a chlapců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chování adolescentů je pro jejich rodiče nejméně přijatelné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fl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fl1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nejčastějším předmětem hádek mezi adolescenty a jejich rodiči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ght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ght12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nejčastějším předmětem kontroly adolescentů ze strany rodičů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onit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onit10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cripti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intervalové a poměrové proměnné můžeme využít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scriptiv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ožka menu ANALYZ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vybereme ze seznamu zobrazeného vlevo a konkrétní statistiky jsou pod položk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ptions...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Employe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lik mužů a žen? V kterém oddělení je nejvíce pracovníků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mají vzdělání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ý je průměrný plat? průměrný nástupní pla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 kterém oddělení jsou nejvyšší plat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rozdíly mezi platy mužů a žen?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3-16T23:27:05Z</dcterms:modified>
  <cp:revision>254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