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973-CE1D-4E94-835B-3DF07718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687-1F4C-48CA-8556-247EDD1B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54B-CADE-4ABB-B2C1-3D746084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2DD-B6B1-41CE-8F08-42620E16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CDFB-5B44-44BC-B525-417F4A87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61D8-4752-444D-BAF7-B2467B42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0484-3AA3-495A-B9D0-4EE19351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16AE-2F2C-4AB6-BBB9-355C3A73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D090-7E29-4943-9638-DD824512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9086-07E9-44C3-9BE0-EE151148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1C39-7201-438E-B57F-0496CA4F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B94-EDFA-4ED7-A34F-5C1175DB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A22-4652-4D1A-82C7-3C3FA456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FB16-4661-4355-A399-B1517587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DDE5-CCB3-48A1-9562-2B79FCAB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8364-4C1D-4346-82D8-6E7AF213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3244-3159-4213-9421-AC798B49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8A8-D270-475C-ADFD-3868A95E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E86-C863-428C-BF02-4E35DB5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5BC-CF75-4CC9-9FB8-A31435C2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659-255B-4A39-BF15-1D754ABF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F55-B379-41DA-AAE2-75D6A7FA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E10-CF5E-46ED-8188-D078F19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32D-BAFA-4FFB-9DBD-7F1853FA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026C-A586-4DB5-83B8-2394EFDD77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DC4-D7B5-4271-BA9C-F44BAFE47F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ční a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catterpl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re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mploye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 které proměnné dokážeme nejlépe předpovědět současný pl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acovníka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roměnná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o nezávislé proměnné zadejte předchozí zkušenosti pracovníka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evex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vzdělání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, délku zaměstnání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jobtim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příslušnost k minoritě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inorit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pl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ro grafické zobrazení vztahu dvou kardinálních proměnných použijeme </a:t>
            </a:r>
            <a:r>
              <a:rPr b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catterplot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ostup je z 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s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catter…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Simpl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okud rozlišujeme závislou a nezávislou proměnnou, nezávislá se obvykle zadává jako osa X a závislá jako osa 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Pearsonův koeficient spočítáme korelace přes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late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Bivari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ro pořadová data spočítáme Spearmanův koeficient korelace (zatrhneme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Spearman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polu souvisí inteligence měřená testem ait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it_cel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školní výsledky, tj. počet bodů v didaktických testech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ouvisí spolu inteligence a postoj ke škole a učení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el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ostoj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učitel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uropsychická zátěž při prác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eist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délka prax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ax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á psychická odolnost (celkové hardiness skore –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h.skor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neuropsychická zátěž při prác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eist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á psychická odolnost (celkové hardiness skore –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h.skor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extraverz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xtrav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korelace ze třetího příkladu bez outlier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á číslo 57 (v souboru je 44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straníte ho pomocí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elect cases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f condition is satisfied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islo ~= 57</a:t>
            </a:r>
            <a:br>
              <a:rPr sz="2600"/>
            </a:b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(korelace se zvýší z 0.307 na 0.37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ednoduchou i mnohonásobnou lineární regresi zadáme z 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Linear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o políčka Dependent zadáme závislou proměnno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(s)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zadáme nezávislou proměnnou (či proměnné - pro mnohonásobnou regres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volíme metodu, jak mají nezávislé proměnné vstupovat do analýzy standardně je nastavená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– všechny najednou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ále můžeme zadat grafy (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Plots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, nechat uložit spočítané hodnoty (např. predikované hodnoty, reziduály apod. -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av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jistěte, jaký je vztah mezi úrovní obecných rozumových schopností (měřeno testem inteligence AIT) a výsledkem v didaktických testech. (spočítejte jednoduchou regresní analýz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istěte, které proměnné také ovlivňují výsledek didaktických testů - inteligence, postoj k učení, dobré a špatné chování ve škol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2T01:03:38Z</dcterms:modified>
  <cp:revision>257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