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7997-49DD-4021-B16F-D898D8BFC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44E6-68C1-4C64-834A-DC45070E6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0486-6BAF-4B87-9780-D450ED9DA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BDD8-2628-4234-A5E4-DC4FDE642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427A8-1A03-4683-BA84-494166E14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ABDBE-E75D-47A7-859F-4143DF54F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2A59D-CC81-483B-BCEE-39B52F6BF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48804-1524-4233-92CD-9F9201016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90B87-49BC-4256-B8F8-DE2D4C9AC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3942B-05C5-4140-9DCB-72BFF7045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1E8D2-0C66-47F7-9678-1BD917105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5838-3784-4140-B1A0-8F219B523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0FEDA-A22A-4A92-B47D-6530101C0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D043A-2CA8-49D7-8A94-BBA71469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C02B5-EEB6-4AB9-8E66-23163EDFE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27591-EF5B-43D6-B9FF-2A5EE0B9D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7741C-F647-4536-A019-638899593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2B50-0A02-419A-B82C-DA73E8677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B31E-E330-42A5-A8A3-7F1B395B4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231E-2A45-47C9-879D-8A7B5E7C9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5173-0F5E-4495-BC93-7072672AF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0161-AD1A-4C25-B90B-09F0362C2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FD46-B664-4CD7-AEF3-4F86C5945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ECBA-B0C6-4B59-8F60-4D79B41C1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CA283-E051-462C-8850-B9B5AB3BF63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7F543-DCF6-4D47-AEB8-304AE289937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opisná statistik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cedura Explore, krabicové grafy, graf stonek a lis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anipulace s proměnným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ata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zac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ytvořte novou proměnnou, která rozdělí soubor podle výsledků v didaktickém testu na dvě polovin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ata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zac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počítejte popisné statistiky všech proměnných, zobrazte graf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 kardinální proměnné použijte proceduru Expl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ata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zac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počítejte popisné statistiky všech proměnných, zobrazte graf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 kardinální proměnné použijte proceduru Expl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ýsledky v didaktickém testu zobrazte zvlášť pro žáky z měst, velkoměst a vesnic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Transformace d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obrácení položek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některé položky bývají formulovány v opačném směru než zbytek škály;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ejich hodnoty je třeba překódovat (např. u 5 bodové škály se bude 1 rovnat 5, 2 bude 4 atd. až 5 bude 1)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Transformace d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253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zorec pro obrácení škály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nová hodnota = nejvyšší hodnota +1 – stará hodno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 SPSS je možno provést pomocí příkazů COMPUTE nebo RECOD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Transformace d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výpočet celkových skórů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většinou součtem hodnot několika proměnných (příp. průměr atp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 příkazu COMPUTE se zadá příslušný vzorec, </a:t>
            </a:r>
            <a:br>
              <a:rPr sz="3000"/>
            </a:b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apř. pro součet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celk = p1 + p2 + p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ebo rovnou funkce (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sum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mean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 </a:t>
            </a:r>
            <a:br>
              <a:rPr sz="3000"/>
            </a:b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celk = sum (p1 TO p3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Transformace d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sloučení hodnot proměnných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např. ze 7 bodové škály chceme udělat 3 bodovou; nebo z věku zadaného v letech vytvořit 3 věkové skupin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říkaz RECOD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ata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zac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ytvořte z proměnné OBEC novou proměnnou, která rozdělí žáky na žáky z měst (včetně velkoměst) a vesnic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ata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zac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ytvořte novou proměnnou, která bude rozdílem mezi počtem pozitivních a negativních projevů žáků ve ško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ento rozdíl porovnejte u žáků z městských a vesnických škol (pomocí Explore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5T18:17:40Z</dcterms:created>
  <dc:creator>Helena Klimusová</dc:creator>
  <dc:description/>
  <dc:language>en-US</dc:language>
  <cp:lastModifiedBy>Helena</cp:lastModifiedBy>
  <dcterms:modified xsi:type="dcterms:W3CDTF">2004-04-05T22:24:10Z</dcterms:modified>
  <cp:revision>255</cp:revision>
  <dc:subject/>
  <dc:title>adrenalin expri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