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D55-3BDC-4289-AA68-D56224EF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BA3-922B-4D72-949E-F8327A84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DCA-D748-4CAD-BF33-411A32EF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3AA-7391-4769-B2E4-21717470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8B8A-6E9F-44D3-8302-A83D967F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D7AB-EA44-4EA8-9E71-4F1F7CCD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0ECD-3C2D-4BD4-8D2C-F2B2D720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74F6-9E43-430D-9D3F-AEA088A7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C7F0-A052-49A3-8F07-E398A6BA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466A-825A-4E1C-B4FB-A87B07AC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EE38-6CC6-4C5C-9020-69FE63DE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32E1-99EF-4C35-B9AC-7F84599A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CCFE-7638-43A4-985E-C05EA9B9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0EFC-D076-4618-B468-DE01664B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85EB-CF27-434D-A89B-17061A1D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ADBE-FE15-4FB9-A302-A4FDF08E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B984-D21B-4F5F-8776-3683CEB7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955C-7AD6-4B5E-A445-7B4BAA31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DF0-7765-4ACD-9F73-EA5BCC56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7FD-37EB-4D01-A5A2-BA39330E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55F-F4E0-41E6-9D59-60BC23D0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F587-0B91-4827-8441-D816BB5F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5B7-DFDD-4584-8B9B-B3FE48DA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1F8-04CF-4B63-950C-D0A6BA9A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120C-14F6-4B5F-A9A3-E9CA75F848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3291-B571-472A-B5B2-1D102775CC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ne-way ANOV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u rozptylu s jedním faktorem je možno zadat v Compare Means   One-Way ANO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eskriptivní statistiky, grafy a testy homogenity rozptylů se zadávají v Op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nohonásobná porovnání v Post Ho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2492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e žáci z velkoměst, měst a vesnic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obe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liší v průměrném počtu bodů na didaktické testy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idak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ano, který typ obce se průkazně liší od kteréh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statní typy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 zadávají přes Analyze  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General Linear Model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GL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Univariate se zadává faktoriální ANOVA (a ANCOV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Multivariate se zadává vícerozměrná analýza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Repeated Measures se zadává analýza pro opakovaná měř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5940360" y="206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OVA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e žáci z velkoměst, měst a vesnic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obe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žáci s běžnými osnovami a s osnovami Obecná škola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kupin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liší v průměrném počtu bodů na didaktické testy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idak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aná měř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rvním okně se zadává počet opakování měření (number of level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následujícím okně se přiřadí proměnné z jednotlivých měření a případné další fakto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aná měření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xiety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sahuje data ze 4 následných měření – počet chyb v testu paměti (proměnné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trial1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ž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trial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stované osoby byly rozděleny na dvě skupiny – s vysokou úzkostí a nízkou úzkostí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xie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aná měření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e počet chyb v testu mezi jednotlivými měřeními sníž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da se v počtu chyb lišili úzkostní a neúzkost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 zda se u těchto dvou skupin lišil průběh testování (snižování chyb v následných měřeníc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dolesc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e dívky a chlapci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e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liší ve svých hodnotových preferencích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value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ž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value7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14:56Z</dcterms:created>
  <dc:creator>Helena Klimusová</dc:creator>
  <dc:description/>
  <dc:language>en-US</dc:language>
  <cp:lastModifiedBy>Helena</cp:lastModifiedBy>
  <dcterms:modified xsi:type="dcterms:W3CDTF">2004-04-27T05:27:53Z</dcterms:modified>
  <cp:revision>12</cp:revision>
  <dc:subject/>
  <dc:title>Snímek 1</dc:title>
</cp:coreProperties>
</file>