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93D-AA82-4FCE-B09E-6A51D3A3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334-D9C3-406E-BEC4-268F484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735-D5C2-407D-8B8A-AF0C5E23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482-205E-4D4A-957C-6028847D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DDFD-3AF3-434C-A72C-1C48321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BC9-40E9-47E1-9F3C-EB38FC6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2F3C-A4C8-4CF4-97E8-3FEC007F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6E2-5C85-46EE-B3A6-2FECBB7B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D840-253D-42B0-ACCB-823AB579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8D5-3513-41B6-9267-5EEEF36A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E243-8338-467C-8C00-95DCF7F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394-0277-4ED5-B218-E41E4FBA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A502-6750-462F-9D03-029FAE19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7A4-8607-414A-83D2-5BF13B1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62F4-174F-463A-AF58-F1D79A44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D9F-379F-4EBF-8216-977C0201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A2E4-8C00-42D6-A680-E60E7D05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C15-E417-4C7F-8407-58BB8FA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78B-8ECA-4A08-B9C4-9300FA8F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18F-87A5-40C0-A29B-AC672FC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C4A-1BAB-48C4-ADD5-03AB1AC8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999-3D2A-426F-9937-BAA67D3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6EF-C3B6-4B5F-8DC3-2254786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DF3-F053-49A1-BAC6-025A54C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33EE-C9F0-4894-892C-C939A2BFC6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BC04-B674-487E-9CF9-3A7BC0B7A3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a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řadové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nezávislosti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může být pou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testování rozdělení jedné proměnné (test dobré shod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ování nezávislosti dvou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ro testování nezávislosti proměnných se používá pro nominální nebo ordinální proměnn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jsou uspořádána do tzv. kontingenční tabulky (viz příkl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jímá nás,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del manželství má kategorie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minance žena, dominance muž, koope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řenost má 3 kategorie – vydařené, průměrné, nevydař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zn.: jde o manželství rodičů respondentů, tak jak je posuzují oni (zdroj dat – výzkum doc. Plaňavy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tázka zní: liší se podíl vydařených, průměrných a nevydařených manželství u rodin, kde dominovala matka, rodin, kde dominoval otec a u rodin, kde nedominoval ani jeden z ni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95280" y="620640"/>
          <a:ext cx="849780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20640"/>
                    <a:ext cx="84978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jsou četnosti za předpokladu, že proměnné jsou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914580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932360" y="5300280"/>
            <a:ext cx="28728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našem příkladu bylo 42,2% vydařených manžel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by proměnné (model a vydařenost manželství) byly vzájemně nezávislé, poměr vydařených manželství v jednotlivých modelech manželství by měl být přibližně stejný (a odrážet celkový podíl) – 4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ostatní kategori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– výpoče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každé políčko tabulky se vynásobí celkové četnosti z příslušného řádku se sloupcovými četnostmi a vydělí celkovým počtem oso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a analýza rozptylu jsou tzv. 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 = charakteristika populace (průměr, rozpty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oužívají při výpočtech charakteristiky populace (parame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8243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rvní políčko tabulky (vydařená manželství s dominantní matkou) je očekávaná če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69*65 )/ 1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cs-CZ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1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= 29,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540720" cy="37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788000" y="3716280"/>
            <a:ext cx="431640" cy="217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 očekávané četnosti s pozorova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7,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29,1 +3,9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,1 + 3,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,8 +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4.6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,6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6 + 1,6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9,4 + 11,7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7,3 + (-6,9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4,9 + (-4,8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8,8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18, 7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vyhledání kritické hodnoty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tabulce musíme vypočítat ještě počet stupňů volnosti (df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j. počet řádků -1 krát počet sloupců -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3-1) * (3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f =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kách vyhledáme kritickou hodnot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f = 4 a 5% hladinu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8,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ávěr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ypočítaná hodnota je větší než kritická hodnota  -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čekávané a pozorované četnosti se liší na 5% hladině význam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je malá pravděpodobnost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272360" cy="337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7524720" y="292428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1640" y="285264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278136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hí-kvadrát pro 1 proměnn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zv. test dobré shody (goodness-of-fit test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ě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adem očekávaných četností není tentokrát nezávislost proměnných (máme jen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racují s předpoklady o charakteristikách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t-testu předpokládáme, že směrodatné odchylky výběrů mohou posloužit jako odhad pro směrodatnou odchylk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počítají s normálním rozdělením měřené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určíme očekávané četnosti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způsob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 vyplývá z teorie (např. u genetických dat – poměr osob s projevem dominantní a recesivní ale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bo můžeme předpokládat náhodné rozdělení do katego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očet sebevražd stejný každý den v týdn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íme data pro rok 2000 (Č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95640" y="1844640"/>
          <a:ext cx="4581360" cy="4246560"/>
        </p:xfrm>
        <a:graphic>
          <a:graphicData uri="http://schemas.openxmlformats.org/drawingml/2006/table">
            <a:tbl>
              <a:tblPr/>
              <a:tblGrid>
                <a:gridCol w="1917360"/>
                <a:gridCol w="2664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ter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ře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tvrt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átek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bo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dě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jný počet sebevražd pro každý den v týd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em 1602 sebevraž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čekávaná četnost pro každý den je 228,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výpočet je stej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3,4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k -1 (počet kategorií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f =6 a 5% hladinu významnosti je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2,5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íl je statisticky význam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818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í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potenciální problém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lý počet osob – pokud má velké % políček tabulky očekávanou četnost menší než 5 (v ideálním případě by všechna měla mít oček. četnost nejméně 5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liš velký počet osob – čím vyšší N, tím vyšší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vyjdou významné i malé rozdí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definice – síla a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ložené na chí-kvadrá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 mí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vyjadřuj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vztahu proměnnýc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 případn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ztah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í-kvadrá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 dozvíme pouz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 nějaký vztah mezi proměnnými exist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zda se liší četnosti pozorované a četnosti očekávané za předpokladu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tyto předpoklady splněny, můžeme dojít k nepřesným výsledk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(síla)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yjádřena absolutní hodnotou koeficien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od jaké hodnoty je vztah považován za těsný (někdy uváděn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.70, jindy &gt;0.3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středně těsný či slabý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uze u ordinálních a kardinál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čím vyšší hodnoty jedné proměnné, tím vyš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čím vyšší hodnoty jedné proměnné, tím niž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kazují pouze sílu vztahu dvou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nikoli směr či jiné informace o povaze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išujeme míry založené na chí-kvadrátu a míry P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hodnoty chí-kvadrát je ovlivněna velikostí výběru a počtem kategorií tabu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čelem koeficientů založených na chí-kvadrátu je eliminovat tyto vliv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ů je obvykle mezi 0 a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yšší hodnota, tím těsnější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 – žádný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 – absolutní vztah (z hodnot jedné proměnné můžeme předpovědět hodnoty druhé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oeficienty je možno spočítat 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užíva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míry asociace založené na chí-kvadrátu patří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í (P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ramerovo V (Cram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eficient kontingence (Contingency Coeffici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užívá se pro tabulky 2x2 (tj. pro dichotomické proměnné, např. pohlav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te se tak, že se hodnota chí-kvadrátu vydělí počtem osob a výsledek se odmoc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kontingence – užívá se někdy místo Fí pro tabulky větší než 2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hužel jeho max. hodnota je nižší než 1 (závisí na počtu políček tabulk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žívá se proto příliš čas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ramerovo V – podobný výpočet jako Fí; počet osob se navíc násobí počtem řádků -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kud je počet řádků menší než počet sloupců, jinak počtem sloupců – 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ro tabulky větší než 2x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z minulé přednášky -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= 18.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osob N = 15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 = počet řádků - 1 = 3 – 1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ezávisí na charakteristikách populace ani o nich nečiní žádné záv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vyžadováno normální rozdělení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sou tyto testy označovány také jako „distribution-free“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3x3 – použijeme Cramerovo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(N*m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18.71/(154*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 = 0,24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278136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050920" y="2708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708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3860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378900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3789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 0,246 je poměrně nízká – vztah mezi modelem manželství a jeho vydařeností není příliš těsný (i když statisticky významný – viz výstup v SPS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uvedeny oba koeficienty (Fí i V), je třeba zvolit ten správný pro každou tabul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417080" cy="334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485928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7236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zkratka pr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portional Reduction in Err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oměrná redukce chyby odhad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incip PRE: porovnání odhadu hodnot závislé proměn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bez znalosti hodnot nezávislé proměnné a s její znalos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o kolik se sníží chyba odhadu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ý je vztah mezi pohlavím a užíváním rtěnky?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ítáme 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měli odhadnout, zda náhodně vybraný respondent používá rtěnku: jaká je pravděpodobnost chybného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*převzat z Disman: Jak se vyrábí sociologická znal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očekávat, že více lidí rtěnku nepoužívá než používá (naprostá většina mužů + některé žen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bude výhodnější odhadnout, že náhodně vybraný respondent rtěnku ne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chyby závisí na podílu lidí užívajících rtěn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i tomto podílu osob je pravděpobnost chyby asi 40% (když budeme odhadovat, že nádodný respondent rtěnku neužívá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160 případů bychom se zmýlili 63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chyba zmenšila, kdybychom znali pohlaví respondenta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muže bychom odhadovali, že rtěnku nepoužívá, pro ženu naopak -  že ji 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č potom vůbec používat parametrické tes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noho parametrických testů je poměrně „odolných“ (tzv. robustních) vůči narušení předpokladů testu (např. menší odchylky od normálního rozdělení výsledky nezkresl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arametrické testy mají větší statistickou sílu než neparametrické (větší pravděpodobnost zjištění rozdílu, pokud skutečně existuj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 některé typy analýz neparametrické metody nejsou (např. neexistuje obecně přijímaná neparametrická faktoriální ANOV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4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nali pohlaví respondenta, zmýlili bychom se ve svém odhadu 21x (2 x u muže a 19x u žen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náš odhad zlepši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yby předtím – chyby teď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63-21 = 4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ná redukce chyby (tj. vzhledem k předchozím chybám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2/63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,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hyba v odhadu užívání rtěnky se sníží asi o 67%, pokud známe pohlaví respond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u lambda je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mená, že znalost hodnoty nezávislé proměnné vůbec nesníží chybu v odhadu hodnot závislé proměnné;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é jsou vzájemně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m blí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tím lépe můž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 hodnot nezávislé proměnné předpovědět hodnoty 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počítány 3 varianty koeficientu lambd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metrická – není určeno, co je závislá a co nezávislá proměnn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asymetrické – pro proměnnou 1 jako závislou a pro proměnnou 2 jako závisl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2240" y="2708280"/>
            <a:ext cx="8951760" cy="259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4572000" y="4941720"/>
            <a:ext cx="36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 pro nom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oeficientu lambda se užívají tak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dmanovo a Kruskalov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evyužívá při predikci nejčastější kategorii závislé proměnné jako lambda, ale rozdělení ve všech kategoriích závisle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henov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app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 měřen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hody dvou posuzovatel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ordinálních dat je výpočet založen na poměru souhlasných a nesouhlasných párů případ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obou proměnný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vyšší (nebo nižší) u jednoho člena pá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jedné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u jednoho člena páru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ruhé 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nižš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souhlasných, je hodnota gamma klad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nesouhlasných, je hodnota gamma zápor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očet souhlasných a nesouhlasných párů vyrovnán – gamma kolem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amma je symetrická míra – nedělá rozdíly mezi závislou a nezávislou proměnn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symetrická varianta koeficientu gamma –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mersovo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endallovo 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bere v úvahu i nerozhodné páry (tzv. ties); ale hodnoty v rozsahu -1 až +1 mohou být získány pouze pro čtvercové tabulky (tj. stejný počet kategorií obou proměnných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omezeny předpokladem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často založeny na pořadí, dají se použít i pro ordinální data (kde můžeme spočítat pouze průměr, nikoli medián) i pro nominální (test Chí-kvadrá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citlivé na extrémní hodnoty (jsou většinou založeny na medián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rnu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nominálních dat hodnota míry asociace proměnných indikuje sílu vztahu – rozsah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užívanější Fí nebo Cramerovo V; když víme, která proměnná nezávislá - lamb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ordinálních dat míry asociace indikují jak sílu vztahu (abs. hodnota koeficientu), tak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avní rozdíl mezi parametrickými a neparametrickými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hody a nevýhody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je možno využít chí–kvadrát jako test nezávislosti proměnných? (pro jaké typy proměnných?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se chí–kvadrát využívá jako test dobré shod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čemu slouží míry asociace proměnný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 mezi mírami založenými na chí-kvadrátu a mírami P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enší statistická sí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ložitější analýzy často není neparametrická varianta metody k dispozic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ehled neparametrických ekvivalentů 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nezávislé výběry –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nn-Whitney U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závislé výběry – Wilcoxon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alýza rozptylu – Kruskall-Wallis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pakovaná měření (ANOVA) – Friedman Rank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6:12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