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5.png" ContentType="image/png"/>
  <Override PartName="/ppt/media/image15.wmf" ContentType="image/x-wmf"/>
  <Override PartName="/ppt/media/image1.png" ContentType="image/png"/>
  <Override PartName="/ppt/media/image2.wmf" ContentType="image/x-wmf"/>
  <Override PartName="/ppt/media/image9.wmf" ContentType="image/x-wmf"/>
  <Override PartName="/ppt/media/image14.wmf" ContentType="image/x-wmf"/>
  <Override PartName="/ppt/media/image6.png" ContentType="image/png"/>
  <Override PartName="/ppt/media/image10.wmf" ContentType="image/x-wmf"/>
  <Override PartName="/ppt/media/image7.wmf" ContentType="image/x-wmf"/>
  <Override PartName="/ppt/media/image8.png" ContentType="image/png"/>
  <Override PartName="/ppt/media/image12.wmf" ContentType="image/x-wmf"/>
  <Override PartName="/ppt/media/image4.png" ContentType="image/png"/>
  <Override PartName="/ppt/media/image3.png" ContentType="image/png"/>
  <Override PartName="/ppt/media/image1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D76AE-9E7D-4B2C-B3DA-DD8A213B8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028A2-0340-4CBB-AAC7-7D6FC48CF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F71AB-F948-4067-A517-1BA4D81B0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40305-EF33-4D27-9EDC-D1958F63E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55965-032D-4B31-A7DF-334512184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D0C1E-0E02-4D70-A821-029745EA1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D2BF5-3042-4F1A-A637-841E463E1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F34EC-A6A9-4630-95D2-98B914012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5EDAF-C12D-4CC1-8BE6-2068DB38E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BC801-DDC5-41AC-B5F5-CC472C72C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3D03C-1F5E-4EF2-B092-12D093CE7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9DB06-C3ED-459A-8CA5-518E9BD32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B84CD-FB93-441A-B11C-A3BC66C35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5FB0C-77B8-4A43-8DD0-68A23B8B0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B51D9-25F9-406D-A412-9A1D7DD43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CAACA-EFB8-443A-A93C-0CADA25B5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AC038-6863-4088-84E2-CF63D7499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CBA00-2287-4329-AD74-FDF16B48A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745B3-D120-4BDC-AE6C-09CD918DB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80674-DDA2-479B-A44C-BF84C7892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DBEDD-1979-4CCF-B599-AF891682C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33155-F722-4217-98D2-8759A4AFB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C1790-F933-4503-A2EE-73F5D7754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806E5-4D93-413C-875B-0B68757E0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FFB45-F5CF-422B-8526-FEE8F07A0F5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66FA1-0D79-4FE3-AC42-8B286B29125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0.wmf"/><Relationship Id="rId6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Korelační a regresní analýza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earsonův korelační koeficient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51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jednoduchá regresní analýz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51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vícenásobná regresní analýz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Příkl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jak spolu souvisí pocit štěstí a míra extraverze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10 osob, 2 proměnné – skór z dotazníku štěstí a skór ze škály extraverz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Příkl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1835280" y="1752480"/>
          <a:ext cx="4824360" cy="4484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35280" y="1752480"/>
                    <a:ext cx="4824360" cy="448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Příkl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468360" y="2205000"/>
          <a:ext cx="7920000" cy="2160360"/>
        </p:xfrm>
        <a:graphic>
          <a:graphicData uri="http://schemas.openxmlformats.org/drawingml/2006/table">
            <a:tbl>
              <a:tblPr/>
              <a:tblGrid>
                <a:gridCol w="2087640"/>
                <a:gridCol w="647640"/>
                <a:gridCol w="431640"/>
                <a:gridCol w="432000"/>
                <a:gridCol w="649080"/>
                <a:gridCol w="360360"/>
                <a:gridCol w="647640"/>
                <a:gridCol w="648000"/>
                <a:gridCol w="720720"/>
                <a:gridCol w="574560"/>
                <a:gridCol w="720720"/>
              </a:tblGrid>
              <a:tr h="10339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3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štěstí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3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3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8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3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3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8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3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3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3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3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3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3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9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64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3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raverz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3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3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3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3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3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3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3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3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3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3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Příkl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Verdana"/>
              </a:rPr>
              <a:t>výpočet 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1763640" y="2421000"/>
            <a:ext cx="3888000" cy="21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Příkl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7893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Verdana"/>
              </a:rPr>
              <a:t>SP</a:t>
            </a:r>
            <a:r>
              <a:rPr b="1" lang="cs-CZ" sz="2600" spc="-1" strike="noStrike" baseline="-25000">
                <a:solidFill>
                  <a:srgbClr val="000000"/>
                </a:solidFill>
                <a:latin typeface="Verdana"/>
              </a:rPr>
              <a:t>XY</a:t>
            </a:r>
            <a:r>
              <a:rPr b="1" lang="cs-CZ" sz="2600" spc="-1" strike="noStrike">
                <a:solidFill>
                  <a:srgbClr val="000000"/>
                </a:solidFill>
                <a:latin typeface="Verdana"/>
              </a:rPr>
              <a:t>=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Verdana"/>
              </a:rPr>
              <a:t>SS</a:t>
            </a:r>
            <a:r>
              <a:rPr b="1" lang="cs-CZ" sz="2600" spc="-1" strike="noStrike" baseline="-25000">
                <a:solidFill>
                  <a:srgbClr val="000000"/>
                </a:solidFill>
                <a:latin typeface="Verdana"/>
              </a:rPr>
              <a:t>X</a:t>
            </a:r>
            <a:r>
              <a:rPr b="1" lang="cs-CZ" sz="2600" spc="-1" strike="noStrike">
                <a:solidFill>
                  <a:srgbClr val="000000"/>
                </a:solidFill>
                <a:latin typeface="Verdana"/>
              </a:rPr>
              <a:t>=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Verdana"/>
              </a:rPr>
              <a:t>SS</a:t>
            </a:r>
            <a:r>
              <a:rPr b="1" lang="cs-CZ" sz="2600" spc="-1" strike="noStrike" baseline="-25000">
                <a:solidFill>
                  <a:srgbClr val="000000"/>
                </a:solidFill>
                <a:latin typeface="Verdana"/>
              </a:rPr>
              <a:t>Y</a:t>
            </a:r>
            <a:r>
              <a:rPr b="1" lang="cs-CZ" sz="2600" spc="-1" strike="noStrike">
                <a:solidFill>
                  <a:srgbClr val="000000"/>
                </a:solidFill>
                <a:latin typeface="Verdana"/>
              </a:rPr>
              <a:t>=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2411280" y="1773360"/>
            <a:ext cx="4716720" cy="50796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3"/>
          <a:stretch/>
        </p:blipFill>
        <p:spPr>
          <a:xfrm>
            <a:off x="2268360" y="3068640"/>
            <a:ext cx="4104000" cy="588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4"/>
          <a:stretch/>
        </p:blipFill>
        <p:spPr>
          <a:xfrm>
            <a:off x="2268360" y="4365720"/>
            <a:ext cx="3959280" cy="57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Příkl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7893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400" spc="-1" strike="noStrike">
                <a:solidFill>
                  <a:srgbClr val="000000"/>
                </a:solidFill>
                <a:latin typeface="Verdana"/>
              </a:rPr>
              <a:t>SP</a:t>
            </a:r>
            <a:r>
              <a:rPr b="1" lang="cs-CZ" sz="3400" spc="-1" strike="noStrike" baseline="-25000">
                <a:solidFill>
                  <a:srgbClr val="000000"/>
                </a:solidFill>
                <a:latin typeface="Verdana"/>
              </a:rPr>
              <a:t>XY</a:t>
            </a:r>
            <a:r>
              <a:rPr b="1" lang="cs-CZ" sz="3400" spc="-1" strike="noStrike">
                <a:solidFill>
                  <a:srgbClr val="000000"/>
                </a:solidFill>
                <a:latin typeface="Verdana"/>
              </a:rPr>
              <a:t>=</a:t>
            </a:r>
            <a:r>
              <a:rPr b="0" lang="cs-CZ" sz="3400" spc="-1" strike="noStrike">
                <a:solidFill>
                  <a:srgbClr val="000000"/>
                </a:solidFill>
                <a:latin typeface="Verdana"/>
              </a:rPr>
              <a:t> 91,9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400" spc="-1" strike="noStrike">
                <a:solidFill>
                  <a:srgbClr val="000000"/>
                </a:solidFill>
                <a:latin typeface="Verdana"/>
              </a:rPr>
              <a:t>SS</a:t>
            </a:r>
            <a:r>
              <a:rPr b="1" lang="cs-CZ" sz="3400" spc="-1" strike="noStrike" baseline="-25000">
                <a:solidFill>
                  <a:srgbClr val="000000"/>
                </a:solidFill>
                <a:latin typeface="Verdana"/>
              </a:rPr>
              <a:t>X</a:t>
            </a:r>
            <a:r>
              <a:rPr b="1" lang="cs-CZ" sz="3400" spc="-1" strike="noStrike">
                <a:solidFill>
                  <a:srgbClr val="000000"/>
                </a:solidFill>
                <a:latin typeface="Verdana"/>
              </a:rPr>
              <a:t>= </a:t>
            </a:r>
            <a:r>
              <a:rPr b="0" lang="cs-CZ" sz="3400" spc="-1" strike="noStrike">
                <a:solidFill>
                  <a:srgbClr val="000000"/>
                </a:solidFill>
                <a:latin typeface="Verdana"/>
              </a:rPr>
              <a:t>158,9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cs-CZ" sz="3400" spc="-1" strike="noStrike">
                <a:solidFill>
                  <a:srgbClr val="000000"/>
                </a:solidFill>
                <a:latin typeface="Verdana"/>
              </a:rPr>
              <a:t>SS</a:t>
            </a:r>
            <a:r>
              <a:rPr b="1" lang="cs-CZ" sz="3400" spc="-1" strike="noStrike" baseline="-25000">
                <a:solidFill>
                  <a:srgbClr val="000000"/>
                </a:solidFill>
                <a:latin typeface="Verdana"/>
              </a:rPr>
              <a:t>Y</a:t>
            </a:r>
            <a:r>
              <a:rPr b="1" lang="cs-CZ" sz="3400" spc="-1" strike="noStrike">
                <a:solidFill>
                  <a:srgbClr val="000000"/>
                </a:solidFill>
                <a:latin typeface="Verdana"/>
              </a:rPr>
              <a:t>=</a:t>
            </a:r>
            <a:r>
              <a:rPr b="0" lang="cs-CZ" sz="3400" spc="-1" strike="noStrike">
                <a:solidFill>
                  <a:srgbClr val="000000"/>
                </a:solidFill>
                <a:latin typeface="Verdana"/>
              </a:rPr>
              <a:t> 144,9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400" spc="-1" strike="noStrike">
                <a:solidFill>
                  <a:srgbClr val="000000"/>
                </a:solidFill>
                <a:latin typeface="Verdana"/>
              </a:rPr>
              <a:t>r = 91,9/( 158,9*144,9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400" spc="-1" strike="noStrike">
                <a:solidFill>
                  <a:srgbClr val="cc0000"/>
                </a:solidFill>
                <a:latin typeface="Verdana"/>
              </a:rPr>
              <a:t>r = 0,606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"/>
          <p:cNvSpPr/>
          <p:nvPr/>
        </p:nvSpPr>
        <p:spPr>
          <a:xfrm>
            <a:off x="2843280" y="4076640"/>
            <a:ext cx="7308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2916360" y="4005360"/>
            <a:ext cx="7128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"/>
          <p:cNvSpPr/>
          <p:nvPr/>
        </p:nvSpPr>
        <p:spPr>
          <a:xfrm>
            <a:off x="2987640" y="4005360"/>
            <a:ext cx="259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Výstup v SPS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468360" y="2276640"/>
            <a:ext cx="8136000" cy="299880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 flipV="1">
            <a:off x="5364000" y="4220640"/>
            <a:ext cx="576360" cy="28764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Interpretace 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není shoda v tom, jaká hodnota r je považována za těsný vztah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 u="sng">
                <a:solidFill>
                  <a:srgbClr val="000000"/>
                </a:solidFill>
                <a:uFillTx/>
                <a:latin typeface="Verdana"/>
              </a:rPr>
              <a:t>interpretace navržená Guilfordem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&lt;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0.20 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zanedbatelný vztah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0.20-0.40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nepříliš těsný vztah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0.40-0.70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středně těsný vztah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0.70-0.90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velmi těsný vztah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&gt;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0.90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extrémně těsný vztah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Interpretace 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ro lepší interpretaci je vhodné převést koeficient korelace na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koeficient determinace (r</a:t>
            </a:r>
            <a:r>
              <a:rPr b="1" lang="cs-CZ" sz="30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ukazuje, kolik rozptylu v jedné proměnné může být vysvětleno rozptylem ve druhé proměnné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Interpretace 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v našem příkladu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r = 0,606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r</a:t>
            </a:r>
            <a:r>
              <a:rPr b="0" lang="cs-CZ" sz="26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= 0,367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36,7% rozdílů v míře štěstí můžeme vysvětlit rozdíly v míře extraverz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Pearsonův korelační koeficien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u intervalových a poměrových dat můžeme jako míru asociace – vztahu mezi proměnnými použít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Pearsonův korelační koeficien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korelace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ko = s, spolu, vzájemně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relace = vztah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korelace = vzájemný vztah proměnných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Interpretace 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korelace neznamená příčinný vztah mezi proměnnými!!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ten můžeme ověřovat pouze experimentem, kdy jsou všechny ostatní proměnné udržovány konstatní, proměnná X předchází Y v čase atd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Faktory ovlivňující 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omezený rozsah hodnot proměnné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oužití extrémních skupi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nehomogenní soubor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extrémní hodnoty (outliers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nelineární vztah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reliabilita použitých nástrojů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Omezený rozsah hodno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omezený rozsah hodnot jedné nebo obou proměnných snižuje hodnotu 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stejně tak nízká variabilita (extrémní případ:pokud by všechny hodnoty 1 proměnné byly stejné, zákonitě r=0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Použití extrémních skupi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760572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použití extrémních skupin (např. jen osob s vysokým IQ) vede k vyššímu 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468360" y="2781360"/>
            <a:ext cx="8064360" cy="29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Nehomogenní soubo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může zkreslit r jak směrem nahoru, tak dolů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1187280" y="3141720"/>
            <a:ext cx="2560680" cy="25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1547640" y="4941720"/>
            <a:ext cx="76320" cy="684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1403280" y="5229360"/>
            <a:ext cx="76320" cy="6804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1809720" y="4788000"/>
            <a:ext cx="76320" cy="6804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"/>
          <p:cNvSpPr/>
          <p:nvPr/>
        </p:nvSpPr>
        <p:spPr>
          <a:xfrm>
            <a:off x="1763640" y="4508640"/>
            <a:ext cx="76320" cy="6804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"/>
          <p:cNvSpPr/>
          <p:nvPr/>
        </p:nvSpPr>
        <p:spPr>
          <a:xfrm>
            <a:off x="2050920" y="5084640"/>
            <a:ext cx="76320" cy="669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"/>
          <p:cNvSpPr/>
          <p:nvPr/>
        </p:nvSpPr>
        <p:spPr>
          <a:xfrm>
            <a:off x="2043000" y="4324320"/>
            <a:ext cx="76320" cy="684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"/>
          <p:cNvSpPr/>
          <p:nvPr/>
        </p:nvSpPr>
        <p:spPr>
          <a:xfrm>
            <a:off x="2333520" y="4684680"/>
            <a:ext cx="76320" cy="684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"/>
          <p:cNvSpPr/>
          <p:nvPr/>
        </p:nvSpPr>
        <p:spPr>
          <a:xfrm>
            <a:off x="2268360" y="4149720"/>
            <a:ext cx="76320" cy="666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"/>
          <p:cNvSpPr/>
          <p:nvPr/>
        </p:nvSpPr>
        <p:spPr>
          <a:xfrm>
            <a:off x="2508120" y="4376880"/>
            <a:ext cx="76320" cy="666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"/>
          <p:cNvSpPr/>
          <p:nvPr/>
        </p:nvSpPr>
        <p:spPr>
          <a:xfrm>
            <a:off x="2682720" y="4221000"/>
            <a:ext cx="76320" cy="684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3059280" y="4076640"/>
            <a:ext cx="75960" cy="666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"/>
          <p:cNvSpPr/>
          <p:nvPr/>
        </p:nvSpPr>
        <p:spPr>
          <a:xfrm>
            <a:off x="2741760" y="3913200"/>
            <a:ext cx="75960" cy="666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"/>
          <p:cNvSpPr/>
          <p:nvPr/>
        </p:nvSpPr>
        <p:spPr>
          <a:xfrm>
            <a:off x="3203640" y="3716280"/>
            <a:ext cx="75960" cy="666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"/>
          <p:cNvSpPr/>
          <p:nvPr/>
        </p:nvSpPr>
        <p:spPr>
          <a:xfrm>
            <a:off x="3381480" y="3552840"/>
            <a:ext cx="75960" cy="684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"/>
          <p:cNvSpPr/>
          <p:nvPr/>
        </p:nvSpPr>
        <p:spPr>
          <a:xfrm>
            <a:off x="2195640" y="5300640"/>
            <a:ext cx="75960" cy="666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"/>
          <p:cNvSpPr/>
          <p:nvPr/>
        </p:nvSpPr>
        <p:spPr>
          <a:xfrm>
            <a:off x="2627280" y="4724280"/>
            <a:ext cx="76320" cy="669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556000" y="5084640"/>
            <a:ext cx="75960" cy="669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2916360" y="4724280"/>
            <a:ext cx="75960" cy="669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2843280" y="5013360"/>
            <a:ext cx="75960" cy="666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916360" y="4508640"/>
            <a:ext cx="75960" cy="666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3059280" y="4797360"/>
            <a:ext cx="75960" cy="666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3203640" y="4437000"/>
            <a:ext cx="75960" cy="666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"/>
          <p:cNvSpPr/>
          <p:nvPr/>
        </p:nvSpPr>
        <p:spPr>
          <a:xfrm>
            <a:off x="2411280" y="4869000"/>
            <a:ext cx="76320" cy="666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"/>
          <p:cNvSpPr/>
          <p:nvPr/>
        </p:nvSpPr>
        <p:spPr>
          <a:xfrm>
            <a:off x="1835280" y="5445000"/>
            <a:ext cx="75960" cy="669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"/>
          <p:cNvSpPr/>
          <p:nvPr/>
        </p:nvSpPr>
        <p:spPr>
          <a:xfrm>
            <a:off x="2771640" y="4869000"/>
            <a:ext cx="76320" cy="666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"/>
          <p:cNvSpPr/>
          <p:nvPr/>
        </p:nvSpPr>
        <p:spPr>
          <a:xfrm>
            <a:off x="3203640" y="4221000"/>
            <a:ext cx="75960" cy="669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"/>
          <p:cNvSpPr/>
          <p:nvPr/>
        </p:nvSpPr>
        <p:spPr>
          <a:xfrm>
            <a:off x="3419640" y="4149720"/>
            <a:ext cx="75960" cy="666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"/>
          <p:cNvSpPr/>
          <p:nvPr/>
        </p:nvSpPr>
        <p:spPr>
          <a:xfrm>
            <a:off x="2050920" y="5300640"/>
            <a:ext cx="76320" cy="666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"/>
          <p:cNvSpPr/>
          <p:nvPr/>
        </p:nvSpPr>
        <p:spPr>
          <a:xfrm>
            <a:off x="4716360" y="3141720"/>
            <a:ext cx="2560680" cy="25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"/>
          <p:cNvSpPr/>
          <p:nvPr/>
        </p:nvSpPr>
        <p:spPr>
          <a:xfrm>
            <a:off x="5364000" y="3789360"/>
            <a:ext cx="76320" cy="666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"/>
          <p:cNvSpPr/>
          <p:nvPr/>
        </p:nvSpPr>
        <p:spPr>
          <a:xfrm>
            <a:off x="5508720" y="4292640"/>
            <a:ext cx="75960" cy="666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"/>
          <p:cNvSpPr/>
          <p:nvPr/>
        </p:nvSpPr>
        <p:spPr>
          <a:xfrm>
            <a:off x="5724360" y="4149720"/>
            <a:ext cx="76320" cy="666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5651640" y="3860640"/>
            <a:ext cx="75960" cy="669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5219640" y="4149720"/>
            <a:ext cx="76320" cy="666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"/>
          <p:cNvSpPr/>
          <p:nvPr/>
        </p:nvSpPr>
        <p:spPr>
          <a:xfrm>
            <a:off x="5940360" y="3789360"/>
            <a:ext cx="76320" cy="666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"/>
          <p:cNvSpPr/>
          <p:nvPr/>
        </p:nvSpPr>
        <p:spPr>
          <a:xfrm>
            <a:off x="5148360" y="3789360"/>
            <a:ext cx="75960" cy="666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5219640" y="3645000"/>
            <a:ext cx="76320" cy="666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5580000" y="4005360"/>
            <a:ext cx="76320" cy="666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"/>
          <p:cNvSpPr/>
          <p:nvPr/>
        </p:nvSpPr>
        <p:spPr>
          <a:xfrm>
            <a:off x="5724360" y="4292640"/>
            <a:ext cx="76320" cy="666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"/>
          <p:cNvSpPr/>
          <p:nvPr/>
        </p:nvSpPr>
        <p:spPr>
          <a:xfrm>
            <a:off x="5867280" y="4005360"/>
            <a:ext cx="76320" cy="666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5796000" y="3789360"/>
            <a:ext cx="76320" cy="666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"/>
          <p:cNvSpPr/>
          <p:nvPr/>
        </p:nvSpPr>
        <p:spPr>
          <a:xfrm>
            <a:off x="5508720" y="3573360"/>
            <a:ext cx="75960" cy="666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5364000" y="4005360"/>
            <a:ext cx="76320" cy="666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"/>
          <p:cNvSpPr/>
          <p:nvPr/>
        </p:nvSpPr>
        <p:spPr>
          <a:xfrm>
            <a:off x="6372360" y="4365720"/>
            <a:ext cx="75960" cy="6804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"/>
          <p:cNvSpPr/>
          <p:nvPr/>
        </p:nvSpPr>
        <p:spPr>
          <a:xfrm>
            <a:off x="6443640" y="4869000"/>
            <a:ext cx="76320" cy="6804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"/>
          <p:cNvSpPr/>
          <p:nvPr/>
        </p:nvSpPr>
        <p:spPr>
          <a:xfrm>
            <a:off x="6516720" y="4581360"/>
            <a:ext cx="76320" cy="684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6300720" y="4221000"/>
            <a:ext cx="76320" cy="684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6300720" y="4508640"/>
            <a:ext cx="76320" cy="6804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"/>
          <p:cNvSpPr/>
          <p:nvPr/>
        </p:nvSpPr>
        <p:spPr>
          <a:xfrm>
            <a:off x="6443640" y="4653000"/>
            <a:ext cx="76320" cy="684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"/>
          <p:cNvSpPr/>
          <p:nvPr/>
        </p:nvSpPr>
        <p:spPr>
          <a:xfrm>
            <a:off x="6227640" y="4797360"/>
            <a:ext cx="76320" cy="684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"/>
          <p:cNvSpPr/>
          <p:nvPr/>
        </p:nvSpPr>
        <p:spPr>
          <a:xfrm>
            <a:off x="6156360" y="4005360"/>
            <a:ext cx="76320" cy="6804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"/>
          <p:cNvSpPr/>
          <p:nvPr/>
        </p:nvSpPr>
        <p:spPr>
          <a:xfrm>
            <a:off x="6084720" y="4437000"/>
            <a:ext cx="76320" cy="684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6156360" y="4292640"/>
            <a:ext cx="76320" cy="684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6084720" y="4653000"/>
            <a:ext cx="76320" cy="684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"/>
          <p:cNvSpPr/>
          <p:nvPr/>
        </p:nvSpPr>
        <p:spPr>
          <a:xfrm>
            <a:off x="5867280" y="4508640"/>
            <a:ext cx="76320" cy="6804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"/>
          <p:cNvSpPr/>
          <p:nvPr/>
        </p:nvSpPr>
        <p:spPr>
          <a:xfrm>
            <a:off x="6012000" y="4221000"/>
            <a:ext cx="75960" cy="684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5940360" y="4365720"/>
            <a:ext cx="76320" cy="6804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6732720" y="4724280"/>
            <a:ext cx="75960" cy="684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"/>
          <p:cNvSpPr/>
          <p:nvPr/>
        </p:nvSpPr>
        <p:spPr>
          <a:xfrm>
            <a:off x="6443640" y="4149720"/>
            <a:ext cx="76320" cy="684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"/>
          <p:cNvSpPr/>
          <p:nvPr/>
        </p:nvSpPr>
        <p:spPr>
          <a:xfrm>
            <a:off x="6659640" y="4365720"/>
            <a:ext cx="75960" cy="6804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Extrémní hodno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extrémní hodnoty v jedné nebo obou proměnných mohou r výrazně zkreslit (nejen hodnotu, ale i směr), zvláště když je počet osob v souboru nízký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Extrémní hodno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r= 0,606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4292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r= 0,766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539640" y="2492280"/>
          <a:ext cx="3319560" cy="3384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8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9640" y="2492280"/>
                    <a:ext cx="3319560" cy="338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2" name=""/>
          <p:cNvSpPr/>
          <p:nvPr/>
        </p:nvSpPr>
        <p:spPr>
          <a:xfrm>
            <a:off x="1332000" y="3357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83" name=""/>
          <p:cNvGraphicFramePr/>
          <p:nvPr/>
        </p:nvGraphicFramePr>
        <p:xfrm>
          <a:off x="4788000" y="2492280"/>
          <a:ext cx="3247920" cy="33116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8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788000" y="2492280"/>
                    <a:ext cx="3247920" cy="331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Neparametrický koeficien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ro ordinální data je možno spočítat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Spearmanův koeficient pořadové korelace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očítá se tak, že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hodnoty obou proměnných se seřadí od nejnižší po nejvyšší a přidělí se jim pořadí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z pořadí se pak počítá Pearsonův koeficient korela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Parciální korelac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arciální korelace je taková korelace mezi dvěma proměnnými, kdy kontrolujeme vliv třetí proměnné na obě z nich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např. chceme zjistit, jaký je vztah mezi prospěchem na SŠ a prospěchem na VŠ; obě proměnné jsou nejspíš ovlivněny IQ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Regresní analýz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výsledkem regresní analýzy je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matematický model vztahu mezi 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dvěma nebo více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 proměnnými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snažíme se z jedné proměnné nebo lineární kombinace více proměnných predikovat hodnoty další proměnné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Pearsonův korelační koeficien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absolutní hodnota koeficientu vyjadřuje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sílu (těsnost) vztahu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znaménko (+ nebo -)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směr vztahu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rozsah -1 až +1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označuje se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 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Regresní analýz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3264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dva typy proměnných: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 predikovaná 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(závislá)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proměnná 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 prediktory 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(nezávisle proměnné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redikovaná proměnná se označuje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, prediktory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cs-CZ" sz="30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, X</a:t>
            </a:r>
            <a:r>
              <a:rPr b="1" lang="cs-CZ" sz="30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 …X</a:t>
            </a:r>
            <a:r>
              <a:rPr b="1" lang="cs-CZ" sz="3000" spc="-1" strike="noStrike" baseline="-25000">
                <a:solidFill>
                  <a:srgbClr val="000000"/>
                </a:solidFill>
                <a:latin typeface="Verdana"/>
              </a:rPr>
              <a:t>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ouze 1 prediktor –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jednoduchá regres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více prediktorů –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vícenásobná regres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Regresní analýz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regresní analýza umožňuje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porozumět vztahům mezi proměnnými,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predikovat hodnoty proměnné Y z hodnot proměnné X (s určitou přesností) – např. z hodnot známek na střední škole nebo z počtu bodů u přijímacího testu předpovědět úspěšnost na VŠ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Jednoduchá regresní analýz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příklad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– Jak souvisí vzdělání respondenta se vzděláním otce?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tj. jak dobře můžeme předpovědět počet let formálního vzdělání respondenta z údaje o počtu let vzdělání jeho otce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Jednoduchá regresní analýz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98" name=""/>
          <p:cNvGraphicFramePr/>
          <p:nvPr/>
        </p:nvGraphicFramePr>
        <p:xfrm>
          <a:off x="1763640" y="1700280"/>
          <a:ext cx="5688000" cy="4824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9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63640" y="1700280"/>
                    <a:ext cx="5688000" cy="482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Jednoduchá regresní analýz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snažíme se najít rovnici tzv. regresní přímk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regresní přímka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je taková přímka, od které je vzdálenost bodů (představujících naměřená data) co nejménší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taková přímka, která nejlépe vystihuje dat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Jednoduchá regresní analýz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303" name=""/>
          <p:cNvGraphicFramePr/>
          <p:nvPr/>
        </p:nvGraphicFramePr>
        <p:xfrm>
          <a:off x="1908000" y="1844640"/>
          <a:ext cx="4978440" cy="4202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0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08000" y="1844640"/>
                    <a:ext cx="4978440" cy="420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5" name=""/>
          <p:cNvSpPr/>
          <p:nvPr/>
        </p:nvSpPr>
        <p:spPr>
          <a:xfrm flipV="1">
            <a:off x="3059280" y="2923920"/>
            <a:ext cx="3097080" cy="101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Jednoduchá regresní analýz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jednou z metod, jak regresní přímku nalézt, je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metoda nejmenších čtverců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je zvolena taková přímka, kdy platí, že součet čtverců vzdáleností jednotlivých bodů od přímky je minimální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Jednoduchá regresní analýz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obecná rovnice regresní přímk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cs-CZ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cs-CZ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cs-CZ" sz="30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1" i="1" lang="en-US" sz="3000" spc="-1" strike="noStrike">
                <a:solidFill>
                  <a:srgbClr val="000000"/>
                </a:solidFill>
                <a:latin typeface="Verdana"/>
              </a:rPr>
              <a:t>’</a:t>
            </a:r>
            <a:r>
              <a:rPr b="1" i="1" lang="cs-CZ" sz="3000" spc="-1" strike="noStrike">
                <a:solidFill>
                  <a:srgbClr val="000000"/>
                </a:solidFill>
                <a:latin typeface="Verdana"/>
              </a:rPr>
              <a:t> = a + bX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je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konstanta 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(predikovaná hodnota Y, když hodnota X je 0)</a:t>
            </a:r>
            <a:r>
              <a:rPr b="0" i="1" lang="cs-CZ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b 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je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 směrnice 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regresní přímky (úhel přímky vzhledem k ose; kolikrát se Y zvětší s každou jednotkou X);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Jednoduchá regresní analýz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v příkladu vychází rovnice regresní přímky </a:t>
            </a:r>
            <a:r>
              <a:rPr b="1" i="1" lang="cs-CZ" sz="26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1" i="1" lang="en-US" sz="2600" spc="-1" strike="noStrike">
                <a:solidFill>
                  <a:srgbClr val="000000"/>
                </a:solidFill>
                <a:latin typeface="Verdana"/>
              </a:rPr>
              <a:t>’</a:t>
            </a:r>
            <a:r>
              <a:rPr b="1" i="1" lang="cs-CZ" sz="2600" spc="-1" strike="noStrike">
                <a:solidFill>
                  <a:srgbClr val="000000"/>
                </a:solidFill>
                <a:latin typeface="Verdana"/>
              </a:rPr>
              <a:t> = 9,93 + 0,32*X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pro děti otců s 0 lety vzdělání předpovídáme necelých 10 let vzdělání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s každým dalším rokem otcova vzdělání předpovídáme o 0,32 roku vzdělání respondenta více 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např. pro děti otců s 12 lety vzdělání je predikovaná hodnota jejich vlastního vzdělání 13,8 le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Výstup v SPS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3" name="" descr=""/>
          <p:cNvPicPr/>
          <p:nvPr/>
        </p:nvPicPr>
        <p:blipFill>
          <a:blip r:embed="rId2"/>
          <a:stretch/>
        </p:blipFill>
        <p:spPr>
          <a:xfrm>
            <a:off x="0" y="2205000"/>
            <a:ext cx="9577440" cy="2736720"/>
          </a:xfrm>
          <a:prstGeom prst="rect">
            <a:avLst/>
          </a:prstGeom>
          <a:ln w="0">
            <a:noFill/>
          </a:ln>
        </p:spPr>
      </p:pic>
      <p:sp>
        <p:nvSpPr>
          <p:cNvPr id="314" name=""/>
          <p:cNvSpPr/>
          <p:nvPr/>
        </p:nvSpPr>
        <p:spPr>
          <a:xfrm flipV="1">
            <a:off x="3132000" y="3860280"/>
            <a:ext cx="360360" cy="360360"/>
          </a:xfrm>
          <a:prstGeom prst="line">
            <a:avLst/>
          </a:prstGeom>
          <a:ln w="158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 flipV="1">
            <a:off x="3132000" y="4149360"/>
            <a:ext cx="432000" cy="73080"/>
          </a:xfrm>
          <a:prstGeom prst="line">
            <a:avLst/>
          </a:prstGeom>
          <a:ln w="158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3203640" y="2781360"/>
            <a:ext cx="1800000" cy="503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Pearsonův korelační koeficien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sám o sobě je deskriptivní statistikou, ale podobně jako u ostatních měr asociace je možno spočíst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statistickou významnos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závisí na velikosti výběru – čím vyšší, tím nižší koeficient vychází průkazný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3185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Vícenásobná regresní analýz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redikujeme závislou proměnnou z více prediktorů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vliv každého z prediktorů na závislou proměnnou je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kontrolován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pro vliv všech ostatních prediktorů (jde tedy o  vliv „očištěný od vlivů ostatních proměnných a tudíž počítáme 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parciální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koeficienty)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3185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Vícenásobná regresní analýz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příklad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– kromě vzdělání otce </a:t>
            </a:r>
            <a:r>
              <a:rPr b="0" i="1" lang="cs-CZ" sz="3000" spc="-1" strike="noStrike">
                <a:solidFill>
                  <a:srgbClr val="000000"/>
                </a:solidFill>
                <a:latin typeface="Verdana"/>
              </a:rPr>
              <a:t>(X</a:t>
            </a:r>
            <a:r>
              <a:rPr b="0" i="1" lang="cs-CZ" sz="30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i="1" lang="cs-CZ" sz="3000" spc="-1" strike="noStrike">
                <a:solidFill>
                  <a:srgbClr val="000000"/>
                </a:solidFill>
                <a:latin typeface="Verdana"/>
              </a:rPr>
              <a:t>) 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může mít na dosažené vzdělání vliv také počet dětí v rodině </a:t>
            </a:r>
            <a:r>
              <a:rPr b="0" i="1" lang="cs-CZ" sz="3000" spc="-1" strike="noStrike">
                <a:solidFill>
                  <a:srgbClr val="000000"/>
                </a:solidFill>
                <a:latin typeface="Verdana"/>
              </a:rPr>
              <a:t>(X</a:t>
            </a:r>
            <a:r>
              <a:rPr b="0" i="1" lang="cs-CZ" sz="30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i="1" lang="cs-CZ" sz="3000" spc="-1" strike="noStrike">
                <a:solidFill>
                  <a:srgbClr val="000000"/>
                </a:solidFill>
                <a:latin typeface="Verdana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rovnice regresní přímky je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cs-CZ" sz="30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1" i="1" lang="en-US" sz="3000" spc="-1" strike="noStrike">
                <a:solidFill>
                  <a:srgbClr val="000000"/>
                </a:solidFill>
                <a:latin typeface="Verdana"/>
              </a:rPr>
              <a:t>’</a:t>
            </a:r>
            <a:r>
              <a:rPr b="1" i="1" lang="cs-CZ" sz="3000" spc="-1" strike="noStrike">
                <a:solidFill>
                  <a:srgbClr val="000000"/>
                </a:solidFill>
                <a:latin typeface="Verdana"/>
              </a:rPr>
              <a:t> = a + b</a:t>
            </a:r>
            <a:r>
              <a:rPr b="1" i="1" lang="cs-CZ" sz="30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1" i="1" lang="cs-CZ" sz="30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i="1" lang="cs-CZ" sz="30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1" i="1" lang="cs-CZ" sz="3000" spc="-1" strike="noStrike">
                <a:solidFill>
                  <a:srgbClr val="000000"/>
                </a:solidFill>
                <a:latin typeface="Verdana"/>
              </a:rPr>
              <a:t> + b</a:t>
            </a:r>
            <a:r>
              <a:rPr b="1" i="1" lang="cs-CZ" sz="30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1" i="1" lang="cs-CZ" sz="30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i="1" lang="cs-CZ" sz="30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1" i="1" lang="cs-CZ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3185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Vícenásobná regresní analýz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0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1" i="1" lang="en-US" sz="3000" spc="-1" strike="noStrike">
                <a:solidFill>
                  <a:srgbClr val="000000"/>
                </a:solidFill>
                <a:latin typeface="Verdana"/>
              </a:rPr>
              <a:t>’</a:t>
            </a:r>
            <a:r>
              <a:rPr b="1" i="1" lang="cs-CZ" sz="3000" spc="-1" strike="noStrike">
                <a:solidFill>
                  <a:srgbClr val="000000"/>
                </a:solidFill>
                <a:latin typeface="Verdana"/>
              </a:rPr>
              <a:t> = 10,68 + 0,30*X</a:t>
            </a:r>
            <a:r>
              <a:rPr b="1" i="1" lang="cs-CZ" sz="30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1" i="1" lang="cs-CZ" sz="3000" spc="-1" strike="noStrike">
                <a:solidFill>
                  <a:srgbClr val="000000"/>
                </a:solidFill>
                <a:latin typeface="Verdana"/>
              </a:rPr>
              <a:t> – 0,13*X</a:t>
            </a:r>
            <a:r>
              <a:rPr b="1" i="1" lang="cs-CZ" sz="30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vliv vzdělání otce (b=0,30) je o něco menší než u jednoduché regresní analýzy (b=0,32) – je kontrolován pro počet dětí v rodině, který je zřejmě ovlivněn také vzděláním otc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vliv počtu dětí v rodině je záporný – tj. čím více dětí, tím nižší vzdělání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3185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Vícenásobná regresní analýz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vícenásobná regresní analýza nám umožní srovnat vliv všech prediktorů na závislou proměnnou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můžeme dojít k závěru, že větší vliv na vzdělání respondenta má vzdělání otce než počet dětí v rodině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3185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Vícenásobná regresní analýz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001000" cy="46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okud chceme srovnávat vliv prediktorů měřených v různých jednotkách, je nutné použít tzv.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standardizované regresní koeficient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ukazují, kolikrát vzroste hodnota závislé proměnné, pokud se změní hodnota prediktoru o 1 směrodatnou odchylku a hodnoty ostatních prediktorů přitom zůstanou konstatní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Výstup v SPS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2"/>
          <a:stretch/>
        </p:blipFill>
        <p:spPr>
          <a:xfrm>
            <a:off x="611280" y="2421000"/>
            <a:ext cx="7848360" cy="295128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 flipV="1">
            <a:off x="5219640" y="4292640"/>
            <a:ext cx="432000" cy="288720"/>
          </a:xfrm>
          <a:prstGeom prst="line">
            <a:avLst/>
          </a:prstGeom>
          <a:ln w="158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 flipV="1">
            <a:off x="5364000" y="4723920"/>
            <a:ext cx="432000" cy="360360"/>
          </a:xfrm>
          <a:prstGeom prst="line">
            <a:avLst/>
          </a:prstGeom>
          <a:ln w="158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4643280" y="2924280"/>
            <a:ext cx="1800360" cy="503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3185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Vícenásobná regresní analýz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8253360" cy="46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beta pro vzdělání otce je 0,4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ro počet dětí v rodině -0,1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větší vliv má tedy vzdělání otce než počet dětí v rodině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3185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Vícenásobná regresní analýz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001000" cy="46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kromě regresních koeficientů je počítán také tzv.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koeficient vícenásobné korelace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– korelace všech prediktorů se závislou proměnnou; ozn.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jde vlastně o </a:t>
            </a:r>
            <a:r>
              <a:rPr b="0" lang="cs-CZ" sz="3000" spc="-1" strike="noStrike" u="sng">
                <a:solidFill>
                  <a:srgbClr val="000000"/>
                </a:solidFill>
                <a:uFillTx/>
                <a:latin typeface="Verdana"/>
              </a:rPr>
              <a:t>korelaci mezi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3000" spc="-1" strike="noStrike" u="sng">
                <a:solidFill>
                  <a:srgbClr val="000000"/>
                </a:solidFill>
                <a:uFillTx/>
                <a:latin typeface="Verdana"/>
              </a:rPr>
              <a:t>pozorovanými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hodnotami závislé proměnné a hodnotami </a:t>
            </a:r>
            <a:r>
              <a:rPr b="0" lang="cs-CZ" sz="3000" spc="-1" strike="noStrike" u="sng">
                <a:solidFill>
                  <a:srgbClr val="000000"/>
                </a:solidFill>
                <a:uFillTx/>
                <a:latin typeface="Verdana"/>
              </a:rPr>
              <a:t>predikovanými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na základě regresního modelu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3185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Vícenásobná regresní analýz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001000" cy="46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koeficient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vícenásobné determinace 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– tzv. % vysvětleného rozptylu (závislé proměnné) lineární kombinací prediktorů; ozn.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R</a:t>
            </a:r>
            <a:r>
              <a:rPr b="1" lang="cs-CZ" sz="30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Výstup v SPS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2"/>
          <a:stretch/>
        </p:blipFill>
        <p:spPr>
          <a:xfrm>
            <a:off x="684360" y="2133720"/>
            <a:ext cx="7416720" cy="319860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/>
          <p:nvPr/>
        </p:nvSpPr>
        <p:spPr>
          <a:xfrm flipV="1">
            <a:off x="2050920" y="3573000"/>
            <a:ext cx="432000" cy="289080"/>
          </a:xfrm>
          <a:prstGeom prst="line">
            <a:avLst/>
          </a:prstGeom>
          <a:ln w="158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3419640" y="3573000"/>
            <a:ext cx="431640" cy="289080"/>
          </a:xfrm>
          <a:prstGeom prst="line">
            <a:avLst/>
          </a:prstGeom>
          <a:ln w="158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Pearsonův korelační koeficien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je mírou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pouze pro lineární vztah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řed výpočtem je vhodné zobrazit vztah mezi proměnnými také graficky – tzv.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scatter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(dvourozměrný tečkový diagram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3185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Vícenásobná regresní analýz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001000" cy="46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u jednoduché regresní analýzy je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koeficient vícenásobné korelace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roven korelaci mezi oběma proměnnými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3185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400" spc="-1" strike="noStrike">
                <a:solidFill>
                  <a:srgbClr val="000000"/>
                </a:solidFill>
                <a:latin typeface="Verdana"/>
              </a:rPr>
              <a:t>Testování hypotéz v regresní analýz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jsou testovány 2 typy hypotéz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1) zda se R průkazně liší od 0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testuje se analýzou rozptylu (porovnává rozptyl vysvětlený regresním modelem a reziduální rozptyl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2) zda se regresní koeficienty průkazně liší od 0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testuje se t-testem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Výstup v SPS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2"/>
          <a:stretch/>
        </p:blipFill>
        <p:spPr>
          <a:xfrm>
            <a:off x="539640" y="2205000"/>
            <a:ext cx="8136000" cy="3114720"/>
          </a:xfrm>
          <a:prstGeom prst="rect">
            <a:avLst/>
          </a:prstGeom>
          <a:ln w="0">
            <a:noFill/>
          </a:ln>
        </p:spPr>
      </p:pic>
      <p:sp>
        <p:nvSpPr>
          <p:cNvPr id="348" name=""/>
          <p:cNvSpPr/>
          <p:nvPr/>
        </p:nvSpPr>
        <p:spPr>
          <a:xfrm flipV="1">
            <a:off x="7308720" y="3573000"/>
            <a:ext cx="432000" cy="289080"/>
          </a:xfrm>
          <a:prstGeom prst="line">
            <a:avLst/>
          </a:prstGeom>
          <a:ln w="158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Výstup v SPS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2"/>
          <a:stretch/>
        </p:blipFill>
        <p:spPr>
          <a:xfrm>
            <a:off x="611280" y="2421000"/>
            <a:ext cx="7848360" cy="2951280"/>
          </a:xfrm>
          <a:prstGeom prst="rect">
            <a:avLst/>
          </a:prstGeom>
          <a:ln w="0">
            <a:noFill/>
          </a:ln>
        </p:spPr>
      </p:pic>
      <p:sp>
        <p:nvSpPr>
          <p:cNvPr id="351" name=""/>
          <p:cNvSpPr/>
          <p:nvPr/>
        </p:nvSpPr>
        <p:spPr>
          <a:xfrm flipV="1">
            <a:off x="7093080" y="4149360"/>
            <a:ext cx="431640" cy="289080"/>
          </a:xfrm>
          <a:prstGeom prst="line">
            <a:avLst/>
          </a:prstGeom>
          <a:ln w="158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"/>
          <p:cNvSpPr/>
          <p:nvPr/>
        </p:nvSpPr>
        <p:spPr>
          <a:xfrm flipV="1">
            <a:off x="7020000" y="4723920"/>
            <a:ext cx="431640" cy="360360"/>
          </a:xfrm>
          <a:prstGeom prst="line">
            <a:avLst/>
          </a:prstGeom>
          <a:ln w="158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Předpoklady regresní analýz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81820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skóry v proměnných jsou nezávislé (nejde např. o opakovaná měření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dostatečná variabilita všech proměnných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rozdělení hodnot proměnných je normální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u malých výběrů zkontrolovat extrémní hodnoty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Předpoklady regresní analýz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vztahy mezi Y a každou X jsou lineární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zkontrolovat scatterem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vzájemné korelace mezi prediktory nejsou příliš vysoké (tzv. problém mulikolinearity)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pokud ano, je vhodné buď některou z nich vyřadit, nebo z nich vytvořit např. faktorovou analýzou jeden skór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Předpoklady regresní analýz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dostatečně velký počet osob ve výběru vzhledem k počtu prediktorů v modelu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Kontrolní otázk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co vyjadřuje absolutní hodnota Pearsonova koeficientu korelace? a co jeho znaménko (+ nebo -)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co je to koeficient determinace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čím může být zkreslen korelační koeficient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účel regresní analýz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obecná rovnice regresní přímk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jak se interpretují regresní koeficient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co je to koeficient vícenásobné korelace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předpoklady regresní analýz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Scatte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3789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pozitivní vztah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(přímá úměra) – čím vyšší hodnoty proměnné X, tím vyšší hodnoty proměnné 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&gt; 0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4859280" y="2060640"/>
            <a:ext cx="3352680" cy="3733560"/>
            <a:chOff x="4859280" y="2060640"/>
            <a:chExt cx="3352680" cy="3733560"/>
          </a:xfrm>
        </p:grpSpPr>
        <p:sp>
          <p:nvSpPr>
            <p:cNvPr id="97" name=""/>
            <p:cNvSpPr/>
            <p:nvPr/>
          </p:nvSpPr>
          <p:spPr>
            <a:xfrm>
              <a:off x="4859280" y="2060640"/>
              <a:ext cx="3352680" cy="3733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98" name=""/>
            <p:cNvGrpSpPr/>
            <p:nvPr/>
          </p:nvGrpSpPr>
          <p:grpSpPr>
            <a:xfrm>
              <a:off x="4987800" y="2670120"/>
              <a:ext cx="2842200" cy="2386080"/>
              <a:chOff x="4987800" y="2670120"/>
              <a:chExt cx="2842200" cy="2386080"/>
            </a:xfrm>
          </p:grpSpPr>
          <p:sp>
            <p:nvSpPr>
              <p:cNvPr id="99" name=""/>
              <p:cNvSpPr/>
              <p:nvPr/>
            </p:nvSpPr>
            <p:spPr>
              <a:xfrm>
                <a:off x="4987800" y="4879800"/>
                <a:ext cx="99360" cy="100080"/>
              </a:xfrm>
              <a:prstGeom prst="ellipse">
                <a:avLst/>
              </a:prstGeom>
              <a:solidFill>
                <a:srgbClr val="cc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5444640" y="4956120"/>
                <a:ext cx="99360" cy="100080"/>
              </a:xfrm>
              <a:prstGeom prst="ellipse">
                <a:avLst/>
              </a:prstGeom>
              <a:solidFill>
                <a:srgbClr val="cc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5673240" y="4498920"/>
                <a:ext cx="99360" cy="100080"/>
              </a:xfrm>
              <a:prstGeom prst="ellipse">
                <a:avLst/>
              </a:prstGeom>
              <a:solidFill>
                <a:srgbClr val="cc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5292000" y="4498920"/>
                <a:ext cx="99720" cy="100080"/>
              </a:xfrm>
              <a:prstGeom prst="ellipse">
                <a:avLst/>
              </a:prstGeom>
              <a:solidFill>
                <a:srgbClr val="cc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6054120" y="4270320"/>
                <a:ext cx="99720" cy="100080"/>
              </a:xfrm>
              <a:prstGeom prst="ellipse">
                <a:avLst/>
              </a:prstGeom>
              <a:solidFill>
                <a:srgbClr val="cc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5977800" y="3813120"/>
                <a:ext cx="99720" cy="100080"/>
              </a:xfrm>
              <a:prstGeom prst="ellipse">
                <a:avLst/>
              </a:prstGeom>
              <a:solidFill>
                <a:srgbClr val="cc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6359040" y="4346640"/>
                <a:ext cx="99360" cy="99720"/>
              </a:xfrm>
              <a:prstGeom prst="ellipse">
                <a:avLst/>
              </a:prstGeom>
              <a:solidFill>
                <a:srgbClr val="cc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511320" y="3508200"/>
                <a:ext cx="99720" cy="100080"/>
              </a:xfrm>
              <a:prstGeom prst="ellipse">
                <a:avLst/>
              </a:prstGeom>
              <a:solidFill>
                <a:srgbClr val="cc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6587640" y="3889440"/>
                <a:ext cx="99360" cy="99720"/>
              </a:xfrm>
              <a:prstGeom prst="ellipse">
                <a:avLst/>
              </a:prstGeom>
              <a:solidFill>
                <a:srgbClr val="cc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6816240" y="3660840"/>
                <a:ext cx="99360" cy="99720"/>
              </a:xfrm>
              <a:prstGeom prst="ellipse">
                <a:avLst/>
              </a:prstGeom>
              <a:solidFill>
                <a:srgbClr val="cc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120800" y="3736800"/>
                <a:ext cx="99720" cy="100080"/>
              </a:xfrm>
              <a:prstGeom prst="ellipse">
                <a:avLst/>
              </a:prstGeom>
              <a:solidFill>
                <a:srgbClr val="cc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892200" y="3203640"/>
                <a:ext cx="99720" cy="99720"/>
              </a:xfrm>
              <a:prstGeom prst="ellipse">
                <a:avLst/>
              </a:prstGeom>
              <a:solidFill>
                <a:srgbClr val="cc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78000" y="3203640"/>
                <a:ext cx="99720" cy="99720"/>
              </a:xfrm>
              <a:prstGeom prst="ellipse">
                <a:avLst/>
              </a:prstGeom>
              <a:solidFill>
                <a:srgbClr val="cc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7730640" y="2670120"/>
                <a:ext cx="99360" cy="100080"/>
              </a:xfrm>
              <a:prstGeom prst="ellipse">
                <a:avLst/>
              </a:prstGeom>
              <a:solidFill>
                <a:srgbClr val="cc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Scatte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3789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negativní vztah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(nepřímá úměra) – čím vyšší hodnoty proměnné X, tím nižší hodnoty proměnné 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&lt; 0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4932360" y="1989000"/>
            <a:ext cx="3352680" cy="3733560"/>
            <a:chOff x="4932360" y="1989000"/>
            <a:chExt cx="3352680" cy="3733560"/>
          </a:xfrm>
        </p:grpSpPr>
        <p:sp>
          <p:nvSpPr>
            <p:cNvPr id="116" name=""/>
            <p:cNvSpPr/>
            <p:nvPr/>
          </p:nvSpPr>
          <p:spPr>
            <a:xfrm>
              <a:off x="4932360" y="1989000"/>
              <a:ext cx="3352680" cy="3733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7" name=""/>
            <p:cNvSpPr/>
            <p:nvPr/>
          </p:nvSpPr>
          <p:spPr>
            <a:xfrm flipV="1">
              <a:off x="6051240" y="3741480"/>
              <a:ext cx="99720" cy="10008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5060880" y="2598480"/>
              <a:ext cx="2842200" cy="2386080"/>
              <a:chOff x="5060880" y="2598480"/>
              <a:chExt cx="2842200" cy="2386080"/>
            </a:xfrm>
          </p:grpSpPr>
          <p:sp>
            <p:nvSpPr>
              <p:cNvPr id="119" name=""/>
              <p:cNvSpPr/>
              <p:nvPr/>
            </p:nvSpPr>
            <p:spPr>
              <a:xfrm flipV="1">
                <a:off x="5060880" y="2674080"/>
                <a:ext cx="99360" cy="9972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flipV="1">
                <a:off x="5517720" y="2598480"/>
                <a:ext cx="99360" cy="10008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flipV="1">
                <a:off x="5746320" y="3055680"/>
                <a:ext cx="99360" cy="10008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flipV="1">
                <a:off x="5365080" y="3055680"/>
                <a:ext cx="99720" cy="10008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>
                <a:off x="6127200" y="3284280"/>
                <a:ext cx="99720" cy="10008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>
                <a:off x="6432120" y="3207960"/>
                <a:ext cx="99360" cy="10008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>
                <a:off x="6584400" y="4045680"/>
                <a:ext cx="99720" cy="9972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>
                <a:off x="6660720" y="3665160"/>
                <a:ext cx="99360" cy="10008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V="1">
                <a:off x="6889320" y="3893760"/>
                <a:ext cx="99360" cy="10008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V="1">
                <a:off x="7193880" y="3817080"/>
                <a:ext cx="99720" cy="9972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V="1">
                <a:off x="6965280" y="4350960"/>
                <a:ext cx="99720" cy="10008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V="1">
                <a:off x="7270200" y="4427280"/>
                <a:ext cx="99720" cy="10008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flipV="1">
                <a:off x="7651080" y="4350960"/>
                <a:ext cx="99720" cy="10008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flipV="1">
                <a:off x="7803720" y="4884480"/>
                <a:ext cx="99360" cy="10008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Scatte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3789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žádný vztah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- hodnoty proměnné X nesouvisí s hodnotami proměnné 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r = 0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"/>
          <p:cNvSpPr/>
          <p:nvPr/>
        </p:nvSpPr>
        <p:spPr>
          <a:xfrm>
            <a:off x="4892760" y="2036880"/>
            <a:ext cx="3352680" cy="3733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96000" y="4292640"/>
            <a:ext cx="100080" cy="1000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5508720" y="2492280"/>
            <a:ext cx="100080" cy="1000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6732720" y="3213000"/>
            <a:ext cx="99720" cy="1000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6877080" y="2636280"/>
            <a:ext cx="100080" cy="997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120" bIns="24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5148360" y="4149720"/>
            <a:ext cx="100080" cy="1000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6012000" y="3645000"/>
            <a:ext cx="99720" cy="1000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5580000" y="3141720"/>
            <a:ext cx="100080" cy="1000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6877080" y="4653000"/>
            <a:ext cx="100080" cy="1000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7812000" y="3573360"/>
            <a:ext cx="100080" cy="1000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732720" y="4076640"/>
            <a:ext cx="99720" cy="1000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7596360" y="2996640"/>
            <a:ext cx="99720" cy="997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120" bIns="24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6012000" y="4941720"/>
            <a:ext cx="99720" cy="1000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7451640" y="5013360"/>
            <a:ext cx="100080" cy="1000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7736040" y="4284720"/>
            <a:ext cx="99720" cy="1000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7888320" y="4817520"/>
            <a:ext cx="100080" cy="997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120" bIns="24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Scatte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3789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nelineární vztah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r = 0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932360" y="1916280"/>
            <a:ext cx="3352680" cy="3733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5940360" y="4005360"/>
            <a:ext cx="100080" cy="1000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5435640" y="4868280"/>
            <a:ext cx="100080" cy="997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120" bIns="24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5724360" y="4365720"/>
            <a:ext cx="100080" cy="1000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5724360" y="4581360"/>
            <a:ext cx="100080" cy="1000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5508720" y="5157720"/>
            <a:ext cx="100080" cy="1000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6156360" y="3645000"/>
            <a:ext cx="100080" cy="1000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6659640" y="3645000"/>
            <a:ext cx="100080" cy="1000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6012000" y="4221000"/>
            <a:ext cx="99720" cy="1000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6227640" y="3933720"/>
            <a:ext cx="100080" cy="1000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6443640" y="3500280"/>
            <a:ext cx="100080" cy="1000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6877080" y="3500280"/>
            <a:ext cx="100080" cy="1000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7093080" y="3789360"/>
            <a:ext cx="99720" cy="1000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7524720" y="3716280"/>
            <a:ext cx="100080" cy="1000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7524720" y="4149720"/>
            <a:ext cx="100080" cy="1000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7885080" y="4292640"/>
            <a:ext cx="100080" cy="1000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8101080" y="4507920"/>
            <a:ext cx="100080" cy="997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120" bIns="24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7885080" y="4724280"/>
            <a:ext cx="71640" cy="1000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8101080" y="4940280"/>
            <a:ext cx="71280" cy="1000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7956720" y="5157720"/>
            <a:ext cx="71280" cy="1000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7236000" y="3645000"/>
            <a:ext cx="71280" cy="1000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5T18:17:40Z</dcterms:created>
  <dc:creator>Helena Klimusová</dc:creator>
  <dc:description/>
  <dc:language>en-US</dc:language>
  <cp:lastModifiedBy>Helena Klimusová</cp:lastModifiedBy>
  <dcterms:modified xsi:type="dcterms:W3CDTF">2003-05-12T00:25:57Z</dcterms:modified>
  <cp:revision>297</cp:revision>
  <dc:subject/>
  <dc:title>statistik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5</vt:r8>
  </property>
</Properties>
</file>