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DE7-C82B-4D4A-B56C-E2DA31B9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493-565A-474C-8575-03FD4926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B42-F403-49E8-A298-451440A8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EF7-4B01-4E8A-9BC5-E7847528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0295-9C4E-4027-B848-08235BA8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6931-2CA1-4EDD-901B-E92BF72E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C9AC-9761-442E-A520-7367A419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82AE-48E4-417F-B70A-09CA6D63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B696-0571-4ECF-985B-7B8FC8B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A6B3-2E57-4211-9356-55FBCB38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82C-26AB-4231-8F2C-07202BD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4E9-7377-43E5-9A15-E88C149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8306-D5B9-47A6-B2B6-DF53BCB8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E992-6FC6-49E4-B308-021DD25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1513-8927-4532-9567-9683428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C7AF-58B2-4A90-8C6E-F77C867F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4A09-C691-4F65-84FF-EBBE1474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955-B90D-45E8-B679-D39EB9A0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FE3-AF5A-45D1-A3EE-17A0194C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17A-D5F0-4AAF-8D80-17F4DED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692-963E-4305-94A3-78DDBCE0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83F-7D62-4573-998D-2D5934B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983-6538-44C5-851D-D6C675DA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8C2-B21B-44F8-AB68-B30840F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939-F377-4EC8-B879-3A48194F53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685-3C08-4C56-9269-45ED8C6A8C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ybrané multivariační techni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pologie na základě 18 proměnných by byla příliš složitá – je třeba tento počet sní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počítali faktorovou analýzu a extrahovali 3 faktory (vysvětlovaly celkem 48% společného rozptyl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484280"/>
          <a:ext cx="8253360" cy="5075280"/>
        </p:xfrm>
        <a:graphic>
          <a:graphicData uri="http://schemas.openxmlformats.org/drawingml/2006/table">
            <a:tbl>
              <a:tblPr/>
              <a:tblGrid>
                <a:gridCol w="5157720"/>
                <a:gridCol w="1008360"/>
                <a:gridCol w="1152360"/>
                <a:gridCol w="93492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volno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chutenstv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závrat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žaludečn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olesti hlav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rvozita, nekl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třesení ruk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pav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áhlé zpocen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silný tlukot srd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oustředěn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oční mů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pán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průjem, zác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na prs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krční bole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záde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dýchac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nto rozptyl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vní faktor nazvali </a:t>
            </a:r>
            <a:r>
              <a:rPr b="1" lang="cs-CZ" sz="3000" spc="-1" strike="noStrike">
                <a:solidFill>
                  <a:srgbClr val="cc0000"/>
                </a:solidFill>
                <a:latin typeface="Verdana"/>
              </a:rPr>
              <a:t>nevolno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ý faktor označili </a:t>
            </a:r>
            <a:r>
              <a:rPr b="1" lang="cs-CZ" sz="3000" spc="-1" strike="noStrike">
                <a:solidFill>
                  <a:srgbClr val="0000ff"/>
                </a:solidFill>
                <a:latin typeface="Verdana"/>
                <a:ea typeface="Tahoma"/>
              </a:rPr>
              <a:t>vegetativní obtíže</a:t>
            </a:r>
            <a:r>
              <a:rPr b="1" lang="cs-CZ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položky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faktor označili </a:t>
            </a:r>
            <a:r>
              <a:rPr b="1" lang="cs-CZ" sz="3000" spc="-1" strike="noStrike">
                <a:solidFill>
                  <a:srgbClr val="6600cc"/>
                </a:solidFill>
                <a:latin typeface="Verdana"/>
              </a:rPr>
              <a:t>bole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ís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ůvodních 1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ých indikujících frekvenci zdravostních potíží měl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y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 proměn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lineární kombinace původní proměnných)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nimi pak pracovali při typologii (viz dá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uží k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lasifik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elkého počt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so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 základě jejich dat v určitých proměnných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o několika málo shluk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glické označení cluster analysis se někdy v českých textech překládá také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clusterová analýz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ájemce o podrobnosti o využití metod shlukové analýzy v psychologii doporučuji publikac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 (2001). Typologie v psychologii. Praha, Academ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azuje na příklad aplikace faktorové 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e snažili identifikovat skupiny (shluky) adolescentů, kteří jsou si podobní ve svých zdravotních obtíž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li 3 proměnné vytvořené na základě FA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uveden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ek pro 4 shlu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v grafu na následujícím snímku jsou průměrná faktorová skóre v použitých 3 proměnných pro osoby klasifikované do daného shlu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ky pro vyšší počty shluků viz citovaná publikace Osecké, kapitola 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íl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dukce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zmenšení počtu proměnných odstraněním nadbytečných proměnných (tj. těsně korelujících s ostatními proměnný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detifikace struktury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zkoumat vztahy mezi proměnný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632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 prvním shluku si stěžují především n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ole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části také na vegetativ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dolescenty ve druhém shluku trápí hlavně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třetím shluku trp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getativní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tíž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čtvrtém shluku tvořily největší část souboru – trpěly pouz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o určité míry bolest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průměrně),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roveň ostatních zdravotních stesků u nich byla podprůměrná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k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 vytvoření několika hypotetických proměnných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ěkdy bývají nazývány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atent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y jsou lineárními kombinacemi původ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větlují vztahy mezi původním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trak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na základě matice vztahů mezi proměnnými (např. korelační mati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če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trahovaných faktorů – do značné míry závisí na rozhodnutí výzkumní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ílem je vysvětlit co největší množství společného rozptylu co nejmenším počtem faktor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faktorová analýza sama o sobě nenabídne označení faktorů (to je opět na výzkumníkov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 bývá označen na základě proměnných, které k němu mají nejtěsnější vztah (nejvyšší tzv. faktorov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ábo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ho řešení – usnadní interpretaci fa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tace může být ortogonální (tj. předpokládá, že faktory jsou nezávislé) nebo šikmá (předpoklad korelace mezi fak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aplikace F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, Řehulková, O., Macek, P. (1998).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ravotní stesky adolescentů: struktura a rozdíly mezi pohlaví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borník konference Sociální procesy a osobnost, MU B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studie bylo mj.vytvořit typologii adolescentů na základě jeji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olescenti v dotazníku označili, jak často trpí každou z 18 nabídnutý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ýchac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8T23:36:46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