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179-0B65-4C57-A32A-75860152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6AF-AF29-44D7-8F90-65D1E8BD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D4E-0E9F-475F-9A6D-18516F8F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8B98-558D-476F-AD4E-93AA507B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9D60-6259-4173-943B-A3BE490B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1744-FAB9-41BA-AC5F-4421989A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9FE3-B024-4224-B707-445DC2BD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247D-3A65-4A7D-95B6-990B5915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BB4E-E434-4F5A-97DF-60688D0B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3328-8DEA-4781-AFFC-02A59BF4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0BF4-77D0-43DA-8060-106174A1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236D-7CE4-4405-8045-FC616103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FCA2-5466-4EDA-B80A-5062F9B8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A9F2-BC40-4DC8-BBFD-AE67E0F6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8320-EDFA-4B82-BA8A-77EA67BA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6950-6D3E-479C-8599-90F48C4F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0FF0-F685-421E-8979-8AF98FC0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FF1-90CF-48D1-8CA4-84E13F35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B3EF-0CCF-4A9F-9D67-536198AB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3BD2-0067-4AAD-B4F5-740D1400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6ED-7377-4024-B03A-D64BEA3A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A251-6DB7-4C2D-BAA4-D0278E3C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F1CD-3D93-4AB5-AEDF-1AA1BCE6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639B-E686-4B56-A61A-51983665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487C-84C8-4CD9-BA85-5AB7C4F900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5B3E-00EE-4B20-9CF6-9E021FD33E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ha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odové a intervalové odha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nstrukce intervalu spolehlivosti pro průmě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hady podílů (kategoriální proměnn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100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100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, n=1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počet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běrové chyb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= 15/10 = 1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24040" y="1866960"/>
            <a:ext cx="5686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100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.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105-100)/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5/1.5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3.3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100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3.3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 tabulk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(Z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3.33)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0.0005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á je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ravděpodobnost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že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růměr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výběr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o velikosti n=25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bude mezi hodnotami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94 a 106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á je pravděpodobnost, že průměr výběru o velikosti n=25 bude mezi hodnotami 94 a 106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, n=2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počet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běrové chyb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= 15/5 =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á je pravděpodobnost, že průměr výběru o velikosti n=25 bude mezi hodnotami 94 a 106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 = (94-100) / 3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-6/3 = -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 = (106-100) /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6/3 =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jdeme v tabulce normovaného normálního rozdělení hodnotu pravděpodobnosti pro z=2 a z=-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92436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hodnota je 0,02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hromady 0,04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dečteme od 1,00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sledek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0,95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92436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va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RVP se při dostatečně velkém vzorku (30 a více) blíží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ormálnímu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růměr průměrů všech teoretických výběrů je roven průměr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riabili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měrodatná odchylka RVP se označuje jako výběrová chyba (standard error)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á je pravděpodobnost, že průměr výběru o velikosti n=25 bude mezi hodnotami 94 a 106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ravděpodobnost takového průměru je 95,4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jakém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sahu hodnot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bude pravděpodobně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80% všech průměrů výběr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o velikosti n=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jakém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sahu hodnot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bude pravděpodobně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ředních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80% všech průměrů výběr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o velikosti n=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třebujeme zjistit hodnotu z, která odděluje pravděpodobnost 10% na obou stranách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44760" y="2378160"/>
            <a:ext cx="60451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jakém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sahu hodnot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bude pravděpodobně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ředních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80% všech průměrů výběr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o velikosti n=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 = 1,28 a -1,28 převedeme na hodnoty IQ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pro rozdělení výběrových průmě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403280" y="2452680"/>
            <a:ext cx="6048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x 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+ z*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  = 100 + 1,28*(15/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√25) = 100+1,28(3) =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103,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  = 100 + (-1,28)*(15/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√25) = 100-1,28(3) =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96,1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jakém rozsahu hodnot bude pravděpodobně středních 80% všech průměrů výběrů o velikosti n=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80% všech výběrových průměrů bude v rozsahu hodnot 96,16 - 103,8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ředchozích příkladech jsme znali hodnoty průměru a rozptyl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vykle tomu ale bývá přesně naopak: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náme hodnoty (statistiky) výběru a neznáme hodnoty (parametry)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y chceme z výběr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dhadnou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typy odhadů: bodové a intervalov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bodový odh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použijeme průměr vzorku a odhadneme, že se rovná průměru popula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13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likost výběrové chyby je dána dvěma charakteristikam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ariabilita znaku v populac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: čím je vyšší, tím je vyšší i variabilita výběrových průměrů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elikost výběr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čím větší výběr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(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tím lépe jeho průměr reprezentuje průměr popul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Bod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odový odhad je problematický v tom, že dva různé výběry nám mohou dát dva různé odha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odový odhad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obsahuj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žádno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formac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o jeh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esnost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či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polehliv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 čem závisí přesnost odhadu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Bod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snost odhadu závisí na dvou charakteristiká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elikost výběr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čím větší n, tím menší výběrová chyb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ariabilita hodnot v populac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čím vyšší, tím vyšší i výběrová chyb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kytuje rozsah (interval) hodnot, který s určitou pravděpodobností obsahuje hledanou hodnotu paramet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založen na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dovém odhad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elikosti výbě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ariabilitě znaku v populaci (známé nebo rovněž odhadované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táme se: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hodnota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táme se: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hodnota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běrový průměr určité hodnoty může pocházet z populací o různých průměre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t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můžeme jednoznačně určit hodnotu </a:t>
            </a:r>
            <a:r>
              <a:rPr b="1" lang="cs-CZ" sz="35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547640" y="1744560"/>
            <a:ext cx="6048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kže se místo toho snažíme určit, jaký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ožný rozsah hodnot </a:t>
            </a:r>
            <a:r>
              <a:rPr b="1" lang="cs-CZ" sz="35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é populace (tj. s jakou hodnotou průměru) by mohly být pravděpodobným zdrojem našeho vzorku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é 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e které populace nejpravděpodobněji pochází výběr, jehož průměr je v následujícím grafu naznačen svislou čarou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VP pro populace I-IV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26920" y="2084400"/>
            <a:ext cx="698508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zorec pro výpočet výběrové chyb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Symbol"/>
                <a:ea typeface="Symbol"/>
              </a:rPr>
              <a:t></a:t>
            </a:r>
            <a:r>
              <a:rPr b="0" lang="cs-CZ" sz="5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5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5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0" lang="cs-CZ" sz="5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54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é 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běr pocház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jpravděpodobněji z populace II nebo II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éně pravděpodobně z populace 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 velmi málo pravděpodobně z populace IV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é 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valový odhad spočívá v konstrukci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tervalu spolehlivosti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confidence interval) – rozsahu hodnot, ve kterém s určitou pravděpodobností leží průměr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jprve je třeba si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anovit tuto pravděpodobnos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tj. úroveň přesnosti(spolehlivosti)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vyklá je např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95%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snažíme se najít interval hodnot, ve kterém s 95% pravděpodobností leží průměr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k jde o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95% interval spolehliv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té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ajít hodnotu 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pro tuto pravděpodobnos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tj. rozsah, ve kterém bude ležet středních 95% hodnot (výběrových průměrů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,5% na každé straně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258920" y="1744560"/>
            <a:ext cx="63374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mu odpovídají hodnoty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=-1,96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=1,96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69138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 - výpoč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835280" y="2349360"/>
            <a:ext cx="573084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692360" y="1701720"/>
            <a:ext cx="5975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pretace intervalu spolehlivosti: máme 95% pravděpodobnost, že se v tomto intervalu nachází průměr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bychom z populace vybrali 100 náhodných výběrů o velikosti n a pro každý z nich sestrojili tento interval, 95 intervalů by obsahovalo průměr populace a 5 nikoliv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líbený omyl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95% intervalu spolehlivosti leží 95% hodnot populace (NEPLATÍ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romě 95% intervalu spolehlivosti se používá také např. 99% a 90% pravděpodob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áhodný výběr 36 dětí, průměrné IQ vzorku = 9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 základě tohoto zjištění odhadněte průměrné IQ populace, ze které děti pocházejí (sestavte 95% interval spolehlivosti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tup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dový odhad: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=9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počet výběrové chyby (směrodatné odchylky RVP):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= 15/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√36 = 15/6 = 2,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tanovení úrovně spolehlivosti: 95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jít hodnotu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pro 95% pravděpodobn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258920" y="1744560"/>
            <a:ext cx="63374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tabulce normálního rozdělení najdeme hodnoty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odnoty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 95% : 1,96 a -1,9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 výběrovému průměru přičteme (pro horní hranici intervalu) a odečteme (pro spodní hranici) výběrovou chybu, vynásobenou hodnotou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95% 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 96 + 1,96*2,5 = 100,9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 96 -  1,96*2,5 = 91,1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95% interval spolehlivosti je 91,1 – 100,9 bodů IQ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99% interval spolehliv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= 2,5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99% 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 96 + 2,57*2,5 = 102,4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 96 -  2,57*2,5 = 89,5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99% interval spolehlivosti je 89,6 – 102,4 bodů IQ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hodnoty 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 nejčastěji užívané pravděpodobnost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90% (zbývá 5% + 5%)       z= +/- 1,64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95% (zbývá 2,5% + 2,5%)  z= +/- 1,9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99% (zbývá 0,5% + 0,5%)  z= +/- 2,57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, n=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počet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běrové chyb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= 15/3 =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ředchozích příkladech jsme předpokládali, ž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náme hodnotu variability znaku v popul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 skutečnosti je tomu tak však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říd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proto nutn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dhadnou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ároveň s průměrem i hodnotu směrodatné odchylk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známé hodnoty směrodatné odchylky v populac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692360" y="2565360"/>
            <a:ext cx="57308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a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ahradíme 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směr. odchylku výběrového průměru), pak musíme při konstrukci intervalu spolehlivosti místo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použít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udentovo t rozděl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neznámé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hodnoty směrodatné odchylky v populac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124000" y="2924280"/>
            <a:ext cx="41036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á také zvonovitý tvar, ale je více ploché než normální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symetrické kolem průměru (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aždou velikost výběru (počet stupňů volnosti, df) existuje odlišné t rozdělení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f = n-1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rovnání s normálním rozdělení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849636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rovnání s normálním rozdělením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 rozdělení má vyšší variabilit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íce plochy na okrajích, méně ve střed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zhledem k vyšší variabilitě budou intervaly spolehlivosti širší než u normálního rozděl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sou uváděny df obvykle jen do 100, protože pro n=100 se t rozdělení blíž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rmálnímu rozděl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a t-rozdělení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aždý řádek udává hodnoty t pro celé rozdělení pro daný počet stupňů volnosti (tj. n-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loupce pro nejdůležitější percenti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108000" y="1752480"/>
            <a:ext cx="108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741672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kategoriálních proměnných nemůžeme počítat průmě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hadujeme prot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díl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tlivých kategorií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24040" y="1866960"/>
            <a:ext cx="5686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podíl kuřáků v populaci českých adolescentů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íl pacientů s rakovinou plic, kteří přežijí 5 let od diagnóz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íl chlapců mezi dětmi s poruchou pozor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zkoumáme místo celé populace pouze výběr z ní, nezajímá nás tolik, jaký je podíl kategorií proměnné ve výběru (četnos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le spíše jaký je skutečný podíl v populaci – četnost </a:t>
            </a: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677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i dostatečně velkém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platí i pro rozdělení podílů centrální limitní vě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dělení výběrových podílů je normální rozdělení, s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růměrnou četností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 směrodatnou odchylkou (výběrovou chybou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916360" y="4149720"/>
            <a:ext cx="2476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ceme zjistit, jaká je podpora odsunu hlavního nádraží v Brn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áhodný výběr z populace brněnských občanů starších 18 let n=1000 oso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85 osob se vyjádřilo p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=0,58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hadněte s 95% spolehlivostí podporu odsunu nádraž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terval spolehlivosti pro podíly se spočítá podobně jako pro průměr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116000" y="2924280"/>
            <a:ext cx="61657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můžeme však spočítat výběrovou chybu, protože neznáme </a:t>
            </a:r>
            <a:r>
              <a:rPr b="0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tomto případě je však možné dosadit místo toho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přitom použít normální rozdělení (pokud je 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0, pak dosadíme místo </a:t>
            </a:r>
            <a:r>
              <a:rPr b="0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odnotu 0,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=0,58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=1,9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(p)=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,585(1-0,585)/100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0,15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terval spolehlivosti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.585 ± 1.96(0.0156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.585 ± 0,030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--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esnost odhadu je ± 3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2484360" y="2781360"/>
            <a:ext cx="7164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556000" y="2637000"/>
            <a:ext cx="14436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2700360" y="270828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 95% pravděpodobností je podíl osob souhlasících se odsunem nádraží 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zi 55.4% a 61.6%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j. máme 95% pravděpodobnost, že kdyby se v době průzkumu hlasovalo, bude většina p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ztah mezi velikostí vzorku a přesností odhad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1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1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2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7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4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5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10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3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24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2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96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1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žadovaná velikost vzorku roste mnohem rychleji než spolehlivost odhadu (pro zdojnásobení spolehlivosti je nutné asi čtyřnásobně zvětšit vzorek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ůležité při plánování výzkumu – jakou přesnost potřebujeme? jaké budou náklady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obný vztah platí pro odhad průmě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105-100)/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5/5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1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typy odhad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 čem závisí šířka intervalu spolehlivosti?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není nutno znát zpaměti vzorce, ale je třeba chápat princip výpočt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tah velikosti výběru a spolehlivosti odha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/3 =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1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 tabulk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(Z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1.0)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0.1587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13T01:57:07Z</dcterms:modified>
  <cp:revision>351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