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A17-7A65-4760-A801-A550D6BB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E29-B28B-4295-8B05-46572EC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740-6048-4AEB-9C9D-232D301B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15-1449-4AD2-921A-7B58240C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3801-77E1-4002-95AE-169A3EA6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F9F-8DD9-451E-A58F-823CCD4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FBEA-D5C2-4254-8E32-0C78454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7E29-30B5-409E-9EBE-F4D7530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56EA-0F0A-422A-9318-EECE382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5E33-4A84-4696-8015-615F25A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9C46-D7A4-4593-BAC1-70F6E6C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609-1A48-458C-9FC4-BB3F0C8D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C978-AD99-49CB-B1AE-C7EFB74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DF90-D1DB-4034-8621-D4B7F6F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711B-ACA5-4BD4-B37E-4F8AE46D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B20-6271-4215-9219-7871988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3ABB-6FB1-416F-856D-508CEF9E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896-B270-41C9-A872-F26F6DA5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E94-4E47-4396-954C-F491FC7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82B-0A26-4BA5-9664-FEE3B26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DDA-3831-4768-840A-E0A640A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26C-3BD6-4D98-9485-F0A4EB0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3AF-EC9E-490D-8FDB-9298E05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25D-0D68-4505-A2D2-720B5D6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F0F6-0EAF-4B4E-BC17-4BC3B52A9C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FD2-5D9A-4459-B277-C18C183963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duktivní statistika - 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2116080"/>
            <a:ext cx="5545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 (3) = f/N = 16/40 =0,4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2/5 či 4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gt; 2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05 + 0,25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313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lt; 5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10 + 0,20 + 0,40 + 0,25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72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y induktivní statistiky vycházejí z  teorie pravdě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že nastane určitý výslede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finujem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podí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čet pokusů, kdy nastal jev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A)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ý počet jev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013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4 &gt; X &gt; 1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20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6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745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odpovídá husto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lasti pod křivkou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aný interv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í najít a pops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ci každé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rámci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tak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rovnávání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cházejících z měřen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rozdílných stupnic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rubé skóry jsou převedeny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ou stupni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jednotkou je směrodatná odchyl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skóry ze dvou testů – biologie a psycholog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udent získal 26 bodů z biologie a 620 z psychologie. Ve kterém předmětu byl lep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8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mé porovnání není snadné – skóry z obou testů mají rozdílné průměry 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skór =odchylka skóru od průměru vzhledem k velikost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odch. od průměru/směr. od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z biologie: (26-18)/6 = 1,3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psychologie: (620-500)/100=1,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biologii byl student lepší – 1,33 směrodatné odchylky nad průměr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 přesně udává pozici každé hodnoty vzhledem k ostatním hodnotá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ukazuje, zda je hodnota nad nebo pod průměrem rozděle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a z-skóru upřesňuje, kolik směrodatných odchylek byla hodnota od průměru vzdál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měr rozdělení z-skórů je vždy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měrodatná odchylka j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ýpočet z-skóru hodnoty 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– μ) /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- m) / 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můžeme i z-skór převést na hrubý skór, známe-li průměr a směrodatnou odchyl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Z .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-3 . 15 +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 5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z-skó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 z-skórů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ejný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tvar původního rozdělení hrubých skó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je 0, směrodatná odchylka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změní jen označení hodnot na os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 rozdělení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unimodál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vonovitého tva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značuje se i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Gaussova křivk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0" y="2852640"/>
                <a:ext cx="42451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2432160"/>
            <a:ext cx="6408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4.13% skórů spadá mezi průměr a 1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3.59% hodnot spadá mezi 1. a 2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.28% hodnot spadá mezi 2. a 3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normálního rozdělení (z rozděl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ý nástroj, obvykle jako apendix v učebnicích statistiky (spolu s dalšími tabulka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zjistit hustotu oblasti pod křivkou (tj. pravděpodobnost) pro jednotlivé 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piková dáma) = f/N = 1/52 = 0,019= 1,9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2436840"/>
            <a:ext cx="4032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pravděpodobnosti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, s hodnotou průměru a směr. odch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kreslit hledanou hodnotu (v přibližné vzdálenosti od průměru), vystínovat hledanou obl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vést hodnotu X na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v tabulce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(130 – 100)/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456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228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,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51280" y="2263680"/>
            <a:ext cx="44974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1587 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5,9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z-skóru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stínovat oblast odpovídající zadané pravděpod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ce vyhledat příslušný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počítat z něj hrubý 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= 0.05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94040"/>
            <a:ext cx="4824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1.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(1.65).(15) + 100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24.7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tabulky normálního rozdělení je možno nalézt také hodnotu percen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3 n. 6) = f/N = 2/6 = 0,333= 33,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pro 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977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7.72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sob má nižší skó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induktivní statistiky je odhadnou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arametry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arakteristik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ýběrového soubor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odhadem průměru populace bude průměr vzor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 je vždy zatížen určit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běrovou chyb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z jedné populace vybereme 3 různé vzor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ou se nejspíš navzájem lišit ve tvaru rozdělení hodnot, průměru i variabilit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e rozhodneme, který z nich zvolit pro odhad průměru populace 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923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spočítali průměry ze všech možných výběrů o určité velikost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budou tvoři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sampling distribution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pulace hodnot 2, 4, 6, 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průměr neznáme a pokoušíme se ho odhadnout ze vzorku n=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všechny možné výběrové soubor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1628640"/>
          <a:ext cx="8001000" cy="4772160"/>
        </p:xfrm>
        <a:graphic>
          <a:graphicData uri="http://schemas.openxmlformats.org/drawingml/2006/table">
            <a:tbl>
              <a:tblPr/>
              <a:tblGrid>
                <a:gridCol w="1052640"/>
                <a:gridCol w="1152360"/>
                <a:gridCol w="1295640"/>
                <a:gridCol w="450036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ýbě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vní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uhý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vzor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bývá uváděna nejčastěji jak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,33)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lom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1/3) 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cen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33,3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určitého jevu nebo třídy jevů můžeme odhadnout z rozdělení hodnot (četnost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ozdělení výběrových průměrů je takový vzorek jen 1 ze 16 – tj. pravděpodobnost takového průměru vzorku je 1/16 = 0.06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a populací i vzorků je mnohem vět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existují určité základní vlastnosti rozdělení výběrových průměrů (RV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 také jako očekávaná hodnota průměru vzor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směrodatnou odchylku výběrových průměrů od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jak spolehlivý je odhad populačního průměru z průměru vzorku – tj. jak velkou chybou je odhad zatíž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 variabilitou v populaci a velikostí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3887640" cy="216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00600" y="2276640"/>
            <a:ext cx="19321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u – čím větší výbě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entrální limitní vě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pro každou populaci o průměr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é odchylc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bude rozdělení výběrových průměrů výběrů (pro rozsah výběru jdoucí do nekonečna) blížit normálnímu rozdělení s průměre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ou odchylko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stavme si, že máme krabici se 40 očíslovanými žetony s čísly 1 –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absolutní i relativní četnosti jednotlivých čísel žeton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568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2.4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8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40:28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