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5AD-4050-4225-A3CF-59D45187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A8C-64AE-4506-9349-644EC41C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428-BAB4-45C2-A546-63CEB300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A57-75AE-428E-A88F-9A064761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1559-0B3F-4739-8E92-685E3464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A003-7567-4B10-9CE5-622B8F58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A114-580C-48FE-9ABB-EDFFD99D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D5D-07F6-41AD-9D18-D54C83E1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1588-C6F2-40A3-8BFC-3CBB3979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6754-B77C-40A1-856B-104D49D7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31A1-4FF8-416E-8AAC-8B3E5AC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1FB-5FD4-49B6-8FB8-76D05005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3F8F-C4B2-4866-9B42-AD83E9A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1F5-BD8E-488E-B056-30A9936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3DD1-C6EE-4455-9887-25E59EEE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77D0-A77E-4B6A-9FBB-5086ECD1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9056-990F-4E03-8B3C-A83FC2B9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845-5E4C-4CDF-ACCC-E1E7FE40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66D-C7A8-4C1A-8647-7694A7FF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E75-B957-467C-A523-5849EE19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4EC-E2FB-4017-B1B8-A2AC3DBE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A61-838D-4F45-93A4-FEA71EF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F62-EB01-4835-A937-FC00F6CB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B34-3007-4130-A93C-B193269D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A999-5604-4926-A691-8D7EADB55B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0930-3F1E-436B-8007-DC8A140509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/deskriptivní/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kud proměnná nabýv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mnoha hodnot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je vhodnější je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oučit do kategorií (intervalů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čet intervalů by měl být přiměřený počtu hodno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ěkdy se používá tzv. Sturgesovo pravid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 = 1 + 3,3 log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něj by pro 200 hodnot byl vhodný počet intervalů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1109520"/>
                <a:gridCol w="982800"/>
                <a:gridCol w="1908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mul.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ně než 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– 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 – 1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- 13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 a ví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k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(středu, centrální tendence) jsou výsledkem snahy nají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ypick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u pro daný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častěji používa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méně často harmonický a geometrický průmě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se vyskytující hodno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př. u příkladu s temperamentem to byl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oleri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iná použitelná charakteristika polohy pro nominální data; u pořadových a kardinálních jsou většinou více typickými charakteristikami medián neb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 rozdělení více modů, jde o rozdělení vícevrcholové (obvykle bimodální) – může odhalit nehomogenitu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rozdělení hodnot tělesné výšky může mít dva mody – pro muže a pro ž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dus není užitečnou statistikou pro zobecňování ze vzorku na populaci – dá se očekávat, že různé vzorky z téže populace budou mít různé m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prostřední hodnota v řadě hodno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pořádaných podle  velik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50% percenti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jen pro data, která je možno podle velikosti uspořádat, tj. pořadová a kardin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lí soubor na dvě poloviny (pro sudý počet hodnot je medián průměrem dvou prostředních pozorová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ředevším, pokud chc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eliminovat vliv extrémních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růměrný plat 20 tisíc může u 10 osob znamenat, že 9 z nich má 10 tisíc a jeden 110 tisíc; použijeme-li medián – 10 tisíc, získáme více typickou hodnotu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ho vyčíst z tabulky četností, pokud jsou uvedeny kumulativní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oučet všech hodnot znaku  dělený jejich počte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n pro proměnné, u nichž je možno hodnoty smysluplně dělit (kardinál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/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populac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výbě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zahrnu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aždou hodno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ku – což je jak výhoda, tak nevýhoda (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ý na extrémní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 je možn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řeš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užitím tzv.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eknutého průměr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trimmed 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který se počítá tak, že se vynechá určité % hodnot z obou stran rozdělení, např. 5% nejnižších a 5% nejvyšš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k popisu základních vlastnost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jednoduché shrnutí hodnot proměnných ve výběrovém soubo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chází induktivní statistiku (která odvozuje zjištění ze vzorku na popula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patně reprezentuje nehomogenní skupin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30 osob v parku, průměrný věk 12.5 roku, průměrná výška 130 cm: nemusí jít o školní děti, ale o 15 matek se 4-letými dět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ním hodnoty průměru a mediánu získáme představu o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ikmost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růměr vět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ladně (dopra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men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áporně (dole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=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6920" y="1920960"/>
            <a:ext cx="345780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313080" cy="197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313080" cy="158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42920" y="5805360"/>
            <a:ext cx="7308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naky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 je průmě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júčinnějš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charakteristikou (tj. nejvíce stabilní pro různé výběrové soubory) – dá se nejlépe použít pro odhad parametru populace z charakteristik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žívanou mírou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terou statistiku uvádě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může být spočítán a pokud není rozdělení příliš šikm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multimodální (neexistuje jediná typická hodno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šikmé a unimod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počítejte modus, medián a aritmetický průměr následujícího rozdělení hodno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8  5  12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  14   87   50   87   7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 popisuj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lísání </a:t>
            </a:r>
            <a:br>
              <a:rPr sz="3000"/>
            </a:b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 rozdělení hodno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rozpětí, mezikvartilové rozpětí, rozptyl, směrodatná odchylka, vari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ariační šíře, variační rozpětí) – rozdíl mezi nejvyšší a nejnižší hodnot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čně ovlivněno extrémními hodnotami, není dobrým odhadem paramet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kvartilové 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interkvartilová odchylka) – rozdíl mezi hodnotou horního kvartilu a dolního kvar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varti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dělí soubor na 4 stejné části; horní kvartil odděluje 25% nejvyšších hodnot, dolní 25% nejnižš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kvartilové rozpětí udáv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ětí pro středních 50%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=délka obdélníku v krabicovém diagram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dobně jako medián)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é na extrémní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chniky deskriptivní statistiky pomáhají redukovat větší množství dat do zvládnutelné pod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uto redukcí např. údajů o rychlosti čtení u 200 žáků na jeden ukazatel, např. na hodnotu průměru samozřejmě část informací ztratí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ozpty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řední kvadratická odchylka průměru) - ukazuje, jak jsou hodnot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rozptýleny kolem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opulaci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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běr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-1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než rozptyl se používá jeho odmocnina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odatná odchylk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a ukazatele slouží jako vhodné doplnění průměru – získáme představu o jeho věrohodnosti, jak dobře reprezentuje všechny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rovnejte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 těchto dvou rozložení hodnot (jde např. o počet správně vyřešených úloh v didaktickém testu ve 2 tří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b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0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3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prvního rozdělení je průměr lepší reprezentací hodnot; u druhého jsou hodnoty kolem průměru hodně rozptýl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čn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o 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ovnání míry variabilit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 různých soub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se u různých souborů měřené hodnoty výrazně liší svou úrovní anebo jsou dokonce v různých jednotkách, nelze podle rozptylu či standardní odchylky porovnávat přímo, který ze souborů má větší variabilitu - je třeba srovnáva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elativní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podíl směrodatné odchylky 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ou se udává v procent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 = ( s / m ) .100%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orovnejte variabilitu průměrného platu v ČR (v korunách) a v GB (v librách)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00 liber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=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6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 000 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=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30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í variabilita je v britských platech (60%) než v českých (3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z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ákladní ty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kategoriál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- sloupcový diagram, výsečový gra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pojitá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data – histogram, frekvenční polygon, krabicový diagram, stromový dia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rafy je možno znázornit v kategorizované formě – pro jednotlivé kategorie další proměnné (např. pro muže a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sečový graf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koláčový diagram, pie chart) – užívá se více v populárních publikacích než v odbor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58920" y="3068640"/>
          <a:ext cx="5761080" cy="304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068640"/>
                    <a:ext cx="576108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proměnnou obvykle popisujeme 3 charakteris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(i graficky), středovou hodnotu a míru rozptýlení hodnot kolem tohoto stře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istogr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dobný sloupcovému diagramu, ale je pro spojit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sloupce reprezentují nikoliv jednotlivé kategorie, ale intervaly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var histogramu závisí do jisté míry na šířce interva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89280" y="2073240"/>
          <a:ext cx="509580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509580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frekvenční polyg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konstruován podobně jako histogram, jen místo sloupců jsou tečky spojené čar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3270240"/>
            <a:ext cx="5040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rabicový diagram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oxplot, vousatá krabička) – poskytuje bohaté zobrazení důležitých aspektů rozdělení hod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élka krabice odpovídá interkvartilové odchylce; uvnitř krabice je vyznačen medi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usy“ je ohraničeno rozmezí hodnot bez odlehlých hodnot (outliers) a extrémních hodnot (více než 3x délky krabice od jejího ko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89280" y="2073240"/>
          <a:ext cx="495144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4951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tromkový diagr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em-and-leaf plot; stonek a list) – podobný histogramu (naležato), ale obsahuje informace o každém příp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trukce diagramu – hodnoty jsou rozděleny např. na desítky (stonek) a jednotky (lis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hodnota 85 = 8x10 + 5x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je hodnot pro některé desítky více, rozdělí se na další lis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9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1 .  4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2 .  022558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3 .  0112344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,00       4 .  34555677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5 .  3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6 .  011138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,00        7 .  12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,00        8 .  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9 .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10,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189000" cy="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0" y="2060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00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3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,00        3 .  66777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,00        3 .  88889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4 .  0000011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22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444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4 .  6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4 .  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Extremes    (&gt;=5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  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absolutními a relativními četnostmi, poměrem a mí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 základní míry polohy (+ u jakých dat použijeme průměr, modus či mediá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kladní míry variability, výpočet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(distribuce) hodnot - souhrn četností jednotlivých kategorií nebo intervalů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ožností, jak zobrazit rozložení hodnot proměnné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abulka četností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eznam kategorií proměnné a u nich počet osob, které do každé kategorie spadaj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6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četno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92360" y="1773360"/>
          <a:ext cx="5256360" cy="4281480"/>
        </p:xfrm>
        <a:graphic>
          <a:graphicData uri="http://schemas.openxmlformats.org/drawingml/2006/table">
            <a:tbl>
              <a:tblPr/>
              <a:tblGrid>
                <a:gridCol w="1873440"/>
                <a:gridCol w="17985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čet os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angv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leg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lancho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holer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e třeba uvést celkový počet osob 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ativní četnosti mohou být uvedeny buď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ocen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8%) neb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dí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.0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rovněž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dvou kategorií (např. poměr dívek a chlapců s ADHD 1:4 (nebo 0,25)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 </a:t>
            </a:r>
            <a:r>
              <a:rPr b="0" lang="ug-CN" sz="3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ír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se označuje počet výskytů nějakého jevu dělený počtem možných výskytů v nějakém č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míra úmrtnosti = počet mrtvých za rok / počet obyvatel x 1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ískáme hrubou míru úmrtnosti na 1000 obyvat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ejná data je možno zobrazit i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graficky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v příkladu sloupcový diagram – barch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2727360"/>
          <a:ext cx="6094440" cy="32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27360"/>
                    <a:ext cx="609444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7:18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