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0CD-3A72-4D19-89CC-B127F7BF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C89-A9D1-4D6F-902D-1E47DFC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9DB-F2DA-4B2B-A5B7-CA8360FF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21A-D168-4B1A-B847-6DCB48FC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D02A-D161-4414-9D74-01492BB6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373B-34F5-4BEA-8056-C40F3E7D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9ADE-AC4A-4C4C-9D28-E6FA6BB8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8082-F24E-4154-B7DB-8A54DA2D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E9EA-A452-44EA-A4BC-1FFB8CBF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5F57-289E-4F9F-A702-4CD728F3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C31E-6D03-419B-8D1D-51EC4D7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257-414D-4FDD-B1EA-69232208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D7DB-D1A9-4F68-A798-68950D85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0AA2-C962-4C9E-8F43-D8D97A34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913E-6258-49CD-8D8D-EB6C6A36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A5FE-C390-4666-B52B-9571DC80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45E3-F14C-44BD-BA72-99118655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A90-C4F8-44E5-ACAF-D58C5098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011-8BA0-4703-B595-E03E7E61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A62-65D8-4B6F-B28F-E08CF8B3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FFB-518C-417C-85F0-86F14228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071-E4C0-4E54-80F0-14760B07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6D7-4C6B-48E7-B961-2DA138A4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67A-87D9-45BE-857C-15E7DCAD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AAAB-7383-40B9-B5E7-FB47981A74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8DEA-F43F-4F55-899B-4B6AD6B275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/deskriptivní/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kud proměnná nabývá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Verdana"/>
              </a:rPr>
              <a:t>mnoha hodnot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je vhodnější je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sloučit do kategorií (intervalů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čet intervalů by měl být přiměřený počtu hodno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ěkdy se používá tzv. Sturgesovo pravidlo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 = 1 + 3,3 log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(n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něj by pro 200 hodnot byl vhodný počet intervalů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4000680"/>
                <a:gridCol w="1109520"/>
                <a:gridCol w="982800"/>
                <a:gridCol w="19080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č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umul.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ně než 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 – 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 – 1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6 - 13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 a ví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lke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(středu, centrální tendence) jsou výsledkem snahy nají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ypick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u pro daný 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častěji používa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méně často harmonický a geometrický průmě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se vyskytující hodno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př. u příkladu s temperamentem to byl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oleri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iná použitelná charakteristika polohy pro nominální data; u pořadových a kardinálních jsou většinou více typickými charakteristikami medián neb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 rozdělení více modů, jde o rozdělení vícevrcholové (obvykle bimodální) – může odhalit nehomogenitu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rozdělení hodnot tělesné výšky může mít dva mody – pro muže a pro ž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dus není užitečnou statistikou pro zobecňování ze vzorku na populaci – dá se očekávat, že různé vzorky z téže populace budou mít různé m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prostřední hodnota v řadě hodno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pořádaných podle  velik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50% percenti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jen pro data, která je možno podle velikosti uspořádat, tj. pořadová a kardin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lí soubor na dvě poloviny (pro sudý počet hodnot je medián průměrem dvou prostředních pozorová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ředevším, pokud chc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eliminovat vliv extrémních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růměrný plat 20 tisíc může u 10 osob znamenat, že 9 z nich má 10 tisíc a jeden 110 tisíc; použijeme-li medián – 10 tisíc, získáme více typickou hodnotu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ho vyčíst z tabulky četností, pokud jsou uvedeny kumulativní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oučet všech hodnot znaku  dělený jejich počte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n pro proměnné, u nichž je možno hodnoty smysluplně dělit (kardinál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/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populac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výbě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zahrnu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aždou hodno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ku – což je jak výhoda, tak nevýhoda (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ý na extrémní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 je možn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řeš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užitím tzv.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eknutého průměr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trimmed 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který se počítá tak, že se vynechá určité % hodnot z obou stran rozdělení, např. 5% nejnižších a 5% nejvyšš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k popisu základních vlastnost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jednoduché shrnutí hodnot proměnných ve výběrovém soubo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chází induktivní statistiku (která odvozuje zjištění ze vzorku na populac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patně reprezentuje nehomogenní skupin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30 osob v parku, průměrný věk 12.5 roku, průměrná výška 130 cm: nemusí jít o školní děti, ale o 15 matek se 4-letými dět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ním hodnoty průměru a mediánu získáme představu o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ikmost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růměr vět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ladně (dopra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men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áporně (dole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=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26920" y="1920960"/>
            <a:ext cx="3457800" cy="174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313080" cy="1971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3313080" cy="158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642920" y="5805360"/>
            <a:ext cx="7308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naky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 je průmě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júčinnějš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charakteristikou (tj. nejvíce stabilní pro různé výběrové soubory) – dá se nejlépe použít pro odhad parametru populace z charakteristik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žívanou mírou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terou statistiku uvádě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může být spočítán a pokud není rozdělení příliš šikm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multimodální (neexistuje jediná typická hodno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šikmé a unimod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počítejte modus, medián a aritmetický průměr následujícího rozdělení hodno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8  5  12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  14   87   50   87   7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 popisuj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lísání </a:t>
            </a:r>
            <a:br>
              <a:rPr sz="3000"/>
            </a:b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 rozdělení hodno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rozpětí, mezikvartilové rozpětí, rozptyl, směrodatná odchylka, vari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ariační šíře, variační rozpětí) – rozdíl mezi nejvyšší a nejnižší hodnot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čně ovlivněno extrémními hodnotami, není dobrým odhadem paramet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kvartilové 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interkvartilová odchylka) – rozdíl mezi hodnotou horního kvartilu a dolního kvar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varti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dělí soubor na 4 stejné části; horní kvartil odděluje 25% nejvyšších hodnot, dolní 25% nejnižš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kvartilové rozpětí udáv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ětí pro středních 50%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=délka obdélníku v krabicovém diagram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dobně jako medián)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é na extrémní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chniky deskriptivní statistiky pomáhají redukovat větší množství dat do zvládnutelné pod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uto redukcí např. údajů o rychlosti čtení u 200 žáků na jeden ukazatel, např. na hodnotu průměru samozřejmě část informací ztratí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ozpty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řední kvadratická odchylka průměru) - ukazuje, jak jsou hodnoty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rozptýleny kolem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opulaci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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běr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-1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než rozptyl se používá jeho odmocnina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odatná odchylk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a ukazatele slouží jako vhodné doplnění průměru – získáme představu o jeho věrohodnosti, jak dobře reprezentuje všechny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rovnejte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 těchto dvou rozložení hodnot (jde např. o počet správně vyřešených úloh v didaktickém testu ve 2 tří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b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0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3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prvního rozdělení je průměr lepší reprezentací hodnot; u druhého jsou hodnoty kolem průměru hodně rozptýl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čn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o 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ovnání míry variabilit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 různých soub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se u různých souborů měřené hodnoty výrazně liší svou úrovní anebo jsou dokonce v různých jednotkách, nelze podle rozptylu či standardní odchylky porovnávat přímo, který ze souborů má větší variabilitu - je třeba srovnáva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elativní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podíl směrodatné odchylky 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ou se udává v procent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 = ( s / m ) .100%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orovnejte variabilitu průměrného platu v ČR (v korunách) a v GB (v librách)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00 liber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=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6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 000 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=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30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í variabilita je v britských platech (60%) než v českých (3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z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ákladní typ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kategoriál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- sloupcový diagram, výsečový gra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pojitá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data – histogram, frekvenční polygon, krabicový diagram, stromový dia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rafy je možno znázornit v kategorizované formě – pro jednotlivé kategorie další proměnné (např. pro muže a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sečový graf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koláčový diagram, pie chart) – užívá se více v populárních publikacích než v odbor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58920" y="3068640"/>
          <a:ext cx="5761080" cy="304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3068640"/>
                    <a:ext cx="576108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proměnnou obvykle popisujeme 3 charakteris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(i graficky), středovou hodnotu a míru rozptýlení hodnot kolem tohoto stře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istogra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dobný sloupcovému diagramu, ale je pro spojit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é sloupce reprezentují nikoliv jednotlivé kategorie, ale intervaly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var histogramu závisí do jisté míry na šířce interva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89280" y="2073240"/>
          <a:ext cx="509580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509580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frekvenční polygo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konstruován podobně jako histogram, jen místo sloupců jsou tečky spojené čar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71640" y="3270240"/>
            <a:ext cx="50403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rabicový diagram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boxplot, vousatá krabička) – poskytuje bohaté zobrazení důležitých aspektů rozdělení hod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élka krabice odpovídá interkvartilové odchylce; uvnitř krabice je vyznačen medi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usy“ je ohraničeno rozmezí hodnot bez odlehlých hodnot (outliers) a extrémních hodnot (více než 3x délky krabice od jejího ko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89280" y="2073240"/>
          <a:ext cx="495144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4951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tromkový diagr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em-and-leaf plot; stonek a list) – podobný histogramu (naležato), ale obsahuje informace o každém příp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trukce diagramu – hodnoty jsou rozděleny např. na desítky (stonek) a jednotky (lis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hodnota 85 = 8x10 + 5x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je hodnot pro některé desítky více, rozdělí se na další lis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19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1 .  46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2 .  022558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3 .  0112344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,00       4 .  34555677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5 .  3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6 .  011138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,00        7 .  12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,00        8 .  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9 .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10,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189000" cy="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0" y="2060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00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3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,00        3 .  66777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,00        3 .  888899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4 .  0000011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223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444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4 .  6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4 .  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Extremes    (&gt;=5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  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absolutními a relativními četnostmi, poměrem a mí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 základní míry polohy (+ u jakých dat použijeme průměr, modus či mediá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kladní míry variability, výpočet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(distribuce) hodnot - souhrn četností jednotlivých kategorií nebo intervalů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ožností, jak zobrazit rozložení hodnot proměnné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abulka četností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eznam kategorií proměnné a u nich počet osob, které do každé kategorie spadaj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26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abul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četnost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92360" y="1773360"/>
          <a:ext cx="5256360" cy="4281480"/>
        </p:xfrm>
        <a:graphic>
          <a:graphicData uri="http://schemas.openxmlformats.org/drawingml/2006/table">
            <a:tbl>
              <a:tblPr/>
              <a:tblGrid>
                <a:gridCol w="1873440"/>
                <a:gridCol w="1798560"/>
                <a:gridCol w="158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čet os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angvin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Fleg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elancho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holer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je třeba uvést celkový počet osob (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ativní četnosti mohou být uvedeny buď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ocen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8%) neb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dí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.0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rovněž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i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dvou kategorií (např. poměr dívek a chlapců s ADHD 1:4 (nebo 0,25)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 </a:t>
            </a:r>
            <a:r>
              <a:rPr b="0" lang="ug-CN" sz="30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ír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se označuje počet výskytů nějakého jevu dělený počtem možných výskytů v nějakém č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míra úmrtnosti = počet mrtvých za rok / počet obyvatel x 1000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ískáme hrubou míru úmrtnosti na 1000 obyvat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ejná data je možno zobrazit i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graficky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v příkladu sloupcový diagram – barchar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6000" y="2727360"/>
          <a:ext cx="6094440" cy="32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27360"/>
                    <a:ext cx="609444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6:27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