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3D5A-0103-4B2E-83F2-6D0F802B7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2563-27C0-422A-9963-843AD7A5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D5A7-0BE1-492F-9FCC-575E86573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7024-CA04-4F8A-9D59-6C9CF440F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6C49-A3F5-48F1-8E7D-C642E72E1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D876E-E988-4F78-9B8B-0AAA9368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727E-DB5F-47B8-BFFD-44E34F57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9B30-6FF7-457D-B1FE-FBC1CC2B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4FCA-6872-4E7C-8C1A-7C7498EF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9EE5-FA26-4963-B71D-25199A59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47CC-3A52-4DBC-B912-821A869A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6FAA-FE97-400A-BBDE-8A5D6E6E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AFC8-1CD5-42D3-A3E7-E84BA2C8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4062-98B1-482A-8F3C-5F5641D6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EE34-6481-419B-A9D7-5115821F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D2D4-91D3-4ACC-926A-E06957324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4D41-2711-49B9-9DDA-0968E90CF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7C91-0055-43B4-9752-7AE45117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841E-A602-4986-A0CA-9836CE52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C212-1321-4CCE-B1F3-DF0B30BC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6EBC-05AE-40D5-83B9-594CD337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5CAF-DEE3-46A8-A22D-1674701F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4987-7215-4BDE-B545-F9FB9260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0DFA-6223-455D-B876-8120206C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370F-BCB2-4BD2-B987-7443FAD3DCC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E284-A2F6-4A2A-9563-D372255BA0C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0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logika analýzy rozptyl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ýpočetní post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nohonásobná porovnává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pakovaná měře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faktoriální analýza rozptyl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nalýza kovari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ícerozměrná analýza rozptyl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rozptylu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klasickém experimentu testujícím tzv. efekt přihlížejících (bystander effect) zjišťovali Darley a Latane, zda má přítomnost dalších lidí vliv na naši ochotu pomoci někomu v nouzi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O čekala v místnosti s dalšími 0, 2 nebo 4 osobami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rozptylu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experimentátorka odešla něco připravit do vedlejší místnosti a bylo slyšet, že upadla a vykřikla něco o bolesti v kotník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ávislou proměnnou byla doba, která uplynula do nabídnutí pomoci experimentátorce (v sekundách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566640" y="304920"/>
          <a:ext cx="8253360" cy="6335640"/>
        </p:xfrm>
        <a:graphic>
          <a:graphicData uri="http://schemas.openxmlformats.org/drawingml/2006/table">
            <a:tbl>
              <a:tblPr/>
              <a:tblGrid>
                <a:gridCol w="2670120"/>
                <a:gridCol w="2668680"/>
                <a:gridCol w="291456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O sam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další osob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další osob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rozptylu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11280" y="1773360"/>
          <a:ext cx="8008920" cy="4363920"/>
        </p:xfrm>
        <a:graphic>
          <a:graphicData uri="http://schemas.openxmlformats.org/drawingml/2006/table">
            <a:tbl>
              <a:tblPr/>
              <a:tblGrid>
                <a:gridCol w="2276640"/>
                <a:gridCol w="1728720"/>
                <a:gridCol w="2001960"/>
                <a:gridCol w="2001600"/>
              </a:tblGrid>
              <a:tr h="69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oso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osob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osob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ůmě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,7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,6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,3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měrodatná odchylk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,1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,4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,9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cs-CZ" sz="26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5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99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06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1. krok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výpočet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celkového rozptyl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součtu čtverců – sum of squares) SST (S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total)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SSB + SS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ST =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X-X)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ýpočetní rovnice 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ST =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X)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]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3348000" y="3716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rozptylu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615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ST =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X)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]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ST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(27</a:t>
            </a:r>
            <a:r>
              <a:rPr b="0" lang="cs-CZ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+20</a:t>
            </a:r>
            <a:r>
              <a:rPr b="0" lang="cs-CZ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+22</a:t>
            </a:r>
            <a:r>
              <a:rPr b="0" lang="cs-CZ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+…+33</a:t>
            </a:r>
            <a:r>
              <a:rPr b="0" lang="cs-CZ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)–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(906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/3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ST = 26016 – 24873,818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SST = 1142,18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2. krok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výpočet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rozptylu mezi skupinam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SSB (S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betwee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SB = </a:t>
            </a:r>
            <a:r>
              <a:rPr b="0" lang="cs-CZ" sz="33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X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-X)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Verdana"/>
              </a:rPr>
              <a:t>k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je počet osob ve skupině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Verdana"/>
              </a:rPr>
              <a:t>k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e průměr skupiny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1619280" y="4941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334800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92436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rozptylu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SB = </a:t>
            </a:r>
            <a:r>
              <a:rPr b="0" lang="cs-CZ" sz="33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X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-X)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SB = 12*(23,75-27,45)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+ 10*(27,60-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27,45)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+ 11*(31,36-27,45)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SB = 12*(-3,7)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+10*(0,15)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+(11*3,91)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SSB = 332,968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3059280" y="184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3635280" y="184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3. krok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výpočet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rozptylu uvnitř skupi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SSW (S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withi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SW = </a:t>
            </a:r>
            <a:r>
              <a:rPr b="0" lang="cs-CZ" sz="33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X-X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Verdana"/>
              </a:rPr>
              <a:t>k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e průměr skupiny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ýpočetní rovnic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SW = SST - SSB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1619280" y="3789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3492360" y="32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rozptylu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SW = SST – SS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SW = 1142,182 – 332,98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SSW = 809,19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059280" y="184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635280" y="184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orovnávání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-testy jsou určeny pouze pro porovnávání dvojice průměr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mnoha výzkumných plánech je však více skupin než dvě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apř. v příkladu s testováním účinnosti nového léku může být kromě skupin s testovaným lékem a placebem ještě skupina se starým léke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rozptylu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4. krok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– výpočet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stupňů volnos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 SST: dft = n-1 (n je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celkový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počet osob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dft = 33-1 = 32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 SSB: dfb = k-1 (k je počet skupi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dfb = 3-1 = 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 SSW: dfw = n-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dfw = 33-3 = 3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rozptylu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66640" y="1752480"/>
          <a:ext cx="8001000" cy="3967200"/>
        </p:xfrm>
        <a:graphic>
          <a:graphicData uri="http://schemas.openxmlformats.org/drawingml/2006/table">
            <a:tbl>
              <a:tblPr/>
              <a:tblGrid>
                <a:gridCol w="1600200"/>
                <a:gridCol w="1973520"/>
                <a:gridCol w="1226880"/>
                <a:gridCol w="1600200"/>
                <a:gridCol w="1600200"/>
              </a:tblGrid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twee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2,98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6,49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,1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thi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9,19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,97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42,18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rozptyl mezi skupina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rozptyl uvnitř skup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 flipH="1" flipV="1">
            <a:off x="6659640" y="2997000"/>
            <a:ext cx="1008000" cy="1726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6227640" y="4076280"/>
            <a:ext cx="144720" cy="1297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rozptylu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F = rozptyl mezi / rozptyl uvnitř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F = MSB / MS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F = 166,493 / 26,97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F = 6,1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F vypadá větší než 1, ale jak je pravděpodobné, že by tento výsledek byl náhodný? tj., je F statisticky významné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rozptylu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F (2, 30) = 6,1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8785440" cy="67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260960" y="324648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33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8496360" cy="68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rozptylu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F (2, 30) =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6,1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ritická hodnota F pro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5%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hladinu významnost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cs-CZ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F = 3,3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ritická hodnota F pro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1%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hladinu významnos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F = 5,3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F (2, 30) =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6,17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   p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&lt; 0.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rozd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íl mezi průměry </a:t>
            </a:r>
            <a:br>
              <a:rPr sz="3000"/>
            </a:b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je statisticky významný </a:t>
            </a:r>
            <a:br>
              <a:rPr sz="3000"/>
            </a:b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a 1% hladině významno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ýstup v SPS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8748720" cy="30178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4652640"/>
            <a:ext cx="80010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rozptyl mezi skupinami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rozptyl uvnitř skup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hladina významnos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635280" y="3573000"/>
            <a:ext cx="1513080" cy="11509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4932360" y="4005000"/>
            <a:ext cx="647640" cy="115236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443640" y="3645000"/>
            <a:ext cx="1728720" cy="1944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nohonásobná porovnává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ůkaznost F nám řekne,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zd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existují průkazné rozdíly mezi průmě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l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ozvíme se tak,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ezi kterým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skupinami je průkazný rozdíl (která skupina se liší od které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 třeba provést tzv.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nohonásobná porovnán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multiple comparisons nebo post-hoc comparison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nohonásobná porovnává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195640" y="1773360"/>
          <a:ext cx="5419440" cy="425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95640" y="1773360"/>
                    <a:ext cx="541944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orovnávání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díly mezi více skupinami by sice bylo možné otestovat po dvojicích pomocí t-testu, ale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avděpodobnosti v tabulce t-rozdělení jsou spočítány za předpokladu, že je prováděno pouze jediné srovná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čím více testů, tím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vyšší pravděpodobnost chyby I. druhu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(např. pro 3 srovnání je 5% alfa ve skutečnosti 10%, pro 10 srovnání 30% atd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nohonásobná porovnává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de vpodstatě o upravené t-testy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upravené vzhledem k počtu porovnává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existuje více různých typů mnohonásobných porovnávání, např. Fisherův LSD test, Bonferroniho test, Tukeyho test, Scheffeho test atd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nohonásobná porovnává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yto testy jsou si hodně podobné vzorcem pro jejich výpočet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liší se však ve způsobu, jak se u nich stanovuje hladina významnosti (Fisherův LSD test je liberálnější, zatímco ostatní uvedené přísnější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nohonásobná porovnává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bychom tyto testy spočítali u předchozího příkladu, zjistili bychom, že průkazný rozdíl je mezi skupinou osob, které byly v místnosti sami, a skupinou se 4 dalšími lidm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nohonásobná porovnává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1916280"/>
            <a:ext cx="954072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pakovaná měř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nalýza rozptylu může být aplikována také na data z opakovaných měře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dobně jako t-test pro závislé výběry; analýza rozptylu se použije v případě, máme-li více než dvě měře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př. v příkladu u t-testu – změna hmotnosti u dívek s PPP po terapii – hmotnost by mohla být měřena i několikrát v průběhu terapi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pakovaná měř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cedura se nazývá Analýza rozptylu pro opakovaná měření (Repeated measure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logika výpočtu je obdobná jako u analýzy rozptylu pro nezávislá da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iální 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faktor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 v analýze rozptylu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nezávislá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proměnn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prvním příkladu (bystander effect) byl pouze jeden faktor (počet osob); podobně u opakovaných měření (terapie – před a po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iální 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áme-li faktorů (nezávislých proměnných) více, použijeme faktoriální ANOV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ůže jít o porovnání nezávislých výběrů, o opakovaná měření nebo obojí najednou (tzv. mixed design –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se smíšenými efekty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iální 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: neuropsycholog zkoumá oblasti mozku odpovídající za tvorbu a porozumění řeč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yšetří speciálním testem 24 náhodně vybraných pacientů s poškozenou levou hemisférou mozku – polovina z nich jsou muži a polovina ženy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romě mezipohlavních rozdílů ho zajímá rovněž, zda bude rozdíl mezi praváky a leváky (těch je rovněž 12 a 12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iální 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ento design se zapisuje 2x2 ANOV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2 kategorie pohlaví (muži x žen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2 kategorie laterality (leváci x praváci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to je vhodnější místo mnoha t-testů použít jinou statistickou techniku – analýzu rozptyl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a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lysis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f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v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iance –ANOV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možňuje otestovat rozdíly mezi průměry více skupin najedno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566640" y="304920"/>
          <a:ext cx="8008920" cy="6335640"/>
        </p:xfrm>
        <a:graphic>
          <a:graphicData uri="http://schemas.openxmlformats.org/drawingml/2006/table">
            <a:tbl>
              <a:tblPr/>
              <a:tblGrid>
                <a:gridCol w="2670120"/>
                <a:gridCol w="2668680"/>
                <a:gridCol w="26701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vác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vác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ž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f18e"/>
                    </a:solidFill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f18e"/>
                    </a:solidFill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f18e"/>
                    </a:solidFill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f18e"/>
                    </a:solidFill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f18e"/>
                    </a:solidFill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f18e"/>
                    </a:solidFill>
                  </a:tcPr>
                </a:tc>
              </a:tr>
              <a:tr h="48996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žen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8930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395280" y="189000"/>
          <a:ext cx="8497800" cy="655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89000"/>
                    <a:ext cx="849780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iální 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faktoriální analýza rozptylu testuj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hlavní efek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interak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iální 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hlavní efek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main effect) – vliv jedné nezávislé proměnné zprůměrovaný pro všechny úrovně ostatních nezávislých proměnný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 faktoriální ANOVy jsou testovány hlavní efekty pro všechny fakto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příkladu testujeme hlavní efekt pro pohlaví a lateralit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8964720" cy="60483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50920" y="3213000"/>
            <a:ext cx="1873080" cy="432000"/>
          </a:xfrm>
          <a:prstGeom prst="ellipse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7740720" y="3213000"/>
            <a:ext cx="1008000" cy="432000"/>
          </a:xfrm>
          <a:prstGeom prst="ellipse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iální 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ůkazný (na hladině 1%) hlavní efekt pro faktor pohlaví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ženy mají celkově vyšší skóry než muži (16,2 a 11,0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8964720" cy="60483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50920" y="3645000"/>
            <a:ext cx="1873080" cy="431640"/>
          </a:xfrm>
          <a:prstGeom prst="ellipse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7596360" y="3645000"/>
            <a:ext cx="1296720" cy="431640"/>
          </a:xfrm>
          <a:prstGeom prst="ellipse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iální 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ůkazný (na hladině 1%) hlavní efekt pro faktor lateralit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leváci mají celkově vyšší skóry než praváci (15,3 a 11,9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iální 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interakce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e projeví v případě, kdy vliv jedné nezávislé proměnné není stejný na všech úrovních druhé nezávislé proměnn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příkladu – je vliv laterality stejný u mužů a že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kud ano, není zde interak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kud ne, je zde interak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Logika analýzy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nalýza rozptylu nevyužívá pro testování rozdílu mezi průměry samotné průměry, al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rozptyly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čítají se dva odhady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rozptyl uvnitř skupin (within-groups nebo within-subjects varianc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rozptyl mezi skupinami (between-groups nebo between-subjects varianc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395280" y="189000"/>
          <a:ext cx="8497800" cy="655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89000"/>
                    <a:ext cx="849780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8964720" cy="60483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50920" y="3933720"/>
            <a:ext cx="2233440" cy="576360"/>
          </a:xfrm>
          <a:prstGeom prst="ellipse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7596360" y="4005360"/>
            <a:ext cx="1223640" cy="431640"/>
          </a:xfrm>
          <a:prstGeom prst="ellipse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iální 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nterakce mezi pohlavím a lateralitou je průkazná (na 5% hladině významnosti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 žen nehraje lateralita pro výkon v testu roli – levačky a pravačky se neliší, zatímco u mužů leváci a praváci an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iální 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bez interakce – pouze hlavní efek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539640" y="2637000"/>
            <a:ext cx="8209080" cy="28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iální 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interak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539640" y="2637000"/>
            <a:ext cx="8209080" cy="28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Verdana"/>
              </a:rPr>
              <a:t>Opakovaná měření s další nezávislou proměnnou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faktoriální design je možno uplatnit i u analýzy opakovaných měře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nterakce zde znamená, že jsou různě velké rozdíly mezi měřeními u jednotlivých kategorií nezávislé proměnn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Verdana"/>
              </a:rPr>
              <a:t>Opakovaná měření s další nezávislou proměnnou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psychiatr testující léčbu anorexie by mohl soubor rozdělit na dívky podstupující terapii dobrovolně a nedobrovolně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interakce by mohla vypadat třeba tak, že u motivovaných dívek by došlo k nárůstu hmotnosti, zatímco u nedobrovolných pacientek ke stagnac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Verdana"/>
              </a:rPr>
              <a:t>Opakovaná měření s další nezávislou proměnnou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2124000" y="1989000"/>
            <a:ext cx="463860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kovarian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romě kategoriálních faktorů je možno do analýzy zařadit také spojitou nezávislou proměnnou – tzv.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kovariá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ak jde o analýzu kovariance (ANCOV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kovarian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šéf firmy obdrží stížnost od zaměstnankyň, že ženy mají nižší platy než muž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dle porovnání průměrů to tak vypadá, ale co kdybychom do analýzy zařadili jako další faktor (kovariát) délku prax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Logika analýzy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rozptyl uvnitř skupi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je ukazatel celkové variability uvnitř skupin – tj. jak se od sebe vzájemně liší osoby v rámci jednotlivých skupi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rozptyl mezi skupinam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je měřítkem variability mezi skupinami – tj. jak se od sebe liší skupiny oso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ícenásobná 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398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e všech předchozích příkladech jsme měli pouz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jednu závislo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proměnno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 však možno testovat také vliv jednoho či více faktorů na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ěkolik závislých proměnných najedno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ato analýza se označuje jako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MANOV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multivariate analysis of variance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ícenásobná 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: reklamní psycholog chce porovnat účinnost dvou typů TV reklam (emocionální x informativní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chá respondenty hodnotit na 7-ti stupňové škále 3 aspekty účinnosti reklamy: zda je reklama zaujala, zda se jim líbí a jestli by uvažovali o koupi inzerovaného výrobk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yto 3 závislé proměnné pak porovná pro typ reklamy jako fak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Kontrolní otázk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aké typy rozptylu jsou v analýze rozptylu porovnávány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 čemu v analýze rozptylu slouží mnohonásobná porovnávání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uveďte příklady výzkumných plánů, při kterých by bylo možno použít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faktoriální analýzu rozptylu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analýzu opakovaných měření s kovariáte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vícerozměrnou analýzu rozptylu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Logika analýzy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měr těchto dvou rozptylů je statistika F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rozptyl mezi skupinami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F = rozptyl uvnitř skupi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Logika analýzy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nejsou mezi skupinami rozdíly, pak by měl být rozptyl mezi skupinami a uvnitř skupin velmi podobný (teoreticky shodný - F=1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jsou mezi skupinami rozdíly, pak budou tyto rozdíly (between)větší než vzájemné rozdíly mezi osobami uvnitř skupin (within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Logika analýzy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-li F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1, pak kromě F musíme ještě spočítat pravděpodobnost, že bychom takto vysoké získali náhodou (tj. statistickou významnost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tabulk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F rozdělení je vždy pro konkrétní hodnotu alfa; má v řádcích počet stupňů volnosti pro rozptyl uvnitř skupin a ve sloupcích pro rozptyl mezi skupinam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</cp:lastModifiedBy>
  <dcterms:modified xsi:type="dcterms:W3CDTF">2004-04-27T06:00:13Z</dcterms:modified>
  <cp:revision>374</cp:revision>
  <dc:subject/>
  <dc:title>adrenalin expri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