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705-806F-41B4-AA57-5AE28DA4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236-AF1A-4E6C-9DF4-B8E7E2AA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252-53C5-4CD6-BB6D-661358B5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C35-8635-4136-A384-BD0B4D5D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F8AD-2FB2-4C6C-9E4D-98D0B2A9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807E-54A8-4782-8035-9B3669A2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8BF9-2A84-4809-800D-0E04BD63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0601-1972-4B9F-A943-B3857561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EDDA-7215-4938-B9C6-90BAFE44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9EC0-0114-445E-B466-5358EF92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6D45-B344-48BD-A8BC-964D3337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B42-9A0E-448C-94B0-D6B67B45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5FB2-0FFF-4C66-A200-4CACD69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4103-2C42-4F8B-9331-74BD2B9F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12DE-50B0-4AFE-AC58-5DBA1B4D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784F-3C4A-4B8C-80D3-2949382D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AC33-6A31-4253-8E3F-4C03C73C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146-79A2-482A-8BFD-AF7B0B0B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92C-6896-47F7-AB30-FD1AE550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D8D-8140-48AE-83F5-37FCA297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6A3-314F-4242-87B5-DA031272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1FB-17B1-4DB1-911C-B3E861CA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AB0-8ED6-4314-B026-23BCD563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546-8948-4AD3-B915-874F691E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EA80-B5EC-4A44-973E-5B8902533D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5855-D393-4ABD-ADF7-F448E9C319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Induktivní statistika - 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2116080"/>
            <a:ext cx="55450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aším úkolem je vytáhnout 1 žet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3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aším úkolem je vytáhnout 1 žet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3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 (3) = f/N = 16/40 =0,4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2/5 či 4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vyšším než 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vyšším než 2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X &gt; 2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05 + 0,25 + 0,40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70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33134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5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X &lt; 5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10 + 0,20 + 0,40 + 0,25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95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672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y induktivní statistiky vycházejí z  teorie pravděpodob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že nastane určitý výsledek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definujem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ako podíl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čet pokusů, kdy nastal jev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A) =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elkový počet jev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01336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4 a vyšším než 1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aká je pravděpodobnost, že vytáhnete žeton s číslem nižším než 4 a vyšším než 1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4 &gt; X &gt; 1) =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0,20 + 0,40 =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0,60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745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odpovídá hustotě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oblasti pod křivkou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daný interv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í najít a popsat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zici každé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v rámci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 také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rovnávání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cházejících z měřen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a rozdílných stupnic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rubé skóry jsou převedeny na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andardizovanou stupni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jednotkou je směrodatná odchyl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skóry ze dvou testů – biologie a psychologi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udent získal 26 bodů z biologie a 620 z psychologie. Ve kterém předmětu byl lep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28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mé porovnání není snadné – skóry z obou testů mají rozdílné průměry i směrodatn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skór =odchylka skóru od průměru vzhledem k velikosti směrodatné odchyl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odch. od průměru/směr. odc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 - 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 z biologie: (26-18)/6 = 1,3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ór psychologie: (620-500)/100=1,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biologii byl student lepší – 1,33 směrodatné odchylky nad průměr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-skór přesně udává pozici každé hodnoty vzhledem k ostatním hodnotá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ménko (+ nebo -) ukazuje, zda je hodnota nad nebo pod průměrem rozděle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odnota z-skóru upřesňuje, kolik směrodatných odchylek byla hodnota od průměru vzdále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si z balíčku 52 karet vytáhneme určitou kartu (např. pikovou dámu)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měr rozdělení z-skórů je vždy 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měrodatná odchylka j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5003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ro výpočet z-skóru hodnoty 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 popu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z = (X – μ) /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 vzork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z = (X - m) / 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obně můžeme i z-skór převést na hrubý skór, známe-li průměr a směrodatnou odchyl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stupnice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sobu se z=-3 (3 směrodatné odchylky pod průměrem) bude IQ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Z-skó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u stupnice IQ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osobu se z=-3 (3 směrodatné odchylky pod průměrem) bude IQ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Z .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-3 . 15 + 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 5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z-skó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 z-skórů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tejný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jako tvar původního rozdělení hrubých skó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je 0, směrodatná odchylka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ansformace změní jen označení hodnot na ose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rmální rozdělení j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unimodáln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zvonovitého tva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značuje se i jak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Gaussova křivk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72000" y="2852640"/>
                <a:ext cx="42451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042920" y="2432160"/>
            <a:ext cx="640872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34.13% skórů spadá mezi průměr a 1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3.59% hodnot spadá mezi 1. a 2.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.28% hodnot spadá mezi 2. a 3. směr. odchyl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248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abulka normálního rozdělení (z rozděle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ý nástroj, obvykle jako apendix v učebnicích statistiky (spolu s dalšími tabulkam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možňuje zjistit hustotu oblasti pod křivkou (tj. pravděpodobnost) pro jednotlivé z-skó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si z balíčku 52 karet vytáhneme určitou kartu (např. pikovou dámu) 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piková dáma) = f/N = 1/52 = 0,019= 1,9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932360" y="2436840"/>
            <a:ext cx="4032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 při zjišťování pravděpodobnosti z tabulk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črtnout si normální rozdělení, s hodnotou průměru a směr. odch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akreslit hledanou hodnotu (v přibližné vzdálenosti od průměru), vystínovat hledanou obl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vést hodnotu X na z-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jít v tabulce pravděpodobno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00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15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 (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100,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15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(130 – 100)/15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92360" y="2565360"/>
            <a:ext cx="4569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130 nebo vyš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0228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2,3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85 nebo niž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-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51280" y="2263680"/>
            <a:ext cx="44974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při hodu kostkou padne trojka nebo šestka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náhodně vybraná osoba z populace bude mít IQ 85 nebo nižší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= -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1587  tj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5,9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tup při zjišťování z-skóru z tabulk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črtnout si normální rozděle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stínovat oblast odpovídající zadané pravděpodob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tabulce vyhledat příslušný z-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počítat z něj hrubý skó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u minimální hodnotu IQ musí člověk mít, aby patřil mezi 5% osob s nejvyššími hodnotami IQ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= 0.05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348000" y="1994040"/>
            <a:ext cx="48243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u minimální hodnotu IQ musí člověk mít, aby patřil mezi 5% osob s nejvyššími hodnotami IQ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tabulky: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 = 1.6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 = (1.65).(15) + 100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124.7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tabulky normálního rozdělení je možno nalézt také hodnotu percen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olik procent osob má nižší hodnoty IQ než člověk s IQ 130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37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66640" y="1752480"/>
          <a:ext cx="3924360" cy="439416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á stra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4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 = 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45370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při hodu kostkou padne trojka nebo šestka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 (3 n. 6) = f/N = 2/6 = 0,333= 33,3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Normální rozdělení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lik procent osob má nižší hodnoty IQ než člověk s IQ 130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 tabulky: pro z =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 = 0.977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97.72%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osob má nižší skó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ílem induktivní statistiky je odhadnou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arametry populac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harakteristik vzork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ýběrového soubor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odhadem průměru populace bude průměr vzor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had je vždy zatížen určitou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ýběrovou chyb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ádejme, že z jedné populace vybereme 3 různé vzor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ou se nejspíš navzájem lišit ve tvaru rozdělení hodnot, průměru i variabilit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se rozhodneme, který z nich zvolit pro odhad průměru populace 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923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bychom spočítali průměry ze všech možných výběrů o určité velikosti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budou tvořit tzv.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dělení výběrových průměrů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sampling distribution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populace hodnot 2, 4, 6, 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pokládejme, že průměr neznáme a pokoušíme se ho odhadnout ze vzorku n=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jsou uvedeny všechny možné výběrové soubor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9640" y="1628640"/>
          <a:ext cx="8001000" cy="4772160"/>
        </p:xfrm>
        <a:graphic>
          <a:graphicData uri="http://schemas.openxmlformats.org/drawingml/2006/table">
            <a:tbl>
              <a:tblPr/>
              <a:tblGrid>
                <a:gridCol w="1052640"/>
                <a:gridCol w="1152360"/>
                <a:gridCol w="1295640"/>
                <a:gridCol w="450036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ýbě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vní sk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uhý skó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vzor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87280" y="2073240"/>
            <a:ext cx="669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z této populace vybereme vzorek s průměrem vyšším než 7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187280" y="2073240"/>
            <a:ext cx="6697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bývá uváděna nejčastěji jak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odíl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,33),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zlome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1/3) nebo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ocent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33,3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děpodobnost určitého jevu nebo třídy jevů můžeme odhadnout z rozdělení hodnot (četnost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á je pravděpodobnost, že z této populace vybereme vzorek s průměrem vyšším než 7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rozdělení výběrových průměrů je takový vzorek jen 1 ze 16 – tj. pravděpodobnost takového průměru vzorku je 1/16 = 0.062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a populací i vzorků je mnohem větš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le existují určité základní vlastnosti rozdělení výběrových průměrů (RV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v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VP se při dostatečně velkém vzorku (30 a více) blíží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ormálnímu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ůměr průměrů všech teoretických výběrů je roven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značuje se také jako očekávaná hodnota průměru vzork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měrodatná odchylka RVP se označuje jako výběrová chyba (standard error)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směrodatnou odchylku výběrových průměrů od průmě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azuje, jak spolehlivý je odhad populačního průměru z průměru vzorku – tj. jak velkou chybou je odhad zatíž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ové chyby je dána dvěma charakteristikami: variabilitou v populaci a velikostí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bilita znaku v populac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čím je vyšší, tím je vyšší i variabilita výběrových průměrů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3887640" cy="2160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5700600" y="2276640"/>
            <a:ext cx="19321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elikost výběru – čím větší výběr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tím lépe jeho průměr reprezentuje průměr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zorec pro výpočet výběrové chyby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cs-CZ" sz="5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5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5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5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centrální limitní věta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pro každou populaci o průměru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směrodatné odchylce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 bude rozdělení výběrových průměrů výběrů (pro rozsah výběru jdoucí do nekonečna) blížit normálnímu rozdělení s průměrem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a směrodatnou odchylkou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 - příkla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stavme si, že máme krabici se 40 očíslovanými žetony s čísly 1 –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tabulce jsou uvedeny absolutní i relativní četnosti jednotlivých čísel žeton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počet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výběrové chyb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5689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12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12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výběrových průmě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když vybereme z populace náhodně vzorek 9 osob, jaká je pravděpodobnost, že jejich průměrné IQ bude větší nebo rovno 112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= 100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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√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15/3 =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(112-100)/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= 12/5 =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 tabulk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(Z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2.4) =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0.0082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ravděpodobno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66640" y="1752480"/>
          <a:ext cx="8001000" cy="408960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4-13T01:40:28Z</dcterms:modified>
  <cp:revision>351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