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990-4434-48A2-BEAB-9569C16A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38C-D1C4-4DD4-8B0D-83AC0E2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837-5734-4C62-9EF7-7FDBA9CE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556-BCC0-453B-B7BB-C99D2623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5E8-1C8F-42E2-8093-8A8CE1AB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E96-7F8E-4FD4-AB76-B8FD5BA8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96E-B9ED-49BE-97B9-67F7F995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4CC4-C100-448C-9E67-54D104B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029A-9C12-42D4-9E55-7AF1918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7FA-6FBE-4994-9BE4-DC91007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9725-ADB1-4193-98CA-97508682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1C3-2D01-4C3F-B79B-CEC84F7D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9412-21A3-48B8-8E1D-4E95445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4798-E240-4D0A-9DD4-412CF7DD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321A-C8D7-4FEF-B3FF-101FF264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2776-325C-4CAF-BDF0-3EA1B2AE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8096-493B-4AB1-B1E3-DD4BD9E5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992-5ECD-49FF-9E7E-E178E657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6F2-FAB3-46FF-BAEB-319A93C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218-4B26-4CC5-9C20-C37318AE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A4E-8E69-48ED-A11E-BE8483D9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896-9D94-4F32-8C88-6F5DB70D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317-A6C3-4A2E-B332-3C2A379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EF2-9277-40D0-B4DC-095B022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064A-A20D-4B8C-9483-C26BA01D8B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855E-9734-4487-8518-BA8A0E73F5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é a intervalov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trukce intervalu spolehlivosti pr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y podílů (kategoriální proměn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10 = 1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1.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100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3.3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3.33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0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že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výbě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bude mezi hodnotam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5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(94-100) / 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-6/3 = -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= (106-100) /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6/3 =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deme v tabulce normovaného normálního rozdělení hodnotu pravděpodobnosti pro z=2 a z=-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odnota je 0,02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hromady 0,04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dečteme od 1,0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sledek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92436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á je pravděpodobnost, že průměr výběru o velikosti n=25 bude mezi hodnotami 94 a 106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avděpodobnost takového průměru je 95,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třebujeme zjistit hodnotu z, která odděluje pravděpodobnost 10% na obou stranách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4760" y="2378160"/>
            <a:ext cx="60451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sahu hodno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bude pravděpodobně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ředních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průměrů výběr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 = 1,28 a -1,28 převedeme na hodnoty IQ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pro 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2452680"/>
            <a:ext cx="6048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+ z*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1,28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+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103,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  = 100 + (-1,28)*(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25) = 100-1,28(3) =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96,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Q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00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1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jakém rozsahu hodnot bude pravděpodobně středních 80% všech průměrů výběrů o velikosti n=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80% všech výběrových průměrů bude v rozsahu hodnot 96,16 - 103,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znali hodnoty průměru a rozptyl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e tomu ale bývá přesně naopak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y (statistiky) výběru a neznáme hodnoty (parametry)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 chceme z výběr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: bodové a intervalov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bodový odh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užijeme průměr vzorku a odhadneme, že se rovná průměru popul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čím větší výběr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je problematický v tom, že dva různé výběry nám mohou dát dva různé odha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dový odha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obsahuj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žádn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form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 jeh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č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přesnost odhad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Bod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snost odhadu závisí na dvou charakteristiká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elikost výběr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ětší n, tím menší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ariabilita hodnot v populac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čím vyšší, tím vyšší i výběrová chyb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rozsah (interval) hodnot, který s určitou pravděpodobností obsahuje hledanou hodnotu paramet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založen n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ém odh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elikosti výb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ariabilitě znaku v populaci (známé nebo rovněž odhadované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táme se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hodnota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ový průměr určité hodnoty může pocházet z populací o různých průměr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můžeme jednoznačně určit hodnotu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744560"/>
            <a:ext cx="6048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ý odh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kže se místo toho snažíme určit, jaký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žný rozsah hodnot </a:t>
            </a:r>
            <a:r>
              <a:rPr b="1" lang="cs-CZ" sz="35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aké populace (tj. s jakou hodnotou průměru) by mohly být pravděpodobným zdrojem našeho vzork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e které populace nejpravděpodobněji pochází výběr, jehož průměr je v následujícím grafu naznačen svislou čarou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VP pro populace I-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2084400"/>
            <a:ext cx="69850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ýběr pocház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jpravděpodobněji z populace II nebo II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éně pravděpodobně z populace 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velmi málo pravděpodobně z populace I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ové odh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valový odhad spočívá v konstrukci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u spolehlivosti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confidence interval) – rozsahu hodnot, ve kterém s určitou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prve je třeba si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ovit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úroveň přesnosti(spolehlivosti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vyklá je např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snažíme se najít interval hodnot, ve kterém s 95% pravděpodobností lež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ak jde o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5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t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 pro tuto 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tj. rozsah, ve kterém bude ležet středních 95% hodnot (výběrových průměrů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,5% na každé straně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mu odpovídají hodnoty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-1,96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6913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 - výpoč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835280" y="2349360"/>
            <a:ext cx="57308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692360" y="1701720"/>
            <a:ext cx="5975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nterpretace intervalu spolehlivosti: máme 95% pravděpodobnost, že se v tomto intervalu nachází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z populace vybrali 100 náhodných výběrů o velikosti n a pro každý z nich sestrojili tento interval, 95 intervalů by obsahovalo průměr populace a 5 nikoliv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líbený omy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95% intervalu spolehlivosti leží 95% hodnot populace (NEPLATÍ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omě 95% intervalu spolehlivosti se používá také např. 99% a 90% 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36 dětí, průměrné IQ vzorku = 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ákladě tohoto zjištění odhadněte průměrné IQ populace, ze které děti pocházejí (sestavte 95% interval spolehlivost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odový odhad: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=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počet výběrové chyby (směrodatné odchylky RVP):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= 15/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√36 = 15/6 = 2,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anovení úrovně spolehlivosti: 9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hodnotu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ro 95%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258920" y="1744560"/>
            <a:ext cx="6337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normálního rozdělení najdeme 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95% : 1,96 a -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 výběrovému průměru přičteme (pro horní hranici intervalu) a odečteme (pro spodní hranici) výběrovou chybu, vynásobenou hodnotou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5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1,96*2,5 = 100,9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1,96*2,5 = 91,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5% interval spolehlivosti je 91,1 – 100,9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interval spolehliv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,5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99% 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+ 2,57*2,5 = 102,4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96 -  2,57*2,5 = 89,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9% interval spolehlivosti je 89,6 – 102,4 bodů IQ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odnoty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nejčastěji užívané pravděpodobnost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0% (zbývá 5% + 5%)       z= +/- 1,6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5% (zbývá 2,5% + 2,5%)  z= +/- 1,9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99% (zbývá 0,5% + 0,5%)  z= +/- 2,57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, n=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předchozích příkladech jsme předpokládali, ž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náme hodnotu variability znaku v popul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 skutečnosti je tomu tak však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říd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proto nutn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dhadnou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ároveň s průměrem i hodnotu směrodatné odchylk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známé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5730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a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hradíme </a:t>
            </a:r>
            <a:r>
              <a:rPr b="1" i="1" lang="cs-CZ" sz="3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směr. odchylku výběrového průměru), pak musíme při konstrukci intervalu spolehlivosti míst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použí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udentovo t rozděl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terval spolehlivos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neznám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hodnoty směrodatné odchylky v populac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24000" y="2924280"/>
            <a:ext cx="410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á také zvonovitý tvar, ale je více ploché než 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symetrické kolem průměru (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velikost výběru (počet stupňů volnosti, df) existuje odlišné t rozdělení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f = n-1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84963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rovnání s normálním rozdělení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rozdělení má vyšší variabili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ce plochy na okrajích, méně ve stř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hledem k vyšší variabilitě budou intervaly spolehlivosti širší než u normálního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sou uváděny df obvykle jen do 100, protože pro n=100 se t rozdělení blíž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t-rozdělení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aždý řádek udává hodnoty t pro celé rozdělení pro daný počet stupňů volnosti (tj. n-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loupce pro nejdůležitější percenti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tudentovo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108000" y="1752480"/>
            <a:ext cx="10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41672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kategoriálních proměnných nemůžeme počítat průmě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ujeme prot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ých kategorií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24040" y="1866960"/>
            <a:ext cx="568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podíl kuřáků v populaci českých adolesc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pacientů s rakovinou plic, kteří přežijí 5 let od diagnóz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íl chlapců mezi dětmi s poruchou pozor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zkoumáme místo celé populace pouze výběr z ní, nezajímá nás tolik, jaký je podíl kategorií proměnné ve výběru (četnos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spíše jaký je skutečný podíl v populaci – četnost </a:t>
            </a:r>
            <a:r>
              <a:rPr b="1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i dostatečně velkém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platí i pro rozdělení podílů centrální limitní vě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dělení výběrových podílů je normální rozdělení, s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průměrnou četností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 směrodatnou odchylkou (výběrovou chybou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24764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 zjistit, jaká je podpora odsunu hlavního nádraží v Brn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hodný výběr z populace brněnských občanů starších 18 let n=1000 oso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85 osob se vyjádřilo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něte s 95% spolehlivostí podporu odsunu nádraž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terval spolehlivosti pro podíly se spočítá podobně jako pro průměr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165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můžeme však spočítat výběrovou chybu, protože neznáme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omto případě je však možné dosadit místo toho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přitom použít normální rozdělení (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0, pak dosadíme místo </a:t>
            </a:r>
            <a:r>
              <a:rPr b="0" lang="cs-CZ" sz="40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u 0,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=0,5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=1,9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(p)=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,585(1-0,585)/1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0,15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interval spolehlivosti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1.96(0.015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.585 ± 0,03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--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esnost odhadu je ± 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2781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56000" y="2637000"/>
            <a:ext cx="14436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708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říklad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95% pravděpodobností je podíl osob souhlasících se odsunem nádraží 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 55.4% a 61.6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j. máme 95% pravděpodobnost, že kdyby se v době průzkumu hlasovalo, bude většina p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tah mezi velikostí vzorku a přesností odhad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7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10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24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2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=960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± 1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Odhady podíl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žadovaná velikost vzorku roste mnohem rychleji než spolehlivost odhadu (pro zdojnásobení spolehlivosti je nutné asi čtyřnásobně zvětšit vzore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při plánování výzkumu – jakou přesnost potřebujeme? jaké budou náklad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ý vztah platí pro odhad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0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05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5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typy odhad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čem závisí šířka intervalu spolehlivosti?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ení nutno znát zpaměti vzorce, ale je třeba chápat princip výpočt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ztah velikosti výběru a spolehlivosti odh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1.0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1587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57:07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