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245-0A18-4FFF-9DE2-35FE0C63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303-5FD1-43E7-9745-5FED8CF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FF3-DDE1-433F-BA45-BD1A87C8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712-D1BD-4C7D-A0BF-9DE0BE39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0E39-DEBB-47DE-BC42-13F4F2F5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4279-7750-4490-B0EF-737DAD7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A86C-5F97-483C-945C-B22AEA9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DBDF-2CF7-4A2E-8D30-6B85053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00E0-97AE-4043-8A6D-C125FC9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6A4C-72C4-4A7B-A603-57B98D1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DDA-26D2-419E-A4CC-2B2BF2D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A6E-A5C3-4594-9B7C-1173D998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5976-B573-4B3E-856A-963ED4E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9488-22B7-4CA1-BAB0-79FB2F6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7EDF-4D85-4232-AE02-1F5F3C7C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D15D-0C4D-4429-824A-BFB04DDF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3A19-BD0F-44C6-B382-2F19A404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C68-B5B6-442A-8D11-9CA9E4F3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10B-5DF7-4B88-8D22-DC504FDD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DF6-9271-489F-BD12-218A1F64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109-34AD-4949-8FA1-7DB2C214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012-BA05-46B8-B3D2-8DC2E36B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3E3-31E3-4FA4-B096-24FBD95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2F9-57D1-4FAB-A144-B7C7414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94E3-435F-4B76-B6E7-4399EC1984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B3A0-729F-4A70-8FFB-321D0947D4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relační a regresní analýz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earsonův korelační koeficien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polu souvisí pocit štěstí a míra extraver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0 osob, 2 proměnné – skór z dotazníku štěstí a skór ze škály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35280" y="1752480"/>
          <a:ext cx="4824360" cy="448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1752480"/>
                    <a:ext cx="482436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205000"/>
          <a:ext cx="7920000" cy="2160360"/>
        </p:xfrm>
        <a:graphic>
          <a:graphicData uri="http://schemas.openxmlformats.org/drawingml/2006/table">
            <a:tbl>
              <a:tblPr/>
              <a:tblGrid>
                <a:gridCol w="2087640"/>
                <a:gridCol w="647640"/>
                <a:gridCol w="431640"/>
                <a:gridCol w="432000"/>
                <a:gridCol w="649080"/>
                <a:gridCol w="360360"/>
                <a:gridCol w="647640"/>
                <a:gridCol w="648000"/>
                <a:gridCol w="720720"/>
                <a:gridCol w="574560"/>
                <a:gridCol w="720720"/>
              </a:tblGrid>
              <a:tr h="103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štěst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raverz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počet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8880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26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716720" cy="507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268360" y="3068640"/>
            <a:ext cx="4104000" cy="588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268360" y="4365720"/>
            <a:ext cx="3959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P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91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158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S</a:t>
            </a:r>
            <a:r>
              <a:rPr b="1" lang="cs-CZ" sz="3400" spc="-1" strike="noStrike" baseline="-25000">
                <a:solidFill>
                  <a:srgbClr val="000000"/>
                </a:solidFill>
                <a:latin typeface="Verdana"/>
              </a:rPr>
              <a:t>Y</a:t>
            </a: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 144,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r = 91,9/( 158,9*144,9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c0000"/>
                </a:solidFill>
                <a:latin typeface="Verdana"/>
              </a:rPr>
              <a:t>r = 0,606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76640"/>
            <a:ext cx="7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16360" y="400536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4005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136000" cy="299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5364000" y="4220640"/>
            <a:ext cx="576360" cy="28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jaká hodnota r je považována za těsný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interpretace navržená Guilforde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nedbatel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20-0.4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příliš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40-0.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řed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70-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mi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.9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extrémně těsný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lepší interpretaci je vhodné převést koeficient korelace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determinace (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kolik rozptylu v jedné proměnné může být vysvětleno rozptylem ve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našem příkl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 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0,36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6,7% rozdílů v míře štěstí můžeme vysvětlit rozdíly v míře extraver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intervalových a poměrových dat můžeme jako míru asociace – vztahu mezi proměnnými použí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 = s, spolu, vzájem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lace = vzta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relace = vzájemný vztah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pretace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relace neznamená příčinný vztah mezi proměnnými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n můžeme ověřovat pouze experimentem, kdy jsou všechny ostatní proměnné udržovány konstatní, proměnná X předchází Y v čase at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y ovlivňující 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homogenní soub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(outlie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iabilita použitých nástroj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ý rozsah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mezený rozsah hodnot jedné nebo obou proměnných snižuje hodnotu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ejně tak nízká variabilita (extrémní případ:pokud by všechny hodnoty 1 proměnné byly stejné, zákonitě r=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užití extrémních skup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605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extrémních skupin (např. jen osob s vysokým IQ) vede k vyššímu 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806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homogenní soub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zkreslit r jak směrem nahoru, tak do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941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229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1809720" y="4788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050920" y="508464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043000" y="43243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333520" y="468468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414972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508120" y="4376880"/>
            <a:ext cx="7632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682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407664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391320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3716280"/>
            <a:ext cx="75960" cy="66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3381480" y="355284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5300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24280"/>
            <a:ext cx="7632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084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2916360" y="472428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501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4508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4797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43700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5445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4869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22100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414972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5300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716360" y="3141720"/>
            <a:ext cx="256068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29264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72436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651640" y="3860640"/>
            <a:ext cx="75960" cy="66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414972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3789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364500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429264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3789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3573360"/>
            <a:ext cx="7596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4005360"/>
            <a:ext cx="76320" cy="66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86900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4581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4221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479736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00536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4437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429264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465300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50864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012000" y="422100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4365720"/>
            <a:ext cx="7632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724280"/>
            <a:ext cx="7596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4149720"/>
            <a:ext cx="76320" cy="684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4365720"/>
            <a:ext cx="75960" cy="68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trémní hodnoty v jedné nebo obou proměnných mohou r výrazně zkreslit (nejen hodnotu, ale i směr), zvláště když je počet osob v souboru níz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Extrémní hodno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6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= 0,76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9640" y="2492280"/>
          <a:ext cx="3319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492280"/>
                    <a:ext cx="3319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88000" y="2492280"/>
          <a:ext cx="324792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92280"/>
                    <a:ext cx="3247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ý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rdinální data je možno spočít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earmanův koeficient pořadov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á se tak, ž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y obou proměnných se seřadí od nejnižší po nejvyšší a přidělí se jim pořad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pořadí se pak počítá Pearsonův koeficient kore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ciální korel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ciální korelace je taková korelace mezi dvěma proměnnými, kdy kontrolujeme vliv třetí proměnné na obě z ni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chceme zjistit, jaký je vztah mezi prospěchem na SŠ a prospěchem na VŠ; obě proměnné jsou nejspíš ovlivněny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sledkem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atematický model vztahu mez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ěma nebo víc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z jedné proměnné nebo lineární kombinace více proměnných predikovat hodnoty dalš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bsolutní hodnota koeficientu vyjadř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ílu (těsnost)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sah -1 až +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a typy proměnných: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ova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závislá)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á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ediktor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nezávisle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ovaná proměnná se označu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prediktory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, 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…X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ze 1 prediktor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oduch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prediktorů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á regre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analýza umožň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rozumět vztahům mezi proměnnými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dikovat hodnoty proměnné Y z hodnot proměnné X (s určitou přesností) – např. z hodnot známek na střední škole nebo z počtu bodů u přijímacího testu předpovědět úspěšnost na V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 souvisí vzdělání respondenta se vzděláním otc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jak dobře můžeme předpovědět počet let formálního vzdělání respondenta z údaje o počtu let vzdělání jeho otc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763640" y="1700280"/>
          <a:ext cx="5688000" cy="48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700280"/>
                    <a:ext cx="5688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nažíme se najít rovnici tzv.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egresní přím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taková přímka, od které je vzdálenost bodů (představujících naměřená data) co nejmén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ová přímka, která nejlépe vystihuje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8000" y="1844640"/>
          <a:ext cx="4978440" cy="42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1844640"/>
                    <a:ext cx="497844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 flipV="1">
            <a:off x="3059280" y="2923920"/>
            <a:ext cx="3097080" cy="10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etod, jak regresní přímku nalézt,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toda nejmenších čtverc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volena taková přímka, kdy platí, že součet čtverců vzdáleností jednotlivých bodů od přímky je minim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stan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edikovaná hodnota Y, když hodnota X je 0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směrni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gresní přímky (úhel přímky vzhledem k ose; kolikrát se Y zvětší s každou jednotkou X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Jednoduch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říkladu vychází rovnice regresní přímky 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2600" spc="-1" strike="noStrike">
                <a:solidFill>
                  <a:srgbClr val="000000"/>
                </a:solidFill>
                <a:latin typeface="Verdana"/>
              </a:rPr>
              <a:t> = 9,93 + 0,32*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ěti otců s 0 lety vzdělání předpovídáme necelých 10 let vzděl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 každým dalším rokem otcova vzdělání předpovídáme o 0,32 roku vzdělání respondenta více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př. pro děti otců s 12 lety vzdělání je predikovaná hodnota jejich vlastního vzdělání 13,8 l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577440" cy="273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 flipV="1">
            <a:off x="3132000" y="386028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132000" y="4149360"/>
            <a:ext cx="432000" cy="73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2781360"/>
            <a:ext cx="1800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ám o sobě je deskriptivní statistikou, ale podobně jako u ostatních měr asociace je možno spočí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í na velikosti výběru – čím vyšší, tím nižší koeficient vychází průkaz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edikujeme závislou proměnnou z více predik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každého z prediktorů na závislou proměnnou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ntrolov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liv všech ostatních prediktorů (jde tedy o  vliv „očištěný od vlivů ostatních proměnných a tudíž počítáme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arciál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koeficien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romě vzdělání otce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mít na dosažené vzdělání vliv také počet dětí v rodině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vnice regresní přímky 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a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= 10,68 + 0,30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 – 0,13*X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vzdělání otce (b=0,30) je o něco menší než u jednoduché regresní analýzy (b=0,32) – je kontrolován pro počet dětí v rodině, který je zřejmě ovlivněn také vzděláním ot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liv počtu dětí v rodině je záporný – tj. čím více dětí, tím nižší vzděl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násobná regresní analýza nám umožní srovnat vliv všech prediktorů na závislou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dojít k závěru, že větší vliv na vzdělání respondenta má vzdělání otce než počet dětí v rodině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chceme srovnávat vliv prediktorů měřených v různých jednotkách, je nutné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é regresní koeficien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í, kolikrát vzroste hodnota závislé proměnné, pokud se změní hodnota prediktoru o 1 směrodatnou odchylku a hodnoty ostatních prediktorů přitom zůstanou konstat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V="1">
            <a:off x="5219640" y="4292640"/>
            <a:ext cx="432000" cy="288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364000" y="472392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2924280"/>
            <a:ext cx="180036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eta pro vzdělání otce je 0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očet dětí v rodině -0,1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í vliv má tedy vzdělání otce než počet dětí v rodi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regresních koeficientů je počítán také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korelace všech prediktorů se závislou proměnnou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lastně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relaci mez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zor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mi závislé proměnné a hodnotam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edikovan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na základě regresního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ícenásobné determina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tzv. % vysvětleného rozptylu (závislé proměnné) lineární kombinací prediktorů; ozn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416720" cy="3198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20509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419640" y="357300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earsonův korelační koefici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mír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uze pro lineární vzta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 výpočtem je vhodné zobrazit vztah mezi proměnnými také graficky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catte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dvourozměrný tečkový diagr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regresní analý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jednoduché regresní analýzy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eficient vícenásobné kore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ven korelaci mezi oběma proměn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Testování hypotéz v regresní analýz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sou testovány 2 typy hypoté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) zda se R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analýzou rozptylu (porovnává rozptyl vysvětlený regresním modelem a reziduální rozpty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) zda se regresní koeficienty průkazně liší od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uje se t-teste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13600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>
            <a:off x="7308720" y="3573000"/>
            <a:ext cx="43200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7848360" cy="2951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 flipV="1">
            <a:off x="7093080" y="414936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020000" y="4723920"/>
            <a:ext cx="43164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y v proměnných jsou nezávislé (nejde např. o opakovaná měř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á variabilita všech proměnný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proměnných je norm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malých výběrů zkontrolovat extrémní hodnot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y mezi Y a každou X jsou lineár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kontrolovat scatter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ájemné korelace mezi prediktory nejsou příliš vysoké (tzv. problém mulikolinearit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je vhodné buď některou z nich vyřadit, nebo z nich vytvořit např. faktorovou analýzou jeden skó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tatečně velký počet osob ve výběru vzhledem k počtu prediktorů v mode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vyjadřuje absolutní hodnota Pearsonova koeficientu korelace? a co jeho znaménko (+ nebo -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determin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může být zkreslen korelační koefici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účel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becná rovnice regresní přímk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 se interpretují regresní koeficien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 je to koeficient vícenásobné korela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y regresní analýz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římá úměra) – čím vyšší hodnoty proměnné X, tím vyš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g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59280" y="2060640"/>
            <a:ext cx="3352680" cy="3733560"/>
            <a:chOff x="4859280" y="2060640"/>
            <a:chExt cx="3352680" cy="3733560"/>
          </a:xfrm>
        </p:grpSpPr>
        <p:sp>
          <p:nvSpPr>
            <p:cNvPr id="97" name=""/>
            <p:cNvSpPr/>
            <p:nvPr/>
          </p:nvSpPr>
          <p:spPr>
            <a:xfrm>
              <a:off x="4859280" y="206064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987800" y="2670120"/>
              <a:ext cx="2842200" cy="2386080"/>
              <a:chOff x="4987800" y="2670120"/>
              <a:chExt cx="2842200" cy="23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4987800" y="487980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44640" y="4956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3240" y="44989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292000" y="44989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54120" y="42703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7800" y="381312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59040" y="43466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11320" y="35082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7640" y="38894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16240" y="3660840"/>
                <a:ext cx="9936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120800" y="3736800"/>
                <a:ext cx="9972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8922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78000" y="3203640"/>
                <a:ext cx="99720" cy="99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730640" y="2670120"/>
                <a:ext cx="99360" cy="100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epřímá úměra) – čím vyšší hodnoty proměnné X, tím nižší hodnoty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&lt;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932360" y="1989000"/>
            <a:ext cx="3352680" cy="3733560"/>
            <a:chOff x="4932360" y="1989000"/>
            <a:chExt cx="3352680" cy="3733560"/>
          </a:xfrm>
        </p:grpSpPr>
        <p:sp>
          <p:nvSpPr>
            <p:cNvPr id="116" name=""/>
            <p:cNvSpPr/>
            <p:nvPr/>
          </p:nvSpPr>
          <p:spPr>
            <a:xfrm>
              <a:off x="4932360" y="1989000"/>
              <a:ext cx="3352680" cy="37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051240" y="3741480"/>
              <a:ext cx="99720" cy="100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060880" y="2598480"/>
              <a:ext cx="2842200" cy="2386080"/>
              <a:chOff x="5060880" y="2598480"/>
              <a:chExt cx="2842200" cy="238608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5060880" y="2674080"/>
                <a:ext cx="9936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17720" y="2598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746320" y="30556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365080" y="30556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127200" y="3284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432120" y="32079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584400" y="40456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660720" y="36651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889320" y="389376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193880" y="3817080"/>
                <a:ext cx="99720" cy="99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9652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70200" y="442728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651080" y="4350960"/>
                <a:ext cx="9972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803720" y="4884480"/>
                <a:ext cx="99360" cy="100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žádný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hodnoty proměnné X nesouvisí s hodnotami proměnné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892760" y="20368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9600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08720" y="2492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32720" y="3213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877080" y="2636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14836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2000" y="3645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580000" y="3141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77080" y="4653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812000" y="357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407664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596360" y="2996640"/>
            <a:ext cx="9972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12000" y="4941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451640" y="5013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736040" y="428472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888320" y="48175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cat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lineární vzta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916280"/>
            <a:ext cx="33526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0360" y="4005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35640" y="486828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4365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24360" y="458136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508720" y="5157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5636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659640" y="364500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12000" y="422100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27640" y="3933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44364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3500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93080" y="3789360"/>
            <a:ext cx="9972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524720" y="371628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524720" y="414972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85080" y="4292640"/>
            <a:ext cx="1000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101080" y="4507920"/>
            <a:ext cx="100080" cy="99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85080" y="4724280"/>
            <a:ext cx="7164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101080" y="494028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6720" y="515772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236000" y="3645000"/>
            <a:ext cx="71280" cy="100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 Klimusová</cp:lastModifiedBy>
  <dcterms:modified xsi:type="dcterms:W3CDTF">2003-05-12T00:25:57Z</dcterms:modified>
  <cp:revision>297</cp:revision>
  <dc:subject/>
  <dc:title>statistik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