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F708-0D44-48FA-93E3-FD919685B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8239-125D-4C02-B512-10E71815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A382-A9FE-4EEF-B08F-6B116698A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24FF-B0A3-40CD-97BD-AEDD66578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2B12-7905-48FB-AB84-E251E926C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994D-3798-4B0B-B986-7B6DC528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9861-381B-4D9B-A72A-459C551E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5966-A5A2-42A8-8A12-D31FCE5C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DD84B-D340-4B1A-AB68-B00B61F8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1E80-6CA5-41B1-BD61-1B965E13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A8D9-6FC5-4824-B4FE-7EB7AD86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2BCE-583E-4586-A75E-F33DA9FB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0418-97FB-4139-85EB-D1B9EDBB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53CE4-20AA-443C-80E9-AE0A7384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99A7-41F6-45A0-B104-41153FBC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77D6-786F-4A9C-9FA2-9C2BFDCF0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630A-BE9D-4548-A9B8-F451B3EFB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5685-1F35-4620-91B6-6AB7DCFB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3717-06E8-4EB1-B69D-A157FD6C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AEB2-FD89-4D2A-B33E-3BBCF8D1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B11E-8745-481F-A83F-F5199AC5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E282-2DB2-4F27-AA64-96EF7A99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9DFB-EEC9-4586-B565-4CD0CD71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C84D-CDDD-48A3-BD60-9F59163A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F054-7B2A-4088-91D3-A8054F14564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AF07-1C70-4833-8F4F-B923947D6E0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eparametrické tes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arametrické a neparametrické tes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řadové neparametrické tes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est Chí-kvadrá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est nezávislosti proměnný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est dobré shod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est Chí-kvadrá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hí-kvadrát může být použit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 testování rozdělení jedné proměnné (test dobré shod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estování nezávislosti dvou proměnný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est Chí-kvadrát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hí-kvadrát pro testování nezávislosti proměnných se používá pro nominální nebo ordinální proměnné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ta jsou uspořádána do tzv. kontingenční tabulky (viz příklad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ajímá nás, jak souvisí model manželství s jeho vydařenost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model manželství má kategorie: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ominance žena, dominance muž, koopera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ydařenost má 3 kategorie – vydařené, průměrné, nevydařen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ozn.: jde o manželství rodičů respondentů, tak jak je posuzují oni (zdroj dat – výzkum doc. Plaňavy)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tázka zní: liší se podíl vydařených, průměrných a nevydařených manželství u rodin, kde dominovala matka, rodin, kde dominoval otec a u rodin, kde nedominoval ani jeden z nich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Kontingenční tabulka (SPSS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9280" y="2205000"/>
            <a:ext cx="8425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395280" y="620640"/>
          <a:ext cx="8497800" cy="561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620640"/>
                    <a:ext cx="849780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est Chí-kvadrá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hí-kvadrát porovnává očekávané a pozorované četno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čekávané jsou četnosti za předpokladu, že proměnné jsou nezávisl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9145800" cy="4751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flipV="1">
            <a:off x="4932360" y="5300280"/>
            <a:ext cx="287280" cy="576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 našem příkladu bylo 42,2% vydařených manželstv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kud by proměnné (model a vydařenost manželství) byly vzájemně nezávislé, poměr vydařených manželství v jednotlivých modelech manželství by měl být přibližně stejný (a odrážet celkový podíl) – 42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dobně ostatní kategorie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est Chí-kvadrá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čekávané četnosti – výpočet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cs-CZ" sz="4800" spc="-1" strike="noStrike" baseline="-25000">
                <a:solidFill>
                  <a:srgbClr val="000000"/>
                </a:solidFill>
                <a:latin typeface="Verdana"/>
              </a:rPr>
              <a:t>ij</a:t>
            </a:r>
            <a:r>
              <a:rPr b="0" lang="cs-CZ" sz="4800" spc="-1" strike="noStrike">
                <a:solidFill>
                  <a:srgbClr val="000000"/>
                </a:solidFill>
                <a:latin typeface="Verdana"/>
              </a:rPr>
              <a:t> = (ř</a:t>
            </a:r>
            <a:r>
              <a:rPr b="0" lang="cs-CZ" sz="4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cs-CZ" sz="4800" spc="-1" strike="noStrike">
                <a:solidFill>
                  <a:srgbClr val="000000"/>
                </a:solidFill>
                <a:latin typeface="Verdana"/>
              </a:rPr>
              <a:t> s</a:t>
            </a:r>
            <a:r>
              <a:rPr b="0" lang="cs-CZ" sz="48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cs-CZ" sz="4800" spc="-1" strike="noStrike">
                <a:solidFill>
                  <a:srgbClr val="000000"/>
                </a:solidFill>
                <a:latin typeface="Verdana"/>
              </a:rPr>
              <a:t> )/ N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pro každé políčko tabulky se vynásobí celkové četnosti z příslušného řádku se sloupcovými četnostmi a vydělí celkovým počtem osob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arametrické tes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-testy a analýza rozptylu jsou tzv. parametrické tes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arametr = charakteristika populace (průměr, rozptyl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arametrické testy používají při výpočtech charakteristiky populace (parametry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84360" y="2133720"/>
            <a:ext cx="824364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první políčko tabulky (vydařená manželství s dominantní matkou) je očekávaná četno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ij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(ř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s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j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)/ 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11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(ř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s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)/ 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11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(69*65 )/ 15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O</a:t>
            </a:r>
            <a:r>
              <a:rPr b="0" lang="cs-CZ" sz="2800" spc="-1" strike="noStrike" u="sng" baseline="-25000">
                <a:solidFill>
                  <a:srgbClr val="000000"/>
                </a:solidFill>
                <a:uFillTx/>
                <a:latin typeface="Verdana"/>
              </a:rPr>
              <a:t>11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Verdana"/>
              </a:rPr>
              <a:t> = 29,1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čekávané četnos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540720" cy="3743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 flipV="1">
            <a:off x="4788000" y="3716280"/>
            <a:ext cx="431640" cy="217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est Chí-kvadrá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hí-kvadrát porovná očekávané četnosti s pozorovaným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(pozor. četnosti – oček.)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/oček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(pozor. četnosti – oček.)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/oček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7,1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cs-CZ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/29,1 +3,9</a:t>
            </a:r>
            <a:r>
              <a:rPr b="0" lang="cs-CZ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5,1 + 3,2</a:t>
            </a:r>
            <a:r>
              <a:rPr b="0" lang="cs-CZ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4,8 +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4.6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cs-CZ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8,6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+ 3</a:t>
            </a:r>
            <a:r>
              <a:rPr b="0" lang="cs-CZ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/16 + 1,6</a:t>
            </a:r>
            <a:r>
              <a:rPr b="0" lang="cs-CZ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/9,4 + 11,7</a:t>
            </a:r>
            <a:r>
              <a:rPr b="0" lang="cs-CZ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/17,3 + (-6,9)</a:t>
            </a:r>
            <a:r>
              <a:rPr b="0" lang="cs-CZ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/14,9 + (-4,8)</a:t>
            </a:r>
            <a:r>
              <a:rPr b="0" lang="cs-CZ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/8,8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cs-CZ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 = 18, 7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est Chí-kvadrá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vyhledání kritické hodnoty </a:t>
            </a:r>
            <a:r>
              <a:rPr b="0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v tabulce musíme vypočítat ještě počet stupňů volnosti (df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df = (ř-1) (s-1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j. počet řádků -1 krát počet sloupců -1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f = (ř-1) (s-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f = (3-1) * (3-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df = 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 tabulkách vyhledáme kritickou hodnotu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 df = 4 a 5% hladinu významnos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cs-CZ" sz="30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1" lang="cs-CZ" sz="3000" spc="-1" strike="noStrike" baseline="-25000">
                <a:solidFill>
                  <a:srgbClr val="000000"/>
                </a:solidFill>
                <a:latin typeface="Verdana"/>
              </a:rPr>
              <a:t>krit</a:t>
            </a:r>
            <a:r>
              <a:rPr b="1" lang="cs-CZ" sz="30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= 9,49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4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cs-CZ" sz="3400" spc="-1" strike="noStrike" baseline="-25000">
                <a:solidFill>
                  <a:srgbClr val="000000"/>
                </a:solidFill>
                <a:latin typeface="Verdana"/>
              </a:rPr>
              <a:t>krit</a:t>
            </a:r>
            <a:r>
              <a:rPr b="0" lang="cs-CZ" sz="34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9,49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4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18,7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závěr: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vypočítaná hodnota je větší než kritická hodnota  -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očekávané a pozorované četnosti se liší na 5% hladině významnost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tj. je malá pravděpodobnost, že proměnné jsou nezávislé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est Chí-kvadrát v SPS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826920" y="2060640"/>
            <a:ext cx="7272360" cy="33796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 flipH="1">
            <a:off x="7524720" y="2924280"/>
            <a:ext cx="432000" cy="36036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571640" y="2852640"/>
            <a:ext cx="431640" cy="2890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5796000" y="2781360"/>
            <a:ext cx="0" cy="2872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Chí-kvadrát pro 1 proměnno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zv. test dobré shody (goodness-of-fit test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pět porovnává očekávané a pozorované četno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edpokladem očekávaných četností není tentokrát nezávislost proměnných (máme jen 1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arametrické tes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arametrické testy pracují s předpoklady o charakteristikách popul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př. u t-testu předpokládáme, že směrodatné odchylky výběrů mohou posloužit jako odhad pro směrodatnou odchylku popul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dobně počítají s normálním rozdělením měřeného znak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Test dobré sho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 určíme očekávané četnosti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2 způsoby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ředpoklad vyplývá z teorie (např. u genetických dat – poměr osob s projevem dominantní a recesivní alel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bo můžeme předpokládat náhodné rozdělení do kategori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 počet sebevražd stejný každý den v týdnu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jistíme data pro rok 2000 (Č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195640" y="1844640"/>
          <a:ext cx="4581360" cy="4246560"/>
        </p:xfrm>
        <a:graphic>
          <a:graphicData uri="http://schemas.openxmlformats.org/drawingml/2006/table">
            <a:tbl>
              <a:tblPr/>
              <a:tblGrid>
                <a:gridCol w="1917360"/>
                <a:gridCol w="26640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ndělí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úter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řed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čtvrtek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átek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bot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děl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očekávané četnost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tejný počet sebevražd pro každý den v týdn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celkem 1602 sebevraž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očekávaná četnost pro každý den je 228,9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84247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zorec pro výpočet je stejn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4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13,4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f = k -1 (počet kategorií -1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f = 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df =6 a 5% hladinu významnosti je </a:t>
            </a:r>
            <a:r>
              <a:rPr b="0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4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cs-CZ" sz="3400" spc="-1" strike="noStrike" baseline="-25000">
                <a:solidFill>
                  <a:srgbClr val="000000"/>
                </a:solidFill>
                <a:latin typeface="Verdana"/>
              </a:rPr>
              <a:t>krit</a:t>
            </a:r>
            <a:r>
              <a:rPr b="0" lang="cs-CZ" sz="34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12,59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rozdíl je statisticky významn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ýstup v SPS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50920" y="1916280"/>
            <a:ext cx="8281800" cy="43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mezení Chí-kvadrát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2 potenciální problémy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malý počet osob – pokud má velké % políček tabulky očekávanou četnost menší než 5 (v ideálním případě by všechna měla mít oček. četnost nejméně 5 osob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říliš velký počet osob – čím vyšší N, tím vyšší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(vyjdou významné i malé rozdíl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asocia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becná definice – síla a směr vztah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íry asociace pro nominální da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aložené na chí-kvadrát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E mí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íry asociace pro ordinální da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asocia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íry asociace vyjadřují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těsnost vztahu proměnných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a případně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mě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vztahu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chí-kvadrát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se dozvíme pouze,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zda nějaký vztah mezi proměnnými existuj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tj. zda se liší četnosti pozorované a četnosti očekávané za předpokladu, že proměnné jsou nezávislé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arametrické tes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nejsou tyto předpoklady splněny, můžeme dojít k nepřesným výsledků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asocia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těsnost (síla) vztah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vyjádřena absolutní hodnotou koeficient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ní shoda v tom, od jaké hodnoty je vztah považován za těsný (někdy uváděno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&gt;0.70, jindy &gt;0.30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, středně těsný či slabý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asocia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měr vztah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pouze u ordinálních a kardinálních proměnný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ozitivní vztah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čím vyšší hodnoty jedné proměnné, tím vyšší hodnoty druhé proměnn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egativní vztah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- čím vyšší hodnoty jedné proměnné, tím nižší hodnoty druhé proměnn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Verdana"/>
              </a:rPr>
              <a:t>Míry asociace pro nominální dat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íry asociace pro nominální data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ukazují pouze sílu vztahu dvou proměnných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nikoli směr či jiné informace o povaze vztah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lišujeme míry založené na chí-kvadrátu a míry PR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založené na chí-kvadrát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elikost hodnoty chí-kvadrát je ovlivněna velikostí výběru a počtem kategorií tabulk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účelem koeficientů založených na chí-kvadrátu je eliminovat tyto vliv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založené na chí-kvadrát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sah koeficientů je obvykle mezi 0 a 1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čím vyšší hodnota, tím těsnější vztah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0 – žádný vztah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1 – absolutní vztah (z hodnot jedné proměnné můžeme předpovědět hodnoty druhé proměnné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koeficienty je možno spočítat statistickou významno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založené na chí-kvadrát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ezi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nejčastěji užívané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míry asociace založené na chí-kvadrátu patří koeficienty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Fí (Phi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Cramerovo V (Cram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’s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V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oeficient kontingence (Contingency Coefficient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založené na chí-kvadrát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Fí koeficien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- užívá se pro tabulky 2x2 (tj. pro dichotomické proměnné, např. pohlaví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ypočte se tak, že se hodnota chí-kvadrátu vydělí počtem osob a výsledek se odmoc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založené na chí-kvadrát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oeficient kontingence – užívá se někdy místo Fí pro tabulky větší než 2x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bohužel jeho max. hodnota je nižší než 1 (závisí na počtu políček tabulky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užívá se proto příliš často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založené na chí-kvadrát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ramerovo V – podobný výpočet jako Fí; počet osob se navíc násobí počtem řádků - 1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(pokud je počet řádků menší než počet sloupců, jinak počtem sloupců – 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užívá se pro tabulky větší než 2x2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íklad z minulé přednášky - jak souvisí model manželství s jeho vydařenost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hí-kvadrát = 18.7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čet osob N = 15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 = počet řádků - 1 = 3 – 1 = 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eparametrické tes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parametrické testy nezávisí na charakteristikách populace ani o nich nečiní žádné závě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ní vyžadováno normální rozdělení znak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to jsou tyto testy označovány také jako „distribution-free“ tes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Kontingenční tabulka (SPSS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79280" y="2205000"/>
            <a:ext cx="8425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abulka 3x3 – použijeme Cramerovo V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=   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/(N*m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=    18.71/(154*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V = 0,24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1908000" y="2781360"/>
            <a:ext cx="1429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050920" y="2708280"/>
            <a:ext cx="144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2195640" y="270828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1908000" y="3860640"/>
            <a:ext cx="14292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050920" y="3789000"/>
            <a:ext cx="730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2124000" y="378936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interpretace: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hodnota 0,246 je poměrně nízká – vztah mezi modelem manželství a jeho vydařeností není příliš těsný (i když statisticky významný – viz výstup v SPS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SPSS jsou uvedeny oba koeficienty (Fí i V), je třeba zvolit ten správný pro každou tabulk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ýstup v SPS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39640" y="1989000"/>
            <a:ext cx="7417080" cy="33465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 flipV="1">
            <a:off x="4859280" y="3645000"/>
            <a:ext cx="50328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372360" y="3645000"/>
            <a:ext cx="50328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R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je zkratka pro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roportional Reduction in Error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poměrná redukce chyby odhadu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incip PRE: porovnání odhadu hodnot závislé proměnné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bez znalosti hodnot nezávislé proměnné a s její znalost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o kolik se sníží chyba odhadu?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jaký je vztah mezi pohlavím a užíváním rtěnky?*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ypočítáme koeficient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lambd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bychom měli odhadnout, zda náhodně vybraný respondent používá rtěnku: jaká je pravděpodobnost chybného odhadu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*převzat z Disman: Jak se vyrábí sociologická znal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ůžeme očekávat, že více lidí rtěnku nepoužívá než používá (naprostá většina mužů + některé ženy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akže bude výhodnější odhadnout, že náhodně vybraný respondent rtěnku nepoužív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avděpodobnost chyby závisí na podílu lidí užívajících rtěnk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611280" y="2133720"/>
            <a:ext cx="80643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i tomto podílu osob je pravděpobnost chyby asi 40% (když budeme odhadovat, že nádodný respondent rtěnku neužívá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e 160 případů bychom se zmýlili 63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o kolik by se chyba zmenšila, kdybychom znali pohlaví respondenta?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muže bychom odhadovali, že rtěnku nepoužívá, pro ženu naopak -  že ji použív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eparametrické tes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č potom vůbec používat parametrické testy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mnoho parametrických testů je poměrně „odolných“ (tzv. robustních) vůči narušení předpokladů testu (např. menší odchylky od normálního rozdělení výsledky nezkreslí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parametrické testy mají větší statistickou sílu než neparametrické (větší pravděpodobnost zjištění rozdílu, pokud skutečně existuje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pro některé typy analýz neparametrické metody nejsou (např. neexistuje obecně přijímaná neparametrická faktoriální ANOVA)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95280" y="2133720"/>
            <a:ext cx="84978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bychom znali pohlaví respondenta, zmýlili bychom se ve svém odhadu 21x (2 x u muže a 19x u ženy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o kolik by se náš odhad zlepšil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hyby předtím – chyby teď 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63-21 = 4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měrná redukce chyby (tj. vzhledem k předchozím chybám) =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lambd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42/63 =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0,66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chyba v odhadu užívání rtěnky se sníží asi o 67%, pokud známe pohlaví responden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82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sah koeficientu lambda je od 0 do 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znamená, že znalost hodnoty nezávislé proměnné vůbec nesníží chybu v odhadu hodnot závislé proměnné;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roměnné jsou vzájemně nezávisl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čím blíž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tím lépe můžeme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z hodnot nezávislé proměnné předpovědět hodnoty závislé proměnn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SPSS jsou počítány 3 varianty koeficientu lambda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ymetrická – není určeno, co je závislá a co nezávislá proměnná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2 asymetrické – pro proměnnou 1 jako závislou a pro proměnnou 2 jako závislo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ýstup v SPS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0" y="304020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92240" y="2708280"/>
            <a:ext cx="8951760" cy="25923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flipV="1">
            <a:off x="4572000" y="4941720"/>
            <a:ext cx="360360" cy="50328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RE pro nominální dat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romě koeficientu lambda se užívají také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Goodmanovo a Kruskalovo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tau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(nevyužívá při predikci nejčastější kategorii závislé proměnné jako lambda, ale rozdělení ve všech kategoriích závisle proměnné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Cohenova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Kappa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– pro měření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shody dvou posuzovatelů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asociace pro ordinální dat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u ordinálních dat je výpočet založen na poměru souhlasných a nesouhlasných párů případů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souhlasný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pár případů – hodnota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obou proměnných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je vyšší (nebo nižší) u jednoho člena pár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nesouhlasný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pár případů – hodnota jedné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proměnné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je u jednoho člena páru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vyšší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a hodnota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druhé proměnné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je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nižš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asociace pro ordinální dat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je většina párů souhlasných, je hodnota gamma kladná – tj.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ozitivní vztah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až +1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je většina párů nesouhlasných, je hodnota gamma záporná – tj.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egativní vztah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až -1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je počet souhlasných a nesouhlasných párů vyrovnán – gamma kolem 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asociace pro ordinální dat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gamma je symetrická míra – nedělá rozdíly mezi závislou a nezávislou proměnno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asymetrická varianta koeficientu gamma –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Somersovo 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Kendallovo tau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– bere v úvahu i nerozhodné páry (tzv. ties); ale hodnoty v rozsahu -1 až +1 mohou být získány pouze pro čtvercové tabulky (tj. stejný počet kategorií obou proměnných)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eparametrické tes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hlavní </a:t>
            </a:r>
            <a:r>
              <a:rPr b="1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výhody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 neparametrických test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jsou omezeny předpokladem normálního rozděle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sou často založeny na pořadí, dají se použít i pro ordinální data (kde můžeme spočítat pouze průměr, nikoli medián) i pro nominální (test Chí-kvadrát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jsou citlivé na extrémní hodnoty (jsou většinou založeny na mediánu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hrnut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 nominálních dat hodnota míry asociace proměnných indikuje sílu vztahu – rozsah od 0 do 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južívanější Fí nebo Cramerovo V; když víme, která proměnná nezávislá - lamb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 ordinálních dat míry asociace indikují jak sílu vztahu (abs. hodnota koeficientu), tak směr vztah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Kontrolní otázk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hlavní rozdíl mezi parametrickými a neparametrickými tes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ýhody a nevýhody neparametrických test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dy je možno využít chí–kvadrát jako test nezávislosti proměnných? (pro jaké typy proměnných?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dy se chí–kvadrát využívá jako test dobré shody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Kontrolní otázk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 čemu slouží míry asociace proměnných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díl mezi mírami založenými na chí-kvadrátu a mírami P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južívanější míry pro nominální da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južívanější míry pro ordinální da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eparametrické tes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hlavní </a:t>
            </a:r>
            <a:r>
              <a:rPr b="1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nevýhody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 neparametrických test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menší statistická síl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 složitější analýzy často není neparametrická varianta metody k dispozici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eparametrické tes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přehled neparametrických ekvivalentů parametrických test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-test pro nezávislé výběry – 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Mann-Whitney U te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-test pro závislé výběry – Wilcoxon te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analýza rozptylu – Kruskall-Wallis te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opakovaná měření (ANOVA) – Friedman Rank Te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</cp:lastModifiedBy>
  <dcterms:modified xsi:type="dcterms:W3CDTF">2004-05-03T18:46:12Z</dcterms:modified>
  <cp:revision>283</cp:revision>
  <dc:subject/>
  <dc:title>adrenalin expri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