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DEC39-1667-4C71-8803-204977E15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B8F2E-BABA-43BA-B30D-9C58A1894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59E5B-32DF-4452-8F76-4FCC2C990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F3938-8356-4BF8-9190-2EFDCD6B4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917C9-A920-4EC3-BF60-B4603EC40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D7E2D-E1AE-488A-859D-F65A66885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6F126-A763-4AA1-AA38-D325164F2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9563F-7C52-492A-8603-6A01CD17E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AAFCB-6D77-4E43-86CC-A5B124177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BF491-940E-4C0B-AA4F-E59E34071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B2F28-535A-4126-A49A-DCAC53E01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B6275-DB5B-4C37-9E84-3ADB48613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F222E-EC07-437E-9DB0-D0D041D54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D540D-710A-4196-8DCD-FD855E432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C1A71-4D03-46ED-A8DC-16D89EA32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D2471-4A6C-43DD-95CF-E6B7B96F7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764CD-67A6-4081-92D6-220FA16DF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4FDDC-9ED9-46C3-A4FE-6495EF93C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B7F3C-7C42-4C06-B41D-FB03849A5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B5904-7592-415B-8217-586BFEFD2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E8FAE-C34E-43C3-BEDC-A267D79B2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80100-082F-4FEB-9E96-B044AB538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E3FC7-2C5A-421B-8861-7E34BFF8A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27E17-B809-4794-84EA-9C50D74CD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99F81-0783-4F64-AD08-B07C1F60DDC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4ED30-FEFE-48AF-9099-B5F572BF41B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Vybrané multivariační technik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faktorová analýz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shluková analýz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Faktorová analýza - příkl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typologie na základě 18 proměnných by byla příliš složitá – je třeba tento počet snížit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autoři spočítali faktorovou analýzu a extrahovali 3 faktory (vysvětlovaly celkem 48% společného rozptylu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Faktorová analýza - příkl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566640" y="1484280"/>
          <a:ext cx="8253360" cy="5075280"/>
        </p:xfrm>
        <a:graphic>
          <a:graphicData uri="http://schemas.openxmlformats.org/drawingml/2006/table">
            <a:tbl>
              <a:tblPr/>
              <a:tblGrid>
                <a:gridCol w="5157720"/>
                <a:gridCol w="1008360"/>
                <a:gridCol w="1152360"/>
                <a:gridCol w="934920"/>
              </a:tblGrid>
              <a:tr h="514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97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nevolnost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7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nechutenství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6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4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závratě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6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15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žaludeční potíž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6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1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800080"/>
                          </a:solidFill>
                          <a:latin typeface="Tahoma"/>
                          <a:ea typeface="Tahoma"/>
                        </a:rPr>
                        <a:t>5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bolesti hlav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5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1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nervozita, nekli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5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ff"/>
                          </a:solidFill>
                          <a:latin typeface="Tahoma"/>
                          <a:ea typeface="Tahoma"/>
                        </a:rPr>
                        <a:t>4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ff"/>
                          </a:solidFill>
                          <a:latin typeface="Tahoma"/>
                          <a:ea typeface="Tahoma"/>
                        </a:rPr>
                        <a:t>třesení rukou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ff"/>
                          </a:solidFill>
                          <a:latin typeface="Tahoma"/>
                          <a:ea typeface="Tahoma"/>
                        </a:rPr>
                        <a:t>6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ff"/>
                          </a:solidFill>
                          <a:latin typeface="Tahoma"/>
                          <a:ea typeface="Tahoma"/>
                        </a:rPr>
                        <a:t>nespavos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ff"/>
                          </a:solidFill>
                          <a:latin typeface="Tahoma"/>
                          <a:ea typeface="Tahoma"/>
                        </a:rPr>
                        <a:t>6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4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ff"/>
                          </a:solidFill>
                          <a:latin typeface="Tahoma"/>
                          <a:ea typeface="Tahoma"/>
                        </a:rPr>
                        <a:t>náhlé zpocení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ff"/>
                          </a:solidFill>
                          <a:latin typeface="Tahoma"/>
                          <a:ea typeface="Tahoma"/>
                        </a:rPr>
                        <a:t>6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15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ff"/>
                          </a:solidFill>
                          <a:latin typeface="Tahoma"/>
                          <a:ea typeface="Tahoma"/>
                        </a:rPr>
                        <a:t>silný tlukot srdc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ff"/>
                          </a:solidFill>
                          <a:latin typeface="Tahoma"/>
                          <a:ea typeface="Tahoma"/>
                        </a:rPr>
                        <a:t>6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1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ff"/>
                          </a:solidFill>
                          <a:latin typeface="Tahoma"/>
                          <a:ea typeface="Tahoma"/>
                        </a:rPr>
                        <a:t>nesoustředěnos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ff"/>
                          </a:solidFill>
                          <a:latin typeface="Tahoma"/>
                          <a:ea typeface="Tahoma"/>
                        </a:rPr>
                        <a:t>5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ff"/>
                          </a:solidFill>
                          <a:latin typeface="Tahoma"/>
                          <a:ea typeface="Tahoma"/>
                        </a:rPr>
                        <a:t>noční můr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ff"/>
                          </a:solidFill>
                          <a:latin typeface="Tahoma"/>
                          <a:ea typeface="Tahoma"/>
                        </a:rPr>
                        <a:t>4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800080"/>
                          </a:solidFill>
                          <a:latin typeface="Tahoma"/>
                          <a:ea typeface="Tahoma"/>
                        </a:rPr>
                        <a:t>bolesti v pánv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800080"/>
                          </a:solidFill>
                          <a:latin typeface="Tahoma"/>
                          <a:ea typeface="Tahoma"/>
                        </a:rPr>
                        <a:t>6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800080"/>
                          </a:solidFill>
                          <a:latin typeface="Tahoma"/>
                          <a:ea typeface="Tahoma"/>
                        </a:rPr>
                        <a:t>průjem, zácp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800080"/>
                          </a:solidFill>
                          <a:latin typeface="Tahoma"/>
                          <a:ea typeface="Tahoma"/>
                        </a:rPr>
                        <a:t>6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800080"/>
                          </a:solidFill>
                          <a:latin typeface="Tahoma"/>
                          <a:ea typeface="Tahoma"/>
                        </a:rPr>
                        <a:t>bolesti na prsou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800080"/>
                          </a:solidFill>
                          <a:latin typeface="Tahoma"/>
                          <a:ea typeface="Tahoma"/>
                        </a:rPr>
                        <a:t>6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4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800080"/>
                          </a:solidFill>
                          <a:latin typeface="Tahoma"/>
                          <a:ea typeface="Tahoma"/>
                        </a:rPr>
                        <a:t>krční bolest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800080"/>
                          </a:solidFill>
                          <a:latin typeface="Tahoma"/>
                          <a:ea typeface="Tahoma"/>
                        </a:rPr>
                        <a:t>5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800080"/>
                          </a:solidFill>
                          <a:latin typeface="Tahoma"/>
                          <a:ea typeface="Tahoma"/>
                        </a:rPr>
                        <a:t>bolesti v zádec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800080"/>
                          </a:solidFill>
                          <a:latin typeface="Tahoma"/>
                          <a:ea typeface="Tahoma"/>
                        </a:rPr>
                        <a:t>4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800080"/>
                          </a:solidFill>
                          <a:latin typeface="Tahoma"/>
                          <a:ea typeface="Tahoma"/>
                        </a:rPr>
                        <a:t>dýchací potíž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3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800080"/>
                          </a:solidFill>
                          <a:latin typeface="Tahoma"/>
                          <a:ea typeface="Tahoma"/>
                        </a:rPr>
                        <a:t>3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9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procento rozptylu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9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9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9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Faktorová analýza - příkl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rvní faktor nazvali </a:t>
            </a:r>
            <a:r>
              <a:rPr b="1" lang="cs-CZ" sz="3000" spc="-1" strike="noStrike">
                <a:solidFill>
                  <a:srgbClr val="cc0000"/>
                </a:solidFill>
                <a:latin typeface="Verdana"/>
              </a:rPr>
              <a:t>nevolnosti</a:t>
            </a:r>
            <a:r>
              <a:rPr b="0" lang="cs-CZ" sz="3000" spc="-1" strike="noStrike">
                <a:solidFill>
                  <a:srgbClr val="cc0000"/>
                </a:solidFill>
                <a:latin typeface="Verdana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– sytily ho především tyto potíže: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nevolnosti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nechutenství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závratě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žaludeční potíž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bolesti hlav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nervozita, nekli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Faktorová analýza - příkl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druhý faktor označili </a:t>
            </a:r>
            <a:r>
              <a:rPr b="1" lang="cs-CZ" sz="3000" spc="-1" strike="noStrike">
                <a:solidFill>
                  <a:srgbClr val="0000ff"/>
                </a:solidFill>
                <a:latin typeface="Verdana"/>
                <a:ea typeface="Tahoma"/>
              </a:rPr>
              <a:t>vegetativní obtíže</a:t>
            </a:r>
            <a:r>
              <a:rPr b="1" lang="cs-CZ" sz="900" spc="-1" strike="noStrike">
                <a:solidFill>
                  <a:srgbClr val="0000ff"/>
                </a:solidFill>
                <a:latin typeface="Tahoma"/>
                <a:ea typeface="Tahoma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– sytily ho především položky: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třesení rukou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nespavos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náhlé zpocení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silný tlukot srd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nesoustředěnos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noční můr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Faktorová analýza - příkl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třetí faktor označili </a:t>
            </a:r>
            <a:r>
              <a:rPr b="1" lang="cs-CZ" sz="3000" spc="-1" strike="noStrike">
                <a:solidFill>
                  <a:srgbClr val="6600cc"/>
                </a:solidFill>
                <a:latin typeface="Verdana"/>
              </a:rPr>
              <a:t>bolesti</a:t>
            </a:r>
            <a:r>
              <a:rPr b="0" lang="cs-CZ" sz="3000" spc="-1" strike="noStrike">
                <a:solidFill>
                  <a:srgbClr val="cc0000"/>
                </a:solidFill>
                <a:latin typeface="Verdana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– sytily ho především tyto potíže: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bolesti v pánvi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průjem, zácp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bolesti na prsou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krční bolesti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bolesti v zádech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Faktorová analýza - příkl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místo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původních 18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proměnných indikujících frekvenci zdravostních potíží měli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nyní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3 proměnné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(lineární kombinace původní proměnných) – nevolnosti, vegetativní potíže a bolesti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s nimi pak pracovali při typologii (viz dále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Shluková analýz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slouží ke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klasifikaci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velkého počtu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osob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(na základě jejich dat v určitých proměnných)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do několika málo shluků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anglické označení cluster analysis se někdy v českých textech překládá také jako </a:t>
            </a:r>
            <a:r>
              <a:rPr b="0" lang="cs-CZ" sz="2600" spc="-1" strike="noStrike" u="sng">
                <a:solidFill>
                  <a:srgbClr val="000000"/>
                </a:solidFill>
                <a:uFillTx/>
                <a:latin typeface="Verdana"/>
              </a:rPr>
              <a:t>clusterová analýza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Shluková analýz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ro zájemce o podrobnosti o využití metod shlukové analýzy v psychologii doporučuji publikaci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Osecká, L. (2001). Typologie v psychologii. Praha, Academia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Shluková analýza - příkl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navazuje na příklad aplikace faktorové analýz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autoři se snažili identifikovat skupiny (shluky) adolescentů, kteří jsou si podobní ve svých zdravotních obtížích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oužili 3 proměnné vytvořené na základě FA – nevolnosti, vegetativní potíže a bolesti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Shluková analýza - příkl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bude uveden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výsledek pro 4 shluky 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- v grafu na následujícím snímku jsou průměrná faktorová skóre v použitých 3 proměnných pro osoby klasifikované do daného shluku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výsledky pro vyšší počty shluků viz citovaná publikace Osecké, kapitola 1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Faktorová analýz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cílem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faktorové analýzy (exploratorní) j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1) </a:t>
            </a:r>
            <a:r>
              <a:rPr b="1" lang="cs-CZ" sz="2600" spc="-1" strike="noStrike">
                <a:solidFill>
                  <a:srgbClr val="000000"/>
                </a:solidFill>
                <a:latin typeface="Verdana"/>
              </a:rPr>
              <a:t>redukce dat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– zmenšení počtu proměnných odstraněním nadbytečných proměnných (tj. těsně korelujících s ostatními proměnnými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2) </a:t>
            </a:r>
            <a:r>
              <a:rPr b="1" lang="cs-CZ" sz="2600" spc="-1" strike="noStrike">
                <a:solidFill>
                  <a:srgbClr val="000000"/>
                </a:solidFill>
                <a:latin typeface="Verdana"/>
              </a:rPr>
              <a:t>idetifikace struktury dat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– prozkoumat vztahy mezi proměnnými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Shluková analýza - příkl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826920" y="1844640"/>
            <a:ext cx="7632720" cy="40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Shluková analýza - příkl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osoby v prvním shluku si stěžují především na </a:t>
            </a:r>
            <a:r>
              <a:rPr b="1" lang="cs-CZ" sz="2600" spc="-1" strike="noStrike">
                <a:solidFill>
                  <a:srgbClr val="000000"/>
                </a:solidFill>
                <a:latin typeface="Verdana"/>
              </a:rPr>
              <a:t>bolesti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, zčásti také na vegetativní potíž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adolescenty ve druhém shluku trápí hlavně </a:t>
            </a:r>
            <a:r>
              <a:rPr b="1" lang="cs-CZ" sz="2600" spc="-1" strike="noStrike">
                <a:solidFill>
                  <a:srgbClr val="000000"/>
                </a:solidFill>
                <a:latin typeface="Verdana"/>
              </a:rPr>
              <a:t>nevolnosti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osoby ve třetím shluku trpí </a:t>
            </a:r>
            <a:r>
              <a:rPr b="1" lang="cs-CZ" sz="2600" spc="-1" strike="noStrike">
                <a:solidFill>
                  <a:srgbClr val="000000"/>
                </a:solidFill>
                <a:latin typeface="Verdana"/>
              </a:rPr>
              <a:t>vegetativními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Verdana"/>
              </a:rPr>
              <a:t>obtížemi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osoby ve čtvrtém shluku tvořily největší část souboru – trpěly pouze </a:t>
            </a:r>
            <a:r>
              <a:rPr b="1" lang="cs-CZ" sz="2600" spc="-1" strike="noStrike">
                <a:solidFill>
                  <a:srgbClr val="000000"/>
                </a:solidFill>
                <a:latin typeface="Verdana"/>
              </a:rPr>
              <a:t>do určité míry bolestmi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(průměrně), </a:t>
            </a:r>
            <a:r>
              <a:rPr b="1" lang="cs-CZ" sz="2600" spc="-1" strike="noStrike">
                <a:solidFill>
                  <a:srgbClr val="000000"/>
                </a:solidFill>
                <a:latin typeface="Verdana"/>
              </a:rPr>
              <a:t>úroveň ostatních zdravotních stesků u nich byla podprůměrná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Faktorová analýz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3264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výsledkem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faktorové analýzy (exploratorní) je vytvoření několika hypotetických proměnných –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faktorů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někdy bývají nazývány </a:t>
            </a:r>
            <a:r>
              <a:rPr b="1" lang="cs-CZ" sz="2600" spc="-1" strike="noStrike">
                <a:solidFill>
                  <a:srgbClr val="000000"/>
                </a:solidFill>
                <a:latin typeface="Verdana"/>
              </a:rPr>
              <a:t>latentní 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proměnné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faktory jsou lineárními kombinacemi původních proměnných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vysvětlují vztahy mezi původními proměnnými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Faktorová analýz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extrakce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faktorů – na základě matice vztahů mezi proměnnými (např. korelační matice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počet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extrahovaných faktorů – do značné míry závisí na rozhodnutí výzkumníka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cílem je vysvětlit co největší množství společného rozptylu co nejmenším počtem faktorů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Faktorová analýz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interpretace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faktorů – faktorová analýza sama o sobě nenabídne označení faktorů (to je opět na výzkumníkovi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faktor bývá označen na základě proměnných, které k němu mají nejtěsnější vztah (nejvyšší tzv. faktorové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náboje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Faktorová analýz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rotace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faktorového řešení – usnadní interpretaci faktorů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rotace může být ortogonální (tj. předpokládá, že faktory jsou nezávislé) nebo šikmá (předpoklad korelace mezi faktory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Faktorová analýza - příkl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říklad aplikace FA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Osecká, L., Řehulková, O., Macek, P. (1998). </a:t>
            </a:r>
            <a:br>
              <a:rPr sz="3000"/>
            </a:b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Zdravotní stesky adolescentů: struktura a rozdíly mezi pohlavím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Sborník konference Sociální procesy a osobnost, MU Brno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Faktorová analýza - příkl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cílem studie bylo mj.vytvořit typologii adolescentů na základě jejich zdravotních obtíží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adolescenti v dotazníku označili, jak často trpí každou z 18 nabídnutých zdravotních obtíží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Faktorová analýza - příkl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bolesti hlav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dýchací potíž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žaludeční potíž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závratě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nechutenství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nervozita, nekli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nespavos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noční můr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nesoustředěnos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4292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nevolnosti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silný tlukot srd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třesení rukou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náhlé zpocení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průjem, zácp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bolesti v zádech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krční bolesti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bolesti na prsou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bolesti v pánvi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5T18:17:40Z</dcterms:created>
  <dc:creator>Helena Klimusová</dc:creator>
  <dc:description/>
  <dc:language>en-US</dc:language>
  <cp:lastModifiedBy>Helena Klimusová</cp:lastModifiedBy>
  <dcterms:modified xsi:type="dcterms:W3CDTF">2003-05-18T23:36:46Z</dcterms:modified>
  <cp:revision>283</cp:revision>
  <dc:subject/>
  <dc:title>adrenalin exprime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5</vt:r8>
  </property>
</Properties>
</file>