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961-B4D6-47D5-B8B2-586D799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A8A-AC49-44C3-AF7C-B18063C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EB0-8B91-43E7-9919-6DBDC0E5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3F2-7131-4BF7-BB12-B68D21CE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FD78-6547-4427-82E3-77FB54C5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621B-9927-4181-89AF-EF440F89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4058-5329-4B40-8339-BC77BFD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B92C-B23F-41C3-B72D-E304A24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1C58-3081-4F58-85A3-C6DE000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BF27-9011-4F0C-AF1D-EAFFB4F7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F82-13D9-4729-9F88-BD6D8B9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896-C10F-4A5E-B3AB-1ED57CD2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52F7-C388-4622-B959-26E5EA1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07DF-AB26-40F2-AE4D-8670DFAF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EF20-5117-4696-A355-178A905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EF9-899E-47B0-A8D9-DB12F1B7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6FA4-3BDB-4F22-9672-14619547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7C1-6DEF-4624-B8E9-E0F39D3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0F8-3174-4EAB-9EC5-CE330515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EE2-FE5C-44CB-BEE5-B831B512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EE3-75C8-4E88-973A-10E7BC86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862-AA44-49EB-B238-5D79A356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33E-05D1-43A6-AA39-F1E4CDB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D76-CF53-4089-8B5F-174C587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23BF-AC95-4270-BB9A-E947312B97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B296-8AFE-4B5E-9CB4-D37F5CF860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po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rozměrná analýza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klasickém experimentu testujícím tzv. efekt přihlížejících (bystander effect) zjišťovali Darley a Latane, zda má přítomnost dalších lidí vliv na naši ochotu pomoci někomu v nouz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O čekala v místnosti s dalšími 0, 2 nebo 4 osobam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perimentátorka odešla něco připravit do vedlejší místnosti a bylo slyšet, že upadla a vykřikla něco o bolesti v kotní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vislou proměnnou byla doba, která uplynula do nabídnutí pomoci experimentátorce (v sekun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66640" y="304920"/>
          <a:ext cx="825336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9145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 sa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další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1773360"/>
          <a:ext cx="8008920" cy="4363920"/>
        </p:xfrm>
        <a:graphic>
          <a:graphicData uri="http://schemas.openxmlformats.org/drawingml/2006/table">
            <a:tbl>
              <a:tblPr/>
              <a:tblGrid>
                <a:gridCol w="2276640"/>
                <a:gridCol w="1728720"/>
                <a:gridCol w="2001960"/>
                <a:gridCol w="20016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so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sob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ůmě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7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ěrodatná odchyl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4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cs-CZ" sz="26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6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elkového rozptyl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oučtu čtverců – sum of squares) SST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total)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SSB + S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15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T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2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22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+…+33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906)</a:t>
            </a:r>
            <a:r>
              <a:rPr b="0" lang="cs-CZ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/3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T = 26016 – 24873,81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T = 1142,18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B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etwee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je počet osob ve skupin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348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X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23,75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0*(27,60-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11*(31,36-27,4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B = 12*(-3,7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10*(0,15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+(11*3,91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B = 332,96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3. kro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u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SW (S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with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</a:t>
            </a:r>
            <a:r>
              <a:rPr b="0" lang="cs-CZ" sz="33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X-X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průměr skupi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početní rovn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- SSB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SST –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SW = 1142,182 – 332,9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SW = 809,1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184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84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-testy jsou určeny pouze pro porovnávání dvojice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mnoha výzkumných plánech je však více skupin než dv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v příkladu s testováním účinnosti nového léku může být kromě skupin s testovaným lékem a placebem ještě skupina se starým lék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4. krok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výpočet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tupňů vol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T: dft = n-1 (n 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celkový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očet oso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t = 33-1 = 32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B: dfb = k-1 (k je počet skup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b = 3-1 =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SSW: dfw = n-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fw = 33-3 = 3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66640" y="1752480"/>
          <a:ext cx="8001000" cy="3967200"/>
        </p:xfrm>
        <a:graphic>
          <a:graphicData uri="http://schemas.openxmlformats.org/drawingml/2006/table">
            <a:tbl>
              <a:tblPr/>
              <a:tblGrid>
                <a:gridCol w="1600200"/>
                <a:gridCol w="1973520"/>
                <a:gridCol w="1226880"/>
                <a:gridCol w="1600200"/>
                <a:gridCol w="16002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2,9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6,49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9,19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97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42,18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rozptyl mezi skupin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ozptyl uvnitř skup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H="1" flipV="1">
            <a:off x="6659640" y="2997000"/>
            <a:ext cx="1008000" cy="1726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227640" y="4076280"/>
            <a:ext cx="144720" cy="1297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mezi / rozptyl uvnit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MSB / MS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166,493 / 26,97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vypadá větší než 1, ale jak je pravděpodobné, že by tento výsledek byl náhodný? tj., je F statisticky významné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(2, 30) = 6,1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260960" y="3246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3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49636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6,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3,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ritická hodnota F pro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1%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hladinu význam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 = 5,3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 (2, 30) =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6,17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 0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ozd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l mezi průměry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 statisticky významný </a:t>
            </a:r>
            <a:br>
              <a:rPr sz="3000"/>
            </a:b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1% hladině význam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ýstup v SP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748720" cy="30178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4652640"/>
            <a:ext cx="8001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dina význam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635280" y="3573000"/>
            <a:ext cx="1513080" cy="11509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32360" y="4005000"/>
            <a:ext cx="647640" cy="1152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3645000"/>
            <a:ext cx="1728720" cy="19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ost F nám řekne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d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existují průkazné rozdíly mezi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zvíme se ta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který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kupinami je průkazný rozdíl (která skupina se liší od kter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třeba provés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nohonásobná porovná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ple comparisons nebo post-hoc compariso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195640" y="1773360"/>
          <a:ext cx="5419440" cy="425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773360"/>
                    <a:ext cx="541944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rovnávání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více skupinami by sice bylo možné otestovat po dvojicích pomocí t-testu, 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avděpodobnosti v tabulce t-rozdělení jsou spočítány za předpokladu, že je prováděno pouze jediné srovn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čím více testů, tím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vyšší pravděpodobnost chyby I. druh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např. pro 3 srovnání je 5% alfa ve skutečnosti 10%, pro 10 srovnání 30% atd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vpodstatě o upravené t-tes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pravené vzhledem k počtu porovn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xistuje více různých typů mnohonásobných porovnávání, např. Fisherův LSD test, Bonferroniho test, Tukeyho test, Scheffeho test at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to testy jsou si hodně podobné vzorcem pro jejich výpoče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ší se však ve způsobu, jak se u nich stanovuje hladina významnosti (Fisherův LSD test je liberálnější, zatímco ostatní uvedené přísnějš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tyto testy spočítali u předchozího příkladu, zjistili bychom, že průkazný rozdíl je mezi skupinou osob, které byly v místnosti sami, a skupinou se 4 dalšími lid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nohonásobná porovn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54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může být aplikována také na data z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dobně jako t-test pro závislé výběry; analýza rozptylu se použije v případě, máme-li více než dvě měř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v příkladu u t-testu – změna hmotnosti u dívek s PPP po terapii – hmotnost by mohla být měřena i několikrát v průběhu terap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pakovaná měř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cedura se nazývá Analýza rozptylu pro opakovaná měření (Repeated measur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ogika výpočtu je obdobná jako u analýzy rozptylu pro nezávisl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faktor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 analýze rozptylu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závislá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rvním příkladu (bystander effect) byl pouze jeden faktor (počet osob); podobně u opakovaných měření (terapie – před a po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me-li faktorů (nezávislých proměnných) více, použijeme faktoriální ANO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o porovnání nezávislých výběrů, o opakovaná měření nebo obojí najednou (tzv. mixed desig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e smíšenými efek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neuropsycholog zkoumá oblasti mozku odpovídající za tvorbu a porozumění řeč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šetří speciálním testem 24 náhodně vybraných pacientů s poškozenou levou hemisférou mozku – polovina z nich jsou muži a polovina že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romě mezipohlavních rozdílů ho zajímá rovněž, zda bude rozdíl mezi praváky a leváky (těch je rovněž 12 a 1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nto design se zapisuje 2x2 ANO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pohlaví (muži x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 kategorie laterality (leváci x pravá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je vhodnější místo mnoha t-testů použít jinou statistickou techniku – analýzu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ysis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iance –AN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otestovat rozdíly mezi průměry více skupin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66640" y="304920"/>
          <a:ext cx="8008920" cy="6335640"/>
        </p:xfrm>
        <a:graphic>
          <a:graphicData uri="http://schemas.openxmlformats.org/drawingml/2006/table">
            <a:tbl>
              <a:tblPr/>
              <a:tblGrid>
                <a:gridCol w="2670120"/>
                <a:gridCol w="2668680"/>
                <a:gridCol w="2670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c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ž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f18e"/>
                    </a:solidFill>
                  </a:tcPr>
                </a:tc>
              </a:tr>
              <a:tr h="4899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en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8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analýza rozptylu testu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lavní efek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ain effect) – vliv jedné nezávislé proměnné zprůměrovaný pro všechny úrovně ostatních nezávislých proměnný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faktoriální ANOVy jsou testovány hlavní efekty pro všechny fak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testujeme hlavní efekt pro pohlaví a laterali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3213000"/>
            <a:ext cx="187308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740720" y="3213000"/>
            <a:ext cx="1008000" cy="4320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pohlav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ženy mají celkově vyšší skóry než muži (16,2 a 11,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3645000"/>
            <a:ext cx="187308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3645000"/>
            <a:ext cx="129672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kazný (na hladině 1%) hlavní efekt pro faktor lateralit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eváci mají celkově vyšší skóry než praváci (15,3 a 11,9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akce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projeví v případě, kdy vliv jedné nezávislé proměnné není stejný na všech úrovních druhé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íkladu – je vliv laterality stejný u mužů a ž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ano, není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ne, je zde 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rozptylu nevyužívá pro testování rozdílu mezi průměry samotné průměry, al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čítají se dva odhad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uvnitř skupin (within-groups nebo withi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ptyl mezi skupinami (between-groups nebo between-subjects varia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95280" y="189000"/>
          <a:ext cx="8497800" cy="655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9000"/>
                    <a:ext cx="84978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964720" cy="6048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3933720"/>
            <a:ext cx="2233440" cy="57636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7596360" y="4005360"/>
            <a:ext cx="1223640" cy="43164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mezi pohlavím a lateralitou je průkazná (na 5% hladině významnost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žen nehraje lateralita pro výkon v testu roli – levačky a pravačky se neliší, zatímco u mužů leváci a praváci 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interakce – pouze hlavní efek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Faktoriální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82090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aktoriální design je možno uplatnit i u analýzy opakovaných měř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akce zde znamená, že jsou různě velké rozdíly mezi měřeními u jednotlivých kategorií nezávislé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sychiatr testující léčbu anorexie by mohl soubor rozdělit na dívky podstupující terapii dobrovolně a nedobrovol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akce by mohla vypadat třeba tak, že u motivovaných dívek by došlo k nárůstu hmotnosti, zatímco u nedobrovolných pacientek ke stagna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Verdana"/>
              </a:rPr>
              <a:t>Opakovaná měření s další nezávislou proměnn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4638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kategoriálních faktorů je možno do analýzy zařadit také spojitou nezávislou proměnnou –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ovariá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analýzu kovariance (ANCOV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Analýza kovari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šéf firmy obdrží stížnost od zaměstnankyň, že ženy mají nižší platy než muž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porovnání průměrů to tak vypadá, ale co kdybychom do analýzy zařadili jako další faktor (kovariát) délku prax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uvnitř skupi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ukazatel celkové variability uvnitř skupin – tj. jak se od sebe vzájemně liší osoby v rámci jednotlivých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tyl mezi skupinam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e měřítkem variability mezi skupinami – tj. jak se od sebe liší skupiny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všech předchozích příkladech jsme měli pouz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ednu závisl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měn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však možno testovat také vliv jednoho či více faktorů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ěkolik závislých proměnných najedn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to analýza se označuje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ANOV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multivariate analysis of varianc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Vícenásobná analýza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reklamní psycholog chce porovnat účinnost dvou typů TV reklam (emocionální x informativn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chá respondenty hodnotit na 7-ti stupňové škále 3 aspekty účinnosti reklamy: zda je reklama zaujala, zda se jim líbí a jestli by uvažovali o koupi inzerovaného výrob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to 3 závislé proměnné pak porovná pro typ reklamy jako fak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é typy rozptylu jsou v analýze rozptylu porovnáván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 čemu v analýze rozptylu slouží mnohonásobná porovnávání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veďte příklady výzkumných plánů, při kterých by bylo možno použí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faktoriální analýzu rozptyl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alýzu opakovaných měření s kovariát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ícerozměrnou analýzu rozptylu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ěr těchto dvou rozptylů je statistika 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tyl mezi skupinam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 = rozptyl uvnitř skup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nejsou mezi skupinami rozdíly, pak by měl být rozptyl mezi skupinami a uvnitř skupin velmi podobný (teoreticky shodný - F=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sou mezi skupinami rozdíly, pak budou tyto rozdíly (between)větší než vzájemné rozdíly mezi osobami uvnitř skupin (withi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Logika analýzy rozptyl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-li F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, pak kromě F musíme ještě spočítat pravděpodobnost, že bychom takto vysoké získali náhodou (tj. statistickou významno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abulk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F rozdělení je vždy pro konkrétní hodnotu alfa; má v řádcích počet stupňů volnosti pro rozptyl uvnitř skupin a ve sloupcích pro rozptyl mezi skupina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27T06:00:13Z</dcterms:modified>
  <cp:revision>374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