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73A-BAF8-4CC2-B982-22C5B393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314-92B1-4F5C-8A69-F816E40B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2C2-0E30-4ED7-8707-673ACEE7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A76-FB7E-4B2C-9E99-97C1768F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A116-8B83-4838-ADD6-1CC8B2A1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75B9-93A2-44D6-BDDD-C0E178BE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C772-9062-492B-80AA-050D8FA7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821D-3ADC-4477-A7BC-DD515EF8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A3BC-A181-40B4-BEC2-C473F1F3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4767-7AF4-4D6B-A6D4-EE507B33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BD5C-869E-45EF-BDFF-13D2AD6A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167-16D6-4F65-A51F-7E621809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D41D-1FDB-4151-896E-1268D4D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6540-5535-4AD0-8516-11B6FCF1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809A-CEE3-453D-BF61-E24BDEB5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73FC-14F6-4D7D-B23A-B6D081CBD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718A-09E4-4B11-9C06-A0F8CDC1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56A-1558-4BCB-97A2-ED4E0946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F3D-B147-4A9B-BAFA-62873EAD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08F-D9D7-4AB3-BA2F-74D852C6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14D-5BBC-4B9D-A84B-0765940B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E7B-374B-429B-AB1D-D9306E14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216-51F6-42DB-BD68-35E41C90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582-42B8-4817-ABFA-D02DAEEF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6FF7-747C-42E2-8CE5-2A4E7E1787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1216-5A6F-4EFF-8126-B3664C9DDE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Popisná /deskriptivní/ statist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kud proměnná nabývá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Verdana"/>
              </a:rPr>
              <a:t>mnoha hodnot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je vhodnější je </a:t>
            </a: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sloučit do kategorií (intervalů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počet intervalů by měl být přiměřený počtu hodno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ěkdy se používá tzv. Sturgesovo pravidlo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 = 1 + 3,3 log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(n)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le něj by pro 200 hodnot byl vhodný počet intervalů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drawingml/2006/table">
            <a:tbl>
              <a:tblPr/>
              <a:tblGrid>
                <a:gridCol w="4000680"/>
                <a:gridCol w="1109520"/>
                <a:gridCol w="982800"/>
                <a:gridCol w="19080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č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umul.</a:t>
                      </a: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ně než 8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 – 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 – 1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6 - 130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 a ví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lke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polohy (středu, centrální tendence) jsou výsledkem snahy nají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typicko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u pro daný 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jčastěji používa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méně často harmonický a geometrický průmě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 se vyskytující hodno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např. u příkladu s temperamentem to byl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choleri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iná použitelná charakteristika polohy pro nominální data; u pořadových a kardinálních jsou většinou více typickými charakteristikami medián nebo průmě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v rozdělení více modů, jde o rozdělení vícevrcholové (obvykle bimodální) – může odhalit nehomogenitu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rozdělení hodnot tělesné výšky může mít dva mody – pro muže a pro ž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dus není užitečnou statistikou pro zobecňování ze vzorku na populaci – dá se očekávat, že různé vzorky z téže populace budou mít různé mod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prostřední hodnota v řadě hodno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pořádaných podle  velikost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50% percenti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jen pro data, která je možno podle velikosti uspořádat, tj. pořadová a kardin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lí soubor na dvě poloviny (pro sudý počet hodnot je medián průměrem dvou prostředních pozorová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užívá se především, pokud chcem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eliminovat vliv extrémních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růměrný plat 20 tisíc může u 10 osob znamenat, že 9 z nich má 10 tisíc a jeden 110 tisíc; použijeme-li medián – 10 tisíc, získáme více typickou hodnotu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me ho vyčíst z tabulky četností, pokud jsou uvedeny kumulativní čet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aritmetický 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oučet všech hodnot znaku  dělený jejich počte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n pro proměnné, u nichž je možno hodnoty smysluplně dělit (kardinál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zorec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/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populaci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o m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x/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pro výbě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zahrnu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aždou hodno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naku – což je jak výhoda, tak nevýhoda (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ý na extrémní hodnot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 je možn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yřeši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použitím tzv.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useknutého průměr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(trimmed mea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, který se počítá tak, že se vynechá určité % hodnot z obou stran rozdělení, např. 5% nejnižších a 5% nejvyšší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k popisu základních vlastností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skytuje jednoduché shrnutí hodnot proměnných ve výběrovém soubo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chází induktivní statistiku (která odvozuje zjištění ze vzorku na populac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patně reprezentuje nehomogenní skupin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30 osob v parku, průměrný věk 12.5 roku, průměrná výška 130 cm: nemusí jít o školní děti, ale o 15 matek se 4-letými dět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rovnáním hodnoty průměru a mediánu získáme představu o </a:t>
            </a:r>
            <a:r>
              <a:rPr b="1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šikmosti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 rozdělení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je průměr vět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ladně (dopra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menší než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záporně (doleva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zešikm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ůměr = medián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ymetrické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rozděle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26920" y="1920960"/>
            <a:ext cx="3457800" cy="1747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313080" cy="1971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3313080" cy="158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642920" y="5805360"/>
            <a:ext cx="7308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znaky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s normálním rozdělení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hodnot je průměr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nejúčinnějš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charakteristikou (tj. nejvíce stabilní pro různé výběrové soubory) – dá se nejlépe použít pro odhad parametru populace z charakteristik výb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jčastěji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žívanou mírou poloh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terou statistiku uvádě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rů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může být spočítán a pokud není rozdělení příliš šikm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odus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multimodální (neexistuje jediná typická hodnot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diá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kud je rozdělení šikmé a unimodál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polo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spočítejte modus, medián a aritmetický průměr následujícího rozdělení hodno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8  5  12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2   14   87   50   87   7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íry variability popisuj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kolísání </a:t>
            </a:r>
            <a:br>
              <a:rPr sz="3000"/>
            </a:b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v rozdělení hodno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 se rozpětí, mezikvartilové rozpětí, rozptyl, směrodatná odchylka, variační koefic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variační šíře, variační rozpětí) – rozdíl mezi nejvyšší a nejnižší hodnot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načně ovlivněno extrémními hodnotami, není dobrým odhadem parametru popul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mezikvartilové rozpět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interkvartilová odchylka) – rozdíl mezi hodnotou horního kvartilu a dolního kvarti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vartily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dělí soubor na 4 stejné části; horní kvartil odděluje 25% nejvyšších hodnot, dolní 25% nejnižší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ezikvartilové rozpětí udáv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ozpětí pro středních 50% hodno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=délka obdélníku v krabicovém diagramu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není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podobně jako medián)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citlivé na extrémní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echniky deskriptivní statistiky pomáhají redukovat větší množství dat do zvládnutelné podo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outo redukcí např. údajů o rychlosti čtení u 200 žáků na jeden ukazatel, např. na hodnotu průměru samozřejmě část informací ztratí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rozpty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řední kvadratická odchylka průměru) - ukazuje, jak jsou hodnoty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rozptýleny kolem průměr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 populaci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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běr         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n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(1/(n-1))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(x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i = 1</a:t>
            </a:r>
            <a:r>
              <a:rPr b="0" lang="cs-CZ" sz="2600" spc="-1" strike="noStrike" baseline="30000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íce než rozptyl se používá jeho odmocnina –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měrodatná odchylk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a ukazatele slouží jako vhodné doplnění průměru – získáme představu o jeho věrohodnosti, jak dobře reprezentuje všechny hodno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rovnejte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u těchto dvou rozložení hodnot (jde např. o počet správně vyřešených úloh v didaktickém testu ve 2 třídác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-548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b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8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0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4, s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= 3.8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 prvního rozdělení je průměr lepší reprezentací hodnot; u druhého jsou hodnoty kolem průměru hodně rozptýlen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variační koeficient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ro p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ovnání míry variabilit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 různých soub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kud se u různých souborů měřené hodnoty výrazně liší svou úrovní anebo jsou dokonce v různých jednotkách, nelze podle rozptylu či standardní odchylky porovnávat přímo, který ze souborů má větší variabilitu - je třeba srovnávat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relativní variabilit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de o podíl směrodatné odchylky a průmě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tšinou se udává v procent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 = ( s / m ) .100%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íklad – porovnejte variabilitu průměrného platu v ČR (v korunách) a v GB (v librách)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fiktivní da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00 liber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GB=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6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=10 000 K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, s</a:t>
            </a:r>
            <a:r>
              <a:rPr b="0" lang="cs-CZ" sz="30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Z=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3000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Míry vari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řešení příkladu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větší variabilita je v britských platech (60%) než v českých (3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ze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základní typ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kategoriální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ata - sloupcový diagram, výsečový gra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Verdana"/>
              </a:rPr>
              <a:t>spojitá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data – histogram, frekvenční polygon, krabicový diagram, stromový diag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rafy je možno znázornit v kategorizované formě – pro jednotlivé kategorie další proměnné (např. pro muže a žen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výsečový graf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koláčový diagram, pie chart) – užívá se více v populárních publikacích než v odborný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58920" y="3068640"/>
          <a:ext cx="5761080" cy="304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3068640"/>
                    <a:ext cx="576108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 každou proměnnou obvykle popisujeme 3 charakteristik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hodnot (i graficky), středovou hodnotu a míru rozptýlení hodnot kolem tohoto střed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histogra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podobný sloupcovému diagramu, ale je pro spojitá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tlivé sloupce reprezentují nikoliv jednotlivé kategorie, ale intervaly hod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var histogramu závisí do jisté míry na šířce interva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89280" y="2073240"/>
          <a:ext cx="509580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509580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frekvenční polygo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konstruován podobně jako histogram, jen místo sloupců jsou tečky spojené čar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71640" y="3270240"/>
            <a:ext cx="50403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krabicový diagram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(boxplot, vousatá krabička) – poskytuje bohaté zobrazení důležitých aspektů rozdělení hod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élka krabice odpovídá interkvartilové odchylce; uvnitř krabice je vyznačen medi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usy“ je ohraničeno rozmezí hodnot bez odlehlých hodnot (outliers) a extrémních hodnot (více než 3x délky krabice od jejího konc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89280" y="2073240"/>
          <a:ext cx="4951440" cy="40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9280" y="2073240"/>
                    <a:ext cx="4951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tromkový diagr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(stem-and-leaf plot; stonek a list) – podobný histogramu (naležato), ale obsahuje informace o každém přípa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onstrukce diagramu – hodnoty jsou rozděleny např. na desítky (stonek) a jednotky (lis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apř. hodnota 85 = 8x10 + 5x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kud je hodnot pro některé desítky více, rozdělí se na další lis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19890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1 .  46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2 .  022558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3 .  0112344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,00       4 .  34555677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5 .  3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,00        6 .  011138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,00        7 .  12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,00        8 .  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9 . 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10,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Graf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189000" cy="92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0" y="20606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cy    Stem &amp;  Lea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00  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3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,00        3 .  66777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,00        3 .  888899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,00        4 .  0000011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2233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        4 .  444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,00        4 .  6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       4 .  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,00 Extremes    (&gt;=5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em width:        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leaf:       1 case(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Kontrolní otázk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íly mezi absolutními a relativními četnostmi, poměrem a mí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3 základní míry polohy (+ u jakých dat použijeme průměr, modus či mediá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kladní míry variability, výpočet rozpty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ělení (distribuce) hodnot - souhrn četností jednotlivých kategorií nebo intervalů hodnot proměnn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ednou z možností, jak zobrazit rozložení hodnot proměnné je 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tabulka četností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– seznam kategorií proměnné a u nich počet osob, které do každé kategorie spadají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26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abulk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četnost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92360" y="1773360"/>
          <a:ext cx="5256360" cy="4281480"/>
        </p:xfrm>
        <a:graphic>
          <a:graphicData uri="http://schemas.openxmlformats.org/drawingml/2006/table">
            <a:tbl>
              <a:tblPr/>
              <a:tblGrid>
                <a:gridCol w="1873440"/>
                <a:gridCol w="1798560"/>
                <a:gridCol w="158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počet os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angvin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Fleg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Melancho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8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holer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4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je třeba uvést celkový počet osob (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lativní četnosti mohou být uvedeny buď jak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rocent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8%) neb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díl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0.0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ůže jít rovněž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pomě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io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dvou kategorií (např. poměr dívek a chlapců s ADHD 1:4 (nebo 0,25)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o </a:t>
            </a:r>
            <a:r>
              <a:rPr b="0" lang="ug-CN" sz="3000" spc="-1" strike="noStrike" u="sng">
                <a:solidFill>
                  <a:srgbClr val="000000"/>
                </a:solidFill>
                <a:uFillTx/>
                <a:latin typeface="Verdana"/>
              </a:rPr>
              <a:t>m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Verdana"/>
              </a:rPr>
              <a:t>ír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cs-CZ" sz="3000" spc="-1" strike="noStrike">
                <a:solidFill>
                  <a:srgbClr val="000000"/>
                </a:solidFill>
                <a:latin typeface="Verdana"/>
              </a:rPr>
              <a:t>rat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) se označuje počet výskytů nějakého jevu dělený počtem možných výskytů v nějakém č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 míra úmrtnosti = počet mrtvých za rok / počet obyvatel x 1000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ískáme hrubou míru úmrtnosti na 1000 obyvat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Rozdělení hod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tejná data je možno zobrazit i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graficky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(v příkladu sloupcový diagram – barchar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6000" y="2727360"/>
          <a:ext cx="6094440" cy="32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727360"/>
                    <a:ext cx="609444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18:17:40Z</dcterms:created>
  <dc:creator>Helena Klimusová</dc:creator>
  <dc:description/>
  <dc:language>en-US</dc:language>
  <cp:lastModifiedBy>Helena</cp:lastModifiedBy>
  <dcterms:modified xsi:type="dcterms:W3CDTF">2004-03-16T07:06:27Z</dcterms:modified>
  <cp:revision>255</cp:revision>
  <dc:subject/>
  <dc:title>adrenalin expri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