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97C-0432-4FCC-A795-936D50F5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A5B-C8AF-4EB4-BD15-EDC63B10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4CB-2311-4BBD-8E5E-CDC6A16D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FC2-580D-4B42-BD7F-AF7AAF64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489E-DA10-4A30-A7F9-26A49A73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848A-B098-41BD-82B6-65E4AF37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9202-F919-4B45-8D4E-27D69E2A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A1F8-1084-432B-A137-3885AC8B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6B39-7A96-4C09-A8DE-219C34F3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B8DB-4613-47CA-82AE-30498E2F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C27E-BE51-4BB4-AD7D-4F58E998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32E-D5E9-4EFF-9CB5-1D7CF770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EB27-87F5-40CE-8A07-1BFEEB6E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D2D1-72D3-4CEC-B1A5-9D9BDA77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6C80-C356-433A-B368-965393D5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2006-3A83-4380-975C-8D8E2D83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ABD4-BC9F-47DE-BEAB-47EFDC8C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F15-A2FD-40B4-A627-27A46784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0C48-396E-4CB7-ACC7-2CF94A04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3C9-D977-47B8-AE91-460DD3FC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FEE-3369-44F5-8632-391A9EBA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558-48AC-460F-A22E-6860EC1F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D77-FB4A-4573-AB9D-4C5F35AE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FD9-5446-4896-80DB-05A727A1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7015-115A-4DA1-BC05-917A0F3B78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503B-78B0-4D8B-9C39-27C7811E8B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/deskriptivní/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okud proměnná nabývá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Verdana"/>
              </a:rPr>
              <a:t>mnoha hodnot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je vhodnější je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sloučit do kategorií (intervalů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očet intervalů by měl být přiměřený počtu hodno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ěkdy se používá tzv. Sturgesovo pravidlo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 = 1 + 3,3 log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(n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le něj by pro 200 hodnot byl vhodný počet intervalů 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752480"/>
          <a:ext cx="8001000" cy="4267440"/>
        </p:xfrm>
        <a:graphic>
          <a:graphicData uri="http://schemas.openxmlformats.org/drawingml/2006/table">
            <a:tbl>
              <a:tblPr/>
              <a:tblGrid>
                <a:gridCol w="4000680"/>
                <a:gridCol w="1109520"/>
                <a:gridCol w="982800"/>
                <a:gridCol w="19080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č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umul.</a:t>
                      </a: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ně než 8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 – 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 – 1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6 - 130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 a ví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lke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 (středu, centrální tendence) jsou výsledkem snahy nají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typicko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u pro daný zn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častěji používan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aritmetický 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méně často harmonický a geometrický průmě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 se vyskytující hodno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např. u příkladu s temperamentem to byl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holeri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iná použitelná charakteristika polohy pro nominální data; u pořadových a kardinálních jsou většinou více typickými charakteristikami medián nebo prů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v rozdělení více modů, jde o rozdělení vícevrcholové (obvykle bimodální) – může odhalit nehomogenitu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rozdělení hodnot tělesné výšky může mít dva mody – pro muže a pro žen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dus není užitečnou statistikou pro zobecňování ze vzorku na populaci – dá se očekávat, že různé vzorky z téže populace budou mít různé mo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prostřední hodnota v řadě hodno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spořádaných podle  velik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50% percentil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jen pro data, která je možno podle velikosti uspořádat, tj. pořadová a kardin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ělí soubor na dvě poloviny (pro sudý počet hodnot je medián průměrem dvou prostředních pozorová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ívá se především, pokud chcem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eliminovat vliv extrémních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průměrný plat 20 tisíc může u 10 osob znamenat, že 9 z nich má 10 tisíc a jeden 110 tisíc; použijeme-li medián – 10 tisíc, získáme více typickou hodnotu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ho vyčíst z tabulky četností, pokud jsou uvedeny kumulativní čet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ritmetický 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oučet všech hodnot znaku  dělený jejich počte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n pro proměnné, u nichž je možno hodnoty smysluplně dělit (kardinál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zor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/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populaci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/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výbě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zahrnuj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aždou hodno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naku – což je jak výhoda, tak nevýhoda (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itlivý na extrémní hodno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 je možn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yřeši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oužitím tzv.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seknutého průměr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trimmed me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, který se počítá tak, že se vynechá určité % hodnot z obou stran rozdělení, např. 5% nejnižších a 5% nejvyšší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 se k popisu základních vlastností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kytuje jednoduché shrnutí hodnot proměnných ve výběrovém soubo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chází induktivní statistiku (která odvozuje zjištění ze vzorku na populac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špatně reprezentuje nehomogenní skupin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30 osob v parku, průměrný věk 12.5 roku, průměrná výška 130 cm: nemusí jít o školní děti, ale o 15 matek se 4-letými dět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rovnáním hodnoty průměru a mediánu získáme představu o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šikmosti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 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průměr větší než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ladně (doprava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ešikmen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menší než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áporně (doleva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ešikm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=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ymetrick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26920" y="1920960"/>
            <a:ext cx="3457800" cy="1747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3313080" cy="1971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16000" y="4221000"/>
            <a:ext cx="3313080" cy="1581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642920" y="5805360"/>
            <a:ext cx="7308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znaky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 normálním rozdělení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 je průměr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júčinnějš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charakteristikou (tj. nejvíce stabilní pro různé výběrové soubory) – dá se nejlépe použít pro odhad parametru populace z charakteristik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užívanou mírou polo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terou statistiku uvádě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může být spočítán a pokud není rozdělení příliš šikm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je rozdělení multimodální (neexistuje jediná typická hodnot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je rozdělení šikmé a unimod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počítejte modus, medián a aritmetický průměr následujícího rozdělení hodno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8  5  12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  14   87   50   87   7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variability popisují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olísání </a:t>
            </a:r>
            <a:br>
              <a:rPr sz="3000"/>
            </a:b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 rozdělení hodno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 se rozpětí, mezikvartilové rozpětí, rozptyl, směrodatná odchylka, variační koefici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ě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ariační šíře, variační rozpětí) – rozdíl mezi nejvyšší a nejnižší hodnot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čně ovlivněno extrémními hodnotami, není dobrým odhadem paramet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zikvartilové rozpě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interkvartilová odchylka) – rozdíl mezi hodnotou horního kvartilu a dolního kvarti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vartil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dělí soubor na 4 stejné části; horní kvartil odděluje 25% nejvyšších hodnot, dolní 25% nejnižší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ezikvartilové rozpětí udáv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ětí pro středních 50% hodno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=délka obdélníku v krabicovém diagram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odobně jako medián)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itlivé na extrémní hodno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chniky deskriptivní statistiky pomáhají redukovat větší množství dat do zvládnutelné pod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uto redukcí např. údajů o rychlosti čtení u 200 žáků na jeden ukazatel, např. na hodnotu průměru samozřejmě část informací ztratí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rozpty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střední kvadratická odchylka průměru) - ukazuje, jak jsou hodnoty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rozptýleny kolem prům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populaci         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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(1/(N))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i = 1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běr         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(1/(n-1))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i = 1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 než rozptyl se používá jeho odmocnina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odatná odchylk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a ukazatele slouží jako vhodné doplnění průměru – získáme představu o jeho věrohodnosti, jak dobře reprezentuje všechny hodno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rovnejte variabili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u těchto dvou rozložení hodnot (jde např. o počet správně vyřešených úloh v didaktickém testu ve 2 třídá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-548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b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řešení příkla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4, 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0.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4, 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3.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prvního rozdělení je průměr lepší reprezentací hodnot; u druhého jsou hodnoty kolem průměru hodně rozptýlen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ční koeficien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ro 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ovnání míry variabilit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u různých soub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se u různých souborů měřené hodnoty výrazně liší svou úrovní anebo jsou dokonce v různých jednotkách, nelze podle rozptylu či standardní odchylky porovnávat přímo, který ze souborů má větší variabilitu - je třeba srovnáva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elativní variabili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o podíl směrodatné odchylky 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tšinou se udává v procent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 = ( s / m ) .100%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porovnejte variabilitu průměrného platu v ČR (v korunách) a v GB (v librách)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iktivní 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G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=1000 liber, s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GB=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60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=10 000 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, s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Z=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300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řešení příklad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ětší variabilita je v britských platech (60%) než v českých (3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z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základní typ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kategoriál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- sloupcový diagram, výsečový gra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pojitá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data – histogram, frekvenční polygon, krabicový diagram, stromový diag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rafy je možno znázornit v kategorizované formě – pro jednotlivé kategorie další proměnné (např. pro muže a žen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ýsečový graf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koláčový diagram, pie chart) – užívá se více v populárních publikacích než v odbor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58920" y="3068640"/>
          <a:ext cx="5761080" cy="304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3068640"/>
                    <a:ext cx="576108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ždou proměnnou obvykle popisujeme 3 charakteristi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 (i graficky), středovou hodnotu a míru rozptýlení hodnot kolem tohoto stře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istogra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dobný sloupcovému diagramu, ale je pro spojitá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tlivé sloupce reprezentují nikoliv jednotlivé kategorie, ale intervaly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var histogramu závisí do jisté míry na šířce interva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89280" y="2073240"/>
          <a:ext cx="5095800" cy="40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9280" y="2073240"/>
                    <a:ext cx="509580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frekvenční polygo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konstruován podobně jako histogram, jen místo sloupců jsou tečky spojené čar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71640" y="3270240"/>
            <a:ext cx="50403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rabicový diagram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boxplot, vousatá krabička) – poskytuje bohaté zobrazení důležitých aspektů rozdělení hod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élka krabice odpovídá interkvartilové odchylce; uvnitř krabice je vyznačen medi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ousy“ je ohraničeno rozmezí hodnot bez odlehlých hodnot (outliers) a extrémních hodnot (více než 3x délky krabice od jejího konc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789280" y="2073240"/>
          <a:ext cx="4951440" cy="40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9280" y="2073240"/>
                    <a:ext cx="49514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tromkový diagra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stem-and-leaf plot; stonek a list) – podobný histogramu (naležato), ale obsahuje informace o každém přípa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strukce diagramu – hodnoty jsou rozděleny např. na desítky (stonek) a jednotky (lis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př. hodnota 85 = 8x10 + 5x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je hodnot pro některé desítky více, rozdělí se na další lis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1989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   Stem &amp;  Lea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1 .  46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,00        2 .  022558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,00        3 .  0112344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,00       4 .  34555677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5 .  3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,00        6 .  011138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,00        7 .  12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,00        8 .  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       9 . 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m width:     10,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leaf:       1 c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66280" y="1752480"/>
            <a:ext cx="189000" cy="92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0" y="20606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   Stem &amp;  Lea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00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3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,00        3 .  66777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,00        3 .  888899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,00        4 .  0000011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        4 .  223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        4 .  4445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4 .  6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       4 .  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Extremes    (&gt;=5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m width:        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leaf:       1 c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íly mezi absolutními a relativními četnostmi, poměrem a mír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 základní míry polohy (+ u jakých dat použijeme průměr, modus či mediá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kladní míry variability, výpočet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(distribuce) hodnot - souhrn četností jednotlivých kategorií nebo intervalů hodnot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u z možností, jak zobrazit rozložení hodnot proměnné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abulka četností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eznam kategorií proměnné a u nich počet osob, které do každé kategorie spadají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262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abul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četnost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92360" y="1773360"/>
          <a:ext cx="5256360" cy="4281480"/>
        </p:xfrm>
        <a:graphic>
          <a:graphicData uri="http://schemas.openxmlformats.org/drawingml/2006/table">
            <a:tbl>
              <a:tblPr/>
              <a:tblGrid>
                <a:gridCol w="1873440"/>
                <a:gridCol w="1798560"/>
                <a:gridCol w="1584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očet os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angvin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Fleg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Melanchol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holer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4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je třeba uvést celkový počet osob (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lativní četnosti mohou být uvedeny buď jak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rocen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8%) neb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díl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0.0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jít rovněž 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rati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dvou kategorií (např. poměr dívek a chlapců s ADHD 1:4 (nebo 0,25)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o </a:t>
            </a:r>
            <a:r>
              <a:rPr b="0" lang="ug-CN" sz="3000" spc="-1" strike="noStrike" u="sng">
                <a:solidFill>
                  <a:srgbClr val="000000"/>
                </a:solidFill>
                <a:uFillTx/>
                <a:latin typeface="Verdana"/>
              </a:rPr>
              <a:t>m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ír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rat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se označuje počet výskytů nějakého jevu dělený počtem možných výskytů v nějakém č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míra úmrtnosti = počet mrtvých za rok / počet obyvatel x 1000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ískáme hrubou míru úmrtnosti na 1000 obyvat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tejná data je možno zobrazit i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graficky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v příkladu sloupcový diagram – barchar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16000" y="2727360"/>
          <a:ext cx="6094440" cy="322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727360"/>
                    <a:ext cx="609444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3-16T07:07:18Z</dcterms:modified>
  <cp:revision>255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