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746-041C-4241-9AE2-B3B16EBA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C61-7A5E-4C3B-87A3-59EED66B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E8C-A759-4FAE-A901-AD5C37A9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F07-E754-4934-A667-956F6804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76EB-999C-42CF-B2B0-CD124002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D471-8265-4B6E-8A53-01778C0F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08A1-F43E-4970-8385-218F2AB3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3FE5-1A3C-40B7-8B1A-E12A619F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E48C-BEB7-480E-9117-005A9BE0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454F-AEA6-4DD3-93ED-38EEAAE6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8470-8503-420E-A675-A225B5B7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41A-D96F-40FC-B902-F7C6F08A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FB0F-5923-44AC-9F6E-01BD490C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9623-F1F7-41D0-8227-EB5E8A1D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C333-79CB-48E6-8BC9-FDA580DB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3215-930B-4BBE-A0F0-68D777A8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C516-306A-4A8F-885C-ADBCAAA1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3E0-07DF-4D58-84CC-DABC02A5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464-E7FE-4676-9BD4-F9FE6639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88E-0EA5-447F-A28F-C9C5DC21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42E-CE87-44BA-B92E-5A4B729A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D20-8B55-4052-B607-9E6E200E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1A2-437E-41B1-97FE-73906D2C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3A3-C147-4B6C-87AD-8101F3FB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E326-073B-49A4-9689-64F4D927B0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5306-D749-41F4-99D6-BD3A65A9B6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ametrické a neparametrické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řadové neparametrické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 nezávislosti proměn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 dobré sho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může být použi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testování rozdělení jedné proměnné (test dobré shod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ování nezávislosti dvou proměn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pro testování nezávislosti proměnných se používá pro nominální nebo ordinální proměnné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jsou uspořádána do tzv. kontingenční tabulky (viz příkla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ajímá nás, jak souvisí model manželství s jeho vydařenost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odel manželství má kategorie: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minance žena, dominance muž, kooper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dařenost má 3 kategorie – vydařené, průměrné, nevydařen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zn.: jde o manželství rodičů respondentů, tak jak je posuzují oni (zdroj dat – výzkum doc. Plaňavy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tázka zní: liší se podíl vydařených, průměrných a nevydařených manželství u rodin, kde dominovala matka, rodin, kde dominoval otec a u rodin, kde nedominoval ani jeden z nich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ingenční tabulka (SPS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842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95280" y="620640"/>
          <a:ext cx="849780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620640"/>
                    <a:ext cx="849780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porovnává očekávané a pozorované čet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čekávané jsou četnosti za předpokladu, že proměnné jsou nezávisl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9145800" cy="4751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4932360" y="5300280"/>
            <a:ext cx="28728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našem příkladu bylo 42,2% vydařených manželstv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by proměnné (model a vydařenost manželství) byly vzájemně nezávislé, poměr vydařených manželství v jednotlivých modelech manželství by měl být přibližně stejný (a odrážet celkový podíl) – 42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dobně ostatní kategorie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čekávané četnosti – výpočet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48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cs-CZ" sz="4800" spc="-1" strike="noStrike">
                <a:solidFill>
                  <a:srgbClr val="000000"/>
                </a:solidFill>
                <a:latin typeface="Verdana"/>
              </a:rPr>
              <a:t> = (ř</a:t>
            </a:r>
            <a:r>
              <a:rPr b="0" lang="cs-CZ" sz="4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4800" spc="-1" strike="noStrike">
                <a:solidFill>
                  <a:srgbClr val="000000"/>
                </a:solidFill>
                <a:latin typeface="Verdana"/>
              </a:rPr>
              <a:t> s</a:t>
            </a:r>
            <a:r>
              <a:rPr b="0" lang="cs-CZ" sz="48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cs-CZ" sz="4800" spc="-1" strike="noStrike">
                <a:solidFill>
                  <a:srgbClr val="000000"/>
                </a:solidFill>
                <a:latin typeface="Verdana"/>
              </a:rPr>
              <a:t> )/ N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každé políčko tabulky se vynásobí celkové četnosti z příslušného řádku se sloupcovými četnostmi a vydělí celkovým počtem osob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-testy a analýza rozptylu jsou tzv. parametrické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ametr = charakteristika populace (průměr, rozptyl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ametrické testy používají při výpočtech charakteristiky populace (parametr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82436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první políčko tabulky (vydařená manželství s dominantní matkou) je očekávaná čet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ř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)/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ř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)/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69*65 )/ 15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0" lang="cs-CZ" sz="28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11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= 29,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čekávané četn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540720" cy="3743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V="1">
            <a:off x="4788000" y="3716280"/>
            <a:ext cx="431640" cy="217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porovná očekávané četnosti s pozorova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pozor. četnosti – oček.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/oček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pozor. četnosti – oček.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/oček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7,1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29,1 +3,9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,1 + 3,2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,8 +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4.6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,6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+ 3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16 + 1,6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9,4 + 11,7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17,3 + (-6,9)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14,9 + (-4,8)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8,8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18, 7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vyhledání kritické hodnoty </a:t>
            </a: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 tabulce musíme vypočítat ještě počet stupňů volnosti (df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f = (ř-1) (s-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j. počet řádků -1 krát počet sloupců -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f = (ř-1) (s-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f = (3-1) * (3-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df = 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tabulkách vyhledáme kritickou hodnotu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df = 4 a 5% hladinu význam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Verdana"/>
              </a:rPr>
              <a:t>krit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= 9,4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400" spc="-1" strike="noStrike" baseline="-25000">
                <a:solidFill>
                  <a:srgbClr val="000000"/>
                </a:solidFill>
                <a:latin typeface="Verdana"/>
              </a:rPr>
              <a:t>krit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9,4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8,7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ávěr: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ypočítaná hodnota je větší než kritická hodnota  -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očekávané a pozorované četnosti se liší na 5% hladině významn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tj. je malá pravděpodobnost, že proměnné jsou nezávisl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7272360" cy="3379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7524720" y="2924280"/>
            <a:ext cx="43200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571640" y="2852640"/>
            <a:ext cx="43164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2781360"/>
            <a:ext cx="0" cy="287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Chí-kvadrát pro 1 proměnno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zv. test dobré shody (goodness-of-fit test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pět porovnává očekávané a pozorované čet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pokladem očekávaných četností není tentokrát nezávislost proměnných (máme jen 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ametrické testy pracují s předpoklady o charakteristikách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u t-testu předpokládáme, že směrodatné odchylky výběrů mohou posloužit jako odhad pro směrodatnou odchylk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obně počítají s normálním rozdělením měřeného zna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dobré sho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určíme očekávané četnosti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způsob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dpoklad vyplývá z teorie (např. u genetických dat – poměr osob s projevem dominantní a recesivní alel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bo můžeme předpokládat náhodné rozdělení do kategori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počet sebevražd stejný každý den v týdn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íme data pro rok 2000 (Č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195640" y="1844640"/>
          <a:ext cx="4581360" cy="4246560"/>
        </p:xfrm>
        <a:graphic>
          <a:graphicData uri="http://schemas.openxmlformats.org/drawingml/2006/table">
            <a:tbl>
              <a:tblPr/>
              <a:tblGrid>
                <a:gridCol w="1917360"/>
                <a:gridCol w="2664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nděl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úter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řed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tvrte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átek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bo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dě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čekávané četn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tejný počet sebevražd pro každý den v týdn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elkem 1602 sebevraž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čekávaná četnost pro každý den je 228,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8424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orec pro výpočet je stejn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3,4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f = k -1 (počet kategorií -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f = 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df =6 a 5% hladinu významnosti je </a:t>
            </a: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400" spc="-1" strike="noStrike" baseline="-25000">
                <a:solidFill>
                  <a:srgbClr val="000000"/>
                </a:solidFill>
                <a:latin typeface="Verdana"/>
              </a:rPr>
              <a:t>krit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2,5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díl je statisticky významn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82818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mezení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potenciální problém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alý počet osob – pokud má velké % políček tabulky očekávanou četnost menší než 5 (v ideálním případě by všechna měla mít oček. četnost nejméně 5 oso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íliš velký počet osob – čím vyšší N, tím vyšší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vyjdou významné i malé rozdíl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ecná definice – síla a směr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asociace pro nom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aložené na chí-kvadrá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E mí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asociace pro ord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asociace vyjadřují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ěsnost vztahu proměnných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a případně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ztah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hí-kvadrá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e dozvíme pouze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da nějaký vztah mezi proměnnými existuj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tj. zda se liší četnosti pozorované a četnosti očekávané za předpokladu, že proměnné jsou nezávisl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nejsou tyto předpoklady splněny, můžeme dojít k nepřesným výsledků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ěsnost (síla) vztah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yjádřena absolutní hodnotou koeficient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ní shoda v tom, od jaké hodnoty je vztah považován za těsný (někdy uváděno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0.70, jindy &gt;0.3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, středně těsný či slabý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 vztah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uze u ordinálních a kardinálních proměnný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zitivní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čím vyšší hodnoty jedné proměnné, tím vyšší hodnoty druh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gativní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čím vyšší hodnoty jedné proměnné, tím nižší hodnoty druh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Míry asociace pro nominální dat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asociace pro nominální data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kazují pouze sílu vztahu dvou proměnnýc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nikoli směr či jiné informace o povaze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lišujeme míry založené na chí-kvadrátu a míry PR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ikost hodnoty chí-kvadrát je ovlivněna velikostí výběru a počtem kategorií tabul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účelem koeficientů založených na chí-kvadrátu je eliminovat tyto vliv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sah koeficientů je obvykle mezi 0 a 1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čím vyšší hodnota, tím těsnější vzta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 – žádný vzta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 – absolutní vztah (z hodnot jedné proměnné můžeme předpovědět hodnoty druhé proměn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oeficienty je možno spočítat statistickou význam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ezi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 užívan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míry asociace založené na chí-kvadrátu patří koeficient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Fí (Phi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ramerovo V (Cram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’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V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eficient kontingence (Contingency Coefficien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í koeficien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užívá se pro tabulky 2x2 (tj. pro dichotomické proměnné, např. pohlav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počte se tak, že se hodnota chí-kvadrátu vydělí počtem osob a výsledek se odmoc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eficient kontingence – užívá se někdy místo Fí pro tabulky větší než 2x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hužel jeho max. hodnota je nižší než 1 (závisí na počtu políček tabulk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užívá se proto příliš čast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ramerovo V – podobný výpočet jako Fí; počet osob se navíc násobí počtem řádků - 1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pokud je počet řádků menší než počet sloupců, jinak počtem sloupců – 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ívá se pro tabulky větší než 2x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z minulé přednášky - jak souvisí model manželství s jeho vydařenost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= 18.7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čet osob N = 15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 = počet řádků - 1 = 3 – 1 =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parametrické testy nezávisí na charakteristikách populace ani o nich nečiní žádné záv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ní vyžadováno normální rozdělení zna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to jsou tyto testy označovány také jako „distribution-free“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ingenční tabulka (SPS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842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a 3x3 – použijeme Cramerovo 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=   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/(N*m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=    18.71/(154*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 = 0,24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908000" y="2781360"/>
            <a:ext cx="142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050920" y="2708280"/>
            <a:ext cx="144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27082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3860640"/>
            <a:ext cx="14292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050920" y="3789000"/>
            <a:ext cx="73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2124000" y="378936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pretace: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a 0,246 je poměrně nízká – vztah mezi modelem manželství a jeho vydařeností není příliš těsný (i když statisticky významný – viz výstup v SPS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SPSS jsou uvedeny oba koeficienty (Fí i V), je třeba zvolit ten správný pro každou tabul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7417080" cy="3346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V="1">
            <a:off x="4859280" y="3645000"/>
            <a:ext cx="50328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372360" y="3645000"/>
            <a:ext cx="50328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zkratka pr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oportional Reduction in Error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oměrná redukce chyby odhad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incip PRE: porovnání odhadu hodnot závislé proměnné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bez znalosti hodnot nezávislé proměnné a s její znalos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o kolik se sníží chyba odhadu?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jaký je vztah mezi pohlavím a užíváním rtěnky?*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počítáme koeficien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lamb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měli odhadnout, zda náhodně vybraný respondent používá rtěnku: jaká je pravděpodobnost chybného odhad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*převzat z Disman: Jak se vyrábí sociologická znal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očekávat, že více lidí rtěnku nepoužívá než používá (naprostá většina mužů + některé ženy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kže bude výhodnější odhadnout, že náhodně vybraný respondent rtěnku nepouží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 chyby závisí na podílu lidí užívajících rtěn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8064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i tomto podílu osob je pravděpobnost chyby asi 40% (když budeme odhadovat, že nádodný respondent rtěnku neužívá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e 160 případů bychom se zmýlili 63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 kolik by se chyba zmenšila, kdybychom znali pohlaví respondenta?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muže bychom odhadovali, že rtěnku nepoužívá, pro ženu naopak -  že ji použí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č potom vůbec používat parametrické test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noho parametrických testů je poměrně „odolných“ (tzv. robustních) vůči narušení předpokladů testu (např. menší odchylky od normálního rozdělení výsledky nezkreslí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arametrické testy mají větší statistickou sílu než neparametrické (větší pravděpodobnost zjištění rozdílu, pokud skutečně existuj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 některé typy analýz neparametrické metody nejsou (např. neexistuje obecně přijímaná neparametrická faktoriální ANOVA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497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znali pohlaví respondenta, zmýlili bychom se ve svém odhadu 21x (2 x u muže a 19x u žen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 kolik by se náš odhad zlepšil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yby předtím – chyby teď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63-21 = 4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ěrná redukce chyby (tj. vzhledem k předchozím chybám)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lambd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2/63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,66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chyba v odhadu užívání rtěnky se sníží asi o 67%, pokud známe pohlaví respond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sah koeficientu lambda je od 0 do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namená, že znalost hodnoty nezávislé proměnné vůbec nesníží chybu v odhadu hodnot závislé proměnné;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oměnné jsou vzájemně nezávisl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ím blíž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tím lépe můžem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 hodnot nezávislé proměnné předpovědět hodnoty závisl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SPSS jsou počítány 3 varianty koeficientu lambda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ymetrická – není určeno, co je závislá a co nezávislá proměnn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 asymetrické – pro proměnnou 1 jako závislou a pro proměnnou 2 jako závisl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30402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92240" y="2708280"/>
            <a:ext cx="8951760" cy="2592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flipV="1">
            <a:off x="4572000" y="4941720"/>
            <a:ext cx="360360" cy="5032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 pro nominální d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omě koeficientu lambda se užívají také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oodmanovo a Kruskalovo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ta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nevyužívá při predikci nejčastější kategorii závislé proměnné jako lambda, ale rozdělení ve všech kategoriích závisle proměn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henova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app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pro měření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hody dvou posuzovatel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pro ordinální d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 ordinálních dat je výpočet založen na poměru souhlasných a nesouhlasných párů případ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ouhlasn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ár případů – hodnota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obou proměnných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je vyšší (nebo nižší) u jednoho člena pá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souhlasn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ár případů – hodnota jedné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proměnn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je u jednoho člena páru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vyšš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a hodnota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druhé proměnn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je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nižš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pro ordinální d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většina párů souhlasných, je hodnota gamma kladná – tj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zitivní vztah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až +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většina párů nesouhlasných, je hodnota gamma záporná – tj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gativní vztah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až -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počet souhlasných a nesouhlasných párů vyrovnán – gamma kolem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pro ordinální d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amma je symetrická míra – nedělá rozdíly mezi závislou a nezávislou proměnn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symetrická varianta koeficientu gamma –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omersovo 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endallovo ta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bere v úvahu i nerozhodné páry (tzv. ties); ale hodnoty v rozsahu -1 až +1 mohou být získány pouze pro čtvercové tabulky (tj. stejný počet kategorií obou proměnných)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hlavní </a:t>
            </a: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ýhody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 neparametrických test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jsou omezeny předpokladem normálního rozděl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často založeny na pořadí, dají se použít i pro ordinální data (kde můžeme spočítat pouze průměr, nikoli medián) i pro nominální (test Chí-kvadrá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jsou citlivé na extrémní hodnoty (jsou většinou založeny na mediánu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rnu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nominálních dat hodnota míry asociace proměnných indikuje sílu vztahu – rozsah od 0 do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južívanější Fí nebo Cramerovo V; když víme, která proměnná nezávislá - lamb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ordinálních dat míry asociace indikují jak sílu vztahu (abs. hodnota koeficientu), tak směr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lavní rozdíl mezi parametrickými a neparametrickými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hody a nevýhody neparametrických test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dy je možno využít chí–kvadrát jako test nezávislosti proměnných? (pro jaké typy proměnných?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dy se chí–kvadrát využívá jako test dobré shody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 čemu slouží míry asociace proměnných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íl mezi mírami založenými na chí-kvadrátu a mírami P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užívanější míry pro nom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užívanější míry pro ord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hlavní </a:t>
            </a: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výhody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 neparametrických test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enší statistická sí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složitější analýzy často není neparametrická varianta metody k dispozic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řehled neparametrických ekvivalentů parametrických test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-test pro nezávislé výběry –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ann-Whitney U 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-test pro závislé výběry – Wilcoxon 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nalýza rozptylu – Kruskall-Wallis 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pakovaná měření (ANOVA) – Friedman Rank 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5-03T18:46:12Z</dcterms:modified>
  <cp:revision>283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