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C8B-FE83-4AC6-B6B1-E4C432EC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33D-DC4C-4799-A53B-576A32E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ADC-4323-4386-86D5-2D3C12F8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872-880D-42F1-AABE-76953B2D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C7B8-ECE3-4C66-ADAB-3246E673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235-3711-4099-8E6F-D604579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17E-25F4-47A0-B513-4F086EB8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387E-6EC3-481E-89F1-E909FF3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569-2E03-4C12-98FA-A8EA5A10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69E3-E668-433A-9257-27FB0F27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DE7C-B1D5-40BD-946F-01003FA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556-9C26-4B36-BB6A-EA3D4212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AE0D-3418-4D5F-A132-5DCF0342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99E8-BA70-44B1-94B9-C0DF7DD8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2D02-2C75-4F93-9B2F-DA1716B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2E72-A237-40CC-86BE-A7AED21B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D63D-E96B-431E-B519-A45D623F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C58-B078-48D1-A239-E2143DF2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C52-DC44-4B46-AD5F-C9207361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8E5-12D5-434C-A4AD-82C9386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B50-7ADF-4B79-A9C8-47DF87F9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F94-22C0-4AFD-B67C-8C9A93C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793-F130-4ECB-8DA0-4D37C29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BD2-521A-4199-BF61-D8A2E05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91B-E8D7-4BD4-8251-1F82A74211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897-0815-44B2-9BF0-0A7FCD26A8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po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klasickém experimentu testujícím tzv. efekt přihlížejících (bystander effect) zjišťovali Darley a Latane, zda má přítomnost dalších lidí vliv na naši ochotu pomoci někomu v nouz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O čekala v místnosti s dalšími 0, 2 nebo 4 osobam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perimentátorka odešla něco připravit do vedlejší místnosti a bylo slyšet, že upadla a vykřikla něco o bolesti v kotní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lou proměnnou byla doba, která uplynula do nabídnutí pomoci experimentátorce (v sekun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66640" y="304920"/>
          <a:ext cx="825336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9145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O sa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1773360"/>
          <a:ext cx="8008920" cy="4363920"/>
        </p:xfrm>
        <a:graphic>
          <a:graphicData uri="http://schemas.openxmlformats.org/drawingml/2006/table">
            <a:tbl>
              <a:tblPr/>
              <a:tblGrid>
                <a:gridCol w="2276640"/>
                <a:gridCol w="1728720"/>
                <a:gridCol w="2001960"/>
                <a:gridCol w="20016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so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mě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ěrodatná odchyl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cs-CZ" sz="2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6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elkového rozptyl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oučtu čtverců – sum of squares) SST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total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SSB + S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615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T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27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0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2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…+33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906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/3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26016 – 24873,81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T = 1142,18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B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etwee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počet osob ve skupi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23,75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0*(27,60-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1*(31,36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-3,7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10*(0,1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(11*3,91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B = 332,96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W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with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- SS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– SS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1142,182 – 332,98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W = 809,1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jsou určeny pouze pro porovnávání dvojice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noha výzkumných plánech je však více skupin než dvě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v příkladu s testováním účinnosti nového léku může být kromě skupin s testovaným lékem a placebem ještě skupina se starým lék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4. kro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tupňů 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T: dft = n-1 (n 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celkov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očet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t = 33-1 = 32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B: dfb = k-1 (k je počet skup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b = 3-1 =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W: dfw = n-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w = 33-3 = 3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66640" y="1752480"/>
          <a:ext cx="8001000" cy="3967200"/>
        </p:xfrm>
        <a:graphic>
          <a:graphicData uri="http://schemas.openxmlformats.org/drawingml/2006/table">
            <a:tbl>
              <a:tblPr/>
              <a:tblGrid>
                <a:gridCol w="1600200"/>
                <a:gridCol w="1973520"/>
                <a:gridCol w="1226880"/>
                <a:gridCol w="1600200"/>
                <a:gridCol w="16002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we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2,9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6,49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9,1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9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2,18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ozptyl mezi skupin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ozptyl uvnitř sku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H="1" flipV="1">
            <a:off x="6659640" y="2997000"/>
            <a:ext cx="1008000" cy="1726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227640" y="4076280"/>
            <a:ext cx="144720" cy="1297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mezi / rozptyl uvnit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MSB / M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166,493 / 26,97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vypadá větší než 1, ale jak je pravděpodobné, že by tento výsledek byl náhodný? tj., je F statisticky významné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(2, 30)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60960" y="3246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3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4963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6,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3,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1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5,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6,17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0.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zd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íl mezi průměry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 statisticky významný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1% hladině význam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748720" cy="3017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4652640"/>
            <a:ext cx="8001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dina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635280" y="3573000"/>
            <a:ext cx="1513080" cy="1150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32360" y="4005000"/>
            <a:ext cx="647640" cy="115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3645000"/>
            <a:ext cx="1728720" cy="194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ost F nám řekn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istují průkazné rozdíly mezi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zvíme se ta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kter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kupinami je průkazný rozdíl (která skupina se liší od kter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třeba provés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nohonásobná porovná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ple comparisons nebo post-hoc compariso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95640" y="1773360"/>
          <a:ext cx="541944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773360"/>
                    <a:ext cx="541944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více skupinami by sice bylo možné otestovat po dvojicích pomocí t-testu, al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vděpodobnosti v tabulce t-rozdělení jsou spočítány za předpokladu, že je prováděno pouze jediné srovn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íce testů, tím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 pravděpodobnost chyby I. druh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apř. pro 3 srovnání je 5% alfa ve skutečnosti 10%, pro 10 srovnání 30% atd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podstatě o upravené t-tes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pravené vzhledem k počtu porovn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istuje více různých typů mnohonásobných porovnávání, např. Fisherův LSD test, Bonferroniho test, Tukeyho test, Scheffeho test at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testy jsou si hodně podobné vzorcem pro jejich výpoče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však ve způsobu, jak se u nich stanovuje hladina významnosti (Fisherův LSD test je liberálnější, zatímco ostatní uvedené přísnějš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tyto testy spočítali u předchozího příkladu, zjistili bychom, že průkazný rozdíl je mezi skupinou osob, které byly v místnosti sami, a skupinou se 4 dalšími lid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540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může být aplikována také na data z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jako t-test pro závislé výběry; analýza rozptylu se použije v případě, máme-li více než dvě měř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v příkladu u t-testu – změna hmotnosti u dívek s PPP po terapii – hmotnost by mohla být měřena i několikrát v průběhu terap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se nazývá Analýza rozptylu pro opakovaná měření (Repeated measur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výpočtu je obdobná jako u analýzy rozptylu pro nezávisl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 analýze rozptylu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závislá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příkladu (bystander effect) byl pouze jeden faktor (počet osob); podobně u opakovaných měření (terapie – před a po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me-li faktorů (nezávislých proměnných) více, použijeme faktoriální ANO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o porovnání nezávislých výběrů, o opakovaná měření nebo obojí najednou (tzv. mixed desig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e smíšenými efek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neuropsycholog zkoumá oblasti mozku odpovídající za tvorbu a porozumění řeč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šetří speciálním testem 24 náhodně vybraných pacientů s poškozenou levou hemisférou mozku – polovina z nich jsou muži a polovina že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omě mezipohlavních rozdílů ho zajímá rovněž, zda bude rozdíl mezi praváky a leváky (těch je rovněž 12 a 1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design se zapisuje 2x2 ANO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pohlaví (muži x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laterality (leváci x pravá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e vhodnější místo mnoha t-testů použít jinou statistickou techniku – analýzu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ysis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iance –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otestovat rozdíly mezi průměry více skupin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66640" y="304920"/>
          <a:ext cx="800892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670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ž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en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89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 test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lavní efe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ain effect) – vliv jedné nezávislé proměnné zprůměrovaný pro všechny úrovně ostatních nezávislý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faktoriální ANOVy jsou testovány hlavní efekty pro všechny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testujeme hlavní efekt pro pohlaví a laterali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3213000"/>
            <a:ext cx="187308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7740720" y="3213000"/>
            <a:ext cx="100800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pohlav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ženy mají celkově vyšší skóry než muži (16,2 a 11,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3645000"/>
            <a:ext cx="187308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3645000"/>
            <a:ext cx="129672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lateralit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eváci mají celkově vyšší skóry než praváci (15,3 a 11,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ak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projeví v případě, kdy vliv jedné nezávislé proměnné není stejný na všech úrovních druhé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– je vliv laterality stejný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není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ne, je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nevyužívá pro testování rozdílu mezi průměry samotné průměry, 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ají se dva odhad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 (within-groups nebo withi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(between-groups nebo betwee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3933720"/>
            <a:ext cx="2233440" cy="57636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7596360" y="4005360"/>
            <a:ext cx="122364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mezi pohlavím a lateralitou je průkazná (na 5% hladině významnost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žen nehraje lateralita pro výkon v testu roli – levačky a pravačky se neliší, zatímco u mužů leváci a praváci a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ez interakce – pouze 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design je možno uplatnit i u analýzy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zde znamená, že jsou různě velké rozdíly mezi měřeními u jednotlivých kategorií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sychiatr testující léčbu anorexie by mohl soubor rozdělit na dívky podstupující terapii dobrovolně a nedobrovol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 by mohla vypadat třeba tak, že u motivovaných dívek by došlo k nárůstu hmotnosti, zatímco u nedobrovolných pacientek ke stagn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4638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ategoriálních faktorů je možno do analýzy zařadit také spojitou nezávislou proměnnou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vari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analýzu kovariance (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šéf firmy obdrží stížnost od zaměstnankyň, že ženy mají nižší platy než muž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porovnání průměrů to tak vypadá, ale co kdybychom do analýzy zařadili jako další faktor (kovariát) délku prax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ukazatel celkové variability uvnitř skupin – tj. jak se od sebe vzájemně liší osoby v rámci jednotlivý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měřítkem variability mezi skupinami – tj. jak se od sebe liší skupiny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všech předchozích příkladech jsme měli pouz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u závisl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šak možno testovat také vliv jednoho či více faktorů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ěkolik závislých proměnných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to analýza se označuje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ANO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variate analysis of varian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reklamní psycholog chce porovnat účinnost dvou typů TV reklam (emocionální x informativn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á respondenty hodnotit na 7-ti stupňové škále 3 aspekty účinnosti reklamy: zda je reklama zaujala, zda se jim líbí a jestli by uvažovali o koupi inzerovaného výrob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yto 3 závislé proměnné pak porovná pro typ reklamy jako fak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rozptylu jsou v analýze rozptylu porovnáván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 čemu v analýze rozptylu slouží mnohonásobná porovnávání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veďte příklady výzkumných plánů, při kterých by bylo možno použí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faktoriální analýzu rozptyl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alýzu opakovaných měření s kovariá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rozměrnou analýzu rozptylu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 těchto dvou rozptylů je statistika 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 mezi skupinam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uvnitř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mezi skupinami rozdíly, pak by měl být rozptyl mezi skupinami a uvnitř skupin velmi podobný (teoreticky shodný - F=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sou mezi skupinami rozdíly, pak budou tyto rozdíly (between)větší než vzájemné rozdíly mezi osobami uvnitř skupin (withi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-li 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, pak kromě F musíme ještě spočítat pravděpodobnost, že bychom takto vysoké získali náhodou (tj. statistickou významnos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abul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 rozdělení je vždy pro konkrétní hodnotu alfa; má v řádcích počet stupňů volnosti pro rozptyl uvnitř skupin a ve sloupcích pro rozptyl mezi skupina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27T06:00:13Z</dcterms:modified>
  <cp:revision>37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