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26B-79D4-43B2-8872-4C7F92B4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47B-B0B6-4CBA-9431-74408B97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DEC-1166-424A-892E-1257014C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B2D-3F58-4F1F-8939-7C31C526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1CF1-391F-405C-A23D-D4C96472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2C48-A9E0-45B0-B59C-27B317F5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38BB-35D1-46FB-A8D2-51067FF9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F3B9-C720-4C22-BBB2-BD212FF0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C137-9860-494F-ABA5-B95C88B9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B81A-D217-4FA1-9C7C-664047A6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09E0-DF26-4450-9CBF-B0DE52B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6BD-1804-4098-9C48-AD05301E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C9BF-0B37-43F4-95EB-AECB0AF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F606-E740-42CA-BB58-EBC4015A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6E9B-CD13-4558-8D59-B59D9710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263E-8522-448E-A570-C00117E4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CE3E-3CDD-4D7C-9AD6-9DDEAFC7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EEC-FDCA-4DFE-8668-8A1A9704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2C2-D32B-45E1-ACFB-912274EA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16E-5F6F-4C08-B58C-DB1CED11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5AB-310F-49C0-A49A-FB83D971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8B4-E513-42DF-BA2A-30AC95E2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B03-1965-460F-A7E2-F39DEEEE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489-5B4A-420E-A31E-47358DDE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7292-F0F9-445A-84AC-3A3219150F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4446-FFDE-425A-BF12-DD9962A942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duktivní statistika - 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63640" y="2116080"/>
            <a:ext cx="55450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aším úkolem je vytáhnout 1 žet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3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aším úkolem je vytáhnout 1 žet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3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 (3) = f/N = 16/40 =0,4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2/5 či 4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vyšším než 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vyšším než 2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X &gt; 2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05 + 0,25 + 0,40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7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3313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5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X &lt; 5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10 + 0,20 + 0,40 + 0,25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95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672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y induktivní statistiky vycházejí z  teorie pravděpodob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že nastane určitý výsledek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finujem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ako podí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čet pokusů, kdy nastal jev 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A) =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ý počet jev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501336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4 a vyšším než 1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4 a vyšším než 1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4 &gt; X &gt; 1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20 + 0,40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60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745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odpovídá hustot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blasti pod křivkou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daný interv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í najít a popsa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ci každé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 rámci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tak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rovnávání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cházejících z měřen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 rozdílných stupnic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rubé skóry jsou převedeny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dardizovanou stupni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jednotkou je směrodatná odchyl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skóry ze dvou testů – biologie a psychologi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udent získal 26 bodů z biologie a 620 z psychologie. Ve kterém předmětu byl lep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28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mé porovnání není snadné – skóry z obou testů mají rozdílné průměry i směrodatné odchy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skór =odchylka skóru od průměru vzhledem k velikosti směrodatné odchy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odch. od průměru/směr. odc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 z biologie: (26-18)/6 = 1,3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 psychologie: (620-500)/100=1,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biologii byl student lepší – 1,33 směrodatné odchylky nad průměr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-skór přesně udává pozici každé hodnoty vzhledem k ostatním hodnotá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ménko (+ nebo -) ukazuje, zda je hodnota nad nebo pod průměrem rozděle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a z-skóru upřesňuje, kolik směrodatných odchylek byla hodnota od průměru vzdále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si z balíčku 52 karet vytáhneme určitou kartu (např. pikovou dámu)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měr rozdělení z-skórů je vždy 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měrodatná odchylka je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5003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výpočet z-skóru hodnoty 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 popu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z = (X – μ) /σ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 vzork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z = (X - m) / 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ě můžeme i z-skór převést na hrubý skór, známe-li průměr a směrodatnou odchyl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stupnice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sobu se z=-3 (3 směrodatné odchylky pod průměrem) bude IQ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stupnice I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sobu se z=-3 (3 směrodatné odchylky pod průměrem) bude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Z .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-3 . 15 + 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 5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z-skó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 z-skórů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ejný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ako tvar původního rozdělení hrubých skó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je 0, směrodatná odchylka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ansformace změní jen označení hodnot na ose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rmální rozdělení j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unimodál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zvonovitého tva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značuje se i jak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Gaussova křivk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72000" y="2852640"/>
                <a:ext cx="42451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42920" y="2432160"/>
            <a:ext cx="64087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34.13% skórů spadá mezi průměr a 1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3.59% hodnot spadá mezi 1. a 2.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.28% hodnot spadá mezi 2. a 3.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4248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normálního rozdělení (z rozděle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ůležitý nástroj, obvykle jako apendix v učebnicích statistiky (spolu s dalšími tabulkam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e zjistit hustotu oblasti pod křivkou (tj. pravděpodobnost) pro jednotlivé z-skó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si z balíčku 52 karet vytáhneme určitou kartu (např. pikovou dámu)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piková dáma) = f/N = 1/52 = 0,019= 1,9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932360" y="2436840"/>
            <a:ext cx="40323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 při zjišťování pravděpodobnosti z tabulk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črtnout si normální rozdělení, s hodnotou průměru a směr. odch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kreslit hledanou hodnotu (v přibližné vzdálenosti od průměru), vystínovat hledanou obl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vést hodnotu X na z-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ít v tabulce pravděpodob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00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15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00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15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(130 – 100)/1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4569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0228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2,3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85 nebo niž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-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851280" y="2263680"/>
            <a:ext cx="44974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při hodu kostkou padne trojka nebo šestka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85 nebo niž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-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1587 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5,9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 při zjišťování z-skóru z tabulk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črtnout si normální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stínovat oblast odpovídající zadané pravděpodob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tabulce vyhledat příslušný z-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počítat z něj hrubý 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u minimální hodnotu IQ musí člověk mít, aby patřil mezi 5% osob s nejvyššími hodnotami IQ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= 0.05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48000" y="1994040"/>
            <a:ext cx="48243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u minimální hodnotu IQ musí člověk mít, aby patřil mezi 5% osob s nejvyššími hodnotami IQ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tabulky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 = 1.6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(1.65).(15) + 100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24.7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ocí tabulky normálního rozdělení je možno nalézt také hodnotu percen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olik procent osob má nižší hodnoty IQ než člověk s IQ 130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370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370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při hodu kostkou padne trojka nebo šestka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3 n. 6) = f/N = 2/6 = 0,333= 33,3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lik procent osob má nižší hodnoty IQ než člověk s IQ 130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tabulky: pro 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977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7.72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osob má nižší skó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ílem induktivní statistiky je odhadnou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arametry popu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harakteristik vzork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ýběrového soubor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odhadem průměru populace bude průměr vzor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 je vždy zatížen určit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běrovou chyb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ádejme, že z jedné populace vybereme 3 různé vzor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udou se nejspíš navzájem lišit ve tvaru rozdělení hodnot, průměru i variabilit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se rozhodneme, který z nich zvolit pro odhad průměru populace 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59230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spočítali průměry ze všech možných výběrů o určité velikost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budou tvoři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dělení výběrových průměrů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sampling distribution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opulace hodnot 2, 4, 6, 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ádejme, že průměr neznáme a pokoušíme se ho odhadnout ze vzorku n=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jsou uvedeny všechny možné výběrové soubor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9640" y="1628640"/>
          <a:ext cx="8001000" cy="4772160"/>
        </p:xfrm>
        <a:graphic>
          <a:graphicData uri="http://schemas.openxmlformats.org/drawingml/2006/table">
            <a:tbl>
              <a:tblPr/>
              <a:tblGrid>
                <a:gridCol w="1052640"/>
                <a:gridCol w="1152360"/>
                <a:gridCol w="1295640"/>
                <a:gridCol w="4500360"/>
              </a:tblGrid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ýbě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vní skó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uhý skó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vzor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87280" y="2073240"/>
            <a:ext cx="6697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z této populace vybereme vzorek s průměrem vyšším než 7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187280" y="2073240"/>
            <a:ext cx="6697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bývá uváděna nejčastěji jak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dí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,33)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lome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1/3) neb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cent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33,3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určitého jevu nebo třídy jevů můžeme odhadnout z rozdělení hodnot (četnost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z této populace vybereme vzorek s průměrem vyšším než 7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rozdělení výběrových průměrů je takový vzorek jen 1 ze 16 – tj. pravděpodobnost takového průměru vzorku je 1/16 = 0.062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a populací i vzorků je mnohem větš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existují určité základní vlastnosti rozdělení výběrových průměrů (RV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VP se při dostatečně velkém vzorku (30 a více) blíž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ůměr průměrů všech teoretických výběrů je roven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značuje se také jako očekávaná hodnota průměru vzor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měrodatná odchylka RVP se označuje jako výběrová chyba (standard error)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směrodatnou odchylku výběrových průměrů od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e, jak spolehlivý je odhad populačního průměru z průměru vzorku – tj. jak velkou chybou je odhad zatíž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ové chyby je dána dvěma charakteristikami: variabilitou v populaci a velikostí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 znaku v popul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čím je vyšší, tím je vyšší i variabilita výběrových průměrů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3887640" cy="2160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700600" y="2276640"/>
            <a:ext cx="19321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u – čím větší výbě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tím lépe jeho průměr reprezentuje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orec pro výpočet výběrové chy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cs-CZ" sz="5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5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entrální limitní vět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pro každou populaci o průměru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směrodatné odchylc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bude rozdělení výběrových průměrů výběrů (pro rozsah výběru jdoucí do nekonečna) blížit normálnímu rozdělení s průměrem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směrodatnou odchylkou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stavme si, že máme krabici se 40 očíslovanými žetony s čísly 1 –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jsou uvedeny absolutní i relativní četnosti jednotlivých čísel žeton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5689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12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12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12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12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2.4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008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40:28Z</dcterms:modified>
  <cp:revision>351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