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BF2-9D79-4330-BC41-958E9E1F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85A-2643-4AD9-9CF3-C089D30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68F-6B7B-497A-840A-E6B1EB80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3F7-917D-4C6E-A346-6A8C60BD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E91-11AE-4A63-8F8E-B2BC5072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2998-5CF1-4FA2-89FB-A884048C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B470-0C9F-4B2D-9E68-27AA55A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10B-3932-415F-8F97-53B2FE6A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E723-3912-48FF-B829-00771736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1EE-8B01-4039-9FA8-997E59A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B24-0C85-4A87-A7B4-786F9D3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63-C47D-4469-8EC1-C6A26FEB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D7B-0EE2-4A39-861E-F2483F7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920D-69B0-468B-885A-9FCC27F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078-1AAB-44EF-B0C3-A4067E70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AF81-E05B-47D9-A807-DF1F2258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F903-AF16-4C79-A4FC-068F18D4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5C9-E689-4D3A-AB41-4D78A73A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7E5-AAF8-44F2-AC33-18FE64F8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33-B02B-46B4-9B81-6547788D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438-1E17-4AAA-B140-73AF087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B04-1A70-4984-B807-B06806E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1D4-2EE8-42F1-A23D-0A29F67B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491-314D-46EE-81EB-7115056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EFA-5250-4999-9991-EA21ACCCFF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6F0-C851-4341-9B3D-AE31A65927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earsonův korelační koefici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polu souvisí pocit štěstí a míra extraver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0 osob, 2 proměnné – skór z dotazníku štěstí a skór ze škály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752480"/>
          <a:ext cx="482436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52480"/>
                    <a:ext cx="48243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205000"/>
          <a:ext cx="7920000" cy="2160360"/>
        </p:xfrm>
        <a:graphic>
          <a:graphicData uri="http://schemas.openxmlformats.org/drawingml/2006/table">
            <a:tbl>
              <a:tblPr/>
              <a:tblGrid>
                <a:gridCol w="2087640"/>
                <a:gridCol w="647640"/>
                <a:gridCol w="431640"/>
                <a:gridCol w="432000"/>
                <a:gridCol w="649080"/>
                <a:gridCol w="360360"/>
                <a:gridCol w="647640"/>
                <a:gridCol w="648000"/>
                <a:gridCol w="720720"/>
                <a:gridCol w="574560"/>
                <a:gridCol w="720720"/>
              </a:tblGrid>
              <a:tr h="103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těst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raver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počet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8880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716720" cy="507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268360" y="3068640"/>
            <a:ext cx="410400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3959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91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158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144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r = 91,9/( 158,9*144,9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c0000"/>
                </a:solidFill>
                <a:latin typeface="Verdana"/>
              </a:rPr>
              <a:t>r = 0,606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7664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16360" y="4005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4005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136000" cy="299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5364000" y="4220640"/>
            <a:ext cx="576360" cy="28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jaká hodnota r je považována za těsný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interpretace navržená Guilford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nedbatel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-0.4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říliš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40-0.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řed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70-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mi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extrém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lepší interpretaci je vhodné převést koeficient korelace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determinace (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kolik rozptylu v jedné proměnné může být vysvětleno rozptylem ve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ašem příkl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 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0,36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6,7% rozdílů v míře štěstí můžeme vysvětlit rozdíly v míře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intervalových a poměrových dat můžeme jako míru asociace – vztahu mezi proměnnými použí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 = s, spolu, vzájem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lace =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relace = vzájemný vztah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neznamená příčinný vztah mezi proměnnými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 můžeme ověřovat pouze experimentem, kdy jsou všechny ostatní proměnné udržovány konstatní, proměnná X předchází Y v čase at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y ovlivňující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homogenní soub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(outlie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iabilita použitých nást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ý rozsah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jedné nebo obou proměnných snižuje hodnotu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ejně tak nízká variabilita (extrémní případ:pokud by všechny hodnoty 1 proměnné byly stejné, zákonitě r=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605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extrémních skupin (např. jen osob s vysokým IQ) vede k vyššímu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06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homogenní soub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zkreslit r jak směrem nahoru, tak do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941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229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809720" y="4788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508464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043000" y="43243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333520" y="468468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414972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508120" y="437688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682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407664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391320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71628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381480" y="355284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5300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2428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084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472428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501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4508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4797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43700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5445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14972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5300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292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3860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789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3645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292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57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869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4581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4797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005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4437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429264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22100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436572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72428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149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v jedné nebo obou proměnných mohou r výrazně zkreslit (nejen hodnotu, ale i směr), zvláště když je počet osob v souboru níz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76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9640" y="2492280"/>
          <a:ext cx="3319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92280"/>
                    <a:ext cx="3319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88000" y="2492280"/>
          <a:ext cx="324792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92280"/>
                    <a:ext cx="324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ý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 je možno spočít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earmanův koeficient pořadov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á se tak, ž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y obou proměnných se seřadí od nejnižší po nejvyšší a přidělí se jim pořad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pořadí se pak počítá Pearsonův koeficient kore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ciální 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ciální korelace je taková korelace mezi dvěma proměnnými, kdy kontrolujeme vliv třetí proměnné na obě z ni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chceme zjistit, jaký je vztah mezi prospěchem na SŠ a prospěchem na VŠ; obě proměnné jsou nejspíš ovlivněny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em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atematický model vztahu mez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ěma nebo víc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z jedné proměnné nebo lineární kombinace více proměnných predikovat hodnoty dalš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bsolutní hodnota koeficientu vyjadř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ílu (těsnost)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sah -1 až +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a typy proměnných: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ova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závislá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tor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závisle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ovaná proměnná se označ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prediktory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…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ze 1 prediktor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oduch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prediktorů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 umožň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rozumět vztahům mezi proměnným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dikovat hodnoty proměnné Y z hodnot proměnné X (s určitou přesností) – např. z hodnot známek na střední škole nebo z počtu bodů u přijímacího testu předpovědět úspěšnost na V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 souvisí vzdělání respondenta se vzděláním otc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jak dobře můžeme předpovědět počet let formálního vzdělání respondenta z údaje o počtu let vzdělání jeho ot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63640" y="1700280"/>
          <a:ext cx="56880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5688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najít rovnici tzv.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egresní přím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aková přímka, od které je vzdálenost bodů (představujících naměřená data) co nejmén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ová přímka, která nejlépe vystihuj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8000" y="1844640"/>
          <a:ext cx="4978440" cy="42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44640"/>
                    <a:ext cx="497844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flipV="1">
            <a:off x="3059280" y="2923920"/>
            <a:ext cx="3097080" cy="10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etod, jak regresní přímku nalézt,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toda nejmenších čtver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volena taková přímka, kdy platí, že součet čtverců vzdáleností jednotlivých bodů od přímky je minim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stan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edikovaná hodnota Y, když hodnota X je 0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směrni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přímky (úhel přímky vzhledem k ose; kolikrát se Y zvětší s každou jednotkou X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říkladu vychází rovnice regresní přímky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 = 9,93 + 0,32*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ěti otců s 0 lety vzdělání předpovídáme necelých 10 let vzděl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 každým dalším rokem otcova vzdělání předpovídáme o 0,32 roku vzdělání respondenta ví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 pro děti otců s 12 lety vzdělání je predikovaná hodnota jejich vlastního vzdělání 13,8 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577440" cy="273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V="1">
            <a:off x="3132000" y="386028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32000" y="4149360"/>
            <a:ext cx="432000" cy="7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2781360"/>
            <a:ext cx="180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ám o sobě je deskriptivní statistikou, ale podobně jako u ostatních měr asociace je možno spočí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í na velikosti výběru – čím vyšší, tím nižší koeficient vychází průkaz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ujeme závislou proměnnou z více predi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každého z prediktorů na závislou proměnnou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trolov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liv všech ostatních prediktorů (jde tedy o  vliv „očištěný od vlivů ostatních proměnných a tudíž počítáme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arciál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koeficien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romě vzdělání ot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mít na dosažené vzdělání vliv také počet dětí v rodině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vnice regresní přímky 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10,68 + 0,30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– 0,13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vzdělání otce (b=0,30) je o něco menší než u jednoduché regresní analýzy (b=0,32) – je kontrolován pro počet dětí v rodině, který je zřejmě ovlivněn také vzděláním ot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počtu dětí v rodině je záporný – tj. čím více dětí, tím nižší vzděl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 nám umožní srovnat vliv všech prediktorů na závislou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dojít k závěru, že větší vliv na vzdělání respondenta má vzdělání otce než počet dětí v rodině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srovnávat vliv prediktorů měřených v různých jednotkách, je nutné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é regresní koefici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í, kolikrát vzroste hodnota závislé proměnné, pokud se změní hodnota prediktoru o 1 směrodatnou odchylku a hodnoty ostatních prediktorů přitom zůstanou konsta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5219640" y="4292640"/>
            <a:ext cx="432000" cy="28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364000" y="472392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2924280"/>
            <a:ext cx="180036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eta pro vzdělání otce je 0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očet dětí v rodině -0,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í vliv má tedy vzdělání otce než počet dětí v rod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regresních koeficientů je počítán také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orelace všech prediktorů se závislou proměnnou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lastně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relaci mez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zor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mi závislé proměnné a hodnotam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edik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na základě regresního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é determina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tzv. % vysvětleného rozptylu (závislé proměnné) lineární kombinací prediktorů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416720" cy="3198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20509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419640" y="357300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mír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uze pro 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 výpočtem je vhodné zobrazit vztah mezi proměnnými také graficky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cat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dvourozměrný tečkový diagr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jednoduché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ven korelaci mezi oběma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Testování hypotéz v regresní analýz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sou testovány 2 typy hypoté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) zda se R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analýzou rozptylu (porovnává rozptyl vysvětlený regresním modelem a reziduální rozpty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) zda se regresní koeficienty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t-teste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13600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>
            <a:off x="73087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V="1">
            <a:off x="7093080" y="414936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20000" y="4723920"/>
            <a:ext cx="43164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y v proměnných jsou nezávislé (nejde např. o opakovaná měř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á variabilita všech proměnný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proměnných je norm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malých výběrů zkontrolovat extrémní hodno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Y a každou X jsou lineár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kontrolovat scatter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ájemné korelace mezi prediktory nejsou příliš vysoké (tzv. problém mulikolineari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je vhodné buď některou z nich vyřadit, nebo z nich vytvořit např. faktorovou analýzou jeden skó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ě velký počet osob ve výběru vzhledem k počtu prediktorů v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vyjadřuje absolutní hodnota Pearsonova koeficientu korelace? a co jeho znaménko (+ nebo -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determin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může být zkreslen korelační koefici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el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 se interpretují regresní koeficien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vícenásobné korel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římá úměra) – čím vyšší hodnoty proměnné X, tím vyš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g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59280" y="2060640"/>
            <a:ext cx="3352680" cy="3733560"/>
            <a:chOff x="4859280" y="2060640"/>
            <a:chExt cx="3352680" cy="3733560"/>
          </a:xfrm>
        </p:grpSpPr>
        <p:sp>
          <p:nvSpPr>
            <p:cNvPr id="97" name=""/>
            <p:cNvSpPr/>
            <p:nvPr/>
          </p:nvSpPr>
          <p:spPr>
            <a:xfrm>
              <a:off x="4859280" y="206064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87800" y="2670120"/>
              <a:ext cx="2842200" cy="2386080"/>
              <a:chOff x="4987800" y="2670120"/>
              <a:chExt cx="2842200" cy="23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4987800" y="487980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44640" y="4956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3240" y="44989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92000" y="44989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4120" y="42703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7800" y="38131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59040" y="43466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11320" y="35082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7640" y="38894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16240" y="36608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20800" y="37368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22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780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30640" y="2670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epřímá úměra) – čím vyšší hodnoty proměnné X, tím niž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l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32360" y="1989000"/>
            <a:ext cx="3352680" cy="3733560"/>
            <a:chOff x="4932360" y="1989000"/>
            <a:chExt cx="3352680" cy="3733560"/>
          </a:xfrm>
        </p:grpSpPr>
        <p:sp>
          <p:nvSpPr>
            <p:cNvPr id="116" name=""/>
            <p:cNvSpPr/>
            <p:nvPr/>
          </p:nvSpPr>
          <p:spPr>
            <a:xfrm>
              <a:off x="4932360" y="198900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051240" y="3741480"/>
              <a:ext cx="99720" cy="10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60880" y="2598480"/>
              <a:ext cx="2842200" cy="2386080"/>
              <a:chOff x="5060880" y="2598480"/>
              <a:chExt cx="2842200" cy="238608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5060880" y="2674080"/>
                <a:ext cx="9936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17720" y="2598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746320" y="30556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365080" y="30556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127200" y="3284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432120" y="32079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584400" y="40456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660720" y="36651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889320" y="38937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193880" y="38170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652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70200" y="4427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6510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803720" y="4884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žádný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hodnoty proměnné X nesouvisí s hodnotami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892760" y="20368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9600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08720" y="2492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32720" y="3213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877080" y="2636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836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2000" y="3645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80000" y="3141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77080" y="4653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357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407664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96360" y="2996640"/>
            <a:ext cx="9972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2000" y="4941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451640" y="501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736040" y="4284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88320" y="48175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lineární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9162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0360" y="4005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35640" y="4868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4365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24360" y="4581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08720" y="5157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5636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5964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2000" y="4221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27640" y="3933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4364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78936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24720" y="3716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52472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101080" y="45079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4724280"/>
            <a:ext cx="7164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101080" y="494028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515772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236000" y="364500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0:25:57Z</dcterms:modified>
  <cp:revision>297</cp:revision>
  <dc:subject/>
  <dc:title>statisti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