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7C4-3052-4651-BA5F-088D10AB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0E1-9CBB-4B14-BB82-BBF325C0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D11-7AA6-4A89-B19A-70092CB2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6BB-D66A-487B-99DE-B447CC06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BB81-1576-41B6-A649-833B46EA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7D39-7E0F-443E-A83B-1D17A48B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F09B-66C2-40AB-8996-44EB9BFD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9892-93D0-4A1A-A64C-0F53FF3D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969F-2620-48FB-94C0-2BF8A695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CF45-57EF-4E49-A4DD-935CE76D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C4A1-EB35-44E4-9F9E-0B2FBAC0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6C8-BE4B-471C-BB85-D4C5F6D0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6E71-02DA-4F59-90A6-3EA4F725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C80D-C768-4DC4-9873-A474E48C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1D87-62BA-4C7A-BA3A-24062475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2C50-2DC2-4CE7-B6F1-72E98049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8BEC-E4F3-4F0F-A11B-6F2F6226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C8CB-18F4-4C2C-BDBC-2094E03D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A75-3434-4F8E-B569-BA3B494C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FCA-F32F-4DA7-AC00-E551BF28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7456-EC56-4215-81B9-311869CF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DA1-61F3-41A3-880F-E9ED8E0F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896-2D19-41F7-9FEC-01247088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5D15-A797-4AAB-BC21-1FDEBA32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7FE1-FDB8-488E-ADB0-7A271260B4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39D3-209B-46E6-B4B4-20D2F2B24F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ybrané multivariační techni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hluková analý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pologie na základě 18 proměnných by byla příliš složitá – je třeba tento počet sníži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utoři spočítali faktorovou analýzu a extrahovali 3 faktory (vysvětlovaly celkem 48% společného rozptyl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66640" y="1484280"/>
          <a:ext cx="8253360" cy="5075280"/>
        </p:xfrm>
        <a:graphic>
          <a:graphicData uri="http://schemas.openxmlformats.org/drawingml/2006/table">
            <a:tbl>
              <a:tblPr/>
              <a:tblGrid>
                <a:gridCol w="5157720"/>
                <a:gridCol w="1008360"/>
                <a:gridCol w="1152360"/>
                <a:gridCol w="93492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nevolnos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nechutenstv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závratě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žaludeční potíž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bolesti hlav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nervozita, nekl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třesení ruko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nespavo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náhlé zpocen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silný tlukot srd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nesoustředěno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noční mů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bolesti v pán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průjem, zácp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bolesti na prso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krční boles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bolesti v záde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dýchací potíž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cento rozptyl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vní faktor nazvali </a:t>
            </a:r>
            <a:r>
              <a:rPr b="1" lang="cs-CZ" sz="3000" spc="-1" strike="noStrike">
                <a:solidFill>
                  <a:srgbClr val="cc0000"/>
                </a:solidFill>
                <a:latin typeface="Verdana"/>
              </a:rPr>
              <a:t>nevolnosti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sytily ho především tyto potíž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vol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chutenstv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ávrat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žaludeční potíž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hlav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rvozita, nekl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ruhý faktor označili </a:t>
            </a:r>
            <a:r>
              <a:rPr b="1" lang="cs-CZ" sz="3000" spc="-1" strike="noStrike">
                <a:solidFill>
                  <a:srgbClr val="0000ff"/>
                </a:solidFill>
                <a:latin typeface="Verdana"/>
                <a:ea typeface="Tahoma"/>
              </a:rPr>
              <a:t>vegetativní obtíže</a:t>
            </a:r>
            <a:r>
              <a:rPr b="1" lang="cs-CZ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sytily ho především položky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řesení ruk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spav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áhlé zpoc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ilný tlukot srd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soustředěn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ční mů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řetí faktor označili </a:t>
            </a:r>
            <a:r>
              <a:rPr b="1" lang="cs-CZ" sz="3000" spc="-1" strike="noStrike">
                <a:solidFill>
                  <a:srgbClr val="6600cc"/>
                </a:solidFill>
                <a:latin typeface="Verdana"/>
              </a:rPr>
              <a:t>bolesti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sytily ho především tyto potíž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v pánv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ůjem, zácp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na prs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rční bole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v zád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ísto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ůvodních 18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měnných indikujících frekvenci zdravostních potíží měli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y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3 proměnné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lineární kombinace původní proměnných) – nevolnosti, vegetativní potíže a bole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 nimi pak pracovali při typologii (viz dá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louží k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lasifika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velkého počt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so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na základě jejich dat v určitých proměnných)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o několika málo shluků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nglické označení cluster analysis se někdy v českých textech překládá také jak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clusterová analýz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zájemce o podrobnosti o využití metod shlukové analýzy v psychologii doporučuji publikac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secká, L. (2001). Typologie v psychologii. Praha, Academi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vazuje na příklad aplikace faktorové analýz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utoři se snažili identifikovat skupiny (shluky) adolescentů, kteří jsou si podobní ve svých zdravotních obtíží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žili 3 proměnné vytvořené na základě FA – nevolnosti, vegetativní potíže a bole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ude uveden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ýsledek pro 4 shluk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v grafu na následujícím snímku jsou průměrná faktorová skóre v použitých 3 proměnných pro osoby klasifikované do daného shluk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sledky pro vyšší počty shluků viz citovaná publikace Osecké, kapitola 1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cíle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aktorové analýzy (exploratorní) 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redukce dat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zmenšení počtu proměnných odstraněním nadbytečných proměnných (tj. těsně korelujících s ostatními proměnným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idetifikace struktury dat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prozkoumat vztahy mezi proměnným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76327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soby v prvním shluku si stěžují především na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bolest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zčásti také na vegetativní potíž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dolescenty ve druhém shluku trápí hlavně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evol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soby ve třetím shluku trpí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egetativním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obtíže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soby ve čtvrtém shluku tvořily největší část souboru – trpěly pouze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do určité míry bolestm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průměrně),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úroveň ostatních zdravotních stesků u nich byla podprůměrná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ýsledke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aktorové analýzy (exploratorní) je vytvoření několika hypotetických proměnných –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aktorů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ěkdy bývají nazývány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latent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měnn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y jsou lineárními kombinacemi původních proměnný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světlují vztahy mezi původními proměn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extrak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aktorů – na základě matice vztahů mezi proměnnými (např. korelační matic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če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extrahovaných faktorů – do značné míry závisí na rozhodnutí výzkumník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ílem je vysvětlit co největší množství společného rozptylu co nejmenším počtem faktor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terpret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aktorů – faktorová analýza sama o sobě nenabídne označení faktorů (to je opět na výzkumníkov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 bývá označen na základě proměnných, které k němu mají nejtěsnější vztah (nejvyšší tzv. faktorové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áboj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t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aktorového řešení – usnadní interpretaci fakt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tace může být ortogonální (tj. předpokládá, že faktory jsou nezávislé) nebo šikmá (předpoklad korelace mezi faktor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aplikace F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secká, L., Řehulková, O., Macek, P. (1998).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dravotní stesky adolescentů: struktura a rozdíly mezi pohlavím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borník konference Sociální procesy a osobnost, MU Brn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ílem studie bylo mj.vytvořit typologii adolescentů na základě jejich zdravotních obtíž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dolescenti v dotazníku označili, jak často trpí každou z 18 nabídnutých zdravotních obtíž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hlav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ýchací potíž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žaludeční potíž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ávrat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chutenstv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rvozita, nekl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spav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ční mů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soustředěn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vol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ilný tlukot srd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řesení ruk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áhlé zpoc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ůjem, zácp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v zád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rční bole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na prs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v pánv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 Klimusová</cp:lastModifiedBy>
  <dcterms:modified xsi:type="dcterms:W3CDTF">2003-05-18T23:36:46Z</dcterms:modified>
  <cp:revision>283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