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775-8A83-4E82-B515-0D13670A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26D-7B18-46E8-86EB-4754B1B2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DA1-5753-4C4F-8F65-7FA000D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7BF-4677-4D7D-9EE9-0E5A0935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F49-3636-4869-8A43-0D917C5C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0435-3C46-4892-B8A8-11A16E8D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DD14-1734-4D8D-9516-455D83ED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0548-7FA7-40C0-9602-EB81D1FC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5D50-4617-434D-8ABA-09E7453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E988-0BB8-4025-96C5-669A33FF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D73F-919C-402D-BE67-CE977EF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632-4A85-46E2-826B-8590020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5EB-6113-4A04-9B7D-5FFFA99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244-CF40-42B5-9248-2525534C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41F3-D8FD-4003-8952-FFB203F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062B-83A7-4DA3-9DC1-ACDAA12D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A992-016E-436F-B1C8-6D812E90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645-FB76-4711-94C3-1FE3A19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52C-92B5-4ED6-B619-97EBCA31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2B5-68B3-4E15-AF8E-94F1E32C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8AC-C7F8-4319-83A2-979E4145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6C5-FAAC-48F9-B3CB-14673AC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8AB-D11F-4F7B-AA9F-D01E2AF4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DC-4CF3-4332-B141-254A41A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F53F-D919-45EA-8A67-BE8DF77B95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B61-86CC-4DCB-AC08-03140835A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é a intervalov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trukce intervalu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 podílů (kategoriální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10 = 1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1.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3.33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0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ýbě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bude mezi hodnotam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5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(94-100) / 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-6/3 = -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= (106-100) /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6/3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deme v tabulce normovaného normálního rozdělení hodnotu pravděpodobnosti pro z=2 a z=-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a je 0,02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hromady 0,04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ečteme od 1,0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ek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 takového průměru je 95,4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třebujeme zjistit hodnotu z, která odděluje pravděpodobnost 10% na obou stranách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4760" y="2378160"/>
            <a:ext cx="60451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1,28 a -1,28 převedeme na hodnoty IQ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pro 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2452680"/>
            <a:ext cx="6048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x 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+ z*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1,28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+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03,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(-1,28)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-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96,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rozsahu hodnot bude pravděpodobně středních 80% všech průměrů výběrů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výběrových průměrů bude v rozsahu hodnot 96,16 - 103,8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znali hodnoty průměru a rozptyl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e tomu ale bývá přesně naopak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y (statistiky) výběru a neznáme hodnoty (parametry)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 chceme z výběr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: bodové a intervalov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odový odh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užijeme průměr vzorku a odhadneme, že se rovná průměru popu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čím větší výbě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je problematický v tom, že dva různé výběry nám mohou dát dva různ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obsah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žádn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 jeh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č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přesnost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snost odhadu závisí na dvou charakteristiká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ětší n, tím menší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hodnot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yšší, tím vyšší i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rozsah (interval) hodnot, který s určitou pravděpodobností obsahuje hledanou hodnotu paramet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aložen n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ém odh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ikosti výb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ariabilitě znaku v populaci (známé nebo rovněž odhadova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ý průměr určité hodnoty může pocházet z populací o různých průměr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můžeme jednoznačně určit hodnotu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744560"/>
            <a:ext cx="6048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se místo toho snažíme určit, jaký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žný rozsah hodnot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populace (tj. s jakou hodnotou průměru) by mohly být pravděpodobným zdrojem našeho vzork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které populace nejpravděpodobněji pochází výběr, jehož průměr je v následujícím grafu naznačen svislou čaro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VP pro populace I-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2084400"/>
            <a:ext cx="698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 pocház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pravděpodobněji z populace II nebo II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éně pravděpodobně z populace 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velmi málo pravděpodobně z populace I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ový odhad spočívá v konstrukci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u spolehlivost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confidence interval) – rozsahu hodnot, ve kterém s určitou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prve je třeba s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ovit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úroveň přesnosti(spolehlivosti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á je např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snažíme se najít interval hodnot, ve kterém s 95%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t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rozsah, ve kterém bude ležet středních 95% hodnot (výběrových průměrů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,5% na každé straně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mu odpovídají hodnoty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-1,96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9138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 - výpoč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35280" y="2349360"/>
            <a:ext cx="57308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1701720"/>
            <a:ext cx="5975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pretace intervalu spolehlivosti: máme 95% pravděpodobnost, že se v tomto intervalu nacház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 populace vybrali 100 náhodných výběrů o velikosti n a pro každý z nich sestrojili tento interval, 95 intervalů by obsahovalo průměr populace a 5 nikoliv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líbený omy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95% intervalu spolehlivosti leží 95% hodnot populace (NEPLATÍ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95% intervalu spolehlivosti se používá také např. 99% a 90% 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36 dětí, průměrné IQ vzorku = 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ákladě tohoto zjištění odhadněte průměrné IQ populace, ze které děti pocházejí (sestavte 95% interval spolehlivost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ý odhad: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počet výběrové chyby (směrodatné odchylky RVP)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36 = 15/6 =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anovení úrovně spolehlivosti: 9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ro 95%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normálního rozdělení najdeme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95% : 1,96 a -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výběrovému průměru přičteme (pro horní hranici intervalu) a odečteme (pro spodní hranici) výběrovou chybu, vynásobenou hodnot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5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1,96*2,5 = 100,9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1,96*2,5 = 91,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5% interval spolehlivosti je 91,1 – 100,9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,5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2,57*2,5 = 102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2,57*2,5 = 89,5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9% interval spolehlivosti je 89,6 – 102,4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nejčastěji užívané pravděpodobnost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0% (zbývá 5% + 5%)       z= +/- 1,6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5% (zbývá 2,5% + 2,5%)  z= +/- 1,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9% (zbývá 0,5% + 0,5%)  z= +/- 2,57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předpokládali, 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u variability znaku v popul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skutečnosti je tomu tak však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říd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roto nutn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ároveň s průměrem i hodnotu směrodatné odchyl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známé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730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hradíme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měr. odchylku výběrového průměru), pak musíme při konstrukci intervalu spolehlivosti míst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udentovo t rozděl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nám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10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 také zvonovitý tvar, ale je více ploché než 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symetrické kolem průměru (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velikost výběru (počet stupňů volnosti, df) existuje odlišné t rozdělení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n-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4963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rozdělení má vyšší variabili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ce plochy na okrajích, méně ve stř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hledem k vyšší variabilitě budou intervaly spolehlivosti širší než u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uváděny df obvykle jen do 100, protože pro n=100 se t rozdělení blíž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t-rozdělení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řádek udává hodnoty t pro celé rozdělení pro daný počet stupňů volnosti (tj. n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oupce pro nejdůležitější percent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108000" y="1752480"/>
            <a:ext cx="10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4167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kategoriálních proměnných nemůžeme počítat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ujeme 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ých kategori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odíl kuřáků v populaci českých adolesc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pacientů s rakovinou plic, kteří přežijí 5 let od diagnó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chlapců mezi dětmi s poruchou pozor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zkoumáme místo celé populace pouze výběr z ní, nezajímá nás tolik, jaký je podíl kategorií proměnné ve výběru (četno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spíše jaký je skutečný podíl v populaci – četnost </a:t>
            </a: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dostatečně velkém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latí i pro rozdělení podílů centrální limitní vě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dělení výběrových podílů je normální rozdělení, s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měrnou četností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směrodatnou odchylkou (výběrovou chybo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476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 zjistit, jaká je podpora odsunu hlavního nádraží v Br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z populace brněnských občanů starších 18 let n=1000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85 osob se vyjádřilo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něte s 95% spolehlivostí podporu odsunu nádraž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val spolehlivosti pro podíly se spočítá podobně jako pro průměr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165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můžeme však spočítat výběrovou chybu, protože neznáme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omto případě je však možné dosadit místo toh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přitom použít normální rozdělení (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, pak dosadíme místo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u 0,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(p)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,585(1-0,585)/1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0,1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 spolehlivosti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1.96(0.015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0,03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 odhadu je ± 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781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56000" y="2637000"/>
            <a:ext cx="144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708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95% pravděpodobností je podíl osob souhlasících se odsunem nádraží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55.4% a 61.6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máme 95% pravděpodobnost, že kdyby se v době průzkumu hlasovalo, bude většina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tah mezi velikostí vzorku a přesností odh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7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96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žadovaná velikost vzorku roste mnohem rychleji než spolehlivost odhadu (pro zdojnásobení spolehlivosti je nutné asi čtyřnásobně zvětšit vzore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při plánování výzkumu – jakou přesnost potřebujeme? jaké budou náklad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ý vztah platí pro odhad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šířka intervalu spolehlivost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ení nutno znát zpaměti vzorce, ale je třeba chápat princip výpočt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 velikosti výběru a spolehlivosti odh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1.0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1587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57:07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