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05029-F85A-4296-8EBC-4B6DF43BE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F680E-14A8-4891-B01B-CC8DB386D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968CB-C138-46FB-931A-1DE3934A7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3220A-133A-4D79-BAF0-3BC09B2AB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155F4-354A-4BC1-B063-841569757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9F75F-F73C-4057-BCB0-2B1E28F20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DF9B1-2C61-4E4C-AB47-1210EDEF2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CAB0A-D37D-4990-9328-AFA04445B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9F5DA-BE22-49B7-9225-F45B087E6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E99DE-E8C8-4E24-9984-A5EDAFC9E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7C863-0A69-4104-B592-4897DC412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C44C8-E039-4792-BB64-19538E321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8E2E8-74F2-430C-8414-BE43BE9D0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12528-8D5C-44C8-8879-D369C98D1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00921-615E-4006-8962-F89B889DD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04BAF-1E77-4EAC-B3EC-BACAB272D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457EE-AC1B-481E-8700-A27521655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1FC1B-DD0B-4ACA-968C-80C6EF95A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7A5FB-2FA8-453B-A110-4F8671B1D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88693-1AF0-45F8-AD85-CE6D47CA3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C308D-AF24-4A78-AAB8-E6B6B095F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1BA6D-D0E2-492E-9BC3-3A353A595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4C4B5-5BD5-45D9-880B-D4C5670A8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29CA3-EC7E-4479-B6ED-5A0ABE8B5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8650-AAE4-4308-9333-EC77809629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8639-2920-4637-997E-2992C80213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eec94"/>
                </a:solidFill>
                <a:uFillTx/>
                <a:latin typeface="Times New Roman"/>
              </a:rPr>
              <a:t>KAŽDODENNOST A MÉDIA</a:t>
            </a:r>
            <a:endParaRPr b="1" lang="en-US" sz="3200" spc="-1" strike="noStrike">
              <a:solidFill>
                <a:srgbClr val="feec94"/>
              </a:solidFill>
              <a:latin typeface="Times New Roman"/>
            </a:endParaRPr>
          </a:p>
        </p:txBody>
      </p:sp>
      <p:sp>
        <p:nvSpPr>
          <p:cNvPr id="121" name="PlaceHolder 2"/>
          <p:cNvSpPr>
            <a:spLocks noGrp="1"/>
          </p:cNvSpPr>
          <p:nvPr>
            <p:ph type="subTitle"/>
          </p:nvPr>
        </p:nvSpPr>
        <p:spPr>
          <a:xfrm>
            <a:off x="0" y="691920"/>
            <a:ext cx="9144000" cy="6165720"/>
          </a:xfrm>
          <a:prstGeom prst="rect">
            <a:avLst/>
          </a:prstGeom>
          <a:noFill/>
          <a:ln w="0">
            <a:noFill/>
          </a:ln>
        </p:spPr>
        <p:txBody>
          <a:bodyPr lIns="90000" rIns="90000" tIns="46800" bIns="46800" anchor="t">
            <a:no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SAH PŘEDNÁŠKY:</a:t>
            </a:r>
            <a:endParaRPr b="0" lang="en-US" sz="28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CÍL A STRUKTURA KURZU</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TEORIE KAŽDODENNOSTI – ZÁKLADNÍ VYMEZENÍ</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EMINÁŘ: PROJEKCE „každodennost jako nástroj filmového vyprávěn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2800" spc="-1" strike="noStrike">
                <a:solidFill>
                  <a:srgbClr val="feec94"/>
                </a:solidFill>
                <a:latin typeface="Times New Roman"/>
              </a:rPr>
              <a:t>LEBENSWELT</a:t>
            </a:r>
            <a:endParaRPr b="1" lang="en-US" sz="2800" spc="-1" strike="noStrike">
              <a:solidFill>
                <a:srgbClr val="feec94"/>
              </a:solidFill>
              <a:latin typeface="Times New Roman"/>
            </a:endParaRPr>
          </a:p>
        </p:txBody>
      </p:sp>
      <p:sp>
        <p:nvSpPr>
          <p:cNvPr id="13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čátky užívání kategorie </a:t>
            </a:r>
            <a:r>
              <a:rPr b="1" lang="cs-CZ" sz="2800" spc="-1" strike="noStrike">
                <a:solidFill>
                  <a:srgbClr val="ffffff"/>
                </a:solidFill>
                <a:latin typeface="Times New Roman"/>
              </a:rPr>
              <a:t>každodennost</a:t>
            </a:r>
            <a:r>
              <a:rPr b="0" lang="cs-CZ" sz="2800" spc="-1" strike="noStrike">
                <a:solidFill>
                  <a:srgbClr val="ffffff"/>
                </a:solidFill>
                <a:latin typeface="Times New Roman"/>
              </a:rPr>
              <a:t> můžeme nalézt v Husserlově fenomenologii. Pojem </a:t>
            </a:r>
            <a:r>
              <a:rPr b="1" lang="cs-CZ" sz="2800" spc="-1" strike="noStrike">
                <a:solidFill>
                  <a:srgbClr val="ffffff"/>
                </a:solidFill>
                <a:latin typeface="Times New Roman"/>
              </a:rPr>
              <a:t>„Lebenswelt“</a:t>
            </a:r>
            <a:r>
              <a:rPr b="0" lang="cs-CZ" sz="2800" spc="-1" strike="noStrike">
                <a:solidFill>
                  <a:srgbClr val="ffffff"/>
                </a:solidFill>
                <a:latin typeface="Times New Roman"/>
              </a:rPr>
              <a:t> (životní svět) představuje </a:t>
            </a:r>
            <a:r>
              <a:rPr b="0" lang="cs-CZ" sz="2800" spc="-1" strike="noStrike">
                <a:solidFill>
                  <a:srgbClr val="feec94"/>
                </a:solidFill>
                <a:latin typeface="Times New Roman"/>
              </a:rPr>
              <a:t>každodenní sféru, ve které se odehrává běžné vědomí, sféru která není zpochybňována</a:t>
            </a:r>
            <a:r>
              <a:rPr b="0" lang="cs-CZ" sz="2800" spc="-1" strike="noStrike">
                <a:solidFill>
                  <a:srgbClr val="ffffff"/>
                </a:solidFill>
                <a:latin typeface="Times New Roman"/>
              </a:rPr>
              <a:t>. Je považována za </a:t>
            </a:r>
            <a:r>
              <a:rPr b="1" lang="cs-CZ" sz="2800" spc="-1" strike="noStrike" u="sng">
                <a:solidFill>
                  <a:srgbClr val="feec94"/>
                </a:solidFill>
                <a:uFillTx/>
                <a:latin typeface="Times New Roman"/>
              </a:rPr>
              <a:t>samozřejmou</a:t>
            </a:r>
            <a:r>
              <a:rPr b="1" lang="cs-CZ" sz="2800" spc="-1" strike="noStrike">
                <a:solidFill>
                  <a:srgbClr val="ffffff"/>
                </a:solidFill>
                <a:latin typeface="Times New Roman"/>
              </a:rPr>
              <a:t>.</a:t>
            </a:r>
            <a:r>
              <a:rPr b="0" lang="cs-CZ" sz="2800" spc="-1" strike="noStrike">
                <a:solidFill>
                  <a:srgbClr val="ffffff"/>
                </a:solidFill>
                <a:latin typeface="Times New Roman"/>
              </a:rPr>
              <a:t> To, že se v této souvislosti hovoří o světě zdravého rozumu </a:t>
            </a:r>
            <a:r>
              <a:rPr b="1" lang="cs-CZ" sz="2800" spc="-1" strike="noStrike">
                <a:solidFill>
                  <a:srgbClr val="ffffff"/>
                </a:solidFill>
                <a:latin typeface="Times New Roman"/>
              </a:rPr>
              <a:t>„common sense“ nemá nic společného se substanciální racionalitou jako myšlenkovým procesem.</a:t>
            </a:r>
            <a:r>
              <a:rPr b="0" lang="cs-CZ" sz="2800" spc="-1" strike="noStrike">
                <a:solidFill>
                  <a:srgbClr val="ffffff"/>
                </a:solidFill>
                <a:latin typeface="Times New Roman"/>
              </a:rPr>
              <a:t> Jde maximálně o </a:t>
            </a:r>
            <a:r>
              <a:rPr b="1" lang="cs-CZ" sz="2800" spc="-1" strike="noStrike">
                <a:solidFill>
                  <a:srgbClr val="feec94"/>
                </a:solidFill>
                <a:latin typeface="Times New Roman"/>
              </a:rPr>
              <a:t>racionalitu instrumentální či spíše o pragmatické reagovaní na svět, který vnímám jako daný.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orozumět zde neznamená nutně pochopit, ale spíše </a:t>
            </a:r>
            <a:r>
              <a:rPr b="1" lang="cs-CZ" sz="2800" spc="-1" strike="noStrike">
                <a:solidFill>
                  <a:srgbClr val="feec94"/>
                </a:solidFill>
                <a:latin typeface="Times New Roman"/>
              </a:rPr>
              <a:t>využí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nebo možná jen „</a:t>
            </a:r>
            <a:r>
              <a:rPr b="1" lang="cs-CZ" sz="2800" spc="-1" strike="noStrike">
                <a:solidFill>
                  <a:srgbClr val="feec94"/>
                </a:solidFill>
                <a:latin typeface="Times New Roman"/>
              </a:rPr>
              <a:t>užít“</a:t>
            </a:r>
            <a:r>
              <a:rPr b="1" lang="cs-CZ" sz="2800" spc="-1" strike="noStrike">
                <a:solidFill>
                  <a:srgbClr val="ffffff"/>
                </a:solidFill>
                <a:latin typeface="Times New Roman"/>
              </a:rPr>
              <a:t> s cílem </a:t>
            </a:r>
            <a:r>
              <a:rPr b="1" lang="cs-CZ" sz="2800" spc="-1" strike="noStrike">
                <a:solidFill>
                  <a:srgbClr val="feec94"/>
                </a:solidFill>
                <a:latin typeface="Times New Roman"/>
              </a:rPr>
              <a:t>„přeží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STRUKTURY SMYSLU</a:t>
            </a:r>
            <a:endParaRPr b="1" lang="en-US" sz="4000" spc="-1" strike="noStrike">
              <a:solidFill>
                <a:srgbClr val="feec94"/>
              </a:solidFill>
              <a:latin typeface="Times New Roman"/>
            </a:endParaRPr>
          </a:p>
        </p:txBody>
      </p:sp>
      <p:sp>
        <p:nvSpPr>
          <p:cNvPr id="13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le Alfreda Schutze se každodennost jako životní svět uzavírá do </a:t>
            </a:r>
            <a:r>
              <a:rPr b="1" lang="cs-CZ" sz="3200" spc="-1" strike="noStrike">
                <a:solidFill>
                  <a:srgbClr val="ffffff"/>
                </a:solidFill>
                <a:latin typeface="Times New Roman"/>
              </a:rPr>
              <a:t>„struktur smyslu“</a:t>
            </a:r>
            <a:r>
              <a:rPr b="0" lang="cs-CZ" sz="3200" spc="-1" strike="noStrike">
                <a:solidFill>
                  <a:srgbClr val="ffffff"/>
                </a:solidFill>
                <a:latin typeface="Times New Roman"/>
              </a:rPr>
              <a:t> (finite province of meaning).</a:t>
            </a:r>
            <a:r>
              <a:rPr b="1" lang="cs-CZ" sz="3200" spc="-1" strike="noStrike">
                <a:solidFill>
                  <a:srgbClr val="ffffff"/>
                </a:solidFill>
                <a:latin typeface="Times New Roman"/>
              </a:rPr>
              <a:t> </a:t>
            </a:r>
            <a:r>
              <a:rPr b="0" lang="cs-CZ" sz="3200" spc="-1" strike="noStrike">
                <a:solidFill>
                  <a:srgbClr val="ffffff"/>
                </a:solidFill>
                <a:latin typeface="Times New Roman"/>
              </a:rPr>
              <a:t>Jde de facto o mikrosvěty, do kterých můžeme zahrnovat i </a:t>
            </a:r>
            <a:r>
              <a:rPr b="0" lang="cs-CZ" sz="3200" spc="-1" strike="noStrike">
                <a:solidFill>
                  <a:srgbClr val="feec94"/>
                </a:solidFill>
                <a:latin typeface="Times New Roman"/>
              </a:rPr>
              <a:t>svět snů, svět divadla, svět náboženství, svět hry, svět fantazie</a:t>
            </a:r>
            <a:r>
              <a:rPr b="0" lang="cs-CZ" sz="3200" spc="-1" strike="noStrike">
                <a:solidFill>
                  <a:srgbClr val="ffffff"/>
                </a:solidFill>
                <a:latin typeface="Times New Roman"/>
              </a:rPr>
              <a:t> apod.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Každodennost představuje </a:t>
            </a:r>
            <a:r>
              <a:rPr b="1" lang="cs-CZ" sz="3200" spc="-1" strike="noStrike" u="sng">
                <a:solidFill>
                  <a:srgbClr val="feec94"/>
                </a:solidFill>
                <a:uFillTx/>
                <a:latin typeface="Times New Roman"/>
              </a:rPr>
              <a:t>svrchovanou realitu</a:t>
            </a:r>
            <a:r>
              <a:rPr b="1" lang="cs-CZ" sz="3200" spc="-1" strike="noStrike" u="sng">
                <a:solidFill>
                  <a:srgbClr val="ffffff"/>
                </a:solidFill>
                <a:uFillTx/>
                <a:latin typeface="Times New Roman"/>
              </a:rPr>
              <a:t>,</a:t>
            </a:r>
            <a:r>
              <a:rPr b="0" lang="cs-CZ" sz="3200" spc="-1" strike="noStrike">
                <a:solidFill>
                  <a:srgbClr val="ffffff"/>
                </a:solidFill>
                <a:latin typeface="Times New Roman"/>
              </a:rPr>
              <a:t> prvotní svět s nímž se dostáváme do styku. Všechny ostatní  světy jsou odvozené.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Můžeme ignorovat všechny standardní sociálněvědné kategorie, ale </a:t>
            </a:r>
            <a:r>
              <a:rPr b="1" lang="cs-CZ" sz="3200" spc="-1" strike="noStrike">
                <a:solidFill>
                  <a:srgbClr val="feec94"/>
                </a:solidFill>
                <a:latin typeface="Times New Roman"/>
              </a:rPr>
              <a:t>nemůžeme se vyvázat z každodennosti.</a:t>
            </a:r>
            <a:r>
              <a:rPr b="0" lang="cs-CZ" sz="3200" spc="-1" strike="noStrike">
                <a:solidFill>
                  <a:srgbClr val="feec94"/>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Náš vztah ke každodennosti je charakterizován:</a:t>
            </a:r>
            <a:br>
              <a:rPr sz="2800"/>
            </a:br>
            <a:endParaRPr b="1" lang="en-US" sz="2800" spc="-1" strike="noStrike">
              <a:solidFill>
                <a:srgbClr val="feec94"/>
              </a:solidFill>
              <a:latin typeface="Times New Roman"/>
            </a:endParaRPr>
          </a:p>
        </p:txBody>
      </p:sp>
      <p:sp>
        <p:nvSpPr>
          <p:cNvPr id="140"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neproblematickým, receptivním vztah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vlastnictvím specifického vědění – </a:t>
            </a:r>
            <a:r>
              <a:rPr b="0" lang="cs-CZ" sz="2800" spc="-1" strike="noStrike">
                <a:solidFill>
                  <a:srgbClr val="ffffff"/>
                </a:solidFill>
                <a:latin typeface="Times New Roman"/>
              </a:rPr>
              <a:t>(stock-knowledge-at hand)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primárně pragmatickým přístup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specifičností biografických situací jednotlivých aktérů, která vede k tomu, že lidé nepřikládají různým elementů zakoušené každodennosti stejné významy, byť jde o strukturálně stejné situace. </a:t>
            </a:r>
            <a:r>
              <a:rPr b="1" lang="cs-CZ" sz="2800" spc="-1" strike="noStrike">
                <a:solidFill>
                  <a:srgbClr val="feec94"/>
                </a:solidFill>
                <a:latin typeface="Times New Roman"/>
              </a:rPr>
              <a:t>Liší se totiž jejich systémy relevan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porozumění je tak v této perspektivě možné jen proto, že používáme podobné prostředky </a:t>
            </a:r>
            <a:r>
              <a:rPr b="1" lang="cs-CZ" sz="2800" spc="-1" strike="noStrike">
                <a:solidFill>
                  <a:srgbClr val="feec94"/>
                </a:solidFill>
                <a:latin typeface="Times New Roman"/>
              </a:rPr>
              <a:t>„typizace situací“</a:t>
            </a:r>
            <a:r>
              <a:rPr b="1" lang="cs-CZ" sz="2800" spc="-1" strike="noStrike">
                <a:solidFill>
                  <a:srgbClr val="ffffff"/>
                </a:solidFill>
                <a:latin typeface="Times New Roman"/>
              </a:rPr>
              <a:t> (typifikace), které činí svět předvídatelný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4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Je „každodennost“ tématem </a:t>
            </a:r>
            <a:r>
              <a:rPr b="1" lang="cs-CZ" sz="2800" spc="-1" strike="noStrike">
                <a:solidFill>
                  <a:srgbClr val="ffffff"/>
                </a:solidFill>
                <a:latin typeface="Times New Roman"/>
              </a:rPr>
              <a:t>výjimečného, individuálního</a:t>
            </a:r>
            <a:r>
              <a:rPr b="1" lang="cs-CZ" sz="2800" spc="-1" strike="noStrike">
                <a:solidFill>
                  <a:srgbClr val="feec94"/>
                </a:solidFill>
                <a:latin typeface="Times New Roman"/>
              </a:rPr>
              <a:t> jednání nebo je třeba chápat ji jako </a:t>
            </a:r>
            <a:r>
              <a:rPr b="1" lang="cs-CZ" sz="2800" spc="-1" strike="noStrike">
                <a:solidFill>
                  <a:srgbClr val="ffffff"/>
                </a:solidFill>
                <a:latin typeface="Times New Roman"/>
              </a:rPr>
              <a:t>obecnou, sklenující strukturu</a:t>
            </a:r>
            <a:r>
              <a:rPr b="1" lang="cs-CZ" sz="2800" spc="-1" strike="noStrike">
                <a:solidFill>
                  <a:srgbClr val="feec94"/>
                </a:solidFill>
                <a:latin typeface="Times New Roman"/>
              </a:rPr>
              <a:t>, která spojuje velké skupiny lidí?</a:t>
            </a:r>
            <a:endParaRPr b="1" lang="en-US" sz="2800" spc="-1" strike="noStrike">
              <a:solidFill>
                <a:srgbClr val="feec94"/>
              </a:solidFill>
              <a:latin typeface="Times New Roman"/>
            </a:endParaRPr>
          </a:p>
        </p:txBody>
      </p:sp>
      <p:sp>
        <p:nvSpPr>
          <p:cNvPr id="14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pojení </a:t>
            </a:r>
            <a:r>
              <a:rPr b="1" lang="cs-CZ" sz="2800" spc="-1" strike="noStrike">
                <a:solidFill>
                  <a:srgbClr val="ffffff"/>
                </a:solidFill>
                <a:latin typeface="Times New Roman"/>
              </a:rPr>
              <a:t>„každodenní život“</a:t>
            </a:r>
            <a:r>
              <a:rPr b="0" lang="cs-CZ" sz="2800" spc="-1" strike="noStrike">
                <a:solidFill>
                  <a:srgbClr val="ffffff"/>
                </a:solidFill>
                <a:latin typeface="Times New Roman"/>
              </a:rPr>
              <a:t>  v sobě nese </a:t>
            </a:r>
            <a:r>
              <a:rPr b="1" lang="cs-CZ" sz="2800" spc="-1" strike="noStrike">
                <a:solidFill>
                  <a:srgbClr val="ffffff"/>
                </a:solidFill>
                <a:latin typeface="Times New Roman"/>
              </a:rPr>
              <a:t>cosi </a:t>
            </a:r>
            <a:r>
              <a:rPr b="1" lang="cs-CZ" sz="2800" spc="-1" strike="noStrike">
                <a:solidFill>
                  <a:srgbClr val="feec94"/>
                </a:solidFill>
                <a:latin typeface="Times New Roman"/>
              </a:rPr>
              <a:t>záhadného či alespoň ne zcela zachytitelného</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je klíčový sektor, do kterého bychom mohli </a:t>
            </a:r>
            <a:r>
              <a:rPr b="1" lang="cs-CZ" sz="2800" spc="-1" strike="noStrike">
                <a:solidFill>
                  <a:srgbClr val="ffffff"/>
                </a:solidFill>
                <a:latin typeface="Times New Roman"/>
              </a:rPr>
              <a:t>umístit chudobu i bohatství každodenního života, který je současně </a:t>
            </a:r>
            <a:r>
              <a:rPr b="1" lang="cs-CZ" sz="2800" spc="-1" strike="noStrike">
                <a:solidFill>
                  <a:srgbClr val="feec94"/>
                </a:solidFill>
                <a:latin typeface="Times New Roman"/>
              </a:rPr>
              <a:t>nekonečně bohatý</a:t>
            </a:r>
            <a:r>
              <a:rPr b="1" lang="cs-CZ" sz="2800" spc="-1" strike="noStrike">
                <a:solidFill>
                  <a:srgbClr val="ffffff"/>
                </a:solidFill>
                <a:latin typeface="Times New Roman"/>
              </a:rPr>
              <a:t> (alespoň potenciálně) a nekonečně </a:t>
            </a:r>
            <a:r>
              <a:rPr b="1" lang="cs-CZ" sz="2800" spc="-1" strike="noStrike">
                <a:solidFill>
                  <a:srgbClr val="feec94"/>
                </a:solidFill>
                <a:latin typeface="Times New Roman"/>
              </a:rPr>
              <a:t>prázdný či odcizený</a:t>
            </a:r>
            <a:r>
              <a:rPr b="0" lang="cs-CZ" sz="2800" spc="-1" strike="noStrike">
                <a:solidFill>
                  <a:srgbClr val="feec94"/>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de</a:t>
            </a:r>
            <a:r>
              <a:rPr b="0" lang="cs-CZ" sz="2800" spc="-1" strike="noStrike">
                <a:solidFill>
                  <a:srgbClr val="ffffff"/>
                </a:solidFill>
                <a:latin typeface="Times New Roman"/>
              </a:rPr>
              <a:t> se dá taková zážitková kvalita identifikovat?</a:t>
            </a:r>
            <a:r>
              <a:rPr b="1" lang="cs-CZ" sz="2800" spc="-1" strike="noStrike">
                <a:solidFill>
                  <a:srgbClr val="ffffff"/>
                </a:solidFill>
                <a:latin typeface="Times New Roman"/>
              </a:rPr>
              <a:t> </a:t>
            </a:r>
            <a:r>
              <a:rPr b="1" lang="cs-CZ" sz="2800" spc="-1" strike="noStrike" u="sng">
                <a:solidFill>
                  <a:srgbClr val="ffffff"/>
                </a:solidFill>
                <a:uFillTx/>
                <a:latin typeface="Times New Roman"/>
              </a:rPr>
              <a:t>Kde se z pohledu této kategorie odehrávají klíčové interakce</a:t>
            </a:r>
            <a:r>
              <a:rPr b="0" lang="cs-CZ" sz="2800" spc="-1" strike="noStrike">
                <a:solidFill>
                  <a:srgbClr val="ffffff"/>
                </a:solidFill>
                <a:latin typeface="Times New Roman"/>
              </a:rPr>
              <a:t>? </a:t>
            </a:r>
            <a:r>
              <a:rPr b="1" lang="cs-CZ" sz="2800" spc="-1" strike="noStrike">
                <a:solidFill>
                  <a:srgbClr val="ffffff"/>
                </a:solidFill>
                <a:latin typeface="Times New Roman"/>
              </a:rPr>
              <a:t>Je to prostor:</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fragmentované prác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rodinného života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volného času?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333360"/>
            <a:ext cx="9144000" cy="5797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hrnuje každodennost </a:t>
            </a:r>
            <a:r>
              <a:rPr b="1" lang="cs-CZ" sz="3200" spc="-1" strike="noStrike" u="sng">
                <a:solidFill>
                  <a:srgbClr val="ffffff"/>
                </a:solidFill>
                <a:uFillTx/>
                <a:latin typeface="Times New Roman"/>
              </a:rPr>
              <a:t>jen</a:t>
            </a:r>
            <a:r>
              <a:rPr b="1" lang="cs-CZ" sz="3200" spc="-1" strike="noStrike">
                <a:solidFill>
                  <a:srgbClr val="ffffff"/>
                </a:solidFill>
                <a:latin typeface="Times New Roman"/>
              </a:rPr>
              <a:t> volnočasové aktivity </a:t>
            </a:r>
            <a:r>
              <a:rPr b="0" lang="cs-CZ" sz="3200" spc="-1" strike="noStrike">
                <a:solidFill>
                  <a:srgbClr val="ffffff"/>
                </a:solidFill>
                <a:latin typeface="Times New Roman"/>
              </a:rPr>
              <a:t>nebo je její součástí </a:t>
            </a:r>
            <a:r>
              <a:rPr b="1" lang="cs-CZ" sz="3200" spc="-1" strike="noStrike">
                <a:solidFill>
                  <a:srgbClr val="ffffff"/>
                </a:solidFill>
                <a:latin typeface="Times New Roman"/>
              </a:rPr>
              <a:t>i pracovní čas?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ýká se jen</a:t>
            </a:r>
            <a:r>
              <a:rPr b="1" lang="cs-CZ" sz="3200" spc="-1" strike="noStrike">
                <a:solidFill>
                  <a:srgbClr val="ffffff"/>
                </a:solidFill>
                <a:latin typeface="Times New Roman"/>
              </a:rPr>
              <a:t> </a:t>
            </a:r>
            <a:r>
              <a:rPr b="1" lang="cs-CZ" sz="3200" spc="-1" strike="noStrike" u="sng">
                <a:solidFill>
                  <a:srgbClr val="ffffff"/>
                </a:solidFill>
                <a:uFillTx/>
                <a:latin typeface="Times New Roman"/>
              </a:rPr>
              <a:t>rodinného života</a:t>
            </a:r>
            <a:r>
              <a:rPr b="1" lang="cs-CZ" sz="3200" spc="-1" strike="noStrike">
                <a:solidFill>
                  <a:srgbClr val="ffffff"/>
                </a:solidFill>
                <a:latin typeface="Times New Roman"/>
              </a:rPr>
              <a:t> </a:t>
            </a:r>
            <a:r>
              <a:rPr b="0" lang="cs-CZ" sz="3200" spc="-1" strike="noStrike">
                <a:solidFill>
                  <a:srgbClr val="ffffff"/>
                </a:solidFill>
                <a:latin typeface="Times New Roman"/>
              </a:rPr>
              <a:t>nebo i</a:t>
            </a:r>
            <a:r>
              <a:rPr b="1" lang="cs-CZ" sz="3200" spc="-1" strike="noStrike">
                <a:solidFill>
                  <a:srgbClr val="ffffff"/>
                </a:solidFill>
                <a:latin typeface="Times New Roman"/>
              </a:rPr>
              <a:t>  </a:t>
            </a:r>
            <a:r>
              <a:rPr b="0" lang="cs-CZ" sz="3200" spc="-1" strike="noStrike">
                <a:solidFill>
                  <a:srgbClr val="ffffff"/>
                </a:solidFill>
                <a:latin typeface="Times New Roman"/>
              </a:rPr>
              <a:t>prchavých okamžiků prožitých</a:t>
            </a:r>
            <a:r>
              <a:rPr b="1" lang="cs-CZ" sz="3200" spc="-1" strike="noStrike">
                <a:solidFill>
                  <a:srgbClr val="ffffff"/>
                </a:solidFill>
                <a:latin typeface="Times New Roman"/>
              </a:rPr>
              <a:t> </a:t>
            </a:r>
            <a:r>
              <a:rPr b="1" lang="cs-CZ" sz="3200" spc="-1" strike="noStrike" u="sng">
                <a:solidFill>
                  <a:srgbClr val="ffffff"/>
                </a:solidFill>
                <a:uFillTx/>
                <a:latin typeface="Times New Roman"/>
              </a:rPr>
              <a:t>mimo instituce moderní společnost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Zdá se zřejmé, že každodennost </a:t>
            </a:r>
            <a:r>
              <a:rPr b="1" lang="cs-CZ" sz="3200" spc="-1" strike="noStrike">
                <a:solidFill>
                  <a:srgbClr val="feec94"/>
                </a:solidFill>
                <a:latin typeface="Times New Roman"/>
              </a:rPr>
              <a:t>zahrnuje všechny  uvedené aspekty</a:t>
            </a:r>
            <a:r>
              <a:rPr b="1" lang="cs-CZ" sz="3200" spc="-1" strike="noStrike">
                <a:solidFill>
                  <a:srgbClr val="ffffff"/>
                </a:solidFill>
                <a:latin typeface="Times New Roman"/>
              </a:rPr>
              <a:t>, a to v jednotě jejich působení. Definice každodenního života v jeho pojetí zahrnuje všechny aspekty lidského života, tedy </a:t>
            </a:r>
            <a:r>
              <a:rPr b="1" lang="cs-CZ" sz="3200" spc="-1" strike="noStrike">
                <a:solidFill>
                  <a:srgbClr val="feec94"/>
                </a:solidFill>
                <a:latin typeface="Times New Roman"/>
              </a:rPr>
              <a:t>nejen problematiku rodiny nebo volného času.</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UDNÉ vs. MYSTREIÓZNÍ</a:t>
            </a:r>
            <a:endParaRPr b="1" lang="en-US" sz="2800" spc="-1" strike="noStrike">
              <a:solidFill>
                <a:srgbClr val="feec94"/>
              </a:solidFill>
              <a:latin typeface="Times New Roman"/>
            </a:endParaRPr>
          </a:p>
        </p:txBody>
      </p:sp>
      <p:sp>
        <p:nvSpPr>
          <p:cNvPr id="14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ždodenní tak na jedné straně znamená </a:t>
            </a:r>
            <a:r>
              <a:rPr b="1" lang="en-US" sz="2800" spc="-1" strike="noStrike">
                <a:solidFill>
                  <a:srgbClr val="feec94"/>
                </a:solidFill>
                <a:latin typeface="Times New Roman"/>
              </a:rPr>
              <a:t>nejčastější formy jednání, nejčastější cesty, nejobývanější místa velmi často spojená s pocitem</a:t>
            </a:r>
            <a:r>
              <a:rPr b="1" lang="en-US" sz="2800" spc="-1" strike="noStrike">
                <a:solidFill>
                  <a:srgbClr val="ffffff"/>
                </a:solidFill>
                <a:latin typeface="Times New Roman"/>
              </a:rPr>
              <a:t> NUDY.</a:t>
            </a:r>
            <a:r>
              <a:rPr b="0" lang="en-US" sz="2800" spc="-1" strike="noStrike">
                <a:solidFill>
                  <a:srgbClr val="ffffff"/>
                </a:solidFill>
                <a:latin typeface="Times New Roman"/>
              </a:rPr>
              <a:t> Kvantita zde vytěsňuje kvalitu. Každodennost je nenápadná, nevtíravá, neokázalá.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 neznámého se v každodennosti stává známé</a:t>
            </a:r>
            <a:r>
              <a:rPr b="0" lang="en-US" sz="2800" spc="-1" strike="noStrike">
                <a:solidFill>
                  <a:srgbClr val="feec94"/>
                </a:solidFill>
                <a:latin typeface="Times New Roman"/>
              </a:rPr>
              <a:t>,</a:t>
            </a:r>
            <a:r>
              <a:rPr b="0" lang="en-US" sz="2800" spc="-1" strike="noStrike">
                <a:solidFill>
                  <a:srgbClr val="ffffff"/>
                </a:solidFill>
                <a:latin typeface="Times New Roman"/>
              </a:rPr>
              <a:t> nové se stává tradičním (vyprazdňování času v moderní továrně, analogie každodennosti je běžící výrobní pá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časně je každodennost místem </a:t>
            </a:r>
            <a:r>
              <a:rPr b="1" lang="en-US" sz="2800" spc="-1" strike="noStrike">
                <a:solidFill>
                  <a:srgbClr val="feec94"/>
                </a:solidFill>
                <a:latin typeface="Times New Roman"/>
              </a:rPr>
              <a:t>bizarního či mysteriózního</a:t>
            </a:r>
            <a:r>
              <a:rPr b="1" lang="en-US" sz="2800" spc="-1" strike="noStrike">
                <a:solidFill>
                  <a:srgbClr val="ffffff"/>
                </a:solidFill>
                <a:latin typeface="Times New Roman"/>
              </a:rPr>
              <a:t>. </a:t>
            </a:r>
            <a:r>
              <a:rPr b="0" lang="en-US" sz="2800" spc="-1" strike="noStrike">
                <a:solidFill>
                  <a:srgbClr val="ffffff"/>
                </a:solidFill>
                <a:latin typeface="Times New Roman"/>
              </a:rPr>
              <a:t>Můžeme mluvit o fantasmagorické povaze moderní každodennosti, kterou charakterizuje například zboží, jež </a:t>
            </a:r>
            <a:r>
              <a:rPr b="1" lang="en-US" sz="2800" spc="-1" strike="noStrike">
                <a:solidFill>
                  <a:srgbClr val="feec94"/>
                </a:solidFill>
                <a:latin typeface="Times New Roman"/>
              </a:rPr>
              <a:t>zakrývá lidské sociální vztahy</a:t>
            </a:r>
            <a:r>
              <a:rPr b="0" lang="en-US" sz="2800" spc="-1" strike="noStrike">
                <a:solidFill>
                  <a:srgbClr val="ffffff"/>
                </a:solidFill>
                <a:latin typeface="Times New Roman"/>
              </a:rPr>
              <a:t>, a to ve fantastických formách vztahů mezi věcmi. K distinktivním rysům každodennosti patří zboží a jeho konzum. Typickou ukázkou jsou </a:t>
            </a:r>
            <a:r>
              <a:rPr b="1" lang="en-US" sz="2800" spc="-1" strike="noStrike" u="sng">
                <a:solidFill>
                  <a:srgbClr val="feec94"/>
                </a:solidFill>
                <a:uFillTx/>
                <a:latin typeface="Times New Roman"/>
              </a:rPr>
              <a:t>výkladní skříně</a:t>
            </a:r>
            <a:r>
              <a:rPr b="0" lang="en-US" sz="2800" spc="-1" strike="noStrike">
                <a:solidFill>
                  <a:srgbClr val="feec94"/>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187280" y="189000"/>
            <a:ext cx="698508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228680" y="189000"/>
            <a:ext cx="6684840" cy="666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ÍLČÍ SHRNUTÍ</a:t>
            </a:r>
            <a:endParaRPr b="1" lang="en-US" sz="2800" spc="-1" strike="noStrike">
              <a:solidFill>
                <a:srgbClr val="feec94"/>
              </a:solidFill>
              <a:latin typeface="Times New Roman"/>
            </a:endParaRPr>
          </a:p>
        </p:txBody>
      </p:sp>
      <p:sp>
        <p:nvSpPr>
          <p:cNvPr id="149"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ŽDODENNOST</a:t>
            </a:r>
            <a:r>
              <a:rPr b="1" lang="cs-CZ" sz="2800" spc="-1" strike="noStrike">
                <a:solidFill>
                  <a:srgbClr val="ffffff"/>
                </a:solidFill>
                <a:latin typeface="Times New Roman"/>
              </a:rPr>
              <a:t> </a:t>
            </a:r>
            <a:r>
              <a:rPr b="0" lang="cs-CZ" sz="2800" spc="-1" strike="noStrike">
                <a:solidFill>
                  <a:srgbClr val="ffffff"/>
                </a:solidFill>
                <a:latin typeface="Times New Roman"/>
              </a:rPr>
              <a:t>zahrnuje takové formy života, které rutinně vnímáme jako</a:t>
            </a:r>
            <a:r>
              <a:rPr b="1" lang="cs-CZ" sz="2800" spc="-1" strike="noStrike">
                <a:solidFill>
                  <a:srgbClr val="ffffff"/>
                </a:solidFill>
                <a:latin typeface="Times New Roman"/>
              </a:rPr>
              <a:t> </a:t>
            </a:r>
            <a:r>
              <a:rPr b="1" lang="cs-CZ" sz="2800" spc="-1" strike="noStrike">
                <a:solidFill>
                  <a:srgbClr val="feec94"/>
                </a:solidFill>
                <a:latin typeface="Times New Roman"/>
              </a:rPr>
              <a:t>běžné, samozřejm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Každodennost jako terminus technikus zahrnuje pravidelně se opakující činnosti,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Každodenní“ se projevuje v </a:t>
            </a:r>
            <a:r>
              <a:rPr b="1" lang="cs-CZ" sz="2800" spc="-1" strike="noStrike">
                <a:solidFill>
                  <a:srgbClr val="feec94"/>
                </a:solidFill>
                <a:latin typeface="Times New Roman"/>
              </a:rPr>
              <a:t>rutinách či rytmech našeho jednání. </a:t>
            </a:r>
            <a:r>
              <a:rPr b="1" lang="cs-CZ" sz="2800" spc="-1" strike="noStrike">
                <a:solidFill>
                  <a:srgbClr val="ffffff"/>
                </a:solidFill>
                <a:latin typeface="Times New Roman"/>
              </a:rPr>
              <a:t>Má jak  </a:t>
            </a:r>
            <a:r>
              <a:rPr b="1" lang="cs-CZ" sz="2800" spc="-1" strike="noStrike">
                <a:solidFill>
                  <a:srgbClr val="feec94"/>
                </a:solidFill>
                <a:latin typeface="Times New Roman"/>
              </a:rPr>
              <a:t>kognitivní,</a:t>
            </a:r>
            <a:r>
              <a:rPr b="1" lang="cs-CZ" sz="2800" spc="-1" strike="noStrike">
                <a:solidFill>
                  <a:srgbClr val="ffffff"/>
                </a:solidFill>
                <a:latin typeface="Times New Roman"/>
              </a:rPr>
              <a:t> tak i </a:t>
            </a:r>
            <a:r>
              <a:rPr b="1" lang="cs-CZ" sz="2800" spc="-1" strike="noStrike">
                <a:solidFill>
                  <a:srgbClr val="feec94"/>
                </a:solidFill>
                <a:latin typeface="Times New Roman"/>
              </a:rPr>
              <a:t>emocionální </a:t>
            </a:r>
            <a:r>
              <a:rPr b="1" lang="cs-CZ" sz="2800" spc="-1" strike="noStrike">
                <a:solidFill>
                  <a:srgbClr val="ffffff"/>
                </a:solidFill>
                <a:latin typeface="Times New Roman"/>
              </a:rPr>
              <a:t>povahu. Jde o běžné činnosti i vztahy jak v domácím </a:t>
            </a:r>
            <a:r>
              <a:rPr b="1" lang="cs-CZ" sz="2800" spc="-1" strike="noStrike" u="sng">
                <a:solidFill>
                  <a:srgbClr val="feec94"/>
                </a:solidFill>
                <a:uFillTx/>
                <a:latin typeface="Times New Roman"/>
              </a:rPr>
              <a:t>privátním světě</a:t>
            </a:r>
            <a:r>
              <a:rPr b="1" lang="cs-CZ" sz="2800" spc="-1" strike="noStrike">
                <a:solidFill>
                  <a:srgbClr val="ffffff"/>
                </a:solidFill>
                <a:latin typeface="Times New Roman"/>
              </a:rPr>
              <a:t>, tak na </a:t>
            </a:r>
            <a:r>
              <a:rPr b="1" lang="cs-CZ" sz="2800" spc="-1" strike="noStrike" u="sng">
                <a:solidFill>
                  <a:srgbClr val="feec94"/>
                </a:solidFill>
                <a:uFillTx/>
                <a:latin typeface="Times New Roman"/>
              </a:rPr>
              <a:t>pracovišti.</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které jsou nejen </a:t>
            </a:r>
            <a:r>
              <a:rPr b="1" lang="cs-CZ" sz="2800" spc="-1" strike="noStrike">
                <a:solidFill>
                  <a:srgbClr val="feec94"/>
                </a:solidFill>
                <a:latin typeface="Times New Roman"/>
              </a:rPr>
              <a:t>dobře předvídateln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ale i jsou de facto </a:t>
            </a:r>
            <a:r>
              <a:rPr b="1" lang="cs-CZ" sz="2800" spc="-1" strike="noStrike">
                <a:solidFill>
                  <a:srgbClr val="feec94"/>
                </a:solidFill>
                <a:latin typeface="Times New Roman"/>
              </a:rPr>
              <a:t>základem sociální reprodukce</a:t>
            </a:r>
            <a:r>
              <a:rPr b="1" lang="cs-CZ" sz="2800" spc="-1" strike="noStrike">
                <a:solidFill>
                  <a:srgbClr val="ffffff"/>
                </a:solidFill>
                <a:latin typeface="Times New Roman"/>
              </a:rPr>
              <a:t> individua, malých sociálních skupin i společnosti jako celk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Klíčovou roli v procesu této reprodukce hrají </a:t>
            </a:r>
            <a:r>
              <a:rPr b="1" lang="cs-CZ" sz="2800" spc="-1" strike="noStrike">
                <a:solidFill>
                  <a:srgbClr val="feec94"/>
                </a:solidFill>
                <a:latin typeface="Times New Roman"/>
              </a:rPr>
              <a:t>nepsané normy a vzorce chování</a:t>
            </a:r>
            <a:r>
              <a:rPr b="1" lang="cs-CZ" sz="2800" spc="-1" strike="noStrike">
                <a:solidFill>
                  <a:srgbClr val="ffffff"/>
                </a:solidFill>
                <a:latin typeface="Times New Roman"/>
              </a:rPr>
              <a:t>, které se opírají o specifické formy vědění zakotvené v </a:t>
            </a:r>
            <a:r>
              <a:rPr b="1" lang="cs-CZ" sz="2800" spc="-1" strike="noStrike">
                <a:solidFill>
                  <a:srgbClr val="feec94"/>
                </a:solidFill>
                <a:latin typeface="Times New Roman"/>
              </a:rPr>
              <a:t>běžném vědomí</a:t>
            </a:r>
            <a:r>
              <a:rPr b="1" lang="cs-CZ" sz="2800" spc="-1" strike="noStrike">
                <a:solidFill>
                  <a:srgbClr val="ffffff"/>
                </a:solidFill>
                <a:latin typeface="Times New Roman"/>
              </a:rPr>
              <a:t> („common sen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VOJITÁ PODOBA KAŽDODENNOSTI</a:t>
            </a:r>
            <a:endParaRPr b="1" lang="en-US" sz="2800" spc="-1" strike="noStrike">
              <a:solidFill>
                <a:srgbClr val="feec94"/>
              </a:solidFill>
              <a:latin typeface="Times New Roman"/>
            </a:endParaRPr>
          </a:p>
        </p:txBody>
      </p:sp>
      <p:sp>
        <p:nvSpPr>
          <p:cNvPr id="151"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ahrnuje perspektivu </a:t>
            </a:r>
            <a:r>
              <a:rPr b="1" lang="cs-CZ" sz="3200" spc="-1" strike="noStrike">
                <a:solidFill>
                  <a:srgbClr val="feec94"/>
                </a:solidFill>
                <a:latin typeface="Times New Roman"/>
              </a:rPr>
              <a:t>individuálního, speciálního</a:t>
            </a:r>
            <a:r>
              <a:rPr b="1" lang="cs-CZ" sz="3200" spc="-1" strike="noStrike">
                <a:solidFill>
                  <a:srgbClr val="ffffff"/>
                </a:solidFill>
                <a:latin typeface="Times New Roman"/>
              </a:rPr>
              <a:t> a</a:t>
            </a:r>
            <a:r>
              <a:rPr b="1" lang="cs-CZ" sz="3200" spc="-1" strike="noStrike" u="sng">
                <a:solidFill>
                  <a:srgbClr val="ffffff"/>
                </a:solidFill>
                <a:uFillTx/>
                <a:latin typeface="Times New Roman"/>
              </a:rPr>
              <a:t> </a:t>
            </a:r>
            <a:r>
              <a:rPr b="1" lang="cs-CZ" sz="3200" spc="-1" strike="noStrike">
                <a:solidFill>
                  <a:srgbClr val="ffffff"/>
                </a:solidFill>
                <a:latin typeface="Times New Roman"/>
              </a:rPr>
              <a:t>současně i </a:t>
            </a:r>
            <a:r>
              <a:rPr b="1" lang="cs-CZ" sz="3200" spc="-1" strike="noStrike">
                <a:solidFill>
                  <a:srgbClr val="feec94"/>
                </a:solidFill>
                <a:latin typeface="Times New Roman"/>
              </a:rPr>
              <a:t>sdíleného.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zde zřejmý střet mezi </a:t>
            </a:r>
            <a:r>
              <a:rPr b="1" lang="cs-CZ" sz="3200" spc="-1" strike="noStrike">
                <a:solidFill>
                  <a:srgbClr val="feec94"/>
                </a:solidFill>
                <a:latin typeface="Times New Roman"/>
              </a:rPr>
              <a:t>individuálním jednáním, formami rezistence, důrazu na individuální prožívání</a:t>
            </a:r>
            <a:r>
              <a:rPr b="0" lang="cs-CZ" sz="3200" spc="-1" strike="noStrike">
                <a:solidFill>
                  <a:srgbClr val="feec94"/>
                </a:solidFill>
                <a:latin typeface="Times New Roman"/>
              </a:rPr>
              <a:t> </a:t>
            </a:r>
            <a:r>
              <a:rPr b="0" lang="cs-CZ" sz="3200" spc="-1" strike="noStrike">
                <a:solidFill>
                  <a:srgbClr val="ffffff"/>
                </a:solidFill>
                <a:latin typeface="Times New Roman"/>
              </a:rPr>
              <a: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olí privilegovaných mocenských sociálních struktur, institucí a diskurz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oto napětí ilustrují následujícími dichotomiem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CÍL KURZU:</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3"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Times New Roman"/>
              </a:rPr>
              <a:t>Problematizovat zdání jasnosti, srozumitelnosti a samozřejmosti každodenní role televize, které  činí tento </a:t>
            </a:r>
            <a:r>
              <a:rPr b="1" lang="cs-CZ" sz="4000" spc="-1" strike="noStrike">
                <a:solidFill>
                  <a:srgbClr val="feec94"/>
                </a:solidFill>
                <a:latin typeface="Times New Roman"/>
              </a:rPr>
              <a:t>socio-technický</a:t>
            </a:r>
            <a:r>
              <a:rPr b="1" lang="cs-CZ" sz="4000" spc="-1" strike="noStrike">
                <a:solidFill>
                  <a:srgbClr val="ffffff"/>
                </a:solidFill>
                <a:latin typeface="Times New Roman"/>
              </a:rPr>
              <a:t>, techno-kulturní fenomén téměř neuchopitelným, a to přesto, že je neustále s námi.</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ODENNOST můžeme vním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 v rovině  nějaké </a:t>
            </a:r>
            <a:r>
              <a:rPr b="1" lang="cs-CZ" sz="2800" spc="-1" strike="noStrike">
                <a:solidFill>
                  <a:srgbClr val="feec94"/>
                </a:solidFill>
                <a:latin typeface="Times New Roman"/>
              </a:rPr>
              <a:t>repetitivní činno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b/ v rovině </a:t>
            </a:r>
            <a:r>
              <a:rPr b="1" lang="cs-CZ" sz="2800" spc="-1" strike="noStrike">
                <a:solidFill>
                  <a:srgbClr val="feec94"/>
                </a:solidFill>
                <a:latin typeface="Times New Roman"/>
              </a:rPr>
              <a:t>sporu mezi profánním a posvátný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 nebo se ji můžeme snažit </a:t>
            </a:r>
            <a:r>
              <a:rPr b="1" lang="cs-CZ" sz="2800" spc="-1" strike="noStrike">
                <a:solidFill>
                  <a:srgbClr val="feec94"/>
                </a:solidFill>
                <a:latin typeface="Times New Roman"/>
              </a:rPr>
              <a:t>subverzivně rekonstruov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svět představuje</a:t>
            </a:r>
            <a:r>
              <a:rPr b="1" lang="cs-CZ" sz="2800" spc="-1" strike="noStrike">
                <a:solidFill>
                  <a:srgbClr val="ffffff"/>
                </a:solidFill>
                <a:latin typeface="Times New Roman"/>
              </a:rPr>
              <a:t> </a:t>
            </a:r>
            <a:r>
              <a:rPr b="1" lang="cs-CZ" sz="2800" spc="-1" strike="noStrike">
                <a:solidFill>
                  <a:srgbClr val="feec94"/>
                </a:solidFill>
                <a:latin typeface="Times New Roman"/>
              </a:rPr>
              <a:t>zvykový prostor</a:t>
            </a:r>
            <a:r>
              <a:rPr b="0" lang="cs-CZ" sz="2800" spc="-1" strike="noStrike">
                <a:solidFill>
                  <a:srgbClr val="ffffff"/>
                </a:solidFill>
                <a:latin typeface="Times New Roman"/>
              </a:rPr>
              <a:t>, který se nám nemusí líbit, ale  musíme v něm žít a jedn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O NENÍ KAŽDODENN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hra ve sportce (současně je ale princip loterie hromadným fenoménem, losuje se každou středu a neděli, pro velký počet lid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výjimečná událos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přírodní katastrof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ěžné</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peciál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aš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ciz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TEORIE KAŽDODENNOSTI:TŘI PERSPEKTIVY</a:t>
            </a:r>
            <a:endParaRPr b="1" lang="en-US" sz="2800" spc="-1" strike="noStrike">
              <a:solidFill>
                <a:srgbClr val="feec94"/>
              </a:solidFill>
              <a:latin typeface="Times New Roman"/>
            </a:endParaRPr>
          </a:p>
        </p:txBody>
      </p:sp>
      <p:sp>
        <p:nvSpPr>
          <p:cNvPr id="1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 </a:t>
            </a:r>
            <a:r>
              <a:rPr b="1" lang="cs-CZ" sz="2800" spc="-1" strike="noStrike">
                <a:solidFill>
                  <a:srgbClr val="feec94"/>
                </a:solidFill>
                <a:latin typeface="Times New Roman"/>
              </a:rPr>
              <a:t>I.</a:t>
            </a:r>
            <a:r>
              <a:rPr b="0" lang="cs-CZ" sz="2800" spc="-1" strike="noStrike">
                <a:solidFill>
                  <a:srgbClr val="feec94"/>
                </a:solidFill>
                <a:latin typeface="Times New Roman"/>
              </a:rPr>
              <a:t>/</a:t>
            </a:r>
            <a:r>
              <a:rPr b="0" lang="cs-CZ" sz="2800" spc="-1" strike="noStrike">
                <a:solidFill>
                  <a:srgbClr val="ffffff"/>
                </a:solidFill>
                <a:latin typeface="Times New Roman"/>
              </a:rPr>
              <a:t> mladý Marx, respektive Ekonomicko-filosofické Každodenní život se zde jeví jako</a:t>
            </a:r>
            <a:r>
              <a:rPr b="0" lang="cs-CZ" sz="2800" spc="-1" strike="noStrike">
                <a:solidFill>
                  <a:srgbClr val="feec94"/>
                </a:solidFill>
                <a:latin typeface="Times New Roman"/>
              </a:rPr>
              <a:t> </a:t>
            </a:r>
            <a:r>
              <a:rPr b="1" lang="cs-CZ" sz="2800" spc="-1" strike="noStrike" u="sng">
                <a:solidFill>
                  <a:srgbClr val="feec94"/>
                </a:solidFill>
                <a:uFillTx/>
                <a:latin typeface="Times New Roman"/>
              </a:rPr>
              <a:t>místo vhodné pro analýzu odcizení</a:t>
            </a:r>
            <a:r>
              <a:rPr b="0" lang="cs-CZ" sz="2800" spc="-1" strike="noStrike">
                <a:solidFill>
                  <a:srgbClr val="feec94"/>
                </a:solidFill>
                <a:latin typeface="Times New Roman"/>
              </a:rPr>
              <a:t>,</a:t>
            </a:r>
            <a:r>
              <a:rPr b="0" lang="cs-CZ" sz="2800" spc="-1" strike="noStrike">
                <a:solidFill>
                  <a:srgbClr val="ffffff"/>
                </a:solidFill>
                <a:latin typeface="Times New Roman"/>
              </a:rPr>
              <a:t> které je zde vnímáno jako klíčová dimenze života v kapitalistickém systému. (např. Lukács, Adorno, Horkheimer, Marcuse atd.). Uvedené studie tak </a:t>
            </a:r>
            <a:r>
              <a:rPr b="1" lang="cs-CZ" sz="2800" spc="-1" strike="noStrike">
                <a:solidFill>
                  <a:srgbClr val="ffffff"/>
                </a:solidFill>
                <a:latin typeface="Times New Roman"/>
              </a:rPr>
              <a:t>de facto </a:t>
            </a:r>
            <a:r>
              <a:rPr b="1" lang="cs-CZ" sz="2800" spc="-1" strike="noStrike">
                <a:solidFill>
                  <a:srgbClr val="feec94"/>
                </a:solidFill>
                <a:latin typeface="Times New Roman"/>
              </a:rPr>
              <a:t>varují  před současnou vlnou romantizující daný fenomén</a:t>
            </a:r>
            <a:r>
              <a:rPr b="1" lang="cs-CZ" sz="2800" spc="-1" strike="noStrike">
                <a:solidFill>
                  <a:srgbClr val="ffffff"/>
                </a:solidFill>
                <a:latin typeface="Times New Roman"/>
              </a:rPr>
              <a:t> (</a:t>
            </a:r>
            <a:r>
              <a:rPr b="0" lang="cs-CZ" sz="2800" spc="-1" strike="noStrike">
                <a:solidFill>
                  <a:srgbClr val="ffffff"/>
                </a:solidFill>
                <a:latin typeface="Times New Roman"/>
              </a:rPr>
              <a:t>např. de Certeau, Fiske apod.).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Freud a Marx</a:t>
            </a:r>
            <a:r>
              <a:rPr b="0" lang="cs-CZ" sz="2800" spc="-1" strike="noStrike">
                <a:solidFill>
                  <a:srgbClr val="ffffff"/>
                </a:solidFill>
                <a:latin typeface="Times New Roman"/>
              </a:rPr>
              <a:t> jinak velmi odlišní se scházejí právě v pohledu na každodennost. Pro oba jde o fenomén, který je současně </a:t>
            </a:r>
            <a:r>
              <a:rPr b="0" lang="cs-CZ" sz="2800" spc="-1" strike="noStrike">
                <a:solidFill>
                  <a:srgbClr val="feec94"/>
                </a:solidFill>
                <a:latin typeface="Times New Roman"/>
              </a:rPr>
              <a:t>reálný i nereálný</a:t>
            </a:r>
            <a:r>
              <a:rPr b="0" lang="cs-CZ" sz="2800" spc="-1" strike="noStrike">
                <a:solidFill>
                  <a:srgbClr val="ffffff"/>
                </a:solidFill>
                <a:latin typeface="Times New Roman"/>
              </a:rPr>
              <a:t>. Naplněný na jedné straně A/</a:t>
            </a:r>
            <a:r>
              <a:rPr b="1" lang="cs-CZ" sz="2800" spc="-1" strike="noStrike">
                <a:solidFill>
                  <a:srgbClr val="feec94"/>
                </a:solidFill>
                <a:latin typeface="Times New Roman"/>
              </a:rPr>
              <a:t>imaginárními vytěsněnými obsahy</a:t>
            </a:r>
            <a:r>
              <a:rPr b="0" lang="cs-CZ" sz="2800" spc="-1" strike="noStrike">
                <a:solidFill>
                  <a:srgbClr val="ffffff"/>
                </a:solidFill>
                <a:latin typeface="Times New Roman"/>
              </a:rPr>
              <a:t> a spoučasně fungující  jako B/ </a:t>
            </a:r>
            <a:r>
              <a:rPr b="1" lang="cs-CZ" sz="2800" spc="-1" strike="noStrike">
                <a:solidFill>
                  <a:srgbClr val="feec94"/>
                </a:solidFill>
                <a:latin typeface="Times New Roman"/>
              </a:rPr>
              <a:t>opresivní, normativní korzet</a:t>
            </a:r>
            <a:r>
              <a:rPr b="0" lang="cs-CZ" sz="2800" spc="-1" strike="noStrike">
                <a:solidFill>
                  <a:srgbClr val="ffffff"/>
                </a:solidFill>
                <a:latin typeface="Times New Roman"/>
              </a:rPr>
              <a:t>, který nám každodenně diktuje, co smíme a co ne.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arx </a:t>
            </a:r>
            <a:r>
              <a:rPr b="0" lang="cs-CZ" sz="2800" spc="-1" strike="noStrike">
                <a:solidFill>
                  <a:srgbClr val="ffffff"/>
                </a:solidFill>
                <a:latin typeface="Times New Roman"/>
              </a:rPr>
              <a:t>v </a:t>
            </a:r>
            <a:r>
              <a:rPr b="0" i="1" lang="cs-CZ" sz="2800" spc="-1" strike="noStrike">
                <a:solidFill>
                  <a:srgbClr val="ffffff"/>
                </a:solidFill>
                <a:latin typeface="Times New Roman"/>
              </a:rPr>
              <a:t>Německé ideologii</a:t>
            </a:r>
            <a:r>
              <a:rPr b="0" lang="cs-CZ" sz="2800" spc="-1" strike="noStrike">
                <a:solidFill>
                  <a:srgbClr val="ffffff"/>
                </a:solidFill>
                <a:latin typeface="Times New Roman"/>
              </a:rPr>
              <a:t> hovoří o </a:t>
            </a:r>
            <a:r>
              <a:rPr b="1" lang="cs-CZ" sz="2800" spc="-1" strike="noStrike" u="sng">
                <a:solidFill>
                  <a:srgbClr val="feec94"/>
                </a:solidFill>
                <a:uFillTx/>
                <a:latin typeface="Times New Roman"/>
              </a:rPr>
              <a:t>každodennosti</a:t>
            </a:r>
            <a:r>
              <a:rPr b="0" lang="cs-CZ" sz="2800" spc="-1" strike="noStrike">
                <a:solidFill>
                  <a:srgbClr val="feec94"/>
                </a:solidFill>
                <a:latin typeface="Times New Roman"/>
              </a:rPr>
              <a:t> jako o </a:t>
            </a:r>
            <a:r>
              <a:rPr b="1" lang="cs-CZ" sz="2800" spc="-1" strike="noStrike">
                <a:solidFill>
                  <a:srgbClr val="feec94"/>
                </a:solidFill>
                <a:latin typeface="Times New Roman"/>
              </a:rPr>
              <a:t>iluzivní reálné realitě,</a:t>
            </a:r>
            <a:r>
              <a:rPr b="0" lang="cs-CZ" sz="2800" spc="-1" strike="noStrike">
                <a:solidFill>
                  <a:srgbClr val="feec94"/>
                </a:solidFill>
                <a:latin typeface="Times New Roman"/>
              </a:rPr>
              <a:t> </a:t>
            </a:r>
            <a:r>
              <a:rPr b="1" lang="cs-CZ" sz="2800" spc="-1" strike="noStrike">
                <a:solidFill>
                  <a:srgbClr val="feec94"/>
                </a:solidFill>
                <a:latin typeface="Times New Roman"/>
              </a:rPr>
              <a:t>ideologii, která je ovšem produktem materiálního životního procesu společnost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I.</a:t>
            </a:r>
            <a:r>
              <a:rPr b="0" lang="cs-CZ" sz="3200" spc="-1" strike="noStrike">
                <a:solidFill>
                  <a:srgbClr val="ffffff"/>
                </a:solidFill>
                <a:latin typeface="Times New Roman"/>
              </a:rPr>
              <a:t> Druhý přístup zahrnuje </a:t>
            </a:r>
            <a:r>
              <a:rPr b="1" lang="cs-CZ" sz="3200" spc="-1" strike="noStrike" u="sng">
                <a:solidFill>
                  <a:srgbClr val="feec94"/>
                </a:solidFill>
                <a:uFillTx/>
                <a:latin typeface="Times New Roman"/>
              </a:rPr>
              <a:t>teorie běžné či populární kultury,</a:t>
            </a:r>
            <a:r>
              <a:rPr b="1" lang="cs-CZ" sz="3200" spc="-1" strike="noStrike">
                <a:solidFill>
                  <a:srgbClr val="ffffff"/>
                </a:solidFill>
                <a:latin typeface="Times New Roman"/>
              </a:rPr>
              <a:t> </a:t>
            </a:r>
            <a:r>
              <a:rPr b="0" lang="cs-CZ" sz="3200" spc="-1" strike="noStrike">
                <a:solidFill>
                  <a:srgbClr val="ffffff"/>
                </a:solidFill>
                <a:latin typeface="Times New Roman"/>
              </a:rPr>
              <a:t>respektive problematiku prožitků a představu o </a:t>
            </a:r>
            <a:r>
              <a:rPr b="1" lang="cs-CZ" sz="3200" spc="-1" strike="noStrike">
                <a:solidFill>
                  <a:srgbClr val="ffffff"/>
                </a:solidFill>
                <a:latin typeface="Times New Roman"/>
              </a:rPr>
              <a:t>možné resistenci</a:t>
            </a:r>
            <a:r>
              <a:rPr b="0" lang="cs-CZ" sz="3200" spc="-1" strike="noStrike">
                <a:solidFill>
                  <a:srgbClr val="ffffff"/>
                </a:solidFill>
                <a:latin typeface="Times New Roman"/>
              </a:rPr>
              <a:t> vůči tlaku moderní společnosti. De Certau, Fisk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III. </a:t>
            </a:r>
            <a:r>
              <a:rPr b="0" lang="cs-CZ" sz="3200" spc="-1" strike="noStrike">
                <a:solidFill>
                  <a:srgbClr val="ffffff"/>
                </a:solidFill>
                <a:latin typeface="Times New Roman"/>
              </a:rPr>
              <a:t>Třetí pak reprezentuje </a:t>
            </a:r>
            <a:r>
              <a:rPr b="1" lang="cs-CZ" sz="3200" spc="-1" strike="noStrike" u="sng">
                <a:solidFill>
                  <a:srgbClr val="feec94"/>
                </a:solidFill>
                <a:uFillTx/>
                <a:latin typeface="Times New Roman"/>
              </a:rPr>
              <a:t>objektově relační teorie</a:t>
            </a:r>
            <a:r>
              <a:rPr b="1" lang="cs-CZ" sz="3200" spc="-1" strike="noStrike" u="sng">
                <a:solidFill>
                  <a:srgbClr val="ffffff"/>
                </a:solidFill>
                <a:uFillTx/>
                <a:latin typeface="Times New Roman"/>
              </a:rPr>
              <a:t>,</a:t>
            </a:r>
            <a:r>
              <a:rPr b="1" lang="cs-CZ" sz="3200" spc="-1" strike="noStrike">
                <a:solidFill>
                  <a:srgbClr val="ffffff"/>
                </a:solidFill>
                <a:latin typeface="Times New Roman"/>
              </a:rPr>
              <a:t> která se soustřeďuje na základní paradoxy lidské kreativity (Winnicott). </a:t>
            </a:r>
            <a:r>
              <a:rPr b="0" lang="cs-CZ" sz="3200" spc="-1" strike="noStrike">
                <a:solidFill>
                  <a:srgbClr val="ffffff"/>
                </a:solidFill>
                <a:latin typeface="Times New Roman"/>
              </a:rPr>
              <a:t>Každodenní kulturu dostáváme,</a:t>
            </a:r>
            <a:r>
              <a:rPr b="1" lang="cs-CZ" sz="3200" spc="-1" strike="noStrike">
                <a:solidFill>
                  <a:srgbClr val="ffffff"/>
                </a:solidFill>
                <a:latin typeface="Times New Roman"/>
              </a:rPr>
              <a:t> </a:t>
            </a:r>
            <a:r>
              <a:rPr b="1" lang="cs-CZ" sz="3200" spc="-1" strike="noStrike">
                <a:solidFill>
                  <a:srgbClr val="feec94"/>
                </a:solidFill>
                <a:latin typeface="Times New Roman"/>
              </a:rPr>
              <a:t>jsme do ní vrženi a současně ji i vytváříme.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inými slovy, paradoxní povaha každodenního života je dána tím, že je sice ve své podstatě kreativní, ale zároveň je k této své tvůrčí aktivitě slep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D/ I.</a:t>
            </a:r>
            <a:r>
              <a:rPr b="1" lang="en-US" sz="2400" spc="-1" strike="noStrike" u="sng">
                <a:solidFill>
                  <a:srgbClr val="feec94"/>
                </a:solidFill>
                <a:uFillTx/>
                <a:latin typeface="Times New Roman"/>
              </a:rPr>
              <a:t> KAŽDODENNOST – SKEPTICKÁ  VERZE</a:t>
            </a:r>
            <a:endParaRPr b="1" lang="en-US" sz="2400" spc="-1" strike="noStrike">
              <a:solidFill>
                <a:srgbClr val="feec94"/>
              </a:solidFill>
              <a:latin typeface="Times New Roman"/>
            </a:endParaRPr>
          </a:p>
        </p:txBody>
      </p:sp>
      <p:sp>
        <p:nvSpPr>
          <p:cNvPr id="15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Times New Roman"/>
              </a:rPr>
              <a:t>LEFÉBVRE</a:t>
            </a:r>
            <a:r>
              <a:rPr b="1" i="1" lang="cs-CZ" sz="2800" spc="-1" strike="noStrike">
                <a:solidFill>
                  <a:srgbClr val="ffffff"/>
                </a:solidFill>
                <a:latin typeface="Times New Roman"/>
              </a:rPr>
              <a:t> </a:t>
            </a:r>
            <a:r>
              <a:rPr b="0" lang="cs-CZ" sz="2800" spc="-1" strike="noStrike">
                <a:solidFill>
                  <a:srgbClr val="ffffff"/>
                </a:solidFill>
                <a:latin typeface="Times New Roman"/>
              </a:rPr>
              <a:t>vnímá každodennost </a:t>
            </a:r>
            <a:r>
              <a:rPr b="1" lang="cs-CZ" sz="2800" spc="-1" strike="noStrike">
                <a:solidFill>
                  <a:srgbClr val="ffffff"/>
                </a:solidFill>
                <a:latin typeface="Times New Roman"/>
              </a:rPr>
              <a:t>jako</a:t>
            </a:r>
            <a:r>
              <a:rPr b="1" lang="cs-CZ" sz="2800" spc="-1" strike="noStrike" u="sng">
                <a:solidFill>
                  <a:srgbClr val="ffffff"/>
                </a:solidFill>
                <a:uFillTx/>
                <a:latin typeface="Times New Roman"/>
              </a:rPr>
              <a:t> </a:t>
            </a:r>
            <a:r>
              <a:rPr b="1" lang="cs-CZ" sz="2800" spc="-1" strike="noStrike" u="sng">
                <a:solidFill>
                  <a:srgbClr val="feec94"/>
                </a:solidFill>
                <a:uFillTx/>
                <a:latin typeface="Times New Roman"/>
              </a:rPr>
              <a:t>dvojznačný fenomén</a:t>
            </a:r>
            <a:r>
              <a:rPr b="0" lang="cs-CZ" sz="2800" spc="-1" strike="noStrike">
                <a:solidFill>
                  <a:srgbClr val="ffffff"/>
                </a:solidFill>
                <a:latin typeface="Times New Roman"/>
              </a:rPr>
              <a:t>. Rozlišuje </a:t>
            </a:r>
            <a:r>
              <a:rPr b="1" lang="cs-CZ" sz="2800" spc="-1" strike="noStrike">
                <a:solidFill>
                  <a:srgbClr val="ffffff"/>
                </a:solidFill>
                <a:latin typeface="Times New Roman"/>
              </a:rPr>
              <a:t>a/„</a:t>
            </a:r>
            <a:r>
              <a:rPr b="1" lang="cs-CZ" sz="2400" spc="-1" strike="noStrike">
                <a:solidFill>
                  <a:srgbClr val="ffffff"/>
                </a:solidFill>
                <a:latin typeface="Times New Roman"/>
              </a:rPr>
              <a:t>KAŽDODENNÍ“b/</a:t>
            </a:r>
            <a:r>
              <a:rPr b="0" lang="cs-CZ" sz="2400" spc="-1" strike="noStrike">
                <a:solidFill>
                  <a:srgbClr val="ffffff"/>
                </a:solidFill>
                <a:latin typeface="Times New Roman"/>
              </a:rPr>
              <a:t> </a:t>
            </a:r>
            <a:r>
              <a:rPr b="1" lang="cs-CZ" sz="2400" spc="-1" strike="noStrike">
                <a:solidFill>
                  <a:srgbClr val="feec94"/>
                </a:solidFill>
                <a:latin typeface="Times New Roman"/>
              </a:rPr>
              <a:t>„KAŽDODENNÍ ŽIVOT</a:t>
            </a:r>
            <a:r>
              <a:rPr b="1" lang="cs-CZ" sz="24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V prvním případě má na mysli </a:t>
            </a:r>
            <a:r>
              <a:rPr b="1" lang="cs-CZ" sz="2800" spc="-1" strike="noStrike">
                <a:solidFill>
                  <a:srgbClr val="feec94"/>
                </a:solidFill>
                <a:latin typeface="Times New Roman"/>
              </a:rPr>
              <a:t>autenticitu, aktivitu a originalit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zatímco druhé označení pro něj symbolizuje </a:t>
            </a:r>
            <a:r>
              <a:rPr b="1" lang="cs-CZ" sz="2800" spc="-1" strike="noStrike">
                <a:solidFill>
                  <a:srgbClr val="ffffff"/>
                </a:solidFill>
                <a:latin typeface="Times New Roman"/>
              </a:rPr>
              <a:t>život v</a:t>
            </a:r>
            <a:r>
              <a:rPr b="1" lang="cs-CZ" sz="2800" spc="-1" strike="noStrike">
                <a:solidFill>
                  <a:srgbClr val="feec94"/>
                </a:solidFill>
                <a:latin typeface="Times New Roman"/>
              </a:rPr>
              <a:t> byrokratické společnosti kontrolované spotřeby</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cs-CZ" sz="2800" spc="-1" strike="noStrike">
                <a:solidFill>
                  <a:srgbClr val="ffffff"/>
                </a:solidFill>
                <a:latin typeface="Times New Roman"/>
              </a:rPr>
              <a:t>Každodenní život“  nahradil či </a:t>
            </a:r>
            <a:r>
              <a:rPr b="1" lang="cs-CZ" sz="2800" spc="-1" strike="noStrike">
                <a:solidFill>
                  <a:srgbClr val="feec94"/>
                </a:solidFill>
                <a:latin typeface="Times New Roman"/>
              </a:rPr>
              <a:t>vytěsnil možnosti uvedené v první variantě</a:t>
            </a:r>
            <a:r>
              <a:rPr b="1" lang="cs-CZ" sz="2800" spc="-1" strike="noStrike">
                <a:solidFill>
                  <a:srgbClr val="ffffff"/>
                </a:solidFill>
                <a:latin typeface="Times New Roman"/>
              </a:rPr>
              <a:t>, a to bez naděje na změnu.</a:t>
            </a:r>
            <a:r>
              <a:rPr b="0" lang="cs-CZ" sz="2800" spc="-1" strike="noStrike">
                <a:solidFill>
                  <a:srgbClr val="ffffff"/>
                </a:solidFill>
                <a:latin typeface="Times New Roman"/>
              </a:rPr>
              <a:t> Je zde přítomná  naděje či </a:t>
            </a:r>
            <a:r>
              <a:rPr b="0" lang="cs-CZ" sz="2800" spc="-1" strike="noStrike">
                <a:solidFill>
                  <a:srgbClr val="feec94"/>
                </a:solidFill>
                <a:latin typeface="Times New Roman"/>
              </a:rPr>
              <a:t>předpoklad možného naplnění potlačeného </a:t>
            </a:r>
            <a:r>
              <a:rPr b="1" lang="cs-CZ" sz="2800" spc="-1" strike="noStrike">
                <a:solidFill>
                  <a:srgbClr val="feec94"/>
                </a:solidFill>
                <a:latin typeface="Times New Roman"/>
              </a:rPr>
              <a:t>potenciálu svátku, slavnosti, karnevalu, o které hovoří například Michal Bachtin</a:t>
            </a:r>
            <a:r>
              <a:rPr b="0" lang="cs-CZ" sz="2800" spc="-1" strike="noStrike">
                <a:solidFill>
                  <a:srgbClr val="feec94"/>
                </a:solidFill>
                <a:latin typeface="Times New Roman"/>
              </a:rPr>
              <a:t> (1975).</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Lefebvrově pojetí je </a:t>
            </a:r>
            <a:r>
              <a:rPr b="1" lang="cs-CZ" sz="2800" spc="-1" strike="noStrike">
                <a:solidFill>
                  <a:srgbClr val="ffffff"/>
                </a:solidFill>
                <a:latin typeface="Times New Roman"/>
              </a:rPr>
              <a:t>každodenní</a:t>
            </a:r>
            <a:r>
              <a:rPr b="0" lang="cs-CZ" sz="2800" spc="-1" strike="noStrike">
                <a:solidFill>
                  <a:srgbClr val="ffffff"/>
                </a:solidFill>
                <a:latin typeface="Times New Roman"/>
              </a:rPr>
              <a:t> čímsi </a:t>
            </a:r>
            <a:r>
              <a:rPr b="1" lang="cs-CZ" sz="2800" spc="-1" strike="noStrike">
                <a:solidFill>
                  <a:srgbClr val="feec94"/>
                </a:solidFill>
                <a:latin typeface="Times New Roman"/>
              </a:rPr>
              <a:t>ryzím</a:t>
            </a:r>
            <a:r>
              <a:rPr b="0" lang="cs-CZ" sz="2800" spc="-1" strike="noStrike">
                <a:solidFill>
                  <a:srgbClr val="ffffff"/>
                </a:solidFill>
                <a:latin typeface="Times New Roman"/>
              </a:rPr>
              <a:t>, nefalšovaným a současně i </a:t>
            </a:r>
            <a:r>
              <a:rPr b="0" lang="cs-CZ" sz="2800" spc="-1" strike="noStrike">
                <a:solidFill>
                  <a:srgbClr val="feec94"/>
                </a:solidFill>
                <a:latin typeface="Times New Roman"/>
              </a:rPr>
              <a:t>lživým a manipulativním</a:t>
            </a:r>
            <a:r>
              <a:rPr b="0" lang="cs-CZ" sz="2800" spc="-1" strike="noStrike">
                <a:solidFill>
                  <a:srgbClr val="ffffff"/>
                </a:solidFill>
                <a:latin typeface="Times New Roman"/>
              </a:rPr>
              <a:t>. Jde podle něho o </a:t>
            </a:r>
            <a:r>
              <a:rPr b="1" lang="cs-CZ" sz="2800" spc="-1" strike="noStrike">
                <a:solidFill>
                  <a:srgbClr val="ffffff"/>
                </a:solidFill>
                <a:latin typeface="Times New Roman"/>
              </a:rPr>
              <a:t>komplex aktivního a pasivního jednání, forem sociability a komunikace, které v sobě nesou vlastní spontánní krit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feec94"/>
                </a:solidFill>
                <a:latin typeface="Times New Roman"/>
              </a:rPr>
              <a:t>ERVING GOFFMA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elostné Já je oddělitelné od rámce individuální každodennosti. V</a:t>
            </a:r>
            <a:r>
              <a:rPr b="0" lang="cs-CZ" sz="3200" spc="-1" strike="noStrike">
                <a:solidFill>
                  <a:srgbClr val="ffffff"/>
                </a:solidFill>
                <a:latin typeface="Times New Roman"/>
              </a:rPr>
              <a:t>idí </a:t>
            </a:r>
            <a:r>
              <a:rPr b="1" lang="cs-CZ" sz="3200" spc="-1" strike="noStrike" u="sng">
                <a:solidFill>
                  <a:srgbClr val="feec94"/>
                </a:solidFill>
                <a:uFillTx/>
                <a:latin typeface="Times New Roman"/>
              </a:rPr>
              <a:t>každodenní život</a:t>
            </a:r>
            <a:r>
              <a:rPr b="0" lang="cs-CZ" sz="3200" spc="-1" strike="noStrike">
                <a:solidFill>
                  <a:srgbClr val="feec94"/>
                </a:solidFill>
                <a:latin typeface="Times New Roman"/>
              </a:rPr>
              <a:t> současně jako </a:t>
            </a:r>
            <a:r>
              <a:rPr b="1" lang="cs-CZ" sz="3200" spc="-1" strike="noStrike">
                <a:solidFill>
                  <a:srgbClr val="feec94"/>
                </a:solidFill>
                <a:latin typeface="Times New Roman"/>
              </a:rPr>
              <a:t>divadlo</a:t>
            </a:r>
            <a:r>
              <a:rPr b="0" lang="cs-CZ" sz="3200" spc="-1" strike="noStrike">
                <a:solidFill>
                  <a:srgbClr val="feec94"/>
                </a:solidFill>
                <a:latin typeface="Times New Roman"/>
              </a:rPr>
              <a:t> a </a:t>
            </a:r>
            <a:r>
              <a:rPr b="1" lang="cs-CZ" sz="3200" spc="-1" strike="noStrike">
                <a:solidFill>
                  <a:srgbClr val="feec94"/>
                </a:solidFill>
                <a:latin typeface="Times New Roman"/>
              </a:rPr>
              <a:t>jeviště,</a:t>
            </a:r>
            <a:r>
              <a:rPr b="0" lang="cs-CZ" sz="3200" spc="-1" strike="noStrike">
                <a:solidFill>
                  <a:srgbClr val="ffffff"/>
                </a:solidFill>
                <a:latin typeface="Times New Roman"/>
              </a:rPr>
              <a:t> kde se situace, do kterých jsme zahrnuti odehrávají.</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í život je přístupný minimálně ze tří perspekti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a:t>
            </a:r>
            <a:r>
              <a:rPr b="1" lang="cs-CZ" sz="3200" spc="-1" strike="noStrike">
                <a:solidFill>
                  <a:srgbClr val="feec94"/>
                </a:solidFill>
                <a:latin typeface="Times New Roman"/>
              </a:rPr>
              <a:t>analytika/pozorovatel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1" lang="cs-CZ" sz="3200" spc="-1" strike="noStrike">
                <a:solidFill>
                  <a:srgbClr val="feec94"/>
                </a:solidFill>
                <a:latin typeface="Times New Roman"/>
              </a:rPr>
              <a:t>aktéra/herce a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a:t>
            </a:r>
            <a:r>
              <a:rPr b="1" lang="cs-CZ" sz="3200" spc="-1" strike="noStrike">
                <a:solidFill>
                  <a:srgbClr val="feec94"/>
                </a:solidFill>
                <a:latin typeface="Times New Roman"/>
              </a:rPr>
              <a:t>publik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 </a:t>
            </a:r>
            <a:r>
              <a:rPr b="0" lang="cs-CZ" sz="3200" spc="-1" strike="noStrike">
                <a:solidFill>
                  <a:srgbClr val="ffffff"/>
                </a:solidFill>
                <a:latin typeface="Times New Roman"/>
              </a:rPr>
              <a:t>Vyjdeme-li z Goffmanna každé jednání se odehrává v rámci jistého </a:t>
            </a:r>
            <a:r>
              <a:rPr b="1" lang="cs-CZ" sz="3200" spc="-1" strike="noStrike" u="sng">
                <a:solidFill>
                  <a:srgbClr val="ffffff"/>
                </a:solidFill>
                <a:uFillTx/>
                <a:latin typeface="Times New Roman"/>
              </a:rPr>
              <a:t>interaktivního rámce-struktury</a:t>
            </a:r>
            <a:r>
              <a:rPr b="1" lang="cs-CZ" sz="3200" spc="-1" strike="noStrike">
                <a:solidFill>
                  <a:srgbClr val="ffffff"/>
                </a:solidFill>
                <a:latin typeface="Times New Roman"/>
              </a:rPr>
              <a:t>,</a:t>
            </a:r>
            <a:r>
              <a:rPr b="0" lang="cs-CZ" sz="3200" spc="-1" strike="noStrike">
                <a:solidFill>
                  <a:srgbClr val="ffffff"/>
                </a:solidFill>
                <a:latin typeface="Times New Roman"/>
              </a:rPr>
              <a:t> která si vynucuje a zahrnuje jisté předpoklady či konvence (zařízení domácnosti, oblečení apo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idské jednání se vždy do jisté míry </a:t>
            </a:r>
            <a:r>
              <a:rPr b="1" lang="cs-CZ" sz="2800" spc="-1" strike="noStrike">
                <a:solidFill>
                  <a:srgbClr val="feec94"/>
                </a:solidFill>
                <a:latin typeface="Times New Roman"/>
              </a:rPr>
              <a:t>adaptuje na toto prostřed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edinci se vždy snaží promítat do něho svůj obraz,  a to </a:t>
            </a:r>
            <a:r>
              <a:rPr b="0" lang="cs-CZ" sz="2800" spc="-1" strike="noStrike">
                <a:solidFill>
                  <a:srgbClr val="ffffff"/>
                </a:solidFill>
                <a:latin typeface="Times New Roman"/>
              </a:rPr>
              <a:t>tak že vybírají především to, </a:t>
            </a:r>
            <a:r>
              <a:rPr b="1" lang="cs-CZ" sz="2800" spc="-1" strike="noStrike">
                <a:solidFill>
                  <a:srgbClr val="feec94"/>
                </a:solidFill>
                <a:latin typeface="Times New Roman"/>
              </a:rPr>
              <a:t>co jim umožňuje vypadat tak jak si přejí.</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trukturu kde se odehrává toto jednání a přizpůsobování označuje Goffman jako </a:t>
            </a:r>
            <a:r>
              <a:rPr b="1" lang="cs-CZ" sz="2800" spc="-1" strike="noStrike" u="sng">
                <a:solidFill>
                  <a:srgbClr val="feec94"/>
                </a:solidFill>
                <a:uFillTx/>
                <a:latin typeface="Times New Roman"/>
              </a:rPr>
              <a:t>front region</a:t>
            </a:r>
            <a:r>
              <a:rPr b="1" lang="cs-CZ" sz="2800" spc="-1" strike="noStrike">
                <a:solidFill>
                  <a:srgbClr val="feec94"/>
                </a:solidFill>
                <a:latin typeface="Times New Roman"/>
              </a:rPr>
              <a:t> - jeviště.</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dnání, respektive jednotlivé aspekty, které mohou </a:t>
            </a:r>
            <a:r>
              <a:rPr b="0" lang="cs-CZ" sz="2800" spc="-1" strike="noStrike">
                <a:solidFill>
                  <a:srgbClr val="feec94"/>
                </a:solidFill>
                <a:latin typeface="Times New Roman"/>
              </a:rPr>
              <a:t>d</a:t>
            </a:r>
            <a:r>
              <a:rPr b="1" lang="cs-CZ" sz="2800" spc="-1" strike="noStrike">
                <a:solidFill>
                  <a:srgbClr val="feec94"/>
                </a:solidFill>
                <a:latin typeface="Times New Roman"/>
              </a:rPr>
              <a:t>iskreditovat jedince a jsou zde pociťovány jako nevhodné označuje jako</a:t>
            </a:r>
            <a:r>
              <a:rPr b="1" lang="cs-CZ" sz="2800" spc="-1" strike="noStrike">
                <a:solidFill>
                  <a:srgbClr val="ffffff"/>
                </a:solidFill>
                <a:latin typeface="Times New Roman"/>
              </a:rPr>
              <a:t> </a:t>
            </a:r>
            <a:r>
              <a:rPr b="1" lang="cs-CZ" sz="2800" spc="-1" strike="noStrike" u="sng">
                <a:solidFill>
                  <a:srgbClr val="ffffff"/>
                </a:solidFill>
                <a:uFillTx/>
                <a:latin typeface="Times New Roman"/>
              </a:rPr>
              <a:t>back region -</a:t>
            </a:r>
            <a:r>
              <a:rPr b="1" lang="cs-CZ" sz="2800" spc="-1" strike="noStrike">
                <a:solidFill>
                  <a:srgbClr val="ffffff"/>
                </a:solidFill>
                <a:latin typeface="Times New Roman"/>
              </a:rPr>
              <a:t> zákulis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a:t>
            </a:r>
            <a:r>
              <a:rPr b="0" lang="cs-CZ" sz="2800" spc="-1" strike="noStrike">
                <a:solidFill>
                  <a:srgbClr val="ffffff"/>
                </a:solidFill>
                <a:latin typeface="Times New Roman"/>
              </a:rPr>
              <a:t>edinci zde jednají jedinci způsobem, který se zásadně liší od jejich  chování, které promítají na jevišti. Relaxují zde a tudíž </a:t>
            </a:r>
            <a:r>
              <a:rPr b="1" lang="cs-CZ" sz="2800" spc="-1" strike="noStrike">
                <a:solidFill>
                  <a:srgbClr val="feec94"/>
                </a:solidFill>
                <a:latin typeface="Times New Roman"/>
              </a:rPr>
              <a:t>nemonitorují své jednání s tak intenzivní mírou</a:t>
            </a:r>
            <a:r>
              <a:rPr b="0" lang="cs-CZ" sz="2800" spc="-1" strike="noStrike">
                <a:solidFill>
                  <a:srgbClr val="ffffff"/>
                </a:solidFill>
                <a:latin typeface="Times New Roman"/>
              </a:rPr>
              <a:t> reflexivity typickou pro působení na jevišti. Hranice ale mnohdy nejsou zcela jasn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 některých případech může být </a:t>
            </a:r>
            <a:r>
              <a:rPr b="0" lang="en-US" sz="2800" spc="-1" strike="noStrike">
                <a:solidFill>
                  <a:srgbClr val="feec94"/>
                </a:solidFill>
                <a:latin typeface="Times New Roman"/>
              </a:rPr>
              <a:t>zákulisí lokalizováno okolo periferie jeviště,</a:t>
            </a:r>
            <a:r>
              <a:rPr b="0" lang="en-US" sz="2800" spc="-1" strike="noStrike">
                <a:solidFill>
                  <a:srgbClr val="ffffff"/>
                </a:solidFill>
                <a:latin typeface="Times New Roman"/>
              </a:rPr>
              <a:t> tak, že </a:t>
            </a:r>
            <a:r>
              <a:rPr b="1" lang="en-US" sz="2800" spc="-1" strike="noStrike">
                <a:solidFill>
                  <a:srgbClr val="ffffff"/>
                </a:solidFill>
                <a:latin typeface="Times New Roman"/>
              </a:rPr>
              <a:t>herci se mohou snadno stáhnout ze své role v tomto prostor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však </a:t>
            </a:r>
            <a:r>
              <a:rPr b="1" lang="en-US" sz="2800" spc="-1" strike="noStrike">
                <a:solidFill>
                  <a:srgbClr val="ffffff"/>
                </a:solidFill>
                <a:latin typeface="Times New Roman"/>
              </a:rPr>
              <a:t>nebezpečí, že tento prostor může být zahlédnut, uslyšen. </a:t>
            </a:r>
            <a:r>
              <a:rPr b="0" lang="en-US" sz="2800" spc="-1" strike="noStrike">
                <a:solidFill>
                  <a:srgbClr val="ffffff"/>
                </a:solidFill>
                <a:latin typeface="Times New Roman"/>
              </a:rPr>
              <a:t>Tato slabost hranic může být kompenzována vytvořením fyzických překážek. (dveře v restauraci oddělující jí od kuchyně).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sta </a:t>
            </a:r>
            <a:r>
              <a:rPr b="1" lang="en-US" sz="2800" spc="-1" strike="noStrike">
                <a:solidFill>
                  <a:srgbClr val="feec94"/>
                </a:solidFill>
                <a:latin typeface="Times New Roman"/>
              </a:rPr>
              <a:t>mezi jevištěm a zákulisím je často přísně střežena</a:t>
            </a:r>
            <a:r>
              <a:rPr b="0" lang="en-US" sz="2800" spc="-1" strike="noStrike">
                <a:solidFill>
                  <a:srgbClr val="ffffff"/>
                </a:solidFill>
                <a:latin typeface="Times New Roman"/>
              </a:rPr>
              <a:t>, jelikož zákulisí může kompromitovat obraz, který individua či organizace o sobě přejí zachov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Zrodila se tak </a:t>
            </a:r>
            <a:r>
              <a:rPr b="1" lang="en-US" sz="2800" spc="-1" strike="noStrike">
                <a:solidFill>
                  <a:srgbClr val="feec94"/>
                </a:solidFill>
                <a:latin typeface="Times New Roman"/>
              </a:rPr>
              <a:t>sociologie průměrného člověka</a:t>
            </a:r>
            <a:r>
              <a:rPr b="0" lang="en-US" sz="2800" spc="-1" strike="noStrike">
                <a:solidFill>
                  <a:srgbClr val="ffffff"/>
                </a:solidFill>
                <a:latin typeface="Times New Roman"/>
              </a:rPr>
              <a:t>. Kritika se týká především téměř</a:t>
            </a:r>
            <a:r>
              <a:rPr b="1" lang="en-US" sz="2800" spc="-1" strike="noStrike">
                <a:solidFill>
                  <a:srgbClr val="ffffff"/>
                </a:solidFill>
                <a:latin typeface="Times New Roman"/>
              </a:rPr>
              <a:t> výlučného zájmu o „expresivní formy“ chování a ignorace jeho vlastního obsah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AD2/ KAŽDODENNOST – OPTIMISTICKÁ VERZE</a:t>
            </a:r>
            <a:endParaRPr b="1" lang="en-US" sz="2800" spc="-1" strike="noStrike">
              <a:solidFill>
                <a:srgbClr val="feec94"/>
              </a:solidFill>
              <a:latin typeface="Times New Roman"/>
            </a:endParaRPr>
          </a:p>
        </p:txBody>
      </p:sp>
      <p:sp>
        <p:nvSpPr>
          <p:cNvPr id="16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Optimistickou verzi</a:t>
            </a:r>
            <a:r>
              <a:rPr b="0" lang="cs-CZ" sz="2800" spc="-1" strike="noStrike">
                <a:solidFill>
                  <a:srgbClr val="ffffff"/>
                </a:solidFill>
                <a:latin typeface="Times New Roman"/>
              </a:rPr>
              <a:t> konstrukce každodennosti zdůrazňující aktivní podíl sociálních aktérů reprezentuje </a:t>
            </a:r>
            <a:r>
              <a:rPr b="0" lang="cs-CZ" sz="2800" spc="-1" strike="noStrike">
                <a:solidFill>
                  <a:srgbClr val="feec94"/>
                </a:solidFill>
                <a:latin typeface="Times New Roman"/>
              </a:rPr>
              <a:t>Michel de Certeau</a:t>
            </a:r>
            <a:r>
              <a:rPr b="0" lang="cs-CZ" sz="2800" spc="-1" strike="noStrike">
                <a:solidFill>
                  <a:srgbClr val="ffffff"/>
                </a:solidFill>
                <a:latin typeface="Times New Roman"/>
              </a:rPr>
              <a:t> ve své práci The Practice of Everyday Life (1984), kde opouští tradiční zájem o problematiku individua a </a:t>
            </a:r>
            <a:r>
              <a:rPr b="1" lang="cs-CZ" sz="2800" spc="-1" strike="noStrike">
                <a:solidFill>
                  <a:srgbClr val="ffffff"/>
                </a:solidFill>
                <a:latin typeface="Times New Roman"/>
              </a:rPr>
              <a:t>propojuje téma každodennosti se sférou populární či běžné kultury,</a:t>
            </a:r>
            <a:r>
              <a:rPr b="0" lang="cs-CZ" sz="2800" spc="-1" strike="noStrike">
                <a:solidFill>
                  <a:srgbClr val="ffffff"/>
                </a:solidFill>
                <a:latin typeface="Times New Roman"/>
              </a:rPr>
              <a:t> již nahlíží jako </a:t>
            </a:r>
            <a:r>
              <a:rPr b="1" lang="cs-CZ" sz="2800" spc="-1" strike="noStrike">
                <a:solidFill>
                  <a:srgbClr val="feec94"/>
                </a:solidFill>
                <a:latin typeface="Times New Roman"/>
              </a:rPr>
              <a:t>místo potenciální opozice vůči dominantnímu tlaku společnosti.</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Jeho pojetí představuje verzi „</a:t>
            </a:r>
            <a:r>
              <a:rPr b="0" lang="cs-CZ" sz="2800" spc="-1" strike="noStrike">
                <a:solidFill>
                  <a:srgbClr val="feec94"/>
                </a:solidFill>
                <a:latin typeface="Times New Roman"/>
              </a:rPr>
              <a:t>nového populismu</a:t>
            </a:r>
            <a:r>
              <a:rPr b="0" lang="cs-CZ" sz="2800" spc="-1" strike="noStrike">
                <a:solidFill>
                  <a:srgbClr val="ffffff"/>
                </a:solidFill>
                <a:latin typeface="Times New Roman"/>
              </a:rPr>
              <a:t>“, která vidí v každodenním životě možnosti pro překonání limitů současné mocensky orientované politiky. </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velmi optimisticky vykresluje možnosti, </a:t>
            </a:r>
            <a:endParaRPr b="0" lang="en-US" sz="2800" spc="-1" strike="noStrike">
              <a:solidFill>
                <a:srgbClr val="ffffff"/>
              </a:solidFill>
              <a:latin typeface="Times New Roman"/>
            </a:endParaRPr>
          </a:p>
          <a:p>
            <a:pPr marL="9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t>
            </a:r>
            <a:r>
              <a:rPr b="1" lang="cs-CZ" sz="2800" spc="-1" strike="noStrike">
                <a:solidFill>
                  <a:srgbClr val="feec94"/>
                </a:solidFill>
                <a:latin typeface="Times New Roman"/>
              </a:rPr>
              <a:t>taktiky slabých“</a:t>
            </a:r>
            <a:r>
              <a:rPr b="0" lang="cs-CZ" sz="2800" spc="-1" strike="noStrike">
                <a:solidFill>
                  <a:srgbClr val="feec94"/>
                </a:solidFill>
                <a:latin typeface="Times New Roman"/>
              </a:rPr>
              <a:t>,</a:t>
            </a:r>
            <a:r>
              <a:rPr b="0" lang="cs-CZ" sz="2800" spc="-1" strike="noStrike">
                <a:solidFill>
                  <a:srgbClr val="ffffff"/>
                </a:solidFill>
                <a:latin typeface="Times New Roman"/>
              </a:rPr>
              <a:t> kteří jsou podle jeho názoru schopni odolávat mocenské </a:t>
            </a:r>
            <a:r>
              <a:rPr b="1" lang="cs-CZ" sz="2800" spc="-1" strike="noStrike">
                <a:solidFill>
                  <a:srgbClr val="feec94"/>
                </a:solidFill>
                <a:latin typeface="Times New Roman"/>
              </a:rPr>
              <a:t>„strategii silných“.</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poziční potenciál každodenního života vysvětluje metaforou </a:t>
            </a:r>
            <a:r>
              <a:rPr b="1" lang="cs-CZ" sz="2800" spc="-1" strike="noStrike">
                <a:solidFill>
                  <a:srgbClr val="ffffff"/>
                </a:solidFill>
                <a:latin typeface="Times New Roman"/>
              </a:rPr>
              <a:t>„partyzánské války“,</a:t>
            </a:r>
            <a:r>
              <a:rPr b="0" lang="cs-CZ" sz="2800" spc="-1" strike="noStrike">
                <a:solidFill>
                  <a:srgbClr val="ffffff"/>
                </a:solidFill>
                <a:latin typeface="Times New Roman"/>
              </a:rPr>
              <a:t> ve které se snažíme jako členové „publika“ uplatňovat jisté formy teroristického, tj. rezistentního jednání, „taktiky“ vůči dominující společnosti. Naše každodenní aktivity, světské praxe, které zahrnují domácí či rodinné chování, běžné hovory,  ale i nakupování či vaření mají podle něho povahu </a:t>
            </a:r>
            <a:r>
              <a:rPr b="1" lang="cs-CZ" sz="2800" spc="-1" strike="noStrike">
                <a:solidFill>
                  <a:srgbClr val="ffffff"/>
                </a:solidFill>
                <a:latin typeface="Times New Roman"/>
              </a:rPr>
              <a:t>„taktiky“, „slabých“ bránící se tlaku „silných“. </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1984) hovoří o tzv. </a:t>
            </a:r>
            <a:r>
              <a:rPr b="1" lang="cs-CZ" sz="2800" spc="-1" strike="noStrike">
                <a:solidFill>
                  <a:srgbClr val="ffffff"/>
                </a:solidFill>
                <a:latin typeface="Times New Roman"/>
              </a:rPr>
              <a:t>guerillové „taktice slabých“ namířené proti „strategii mocných“, kteří budují místa, kde mohou realizovat svou moc - města, nákupní střediska, školy atd.</a:t>
            </a:r>
            <a:r>
              <a:rPr b="0" lang="cs-CZ" sz="2800" spc="-1" strike="noStrike">
                <a:solidFill>
                  <a:srgbClr val="ffffff"/>
                </a:solidFill>
                <a:latin typeface="Times New Roman"/>
              </a:rPr>
              <a:t> „Slabí“ si pak v rámci těchto prostorů vymezují svůj vlastní prostor, který defacto okupuj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3200" spc="-1" strike="noStrike" u="sng">
                <a:solidFill>
                  <a:srgbClr val="feec94"/>
                </a:solidFill>
                <a:uFillTx/>
                <a:latin typeface="Times New Roman"/>
              </a:rPr>
              <a:t>HLAVNÍ OTÁZKY</a:t>
            </a:r>
            <a:r>
              <a:rPr b="1" lang="en-US" sz="3200" spc="-1" strike="noStrike">
                <a:solidFill>
                  <a:srgbClr val="feec94"/>
                </a:solidFill>
                <a:latin typeface="Times New Roman"/>
              </a:rPr>
              <a:t>:</a:t>
            </a:r>
            <a:endParaRPr b="1" lang="en-US" sz="3200" spc="-1" strike="noStrike">
              <a:solidFill>
                <a:srgbClr val="feec94"/>
              </a:solidFill>
              <a:latin typeface="Times New Roman"/>
            </a:endParaRPr>
          </a:p>
        </p:txBody>
      </p:sp>
      <p:sp>
        <p:nvSpPr>
          <p:cNvPr id="12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došlo k tomu, že se televize tak intimně a hluboko zapsala do každodenních životů populace téměř na celém svět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rostřednictvím jakých mechanismů byla/je televize začleňována do moderní či pozdněmoderní každodennost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lze charakterizovat proměny chování televizního (mediálního) publika?</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t>
            </a:r>
            <a:r>
              <a:rPr b="1" lang="cs-CZ" sz="3200" spc="-1" strike="noStrike">
                <a:solidFill>
                  <a:srgbClr val="ffffff"/>
                </a:solidFill>
                <a:latin typeface="Times New Roman"/>
              </a:rPr>
              <a:t>Mocní“ </a:t>
            </a:r>
            <a:r>
              <a:rPr b="1" lang="cs-CZ" sz="3200" spc="-1" strike="noStrike">
                <a:solidFill>
                  <a:srgbClr val="feec94"/>
                </a:solidFill>
                <a:latin typeface="Times New Roman"/>
              </a:rPr>
              <a:t>kontrolují místa a zboží, které tvoří parametry každodenního života</a:t>
            </a:r>
            <a:r>
              <a:rPr b="1" lang="cs-CZ" sz="3200" spc="-1" strike="noStrike">
                <a:solidFill>
                  <a:srgbClr val="ffffff"/>
                </a:solidFill>
                <a:latin typeface="Times New Roman"/>
              </a:rPr>
              <a:t>, al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lastní „taktiky přežití“, respektive užívání zboží mají </a:t>
            </a:r>
            <a:r>
              <a:rPr b="1" lang="cs-CZ" sz="3200" spc="-1" strike="noStrike">
                <a:solidFill>
                  <a:srgbClr val="feec94"/>
                </a:solidFill>
                <a:latin typeface="Times New Roman"/>
              </a:rPr>
              <a:t>individuální charakter</a:t>
            </a:r>
            <a:r>
              <a:rPr b="1" lang="cs-CZ" sz="3200" spc="-1" strike="noStrike">
                <a:solidFill>
                  <a:srgbClr val="ffffff"/>
                </a:solidFill>
                <a:latin typeface="Times New Roman"/>
              </a:rPr>
              <a:t>.</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v dané souvislosti užívá i další metafory </a:t>
            </a:r>
            <a:r>
              <a:rPr b="1" lang="cs-CZ" sz="3200" spc="-1" strike="noStrike">
                <a:solidFill>
                  <a:srgbClr val="ffffff"/>
                </a:solidFill>
                <a:latin typeface="Times New Roman"/>
              </a:rPr>
              <a:t>(např. poaching - pytlačení),</a:t>
            </a:r>
            <a:r>
              <a:rPr b="0" lang="cs-CZ" sz="3200" spc="-1" strike="noStrike">
                <a:solidFill>
                  <a:srgbClr val="ffffff"/>
                </a:solidFill>
                <a:latin typeface="Times New Roman"/>
              </a:rPr>
              <a:t> prostřednictvím kterých se snaží zachytit povahu „taktiky“ „slabých“, respektive dynamiku každodennosti a směřuje tak ke </a:t>
            </a:r>
            <a:r>
              <a:rPr b="1" lang="cs-CZ" sz="3200" spc="-1" strike="noStrike">
                <a:solidFill>
                  <a:srgbClr val="ffffff"/>
                </a:solidFill>
                <a:latin typeface="Times New Roman"/>
              </a:rPr>
              <a:t>konceptualizaci způsobů, jak zacházíme v každodennosti s objekty a strategickými prostory sociálního živo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Jde de facto o </a:t>
            </a:r>
            <a:r>
              <a:rPr b="1" lang="cs-CZ" sz="3000" spc="-1" strike="noStrike">
                <a:solidFill>
                  <a:srgbClr val="feec94"/>
                </a:solidFill>
                <a:latin typeface="Times New Roman"/>
              </a:rPr>
              <a:t>mechanismy resistence</a:t>
            </a:r>
            <a:r>
              <a:rPr b="1" lang="cs-CZ" sz="3000" spc="-1" strike="noStrike">
                <a:solidFill>
                  <a:srgbClr val="ffffff"/>
                </a:solidFill>
                <a:latin typeface="Times New Roman"/>
              </a:rPr>
              <a:t> </a:t>
            </a:r>
            <a:r>
              <a:rPr b="0" lang="cs-CZ" sz="3000" spc="-1" strike="noStrike">
                <a:solidFill>
                  <a:srgbClr val="ffffff"/>
                </a:solidFill>
                <a:latin typeface="Times New Roman"/>
              </a:rPr>
              <a:t>vůči existujícímu sociálnímu řádu realizované na rozdíl od zjevných, více méně veřejných praktik politického charakteru, prostřednictvím nenápadné improvizace, pro kterou užívá termín </a:t>
            </a:r>
            <a:r>
              <a:rPr b="1" lang="cs-CZ" sz="3000" spc="-1" strike="noStrike">
                <a:solidFill>
                  <a:srgbClr val="feec94"/>
                </a:solidFill>
                <a:latin typeface="Times New Roman"/>
              </a:rPr>
              <a:t>„la perruque“.</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V případě televizního působení tedy </a:t>
            </a:r>
            <a:r>
              <a:rPr b="1" lang="cs-CZ" sz="3000" spc="-1" strike="noStrike">
                <a:solidFill>
                  <a:srgbClr val="feec94"/>
                </a:solidFill>
                <a:latin typeface="Times New Roman"/>
              </a:rPr>
              <a:t>„strategie“ mocných zahrnuje kontrolu mediální agendy</a:t>
            </a:r>
            <a:r>
              <a:rPr b="0" lang="cs-CZ" sz="3000" spc="-1" strike="noStrike">
                <a:solidFill>
                  <a:srgbClr val="feec94"/>
                </a:solidFill>
                <a:latin typeface="Times New Roman"/>
              </a:rPr>
              <a:t>,</a:t>
            </a:r>
            <a:r>
              <a:rPr b="0" lang="cs-CZ" sz="3000" spc="-1" strike="noStrike">
                <a:solidFill>
                  <a:srgbClr val="ffffff"/>
                </a:solidFill>
                <a:latin typeface="Times New Roman"/>
              </a:rPr>
              <a:t> zatímco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a:t>
            </a:r>
            <a:r>
              <a:rPr b="1" lang="cs-CZ" sz="3000" spc="-1" strike="noStrike">
                <a:solidFill>
                  <a:srgbClr val="ffffff"/>
                </a:solidFill>
                <a:latin typeface="Times New Roman"/>
              </a:rPr>
              <a:t>taktika slabých“ se promítá do ovládání vlastního textu.</a:t>
            </a:r>
            <a:r>
              <a:rPr b="0" lang="cs-CZ"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Schopnost diváků reinterpretovat významy však není ekvivalentní diskurzivní moci centralizovaných mediálních institucí, které vytvářejí texty, jež divák interpretuje.</a:t>
            </a:r>
            <a:endParaRPr b="0" lang="en-US" sz="3000" spc="-1" strike="noStrike">
              <a:solidFill>
                <a:srgbClr val="ffffff"/>
              </a:solidFill>
              <a:latin typeface="Times New Roman"/>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přirovnává každodenní život sociálních aktérů </a:t>
            </a:r>
            <a:r>
              <a:rPr b="1" lang="cs-CZ" sz="3200" spc="-1" strike="noStrike">
                <a:solidFill>
                  <a:srgbClr val="feec94"/>
                </a:solidFill>
                <a:latin typeface="Times New Roman"/>
              </a:rPr>
              <a:t>aktivitě „chodců</a:t>
            </a:r>
            <a:r>
              <a:rPr b="1" lang="cs-CZ" sz="3200" spc="-1" strike="noStrike">
                <a:solidFill>
                  <a:srgbClr val="ffffff"/>
                </a:solidFill>
                <a:latin typeface="Times New Roman"/>
              </a:rPr>
              <a:t>“,</a:t>
            </a:r>
            <a:r>
              <a:rPr b="0" lang="cs-CZ" sz="3200" spc="-1" strike="noStrike">
                <a:solidFill>
                  <a:srgbClr val="ffffff"/>
                </a:solidFill>
                <a:latin typeface="Times New Roman"/>
              </a:rPr>
              <a:t> kteří vytvářejí či splétají své vlastní cesty v pevně daných kulisách města, kde hledají jako na mapě svou cestu.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še, co činí, však </a:t>
            </a:r>
            <a:r>
              <a:rPr b="1" lang="cs-CZ" sz="3200" spc="-1" strike="noStrike">
                <a:solidFill>
                  <a:srgbClr val="feec94"/>
                </a:solidFill>
                <a:latin typeface="Times New Roman"/>
              </a:rPr>
              <a:t>podléhá kulturnímu uspořádání tohoto prostředí, ale zároveň je transformováno obrannou</a:t>
            </a:r>
            <a:r>
              <a:rPr b="1" lang="cs-CZ" sz="3200" spc="-1" strike="noStrike">
                <a:solidFill>
                  <a:srgbClr val="ffffff"/>
                </a:solidFill>
                <a:latin typeface="Times New Roman"/>
              </a:rPr>
              <a:t> „taktikou slabý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De Certeau vidí každodenní život jako modus operandi běžných sociálních aktérů. Z</a:t>
            </a:r>
            <a:r>
              <a:rPr b="1" lang="cs-CZ" sz="3200" spc="-1" strike="noStrike">
                <a:solidFill>
                  <a:srgbClr val="ffffff"/>
                </a:solidFill>
                <a:latin typeface="Times New Roman"/>
              </a:rPr>
              <a:t>totožňuje  každodennost s běžnou či populární kulturou podobně jako John Fisk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I./ </a:t>
            </a:r>
            <a:r>
              <a:rPr b="0" lang="cs-CZ" sz="3200" spc="-1" strike="noStrike">
                <a:solidFill>
                  <a:srgbClr val="feec94"/>
                </a:solidFill>
                <a:latin typeface="Times New Roman"/>
              </a:rPr>
              <a:t>O</a:t>
            </a:r>
            <a:r>
              <a:rPr b="1" lang="cs-CZ" sz="3200" spc="-1" strike="noStrike" u="sng">
                <a:solidFill>
                  <a:srgbClr val="feec94"/>
                </a:solidFill>
                <a:uFillTx/>
                <a:latin typeface="Times New Roman"/>
              </a:rPr>
              <a:t>bjektově relační teorie,</a:t>
            </a:r>
            <a:r>
              <a:rPr b="1" lang="cs-CZ" sz="3200" spc="-1" strike="noStrike">
                <a:solidFill>
                  <a:srgbClr val="ffffff"/>
                </a:solidFill>
                <a:latin typeface="Times New Roman"/>
              </a:rPr>
              <a:t> upozorňuje na </a:t>
            </a:r>
            <a:r>
              <a:rPr b="0" lang="cs-CZ" sz="3200" spc="-1" strike="noStrike">
                <a:solidFill>
                  <a:srgbClr val="ffffff"/>
                </a:solidFill>
                <a:latin typeface="Times New Roman"/>
              </a:rPr>
              <a:t>p</a:t>
            </a:r>
            <a:r>
              <a:rPr b="1" lang="cs-CZ" sz="3200" spc="-1" strike="noStrike">
                <a:solidFill>
                  <a:srgbClr val="ffffff"/>
                </a:solidFill>
                <a:latin typeface="Times New Roman"/>
              </a:rPr>
              <a:t>aradoxní povahu každodennosti.</a:t>
            </a:r>
            <a:r>
              <a:rPr b="0" lang="cs-CZ" sz="3200" spc="-1" strike="noStrike">
                <a:solidFill>
                  <a:srgbClr val="ffffff"/>
                </a:solidFill>
                <a:latin typeface="Times New Roman"/>
              </a:rPr>
              <a:t> elegantně zachycuje ústy britského psychoanalytika Donalda Winnicotta, a to v kontextu své teorie </a:t>
            </a:r>
            <a:r>
              <a:rPr b="1" lang="cs-CZ" sz="3200" spc="-1" strike="noStrike">
                <a:solidFill>
                  <a:srgbClr val="ffffff"/>
                </a:solidFill>
                <a:latin typeface="Times New Roman"/>
              </a:rPr>
              <a:t>symbolického významu tzv.</a:t>
            </a:r>
            <a:r>
              <a:rPr b="1" lang="cs-CZ" sz="3200" spc="-1" strike="noStrike" u="sng">
                <a:solidFill>
                  <a:srgbClr val="feec94"/>
                </a:solidFill>
                <a:uFillTx/>
                <a:latin typeface="Times New Roman"/>
              </a:rPr>
              <a:t> přechodného objektu.</a:t>
            </a:r>
            <a:r>
              <a:rPr b="0" lang="cs-CZ" sz="3200" spc="-1" strike="noStrike">
                <a:solidFill>
                  <a:srgbClr val="ffffff"/>
                </a:solidFill>
                <a:latin typeface="Times New Roman"/>
              </a:rPr>
              <a:t> Jde o </a:t>
            </a:r>
            <a:r>
              <a:rPr b="1" lang="cs-CZ" sz="3200" spc="-1" strike="noStrike">
                <a:solidFill>
                  <a:srgbClr val="ffffff"/>
                </a:solidFill>
                <a:latin typeface="Times New Roman"/>
              </a:rPr>
              <a:t>takový objekt, o kterém si dítě myslí,  že je mezi ním samým a jinou osobou.</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typickém případě jde o panenku nebo kousek látky, jež si dítě schovává jako poklad a používá jako utěšitele. Podle Winnicotta </a:t>
            </a:r>
            <a:r>
              <a:rPr b="1" lang="cs-CZ" sz="3200" spc="-1" strike="noStrike">
                <a:solidFill>
                  <a:srgbClr val="feec94"/>
                </a:solidFill>
                <a:latin typeface="Times New Roman"/>
              </a:rPr>
              <a:t>má dítě iluzi magické tvůrčí moci a potvrzuje tuto svou představu omnipotence magickým ovládáním světa právě v podobě silného lpění na nějakém objektu, například hračce, o které se domnívá, že ji stvořilo</a:t>
            </a:r>
            <a:r>
              <a:rPr b="0" lang="cs-CZ" sz="3200" spc="-1" strike="noStrike">
                <a:solidFill>
                  <a:srgbClr val="feec94"/>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ítě tak defacto </a:t>
            </a:r>
            <a:r>
              <a:rPr b="1" lang="cs-CZ" sz="2800" spc="-1" strike="noStrike">
                <a:solidFill>
                  <a:srgbClr val="ffffff"/>
                </a:solidFill>
                <a:latin typeface="Times New Roman"/>
              </a:rPr>
              <a:t>podle něho takový přechodný objekt jednak samo vytváří, ale současně platí, že tento objekt existuje již před tímto tvůrčím aktem a čeká na to, až bude obsazen</a:t>
            </a:r>
            <a:r>
              <a:rPr b="0" lang="cs-CZ" sz="2800" spc="-1" strike="noStrike">
                <a:solidFill>
                  <a:srgbClr val="ffffff"/>
                </a:solidFill>
                <a:latin typeface="Times New Roman"/>
              </a:rPr>
              <a:t>. Winnicott tak upozorňuje na skutečnost, že zde </a:t>
            </a:r>
            <a:r>
              <a:rPr b="1" lang="cs-CZ" sz="2800" spc="-1" strike="noStrike">
                <a:solidFill>
                  <a:srgbClr val="ffffff"/>
                </a:solidFill>
                <a:latin typeface="Times New Roman"/>
              </a:rPr>
              <a:t>máme dvě možnost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jedna předpokládá, že dítě objekt vytvořilo sam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druhá vychází z toho, že jej pouze našl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de o klíčovou otázku týkající se jádra problematiky každodenního života. Každodenní </a:t>
            </a:r>
            <a:r>
              <a:rPr b="1" lang="cs-CZ" sz="2800" spc="-1" strike="noStrike" u="sng">
                <a:solidFill>
                  <a:srgbClr val="ffffff"/>
                </a:solidFill>
                <a:uFillTx/>
                <a:latin typeface="Times New Roman"/>
              </a:rPr>
              <a:t>kulturu dostáváme, jsme do ní vrženi a současně ji i vytváříme.</a:t>
            </a:r>
            <a:r>
              <a:rPr b="1" lang="cs-CZ" sz="2800" spc="-1" strike="noStrike">
                <a:solidFill>
                  <a:srgbClr val="ffffff"/>
                </a:solidFill>
                <a:latin typeface="Times New Roman"/>
              </a:rPr>
              <a:t> Jinými slovy, paradoxní povaha každodenního života je dána tím, že je sice ve své podstatě kreativní, ale zároveň je k této své tvůrčí aktivitě slepý.</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kultura je definována právě tímto paradoxem či dvojznačnost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namená jak kreativní, aktivní praxi, tak jde současně o aktivitu, která je podmíněna jistou psychickou „kapacitou“,  či  řečeno s Pierem Bourdieu, symbolickým kapitálem.</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Komponenty uvedeného paradoxu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NALEZENÝ</a:t>
            </a:r>
            <a:r>
              <a:rPr b="1" lang="cs-CZ" sz="3200" spc="-1" strike="noStrike">
                <a:solidFill>
                  <a:srgbClr val="ffffff"/>
                </a:solidFill>
                <a:latin typeface="Times New Roman"/>
              </a:rPr>
              <a:t>/VYTVOŘENÝ OBJEK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významy vynucené</a:t>
            </a:r>
            <a:r>
              <a:rPr b="1" lang="cs-CZ" sz="3200" spc="-1" strike="noStrike">
                <a:solidFill>
                  <a:srgbClr val="ffffff"/>
                </a:solidFill>
                <a:latin typeface="Times New Roman"/>
              </a:rPr>
              <a:t> nebo významy vytvořené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eec94"/>
                </a:solidFill>
                <a:latin typeface="Times New Roman"/>
              </a:rPr>
              <a:t>pasivní</a:t>
            </a:r>
            <a:r>
              <a:rPr b="1" lang="cs-CZ" sz="3200" spc="-1" strike="noStrike">
                <a:solidFill>
                  <a:srgbClr val="ffffff"/>
                </a:solidFill>
                <a:latin typeface="Times New Roman"/>
              </a:rPr>
              <a:t> nebo aktivní forma recepc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VYTVÁŘEJÍ KONSTANTNÍ NAPĚT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ZÁKLADNÍ DICHOTOMIE CHARAKTERIZUJÍCÍ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MODERNÍ KAŽDODENNO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1" lang="cs-CZ" sz="3200" spc="-1" strike="noStrike">
                <a:solidFill>
                  <a:srgbClr val="ffffff"/>
                </a:solidFill>
                <a:latin typeface="Times New Roman"/>
              </a:rPr>
              <a:t>Speciální-------Obec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ociální jednání---------Sociální struktur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Cítění/Zkušenost--------Diskurzy/Institu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Odpor------------Mo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Mikroanalýza-------Makroanalýz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60"/>
            <a:ext cx="822960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 </a:t>
            </a:r>
            <a:r>
              <a:rPr b="1" lang="cs-CZ" sz="3200" spc="-1" strike="noStrike">
                <a:solidFill>
                  <a:srgbClr val="feec94"/>
                </a:solidFill>
                <a:latin typeface="Times New Roman"/>
              </a:rPr>
              <a:t>HLAVNÍ NAPĚTÍ CHARAKTERIZUJÍCÍ VZTAH TV A KAŽDODENNOST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eec94"/>
                </a:solidFill>
                <a:latin typeface="Times New Roman"/>
              </a:rPr>
              <a:t>ÚKOL: </a:t>
            </a:r>
            <a:r>
              <a:rPr b="1" lang="en-US" sz="2800" spc="-1" strike="noStrike">
                <a:solidFill>
                  <a:srgbClr val="ffffff"/>
                </a:solidFill>
                <a:latin typeface="Times New Roman"/>
              </a:rPr>
              <a:t>Pokuste se analyzovat každodenní narativní strukturu filmu</a:t>
            </a:r>
            <a:r>
              <a:rPr b="1" lang="en-US" sz="2800" spc="-1" strike="noStrike">
                <a:solidFill>
                  <a:srgbClr val="feec94"/>
                </a:solidFill>
                <a:latin typeface="Times New Roman"/>
              </a:rPr>
              <a:t> </a:t>
            </a:r>
            <a:r>
              <a:rPr b="1" i="1" lang="en-US" sz="2800" spc="-1" strike="noStrike">
                <a:solidFill>
                  <a:srgbClr val="feec94"/>
                </a:solidFill>
                <a:latin typeface="Times New Roman"/>
              </a:rPr>
              <a:t>ECCE HOMO HOMOLKA. </a:t>
            </a:r>
            <a:br>
              <a:rPr sz="2800"/>
            </a:br>
            <a:r>
              <a:rPr b="1" i="1" lang="en-US" sz="2000" spc="-1" strike="noStrike">
                <a:solidFill>
                  <a:srgbClr val="feec94"/>
                </a:solidFill>
                <a:latin typeface="Times New Roman"/>
              </a:rPr>
              <a:t>Filmové studio Barrandov, 1969, režie: Jaroslav Papoušek.</a:t>
            </a:r>
            <a:r>
              <a:rPr b="1" lang="en-US" sz="2000" spc="-1" strike="noStrike">
                <a:solidFill>
                  <a:srgbClr val="feec94"/>
                </a:solidFill>
                <a:latin typeface="Times New Roman"/>
              </a:rPr>
              <a:t>za pomoci níže uvedených otázek</a:t>
            </a:r>
            <a:br>
              <a:rPr sz="2000"/>
            </a:br>
            <a:endParaRPr b="1" lang="en-US" sz="2000" spc="-1" strike="noStrike">
              <a:solidFill>
                <a:srgbClr val="feec94"/>
              </a:solidFill>
              <a:latin typeface="Times New Roman"/>
            </a:endParaRPr>
          </a:p>
        </p:txBody>
      </p:sp>
      <p:sp>
        <p:nvSpPr>
          <p:cNvPr id="17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1/ Kde jsou ve filmu patrná uvedená </a:t>
            </a:r>
            <a:r>
              <a:rPr b="1" lang="cs-CZ" sz="2400" spc="-1" strike="noStrike">
                <a:solidFill>
                  <a:srgbClr val="feec94"/>
                </a:solidFill>
                <a:latin typeface="Times New Roman"/>
              </a:rPr>
              <a:t>napět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2/ Jak a kde se zde pracuje s </a:t>
            </a:r>
            <a:r>
              <a:rPr b="1" lang="cs-CZ" sz="2400" spc="-1" strike="noStrike">
                <a:solidFill>
                  <a:srgbClr val="feec94"/>
                </a:solidFill>
                <a:latin typeface="Times New Roman"/>
              </a:rPr>
              <a:t>repetitivními činnostmi</a:t>
            </a:r>
            <a:r>
              <a:rPr b="1" lang="cs-CZ" sz="2400" spc="-1" strike="noStrike">
                <a:solidFill>
                  <a:srgbClr val="ffffff"/>
                </a:solidFill>
                <a:latin typeface="Times New Roman"/>
              </a:rPr>
              <a:t>, jak jsou využívány při rozvíjení narac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3/ Lze v textu najít výše zmíněný spor mezi </a:t>
            </a:r>
            <a:r>
              <a:rPr b="1" lang="cs-CZ" sz="2400" spc="-1" strike="noStrike">
                <a:solidFill>
                  <a:srgbClr val="feec94"/>
                </a:solidFill>
                <a:latin typeface="Times New Roman"/>
              </a:rPr>
              <a:t>posvátným a profánním</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4/ Je zde naznačena nějaká forma </a:t>
            </a:r>
            <a:r>
              <a:rPr b="1" lang="cs-CZ" sz="2400" spc="-1" strike="noStrike">
                <a:solidFill>
                  <a:srgbClr val="feec94"/>
                </a:solidFill>
                <a:latin typeface="Times New Roman"/>
              </a:rPr>
              <a:t>subverze</a:t>
            </a:r>
            <a:r>
              <a:rPr b="1" lang="cs-CZ" sz="2400" spc="-1" strike="noStrike">
                <a:solidFill>
                  <a:srgbClr val="ffffff"/>
                </a:solidFill>
                <a:latin typeface="Times New Roman"/>
              </a:rPr>
              <a:t> každodenního státu quo?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5/ </a:t>
            </a:r>
            <a:r>
              <a:rPr b="1" lang="cs-CZ" sz="2400" spc="-1" strike="noStrike">
                <a:solidFill>
                  <a:srgbClr val="feec94"/>
                </a:solidFill>
                <a:latin typeface="Times New Roman"/>
              </a:rPr>
              <a:t>Jde tedy o potvrzení konformního nebo rezistenčního pojetí každodennost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6/ Kde lze zachytit uplatňování „</a:t>
            </a:r>
            <a:r>
              <a:rPr b="1" lang="cs-CZ" sz="2400" spc="-1" strike="noStrike">
                <a:solidFill>
                  <a:srgbClr val="feec94"/>
                </a:solidFill>
                <a:latin typeface="Times New Roman"/>
              </a:rPr>
              <a:t>taktik slabých“ vs. „strategie mocnýc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	</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FUNGUJE KAŽDODENNOST JAKO CVIČIŠTĚ KONFORMITY NEBO JE PROSTOREM REZISTENCE?</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 </a:t>
            </a:r>
            <a:r>
              <a:rPr b="1" lang="en-US" sz="2400" spc="-1" strike="noStrike" u="sng">
                <a:solidFill>
                  <a:srgbClr val="feec94"/>
                </a:solidFill>
                <a:uFillTx/>
                <a:latin typeface="Times New Roman"/>
              </a:rPr>
              <a:t>Z Á K L A D N Í    T E Z E</a:t>
            </a:r>
            <a:endParaRPr b="1" lang="en-US" sz="2400" spc="-1" strike="noStrike">
              <a:solidFill>
                <a:srgbClr val="feec94"/>
              </a:solidFill>
              <a:latin typeface="Times New Roman"/>
            </a:endParaRPr>
          </a:p>
        </p:txBody>
      </p:sp>
      <p:sp>
        <p:nvSpPr>
          <p:cNvPr id="127"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Televize je významným </a:t>
            </a:r>
            <a:r>
              <a:rPr b="1" lang="cs-CZ" sz="2400" spc="-1" strike="noStrike">
                <a:solidFill>
                  <a:srgbClr val="feec94"/>
                </a:solidFill>
                <a:latin typeface="Times New Roman"/>
              </a:rPr>
              <a:t>produktem </a:t>
            </a:r>
            <a:r>
              <a:rPr b="0" lang="cs-CZ" sz="2400" spc="-1" strike="noStrike">
                <a:solidFill>
                  <a:srgbClr val="ffffff"/>
                </a:solidFill>
                <a:latin typeface="Times New Roman"/>
              </a:rPr>
              <a:t>a současně i</a:t>
            </a:r>
            <a:r>
              <a:rPr b="1" lang="cs-CZ" sz="2400" spc="-1" strike="noStrike">
                <a:solidFill>
                  <a:srgbClr val="ffffff"/>
                </a:solidFill>
                <a:latin typeface="Times New Roman"/>
              </a:rPr>
              <a:t> </a:t>
            </a:r>
            <a:r>
              <a:rPr b="1" lang="cs-CZ" sz="2400" spc="-1" strike="noStrike">
                <a:solidFill>
                  <a:srgbClr val="feec94"/>
                </a:solidFill>
                <a:latin typeface="Times New Roman"/>
              </a:rPr>
              <a:t>spolutvůrcem</a:t>
            </a:r>
            <a:r>
              <a:rPr b="1" lang="cs-CZ" sz="2400" spc="-1" strike="noStrike">
                <a:solidFill>
                  <a:srgbClr val="ffffff"/>
                </a:solidFill>
                <a:latin typeface="Times New Roman"/>
              </a:rPr>
              <a:t> </a:t>
            </a:r>
            <a:r>
              <a:rPr b="0" lang="cs-CZ" sz="2400" spc="-1" strike="noStrike">
                <a:solidFill>
                  <a:srgbClr val="ffffff"/>
                </a:solidFill>
                <a:latin typeface="Times New Roman"/>
              </a:rPr>
              <a:t>kapitalistické verze</a:t>
            </a:r>
            <a:r>
              <a:rPr b="1" lang="cs-CZ" sz="2400" spc="-1" strike="noStrike">
                <a:solidFill>
                  <a:srgbClr val="ffffff"/>
                </a:solidFill>
                <a:latin typeface="Times New Roman"/>
              </a:rPr>
              <a:t> </a:t>
            </a:r>
            <a:r>
              <a:rPr b="1" lang="cs-CZ" sz="2400" spc="-1" strike="noStrike" u="sng">
                <a:solidFill>
                  <a:srgbClr val="feec94"/>
                </a:solidFill>
                <a:uFillTx/>
                <a:latin typeface="Times New Roman"/>
              </a:rPr>
              <a:t>modernity</a:t>
            </a:r>
            <a:r>
              <a:rPr b="1" lang="cs-CZ" sz="2400" spc="-1" strike="noStrike">
                <a:solidFill>
                  <a:srgbClr val="feec94"/>
                </a:solidFill>
                <a:latin typeface="Times New Roman"/>
              </a:rPr>
              <a:t>,</a:t>
            </a:r>
            <a:r>
              <a:rPr b="1" lang="cs-CZ" sz="2400" spc="-1" strike="noStrike">
                <a:solidFill>
                  <a:srgbClr val="ffffff"/>
                </a:solidFill>
                <a:latin typeface="Times New Roman"/>
              </a:rPr>
              <a:t> </a:t>
            </a:r>
            <a:r>
              <a:rPr b="0" lang="cs-CZ" sz="2400" spc="-1" strike="noStrike">
                <a:solidFill>
                  <a:srgbClr val="ffffff"/>
                </a:solidFill>
                <a:latin typeface="Times New Roman"/>
              </a:rPr>
              <a:t>respektive její globalizující se podoby.</a:t>
            </a:r>
            <a:r>
              <a:rPr b="1" lang="cs-CZ" sz="2400" spc="-1" strike="noStrike">
                <a:solidFill>
                  <a:srgbClr val="ffffff"/>
                </a:solidFill>
                <a:latin typeface="Times New Roman"/>
              </a:rPr>
              <a:t> </a:t>
            </a:r>
            <a:r>
              <a:rPr b="0" lang="cs-CZ" sz="2400" spc="-1" strike="noStrike">
                <a:solidFill>
                  <a:srgbClr val="ffffff"/>
                </a:solidFill>
                <a:latin typeface="Times New Roman"/>
              </a:rPr>
              <a:t>Není s ní však svázána jen jako forma ekonomické aktivity a hraje též roli vlivné kulturní síly formující a produkující moderní individuální i skupinovou zkušenost. </a:t>
            </a:r>
            <a:r>
              <a:rPr b="1" lang="cs-CZ" sz="2400" spc="-1" strike="noStrike">
                <a:solidFill>
                  <a:srgbClr val="feec94"/>
                </a:solidFill>
                <a:latin typeface="Times New Roman"/>
              </a:rPr>
              <a:t>Nemůžeme ji proto automaticky zahrnout mezi ostatní technologie</a:t>
            </a:r>
            <a:r>
              <a:rPr b="1" lang="cs-CZ" sz="2400" spc="-1" strike="noStrike">
                <a:solidFill>
                  <a:srgbClr val="ffffff"/>
                </a:solidFill>
                <a:latin typeface="Times New Roman"/>
              </a:rPr>
              <a:t>, </a:t>
            </a:r>
            <a:r>
              <a:rPr b="0" lang="cs-CZ" sz="2400" spc="-1" strike="noStrike">
                <a:solidFill>
                  <a:srgbClr val="ffffff"/>
                </a:solidFill>
                <a:latin typeface="Times New Roman"/>
              </a:rPr>
              <a:t>od kterých se odlišuje především svou schopností výrazně ovlivňovat společenské i kulturní děje. Televize je křehkým  </a:t>
            </a:r>
            <a:r>
              <a:rPr b="1" lang="cs-CZ" sz="2400" spc="-1" strike="noStrike" u="sng">
                <a:solidFill>
                  <a:srgbClr val="feec94"/>
                </a:solidFill>
                <a:uFillTx/>
                <a:latin typeface="Times New Roman"/>
              </a:rPr>
              <a:t>s o c i o - t e c h n i c k ý m  s y s t é m e m</a:t>
            </a:r>
            <a:r>
              <a:rPr b="0" lang="cs-CZ" sz="2400" spc="-1" strike="noStrike" u="sng">
                <a:solidFill>
                  <a:srgbClr val="ffffff"/>
                </a:solidFill>
                <a:uFillTx/>
                <a:latin typeface="Times New Roman"/>
              </a:rPr>
              <a:t>.</a:t>
            </a:r>
            <a:r>
              <a:rPr b="0" lang="cs-CZ" sz="2400" spc="-1" strike="noStrike">
                <a:solidFill>
                  <a:srgbClr val="ffffff"/>
                </a:solidFill>
                <a:latin typeface="Times New Roman"/>
              </a:rPr>
              <a:t> který v sobě nese</a:t>
            </a:r>
            <a:r>
              <a:rPr b="1" lang="cs-CZ" sz="2400" spc="-1" strike="noStrike">
                <a:solidFill>
                  <a:srgbClr val="ffffff"/>
                </a:solidFill>
                <a:latin typeface="Times New Roman"/>
              </a:rPr>
              <a:t> </a:t>
            </a:r>
            <a:r>
              <a:rPr b="1" lang="cs-CZ" sz="2400" spc="-1" strike="noStrike">
                <a:solidFill>
                  <a:srgbClr val="feec94"/>
                </a:solidFill>
                <a:latin typeface="Times New Roman"/>
              </a:rPr>
              <a:t>dvě sady významů:</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a:t>
            </a:r>
            <a:r>
              <a:rPr b="0" lang="cs-CZ" sz="2400" spc="-1" strike="noStrike">
                <a:solidFill>
                  <a:srgbClr val="ffffff"/>
                </a:solidFill>
                <a:latin typeface="Times New Roman"/>
              </a:rPr>
              <a:t>Ty, které jsou více méně </a:t>
            </a:r>
            <a:r>
              <a:rPr b="0" lang="cs-CZ" sz="2400" spc="-1" strike="noStrike">
                <a:solidFill>
                  <a:srgbClr val="feec94"/>
                </a:solidFill>
                <a:latin typeface="Times New Roman"/>
              </a:rPr>
              <a:t>intencionálně </a:t>
            </a:r>
            <a:r>
              <a:rPr b="1" lang="cs-CZ" sz="2400" spc="-1" strike="noStrike">
                <a:solidFill>
                  <a:srgbClr val="feec94"/>
                </a:solidFill>
                <a:latin typeface="Times New Roman"/>
              </a:rPr>
              <a:t>konstruovány jejich producenty</a:t>
            </a:r>
            <a:r>
              <a:rPr b="0" lang="cs-CZ" sz="2400" spc="-1" strike="noStrike">
                <a:solidFill>
                  <a:srgbClr val="ffffff"/>
                </a:solidFill>
                <a:latin typeface="Times New Roman"/>
              </a:rPr>
              <a:t>, a b/ ty, jež jsou důsledkem </a:t>
            </a:r>
            <a:r>
              <a:rPr b="1" lang="cs-CZ" sz="2400" spc="-1" strike="noStrike">
                <a:solidFill>
                  <a:srgbClr val="feec94"/>
                </a:solidFill>
                <a:latin typeface="Times New Roman"/>
              </a:rPr>
              <a:t>její potenciální otevřenosti</a:t>
            </a:r>
            <a:r>
              <a:rPr b="0" lang="cs-CZ" sz="2400" spc="-1" strike="noStrike">
                <a:solidFill>
                  <a:srgbClr val="ffffff"/>
                </a:solidFill>
                <a:latin typeface="Times New Roman"/>
              </a:rPr>
              <a:t> jak v hardwarové, tak i softwarové oblasti.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Televize tak vede dvojí život.</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Na straně jedné </a:t>
            </a:r>
            <a:r>
              <a:rPr b="1" lang="cs-CZ" sz="2400" spc="-1" strike="noStrike">
                <a:solidFill>
                  <a:srgbClr val="feec94"/>
                </a:solidFill>
                <a:latin typeface="Times New Roman"/>
              </a:rPr>
              <a:t>naplňuje záměry svých tvůrců,</a:t>
            </a:r>
            <a:r>
              <a:rPr b="1" lang="cs-CZ" sz="2400" spc="-1" strike="noStrike">
                <a:solidFill>
                  <a:srgbClr val="ffffff"/>
                </a:solidFill>
                <a:latin typeface="Times New Roman"/>
              </a:rPr>
              <a:t> na straně druhé pak v </a:t>
            </a:r>
            <a:r>
              <a:rPr b="1" lang="cs-CZ" sz="2400" spc="-1" strike="noStrike">
                <a:solidFill>
                  <a:srgbClr val="feec94"/>
                </a:solidFill>
                <a:latin typeface="Times New Roman"/>
              </a:rPr>
              <a:t>kontaktu se sociálním i technologickým prostředím své původní určení modifikuje</a:t>
            </a:r>
            <a:r>
              <a:rPr b="0" lang="cs-CZ" sz="2400" spc="-1" strike="noStrike">
                <a:solidFill>
                  <a:srgbClr val="feec94"/>
                </a:solidFill>
                <a:latin typeface="Times New Roman"/>
              </a:rPr>
              <a:t>.</a:t>
            </a:r>
            <a:r>
              <a:rPr b="0" lang="cs-CZ" sz="2400" spc="-1" strike="noStrike">
                <a:solidFill>
                  <a:srgbClr val="ffffff"/>
                </a:solidFill>
                <a:latin typeface="Times New Roman"/>
              </a:rPr>
              <a:t> Televizi tak charakterizuje </a:t>
            </a:r>
            <a:r>
              <a:rPr b="1" lang="cs-CZ" sz="2400" spc="-1" strike="noStrike">
                <a:solidFill>
                  <a:srgbClr val="feec94"/>
                </a:solidFill>
                <a:latin typeface="Times New Roman"/>
              </a:rPr>
              <a:t>dvojitá povaha její závislosti</a:t>
            </a:r>
            <a:r>
              <a:rPr b="0" lang="cs-CZ" sz="2400" spc="-1" strike="noStrike">
                <a:solidFill>
                  <a:srgbClr val="ffffff"/>
                </a:solidFill>
                <a:latin typeface="Times New Roman"/>
              </a:rPr>
              <a:t>: a/ </a:t>
            </a:r>
            <a:r>
              <a:rPr b="0" lang="cs-CZ" sz="2400" spc="-1" strike="noStrike">
                <a:solidFill>
                  <a:srgbClr val="feec94"/>
                </a:solidFill>
                <a:latin typeface="Times New Roman"/>
              </a:rPr>
              <a:t>na obsazích</a:t>
            </a:r>
            <a:r>
              <a:rPr b="0" lang="cs-CZ" sz="2400" spc="-1" strike="noStrike">
                <a:solidFill>
                  <a:srgbClr val="ffffff"/>
                </a:solidFill>
                <a:latin typeface="Times New Roman"/>
              </a:rPr>
              <a:t>, které sama produkuje v rámci daného kulturního kontextu, b/ </a:t>
            </a:r>
            <a:r>
              <a:rPr b="0" lang="cs-CZ" sz="2400" spc="-1" strike="noStrike">
                <a:solidFill>
                  <a:srgbClr val="feec94"/>
                </a:solidFill>
                <a:latin typeface="Times New Roman"/>
              </a:rPr>
              <a:t>na technickém aparátu</a:t>
            </a:r>
            <a:r>
              <a:rPr b="0" lang="cs-CZ" sz="2400" spc="-1" strike="noStrike">
                <a:solidFill>
                  <a:srgbClr val="ffffff"/>
                </a:solidFill>
                <a:latin typeface="Times New Roman"/>
              </a:rPr>
              <a:t>, který jí umožňuje vlastní vysílání. Televizní technologie tedy funguje jako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1" lang="cs-CZ" sz="2400" spc="-1" strike="noStrike">
                <a:solidFill>
                  <a:srgbClr val="feec94"/>
                </a:solidFill>
                <a:latin typeface="Times New Roman"/>
              </a:rPr>
              <a:t>MATERIÁLNÍ I SYMBOLICKÝ OBJEK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II.</a:t>
            </a:r>
            <a:r>
              <a:rPr b="0" lang="cs-CZ" sz="3200" spc="-1" strike="noStrike">
                <a:solidFill>
                  <a:srgbClr val="ffffff"/>
                </a:solidFill>
                <a:latin typeface="Times New Roman"/>
              </a:rPr>
              <a:t> Televize je neoddělitelnou součástí naší každodennosti a do značné míry </a:t>
            </a:r>
            <a:r>
              <a:rPr b="1" lang="cs-CZ" sz="3200" spc="-1" strike="noStrike">
                <a:solidFill>
                  <a:srgbClr val="feec94"/>
                </a:solidFill>
                <a:latin typeface="Times New Roman"/>
              </a:rPr>
              <a:t>kolonizovala její prostorovou a časovou dimenzi,</a:t>
            </a:r>
            <a:r>
              <a:rPr b="0" lang="cs-CZ" sz="3200" spc="-1" strike="noStrike">
                <a:solidFill>
                  <a:srgbClr val="ffffff"/>
                </a:solidFill>
                <a:latin typeface="Times New Roman"/>
              </a:rPr>
              <a:t> tedy dvě základní souřadnice sociální reality. V rámci tohoto procesu se stále významněji podílí na konstrukci </a:t>
            </a:r>
            <a:r>
              <a:rPr b="1" lang="cs-CZ" sz="3200" spc="-1" strike="noStrike">
                <a:solidFill>
                  <a:srgbClr val="feec94"/>
                </a:solidFill>
                <a:latin typeface="Times New Roman"/>
              </a:rPr>
              <a:t>ontologického bezpečí</a:t>
            </a:r>
            <a:r>
              <a:rPr b="0" lang="cs-CZ" sz="3200" spc="-1" strike="noStrike">
                <a:solidFill>
                  <a:srgbClr val="ffffff"/>
                </a:solidFill>
                <a:latin typeface="Times New Roman"/>
              </a:rPr>
              <a:t> svých diváků. </a:t>
            </a:r>
            <a:r>
              <a:rPr b="1" lang="cs-CZ" sz="3200" spc="-1" strike="noStrike">
                <a:solidFill>
                  <a:srgbClr val="feec94"/>
                </a:solidFill>
                <a:latin typeface="Times New Roman"/>
              </a:rPr>
              <a:t>Dialektická televizní artikulace úzkosti/bezpečí</a:t>
            </a:r>
            <a:r>
              <a:rPr b="0" lang="cs-CZ" sz="3200" spc="-1" strike="noStrike">
                <a:solidFill>
                  <a:srgbClr val="ffffff"/>
                </a:solidFill>
                <a:latin typeface="Times New Roman"/>
              </a:rPr>
              <a:t> de facto posiluje náš pocit bezpečného zakoušení každodenního života. Vysoká míra ritualizace užívání televize, respektive její obsahová stereotypizace plní de facto roli nástroje zachování statu quo.</a:t>
            </a:r>
            <a:r>
              <a:rPr b="1" lang="cs-CZ" sz="3200" spc="-1" strike="noStrike">
                <a:solidFill>
                  <a:srgbClr val="ffffff"/>
                </a:solidFill>
                <a:latin typeface="Times New Roman"/>
              </a:rPr>
              <a:t> </a:t>
            </a:r>
            <a:r>
              <a:rPr b="1" lang="cs-CZ" sz="3200" spc="-1" strike="noStrike">
                <a:solidFill>
                  <a:srgbClr val="feec94"/>
                </a:solidFill>
                <a:latin typeface="Times New Roman"/>
              </a:rPr>
              <a:t>Mytickou funkci opory sociálního řád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II.</a:t>
            </a:r>
            <a:r>
              <a:rPr b="0" lang="en-US" sz="2800" spc="-1" strike="noStrike">
                <a:solidFill>
                  <a:srgbClr val="ffffff"/>
                </a:solidFill>
                <a:latin typeface="Times New Roman"/>
              </a:rPr>
              <a:t> Televize se významně podílí na postupném </a:t>
            </a:r>
            <a:r>
              <a:rPr b="1" lang="en-US" sz="2800" spc="-1" strike="noStrike" u="sng">
                <a:solidFill>
                  <a:srgbClr val="feec94"/>
                </a:solidFill>
                <a:uFillTx/>
                <a:latin typeface="Times New Roman"/>
              </a:rPr>
              <a:t>restrukturování povahy domova</a:t>
            </a:r>
            <a:r>
              <a:rPr b="1" lang="en-US" sz="2800" spc="-1" strike="noStrike">
                <a:solidFill>
                  <a:srgbClr val="ffffff"/>
                </a:solidFill>
                <a:latin typeface="Times New Roman"/>
              </a:rPr>
              <a:t>, resp.</a:t>
            </a:r>
            <a:r>
              <a:rPr b="0" lang="en-US" sz="2800" spc="-1" strike="noStrike">
                <a:solidFill>
                  <a:srgbClr val="ffffff"/>
                </a:solidFill>
                <a:latin typeface="Times New Roman"/>
              </a:rPr>
              <a:t> “situační geografie” rodinného života. Televize asi nejvýrazněji ze všech moderních technologií již od svého masového zavedení podporuje </a:t>
            </a:r>
            <a:r>
              <a:rPr b="1" lang="en-US" sz="2800" spc="-1" strike="noStrike">
                <a:solidFill>
                  <a:srgbClr val="ffffff"/>
                </a:solidFill>
                <a:latin typeface="Times New Roman"/>
              </a:rPr>
              <a:t>“</a:t>
            </a:r>
            <a:r>
              <a:rPr b="1" lang="en-US" sz="2800" spc="-1" strike="noStrike">
                <a:solidFill>
                  <a:srgbClr val="feec94"/>
                </a:solidFill>
                <a:latin typeface="Times New Roman"/>
              </a:rPr>
              <a:t>projekt domácího městského, respektive předměstského štěstí</a:t>
            </a:r>
            <a:r>
              <a:rPr b="1" lang="en-US" sz="2800" spc="-1" strike="noStrike">
                <a:solidFill>
                  <a:srgbClr val="ffffff"/>
                </a:solidFill>
                <a:latin typeface="Times New Roman"/>
              </a:rPr>
              <a:t>” </a:t>
            </a:r>
            <a:r>
              <a:rPr b="0" lang="en-US" sz="2800" spc="-1" strike="noStrike">
                <a:solidFill>
                  <a:srgbClr val="ffffff"/>
                </a:solidFill>
                <a:latin typeface="Times New Roman"/>
              </a:rPr>
              <a:t>lokalizovaného, či přesněji, uzavřeného do činžovních či panelových bytů, nebo do prostoru rodinného domku, kde nepochybně ovlivnila organizaci našeho domácího života a začala plnit roli jakéhosi </a:t>
            </a:r>
            <a:r>
              <a:rPr b="1" lang="en-US" sz="2800" spc="-1" strike="noStrike">
                <a:solidFill>
                  <a:srgbClr val="feec94"/>
                </a:solidFill>
                <a:latin typeface="Times New Roman"/>
              </a:rPr>
              <a:t>věčně plápolajícího domácího krbu</a:t>
            </a:r>
            <a:r>
              <a:rPr b="1" lang="en-US" sz="2800" spc="-1" strike="noStrike">
                <a:solidFill>
                  <a:srgbClr val="ffffff"/>
                </a:solidFill>
                <a:latin typeface="Times New Roman"/>
              </a:rPr>
              <a:t>. Z televize </a:t>
            </a: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1" lang="en-US" sz="2800" spc="-1" strike="noStrike">
                <a:solidFill>
                  <a:srgbClr val="feec94"/>
                </a:solidFill>
                <a:latin typeface="Times New Roman"/>
              </a:rPr>
              <a:t>zázračné hračky se postupně stalo projekční plátno snů i depresí,  centrum rodinného života majoritní populace.</a:t>
            </a:r>
            <a:r>
              <a:rPr b="1" lang="en-US" sz="2800" spc="-1" strike="noStrike">
                <a:solidFill>
                  <a:srgbClr val="ffffff"/>
                </a:solidFill>
                <a:latin typeface="Times New Roman"/>
              </a:rPr>
              <a:t> </a:t>
            </a:r>
            <a:r>
              <a:rPr b="0" lang="en-US" sz="2800" spc="-1" strike="noStrike">
                <a:solidFill>
                  <a:srgbClr val="ffffff"/>
                </a:solidFill>
                <a:latin typeface="Times New Roman"/>
              </a:rPr>
              <a:t>V tomto smyslu pak můžeme interpretovat sledování televize jako proces </a:t>
            </a:r>
            <a:r>
              <a:rPr b="1" lang="en-US" sz="2800" spc="-1" strike="noStrike">
                <a:solidFill>
                  <a:srgbClr val="feec94"/>
                </a:solidFill>
                <a:latin typeface="Times New Roman"/>
              </a:rPr>
              <a:t>“extenze</a:t>
            </a:r>
            <a:r>
              <a:rPr b="0" lang="en-US" sz="2800" spc="-1" strike="noStrike">
                <a:solidFill>
                  <a:srgbClr val="feec94"/>
                </a:solidFill>
                <a:latin typeface="Times New Roman"/>
              </a:rPr>
              <a:t>” každodenního chování individuí i celých rodin</a:t>
            </a:r>
            <a:r>
              <a:rPr b="0" lang="en-US" sz="2800" spc="-1" strike="noStrike">
                <a:solidFill>
                  <a:srgbClr val="ffffff"/>
                </a:solidFill>
                <a:latin typeface="Times New Roman"/>
              </a:rPr>
              <a:t> a jejich základních hodnot, které jsou konstruovány a zakořeněny v širokém spektru kulturních souvislostí rodinného život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u="sng">
                <a:solidFill>
                  <a:srgbClr val="ffffff"/>
                </a:solidFill>
                <a:uFillTx/>
                <a:latin typeface="Times New Roman"/>
              </a:rPr>
              <a:t>IV.</a:t>
            </a:r>
            <a:r>
              <a:rPr b="0" lang="cs-CZ" sz="3200" spc="-1" strike="noStrike">
                <a:solidFill>
                  <a:srgbClr val="ffffff"/>
                </a:solidFill>
                <a:latin typeface="Times New Roman"/>
              </a:rPr>
              <a:t> “Každodenní perspektiva” ve vztahu k analýze televizního publika vede postupně k tomu, že se kyvadlo vědeckého zájmu nachýlilo směrem k modelu favorizujícímu </a:t>
            </a:r>
            <a:r>
              <a:rPr b="1" lang="cs-CZ" sz="3200" spc="-1" strike="noStrike" u="sng">
                <a:solidFill>
                  <a:srgbClr val="feec94"/>
                </a:solidFill>
                <a:uFillTx/>
                <a:latin typeface="Times New Roman"/>
              </a:rPr>
              <a:t>aktivní roli publika</a:t>
            </a:r>
            <a:r>
              <a:rPr b="0" lang="cs-CZ" sz="3200" spc="-1" strike="noStrike">
                <a:solidFill>
                  <a:srgbClr val="ffffff"/>
                </a:solidFill>
                <a:latin typeface="Times New Roman"/>
              </a:rPr>
              <a:t>. Uvedený trend však nese některé základní problémy či otázky. </a:t>
            </a:r>
            <a:r>
              <a:rPr b="1" lang="cs-CZ" sz="3200" spc="-1" strike="noStrike">
                <a:solidFill>
                  <a:srgbClr val="feec94"/>
                </a:solidFill>
                <a:latin typeface="Times New Roman"/>
              </a:rPr>
              <a:t>Musí být </a:t>
            </a:r>
            <a:r>
              <a:rPr b="1" i="1" lang="cs-CZ" sz="3200" spc="-1" strike="noStrike">
                <a:solidFill>
                  <a:srgbClr val="feec94"/>
                </a:solidFill>
                <a:latin typeface="Times New Roman"/>
              </a:rPr>
              <a:t>aktivní divák</a:t>
            </a:r>
            <a:r>
              <a:rPr b="1" lang="cs-CZ" sz="3200" spc="-1" strike="noStrike">
                <a:solidFill>
                  <a:srgbClr val="feec94"/>
                </a:solidFill>
                <a:latin typeface="Times New Roman"/>
              </a:rPr>
              <a:t> nezbytně vždy ve střehu? Měl by být kreativní? Musí „aktivní zpracování“ televizních obsahů  znamenat popření “preferovaných” či dominantních významů?</a:t>
            </a:r>
            <a:r>
              <a:rPr b="0" lang="cs-CZ" sz="3200" spc="-1" strike="noStrike">
                <a:solidFill>
                  <a:srgbClr val="ffffff"/>
                </a:solidFill>
                <a:latin typeface="Times New Roman"/>
              </a:rPr>
              <a:t> Není oslava tzv. aktivního publika jen přikývnutím k logice tzv. </a:t>
            </a:r>
            <a:r>
              <a:rPr b="1" lang="cs-CZ" sz="3200" spc="-1" strike="noStrike">
                <a:solidFill>
                  <a:srgbClr val="ffffff"/>
                </a:solidFill>
                <a:latin typeface="Times New Roman"/>
              </a:rPr>
              <a:t>“ratingové demokracie” či “ratingové estetik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TŘI KLÍČOVÉ POJMY</a:t>
            </a:r>
            <a:br>
              <a:rPr sz="4000"/>
            </a:br>
            <a:endParaRPr b="1" lang="en-US" sz="40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AŽDODENNOS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LEVIZE JAKO SOCIOTECHNICKÝ SYSTÉ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ÁLNÍ PUBLIK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APITOLA I.</a:t>
            </a:r>
            <a:r>
              <a:rPr b="1" lang="en-US" sz="2800" spc="-1" strike="noStrike">
                <a:solidFill>
                  <a:srgbClr val="feec94"/>
                </a:solidFill>
                <a:latin typeface="Times New Roman"/>
              </a:rPr>
              <a:t> KAŽDODENNOST JAKO JEDINÁ SKUTEČNÁ, PRAVÁ SOCIÁLNÍ REALITA? </a:t>
            </a:r>
            <a:endParaRPr b="1" lang="en-US" sz="2800" spc="-1" strike="noStrike">
              <a:solidFill>
                <a:srgbClr val="feec94"/>
              </a:solidFill>
              <a:latin typeface="Times New Roman"/>
            </a:endParaRPr>
          </a:p>
        </p:txBody>
      </p:sp>
      <p:sp>
        <p:nvSpPr>
          <p:cNvPr id="13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tíže s </a:t>
            </a:r>
            <a:r>
              <a:rPr b="1" lang="en-US" sz="3200" spc="-1" strike="noStrike" u="sng">
                <a:solidFill>
                  <a:srgbClr val="ffffff"/>
                </a:solidFill>
                <a:uFillTx/>
                <a:latin typeface="Times New Roman"/>
              </a:rPr>
              <a:t>vymezením. </a:t>
            </a:r>
            <a:r>
              <a:rPr b="0" lang="en-US" sz="3200" spc="-1" strike="noStrike">
                <a:solidFill>
                  <a:srgbClr val="ffffff"/>
                </a:solidFill>
                <a:latin typeface="Times New Roman"/>
              </a:rPr>
              <a:t>Pro fenomén každodennosti je charakteristická:</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materiální či prostorová neuchopitelno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rozporuplnost a tendence přesahovat běžně používané sociálně vědní kategori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8:53:35Z</dcterms:created>
  <dc:creator>JV</dc:creator>
  <dc:description/>
  <dc:language>en-US</dc:language>
  <cp:lastModifiedBy>JV</cp:lastModifiedBy>
  <dcterms:modified xsi:type="dcterms:W3CDTF">2010-03-03T10:40:50Z</dcterms:modified>
  <cp:revision>3</cp:revision>
  <dc:subject/>
  <dc:title>KAŽDODENNOST A MÉDIA</dc:title>
</cp:coreProperties>
</file>