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B6C-3772-465D-A2F1-3BCDCA51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6372-B37D-4B7F-A7B7-EA6A61D4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DDD-5314-4F99-8CF9-FF7CD793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CED0-1909-4C23-AF36-A7DE703C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492-241D-4FDE-A3B6-7AB9C583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F142-6B5C-47C5-A179-96FCE494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16A-7542-4B5E-97AB-E9CABFBE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E71-B5DD-42C2-8594-4C7E8288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8EA-45F2-4689-979F-FF4834E2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FD7-5421-4EEB-B71B-8A92FF1A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441-8538-4273-89BA-3BF7A71E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269-F7ED-4259-A628-7E44D9AE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2B2F-72CE-493D-A013-55FA1E57F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08000" y="112536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cc0000"/>
                </a:solidFill>
                <a:latin typeface="Times New Roman"/>
              </a:rPr>
              <a:t>TRH     PRACÍCH PRÁŠKŮ   V   ČESKÉ REPUBLIC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4365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Kvalita pracích prášk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12880" y="830160"/>
          <a:ext cx="759456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830160"/>
                    <a:ext cx="759456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53360" y="624852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Zdroj: Výzkum MF DNES z dubna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Známost znač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085760"/>
          <a:ext cx="815364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85760"/>
                    <a:ext cx="81536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53360" y="624852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Zdroj: Výzkum MF DNES z dubna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Tržní podíly firem v Č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Zdroj: Výzkum MF DNES z dubna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09840" y="2021040"/>
            <a:ext cx="4322880" cy="2819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520" y="1241280"/>
            <a:ext cx="792468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Počet všech výrobků na trhu – prací prostřed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64238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1447920"/>
          <a:ext cx="8458200" cy="51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45820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ozdělení společností dle poskytovaných produktů - 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prací prášky, aviváže, tekuté prací prášky</a:t>
            </a:r>
            <a:br>
              <a:rPr sz="2600"/>
            </a:br>
            <a:br>
              <a:rPr sz="9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kty – sypké prací prášk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11280" y="1916280"/>
          <a:ext cx="7920000" cy="479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16280"/>
                    <a:ext cx="7920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Produkty - aviváž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9640" y="1052640"/>
          <a:ext cx="8064720" cy="48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806472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619280" y="623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16896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enkel, P</a:t>
            </a: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G a Setuza dodává na český trh po jednom typu aviváže, které můžeme dále členit dle jejich aroma a vůní, do dalších podskup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Produkty – tekuté prací práš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628640"/>
          <a:ext cx="8207640" cy="496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8207640" cy="49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-544680" y="6399720"/>
            <a:ext cx="95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odává na český trh pouze společnost Henkel a RB, Henkel – jeden typ, RB – dva typy, dále je můžeme členit dle vhodnosti na prádlo bílé, či barevné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Kategorie pracích prášků dle obsahů a typ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4360" y="2133720"/>
          <a:ext cx="7777080" cy="3733560"/>
        </p:xfrm>
        <a:graphic>
          <a:graphicData uri="http://schemas.openxmlformats.org/drawingml/2006/table">
            <a:tbl>
              <a:tblPr/>
              <a:tblGrid>
                <a:gridCol w="1258560"/>
                <a:gridCol w="1081080"/>
                <a:gridCol w="1079640"/>
                <a:gridCol w="1117440"/>
                <a:gridCol w="1150920"/>
                <a:gridCol w="1081080"/>
                <a:gridCol w="100836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pk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c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áš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2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kut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c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áš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iváž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 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Přehled výdajů za reklamu v roce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9640" y="1773360"/>
          <a:ext cx="8209080" cy="496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8209080" cy="49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Times New Roman"/>
              </a:rPr>
              <a:t>Kupovanost pracích prášk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7720" y="1123920"/>
          <a:ext cx="8388360" cy="510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1123920"/>
                    <a:ext cx="8388360" cy="51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53360" y="640080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Zdroj: Výzkum MF DNES z dubna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06:33:37Z</dcterms:created>
  <dc:creator>Tommy</dc:creator>
  <dc:description/>
  <dc:language>en-US</dc:language>
  <cp:lastModifiedBy>Administrator</cp:lastModifiedBy>
  <dcterms:modified xsi:type="dcterms:W3CDTF">2006-12-15T19:12:13Z</dcterms:modified>
  <cp:revision>9</cp:revision>
  <dc:subject/>
  <dc:title>Tržní podíly firem v ČR</dc:title>
</cp:coreProperties>
</file>