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AA1-AB12-4BD8-A4E6-82F83379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EA8-1F84-4DCC-8D13-61DD9D0D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CC7-E3F9-47ED-A882-9B27D491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F42-2156-4FEB-BA6F-9FFC9363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22D9-77F0-4582-957A-61BC301F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80B2-615B-4EC9-BDC1-82834FBC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54E7-D7D2-4275-BEF4-CBA9DD0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2C29-9F0E-4876-8C9E-457E896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DDEC-BCEB-4DE7-9877-21A7011E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A81-944D-4806-959A-7C8CD7A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554C-FA29-4A2A-A51D-5C6E414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067-C99D-4B63-84AC-E5AF9562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885-C8E6-4DF1-9C57-3B75B60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B1FC-8C38-4195-911C-A1500A6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A76-830E-4702-8086-F179049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3AA0-589C-447C-BCD6-391CFAC1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3C3C-6CD3-4039-9BA0-0511839D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518-FA92-4468-94B1-53F90FF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001-1418-48CD-8081-0C1BD28A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3A6-1D48-4B06-9B10-39ADAB6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598-F51C-486A-964B-4D617D38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311-D56C-4A84-80EB-5FF2E51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9C7-219B-4953-8BCE-C5F6419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280-D727-49FA-A2A9-0D62E599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343-6D0C-4F0B-AFBD-5059C5BF792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576A-825D-4653-A7B3-3BE47303FB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inance.cz/" TargetMode="External"/><Relationship Id="rId2" Type="http://schemas.openxmlformats.org/officeDocument/2006/relationships/hyperlink" Target="http://www.cnb.cz/" TargetMode="External"/><Relationship Id="rId3" Type="http://schemas.openxmlformats.org/officeDocument/2006/relationships/hyperlink" Target="http://www.ceskenoviny.cz/" TargetMode="External"/><Relationship Id="rId4" Type="http://schemas.openxmlformats.org/officeDocument/2006/relationships/hyperlink" Target="http://www.penize.cz/" TargetMode="External"/><Relationship Id="rId5" Type="http://schemas.openxmlformats.org/officeDocument/2006/relationships/hyperlink" Target="http://www.kurzy.c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niiikyyy@seznam.cz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rh penzijních fondů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Verdana"/>
              </a:rPr>
              <a:t>SOC 147: Základy marketingového výzkum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isk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2133720"/>
          <a:ext cx="7642800" cy="3925440"/>
        </p:xfrm>
        <a:graphic>
          <a:graphicData uri="http://schemas.openxmlformats.org/drawingml/2006/table">
            <a:tbl>
              <a:tblPr/>
              <a:tblGrid>
                <a:gridCol w="4596840"/>
                <a:gridCol w="3045960"/>
              </a:tblGrid>
              <a:tr h="35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isk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Winterthur penzijni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67 000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07 02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39 73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7 633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 235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 167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 089 763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 297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 273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ský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 382 000 Kč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droj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finance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Česká národní banka –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ww.cnb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www.ceskenoviny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penize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www.kurzy.c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to bylo vše!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ěkuji za pozornos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Zpracovala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kola Krejčířová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iikyyy@seznam.cz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íly na trh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19280" y="1844640"/>
          <a:ext cx="6130440" cy="4214520"/>
        </p:xfrm>
        <a:graphic>
          <a:graphicData uri="http://schemas.openxmlformats.org/drawingml/2006/table">
            <a:tbl>
              <a:tblPr/>
              <a:tblGrid>
                <a:gridCol w="3627720"/>
                <a:gridCol w="250272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íl na trhu v 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26,5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17,0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14,9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4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íly na trhu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84400" y="1600200"/>
          <a:ext cx="67737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1600200"/>
                    <a:ext cx="6773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ty klient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42920" y="1557360"/>
          <a:ext cx="6993720" cy="4530240"/>
        </p:xfrm>
        <a:graphic>
          <a:graphicData uri="http://schemas.openxmlformats.org/drawingml/2006/table">
            <a:tbl>
              <a:tblPr/>
              <a:tblGrid>
                <a:gridCol w="4206600"/>
                <a:gridCol w="278712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klientů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Zemský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770 64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enzijní fond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614 456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enzijní fond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10 352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 337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0 321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SOB Penzijní fond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 33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thur penzijni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 760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385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347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enzijní fon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 146 klientů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voj 1995 -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2421000"/>
          <a:ext cx="8229600" cy="2448000"/>
        </p:xfrm>
        <a:graphic>
          <a:graphicData uri="http://schemas.openxmlformats.org/drawingml/2006/table">
            <a:tbl>
              <a:tblPr/>
              <a:tblGrid>
                <a:gridCol w="1906560"/>
                <a:gridCol w="984240"/>
                <a:gridCol w="936720"/>
                <a:gridCol w="934920"/>
                <a:gridCol w="936720"/>
                <a:gridCol w="863640"/>
                <a:gridCol w="865080"/>
                <a:gridCol w="8017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aktivních subjektů - penzijních fondů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voj 1995 –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23960" y="1893960"/>
          <a:ext cx="5896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893960"/>
                    <a:ext cx="5896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ktiva PF celkem v tisících Kč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2421000"/>
          <a:ext cx="8713800" cy="1655640"/>
        </p:xfrm>
        <a:graphic>
          <a:graphicData uri="http://schemas.openxmlformats.org/drawingml/2006/table">
            <a:tbl>
              <a:tblPr/>
              <a:tblGrid>
                <a:gridCol w="1266840"/>
                <a:gridCol w="1274760"/>
                <a:gridCol w="1274760"/>
                <a:gridCol w="1225440"/>
                <a:gridCol w="1224000"/>
                <a:gridCol w="1224000"/>
                <a:gridCol w="122400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 069 10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973 6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 238 99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 096 43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 433 30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 360 47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 955 77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rovnání – připsané výnos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1000"/>
        </p:xfrm>
        <a:graphic>
          <a:graphicData uri="http://schemas.openxmlformats.org/drawingml/2006/table">
            <a:tbl>
              <a:tblPr/>
              <a:tblGrid>
                <a:gridCol w="3519360"/>
                <a:gridCol w="2428920"/>
                <a:gridCol w="228132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ovnání v %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nosy 200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nosy 200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3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4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rovnání – připsané výnos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0120" y="1846440"/>
          <a:ext cx="794376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846440"/>
                    <a:ext cx="7943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5:31:48Z</dcterms:created>
  <dc:creator>RPI07</dc:creator>
  <dc:description/>
  <dc:language>en-US</dc:language>
  <cp:lastModifiedBy>RPI07</cp:lastModifiedBy>
  <dcterms:modified xsi:type="dcterms:W3CDTF">2006-12-08T17:39:37Z</dcterms:modified>
  <cp:revision>14</cp:revision>
  <dc:subject/>
  <dc:title>Trh penzijních fondů</dc:title>
</cp:coreProperties>
</file>