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4DC-2802-4687-B4FF-56B84FD8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B10-16D7-41A8-93DF-D3DF004A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8BA-6351-48AF-91E1-3643D166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DF9-B6BB-451C-8AE7-32A029B6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7958-1051-4A8B-B1B3-C2DDA962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0078-97A3-43B9-84A9-87BB4C5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0E40-7755-4225-88DE-88358596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8A29-685A-452C-8C00-A297C169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402-B1FD-4B72-9727-8DBBAD4B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F367-B780-409B-B400-333DB95C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49A-8045-4AA6-91FC-76EE800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768-725E-43B5-9791-8750FE30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A6FB-B9B4-46BB-8058-11C964D9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B819-F6CC-4922-BD43-7023B45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06A8-9064-44DA-84A8-16DF382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89EB-E842-4773-8F54-8C4F8D5D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F21-69B6-4ECA-882C-363B105F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CCF-E58F-4151-9605-32C498B7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4D1-CD8B-43C4-B2D1-2EB6587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453-87D8-4A0A-831A-02F5DC9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E01-8C18-4E4A-AE0D-A5DCC6D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E93-8378-4E2C-BEEA-4AEB5AFE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6EF-3422-43D9-8204-FDC34C1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DB9-4163-4029-9FD4-5328B99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6EF9-FC43-4C5D-908A-7F125F31298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E1F0-CBAF-492E-A154-AFBC80C033C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odej outgoing zájezdů na internetu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nova prezent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e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k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ů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lavní produkty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lavní aktéř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entela 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hody a nevýhody trhu v konkurenci offline prode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lientela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ladší generace (20-40 let), její movitější zástup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výběru se u starších zástupců této generace podílí celá rodina: žena vybírá, kam se pojede, děti zájezd hledají a muž jej pla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ienti platí převážně převodem z účtu, minoritní jsou přímé vklady na účet firmy či převody poš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lientela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ím z klíčových údajů je tzv. konverzní poměr – kolik uživatelů musí navštívit webové stránky firmy, aby 1 z nich koupil –za velmi dobrý poměr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e považuje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10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mocí tohoto poměru pak firmy sledují úspěšnosti kampaní – vyčíslením ROI = return on inves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edovanost webu Invia.cz je 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ližně 7000 unikátních IP den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enty je potřeba nejdřív na internet vůbec dostat – to ale CK ani CA neře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net lidi dostanou velké vyhledávač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K a CA si tu 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k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n pochytají svoje klienty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jefektivnějším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troji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rketingu jsou investice právě do vyhledávačů (place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traktiv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zi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katalozích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dobou se rozmáhá search engine optimalizati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hody e-nákupu zájezd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hodlí dom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žnost porovnat ce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hod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u obecně – možnost ihned dohledat komplementární informace (recenze destinací, fotoga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e, kurzy měn, předpovědi počasí, map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j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evýhody e-nákupu zájezd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radox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asto neaktuální nabídk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na trhu převažují CA, které jen agregují zájezdy od CK – ty často dodávají informace pozdě a v nedokonal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ence osobního kontaktu při prodej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droje prezent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e-komerce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magconsulting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apek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justice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lupa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</a:rPr>
              <a:t>http://www.zive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ihned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mam.ihned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tuesday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neopublic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z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efinice trhu – co sem spadá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ohoto trhu spadá prodej celých zájezdů (více než dvě služby podle zákona 159/1999 Sb. 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stovních kanceláří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nebo i jeho samostatných komponent (ubytování, doprava, tj. především letenky, lyžařské permanentky aj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going = výjezdový cestovní ruch, tj. zájez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eských občanů mim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rhu zahrnuje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ej jak cestovní kanceláří, tak cestovních agentu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agentury tvoří cc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efinice trhu – CK vs. 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tovní kancelář = firma, která zájezdy přímo „vyrábí“, tj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ubytování, dopravu, průvodce a další služ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tovní agentura = firma, která zájezdy p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přeprodává, tj. nakupuje od cestovních kanceláří a zprostředkovává jejich prodej klientům; taková firma žije z provizí – ty jsou vzhledem k silně konkurenčnímu prostředí na trhu zájezdů poměrně nízké, průměrně ve výši 5-7% (= cca polovina průměrné marže cestovní kancelář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ůst trhu – prodané zájezdy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 milionech Kč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36760" y="2797200"/>
          <a:ext cx="4096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760" y="2797200"/>
                    <a:ext cx="4096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04800" y="2017800"/>
          <a:ext cx="6094440" cy="40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4800" y="2017800"/>
                    <a:ext cx="609444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elikost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ůst trhu (viz graf)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50 mi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č v roce 2005,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00 mil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č za rok 2005, odh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pr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2006 mlu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ž 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000 mil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to objem se na celkovém trhu cestová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 po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%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do roku 2008 se očekává růst tohoto podílu až na 30-4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h se stabilizuje, boom má za sebo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 pomyslný start, 2004 rozv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 horeč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2006 stabiliz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lavní produkty trh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jvětší zájem je o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yt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ce (v pořadí): Řecko, Egypt, Tunisko, Turecko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harsko, Španěls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vatsko, kam jezdí nejvíce Čechů, negeneruje obj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na online trh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e dvou důvodů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třebitelé si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jezdy s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řizují s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trhu e-prodeje zájezdů nakupují především movitější klienti, kteří Chorvatsko jako low-cost destinaci opomíjej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lavní aktéř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větší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ráčem na trhu je Invia.cz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ro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4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nil 320 mil.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ro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5 už 60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il.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had pro rok 2006 je 900 mi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íl Invia.cz 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celé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h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i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lavní aktéři – více o Invia.c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a.cz je díky svému obratu i desátým největším prodejcem zájezdů v ČR vůbe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kazuje tak, že i čistě internetová firma může hrát velmi významnou roli 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h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ložena 2002 jako Mojedovolena.cz, v roce do ní vstoupil silný zahraniční part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švýcarský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ralway Holding AG (koupil 51%) – ten změnil vše: z firmy s 10 zaměstnanci se stal kolos o 200 lide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á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ájezdy 260 CK, do budoucna kalkuluje s přibližně 30% ročním růstem, který by měl kopírovat růst celého trh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alší hlavní aktéř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ttravel.cz - obrat 171 mil. Kč za r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jezdy.cz – obrat 160 mil.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st.cz – obrat 140 mil.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(vše údaje za rok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2:02:41Z</dcterms:created>
  <dc:creator>Tomáš Hložánek</dc:creator>
  <dc:description/>
  <dc:language>en-US</dc:language>
  <cp:lastModifiedBy>Tomáš Hložánek</cp:lastModifiedBy>
  <dcterms:modified xsi:type="dcterms:W3CDTF">2006-12-12T02:56:44Z</dcterms:modified>
  <cp:revision>28</cp:revision>
  <dc:subject/>
  <dc:title>Prodej outgoing zájezdů na internetu </dc:title>
</cp:coreProperties>
</file>