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A0B2-768C-4EE3-934D-CE66C68C5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BBC3-C199-448C-BAB2-D769B813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A764-EFCA-4146-B23C-0BD8EF92E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7475-21BF-4A2F-93D2-2CD8B00E6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22E7-B11E-46F4-833B-9B39A46E5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230E-B2DB-441A-A60E-F9F763F9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C8F8-925D-445E-B1E6-ED935691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A8D5-6B90-4FFB-A024-EB9C8A22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D3CE-C8E1-416A-8847-6FA89033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AFC6-F7E2-4DEE-BDE9-0C1573E2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2558-CB3A-408F-98BC-3BF3246B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A996-6FA5-45D9-91C4-2CE06A4B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6F06-7D25-4965-AE88-7C3EA881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AAEF-2C6C-468B-B543-51C22A99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12FA-8EDE-4594-8EA7-32AF941C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C78C-E841-4F87-BB26-60A8D1061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2D75-6475-46CD-9860-C1357CCD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9BAD-E9CE-4486-AE2A-083F8211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61DA-3A41-4C3E-BF0F-2CB13FD4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8A92-84F5-4541-A63D-4B328E21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ADF3-C33C-4024-A728-40A1D83B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C65B-3B8B-42D3-A8BC-EEBBA0F7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3A5C-CC6F-47F4-962C-244C1F9F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43AE-1D9F-4542-9BBF-A5F12CEE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B985-7503-4F1C-A0AB-243AF97A631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A2CF-7737-42D3-8326-6AFB1450778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33240" y="363960"/>
            <a:ext cx="7882920" cy="10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kundární výzkum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hu čokoládových výrobků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268360" y="1752480"/>
            <a:ext cx="459612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Zdro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Ročenka Č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ČS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ýroční zprávy Nestlé Česko s.r.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QMagaz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Internetové stránky výrobců čokolá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342864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iří Grummi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Co je čokolád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2204640"/>
            <a:ext cx="8001000" cy="38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dle vyhlášky č. 43/2005 Sb. se čokoládou rozumí výrobek, který splňuje požadavky na jakost – například obsahuje 35 % kakaové sušiny (hořká čokoláda) nebo 25 % kakaové sušiny (mléčná čokoláda). Pochoutkami (například nugátová, kakaová, čokoládová), případně nějakým podobným názvem, se označují ty výrobky, které tento a další požadavky nesplňují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Spotřeba čokolády v Č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olik kg kakaové sušiny připadlo v průměru na 1 občana Č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84360" y="3429000"/>
          <a:ext cx="7812000" cy="1006560"/>
        </p:xfrm>
        <a:graphic>
          <a:graphicData uri="http://schemas.openxmlformats.org/drawingml/2006/table">
            <a:tbl>
              <a:tblPr/>
              <a:tblGrid>
                <a:gridCol w="868320"/>
                <a:gridCol w="866520"/>
                <a:gridCol w="868680"/>
                <a:gridCol w="869760"/>
                <a:gridCol w="865080"/>
                <a:gridCol w="870120"/>
                <a:gridCol w="868320"/>
                <a:gridCol w="866880"/>
                <a:gridCol w="86832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1619280" y="517212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43280" y="544500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ta použity z ČS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Situace na trhu před rokem 199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4 velké závody ve vzájemné konkurenc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99"/>
                </a:solidFill>
                <a:latin typeface="Verdana"/>
              </a:rPr>
              <a:t>Zora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Olomou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99"/>
                </a:solidFill>
                <a:latin typeface="Verdana"/>
              </a:rPr>
              <a:t>Orio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Praha Modřan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99"/>
                </a:solidFill>
                <a:latin typeface="Verdana"/>
              </a:rPr>
              <a:t>Sfinx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Holešo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99"/>
                </a:solidFill>
                <a:latin typeface="Verdana"/>
              </a:rPr>
              <a:t>Maryša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Rohatec u Hodoní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+ import ze slovenska - </a:t>
            </a:r>
            <a:r>
              <a:rPr b="0" lang="cs-CZ" sz="2000" spc="-1" strike="noStrike">
                <a:solidFill>
                  <a:srgbClr val="336699"/>
                </a:solidFill>
                <a:latin typeface="Verdana"/>
              </a:rPr>
              <a:t>Figa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660920" y="2577960"/>
          <a:ext cx="3887640" cy="261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60920" y="2577960"/>
                    <a:ext cx="3887640" cy="26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Situace na trhu nyn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 roce 2002 všechny závody skupuje mezinárodní společnost Nestlé. Vzniká Nestlé Česk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estlé Česk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raft foods (Figaro, Milka, 3bi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Fik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Car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Čokoklasi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Zahraniční: Ferrero, Fazer (Geisha), Mars, Ritter Sport, Candy pl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660920" y="2577960"/>
          <a:ext cx="3887640" cy="261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60920" y="2577960"/>
                    <a:ext cx="3887640" cy="26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c0000"/>
                </a:solidFill>
                <a:latin typeface="Verdana"/>
              </a:rPr>
              <a:t>Nestlé Česko s.r.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Všechny produkty pod značkami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Or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Del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Bon Par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JoJ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Sfinx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Hašlerk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Zor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Kit Ka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Lentilk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Modré z neb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Nesquik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Nejznámější produkty: Margot, Bounty, Koko, Kofila, Kočičí jazýčky, banány v čokoládě, čokolády Orion…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c0000"/>
                </a:solidFill>
                <a:latin typeface="Verdana"/>
              </a:rPr>
              <a:t>Nestlé Česko s.r.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8930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ývoj společnosti (ukazatelé kromě zaměstnanců v milione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11280" y="3284640"/>
          <a:ext cx="7956360" cy="2984400"/>
        </p:xfrm>
        <a:graphic>
          <a:graphicData uri="http://schemas.openxmlformats.org/drawingml/2006/table">
            <a:tbl>
              <a:tblPr/>
              <a:tblGrid>
                <a:gridCol w="1325520"/>
                <a:gridCol w="1326960"/>
                <a:gridCol w="1325880"/>
                <a:gridCol w="1325520"/>
                <a:gridCol w="1326960"/>
                <a:gridCol w="132552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žby Tuzemsk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ortní tržb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žby za prodej dovežených výrobk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čet zaměstnanc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žby celkov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986 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694 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534 8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 680 3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 366 8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814 6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738 5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 181 4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 408 5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296 4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295 0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 705 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 504 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113 3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737 3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 617 5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 372 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738 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863 8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 110 8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Zahraniční firm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elké globální společnosti mají již dlouholeté zázemí i u ná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MARS: Tyčinky Mars, Snickers, Twix  - dostupné i v prodejních automate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raft Foods: Odkoupil Figaro a Alpskou Milk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Fazer: Geish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+ kvalitní belgické a švícarské čokolády (nezabírají moc místa na trhu – jsou drahé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Česká tradiční výrob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elmi malá, slabá konkurence oproti velkým zahraničním koncernů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jvýznamnější výrobce např. Carla (bonboniéry Mořské plody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4:45:42Z</dcterms:created>
  <dc:creator>OranžovejPomeranč</dc:creator>
  <dc:description/>
  <dc:language>en-US</dc:language>
  <cp:lastModifiedBy>OranžovejPomeranč</cp:lastModifiedBy>
  <dcterms:modified xsi:type="dcterms:W3CDTF">2006-12-08T17:19:40Z</dcterms:modified>
  <cp:revision>8</cp:revision>
  <dc:subject/>
  <dc:title>Sekundární výzkum  trhu čokoládových výrobků</dc:title>
</cp:coreProperties>
</file>