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D53-17D5-4501-9298-63AB1BE8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379-8029-4561-876D-99B64C4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A97-4D8F-4E1D-ABBA-787B275A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297-A694-49F1-B791-DE2A0B7E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2F1-2F7C-44E7-BAB0-7FAADC02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2277-45C3-41BF-8B45-17E9313E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915-DAAA-459F-B89D-AB2E2352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93B5-7DB7-496C-A527-38EFA2C6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3D7A-DAFE-49D9-8729-F006C6B9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9BD2-9024-446F-88A5-67C0110D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9F52-D0F5-4A1C-8027-A0D0E37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D68-748C-4ABE-A32F-1A835627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25B8-B56A-4774-937F-16C3D1D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9D2-A8D2-45BD-9E0A-A672FE15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3D93-8384-4AA1-A870-F8C9D32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63B8-0A08-4A59-903C-5776FC85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2B2-22BA-48C0-A65E-33C6AC09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38C-7AD3-4E0D-8D04-9E4D0C6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2D4-944F-4A92-BB2B-8383F45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D52-9028-4412-BAD9-D2BBF5DF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605-F264-4937-937E-915A2B0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5DF-3198-4D0B-B0A1-6321102A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F49-7B5A-44E1-B633-0FAEA5E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2DD-F9B2-4DCB-A444-2597D79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6014-78F0-492F-A598-84D84C4EF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2BBD-06AD-4B06-9815-3249692B28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Book Antiqua"/>
              </a:rPr>
              <a:t>Výzkum trhu</a:t>
            </a:r>
            <a:br>
              <a:rPr sz="5400"/>
            </a:br>
            <a:br>
              <a:rPr sz="4800"/>
            </a:br>
            <a:r>
              <a:rPr b="1" lang="en-US" sz="5400" spc="-1" strike="noStrike">
                <a:solidFill>
                  <a:srgbClr val="333399"/>
                </a:solidFill>
                <a:latin typeface="Book Antiqua"/>
              </a:rPr>
              <a:t>STUDENTSKÉ ÚČT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372000" y="6092640"/>
            <a:ext cx="2408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avla Slezá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 Antiqua"/>
              </a:rPr>
              <a:t>Přehled bank a jejich produkt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ČESKÁ SPOŘITELN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Student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ČSOB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Student. Konto P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eBANK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Program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GE MONEY BANK 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Genius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KOMERČNÍ BANKA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    - Gaudeamu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POŠTOVNÍ SPOŘITELNA- Program Jun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RAIFFEISENBANK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    - Kompletkonto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  <a:ea typeface="Tahoma"/>
              </a:rPr>
              <a:t>ŽIVNOSTENSKÁ BANKA- Studentské k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Výše úrokové saz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22050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4120" y="2017800"/>
          <a:ext cx="380988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Úvěr a úr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7720" y="2136600"/>
          <a:ext cx="8137800" cy="36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136600"/>
                    <a:ext cx="8137800" cy="36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11280" y="5950080"/>
            <a:ext cx="799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Úrok z úvěru vyjádřen jako úvěr navýšený o roční úrok /RPSN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eBanka a Živnobanka neposkytuje speciální úvěry pro studen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Ná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7320" y="2013120"/>
          <a:ext cx="885024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2013120"/>
                    <a:ext cx="885024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68360" y="5589720"/>
            <a:ext cx="8351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Vedení účtu = měsíční poplatek za ved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Vklady a výběry = 1xvklad v hotovostI, 1x výběr v hotovostI, 3x výběr vlastní a 1x cizí banko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Book Antiqua"/>
              </a:rPr>
              <a:t>Poplatky za položkY = 2x příchozí a 2x odchozý účetní položka, 2x eloktronic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Nabízené služ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2421000"/>
          <a:ext cx="8053200" cy="3165480"/>
        </p:xfrm>
        <a:graphic>
          <a:graphicData uri="http://schemas.openxmlformats.org/drawingml/2006/table">
            <a:tbl>
              <a:tblPr/>
              <a:tblGrid>
                <a:gridCol w="1728720"/>
                <a:gridCol w="790560"/>
                <a:gridCol w="790560"/>
                <a:gridCol w="790560"/>
                <a:gridCol w="790560"/>
                <a:gridCol w="790560"/>
                <a:gridCol w="790560"/>
                <a:gridCol w="790560"/>
                <a:gridCol w="790560"/>
              </a:tblGrid>
              <a:tr h="143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an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luž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Č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ČS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e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pořitel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Raiff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Živnoban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SM 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nternet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le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Shrnut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2206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Česká Spořitelna a Raiffeisenbank je nejvýhodnější pro spoření – výše úroku 1,1% a 1,2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Pro půjčení peněz je nejvhodnější Raiffeisenbank, dále ČSOB, KB a Spořitelna s obdobnou úrovní RPSN, ale nižší částk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/20 000Kč oproti 50 000Kč/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Z hlediska nákladů na účet je nejlevnější ČSOB-77Kč, Spořitelna-84Kč a Živnobanka-89Kč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Studentské účty jsou v nabízených službách srovnatelné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Book Antiqua"/>
              </a:rPr>
              <a:t>Z celkového pohledu jsou nejlepší studentské účty u České Spořitelny, dále u ČSOB, Raiffeisenbank a Živnoban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Použité 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finance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csas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csob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e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gemoney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moje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postovnisporiteln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.raiffeisenbank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www1.zivnobanka.c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7:16:07Z</dcterms:created>
  <dc:creator>počítač</dc:creator>
  <dc:description/>
  <dc:language>en-US</dc:language>
  <cp:lastModifiedBy>počítač</cp:lastModifiedBy>
  <dcterms:modified xsi:type="dcterms:W3CDTF">2006-12-08T21:13:14Z</dcterms:modified>
  <cp:revision>4</cp:revision>
  <dc:subject/>
  <dc:title>Výzkum trhu  STUDENTSKÉ ÚČTY</dc:title>
</cp:coreProperties>
</file>