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12.wmf" ContentType="image/x-wmf"/>
  <Override PartName="/ppt/media/image8.jpeg" ContentType="image/jpeg"/>
  <Override PartName="/ppt/media/image9.jpeg" ContentType="image/jpeg"/>
  <Override PartName="/ppt/media/image10.wmf" ContentType="image/x-wmf"/>
  <Override PartName="/ppt/media/image11.wmf" ContentType="image/x-wmf"/>
  <Override PartName="/ppt/media/image1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comments/comment4.xml" ContentType="application/vnd.openxmlformats-officedocument.presentationml.comments+xml"/>
  <Override PartName="/ppt/comments/comment11.xml" ContentType="application/vnd.openxmlformats-officedocument.presentationml.comments+xml"/>
  <Override PartName="/ppt/comments/comment15.xml" ContentType="application/vnd.openxmlformats-officedocument.presentationml.comments+xml"/>
  <Override PartName="/ppt/comments/comment18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1" name="Lenka" initials="L" lastIdx="1" clrIdx="1"/>
  <p:cmAuthor id="0" name="lnavrati" initials="l" lastIdx="3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<Relationship Id="rId25" Type="http://schemas.openxmlformats.org/officeDocument/2006/relationships/commentAuthors" Target="commentAuthors.xml"/>
</Relationships>
</file>

<file path=ppt/comments/comment11.xml><?xml version="1.0" encoding="utf-8"?>
<p:cmLst xmlns:p="http://schemas.openxmlformats.org/presentationml/2006/main">
  <p:cm authorId="1" dt="2006-12-08T10:40:12.625000000" idx="1">
    <p:pos x="3108" y="1347"/>
    <p:text>úděsná stránka!
jsem to upravila dala Jak akce probíha: interakce zákazník - promotér, služby... prostě přiblížení promoakce
ale stejně
S TÍMHLE SI PROSTĚ NEVÍM RADY.... PROSÍ,, BUĎ TO PROMAŽ NEBO S TÍM NĚCO UDĚLEJ
DÍK:-)
</p:text>
  </p:cm>
</p:cmLst>
</file>

<file path=ppt/comments/comment15.xml><?xml version="1.0" encoding="utf-8"?>
<p:cmLst xmlns:p="http://schemas.openxmlformats.org/presentationml/2006/main">
  <p:cm authorId="0" dt="2006-12-07T11:16:09.698000000" idx="2">
    <p:pos x="4444" y="1093"/>
    <p:text>nepoužíváme označení KAI DRUGS - tak proč ho vysvětlovat?
tady bych narvala ještě parfumerie atp. dle grafů...</p:text>
  </p:cm>
</p:cmLst>
</file>

<file path=ppt/comments/comment18.xml><?xml version="1.0" encoding="UTF-8" standalone="yes"?>
<p:cmLst xmlns:p="http://schemas.openxmlformats.org/presentationml/2006/main"><p:cm authorId="0" dt="2006-12-07T11:37:10.368000000" idx="3"><p:pos x="5386" y="2286"/><p:text>určitě pod ně patří tyhle smrady? nejsem si jistá... navíc bych uvedla prestige products P&G > ty mají Pumu, mexx, </p:text></p:cm></p:cmLst>
</file>

<file path=ppt/comments/comment4.xml><?xml version="1.0" encoding="utf-8"?>
<p:cmLst xmlns:p="http://schemas.openxmlformats.org/presentationml/2006/main">
  <p:cm authorId="0" dt="2006-12-07T11:17:30.237000000" idx="1">
    <p:pos x="10" y="10"/>
    <p:text>tady šoupnu nějaké povídání ze skript o marketing staregiích viz příloha do prezentace
Shelving a shelv marketing... strategie a systémy merchandisingu!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FF30-FAD0-4AEA-8D39-B7F343D82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F42D-545A-4D62-B251-4CB9C3864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C23A-B204-48BF-A785-41BEFBD04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B85A-E4B9-432B-82EF-0D0AF1D1A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3A2D3-3D2C-482F-9101-BB09F482B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26DA4-A847-4C2F-B811-47D646D72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EDB21-42BC-4707-A7B0-8B2E26221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B3C6A-4DA8-4DED-AB5A-5625B8604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416E0-A048-43EB-A08A-7382428F4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27094-4C3B-4C0C-9AC7-16A3E4A77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152F6-0B6E-4EF2-BDD6-4E5FE8A5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00F0-BC41-473F-A674-9565FDD2C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E498A-E42E-40A6-8AE5-C4E9CDBA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B7E88-5314-4B12-A27D-4116FC43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90486-C713-49A5-8BAE-DCC57E8AD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1B034-74EA-46C6-9C51-36029AE45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A5264-DFCB-43BD-979B-F4CF885AD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AA4E-8DFB-4DB8-B5AC-8BFF49CF8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E212-FC79-4C86-8800-BBEEAC47F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DD01-3780-417C-AB4C-E8ADEDE54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C648-C09E-46CE-92A6-9DBFB277D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F81A-1ACF-4185-89FF-E2A9101F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A93D-92EA-4D1E-B564-3BFD9CD8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9D2A-9272-4FAE-BD34-A808FBB9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BCD0A-F3EB-4808-8D4D-045BE22D6B6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C26EA-69FA-4FB9-84CD-91CA5A770A5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hyperlink" Target="http://www.vsem.cz/?section=4&amp;cat=3&amp;subcat=6" TargetMode="External"/><Relationship Id="rId6" Type="http://schemas.openxmlformats.org/officeDocument/2006/relationships/hyperlink" Target="http://www.czso.cz/" TargetMode="External"/><Relationship Id="rId7" Type="http://schemas.openxmlformats.org/officeDocument/2006/relationships/hyperlink" Target="http://www.geert-hofstede.com/" TargetMode="External"/><Relationship Id="rId8" Type="http://schemas.openxmlformats.org/officeDocument/2006/relationships/hyperlink" Target="http://www.brandpower.cz/" TargetMode="External"/><Relationship Id="rId9" Type="http://schemas.openxmlformats.org/officeDocument/2006/relationships/hyperlink" Target="http://www.consumerpsychologist.com/" TargetMode="External"/><Relationship Id="rId10" Type="http://schemas.openxmlformats.org/officeDocument/2006/relationships/hyperlink" Target="http://www.cvvm.cas.cz/" TargetMode="External"/><Relationship Id="rId11" Type="http://schemas.openxmlformats.org/officeDocument/2006/relationships/hyperlink" Target="http://www.westburn.co.uk/jcb/" TargetMode="External"/><Relationship Id="rId12" Type="http://schemas.openxmlformats.org/officeDocument/2006/relationships/hyperlink" Target="http://www.tgisurveys.com/" TargetMode="External"/><Relationship Id="rId13" Type="http://schemas.openxmlformats.org/officeDocument/2006/relationships/hyperlink" Target="http://www.mintel.co.uk/" TargetMode="External"/><Relationship Id="rId14" Type="http://schemas.openxmlformats.org/officeDocument/2006/relationships/hyperlink" Target="http://www.gentleye.com/research/cb/symblcb.html" TargetMode="External"/><Relationship Id="rId15" Type="http://schemas.openxmlformats.org/officeDocument/2006/relationships/hyperlink" Target="http://www.incoma.cz/" TargetMode="External"/><Relationship Id="rId16" Type="http://schemas.openxmlformats.org/officeDocument/2006/relationships/slideLayout" Target="../slideLayouts/slideLayout1.xml"/><Relationship Id="rId17" Type="http://schemas.openxmlformats.org/officeDocument/2006/relationships/comments" Target="../comments/commen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paceandprofit.cz/trenink/moduly.php" TargetMode="External"/><Relationship Id="rId2" Type="http://schemas.openxmlformats.org/officeDocument/2006/relationships/hyperlink" Target="http://www.spaceandprofit.cz/trenink/moduly.php" TargetMode="External"/><Relationship Id="rId3" Type="http://schemas.openxmlformats.org/officeDocument/2006/relationships/hyperlink" Target="http://www.spaceandprofit.cz/trenink/moduly.php" TargetMode="External"/><Relationship Id="rId4" Type="http://schemas.openxmlformats.org/officeDocument/2006/relationships/hyperlink" Target="http://www.spaceandprofit.cz/trenink/moduly.php" TargetMode="External"/><Relationship Id="rId5" Type="http://schemas.openxmlformats.org/officeDocument/2006/relationships/hyperlink" Target="http://www.spaceandprofit.cz/trenink/moduly.php" TargetMode="External"/><Relationship Id="rId6" Type="http://schemas.openxmlformats.org/officeDocument/2006/relationships/hyperlink" Target="http://www.spaceandprofit.cz/trenink/moduly.php" TargetMode="External"/><Relationship Id="rId7" Type="http://schemas.openxmlformats.org/officeDocument/2006/relationships/hyperlink" Target="http://www.spaceandprofit.cz/trenink/moduly.php" TargetMode="External"/><Relationship Id="rId8" Type="http://schemas.openxmlformats.org/officeDocument/2006/relationships/hyperlink" Target="http://www.spaceandprofit.cz/trenink/moduly.php" TargetMode="External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arketingový výzkum trhu s lifestylovými vůněm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3715920"/>
            <a:ext cx="82296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Čablová Nik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vrátilová Len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47640" y="3213000"/>
            <a:ext cx="202896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259920"/>
            <a:ext cx="75582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Marketingové strategie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 Unicode MS"/>
              </a:rPr>
              <a:t>Promotion aktivity = propagační pod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87280" y="1916280"/>
            <a:ext cx="67057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ktivity se zaměřením na podporu výhodných obchodních vztahů mezi odběratelem a dodavate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odp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prodeje konkrétního výrobku či kategorie, na níž se obě strany podílí &gt; tyto aktivity bývají vždy realizovány na základě domluvy a synergie obou stran – dodavatele a odběrat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Příkla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letákové akce, spotřebitelské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těže, dárky za nákup, 1 + 1 zdarma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943600" y="3886200"/>
            <a:ext cx="2057400" cy="27432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826920" y="4221000"/>
            <a:ext cx="1828800" cy="2438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 flipH="1" rot="318600">
            <a:off x="3276360" y="3933720"/>
            <a:ext cx="20574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1523880" y="1828800"/>
          <a:ext cx="6083280" cy="40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828800"/>
                    <a:ext cx="6083280" cy="40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oakce, trénink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íl informovat spotřebit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ej novinky sezónní akce, podpora prodeje stálého sortimentu,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324000" y="2781360"/>
            <a:ext cx="2519280" cy="3543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 flipH="1">
            <a:off x="6156000" y="2564640"/>
            <a:ext cx="2654280" cy="3776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059280" y="2421000"/>
            <a:ext cx="3241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vinka, značka, rekl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uh vůně (sezó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dborné poradenstv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valita ( trvanlivost vůně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řidaná hodnota- vzorek, dárek, sl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32000" y="4491000"/>
            <a:ext cx="302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provodný materiál: promo-stolek, plakát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zorečky, testovací papírky, letáky ve stojánku,katalog manuálů, dárky za náku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-279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0" y="-27970200"/>
          <a:ext cx="182520" cy="62433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62433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6767ff"/>
                        </a:buClr>
                        <a:buSzPct val="8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6767ff"/>
                          </a:solidFill>
                          <a:uFillTx/>
                          <a:latin typeface="Arial"/>
                          <a:hlinkClick r:id="rId5"/>
                        </a:rPr>
                        <a:t>Spotřební chování a segmentace trhu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6767ff"/>
                        </a:buClr>
                        <a:buSzPct val="80000"/>
                        <a:buFont typeface="Arial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6767ff"/>
                          </a:solidFill>
                          <a:uFillTx/>
                          <a:latin typeface="Arial"/>
                          <a:hlinkClick r:id="rId6"/>
                        </a:rPr>
                        <a:t>ČSÚ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6767ff"/>
                        </a:buClr>
                        <a:buSzPct val="80000"/>
                        <a:buFont typeface="Arial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6767ff"/>
                          </a:solidFill>
                          <a:uFillTx/>
                          <a:latin typeface="Arial"/>
                          <a:hlinkClick r:id="rId7"/>
                        </a:rPr>
                        <a:t>ITIM International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6767ff"/>
                        </a:buClr>
                        <a:buSzPct val="80000"/>
                        <a:buFont typeface="Arial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6767ff"/>
                          </a:solidFill>
                          <a:uFillTx/>
                          <a:latin typeface="Arial"/>
                          <a:hlinkClick r:id="rId8"/>
                        </a:rPr>
                        <a:t>Brand Power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6767ff"/>
                        </a:buClr>
                        <a:buSzPct val="80000"/>
                        <a:buFont typeface="Arial"/>
                        <a:buAutoNum type="arabicPeriod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6767ff"/>
                          </a:solidFill>
                          <a:uFillTx/>
                          <a:latin typeface="Arial"/>
                          <a:hlinkClick r:id="rId9"/>
                        </a:rPr>
                        <a:t>The psychology of consumers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6767ff"/>
                        </a:buClr>
                        <a:buSzPct val="80000"/>
                        <a:buFont typeface="Arial"/>
                        <a:buAutoNum type="arabicPeriod" startAt="6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6767ff"/>
                          </a:solidFill>
                          <a:uFillTx/>
                          <a:latin typeface="Arial"/>
                          <a:hlinkClick r:id="rId10"/>
                        </a:rPr>
                        <a:t>CVVM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6767ff"/>
                        </a:buClr>
                        <a:buSzPct val="80000"/>
                        <a:buFont typeface="Arial"/>
                        <a:buAutoNum type="arabicPeriod" startAt="7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6767ff"/>
                          </a:solidFill>
                          <a:uFillTx/>
                          <a:latin typeface="Arial"/>
                          <a:hlinkClick r:id="rId11"/>
                        </a:rPr>
                        <a:t>Journal of Customer Behaviour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6767ff"/>
                        </a:buClr>
                        <a:buSzPct val="80000"/>
                        <a:buFont typeface="Arial"/>
                        <a:buAutoNum type="arabicPeriod" startAt="8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6767ff"/>
                          </a:solidFill>
                          <a:uFillTx/>
                          <a:latin typeface="Arial"/>
                          <a:hlinkClick r:id="rId12"/>
                        </a:rPr>
                        <a:t>Target Group Index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6767ff"/>
                        </a:buClr>
                        <a:buSzPct val="80000"/>
                        <a:buFont typeface="Arial"/>
                        <a:buAutoNum type="arabicPeriod" startAt="9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6767ff"/>
                          </a:solidFill>
                          <a:uFillTx/>
                          <a:latin typeface="Arial"/>
                          <a:hlinkClick r:id="rId13"/>
                        </a:rPr>
                        <a:t>Mintel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6767ff"/>
                        </a:buClr>
                        <a:buSzPct val="80000"/>
                        <a:buFont typeface="Arial"/>
                        <a:buAutoNum type="arabicPeriod" startAt="10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6767ff"/>
                          </a:solidFill>
                          <a:uFillTx/>
                          <a:latin typeface="Arial"/>
                          <a:hlinkClick r:id="rId14"/>
                        </a:rPr>
                        <a:t>Symbolic Consumer Behavior Articles, Essays and Ponderings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6767ff"/>
                        </a:buClr>
                        <a:buSzPct val="80000"/>
                        <a:buFont typeface="Arial"/>
                        <a:buAutoNum type="arabicPeriod" startAt="11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6767ff"/>
                          </a:solidFill>
                          <a:uFillTx/>
                          <a:latin typeface="Arial"/>
                          <a:hlinkClick r:id="rId15"/>
                        </a:rPr>
                        <a:t>Incoma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"/>
          <p:cNvSpPr/>
          <p:nvPr/>
        </p:nvSpPr>
        <p:spPr>
          <a:xfrm>
            <a:off x="1440" y="344624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76360" y="1989000"/>
            <a:ext cx="619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tér/ka - informu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osmetický průmysl a termín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8496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P – parfémová voda (někdy mylně zaměňováno s parféme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aletní parfém nebo Eau de parfum 8 až 15 % kompozice, stupeň alkoholu 85 – 9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T – toaletní voda – nejčastěji prodávaný typ ředění parfé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aletní voda nebo Eau de toilette 4 až 8 % kompozice v 80 % koncentrovaném lih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osmetický průmysl a termíny 2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7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FTER SHAVE – voda po holení, tzv. kolínsk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línská voda (eau de cologne/after shave) obsahuje 3 až 5 % kompozice ve zředěném, často 70%ním lihu (obsahuje 70 % ethanol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EODORANT – ve spreji (poměr 1-3% vonné esence v 50 – 70% alkoho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EO VAPO – s rozprašovač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lkový vývoj českého trhu – hodnota prodeje ve 100 000 Kč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75661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ísta prodeje lifestylových vůní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rogistické řetězce (Rossmann, Drox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ypermarkety (HPM) – sítě hypermarketů  především velké prodejny nad 2500m</a:t>
            </a:r>
            <a:r>
              <a:rPr b="0" lang="cs-CZ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Tesco, Globus, Hypernova, Intersp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arfumerie (Fann, Sephora, Dougl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dependent- malé obchody, soukromníci</a:t>
            </a:r>
            <a:br>
              <a:rPr sz="3200"/>
            </a:b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Vývoj prodeje v Hypermarketech </a:t>
            </a:r>
            <a:br>
              <a:rPr sz="3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ve 100 000 Kč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68360" y="1600200"/>
            <a:ext cx="835164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Vývoj prodeje v drogeriích </a:t>
            </a:r>
            <a:br>
              <a:rPr sz="3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ve 100 000 Kč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lavní hráči na trhu s vůněm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Cot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největší výrobce vůní na světě, nabízí prestižní i lifestylové vůně a kosmetiku (Esprit, Miss Sixty, Celine Dion, David and Victoria Beckham, Isabella Rossellini, Chanson,Adidas, Astor, Chupa Chups, Exclamation, Jovan, Miss Sporty, Rimm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rocter and Gambl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Prestige Products– gigant produkující širokou škálu výrobků od kosmetiky a vůní po přípravky na praní a péči o domácnost, mezi značky vůní nabízené na českém trhu patří Puma, Mexx, Tom Tailor, Gabriela Sabatini, Naomi Campbell, Bruno Banani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Beiersdorf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opět průmyslový gigant sdružující výrobu širokého spektra výrobků a značek, na českém trhu známý především díky značkám Nivea a Lab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Unilever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– opět široká škála výrobků od vaření (Knorr) po kosmetiku, na českém trhu známá především značka deodorantů Rexo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lavní hráči na českém trhu s vůněmi (EdT, EdP, Afterhave, Deo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84247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rh s lifestylovými vůněm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festyle – vůně střední střídy dostupné širokým řadám spotřebitelů, určené k běžnému noš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ěžně k dostání v řetězcích hypermarketů a drogeri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hrnují toaletní vody, parfémové vody, vody po holení a deodora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ww stránky distributorských společ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cs-CZ" sz="32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spaceandprofit</a:t>
            </a:r>
            <a:r>
              <a:rPr b="0" lang="cs-CZ" sz="32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.</a:t>
            </a:r>
            <a:r>
              <a:rPr b="0" lang="cs-CZ" sz="3200" spc="-1" strike="noStrike" u="sng">
                <a:solidFill>
                  <a:srgbClr val="6767ff"/>
                </a:solidFill>
                <a:uFillTx/>
                <a:latin typeface="Arial"/>
                <a:hlinkClick r:id="rId4"/>
              </a:rPr>
              <a:t>cz</a:t>
            </a:r>
            <a:r>
              <a:rPr b="0" lang="cs-CZ" sz="3200" spc="-1" strike="noStrike" u="sng">
                <a:solidFill>
                  <a:srgbClr val="6767ff"/>
                </a:solidFill>
                <a:uFillTx/>
                <a:latin typeface="Arial"/>
                <a:hlinkClick r:id="rId5"/>
              </a:rPr>
              <a:t>/</a:t>
            </a:r>
            <a:r>
              <a:rPr b="0" lang="cs-CZ" sz="3200" spc="-1" strike="noStrike" u="sng">
                <a:solidFill>
                  <a:srgbClr val="6767ff"/>
                </a:solidFill>
                <a:uFillTx/>
                <a:latin typeface="Arial"/>
                <a:hlinkClick r:id="rId6"/>
              </a:rPr>
              <a:t>trenink</a:t>
            </a:r>
            <a:r>
              <a:rPr b="0" lang="cs-CZ" sz="3200" spc="-1" strike="noStrike" u="sng">
                <a:solidFill>
                  <a:srgbClr val="6767ff"/>
                </a:solidFill>
                <a:uFillTx/>
                <a:latin typeface="Arial"/>
                <a:hlinkClick r:id="rId7"/>
              </a:rPr>
              <a:t>/moduly.</a:t>
            </a:r>
            <a:r>
              <a:rPr b="0" lang="cs-CZ" sz="3200" spc="-1" strike="noStrike" u="sng">
                <a:solidFill>
                  <a:srgbClr val="6767ff"/>
                </a:solidFill>
                <a:uFillTx/>
                <a:latin typeface="Arial"/>
                <a:hlinkClick r:id="rId8"/>
              </a:rPr>
              <a:t>php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tler, Armstrong, Marketing, Grada,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teriály P&amp;G Prestige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ttp://www.parfemu-raj.cz/index.php?akce=strana&amp;id=14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jmy a defin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ingové strate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trategie prodej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i prodeji lifestylových vůní je využíváno běžných strategií prodeje zbož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 podporu prodeje je nejčastěji využívanou strategií umístění výrobku a aktivní prom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 JE TO MERCHANDISING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4000" y="3499920"/>
            <a:ext cx="842472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erchandising Negotiation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42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Umění vyjednávat o prodejním prostoru jako o obchodovatelné komoditě různých hodnot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helf Managemen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42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Navýšení efektivity regálové a celkové prodejní plochy a aktualizovat efektivní portfolio dané kategori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42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Maximalizace efektivity regálové plochy tak, aby se posílil obrat segmentu „maržetvorných“ a nestagnoval prodej „objemotvorných“ výrobků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1700280"/>
            <a:ext cx="8351640" cy="18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ouhrn činností vykonávaných na prodejnách za účelem zlepšení všeobecné vizuality výrobků na regálech a druhotných vystaveních a tímto ovlivňovat konečné rozhodnutí spotřebitele o nákupu a tudíž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Unicode MS"/>
              </a:rPr>
              <a:t>zvyšovat prodej daných výrob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Prostřed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609120"/>
            <a:ext cx="7989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Arial"/>
              </a:rPr>
              <a:t>Proč je merchandising důležitý ?</a:t>
            </a:r>
            <a:br>
              <a:rPr sz="3400"/>
            </a:br>
            <a:br>
              <a:rPr sz="34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 efektivní merchandising je nutná znalost spotřebního chování a segmentace trhu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26920" y="1989000"/>
            <a:ext cx="754380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zhodnutí o nákupu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5 % plánovaný nák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zdroj – agentura  NFP Czech Republic )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5 % impulsivní nák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3809880"/>
            <a:ext cx="16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5 % plánovan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5257800"/>
            <a:ext cx="16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5 % impulsiv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95880" y="3276720"/>
            <a:ext cx="27432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8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 celkových nákupů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sou rozhodová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 místě prodej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627280" y="3213000"/>
            <a:ext cx="31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8 % změní rozhodnutí o bran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00360" y="3933720"/>
            <a:ext cx="322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 % změní rozhodnutí o velik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11280" y="3933720"/>
            <a:ext cx="35816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411280" y="4653000"/>
            <a:ext cx="35816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14600" y="5410080"/>
            <a:ext cx="3581280" cy="0"/>
          </a:xfrm>
          <a:prstGeom prst="line">
            <a:avLst/>
          </a:prstGeom>
          <a:ln w="82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Klíčové pojm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4360" y="1700280"/>
            <a:ext cx="5760720" cy="46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Rozmíst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ahoma"/>
              </a:rPr>
              <a:t>Facing/Fa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ahoma"/>
              </a:rPr>
              <a:t> - čelní strana výrobku v regále, výrobek v první radě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ahoma"/>
              </a:rPr>
              <a:t>v regále – množství určuje prestiž zboží (luxusní výrobky 1 face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ahoma"/>
              </a:rPr>
              <a:t>Nebo je odpovědí na vysokou poptávku (více faceů, protože by 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ahoma"/>
              </a:rPr>
              <a:t>zboží brzy vyprodal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ahoma"/>
              </a:rPr>
              <a:t>Primární umístěn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ahoma"/>
              </a:rPr>
              <a:t> – stálé umístění výrobku v regálu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ahoma"/>
              </a:rPr>
              <a:t>vychází ze smlouvy mezi distributorem a prodejc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372360" y="1773360"/>
            <a:ext cx="2232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líčové pojmy 2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8218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ahoma"/>
              </a:rPr>
              <a:t>Sekundární umístěn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ahoma"/>
              </a:rPr>
              <a:t> – krátkodobé, akční umístění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ahoma"/>
              </a:rPr>
              <a:t>      –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ahoma"/>
              </a:rPr>
              <a:t>uvedení nového výrobku, podpora prodeje určitýc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ahoma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ahoma"/>
              </a:rPr>
              <a:t>typů produktů  - vánoční kazety, zboží v akci, nové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ahoma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ahoma"/>
              </a:rPr>
              <a:t>balení např. akční čelo regá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ahoma"/>
              </a:rPr>
              <a:t>Regálové lišt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ahoma"/>
              </a:rPr>
              <a:t> – jsou speciálním typem lišt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ahoma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ahoma"/>
              </a:rPr>
              <a:t>které upozorňují na konkrétní výrobek neb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ahoma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ahoma"/>
              </a:rPr>
              <a:t>značku v regálu  - výrazný design – často 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ahoma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ahoma"/>
              </a:rPr>
              <a:t>výšce očí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435640" y="1557360"/>
            <a:ext cx="28987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líčové pojmy 3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757080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Obecné poj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Listing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- část portfolia výrobků či celé portfolio výrobků dodavatele, které na základě vyjednaných podmínek zařadí maloobchod/řetězec do své nabídky, vyčlení jim stabilní regálové místo a každá prodejna je povinna pravidelně dle obrátky tyto položky objednáv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Shelving</a:t>
            </a:r>
            <a:r>
              <a:rPr b="0" lang="cs-CZ" sz="2300" spc="-1" strike="noStrike">
                <a:solidFill>
                  <a:srgbClr val="000000"/>
                </a:solidFill>
                <a:latin typeface="Times New Roman"/>
                <a:ea typeface="Tahoma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činnost merchandisera, při níž pracuje se zbožím, dbá na 100% naplnění regálu dle kritérií správné péče o regál (definováno dodavatel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22:12:39Z</dcterms:created>
  <dc:creator>Lenka</dc:creator>
  <dc:description/>
  <dc:language>en-US</dc:language>
  <cp:lastModifiedBy>Lenka</cp:lastModifiedBy>
  <dcterms:modified xsi:type="dcterms:W3CDTF">2006-12-08T09:40:28Z</dcterms:modified>
  <cp:revision>21</cp:revision>
  <dc:subject/>
  <dc:title>Pojmy a defin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