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C8F-5563-4257-B609-24789121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C5A-F0A3-41F3-98D6-98B90320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1F4-3F33-46BA-B85F-778E2579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751-80B7-483C-B5CB-78B5A93F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0503-9D76-453D-9218-D7D429A5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C1BA-1F53-44B1-98DF-CCD2F910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DEA4-19CA-4476-BEE7-AB211E0A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9A1D-C083-49F5-AB60-221ABC4E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FB60-455D-4FE6-B509-DD008012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747B-7EBB-4B18-BFE1-A93D1664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D0D2-1FD5-400C-8F54-CDDAFDD1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CBD-B7C7-4618-9F22-FCE1C9F8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A216-5FA5-48E9-909E-28502AB0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05B7-94CF-4CDE-BED9-9968BD85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336C-BD2B-4082-93BA-793B06A2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3A65-04D3-4772-9E96-95F1E1A1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4BF8-BB2D-4DEB-8CD7-8CD5FC80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EC5F2-0B94-40F4-94B4-5B1D06E3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C7F3B-B533-48DC-93E3-A60977B0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2682-60D2-47B3-A469-2F324B0E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282A-64FA-4AE9-A3C4-069EB362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FF9F-7CAB-4D13-A3F3-2BC32D77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E2F-442A-44FA-A3DD-86B87D59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1B9A-0694-4C92-9C9D-3550D3F4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2E7F-8B81-4C00-AC3F-1ADD1D1A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CAAB2-966F-4FBF-BC13-EC534CE0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3D416-EC0E-47B1-B98B-4FA0170B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C5B9-FE5D-4970-BB8E-A03A694F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AABEE-2824-405E-B024-88B097B5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F931-1D97-4AA8-9E55-8DC586CC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D69C9-0103-4385-AB80-0DD9A746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E7B93-3022-4506-82D1-05F7B55E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2F1BA-C0AA-4BA0-A7ED-820CF023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B58-E5E6-45F6-864F-349C72CB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9BB69-117F-4BAD-AD48-FE37378A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37AC3-5D70-4E6F-BE41-38E48020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B60CB-7EBF-464E-A74E-3B503DD4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E3135-D3BB-4FFD-9CD8-1F458E9C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6278A-B80C-4E93-9F3C-13D49E86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C6D9B-18A1-405F-BDB3-861E292A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D48DC-BA79-4C4E-92AC-15970DA6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91922-0A41-42FE-A69D-BD0A3D56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015F8-9AB6-42F9-B643-5D1EAA53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85F3B-23D8-42DF-9ECE-F9E91233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64A-F43F-4488-983D-C2DFDA5B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24055-9A17-4224-9450-E4DCE3BE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16AF7-9AA4-4367-8FA7-E53A51B3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8CC93-2816-4576-8097-31437A5C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70CF3-9B61-4757-A822-B139E37B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A421E-A6E7-444B-984A-DD4B593F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BD162-E6CA-4209-AD82-7BB59DAB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A6754-DAB6-44C3-83E0-DC393F16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B2D81-1B7F-47BC-86D0-1A37F6CB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EB619-8D1B-418E-B0AA-83C52BA2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9F139-3122-4E9B-8555-753ECB67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8C1-0FE5-49E0-95C0-9E67480E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35D45-11A9-4460-A017-FD5C14FE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8D577-C05A-44A9-BD5F-C381B77A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B9CAC-8E9B-4E8F-ACF0-7E9A732F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67972-F8D7-41BC-B0A0-69617CFD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1BF71-EE79-4636-A6C5-0DBD4FB2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E1952-7D48-499E-A8C1-A5DBBAEF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96BA8-5024-43B3-8884-B353A176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C00FF-6D5B-48DE-B4B9-93071ECF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2E909-8F45-4B5C-A27F-1DB6441D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FAD4B-8BBD-47CD-910D-3A567A2F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9ED7-B4DD-46FF-B44D-CD67B9D6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1731E-FCF2-420E-A150-746626B9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91C0E-46AF-44B8-BDDE-F2A85C4A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E03F1-4A10-4C95-82D4-AF8A2D8E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C0C72-613C-4DAF-862E-157E4352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C52F3-329B-4857-BF03-3ECF57A8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67F62-9322-4C3F-B3E3-B01D5A43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3E830-854E-4E99-9415-FEE93A06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4DF73-9474-4D5E-B529-EE678C2A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CF89E-4345-4341-87EE-0955A112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466FE-C707-444B-B7E9-FCACB9F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BD8-146E-4F5A-B831-46DCA90C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71725-55A1-4F22-9320-523A2F6E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99B83-E72E-4DDD-9A62-F8AB1913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C44C5-80FB-42E1-BD57-677B9D54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A5DEA-6E87-495D-AA36-762E5546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20183-4E90-435D-8DFB-9F452B31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2D4D0-C0FE-41D5-A918-3CE5EDA9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E702C-B5AC-4406-A914-6126DCE8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44353-6E92-44D2-AD22-4FD82B53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7531B-B0D1-4854-A10B-4EBB05D5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D9095-602B-424D-9E18-B4F125B6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B49-3DA6-4818-A08A-9A3A529A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CB6A7-B8CA-4822-83C2-08DBF2F5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367B6-E15A-4504-8527-C0CE526F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F6C2B-4F7A-4A49-BA77-340FBEE8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B16BF-D76E-4CDC-ACF1-4D23F53A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FC7F6-C335-4BD9-A587-9601DB09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2123B-E1F5-43BA-B419-64AFA4E0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64067-4398-45AC-BD78-9B17F618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194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9434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9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9434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6DAF-06CF-4B6E-93B0-4D0F175773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194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006666"/>
            </a:solidFill>
            <a:ln w="57240">
              <a:solidFill>
                <a:srgbClr val="194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9801-F2FA-46AE-BB4E-8427AB6128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9434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9434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2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b6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b6b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b6b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2B07-DAAD-4544-A8D9-C40A762C33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3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00b6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5390-7D40-499A-B8E0-D771EB9981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b6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D2BC-F650-445E-97FD-190C438C7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6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7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8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AE82-8F43-4421-9BC2-173FDA385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b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19434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ff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C814-D5FA-4D18-B492-3D4FF5383DE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275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50760">
            <a:solidFill>
              <a:srgbClr val="194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22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23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24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0E03-A36C-4DD5-B57E-9D6701117C5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áklady marketingového výzkumu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C14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2195280" y="4076280"/>
            <a:ext cx="55450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adovan Palatý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ana Škaloudová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ýrobci (prodejci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Čeští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Solimpex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mantler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ěkný - unimex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pekny-unimex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SH ProDiet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shprodiet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rodejna Bezlepka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bezlepka.prodejce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Knuspi Bečice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knuspi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Mlýn Šmajstrla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pohankovymlyn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Racio Břeclav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racio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amé Babice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hame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Vega Provita 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provita.cz, dovozce zbozi Smak Zy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ekárna Novosedly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pekarna-nov.wz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dravý styl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zdravystyl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Jizerské pekárny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jipek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Labeta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labeta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Paleta Lipnice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http://www.paletalipnice.c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ýrobci (prodejci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ffffcc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Zahraniční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r. Schaer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ttp://www.schaer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ammermuehl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ttp://www.hammermuehle-online.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estl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ttp://www.nestle.cz/vyrobky/bezlepkovadieta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mak Zycia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ttp://www.glutenfree.com.pl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ečivár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iptovský Hrádok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ttp://www.pecivarnelh.sk/produkty/prehlad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dejc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ffcc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Specializovan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ff00"/>
                </a:solidFill>
                <a:latin typeface="Arial"/>
              </a:rPr>
              <a:t>+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 velký výběr, poradenství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 zhoršená dostupno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ffffcc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Řetěz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ff00"/>
                </a:solidFill>
                <a:latin typeface="Arial"/>
              </a:rPr>
              <a:t>+ 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snadná dostupno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 malá (žádná) nabídka těchto produktů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Zdro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cc"/>
                </a:solidFill>
                <a:latin typeface="Arial"/>
              </a:rPr>
              <a:t>Společnost pro bezlepkovou dietu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http://coeliac.cz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cc"/>
                </a:solidFill>
                <a:latin typeface="Arial"/>
              </a:rPr>
              <a:t>Bezlepkový obchod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ttp://www.bezlepkovyobchod.info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cc"/>
                </a:solidFill>
                <a:latin typeface="Arial"/>
              </a:rPr>
              <a:t>Bezlepková dieta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http://www.bezlepkovadieta.cz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ezlepkové potravin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042920" y="4292640"/>
            <a:ext cx="6796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stupnost základních potravin a pochutin pro osoby s bezlepkovou dieto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uhy potravin – peč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ffcc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Hotové výrobk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chléb bílý, tmavý, celozrnný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bulky, rohlíky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bagety, crossaint, pizza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koláče a korpusy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Suché směsi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chléb bílý, tmavý, celozrnný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Moučníky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palačinky, bábovky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uhy potravin - pochut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cc"/>
                </a:solidFill>
                <a:latin typeface="Verdana"/>
              </a:rPr>
              <a:t>Sladké</a:t>
            </a:r>
            <a:endParaRPr b="0" lang="en-US" sz="21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bonbon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tyčinky, müsli tyčink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sušenky, oplatky, vafle 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zmrzlinové kornout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arizon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piškot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cc"/>
                </a:solidFill>
                <a:latin typeface="Verdana"/>
              </a:rPr>
              <a:t>Slané</a:t>
            </a:r>
            <a:endParaRPr b="0" lang="en-US" sz="21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krekr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preclík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grissin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vafle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ruhy potravin – mouky, obalovací smě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Mouky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kukuřičná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směs (kuchyňská, chlebová, moučníková)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guárová guma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cc"/>
                </a:solidFill>
                <a:latin typeface="Verdana"/>
              </a:rPr>
              <a:t>Obalovací směsi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hraška 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pan gratí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cc"/>
                </a:solidFill>
                <a:latin typeface="Verdana"/>
              </a:rPr>
              <a:t>obalovací strouhanka</a:t>
            </a:r>
            <a:endParaRPr b="0" lang="en-US" sz="17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3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uhy potravin - těstov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Fettucini, lasagne, macaroni, spaghetti, conchigliette (mušličky), fusilli, penne (trubky), pipette (kolena), rigati (rourky), tagliatelle (široké nudle)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Flíčky, kolínka, vřetena, motýlci  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Nudle (široké, tenké, vlasové)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uhy potravin – hotová jíd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Instantní jídla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cc"/>
                </a:solidFill>
                <a:latin typeface="Verdana"/>
              </a:rPr>
              <a:t>Ochucená rýže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Polévky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Směs na knedlíky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3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hy potravin – ochucovadla, zlepšující příprav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Xantanová guma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Chlebové koření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cc"/>
                </a:solidFill>
                <a:latin typeface="Verdana"/>
              </a:rPr>
              <a:t>Kořenící směsi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00b6b2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cc"/>
                </a:solidFill>
                <a:latin typeface="Verdana"/>
              </a:rPr>
              <a:t>Chilli, česnek, grilovací, bylinková, houbavá, zeleninová</a:t>
            </a:r>
            <a:endParaRPr b="0" lang="en-US" sz="25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uhy potravin - nápo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pivo</a:t>
            </a:r>
            <a:endParaRPr b="0" lang="en-US" sz="2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3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12:30Z</dcterms:created>
  <dc:creator>Radovan</dc:creator>
  <dc:description/>
  <dc:language>en-US</dc:language>
  <cp:lastModifiedBy>Radovan</cp:lastModifiedBy>
  <dcterms:modified xsi:type="dcterms:W3CDTF">2006-12-08T19:27:52Z</dcterms:modified>
  <cp:revision>52</cp:revision>
  <dc:subject/>
  <dc:title>Bezlepkové potraviny</dc:title>
</cp:coreProperties>
</file>