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B4B-4E09-4EBD-B63F-1F396E8A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E51-235C-418F-BB61-7C22ADA2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79D-CA01-4820-9C2A-D9CFB5E1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B91-E472-486C-BA16-2CA89A31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C336-803B-4AC1-B7C5-C883AD88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7FD3-F9E6-45E1-9803-EE9BDF37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E9BF-7D26-47BA-8E4E-2D2FB811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026C-3DF8-497C-B19B-D0E80FB8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1197-70C3-4474-85D0-36F17D42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ED5A-E6EA-4842-95AB-563A2E8B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7E69-EA26-4255-9553-06A5EC26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8A1-43C5-4FB5-BD24-A38D9F1D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0186-CA08-473E-92B1-AA8FFD9A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205C-985C-4E92-93EF-E868E352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DB46-B9D1-4A0D-A2C6-7BF416ED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667D-2FA2-4457-8E30-8B43E36D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98AB-A612-4458-A434-49F3D1A6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CD1-B9C4-457C-B989-4B853D57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9477-D018-4CBC-88BE-6008D317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18F-DC19-4460-9BFD-51145859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7A58-7222-441C-84A2-FD369FED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51F-0FAF-4135-BD3E-1CA33192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C7E-B5B5-4E75-984E-64983F6B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298-D1A7-4137-ABC3-5263B115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B18A-6F34-4F49-B616-A85A449E0EA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4539-57B4-4F06-8CAD-B426B83C031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 Narrow"/>
              </a:rPr>
              <a:t>ZÁKLADY MARKETINGOVÉHO VÝZKUM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ANALÝZA TIŠTĚNÝCH PERIOD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segment: deníky s celostátní působnos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55627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00"/>
                </a:solidFill>
                <a:latin typeface="Arial Narrow"/>
              </a:rPr>
              <a:t>Filip Rozsíval (44244) a Ladislava Suchá (6517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 Narrow"/>
              </a:rPr>
              <a:t>SPOR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RINGIER ČR, a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Jedná se o c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lostátní deník zaměřený na aktuální sportovní dě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Vychází ve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 územn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ch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vydán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ch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(Čechy, Moravskoslezs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iodicita: ponděl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obot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a.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oučást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pát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čního vydán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je 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port Magazín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běžně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10 Kč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v páte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14 Kč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 Narrow"/>
              </a:rPr>
              <a:t>ŠÍ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VLTAVA-LABE-PRESS, a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lo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tátn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ní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který je orientován především společensko-zábavně. Obsahuje však také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ejdůležitějš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domác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zprávy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a zajímavosti ze zahraniční, zajímavosti ze světa sportu a TV program. Zahrnuje i různé speciálně zaměřené přílo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xistuje také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pražská mutace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Šípu, která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je doplněna o zprávy z hlavního měs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iodicita: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pondělí – sobo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oučástí pátečního vydání je Magaz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běžně 5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Kč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v pátek 9 K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Arial Narrow"/>
              </a:rPr>
              <a:t>SUPER SP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S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</a:rPr>
              <a:t>TRATOSFÉRA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, a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Jedná se o celostátní společensko-zábavně orientovaný dení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Od ledna 2007 přestává vycházet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tištěné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podobě a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bude nahrazen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internetovo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u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verz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eriodicita: pondělí – sobo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10 K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662040"/>
            <a:ext cx="8001000" cy="10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ffcc00"/>
                </a:solidFill>
                <a:latin typeface="Arial Narrow"/>
              </a:rPr>
              <a:t>Průměrné náklady deníků s celostátní působností v letech 1996 - 2005</a:t>
            </a:r>
            <a:endParaRPr b="0" lang="en-US" sz="31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90640" y="2443320"/>
            <a:ext cx="7362720" cy="19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533520" y="2971800"/>
          <a:ext cx="7924680" cy="273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971800"/>
                    <a:ext cx="792468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Průměrné náklady deníků s celostátní působností v letech 1996 - 2005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1523880"/>
          <a:ext cx="853452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53452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92016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Nečtenější celostátní deníky v období duben - září 2006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590920" y="2362320"/>
          <a:ext cx="403848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362320"/>
                    <a:ext cx="40384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2788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Průměrná čtenost na jedno vydání  - duben až září 2006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33520" y="990720"/>
          <a:ext cx="8229600" cy="55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22960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334080"/>
            <a:ext cx="86104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 Narrow"/>
                <a:ea typeface="Arial"/>
              </a:rPr>
              <a:t>Průměrný prodaný náklad  v období duben - září 2006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:</a:t>
            </a:r>
            <a:br>
              <a:rPr sz="2800"/>
            </a:b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Titul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286000" y="2286000"/>
          <a:ext cx="4724280" cy="31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4724280" cy="31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Průměrný prodaný náklad  v období duben - září 2006: Titul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09480" y="1523880"/>
          <a:ext cx="792504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72600"/>
            <a:ext cx="830592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 Narrow"/>
                <a:ea typeface="Arial"/>
              </a:rPr>
              <a:t>Průměrný prodaný náklad  v období duben - září 2006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: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  <a:ea typeface="Arial"/>
              </a:rPr>
              <a:t> 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V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  <a:ea typeface="Arial"/>
              </a:rPr>
              <a:t>ydavatelství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4100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4800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Arial Narrow"/>
              </a:rPr>
              <a:t>Vydavatelské společnosti působící v oblasti celostátních tištěných deníků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BIKA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.r.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INGIER ČR, a.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CONOMIA a.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IDOVÉ NOVINY, a.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FRA, a.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BORGIS, a.s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LTAVA-LABE-PRESS, a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TRATOSFÉRA, a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93200"/>
            <a:ext cx="82296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 Narrow"/>
                <a:ea typeface="Arial"/>
              </a:rPr>
              <a:t>Průměrný prodaný náklad  v období duben - září 2006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: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  <a:ea typeface="Arial"/>
              </a:rPr>
              <a:t> 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V</a:t>
            </a:r>
            <a:r>
              <a:rPr b="1" lang="cs-CZ" sz="2800" spc="-1" strike="noStrike">
                <a:solidFill>
                  <a:srgbClr val="ffcc00"/>
                </a:solidFill>
                <a:latin typeface="Arial Narrow"/>
                <a:ea typeface="Arial"/>
              </a:rPr>
              <a:t>ydavatelství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14400" y="1676520"/>
          <a:ext cx="7391520" cy="430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391520" cy="43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Arial Narrow"/>
              </a:rPr>
              <a:t>Aktuální situa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2133720"/>
            <a:ext cx="8305920" cy="3111480"/>
          </a:xfrm>
          <a:prstGeom prst="rect">
            <a:avLst/>
          </a:prstGeom>
          <a:noFill/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Nejčtenějším celostátním deníkem je Blesk s 1,506 miliony čtenářů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Druhá příčka náleží Mladé frontě Dnes s 1,116 mil. </a:t>
            </a:r>
            <a:r>
              <a:rPr b="0" lang="cs-CZ" sz="1800" spc="-1" strike="noStrike">
                <a:solidFill>
                  <a:srgbClr val="ffffff"/>
                </a:solidFill>
                <a:latin typeface="Arial Narrow"/>
              </a:rPr>
              <a:t>č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tenářů</a:t>
            </a:r>
            <a:r>
              <a:rPr b="0" lang="cs-CZ" sz="1800" spc="-1" strike="noStrike">
                <a:solidFill>
                  <a:srgbClr val="ffffff"/>
                </a:solidFill>
                <a:latin typeface="Arial Narrow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Narrow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řetí deníku Právo (464 tis. čtenářů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Následují Sport (300 tis. čtenářů) a Lidové noviny (216 tis.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Nově se mezi daty objevují mladé bulvární deníky Aha! a Šíp. Deník Aha! Začal vycházet v březnu 2006 a vykázal čtenost 209 tis. čtenářů a mezi deníky je šestým nejčtenějším deník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Hospodářské noviny čte 202 tis. čtenářů, Šíp 122 tisíc a Supe</a:t>
            </a:r>
            <a:r>
              <a:rPr b="0" lang="cs-CZ" sz="1800" spc="-1" strike="noStrike">
                <a:solidFill>
                  <a:srgbClr val="ffffff"/>
                </a:solidFill>
                <a:latin typeface="Arial Narrow"/>
              </a:rPr>
              <a:t>r S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py 92 tisíc.</a:t>
            </a:r>
            <a:r>
              <a:rPr b="0" lang="cs-CZ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SuperSpy však od počátku roku 2007 přestává vycházet v tištěné podobě a nadále bude existovat pouze v elektronické podobě na internetu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Počet tištěných celostátních deníků tak klesne na os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00"/>
                </a:solidFill>
                <a:latin typeface="Arial Narrow"/>
              </a:rPr>
              <a:t>V současné době existuje na českém trhu v tomto segmentu 9 deníků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AH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BLE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HOSPODÁŘSKÉ NOVI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LIDOVÉ NOVI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MLADÁ FRONTA D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RÁ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ŠÍ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UPER S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 Narrow"/>
              </a:rPr>
              <a:t>AHA!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EBIKA s.r.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lostátn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polečensko-zábavn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ní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mimo novinek ze života společnosti přináší informace ze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portu a TV program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iodicita: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ondělí – nedě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V neděli vychází magazín AHA! TV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běžně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7 Kč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nedělní magazín 9,50 K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 Narrow"/>
              </a:rPr>
              <a:t>BLESK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RINGIER ČR, a.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lostátní dení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který je orientován především společensko-zábavně,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přináš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však také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ktuální zpravodajstv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 zajímavosti z domova i ze svě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chází v 6 regionálních mutacích (Praha, Sever, Střední Čechy, Brno, Morava, Moravskoslezská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iodicita: ponděl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obot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V pátek vychází společně s 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</a:rPr>
              <a:t>Blesk magazínem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7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Kč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páteční vydání s magazínem 12 K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 Narrow"/>
              </a:rPr>
              <a:t>HOSPODÁŘSKÉ NOVIN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ECONOMIA a.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lostátní deník přinášející především politické a ekonomické zpravodajství z domova i ze světa, komentáře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odborné analýzy. Ze všech českých deníků věnuje největší pozornost informacím z české a světové ekonomik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iodicita: ponděl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páte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pátek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vychází s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gazínem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</a:rPr>
              <a:t>Víkend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1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5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Kč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áteční vydání s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gazínem 1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8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Kč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 Narrow"/>
              </a:rPr>
              <a:t>LIDOVÉ NOVIN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LIDOVÉ NOVINY, a.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lostátní deník věnující se především domácímu a zahraničnímu zpravodajství, politic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a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ekonomice.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Obsahuje 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ždodenní ekonomic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ou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příloh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u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a pravidelné tematické přílohy.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Dále přináší k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mentáře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aktuality ze světa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port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u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, předpověď počas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a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TV pro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ychází ve 4 mutacích (Praha, Čechy, Morava a Brn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iodicita: ponděl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obota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oučástí pátečního vydání je magazín 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</a:rPr>
              <a:t>Pátek LN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běžně 1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Kč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áteční vydání s magazínem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1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6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Kč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sobotní vydání 12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K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 Narrow"/>
              </a:rPr>
              <a:t>MLADÁ FRONTA DN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MAFRA, a.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řináší aktuální zpravodajství z domova a ze zahraničí, komentáře a názory, ekonomické zpravodajství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kulturní rubriku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ublicistickou rubriku Společnost DNES, sportovní zpravodajstv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V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rogram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ředpověď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očasí.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Její součástí jsou každodenní specializované příloh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Vychází se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14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různými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egionálních příloh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ami.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iodicita: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nděl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obota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oučást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pondě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ho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 čtvrt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čního vydán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magazín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běžně 10 Kč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ondě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m magazínem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</a:rPr>
              <a:t>ONA DNES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12 Kč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 čtvrt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čním 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</a:rPr>
              <a:t>Magazínem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</a:rPr>
              <a:t>Dnes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15 K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00"/>
                </a:solidFill>
                <a:latin typeface="Arial Narrow"/>
              </a:rPr>
              <a:t>PRÁV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ydavatel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em je </a:t>
            </a:r>
            <a:r>
              <a:rPr b="0" lang="cs-CZ" sz="2400" spc="-1" strike="noStrike">
                <a:solidFill>
                  <a:srgbClr val="f98d43"/>
                </a:solidFill>
                <a:latin typeface="Arial Narrow"/>
                <a:ea typeface="Times New Roman"/>
              </a:rPr>
              <a:t>BORGIS, a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lostátní společensko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olitický deník.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Nabíz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aktuální zpravodajství z domova a ze zahraničí, komentáře a názory, ekonomické zpravodajství,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kulturní rubriku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, sportovní zpravodajství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a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V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program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iodicita: pondělí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–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obota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oučástí sobotního vydání je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</a:rPr>
              <a:t>M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gazín</a:t>
            </a:r>
            <a:r>
              <a:rPr b="0" i="1" lang="cs-CZ" sz="2400" spc="-1" strike="noStrike">
                <a:solidFill>
                  <a:srgbClr val="ffffff"/>
                </a:solidFill>
                <a:latin typeface="Arial Narrow"/>
              </a:rPr>
              <a:t> Práva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a: běžně 10 Kč, v 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sobotu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14 K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20:21:30Z</dcterms:created>
  <dc:creator>Pipo</dc:creator>
  <dc:description/>
  <dc:language>en-US</dc:language>
  <cp:lastModifiedBy>Pipo</cp:lastModifiedBy>
  <dcterms:modified xsi:type="dcterms:W3CDTF">2006-12-08T23:44:07Z</dcterms:modified>
  <cp:revision>24</cp:revision>
  <dc:subject/>
  <dc:title>ZÁKLADY MARKETINGOVÉHO VÝZKUMU</dc:title>
</cp:coreProperties>
</file>