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2DD-C47A-4885-9DC3-15901844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B91-9DFB-475F-8309-980CADB3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D86-D2A1-46C0-957C-AB0A3C38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31D-055D-45C0-91BC-85A344ED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A212-3EF1-45DC-AFE7-67D7D64B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6A2-169B-4267-B6FD-0D24520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DD06-8E3E-4C86-B2E3-38C5314D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FE45-9E5D-452F-BD7A-57997D56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68E0-91D9-4E48-8FDF-FF6BB0C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738F-599B-42B2-8CB4-2A1E6EA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C882-E73F-44C8-A8A6-A210C5B2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B9C-A746-444E-A494-F4E9F473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A42E-7BD9-4837-A10E-E61DB0F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881D-62A4-436F-A693-6DA8B49C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031E-6828-4453-BF3F-9890B107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406-68D1-48F1-99DD-3F8D9D25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A87E-7EF7-49BB-854C-BEBFFFD7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5B8-2369-4044-8132-F97E2D48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364-B2C8-46A0-BCEC-E95F0ED6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35D-AA9B-498D-B497-A00E640A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CE5-6DFD-4A68-AA17-B0C72634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21A-1288-4C09-B642-C2A516CA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C00-94C9-4036-A83B-F73616B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2BA-7417-4D65-A9AB-15110096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CD14-44F2-4846-AD20-2D36C06908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8D84-64BB-4668-8FA0-0DD71F89B9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utosap.cz/" TargetMode="External"/><Relationship Id="rId2" Type="http://schemas.openxmlformats.org/officeDocument/2006/relationships/hyperlink" Target="http://www.czso.cz/" TargetMode="External"/><Relationship Id="rId3" Type="http://schemas.openxmlformats.org/officeDocument/2006/relationships/hyperlink" Target="http://www.skoda-auto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rh s malými osobními automobily v Č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ezentace pro kur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y marketingového výzkum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pracovali : Lumír Czech a Tomáš Chyti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zim 200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odíl nových a ojetých aut na celém trhu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íl všech nově vyrobených aut na českém trhu v posledních letech klesá, v absolutních číslech stále okolo 100 000 vozů (mírný pokles o cca 3%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lednu až říjnu 2006 bylo poprvé zaregistrováno již 150 632 ks ojetých osobních automobilů (jedná se o automobily z dovozu). Oproti stejnému období roku 2005 zde byl opět zaznamenán nárůst registrací o 26,15 % (to je o 31 221 ojetin více). Podíl prvních registrací ojetých osobních automobilů z dovozu na celkových registracích osobních automobilů v ČR dosáhl v souhrnu za leden až říjen 2006 hodnoty 59,24 % (v roce 2005 to bylo „jen“ 52,81 %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ývoj se odráží i na rostoucím průměrném stáří au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raf 4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ozový park v ČR dle stáří au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měrný rok výroby 1992,66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ůměrné stáří OA v ČR 13,84 let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graf 4 (zdroj:autosap.cz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1721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ůst automobilového průmyslu v Č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České republice bylo za 1.- 9. měsíc 2006 vyrobeno celkem 636 464 ks vozidel, což je o 48,87 % více než ve stejném období roku 2005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přitom vzrostl téměř o 55 % na 585 289 vozidel. Za celý rok 2005 bylo přitom v ČR vyrobeno 606 294 vozidel, z čehož bylo 535 379 ks exportováno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árůst výroby je dán především náběhem na plnou kapacitu v TPCA Kolín a zvýšenou výrobou ve Škoda Au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výšení produkce osobních a malých užitkových automobilů o 49,75 % (export přitom vzrostl o 54,97 %, domácí prodej zůstal v podstatě na úrovni loňského roku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ůst automobilového průmyslu v ČR I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valý růst v posledních deseti letech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zi lety 1997 a 2005 se zvýšil objem produkce 3x na současných téměř půl bilionu korun (graf 5, zdroj:ČSÚ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55640" y="2708280"/>
          <a:ext cx="7488360" cy="37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74883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autosap.c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czso.c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skoda-auto.c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bsah prezentac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kladní parametry trhu a vývoj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íl domácích a zahraničních výrobc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ení trhu podle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íl nových a ojetých a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plňující informace k produktům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áří automobilů, objem produkce automobilového průmyslu v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ujeme s registrovanými O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ákladní parametry trhu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posledních letech trvalý mírný růst trhu, v jednotkách procent (graf 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ní domácí výrob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ý podíl aut třídy malá (graf 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vyšující se počet aut na oby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ký poměr nových a ojetých a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soký podíl aut z dovoz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4969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Vývoj trhu </a:t>
            </a:r>
            <a:br>
              <a:rPr sz="2400"/>
            </a:b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graf 1(zdroj: autosap.cz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ecff"/>
                </a:solidFill>
                <a:latin typeface="Arial"/>
              </a:rPr>
              <a:t>Podíl třídy malá OA na trhu</a:t>
            </a:r>
            <a:br>
              <a:rPr sz="2000"/>
            </a:br>
            <a:r>
              <a:rPr b="0" lang="cs-CZ" sz="2000" spc="-1" strike="noStrike">
                <a:solidFill>
                  <a:srgbClr val="ccecff"/>
                </a:solidFill>
                <a:latin typeface="Arial"/>
              </a:rPr>
              <a:t>graf 2 (zdroj: autosap.cz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díl malých OA na celkovém počtu registrovaných dlouhodobě kolem 5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af 2 : Registrace nových osobních automobilů ve třídě malé v roce 2005 - téměř 50%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971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odíl domácích a zahraničních výrobců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koda Auto: celkově i ve třídě malá OA dominuje v kategorii nově vyrobených vozů v Č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bírá dlouhodobě mezi 40 a 50% na celkovém tr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 třídě malá OA pak mezi 50 a 6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íl domácích nově vyrobených aut na českém trhu klesá hluboko pod 3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raf 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Graf 3 </a:t>
            </a:r>
            <a:br>
              <a:rPr sz="2400"/>
            </a:b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(zdroj: autosap.cz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74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47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egistrace nových OA v ČR v obchodní třídě - Malé OA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Škoda Fabia od svého uvedení na trh vévodí s více než 50% ročním podíl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souhrnné statistice vozů registrovaných v ČR je již na druhém místě (tabulka 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této třídě bylo v roce 2005 prodáno celkem 61 731 ks vozidel (v 29 základních modelech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abulka 1(zdroj: autosap.cz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148360" y="0"/>
          <a:ext cx="3995640" cy="6857640"/>
        </p:xfrm>
        <a:graphic>
          <a:graphicData uri="http://schemas.openxmlformats.org/drawingml/2006/table">
            <a:tbl>
              <a:tblPr/>
              <a:tblGrid>
                <a:gridCol w="1381680"/>
                <a:gridCol w="907920"/>
                <a:gridCol w="1014840"/>
                <a:gridCol w="691200"/>
              </a:tblGrid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Období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bb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Typ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K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Podí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Pořadí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itroën C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8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.96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Fiat PU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01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Ford FIES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6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.60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Ford FU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55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Honda JAZ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8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yundai GET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.70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hevrolet KALO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7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58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Nissan MIC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7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Opel CORS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87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Peugeot 2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8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.6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Renault CL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3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68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nault THAL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06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eat CORDOB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92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eat IBIZ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08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uzuki IGN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9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.53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uzuki SWIF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0.61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Škoda FAB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2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8.7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Toyota YAR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8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.04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Volkswagen POL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3.26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17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79760" y="260280"/>
            <a:ext cx="3592440" cy="6408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09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cecff"/>
                </a:solidFill>
                <a:latin typeface="Arial"/>
              </a:rPr>
              <a:t>Tabulka 2</a:t>
            </a:r>
            <a:br>
              <a:rPr sz="1600"/>
            </a:br>
            <a:r>
              <a:rPr b="0" lang="cs-CZ" sz="1600" spc="-1" strike="noStrike">
                <a:solidFill>
                  <a:srgbClr val="ccecff"/>
                </a:solidFill>
                <a:latin typeface="Arial"/>
              </a:rPr>
              <a:t>(zdroj: autosap.cz)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32:19Z</dcterms:created>
  <dc:creator>143755</dc:creator>
  <dc:description/>
  <dc:language>en-US</dc:language>
  <cp:lastModifiedBy>143755</cp:lastModifiedBy>
  <dcterms:modified xsi:type="dcterms:W3CDTF">2006-12-08T15:20:01Z</dcterms:modified>
  <cp:revision>22</cp:revision>
  <dc:subject/>
  <dc:title>Trh s malými automobily</dc:title>
</cp:coreProperties>
</file>