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C1F-C589-4108-B475-3922DEB9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552-D6CF-4D95-B74E-A9411615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278-7BA8-40B9-B3E9-5A87EB60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DC3-950B-4541-BFA6-B5DC1AF1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EAB5-03EC-4D5C-BD90-A2FC90A8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4270-4FE9-4705-B688-0C968E94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F432-A71C-4059-B026-894BCE8F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F31A-2B50-49E4-A5BA-7A3CAF79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7CC7-4D81-4610-8643-E8C9A75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91E2-9306-47EF-8FDD-99E1D23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1446-5AA2-4F85-BD72-B7C8ABA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14B-0F1A-4871-8DB4-1DF0BC5D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416C-12FA-409D-A740-D40E394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D469-AB06-4B81-B26A-C0DB743C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A4D5-DE87-4F34-A8D5-2E1D4821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0168-3C68-470A-BF74-9EAD0893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0FB6-19B9-40BA-9D18-88315B76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F84-833A-4B4B-ADB3-690B6029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5C8-0CFB-41C3-A9E8-55A463B5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EA8-4F95-46B1-977C-AEE3124F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2D0-7320-47E9-8187-027FBF45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7E9-CF90-4020-B717-3D3EE744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B9C-E093-4F49-9CAD-34ABED38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9E4-51A6-4C4A-BC57-D9E3AF5E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6B07-60F9-4279-9130-A16404FE0BE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BA14-E271-49D5-8BD3-1ADBFC6D976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Český pivní trh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pracovaly: Eva Kurucová (143959), Jana Perná (156269), Kateřina Stojaspalová (5717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3640" y="1881360"/>
            <a:ext cx="237636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díl největších pivovarů na produkci v roce 2005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8000" y="2746440"/>
            <a:ext cx="51120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istorie současných největších výrobců piva na českém trh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1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istorie SABMille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SABMiller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je s více než 134 miliony hektolitrů piva druhou největší světovou pivovarnickou společností. Společnost SABMiller vznikla v roce 2002, poté, co tehdejší SAB (South African Breweries – Jihoafrické pivovary) koupila většinu akcií druhého největšího amerického pivovaru, Miller Brewing Company.Od skromných začátků v roce 1895, kdy přistěhovalci z Anglie, Irska, Německa či Holandska založili v okolí Johannesburgu malý pivovar (500 hektolitrů ročně) k uspokojení potřeb žíznivých zlatokopů, přes africkou, evropskou, čínskou, indickou a americkou expanzi ke druhé největší světové pivovarnické společ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istorický počátek společnost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taroprame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a.s. lze brát 13. července roku 1869, kdy pražské noviny otiskly inzerát oznamující upisování akcií nového "Akcionářského pivovaru na Smíchově"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ba národního obrození s sebou přinesla i zvýšenou oblibu českého piva. A právě v této době a z těchto důvodů byly vybudovány pivovary Staropramen, Braník a Ostra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čátkem století zažívala česká ekonomika i pivovary relativní růst. Toho samozřejmě všechny tři pivovary využily. Pivovary se začaly rozrůstat, což mělo za následek potřebu modernizace. Rozvoji napomohly i dvě důležité události, které proběhly v posledních letech devatenáctého století: zavedení umělého chlazení a masové plnění piva do lahv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2. Historie Staropramen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této době se však začal přiostřovat i konkurenční boj mezi pivovary, obzvláště v Praze, kde působilo několik větších pivovarů V boji proti konkurenci byla značka Staropramen poprvé zaregistrována v roce 1911. Dobovou zajímavostí je i to, že autorem prvního výtvarného pojednání značky (loga) Braníku, byl známý český malíř Mikoláš Aleš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rvní světovou válkou zažily všechny tři pivovary, stejně jako všechen ostatní průmysl, velkou krizi. Pivovary Staropramen, Braník i Ostravar přišly kvůli odvodům o nejschopnější dělníky, byla zahájena rekvizice surovin a strojního zaříze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 oživení ekonomiky v Praze dochází přibližně v polovině dvacátých let. Na konci desetiletí klesly ceny surovin a čekala se konjunktura. Namísto toho přišla hluboká hospodářská krize. Přes všechny těžkosti pivovar Staropramen právě v této době začal znovu vydělávat, investoval do zařízení a změnil se v moderní podnik. Byl to právě pivovar Staropramen, který se stal na dlouhou dobu pivovarem s největším výstavem v Československ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ak přišla další válečná katastrofa. Zastavily se investice, vyčerpaly suroviny, mnohé zařízení se zcela opotřebovalo či bylo zničeno válkou. Po válce byly všechny tři pivovary znárodněny a do poválečných let vstoupily jako národní podnik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roce 1992 vznikla společnost Pražské pivovary, a. s. V roce 1994 se strategickým partnerem Pražských pivovarů stala britská pivovarnická společnost Bass, jeden z největších evropských producentů pi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roce 2000 se staly Pivovary Staropramen součástí pivovarnické skupiny Interbrew, jejíž původ sahá až do roku 1366. Společnost je s více než 14% podílem na trhu druhým největším producentem piva v České republice a druhým největším českým exportérem piva. Mezi značky patří celorepublikový Staropramen a Braník, silná regionální značka Ostravar, dále pak Měšťan, Vratislav, dia pivo „D“ a pivní speciály Kelt a Velvet. Portfolio nabízí i belgická piva z portfolia společnosti InBev jako Stella Artois, Hoegaarden, Leffe či Belle-Vue Kriek. V říjnu roku 2003 došlo, po důkladném průzkumu vnímání tehdejšího názvu společnosti, ke změně korporátního jména. Původní název společnosti - Pražské pivovary a.s., daný historickým vývojem, se změnil na nový název: Pivovary Staropramen a.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valita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Budvaru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a věhlas budějovického piva, jehož historie sahá až do 13. století, vedly k tomu, že originální receptura i jeho jméno byly často předmětem napodobování a kopírování. Pivovar Budějovický Budvar je dlouhodobě jedním z nejúspěšnějších potravinářských podniků v České republice. Téměř polovina produkce je úspěšně prodávána ve více než 60 zemích celého svět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římým předchůdcem pivovaru Budějovický Budvar, n.p. byl Český akciový pivovar. Ten byl založen v roce 1895 a přímo navazoval na historickou tradici vaření piva v Českých Budějovicích, která sahá až do 13. století, do doby založení města a udělení práva várečnéh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 19. století byly České Budějovice národnostně smíšeným městem. V konkurenci s německým Měšťanským pivovarem a dvěma schwarzenbergskými pivovary v Třeboni a Protivíně vždy vítězil Český akciový pivovar především díky vysoké kvalitě a výjimečné chuti svého piva, která byla poprvé oceněna již v roce 1896 na Průmyslově výstavě v Praze. Již v roce 1913 byl ležák z Českého akciového pivovaru znám v zahraničí. A právě díky rozvinutému exportu byla jeho obnova po 1. světové válce dokončena velmi rych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3. Historie Budvar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ěhem druhé světové války byl pivovar pod nacistickou správou a po jejím skončení byl znárodně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odobá historie pivovaru se datuje do roku 1967, kdy Ministerstvo zemědělství České republiky založilo národní podnik Budějovický Budvar jako přímého nástupce Českého akciového pivovaru, který vařil pivo v Českých Budějovicích již od roku 1895. Ten byl založen českými právovárečníky, kteří navázali na více než 700 let starou historii vaření piva v Českých Budějovicích (dříve Budweis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udějovický Budvar vlastní cenné duševní vlastnictví v podobě více než 380 ochranných známek registrovaných ve 101 zemích světa. Mezi nejznámější patří Budweiser, Budvar, Budweiser Budvar, Bud, Budějovický Budvar a Czechvar. Toto duševní bohatství souvisí s místem svého původu, městem České Budějovice, dříve Budiwoyz či Budwe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stupnou expanzí na zahraniční trhy a posilováním prodejů doma dosáhl Budějovický Budvar pozice klíčového hráče na trhu piva nejen v České republice. Objem exportovaného výstavu řadí prémiový originální ležák Budweiser Budvar k jedné z nejexportovanějších pivních značek České republik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. Historie Drinks Union, a.s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rinks Union, a.s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 byla založena v roce 1997 a je čtvrtou největší pivovarskou skupinou v zemi a zároveň největším výrobcem piva s domácím soukromým kapitálem. Je také třetím největším domácím výrobcem lihovin. Sídlí v Ústí nad Labem a vlastní ji několik fyzických osob. Firma zastřešuje pivovary v Krásném a Velkém Březně, v Lounech a Kutné Hoře. Vyrábí piva Zlatopramen, Březňák, Louny, Dačický, Lorec a Jarošov. Do skupiny patří i sladovna ve Velkém Březně a sladovna v Jarošově. Drinks Union má i vlastní chmelnici nedaleko Žatce, kde pěstuje vlastní chmel jako přísadu do svých piv. V roce 2005 překročila společnost poprvé v historii magickou hranici milionu hektolitrů piva, které vyrobila. V domácích čtyřech pivovarech to bylo kolem 920 tisíc hektolitrů piva, zbytek tvořila licenční výroba piva Zlatopramen v Rusku.  Drinks Union více než čtvrtinu své produkce uplatňuje na zahraničních trzích a je s přibližně 260 tisíci hektolitry piva největším domácím exportérem na německý tr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ehled produktů prvních třech největších producentů na českém trh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6248520" cy="4876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13618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ehled produktů prvních třech největších producentů na českém trh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6248520" cy="4876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1028520" cy="11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Demografické skupiny a pití piv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roce 2006 pijí pivo všechny věkové i vzdělanostní skupiny obyvat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vo si při návštěvě restaurace objedná 44% ze všech, kteří občas navštěvují pohostinská a restaurační zařízení. Dá se tedy tvrdit, že pivo je nejoblíbenějším nápojem v české společnost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konzumaci piva jsou výrazné rozdíly mezi pohlavími. 74% mužů si v restauracích nejraději objednává pivo, zatímco pouze 12% žen upřednostňuje pivo před výběrem jiného nápoje, které  pohostinská zařízení běžně nabízej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0% mužů v ČR pije pivo, zatímco žen pijících alespoň občas je téměř o polovinu méně - 53%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časným trendem pro české ženy je (oproti předchozí době) snižování podílu těch, které vůbec pivo pijí. Tento jev se ale týká pouze skupiny žen mladšího nebo středního věku, s vyšším vzděláním, dobrým pracovním postavením a finančním zajištění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ehled produktů prvních třech největších producentů na českém trhu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24996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11811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žitá literatura a zdroj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oužité zdroje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Pivo. 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Wikipedia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[online]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[cit. 2006-03-12]. URL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cs.wikipedia.org/wiki/Pivo&gt;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Vinopal, Jiří. 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ití piva v české společnosti v roce 2006.</a:t>
            </a: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[online]. 21.11.2006 [cit. 2006-03-12]. Centrum pro výzkum veřejného mínění - Sociologická ústav AV ČR. URL:&lt;http://www.cvvm.cas.cz/upl/zpravy/100617s_OR61121b.pdf&gt;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Vinopal, Jiří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ivo v české společnosti v roce 2006</a:t>
            </a: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[online]. 21.11.2006 [cit. 2006-03-12]. Centrum pro výzkum veřejného mínění - Sociologická ústav AV ČR. URL:&lt;http://www.cvvm.cas.cz/upl/zpravy/100616s_OR61121a.pdf&gt;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Spotřeba potravin v letech 1998 – 2005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. [online]. 21.11.2006 [cit. 2006-03-12]. Český statistický úřad - ČSÚ. URL:&lt;http://www.czso.cz/csu/2006edicniplan.nsf/t/340038A8EC/$File/3004rr_02.pdf&gt;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Podhrázký, Tomáš. </a:t>
            </a: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Marketingový mix konkrétního produktu.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Brno, 2006. 56 s. Diplomová práce na Ekonomicko správní fakultě Masarykovy univerzity. Katedra podnikového hospodářství. Vedoucí práce Klára Doležalová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prazdroj.cz/cz/o-spolecnosti/sabmi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drinksunion.cz/o-spolecnosti/profil-spolecnosti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vetropack.cz/sklo_obaly_clanek09.h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mam.ihned.cz/c4-10000145-19807190-100000_d-cesi-piji-mene-piva-a-jsou-vybiravej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staropramen.cz/pp/jnp/cz/historie/index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http://www.budvar.cz/web/Znacka-Budvar/Historie-Budvar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onzumace piva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le statistického úřadu byla v roce 2005 v ČR průměrná roční spotřeba piva 163,5 litrů na osob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kový objem vypitého piva se však v roce 2006 oproti předchozí době nepatrně sníži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to fakt pravděpodobně ovlivnil nárůst cen, jenž zapříčinil snížení spotřeby piva u skupin osob s nižšími příjm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roveň se projevilo snižování objemu konzumace piva u osob, které pravidelně pijí více než 14 piv za týd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ůměrný počet za týden vypitých piv u mužů v roce 2006 klesá v souvislosti s rostoucím vzdělání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raf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038480" cy="280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05520" y="2421000"/>
            <a:ext cx="4038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ruhy piva v Č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 českém pivním trhu je v současnosti nabízeno více než 470 pi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ČR jsou nejtypičtější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větl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v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ýčepn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tj. piva z ječných sladů s extraktem původní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ladin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= roztok cukrů vařený s chmelem) 8 - 10 % hmotnostních („desítka“), a piv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žák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tj. piva z ječných sladů s extraktem původní mladiny 11 - 12 % hmotnostních („dvanáctka“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lšími druhy jsou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ivo tmav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z tmavého nebo karamelového sladu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řezan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ři stáčení smíšené z tmavého a světlého piva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hk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o 7 % extraktu původní mladiny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eciální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xtrakt původní mladiny 13 % a výše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t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mavé pivo s extraktem původní mladiny 18 % a více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šeničné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vasnicov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vzniklá přidáním rozkvašené mladiny do hotového piva při stáčení)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alkoholick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chucen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 dalš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1028880"/>
            <a:ext cx="68421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uži, ženy a piv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Ženy tradičně preferují tmavé pivo, před ostatními druhy mu dává v roce 2006 přednost 23% z nich. Oproti roku 2004 se také projevil prudký nárůst preference černého piva u žen z původních 14%. Podíl žen, které se o to, jaký druh piva pijí nezajímají, se oproti minulosti snížil z 22 na 18%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 souvislosti s rostoucím ekonomickým postavením mužů se zvyšuje obliba ležáků u mužů a černých piv u žen. V nižších příjmových skupinách jsou nejoblíbenější levnější výčepní piv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1620720"/>
            <a:ext cx="40384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běr spotřebitel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ecně se čeští spotřebitelé stále více zajímají o to, co pijí. Není jim lhostejné, jakou má konzumovaný nápoj značku nebo místo původu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ivo jen z některých konkrétních pivovarů si vybírá 80% mužů a 49% žen. Zbývajícím nezáleží na tom, jakou značku piva pijí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avidelní konzumenti piva (pijí alespoň 3 piva za týden) si častěji vybírají svou oblíbenou značku než ti, kteří pijí jen příležitostně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díl těch, kteří upřednostňují značky piva z vlastního regionu, není příliš markantní, ale nepřetržitě stoupá. Vzhledem k rozložení největších výrobců piva v ČR se regionální patriotismus ve vztahu k pití piva objevuje nejvíce v kraji Plzeňském, Moravskoslezském, Jihočeském nebo Jihomoravském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ětšina českých spotřebitelů si vybírá pivo spíše podle chuti, než podle ceny. Velká skupina konzumentů také přihlíží k oběma faktorům. S růstem životní úrovně také roste větší důležitost chuti před cenou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28960" y="3941640"/>
            <a:ext cx="50846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Láhev nebo plechovka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jímavým aspektem jsou procentuální prodeje piva v jednotlivých druzích obalů. V ČR zatím stále vede prodej piva v sudech – skoro 49% a ve skleněných lahvích – 45%. Oproti předešlé době také narůstá prodej piva v plechovkách a naopak nepříliš se ujalo zavedení prodeje některých značek piva v PET lahví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3927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9:04:03Z</dcterms:created>
  <dc:creator>khartlov</dc:creator>
  <dc:description/>
  <dc:language>en-US</dc:language>
  <cp:lastModifiedBy>kurucova</cp:lastModifiedBy>
  <dcterms:modified xsi:type="dcterms:W3CDTF">2006-12-06T10:11:13Z</dcterms:modified>
  <cp:revision>5</cp:revision>
  <dc:subject/>
  <dc:title>Historie současných největších výrobců piva na českém trhu</dc:title>
</cp:coreProperties>
</file>