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20C-7E60-4AF5-91A3-61A515A1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29B-9C30-4C4D-B3F1-4680C042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EC3-C055-4572-8089-A714DBF1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6B8-EB53-40D3-96AC-43995876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F7A8-6DD1-4A9C-B98C-AA599AC3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4B52-1F5D-432F-A98C-FA2FDD4A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0460-ACC8-4C8B-9DE8-291D5C26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51A2-D0A6-41DF-859C-618644AC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B2A0-F862-4164-A327-B9115681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F3F9-F785-4F02-AB09-8B90410A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0FF2-7059-4DCC-9961-26CAB427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133-BDF1-47C5-A914-872A3133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B58A-F766-4788-BC1B-5CDC7099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9AF1-3B5B-48BE-AFCD-81188758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A4DD-FF05-4D44-8939-F3947BD1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98C9-6CF8-406D-A97D-9ABD848A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B178-9D53-4198-AECB-94315059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C88-D608-4A9A-8336-787E773D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C038-B411-47D9-AA8E-4DCA6585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A3D-108F-4442-9715-D2173753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1FB-95FA-4D2F-B7E8-7AB47202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2EE-2ACD-451E-A24F-89DFF44B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F05-D183-4860-9D28-A8349705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890-9082-4FF4-8EED-22C7563D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4D62-D905-48DE-B2ED-B151E1F3DCD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4EF9-6A9F-4795-811B-EB156E13304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Trh Top 5 českého obchodu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abriela Brodack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rtina Hyn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deňka Lechn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ývoj firemní struktury českého obchodu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971640" y="6308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droj:www.incoma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op 5 českého obchod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68360" y="2060640"/>
          <a:ext cx="8229600" cy="4174920"/>
        </p:xfrm>
        <a:graphic>
          <a:graphicData uri="http://schemas.openxmlformats.org/drawingml/2006/table">
            <a:tbl>
              <a:tblPr/>
              <a:tblGrid>
                <a:gridCol w="1019160"/>
                <a:gridCol w="3084480"/>
                <a:gridCol w="1584360"/>
                <a:gridCol w="2541600"/>
              </a:tblGrid>
              <a:tr h="82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řad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ma/Skup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brat (mld.koru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Řetěz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kro Cash&amp;Carry ČR, s.r.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k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WARZ Č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ufland, Li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hold Czech Republic, a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ypernova, Albe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WE Č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illa, Penny Mark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sco Stores ČR, a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co hypermarket, Tesco 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684360" y="64911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droj:www.incoma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Makro Cash&amp;Carry ČR, s.r.o.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ěmecký koncern METRO AG, v ČR od roku 1997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brat: 37,5 mld. Kč/rok 2005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amostatný segment - samoobslužný velkoobchod nabízející služby i konečným spotřebitelům </a:t>
            </a:r>
            <a:r>
              <a:rPr b="0" lang="cs-CZ" sz="25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 řadí se mezi maloobchodní firm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12 velkoplošných tzv. cash&amp;carry marketů Makro (periferní lokality největších měst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elkoobchodní prodej spotřebního zboží registrovaným podnikatelům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CHWARZ ČR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ěmecký koncern, v ČR od roku 1998 – Kaufland (Ostrava), 2003 - Lid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rat: 37 mld.Kč/rok 200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ncentrace na tzv. </a:t>
            </a:r>
            <a:r>
              <a:rPr b="1" i="1" lang="cs-CZ" sz="2400" spc="-1" strike="noStrike">
                <a:solidFill>
                  <a:srgbClr val="ffffff"/>
                </a:solidFill>
                <a:latin typeface="Verdana"/>
              </a:rPr>
              <a:t>diskontní prodejny -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jednotky s nižší kvalitou prodeje, menším množstvím prodávaných položek a nízkými cenami; nízká prodejní marže a rychloobrátkovost zboží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Verdana"/>
              </a:rPr>
              <a:t>Řetězce v ČR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:Kaufland; Lid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Kaufland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: 68 prodej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Lidl: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124prodejen (plán: 200 prodejen v ČR); největší síť diskontních prodejen potravin v Evrop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HOL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nizozemský koncern, v ČR od roku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1991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(původně pod názvem Euronova, a.s.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největší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maloobchodní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firma na českém trhu; nejhustší síť obchodů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 roce 2001 se prodejny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rima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(provozované Aholdem v ČR) přejmenovávají na Hypernov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 lednu 2003 vznikla společnost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Ahold Central Europe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(ACE), která sdružila síly sesterských společností Ahold na Slovensku, v Polsku a České republice (ACE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obrat 36 mld.Kč/rok 200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rok 2005 –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řevzetí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57 prodejen </a:t>
            </a: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Julius Mein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Řetězce v ČR: Albert; Hypernov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Albert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: 244 supermarketů v Č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Hypernova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: 53 hypermarketů v ČR; jeden z nevětších provozovatelů velkých hypermarketů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REWE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ěmecký koncern, v ČR od roku 1991 prodejny Billa, Penny Market od roku 1997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rat 23,2 mld.Kč/rok 2005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odkoupení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supermarketů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Delvita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ČR (belgická společnost Delhaiz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Řetězce v ČR: Billa; Penny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Billa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: 80 prodejen v ČR; původně rakouský diskontní obchod – v roce 1996 koupena německou skupinou REWE Gro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Penny Market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iskontní potravinářský řetězec, typu "tvrdý diskont„;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159 prodejen v Č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4c3aa"/>
                </a:solidFill>
                <a:latin typeface="Arial"/>
              </a:rPr>
              <a:t>Tesco Stores ČR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britský maloobchodní řetězec nabízející potravinové a nepotravinové zboží, pohonné hmoty a finanční a telekomunikační služby.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stup na český trh v roce 1996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rat 22,5mld.Kč/rok 2005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 roce 2006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odkup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sítě obchodů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Carrefour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11 hypermarketů); odkup části společnosti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Edeka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27 supermarket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Řetězce v ČR: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Tesco hypermarket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28 prodejen);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Tesco OD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6 prodeje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ývoj obratu Top 5 českého obchodu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68360" y="1700280"/>
          <a:ext cx="835164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35164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611280" y="64911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droj: www.incoma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4c3aa"/>
                </a:solidFill>
                <a:latin typeface="Arial"/>
              </a:rPr>
              <a:t>Vývoj počtu prodejen Top 5 českého obchodu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6524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droj: www.incoma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68360" y="1197000"/>
          <a:ext cx="813600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1360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op 5 českého obchodu – </a:t>
            </a:r>
            <a:br>
              <a:rPr sz="4000"/>
            </a:b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proces další konsolidace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ŘI HLAVNÍ TREND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další expanze stávajících řetězců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expanze zejména v méně lukrativních oblastech - výstavby malých tzv. kompaktních hypermarketových jednotek; v roce 2005 větší rychlost výstavby hypermarketů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zájemná převzetí firem, fúze, odchody z trh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ývoj nových formátů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ze strany stávajících obchodních firem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upermarket x Hypermarke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Supermark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je samoobslužní prodejna s nabídkou převážně potravinářského zboží denní potřeby a s doplňkovým nepotravinářským zbožím. Prodejní plocha supermarketů se pohybuje v rozmezí od 400 do 2500 m</a:t>
            </a:r>
            <a:r>
              <a:rPr b="0" lang="cs-CZ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Hypermark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je samoobslužní velkokapacitní prodejna nebo obchodní dům s širokou nabídkou potravinářského a nepotravinářského zboží s prodejní plochou větší než 2500 m</a:t>
            </a:r>
            <a:r>
              <a:rPr b="0" lang="cs-CZ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Internetové zdroj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ww.incoma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ww.hbi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ww.hyper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ww.mobchod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Proč nás fascinují </a:t>
            </a:r>
            <a:br>
              <a:rPr sz="4000"/>
            </a:b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„chrámy konzumu“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Šíří sortimen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likostí prodejní ploc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likostí nákupních koš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videlnými slev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stupností au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evírací dob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ncentrací zábavy, služeb, lid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Historie super/hypermarketů v ČR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vní supermarket v ČR: MANA v roce 1991 v Jihlavě (holandská společnost Ahold), další o týden později v Pra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991 další prodejny řetězců Delvita a Billa, 1992 diskontní prodejny Pl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ychlá expanze obchodních řetězců v následujících lete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voj sítě hypermarketů v ČR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nec roku 1999 - v ČR zhruba 50 hypermarketů - přibližně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jednotek na milion obyvat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2000 -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hypermarketů na milion obyvat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2001 -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13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hypermarketů na milion obyvat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2004 –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16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hypermarketů na milion obyvatel (555 supermarketů, 426 diskontních prodejen a 160 hypermarket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2005 -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19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hypermarketů na milion obyvatel (studie ACNielsen z listopadu 200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Verdana"/>
              </a:rPr>
              <a:t>dnes má Česká republika nejvyšší počet hypermarketů ve střední Evropě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rovnání: Slovensko 16, Maďarsko 9, Polsko 6, Francie, Velká Británie, Německo - 16-18 hypermarketů na 1 milion obyvat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Organizační a prostorová transformace maloobchodu v ČR 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Verdana"/>
              </a:rPr>
              <a:t>1.etapa (1.polovina 90.let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ynamický rozvoj nových obchodních jednotek i rekonstrukce prodejen již stávající maloobchodní sítě (větší samoobsluhy, obchodní dom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rocesu se účastní tuzemské společnosti a již i některé zahraniční firmy (Julius Meinl, Ahold, Delvit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Verdana"/>
              </a:rPr>
              <a:t>2.etapa (2. polovina 90.let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ozsáhlá investiční účast zahraničních firem na rozvoji moderní velkoplošné obchodní sítě (např. Tesco, Globus, Carrefour, Hypernov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obchodní prostředí v ČR se stále více internacionalizuj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nes se v žebříčku TOP 10 obchodních společností vyskytují pouze zahraniční subjek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Super/Hypermarkety vs. Diskonty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Verdana"/>
              </a:rPr>
              <a:t>Diskonty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: jednotky s nižší kvalitou prodeje, menším množstvím prodávaných položek a nízkými cenami; nízká prodejní marže a rychloobrátkovost zboží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iskontní prodejny Top 5 v ČR: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enny Market, Lidl, Kaufland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 konce 90. let markantní vzestup počtu diskontních prodejen. Největší boom s příchodem řetězce Lidl na český trh v roce 2003 – do konce roku 2003 měl Lidl v ČR 51 a na konci roku 2004 již 97 prodeje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ývoj hlavního nákupního místa potrav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droj: www.incoma.c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792144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Prodejny podle měsíčně utracené sumy peněz obyvateli ČR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638172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Zdroj: www.incoma.c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0:01:24Z</dcterms:created>
  <dc:creator>Zdeňka Lechnerová</dc:creator>
  <dc:description/>
  <dc:language>en-US</dc:language>
  <cp:lastModifiedBy>Zdeňka Lechnerová</cp:lastModifiedBy>
  <dcterms:modified xsi:type="dcterms:W3CDTF">2006-11-30T16:28:25Z</dcterms:modified>
  <cp:revision>52</cp:revision>
  <dc:subject/>
  <dc:title>Trh hyper/supermarketů</dc:title>
</cp:coreProperties>
</file>