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1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4676-FB2B-4648-8BA8-E09EADC1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F829-394E-4403-BE09-86C0131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FE0A-B42B-4168-AEA0-89EFCC95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3223-84D5-4462-8469-66ECC2CD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0AF1-2295-44A5-87FB-211A7FB6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586-5247-4860-9775-86014AD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AC31-3523-4091-BC45-743785C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66B8-B3E3-4B37-8F6E-4AD1A7F2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C31F-8D25-493D-8933-9184E51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261A-A088-4DE1-9887-F2CFCFB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2105-3793-4A18-BF85-5752FBF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F8F6-4B6F-42D0-A642-AB81A62D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08AA-3C46-4358-8A7F-DB2A44F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D8B-CD1D-421D-9F46-041A8352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1F7-5BF0-41B4-88B7-3E8FC25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CAAD-6501-4593-854A-1CF46598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0EC9-A92E-4E3D-AC0C-97D14EE3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1875-C028-47FB-921A-3B9F1F72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DBE3-8324-4266-9D1A-31AE822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E972-052F-42ED-B331-E2735813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7057-309D-4E92-8492-E8EEE3EA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03CF-50E6-498B-8356-6FF9F30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D2BF-EE5D-4214-B177-AD341069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6269-9DE0-4328-A7AA-CD438FF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7E82-A818-4A2A-A007-5F8C37491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66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C035-8BCB-4743-865D-AB0037AFC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99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kolist.cz/zprava.shtml?x=1905666" TargetMode="External"/><Relationship Id="rId2" Type="http://schemas.openxmlformats.org/officeDocument/2006/relationships/hyperlink" Target="http://www.ekospotrebitel.cz/" TargetMode="External"/><Relationship Id="rId3" Type="http://schemas.openxmlformats.org/officeDocument/2006/relationships/hyperlink" Target="http://www.ekospotrebitel.cz/" TargetMode="External"/><Relationship Id="rId4" Type="http://schemas.openxmlformats.org/officeDocument/2006/relationships/hyperlink" Target="http://www.ekospotrebitel.cz/" TargetMode="External"/><Relationship Id="rId5" Type="http://schemas.openxmlformats.org/officeDocument/2006/relationships/hyperlink" Target="http://www.ekospotrebitel.cz/" TargetMode="External"/><Relationship Id="rId6" Type="http://schemas.openxmlformats.org/officeDocument/2006/relationships/hyperlink" Target="http://www.mokosha.info/" TargetMode="External"/><Relationship Id="rId7" Type="http://schemas.openxmlformats.org/officeDocument/2006/relationships/hyperlink" Target="http://www.mokosha.info/" TargetMode="External"/><Relationship Id="rId8" Type="http://schemas.openxmlformats.org/officeDocument/2006/relationships/hyperlink" Target="http://www.mokosha.info/" TargetMode="External"/><Relationship Id="rId9" Type="http://schemas.openxmlformats.org/officeDocument/2006/relationships/hyperlink" Target="http://www.mokosha.info/" TargetMode="Externa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konomika.idnes.cz/test.asp?r=test&amp;c=2005M017t07B" TargetMode="External"/><Relationship Id="rId2" Type="http://schemas.openxmlformats.org/officeDocument/2006/relationships/hyperlink" Target="http://ekonomika.idnes.cz/test.asp?r=test&amp;c=2005M017t07B" TargetMode="External"/><Relationship Id="rId3" Type="http://schemas.openxmlformats.org/officeDocument/2006/relationships/hyperlink" Target="http://ekonomika.idnes.cz/test.asp?r=test&amp;c=2005M017t07B" TargetMode="External"/><Relationship Id="rId4" Type="http://schemas.openxmlformats.org/officeDocument/2006/relationships/hyperlink" Target="http://ekonomika.idnes.cz/test.asp?r=test&amp;c=2005M017t07B" TargetMode="External"/><Relationship Id="rId5" Type="http://schemas.openxmlformats.org/officeDocument/2006/relationships/hyperlink" Target="http://ekonomika.idnes.cz/test.asp?r=test&amp;c=2005M017t07B" TargetMode="External"/><Relationship Id="rId6" Type="http://schemas.openxmlformats.org/officeDocument/2006/relationships/hyperlink" Target="http://ekonomika.idnes.cz/test.asp?r=test&amp;c=2005M017t07B" TargetMode="External"/><Relationship Id="rId7" Type="http://schemas.openxmlformats.org/officeDocument/2006/relationships/hyperlink" Target="http://ekonomika.idnes.cz/test.asp?r=test&amp;c=2005M017t07B" TargetMode="External"/><Relationship Id="rId8" Type="http://schemas.openxmlformats.org/officeDocument/2006/relationships/hyperlink" Target="http://www.droxi.cz/" TargetMode="External"/><Relationship Id="rId9" Type="http://schemas.openxmlformats.org/officeDocument/2006/relationships/hyperlink" Target="http://www.fixies.cz/home/?acc=fixies_plenky" TargetMode="External"/><Relationship Id="rId10" Type="http://schemas.openxmlformats.org/officeDocument/2006/relationships/hyperlink" Target="http://www.helenharper.cz/" TargetMode="External"/><Relationship Id="rId11" Type="http://schemas.openxmlformats.org/officeDocument/2006/relationships/hyperlink" Target="http://www.huggiesclub.cz/script05/default.asp" TargetMode="External"/><Relationship Id="rId12" Type="http://schemas.openxmlformats.org/officeDocument/2006/relationships/hyperlink" Target="http://www.itesco.cz/" TargetMode="External"/><Relationship Id="rId13" Type="http://schemas.openxmlformats.org/officeDocument/2006/relationships/hyperlink" Target="http://www.popolini.cz/" TargetMode="External"/><Relationship Id="rId14" Type="http://schemas.openxmlformats.org/officeDocument/2006/relationships/hyperlink" Target="http://www.popolini.cz/" TargetMode="External"/><Relationship Id="rId15" Type="http://schemas.openxmlformats.org/officeDocument/2006/relationships/hyperlink" Target="http://www.popolini.cz/" TargetMode="External"/><Relationship Id="rId16" Type="http://schemas.openxmlformats.org/officeDocument/2006/relationships/hyperlink" Target="http://www.popolini.cz/" TargetMode="External"/><Relationship Id="rId17" Type="http://schemas.openxmlformats.org/officeDocument/2006/relationships/hyperlink" Target="http://www.rossmann.cz/produkty" TargetMode="External"/><Relationship Id="rId18" Type="http://schemas.openxmlformats.org/officeDocument/2006/relationships/hyperlink" Target="http://www.slevy.cz/index.php?rubrika=katalog&amp;produkt=17626" TargetMode="External"/><Relationship Id="rId19" Type="http://schemas.openxmlformats.org/officeDocument/2006/relationships/hyperlink" Target="http://www.utrading.sk/index1.html" TargetMode="External"/><Relationship Id="rId2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image" Target="../media/image16.jpe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pn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h dětských plene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Alžběta Kubinov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2158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značka se obvykle vyrábí ve vícero variantách a velikostech zohledňujících věk a hmotnost dítě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lňkový sortiment (produkty, které souvisí s přebalováním nebo kojení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ložky na přebal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ní tampony pro kojící m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isticí ubrou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éninkové kalhot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adají jako spodní prá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jí se snadno stáhnout a natáh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ištěny obrázky – motivační charakter (obrázky zmizí, stane-li se „nehoda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7CAA-CC4C-42CF-B900-7765E15693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dence na tr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ltipacky – příznivější c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jem spotřebitelů o levnější produk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or pro vlastní maloobchodní znač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koví výrobci – nutnost snižování cen + nutnost inovace (kompenzovat vyšší cenu vyšší kvalit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725F-F0B7-49F7-95A8-91D18E944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rní látkové pleny (propagace zejména z tábora ekolog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pleny – jednorázové pleny po použití dobře a rychle rozložitelné, jsou však dra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plenková metoda neboli minimální plena - učit dítě používat záchod již od naro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: ekologické, ekonomické, zdravotní, vých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hledem k současnému stylu života není pravděpodobné, že by ohrozily výrobce jednorázových p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AC6B-DBC4-4CBF-A354-1D3EE3A53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k, J. (2004). Jednorázové dětské plenky. In: Zboží &amp; prodej, č. 110, s. 44-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vadil, P. (2006). Ve Francii začala kampaň za prací dětské pleny. Dostupné z: 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www.ekolist.cz/zprava.shtml?x=190566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itováno 6.12.200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ekospotrebitel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látkové ple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mokosha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8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inf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bezplenková meto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2899-6636-4A4D-B926-DC309A03CB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-line zdroje obrázk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ekonomika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idnes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/test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asp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?r=test&amp;c=2005M017t07B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obrázek průřezu pleno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ahold.cz/jnp/sk/ahold/sit_a_znacky/maloobchodni_znacky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billa.cz/eurobilla_cz/default.asp?katNr=34341&amp;sNr=77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delvita.cz/index.php?node=59&amp;frommenu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delvita.cz/index.php?node=60&amp;frommenu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dm-drogeriemarkt.cz/bb/detail.html?q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http://www.drox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http://www.fixies.cz/home/?acc=fixies_plen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http://www.helenharper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http://www.huggiesclub.cz/script05/default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http://www.itesco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http://www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popolini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.</a:t>
            </a: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6"/>
              </a:rPr>
              <a:t>c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obrázek dítěte na titulní strá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7"/>
              </a:rPr>
              <a:t>http://www.rossmann.cz/produ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8"/>
              </a:rPr>
              <a:t>http://www.slevy.cz/index.php?rubrika=katalog&amp;produkt=176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spar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3300"/>
                </a:solidFill>
                <a:uFillTx/>
                <a:latin typeface="Arial"/>
                <a:hlinkClick r:id="rId19"/>
              </a:rPr>
              <a:t>http://www.utrading.sk/index1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35AC-AC43-4525-8631-085A65C57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ka tr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kup zboží ve velké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lké finanční vý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ý okruh spotřebitelů (domácnosti s malými dět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ená doba užívání (cca do dvou let věku dítě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á je důvěra rodičů ve značk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61657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ČR se v roce 2005 prodalo cc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50 milionů kusů jednorázových plen (Zavadil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936E-D591-4203-B04F-1DE21C862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egorie dětských plen = jednorázové papírové nebo buničité plen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řez plen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3716280"/>
            <a:ext cx="4381560" cy="21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1CFF-24A8-41D9-B77F-3A5193F3A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stnické struk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načkoví výrob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lastní maloobchodní zna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4437000"/>
            <a:ext cx="2303640" cy="690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5445000"/>
            <a:ext cx="1441440" cy="36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59280" y="5950080"/>
            <a:ext cx="1047600" cy="419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572000" y="4437000"/>
            <a:ext cx="1206360" cy="123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956720" y="1557360"/>
            <a:ext cx="809280" cy="79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843280" y="2781360"/>
            <a:ext cx="981000" cy="743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7704000" y="2492280"/>
            <a:ext cx="1440000" cy="1141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219640" y="2133720"/>
            <a:ext cx="1143000" cy="1396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3995640" y="2133720"/>
            <a:ext cx="1143000" cy="1396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68360" y="2565360"/>
            <a:ext cx="2305080" cy="124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156360" y="4437000"/>
            <a:ext cx="799920" cy="390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156360" y="4941720"/>
            <a:ext cx="79056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7308720" y="4365720"/>
            <a:ext cx="1295640" cy="1270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684360" y="5300640"/>
            <a:ext cx="1714320" cy="571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755640" y="6021360"/>
            <a:ext cx="1504800" cy="361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3203640" y="4437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6516720" y="2133720"/>
            <a:ext cx="1143000" cy="1396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4572000" y="5805360"/>
            <a:ext cx="1057320" cy="6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DA03-9AF2-4CE2-83C0-8EF50492F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načkoví výrob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5 výrobců dětských plen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cca 70 % trhu v objemu a 77 % v hodnotě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artmann Rico (značka Fix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imberly-Clark (značka Hug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tex (značka Helen Har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Gamble (značka Pamp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versal Trading SR (značky Pipi, Eco baby, Absorbers prem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77000"/>
            <a:ext cx="640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abecedním pořad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daje za období květen 2003 – duben 2004 (zdroj: ACNielsen, podle Smíšek,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310E-2860-4390-8448-B4DDD5DC39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stní maloobchodní znač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kro Cash &amp; Carry ČR – značka 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co Stores ČR – dvě značky: Tesco Výhodný ná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rábí Ontex), Te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hold – značka EuroShopper, Hypernova, Al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spar – značka Spar (vyrábí On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ufland – značka Wickies (vyrábí Hygienika 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lla – značka Clever (vyrábí On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lvita – dvě značky: Delvita, 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l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čka C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us - Discount – značka Bon B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oxi – značka Droxi (vyrábí On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M - drogerie markt – značka Baby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ssmann – značka Ross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09ED-57BA-4938-A3C6-25F4900202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le čeho si spotřebitelé plenky vybíraj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ra absor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avotní hlediska – úroveň péče o pokožku dítě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čnost používání – zejm. způsob a kvalita upínání, tvar plenky (aby se v ní dítě mohlo pohodlně pohybov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rázkový motiv na pleně (zejm. u starších dě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16CA-CE54-4BBD-A24E-AAA8E6DFAF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e získávání spotřebit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aha působit na spotřebitele již ve chvíli, kdy se začíná rozhodovat, kterou značku plen bude kupovat – tedy již v porodn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lama – televize, časopisy pro ženy, angažování slavných osobností a jejich dětí (např. lyžařka K. Neumannová a její dcera Lucie – Helen Har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ce přímo v prodejně – POP materiály, předvádění výrobků, rozdávání vzorků a dár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ční nabí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rnostní program (např. různé soutěže, Huggies Cl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9018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13ED-9523-4E73-87F8-B4A25ADFD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e spotřebitelé plenky nakupuj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1625760"/>
          <a:ext cx="4175280" cy="50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5760"/>
                    <a:ext cx="417528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572000" y="1557360"/>
          <a:ext cx="420696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557360"/>
                    <a:ext cx="42069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867280" y="5805360"/>
            <a:ext cx="302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droj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ACNielsen (podle Smíšek,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daje za období 05/2003 – 04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EC3D-1E19-4DD7-A507-60664F302D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2:15Z</dcterms:created>
  <dc:creator> </dc:creator>
  <dc:description/>
  <dc:language>en-US</dc:language>
  <cp:lastModifiedBy> </cp:lastModifiedBy>
  <dcterms:modified xsi:type="dcterms:W3CDTF">2006-12-10T23:35:42Z</dcterms:modified>
  <cp:revision>13</cp:revision>
  <dc:subject/>
  <dc:title>Trh dětských plenek</dc:title>
</cp:coreProperties>
</file>