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181E-E39B-47D0-A5E9-21FFA85E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6E6-AE8B-4EFC-97F8-7286B0A1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969-42CB-4437-9388-29EAE28C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E298-1598-40AB-8702-FB360A71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4EED-B793-4B11-A637-5B564A40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90AA-A668-471B-B2D3-B9295004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D087-92B1-4794-B8DA-D2D3D353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339-EEA1-4A65-AD72-A1232395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FA2-E5BC-4E24-9B9B-B956FA9B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A9E-8270-41E3-89E5-7681B2CC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DED-367C-4F4C-84E2-4A4ACAAD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A4A-306B-4A22-B885-2111899F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7FBA3-7574-4EE8-8794-A66F9D01ED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řehled trhu jízdní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4967280"/>
            <a:ext cx="621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áklady marketingového výzkumu, SOC 1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dzim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S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6372360"/>
            <a:ext cx="54468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ypracoval: Karel Svačina, učo 1375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219640" y="1619280"/>
            <a:ext cx="4500720" cy="306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82480" y="1619280"/>
            <a:ext cx="467388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řehled trhu jízdní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01480" y="1906560"/>
          <a:ext cx="9072720" cy="513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1906560"/>
                    <a:ext cx="907272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řehled trhu jízdní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92960" y="1643040"/>
            <a:ext cx="3047760" cy="4297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0360" y="1619280"/>
            <a:ext cx="5940360" cy="50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imbus Sans L;Arial"/>
              </a:rPr>
              <a:t>Klasifikace jízdních kol podle druhu použi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Nimbus Sans L;Arial"/>
              </a:rPr>
              <a:t>Horská kola</a:t>
            </a:r>
            <a:r>
              <a:rPr b="0" lang="en-GB" sz="1800" spc="-1" strike="noStrike">
                <a:solidFill>
                  <a:srgbClr val="000000"/>
                </a:solidFill>
                <a:latin typeface="Nimbus Sans L;Arial"/>
              </a:rPr>
              <a:t> prodělala velký boom ve druhé polovině devadesátých let, v současné době jsou stále oblíbená, ale jejich prodeje spíše stagnuj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Nimbus Sans L;Arial"/>
              </a:rPr>
              <a:t>Silniční kola</a:t>
            </a:r>
            <a:r>
              <a:rPr b="0" lang="en-GB" sz="1800" spc="-1" strike="noStrike">
                <a:solidFill>
                  <a:srgbClr val="000000"/>
                </a:solidFill>
                <a:latin typeface="Nimbus Sans L;Arial"/>
              </a:rPr>
              <a:t>, dříve nejčastějsí typ kol, jsou dnes na okraji zájmu. Kupují je hlavně profesionálové a zapálení sportov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Nimbus Sans L;Arial"/>
              </a:rPr>
              <a:t>Krosová kola</a:t>
            </a:r>
            <a:r>
              <a:rPr b="0" lang="en-GB" sz="1800" spc="-1" strike="noStrike">
                <a:solidFill>
                  <a:srgbClr val="000000"/>
                </a:solidFill>
                <a:latin typeface="Nimbus Sans L;Arial"/>
              </a:rPr>
              <a:t>, „kříženci horských a silničních kol“, jsou pro svoji všestrannost v současnosti  nejprodávanějším druhem kol v Č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imbus Sans L;Arial"/>
              </a:rPr>
              <a:t>Trialová, bikrosová, freestylová, sjezdová a další </a:t>
            </a:r>
            <a:r>
              <a:rPr b="1" lang="en-GB" sz="1800" spc="-1" strike="noStrike">
                <a:solidFill>
                  <a:srgbClr val="000000"/>
                </a:solidFill>
                <a:latin typeface="Nimbus Sans L;Arial"/>
              </a:rPr>
              <a:t>speciální kola</a:t>
            </a:r>
            <a:r>
              <a:rPr b="0" lang="en-GB" sz="1800" spc="-1" strike="noStrike">
                <a:solidFill>
                  <a:srgbClr val="000000"/>
                </a:solidFill>
                <a:latin typeface="Nimbus Sans L;Arial"/>
              </a:rPr>
              <a:t> jsou z hlediska celkového objemu prodeje jen malým procen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řehled trhu jízdní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800360"/>
            <a:ext cx="900108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Nimbus Sans L;Arial"/>
              </a:rPr>
              <a:t>Způsoby prodeje jízdních k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Specializované obchody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 jsou nejčastějším způsobem prodeje, prodá se v nich asi 250 tisíc jízdních kol ročně. V ČR je několik tisíc obchodů s jízdními ko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Hypermarkety 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nabízejí velmi levná, ale často nekvalitní až nepojízdná k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V posledních letech začaly s prodejem jízdních kol také některé </a:t>
            </a: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obchodní řetězce 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(např. Mountfield je v tomto směru každým rokem úspěšnější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Přes </a:t>
            </a: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Internet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 se u nás prodává jen malé procento jízních k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řehled trhu jízdní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3280" y="1768320"/>
          <a:ext cx="9066240" cy="498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768320"/>
                    <a:ext cx="9066240" cy="49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řehled trhu jízdní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1619280"/>
            <a:ext cx="8640720" cy="33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Nimbus Sans L;Arial"/>
              </a:rPr>
              <a:t>Nejsilněji zastoupené značky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Author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 za 14 let existence prodal 1,25 milionu kol. V současnosti prodává 70 tisíc kol ročně, kromě prodeje v ČR vyváží do 14 evropských zem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Merida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, taiwanský výrobce, jeden z největších světových producentů kol a zároveň inovátorů technologie výroby si vytvořil na českém trhu pověst kvalitní značky za dobrou ce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6480" y="3959280"/>
            <a:ext cx="4673520" cy="314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0720" y="4572000"/>
            <a:ext cx="37800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Kelly's 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se také díky dobrému marketingu dostal za několik let z neznáma na třetí příčku v počtu prodaných kol v Č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řehled trhu jízdní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200" y="1622520"/>
            <a:ext cx="9136080" cy="52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imbus Sans L;Arial"/>
              </a:rPr>
              <a:t>Ceny jízdních kol v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Hypermarkety nabízejí jízdní kola již </a:t>
            </a: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od 1500 Kč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. Kvalita takových strojů bývá často pochybná. Odboné servisy je zpravidla odmítají opravovat, protože je považují za neopravitel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Nejvíce se prodávají kola v cenách </a:t>
            </a: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10 – 15 tisíc Kč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Jízdních kol v ceně </a:t>
            </a: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nad 40 tisíc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 korun se ročně prodá jen několik tisícov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K dostání jsou i kola za </a:t>
            </a: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200 až 300 tisíc Kč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Průměrná cena jízdních kol nejvíce zastoupených znač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Author 12 500 Kč, Merida 14 000 Kč, Kelly's 9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řehled trhu jízdní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0720" y="1979640"/>
            <a:ext cx="864072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Nimbus Sans L;Arial"/>
              </a:rPr>
              <a:t>Několik poznámek na závě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Prodej kol je sezónní záležitost: nejvíce se kola prodávají na jaře za pěkného počasí. Na podzim se prodejci zbavují skladových zásob a nabízejí slevy řádově v desítkách pro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S trhem jízdních kol je pevně spjat dynamicky se rozvíjející </a:t>
            </a: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trh cyklistických komponent, doplňků a oblečení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Jízdní kola a doplňky se nejvíce inzerují v cyklistických nebo sportovních časopisech, dále v ostatním tisku a na billboardech, v televizi se neinzerují skoro vůb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řehled trhu jízdních 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1800360"/>
            <a:ext cx="6094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Nimbus Sans L;Arial"/>
              </a:rPr>
              <a:t>Použité zdro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Hospodářské nov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MaM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Nimbus Sans L;Arial"/>
              </a:rPr>
              <a:t>Cyklos Brno, prodejna jízdních kol a přísluš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59280" y="3751200"/>
            <a:ext cx="4673520" cy="3089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00720" y="5219640"/>
            <a:ext cx="3603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