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23.wmf" ContentType="image/x-wmf"/>
  <Override PartName="/ppt/media/image22.wmf" ContentType="image/x-wmf"/>
  <Override PartName="/ppt/media/image6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3C7-1549-43E9-A021-C2D71031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D74B-6844-465D-BA29-CC11E68A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19E-C832-4333-8E5B-AEAC4B56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974-D2B3-45B2-9DDA-0609C80D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C69F-E26A-4DB8-A0C8-E566E6A7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5289-DB73-4D92-9B27-EA68861E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FC34-4D76-4663-84A8-20ECA3D3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6879-56CB-4E80-8128-6661AF7D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22D9-5386-40DA-A915-ABFF3DDD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AE41-6F81-4F13-8429-CEA98F40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0784-481A-4182-9750-08B707FE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BFE-E43E-445F-A374-A4373508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1AD2-C218-4F1E-AE5E-D8D96012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BC21-D537-47E3-B89F-55AFD3EA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1110-332E-4156-B2AC-D5E018EE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7D58-C357-4834-ACE4-BBDF1B77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2ADC-2F06-45CA-A344-6AB1C294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AE6-0C37-4F05-B6A6-B7B25ADE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48B-90E5-4E0F-9798-BF522B52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67B-C6EA-4030-B6C1-0B04156C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C3B-3048-4B4F-9C63-5DE1654C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836-CF99-4DEE-B36E-BB7D1704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0BA-9F20-451F-BBED-3093E171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CE2-60B9-4A92-977F-2944D004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1BAD-56D1-40FB-AAB9-F3BABB55B7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FA3A-13BD-48E8-AEA8-A1AA90BA82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hyperlink" Target="http://www.autosap.cz/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www.auto.cz/" TargetMode="External"/><Relationship Id="rId6" Type="http://schemas.openxmlformats.org/officeDocument/2006/relationships/hyperlink" Target="http://www.auto.cz/" TargetMode="External"/><Relationship Id="rId7" Type="http://schemas.openxmlformats.org/officeDocument/2006/relationships/image" Target="../media/image5.png"/><Relationship Id="rId8" Type="http://schemas.openxmlformats.org/officeDocument/2006/relationships/hyperlink" Target="http://www.auto.idnes.cz/" TargetMode="External"/><Relationship Id="rId9" Type="http://schemas.openxmlformats.org/officeDocument/2006/relationships/image" Target="../media/image5.png"/><Relationship Id="rId10" Type="http://schemas.openxmlformats.org/officeDocument/2006/relationships/hyperlink" Target="http://www.mdcr.cz/" TargetMode="External"/><Relationship Id="rId11" Type="http://schemas.openxmlformats.org/officeDocument/2006/relationships/hyperlink" Target="http://www.mdcr.cz/" TargetMode="External"/><Relationship Id="rId12" Type="http://schemas.openxmlformats.org/officeDocument/2006/relationships/hyperlink" Target="http://www.mdcr.cz/" TargetMode="External"/><Relationship Id="rId13" Type="http://schemas.openxmlformats.org/officeDocument/2006/relationships/hyperlink" Target="http://www.mdcr.cz/" TargetMode="External"/><Relationship Id="rId14" Type="http://schemas.openxmlformats.org/officeDocument/2006/relationships/image" Target="../media/image5.png"/><Relationship Id="rId15" Type="http://schemas.openxmlformats.org/officeDocument/2006/relationships/hyperlink" Target="http://www.skoda-auto.com/" TargetMode="External"/><Relationship Id="rId16" Type="http://schemas.openxmlformats.org/officeDocument/2006/relationships/image" Target="../media/image5.png"/><Relationship Id="rId17" Type="http://schemas.openxmlformats.org/officeDocument/2006/relationships/hyperlink" Target="http://www.tpca-cz.com/" TargetMode="External"/><Relationship Id="rId1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jpe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207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Trh s osobními vozidly v Č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589720"/>
            <a:ext cx="51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5445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4149720"/>
            <a:ext cx="63356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C147 – 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ypracoval: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ichal Mrkvička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UČO 182420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udijní obor: soc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atrikulační ročník: 2005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63520"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V Brně, 8.12.2006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56360" y="206064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843280" y="1989000"/>
            <a:ext cx="3333600" cy="1791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68360" y="2060640"/>
            <a:ext cx="2381040" cy="16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280" y="3357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hlavními výrobky jsou dnes osobní automobily značky Škoda v modelových řadách Fabia, Octavia, Superb a nově i Room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za první pololetí 2006 vzrostla výroba vozů o 13,3 % oproti loňsku - příčinou je především zvýšení produkce stávajících modelů Octavia a Fabia a také náběh výroby nové modelové řady Room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tržby v 1.pololetí roku 2006 dosáhly 104 mil. Kč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hlavní směry exportu – západní Německo (Německo, Španělsko, Francie), střední a východní Evropa (mimo ČR – Maďarsko, Slovinsko), zámoří, Asie, Afrika (Turecko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Škoda Auto, a.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572000" y="1159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6732720" y="1773360"/>
            <a:ext cx="2000160" cy="1457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9640" y="1989000"/>
            <a:ext cx="655164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celosvětově nejznámější česká fi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toprocentně vlastněna firmou Volkswagen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ýrobní závody se nacházejí výhradně v ČR - v Mladé Boleslavi, Vrchlabí a Kvasinách; montážní závod umístěn v Aurangabadu v Indii – celkem zaměstnává 27 tis.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940360" y="414972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640" y="4149360"/>
            <a:ext cx="5832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 dosažení max. výrobní kapacity za rok vyjede z továrny 300 tis. vozidel, to znamená v průměru každou minutu sjede z rampy jedno hotové au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rozjezd TPCA byl jedním z důvodů, proč v roce 2005 překročil růst HDP ČR čtyřprocentní hranic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lastnící firma PSA Peugeot Citroen staví nový výrobní závod ve slovenské Trnavě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P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700280"/>
            <a:ext cx="8136000" cy="25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TPCA = </a:t>
            </a:r>
            <a:r>
              <a:rPr b="0" lang="cs-CZ" sz="1600" spc="-1" strike="noStrike">
                <a:solidFill>
                  <a:srgbClr val="ff0000"/>
                </a:solidFill>
                <a:latin typeface="Verdana"/>
              </a:rPr>
              <a:t>T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yota </a:t>
            </a:r>
            <a:r>
              <a:rPr b="0" lang="cs-CZ" sz="16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eugeot </a:t>
            </a:r>
            <a:r>
              <a:rPr b="0" lang="cs-CZ" sz="16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itroen </a:t>
            </a:r>
            <a:r>
              <a:rPr b="0" lang="cs-CZ" sz="16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uto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český výrobní závod sídlí v Ovčárech v průmyslové zóně Kolína, kde zaměstnává cca 2,5 tis.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ýroba byla zahájena 28. února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montují se zde malé vozy pod značkami Toyota Aygo, Peugeot 107 a Citroën 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ekonomické výsledky první roku fungování kolínské továrny vykázaly ztrátu 2,2 mld. Kč (nejvíce ze všech firem v ČR, způsobeno nejspíše náběhem výroby), obrat dosáhl 21 mld.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2"/>
          <a:stretch/>
        </p:blipFill>
        <p:spPr>
          <a:xfrm>
            <a:off x="2195640" y="765000"/>
            <a:ext cx="2089080" cy="61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748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Příklad studie o chování spotřebite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510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cc0000"/>
                </a:solidFill>
                <a:latin typeface="Verdana"/>
              </a:rPr>
              <a:t>Které kriterium je pro vás nejdůležitější při nákupu nového auta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Technika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– 30,7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Jízdní vlastnosti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– 24,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Cena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– 17,3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Design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– 12,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Bezpečnost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– 10,1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Image značky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– 4,7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Velikost zavazad. prostoru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– 1,1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Verdana"/>
              </a:rPr>
              <a:t>www.auto.cz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076720" y="1989000"/>
          <a:ext cx="2732040" cy="389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1989000"/>
                    <a:ext cx="2732040" cy="38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Příloha: Vozy s nejvíce registracem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383364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43280" y="5661000"/>
            <a:ext cx="259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Verdana"/>
              </a:rPr>
              <a:t>www.autosap.c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Závěr a resum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3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Český automobilový trh se vyvíjí v závislosti na celosvětových trzích – velký vliv v současné době má výrazné oživení automobilového průmyslu v sousedním Německu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Automobilový trh v České republice je na vzestupu kvůli vzrůstající výrobě osobních automobilů ve Škodě Auto, a.s. a kolínské TPCA - v roce 2010 by se v obou podnicích souhrnně mělo vyrábět něco přes milión kusů aut ročně. Dnes se však 90% u nás vyráběných osob.vozidel exportuje do zahraničí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amotný prodej osobních vozidel má stagnující tendenci a spíše mírně klesá. I přes vysoké hodnoty růstu hrubého národního produktu se zvyšuje podíl ojetých vozidel. Paradoxem je, že český autotrh patří k nejlevnějším Evropě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Použité zdroje informací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21000" indent="-46980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autosap.c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21000" indent="-46980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www.auto.</a:t>
            </a: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c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21000" indent="-46980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www.auto.idnes.c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21000" indent="-469800"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www.</a:t>
            </a: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mdcr</a:t>
            </a: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.</a:t>
            </a: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c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21000" indent="-469800">
              <a:spcBef>
                <a:spcPts val="400"/>
              </a:spcBef>
              <a:buSzPct val="100000"/>
              <a:buBlip>
                <a:blip r:embed="rId1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www.skoda-auto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21000" indent="-469800">
              <a:spcBef>
                <a:spcPts val="400"/>
              </a:spcBef>
              <a:buSzPct val="100000"/>
              <a:buBlip>
                <a:blip r:embed="rId1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www.tpca-cz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210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699920"/>
            <a:ext cx="800100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Verdana"/>
              </a:rPr>
              <a:t>Cílem této prezentace je stručně shrnout a obsáhnout základní stav a tendence trhu s osobními vozidly v České republice, také v souvislosti se stavem automobilového trhu ve světě. Pozornost je věnována i dvěma největším výrobcům aut v ČR – Škodě Auto, a.s. a Toyota Peugeot Citroen Automotiv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zn.: mezi osobní automobily se běžně řadí i malé užitkové voz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Stav automobilového trhu ve světě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Stav automobilového trhu ve Č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Osobní automobily v Č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odej vozidel – nejnovější čís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Výroba automobilů v ČR – Škoda Auto, a.s., TP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říklad studie – chování spotřebite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Závě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oužitá literatur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íl a obsah prezent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tav automobilového trhu - svě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84000" y="3500280"/>
            <a:ext cx="6264360" cy="30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400"/>
              </a:spcBef>
              <a:buSzPct val="100000"/>
              <a:buBlip>
                <a:blip r:embed="rId2"/>
              </a:buBlip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zatímco v Německu nebo v Itálii je zaznamenáván růst celkových trhů s novými automobily, tak např. ve Francii a Velké Británii došlo k poklesu – v Británii např. o 4,5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3"/>
              </a:buBlip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a automobilových trzích ve střední a východní Evropě pokračuje výrazný pokles prodeje nových vozů – způsoben především uvolněním dovozu ojetin – nejvíce je postižen trh v Polsk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4"/>
              </a:buBlip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rognóza Pricewaterhouse Coopers počítá v roce 2010 se 14% zvýšením výroby v Evropě oproti stavu z 200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773360"/>
            <a:ext cx="554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losvětový trh s automobily se v prvním pololetí roku 2006 vyvíjel poměrně pozitiv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ůst cen komodit pro automobilový průmysl je způsoben především rostoucí spotřebou ropy, oceli a převládající politickou nejistotou ve svět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 západní Evropě přináší komplikace silné euro a dlouhodobě slabá popt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395280" y="3716280"/>
            <a:ext cx="2254320" cy="1822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5724360" y="1844640"/>
            <a:ext cx="3000600" cy="159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962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tav automobilového trhu - Č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064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400"/>
              </a:spcBef>
              <a:buSzPct val="100000"/>
              <a:buBlip>
                <a:blip r:embed="rId2"/>
              </a:buBlip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ýrazným pozitivním činitelem co se týče exportu vozů z ČR je oživení vývozu do Německa, jehož ekonomice se po letech problémů začíná dař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3"/>
              </a:buBlip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zatímco exportu se výrazně daří, prodej osobních (vč. malých užitkových) vozů v prvním pololetí 2006 oproti stejnému období roku minulého poklesl – prodalo se 32 tisíc nových vozů, což je pokles o 4,2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4"/>
              </a:buBlip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český autotrh má třetí nejnižší cenovou hladinu v Evropě (po Švýcarsku a Maďarsku) – ČR patří k nejlevnějším automobilovým trhům s cenami kolem 94% evropského průměr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spcBef>
                <a:spcPts val="400"/>
              </a:spcBef>
              <a:buNone/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spcBef>
                <a:spcPts val="400"/>
              </a:spcBef>
              <a:buNone/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844640"/>
            <a:ext cx="568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česká ekonomika v 1.pololetí roku 2006 roste nejrychleji v celé Evropě (nepočítáme-li pobaltské stá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sluhuje se o to zejména růst zpracovatelského průmyslu, v čele s výrobou automobil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6227640" y="1628640"/>
            <a:ext cx="2286000" cy="16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280" y="1989000"/>
            <a:ext cx="80010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dle údajů Centrálního registru vozidel bylo k 30.6.2006 v ČR registrováno celkem 4.036.815 kusů osobních automobilů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tímco ještě před několika lety tvořila vozidla české výroby většinu, dnes větší část představují vozidla zahraniční výrob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ůměrné stáří vozu 13,8 rok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Osobní automobily v Č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Kliknutím zavřete okno ..."/>
          <p:cNvPicPr/>
          <p:nvPr/>
        </p:nvPicPr>
        <p:blipFill>
          <a:blip r:embed="rId5"/>
          <a:stretch/>
        </p:blipFill>
        <p:spPr>
          <a:xfrm>
            <a:off x="4140360" y="3141720"/>
            <a:ext cx="4386240" cy="2779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9640" y="3213000"/>
            <a:ext cx="38163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ozový park stárne – jen 20% osobních automobilů je roku výroby 2001 – 2006, tedy max. 5 let star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 roce 2005 se k nám také přivezlo 141 tisíc ojetých automobilů a další půldruhé desítky automobilů na náhradní dí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5805360"/>
            <a:ext cx="259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Verdana"/>
              </a:rPr>
              <a:t>www.autosap.c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Prodej vozidel v ČR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(k 1.6.200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64000" y="1773360"/>
          <a:ext cx="3384720" cy="3957480"/>
        </p:xfrm>
        <a:graphic>
          <a:graphicData uri="http://schemas.openxmlformats.org/drawingml/2006/table">
            <a:tbl>
              <a:tblPr/>
              <a:tblGrid>
                <a:gridCol w="536760"/>
                <a:gridCol w="2127240"/>
                <a:gridCol w="720720"/>
              </a:tblGrid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od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Verdana"/>
                          <a:ea typeface="Arial"/>
                        </a:rPr>
                        <a:t>Škoda FAB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Verdana"/>
                          <a:ea typeface="Arial"/>
                        </a:rPr>
                        <a:t>Škoda OCTAV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Verdana"/>
                          <a:ea typeface="Arial"/>
                        </a:rPr>
                        <a:t>VW PAS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eugeot 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yundai GE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5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nault TH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nault MEG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ord FOC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oyota YA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W GOL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2286000" cy="1619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9640" y="3284640"/>
            <a:ext cx="295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1.místo Škoda Fa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843280" y="2924280"/>
            <a:ext cx="257184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771640" y="4365720"/>
            <a:ext cx="295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2.místo Škoda Octav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39640" y="4292640"/>
            <a:ext cx="2286000" cy="1333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6920" y="5661000"/>
            <a:ext cx="295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3.místo Volkswagen Pass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Prodej vozidel dle třídy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(k 1.6.0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205000"/>
            <a:ext cx="7993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řída mini: </a:t>
            </a:r>
            <a:r>
              <a:rPr b="1" lang="cs-CZ" sz="1800" spc="-1" strike="noStrike">
                <a:solidFill>
                  <a:srgbClr val="cc0000"/>
                </a:solidFill>
                <a:latin typeface="Verdana"/>
              </a:rPr>
              <a:t>Fiat Pand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580 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alé vozy: </a:t>
            </a:r>
            <a:r>
              <a:rPr b="1" lang="cs-CZ" sz="1800" spc="-1" strike="noStrike">
                <a:solidFill>
                  <a:srgbClr val="cc0000"/>
                </a:solidFill>
                <a:latin typeface="Verdana"/>
              </a:rPr>
              <a:t>Škoda Fabi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19099 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ižší střední třída: </a:t>
            </a:r>
            <a:r>
              <a:rPr b="1" lang="cs-CZ" sz="1800" spc="-1" strike="noStrike">
                <a:solidFill>
                  <a:srgbClr val="cc0000"/>
                </a:solidFill>
                <a:latin typeface="Verdana"/>
              </a:rPr>
              <a:t>Škoda Octavia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9132 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třední třída: </a:t>
            </a:r>
            <a:r>
              <a:rPr b="1" lang="cs-CZ" sz="1800" spc="-1" strike="noStrike">
                <a:solidFill>
                  <a:srgbClr val="cc0000"/>
                </a:solidFill>
                <a:latin typeface="Verdana"/>
              </a:rPr>
              <a:t>Volkswagen Passa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1639 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yšší střední třída: </a:t>
            </a:r>
            <a:r>
              <a:rPr b="1" lang="cs-CZ" sz="1800" spc="-1" strike="noStrike">
                <a:solidFill>
                  <a:srgbClr val="cc0000"/>
                </a:solidFill>
                <a:latin typeface="Verdana"/>
              </a:rPr>
              <a:t>Škoda Superb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1011 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Luxusní vozy: </a:t>
            </a:r>
            <a:r>
              <a:rPr b="1" lang="cs-CZ" sz="1800" spc="-1" strike="noStrike">
                <a:solidFill>
                  <a:srgbClr val="cc0000"/>
                </a:solidFill>
                <a:latin typeface="Verdana"/>
              </a:rPr>
              <a:t>Mercedes-Benz S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92 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portovní vozy: </a:t>
            </a:r>
            <a:r>
              <a:rPr b="1" lang="cs-CZ" sz="1800" spc="-1" strike="noStrike">
                <a:solidFill>
                  <a:srgbClr val="cc0000"/>
                </a:solidFill>
                <a:latin typeface="Verdana"/>
              </a:rPr>
              <a:t>Alfa Romeo G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55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erénní vozy: </a:t>
            </a:r>
            <a:r>
              <a:rPr b="1" lang="cs-CZ" sz="1800" spc="-1" strike="noStrike">
                <a:solidFill>
                  <a:srgbClr val="cc0000"/>
                </a:solidFill>
                <a:latin typeface="Verdana"/>
              </a:rPr>
              <a:t>Hyundai Santaf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– 465 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227640" y="2276640"/>
            <a:ext cx="2376720" cy="163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443640" y="4365720"/>
            <a:ext cx="1828800" cy="95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372360" y="4653000"/>
            <a:ext cx="2124000" cy="1523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Výroba osobních automobilů v Č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4437000"/>
            <a:ext cx="6193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63520">
              <a:spcBef>
                <a:spcPts val="400"/>
              </a:spcBef>
              <a:buSzPct val="100000"/>
              <a:buBlip>
                <a:blip r:embed="rId3"/>
              </a:buBlip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export při srovnání s loňskem vzrostl o 54,97 %, domácí prodej mírně pokles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spcBef>
                <a:spcPts val="400"/>
              </a:spcBef>
              <a:buSzPct val="100000"/>
              <a:buBlip>
                <a:blip r:embed="rId4"/>
              </a:buBlip>
              <a:tabLst>
                <a:tab algn="dec" pos="6183360"/>
                <a:tab algn="r" pos="6362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rognóza na rok 2010 - podle zjištění agentury Pricewaterhouse Coopers se do 6 let zvýší výroba aut v ČR o 81% (na 1 045 tis. vozů za ro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773360"/>
            <a:ext cx="8136000" cy="27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 celý rok 2005 bylo v ČR vyrobeno 606 294 osobních vozi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 prvních devět měsíců roku 2006 se vyrobilo celkem 636 464 ks vozidel, což je o 48,87 % více než ve stejném období roku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ůvody výrazného vzrůstu výroby osob. automobilů v posledním ro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výšena výroba ve Škoda Auto, a.s. (410 tisíc a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čátek dosažení plné výrobní kapacity v TPCA (219 tisíc a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čísla jasně hovoří, že kromě Škody Auto a TPCA mají ostatní české formy jen nepatrný podíl vyrobených osobních vozidel (necelé 1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 tohoto počtu vyrobených osob. aut se v ČR prodá jen 8%, zbylých 92% se exportuje do zahranič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11280" y="2349360"/>
          <a:ext cx="3914640" cy="432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349360"/>
                    <a:ext cx="391464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3964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Firmy v ČR vyrábějící osob.vo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427640" y="2708280"/>
          <a:ext cx="3921120" cy="261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7640" y="2708280"/>
                    <a:ext cx="392112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716360" y="2637000"/>
            <a:ext cx="41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ísto cílového prode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0:59:41Z</dcterms:created>
  <dc:creator>JD</dc:creator>
  <dc:description/>
  <dc:language>en-US</dc:language>
  <cp:lastModifiedBy>182420</cp:lastModifiedBy>
  <dcterms:modified xsi:type="dcterms:W3CDTF">2006-12-08T20:47:21Z</dcterms:modified>
  <cp:revision>150</cp:revision>
  <dc:subject/>
  <dc:title>Hurikány</dc:title>
</cp:coreProperties>
</file>