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8AF-9B22-4F6D-9B8D-FB1D03D7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D9C-B04B-4E4A-9A53-EB7E41B5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BAE-ED37-4673-A65A-2B930614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0C9-7534-4B08-ADF3-F54C14DB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3EB-584A-47C0-B81C-A5B27292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C26-985C-4878-A6D6-EADF05C3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300-B585-4BE2-B741-363F41B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159-633F-490E-A6CA-FE6832B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045-B374-4329-8365-7BB9B124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76F-E0C6-4B0B-BADC-143B220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72E-89BF-4ADB-ADD7-CDE57EE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680-3B7C-4C66-AAA2-612972F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610D-03E4-496B-8B79-156D0615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rebuchet MS"/>
              </a:rPr>
              <a:t>Rozhlasový trh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019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e0e3"/>
                </a:solidFill>
                <a:latin typeface="Trebuchet MS"/>
              </a:rPr>
              <a:t>Marcela Matušková, Vladimír Vacát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978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Soukromé a veřejnoprávní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66"/>
                </a:solidFill>
                <a:uFillTx/>
                <a:latin typeface="Trebuchet MS"/>
              </a:rPr>
              <a:t>v kontextu celoplošném a regionál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981080"/>
            <a:ext cx="350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přestože lidé raději poslouchají stanice jim geograficky bližší, regionální kontext ještě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zvýrazňuje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nižší posluchačský zájem o veřejnoprávní rozhlasové stanice a naopak vyšší poslechovost soukromých rá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zatímco lídři žebříčku poslechovosti jsou viditelně úspěšnými, malá lokální rádia jsou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silou skrytou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– inzerce rozmístěná do mnoha malých stanic může být rovněž úspěš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studio"/>
          <p:cNvPicPr/>
          <p:nvPr/>
        </p:nvPicPr>
        <p:blipFill>
          <a:blip r:embed="rId1"/>
          <a:srcRect l="4784" t="2411" r="9168" b="1450"/>
          <a:stretch/>
        </p:blipFill>
        <p:spPr>
          <a:xfrm>
            <a:off x="4343400" y="25146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Reklama v rádiu: Dvě miliardy roč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Opravdu se proinzeruje toli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ano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a to pouze v rád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objem rozhlasové inzerce u n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navíc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každoročně ro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Jak zadat inzerci do rád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99 %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rádií inzerci přijímá přes tzv.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mediální zastoupení,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kte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rodávají jejich reklamní čas, jedno procento stanic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ři zadávání reklamy zastupuje s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trh ovládají tři hráči: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ARBO media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(22,7 %),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MMS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(39,5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Regie Radio Music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(36,5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Peníze, bankovky"/>
          <p:cNvPicPr/>
          <p:nvPr/>
        </p:nvPicPr>
        <p:blipFill>
          <a:blip r:embed="rId1"/>
          <a:srcRect l="0" t="6499" r="0" b="2443"/>
          <a:stretch/>
        </p:blipFill>
        <p:spPr>
          <a:xfrm>
            <a:off x="5181480" y="1523880"/>
            <a:ext cx="3124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Shrnutí: Rozhlasový trh v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1)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Je diferencovaný: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vysílají zde veřejnoprávní i soukromé stanice, vysílají pozemní cestou i třeba přes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2)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Nejposlouchanější stanicí je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Radio Impuls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 přes 12 % sh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10% poslechovosti dosahují i Frekvence 1 a Evrop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3)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Poslouchanější jsou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soukromé stanice,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veřejnoprávní rozhlas poslouchá jen necelá čtvrtina Čec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4)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Češi také preferují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oukromé regionální stanice, které jim přinášejí zejména hudbu a podrobnější informace z jejich kraje či mě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5)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Každoročně se u nás v rádiích proinzeruje okolo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2 miliard Kč,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rakticky všechny stanice využívají služeb mediálních zastoup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Pro zájemce: Důležité we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radiotv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Co se děje v českém ét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mam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časopis Marketing a mé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mediar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Médiá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apsv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Asociace provozovatelů soukromého vysíl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rozhlas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Český rozh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arbomedia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Arbo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www.omd.cz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reklamní agentura O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Zdroje fotografií a kreseb v této prezenta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ff9966"/>
                </a:solidFill>
                <a:latin typeface="Trebuchet MS"/>
              </a:rPr>
              <a:t>www.idnes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ff9966"/>
                </a:solidFill>
                <a:latin typeface="Trebuchet MS"/>
              </a:rPr>
              <a:t>www.rozhlas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ff9966"/>
                </a:solidFill>
                <a:latin typeface="Trebuchet MS"/>
              </a:rPr>
              <a:t>www.rundfunk-nostalgie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Rozdělení: Jaká rádia v Česku vysíla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způsobu šíření signál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terestrická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pozemní cestou, jsou tzv. v éteru, musí mít lice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firemní, internetová apod.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k vysílači se musíme připojit přes sí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způsobu vysíl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analogová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starý systém, vysílá v něm většina stanic v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digitální</a:t>
            </a:r>
            <a:r>
              <a:rPr b="0" lang="en-US" sz="2000" spc="-1" strike="noStrike">
                <a:solidFill>
                  <a:srgbClr val="ff99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nový trend, jedna stanice zabere méně místa v éte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je možný kvalitnější přenos zvu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působ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celostátní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vysílají na celém území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lokální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– vysílají regionál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Rozdělení: Jaká rádia v Česku vysíla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Podle typu sub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veřejnoprávní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– nezávislé instituce zřízené záko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nepatří státu (častý omyl), mají subjektiv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primárně plní veřejnou služ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zákon jim ukládá přísnější pov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přispíváme jim koncesionářskými po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Trebuchet MS"/>
              </a:rPr>
              <a:t>soukromá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– standardní podnikatelské sub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typicky s.r.o., příp.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primárně generují z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Trebuchet MS"/>
              </a:rPr>
              <a:t>žijí čistě z reklamy a vlastního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9966"/>
                </a:solidFill>
                <a:uFillTx/>
                <a:latin typeface="Trebuchet MS"/>
              </a:rPr>
              <a:t>Poslechovost: Znak úspěšnosti rá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Proč se měř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od poslechovosti se odvozuje cena rekl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čím poslouchanější rádio, tím dražší reklamní 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ročně se v českých rádiích proinzeruje okolo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2 miliard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Jak se měř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F2F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respondenti v rozhovoru popisují, co poslouchali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ředešlý den, již se v ČR nepouží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CATI</a:t>
            </a:r>
            <a:r>
              <a:rPr b="0" lang="cs-CZ" sz="2000" spc="-1" strike="noStrike">
                <a:solidFill>
                  <a:srgbClr val="ff9966"/>
                </a:solidFill>
                <a:latin typeface="Trebuchet MS"/>
              </a:rPr>
              <a:t>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telefonické rozhovory,  v současnosti užívaná metoda měření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poslechovosti v rámci Radio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peoplemetry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pro český rozhlasový trh příliš drahá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Kdo ji měř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RadioProjekt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– výzkumné agentury Median a STEM/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9966"/>
                </a:solidFill>
                <a:uFillTx/>
                <a:latin typeface="Trebuchet MS"/>
              </a:rPr>
              <a:t>Poslechovost: Co znamená 12 %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Rating nebo sh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rating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rádia ukazuje, 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jaká část populace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jej poslouch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9966"/>
                </a:solidFill>
                <a:latin typeface="Trebuchet MS"/>
              </a:rPr>
              <a:t>share </a:t>
            </a: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tanice značí podíl z těch, kteří </a:t>
            </a:r>
            <a:r>
              <a:rPr b="1" lang="cs-CZ" sz="2000" spc="-1" strike="noStrike">
                <a:solidFill>
                  <a:srgbClr val="bbe0e3"/>
                </a:solidFill>
                <a:latin typeface="Trebuchet MS"/>
              </a:rPr>
              <a:t>poslouchají rá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i="1" lang="cs-CZ" sz="1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0" i="1" lang="cs-CZ" sz="1200" spc="-1" strike="noStrike">
                <a:solidFill>
                  <a:srgbClr val="bbe0e3"/>
                </a:solidFill>
                <a:latin typeface="Trebuchet MS"/>
              </a:rPr>
              <a:t>(uvedené definice jsou zjednodušené pro potřeby prezent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6094" t="5990" r="5653" b="5990"/>
          <a:stretch/>
        </p:blipFill>
        <p:spPr>
          <a:xfrm>
            <a:off x="5334120" y="33526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8880" y="4191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V naší prezentaci prac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s ukazatelem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českých </a:t>
            </a:r>
            <a:r>
              <a:rPr b="0" lang="cs-CZ" sz="1800" spc="-1" strike="noStrike">
                <a:solidFill>
                  <a:srgbClr val="ff9966"/>
                </a:solidFill>
                <a:latin typeface="Arial"/>
              </a:rPr>
              <a:t>terestricky vysílajících st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zjišťovaným u poslucha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mezi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12 a 79 l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9966"/>
                </a:solidFill>
                <a:uFillTx/>
                <a:latin typeface="Trebuchet MS"/>
              </a:rPr>
              <a:t>Poslechovost českých rádi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905120" y="1698480"/>
          <a:ext cx="742140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98480"/>
                    <a:ext cx="742140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3520" y="2057400"/>
            <a:ext cx="292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ejposlouchanější stanicí bylo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Rádio Impu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rvních pět stanic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á téměř 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polovinu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posluchač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o druhou půlku se dělí přes </a:t>
            </a:r>
            <a:r>
              <a:rPr b="0" lang="en-US" sz="1800" spc="-1" strike="noStrike">
                <a:solidFill>
                  <a:srgbClr val="ff9966"/>
                </a:solidFill>
                <a:latin typeface="Arial"/>
              </a:rPr>
              <a:t>sedmdesát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menších rádií, hlavně regionáln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Veřejnoprávní vs. soukromé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 rozhlasovém trhu jasně vedou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komerční st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oustředí se na ně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přes tři čtvrtiny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posluchačského záj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oukromé stanice jsou zpravidla více zaměřené na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zábavu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(hudební rá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4880" y="-301680"/>
          <a:ext cx="6116760" cy="821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-301680"/>
                    <a:ext cx="6116760" cy="821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Celoplošné vs. lokální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mezi celoplošnými a regionálními stanicemi je trh rozdělen zhruba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půl na pů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vzhledem k většímu dosahu celoplošných stanic (a také jejich pochopitelnému vedení v žebříčku poslechovosti) by bylo možné očekávat, že budou také celému trhu domin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bbe0e3"/>
                </a:solidFill>
                <a:latin typeface="Arial"/>
              </a:rPr>
              <a:t>potvrzuje se ale opačný trend: posluchači se přiklánějí k </a:t>
            </a:r>
            <a:r>
              <a:rPr b="1" lang="cs-CZ" sz="1800" spc="-1" strike="noStrike">
                <a:solidFill>
                  <a:srgbClr val="ff9966"/>
                </a:solidFill>
                <a:latin typeface="Arial"/>
              </a:rPr>
              <a:t>médiím jim geograficky bližš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124080" y="228600"/>
          <a:ext cx="5797800" cy="646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600"/>
                    <a:ext cx="579780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66"/>
                </a:solidFill>
                <a:uFillTx/>
                <a:latin typeface="Trebuchet MS"/>
              </a:rPr>
              <a:t>Soukromé a veřejnoprávní st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bbe0e3"/>
                </a:solidFill>
                <a:latin typeface="Trebuchet MS"/>
              </a:rPr>
              <a:t>share, I. a II. Q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477120"/>
            <a:ext cx="830592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6629400"/>
            <a:ext cx="7238880" cy="0"/>
          </a:xfrm>
          <a:prstGeom prst="line">
            <a:avLst/>
          </a:prstGeom>
          <a:ln w="792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66"/>
                </a:solidFill>
                <a:uFillTx/>
                <a:latin typeface="Trebuchet MS"/>
              </a:rPr>
              <a:t>v kontextu celoplošném a regionáln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838080" y="1447920"/>
          <a:ext cx="64008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1447920"/>
                    <a:ext cx="64008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952880" y="1600200"/>
          <a:ext cx="5797800" cy="47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600200"/>
                    <a:ext cx="57978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-838080" y="3505320"/>
          <a:ext cx="640080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838080" y="3505320"/>
                    <a:ext cx="6400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4506840"/>
          <a:ext cx="2273040" cy="163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506840"/>
                    <a:ext cx="22730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82632</cp:lastModifiedBy>
  <dcterms:modified xsi:type="dcterms:W3CDTF">2006-12-08T22:16:38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