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43D-ABCC-4D83-A9C3-029D79E9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CBE-FDC7-4214-97B8-8603203C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F04-9E44-48D6-8A3D-8A60FF34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A9D-C5D1-48DB-AC76-EE527139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6555-EB32-4BA9-B605-E931F1FE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C9A0-BD07-41FD-8BCF-1236ED65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A456-9B61-47DB-BBA8-4B70AA85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AB59-69E9-4CC4-B54E-7182195E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D1A3-8233-4C36-93E4-FE0344B9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904B-A3E6-45AB-823E-DB6F66BA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D845-A93F-4782-B79D-AD4DBF39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DAE-3EA4-4ED1-BB6D-5BA525B6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14EC-D6F4-4D95-B2F0-CD299E1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6D60-D765-4CD4-B2E4-D1D892A4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2802-A9E4-4CDD-A809-0BCF5991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6212-EC45-4FC6-BA06-9371F001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A49A-4493-4979-9313-78AF0FDF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1F0-BE04-471E-AB72-B7C4F8F6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269-309B-4852-B374-394CC018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EA8-2213-4139-8FC1-47DB0210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455-0723-4BC1-BB5D-D94B4033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3A0-AF39-421A-9790-ECDCBE3C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56F-9A0C-41A0-BA0F-4F303AC0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433-BA7C-4F2E-90E5-CAFC25A2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D70B-281F-4AD9-9811-C036051571F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21F1-EDDF-4BB6-8E76-3EB73B5CFB7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ffffff"/>
                </a:solidFill>
                <a:latin typeface="Arial"/>
              </a:rPr>
              <a:t>Trh cigar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I. Aktéři na tomto tr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) Kuř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) Cigaretoví výrob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) Cigaretoví prodej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) St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) Skupiny lobbující pro či proti cigaret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3) Cigaretoví prodej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15880" y="1841400"/>
          <a:ext cx="6605640" cy="39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1841400"/>
                    <a:ext cx="66056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3) Cigaretoví prodej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rodejní cena ciga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je pevná a státem urč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garety jsou zatížené spotřební daní, která se postupně zvyšuje (důvod: slaďování s normami EU a snaha o boj proti kou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ejci cigaret mají z prodeje 10% marž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balíčku cigaret (20ks) se pohybuje v rozmezí od 35Kč do 74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4) Stá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řísňování legislativy (celoevropský tr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y: ochrana zdraví nezletil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onomické důvody jsou sporné – některé zdroje uvádějí, že i přes vysokou míru zdanění stát na cigaretách prodělává (viz. Zpráva Světové banky); novinové články vidí stát spíše zisk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 je pod tlakem mnoha zájmových skupin a navíc i mezi politiky jsou zastánci a odpůrci kou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5) Lobbující skupin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ležití aktéři, poněvadž podoba trhu s cigaretami je značně ovlivňována státními zás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í zájmové skupiny prodejců cigaret (Česká asociace prodejců cigaret a tabákových výrobků), tlaky nadnárodních tabákových koncernů, ale i tlaky odborné veřejnosti a neziskových organizací (např. Liga proti rakovině, Česká koalice proti tabáku a dalš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Podoba trhu s cigaretam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II. Jak tedy trh s cigaretami vypad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 široká nabídka a relativně vysoká poptáv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zásahy ovlivňují většinové spotřebitelské chování jen marginál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itelské chování má v tomto případě silnou setrva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řísnění způsobuje spíše přechod na levnější druhy cigaret nebo uskrovňování se v jiných položkách rozpočtu domácn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ff"/>
                </a:solidFill>
                <a:latin typeface="Arial"/>
              </a:rPr>
              <a:t>Trh s cigaretam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užité zdro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netové stránky České asociace prodejců cigaret a tabákových výrobků, výrobců cigaret (Philip Morris atd.), prodejců cigaret (Valmont), distributorů tabákových výrobků (Tabak plus, velkoobchod P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netové stránky organizací zaměřených proti kouření jako např. Česká koalice proti tabáku, nebo stránky www.nekurte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netové člá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ížky – např. studii Světové banky „Jak zvládnout kuřáckou epidemii“ nebo Novák „O kouření“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zkumy Ústavu zdravotnických informací a statistiky České republiky nazvaných „Výběrové šetření o zdravotním stavu české populace“ (z let 1999 a 200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1) Kuřá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garety kouří skoro 1/3 osob starších 15 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 muži než ženy (asi 37 % mužů a 25 % ž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d kouření se v dlouhodobém měřítku snižuje (na přelomu 60. a 70. let kouřilo přes 60 % li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dé však začínají kouřit v čím dál nižší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 podíl příležitostných kuřáků je mezi mladými lidmi do 35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yšší podíl pravidelných kuřáků je u obou pohlaví ve věkové skupině 35-44 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1) Kuřá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2444760"/>
          <a:ext cx="388476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44760"/>
                    <a:ext cx="388476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041480" y="1695600"/>
          <a:ext cx="7348320" cy="409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1695600"/>
                    <a:ext cx="73483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1) Kuřá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74680" y="1839960"/>
          <a:ext cx="7139160" cy="399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1839960"/>
                    <a:ext cx="713916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1) Kuřá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a předchozí grafy byly sestrojeny na základě dat z „Výběrového šetření o zdravotním stavu české populace“, jenž se provádí co 3 ro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ledky z roku 1999 jsou velmi podob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ožka silný kuřák = vykouří 20 a více cigaret den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tedy konstatovat, že ze strany kupujících v ČR zájem o cigarety existu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2) Cigaretoví výrob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lavní výrobci na českém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) Philip Mor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) JT Intern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) SIT = Imperial Toba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) BAT = British American Toba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2) Cigaretoví výrob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19240" y="1836720"/>
          <a:ext cx="6805440" cy="379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36720"/>
                    <a:ext cx="680544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2) Cigaretoví výrob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načky cigaret jednotlivých výrobc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hilipp Morr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Marlboro, Chesterfield, 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, Sparta, Petra, Start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T Internation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Camel, More, Winston, Monte Carlo, Slavia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mperial Tobacc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avidoff, Route 66, Moon, West, Paramount, Mars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ritish American Tobacc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Pall Mall, Viceroy, Dunhill, Gauloises, Lucky Strike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Arial"/>
              </a:rPr>
              <a:t>Ad 3) Cigaretoví prodejci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de se cigarety prodávaj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) prodejny tabáku, trafiky, kiosky (je jich cca 15.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) čerpací sta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) obchodní řetěz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) potraviny do 4 pokladen a pultový prod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) ostatní prodej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 </cp:lastModifiedBy>
  <dcterms:modified xsi:type="dcterms:W3CDTF">2006-12-09T00:38:05Z</dcterms:modified>
  <cp:revision>35</cp:revision>
  <dc:subject/>
  <dc:title>PowerPoint Presentation</dc:title>
</cp:coreProperties>
</file>