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0A7-FE53-4CFF-8D6E-661F24E4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6F0-6EFB-4A04-8EC1-9276EBB9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78C-3014-4471-A9A9-9502D4B1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FA3-D486-466F-AB7B-21209361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0F99-6659-4EB7-924E-E9243316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5AB0-D363-4B40-A7B6-856D1CCC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48EE-C9BA-4E37-B73E-67D9D114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6BD7-47C4-4892-9159-0C78B259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9E3D-1AF8-42BC-8893-73F4CE35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F32A-7EBC-464F-9837-61830ADB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4CC8-08D0-4E16-89FE-4BF5CCB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BA6-AADE-4ACF-894F-1C0BB12D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E50D-B37B-4286-A727-070FC7CF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372A-DF64-488E-A161-6726622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02DE-82E4-461A-82AE-3980D74B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2B1A-F045-4EA5-B473-ABD74071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4FEC-282A-4B3A-9B56-26E8F48C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A15-9601-4754-82C4-4CCF8FA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CFF-1507-4600-9F38-DF7B97E6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46E-E572-4B3A-AC92-0FC9E8AF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27F-421C-4645-8BE1-30F4B442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704-B249-4233-B797-C0884A1A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549-5C6B-453D-BE7D-DA57569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945-6987-4227-B71A-5E9B8DE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7EF9-64FC-412B-AD29-0C8A067358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31FA-0DCD-4863-9F7B-2E1B47AD88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hyperlink" Target="http://www.iuv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h vysokých škol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va Dudí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enka Kříčková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mila Neumanová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eronika Mejzlí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álý nárůst počtu student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 roce 2003/04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vě přijato celkem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56,9 ti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árůst především u uchazečů prezenčního studia v bakalářských programech, který oproti předešlému roku činil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57,7 %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v magisterských naopak  pokles o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3,9 %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vá strategie VŠ:  dvoustupňové studium: bakalářské a magisterské navazující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 roce 2005/06 již počet poprvé zapsaných do bakalářských programů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54,8 tis.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více než pětinásobně převyšoval počet přijatých k magisterskému studiu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0,5 ti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). Celkem bylo nově přijato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70,0 ti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student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93080" cy="640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d r. 1989 do r.2005 dvojnásobný nárůst absolventů VŠ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E! Snižuje se počet zájemců ze střeních šk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zdíl vyrovnávají cizinci a již pracují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280" y="3124080"/>
          <a:ext cx="8686800" cy="3332160"/>
        </p:xfrm>
        <a:graphic>
          <a:graphicData uri="http://schemas.openxmlformats.org/drawingml/2006/table">
            <a:tbl>
              <a:tblPr/>
              <a:tblGrid>
                <a:gridCol w="1911600"/>
                <a:gridCol w="2949480"/>
                <a:gridCol w="1914480"/>
                <a:gridCol w="1911240"/>
              </a:tblGrid>
              <a:tr h="78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kolní r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uden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tom státní občanstv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esk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z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/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5 2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 7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4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/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8 6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9 2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4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/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8 7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 6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0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/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 1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9 6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5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/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8 1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9 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3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91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díl přijatých ke studiu vzrůstá (o 5,8% za posl.škol.ro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aždý uchazeč podá v průměru 2,2 přihlášky (2005: hlásilo celkem 130,9 tis., kteří podali celkem 294,8 tis. přihlášek.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chazeči se nejvíce hlásí ke studiu humanitních a společenskovědních oborů, ekonomických, technických a pedagogických oborů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8600" y="3352680"/>
          <a:ext cx="8469360" cy="3345120"/>
        </p:xfrm>
        <a:graphic>
          <a:graphicData uri="http://schemas.openxmlformats.org/drawingml/2006/table">
            <a:tbl>
              <a:tblPr/>
              <a:tblGrid>
                <a:gridCol w="1809720"/>
                <a:gridCol w="3406680"/>
                <a:gridCol w="3252960"/>
              </a:tblGrid>
              <a:tr h="119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aných přihláš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ijatých studentů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.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5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4.80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očet přihlášek, přihlášených, přijatých a zapsaných na VŠ  v tis.  v letech 1989/90 – 2005/06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 vysoké školy se hlásí převážn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ívky (56,7 %), které tvoří tak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ětšinu přijatých (51,7 %). Chlapc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sou však při přijímacím řízení úspěšnější (75,1 % úspěšnost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 porovnání s dívkami (60,6 % úspěšnost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očty podaných přihlášek na VŠ a počty přijatých studentů v letech 1992/93 až 2002/03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2276640"/>
          <a:ext cx="5435640" cy="34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76640"/>
                    <a:ext cx="5435640" cy="345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40360" y="1557360"/>
          <a:ext cx="2962440" cy="5040360"/>
        </p:xfrm>
        <a:graphic>
          <a:graphicData uri="http://schemas.openxmlformats.org/drawingml/2006/table">
            <a:tbl>
              <a:tblPr/>
              <a:tblGrid>
                <a:gridCol w="1017720"/>
                <a:gridCol w="973080"/>
                <a:gridCol w="971640"/>
              </a:tblGrid>
              <a:tr h="85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ané přihlášk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řijatí studen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2/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1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 6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3/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4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 8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4/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66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 3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/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79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 29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6/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2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 9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7/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05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 5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/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63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 23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/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3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7 40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/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81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 21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/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74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 6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/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40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 07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50920" y="1341360"/>
          <a:ext cx="864072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0720" cy="4884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979640" y="189000"/>
          <a:ext cx="5616720" cy="317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9000"/>
                    <a:ext cx="5616720" cy="3174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979640" y="3429000"/>
          <a:ext cx="5689440" cy="321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429000"/>
                    <a:ext cx="5689440" cy="3216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ezinárodní srovnání počtu vysokoškolsky vzdělané populace jednotlivých zemí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50920" y="1844640"/>
          <a:ext cx="872964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8729640" cy="446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Školní rok 2004/2005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24000" y="981000"/>
          <a:ext cx="8229600" cy="5332320"/>
        </p:xfrm>
        <a:graphic>
          <a:graphicData uri="http://schemas.openxmlformats.org/drawingml/2006/table">
            <a:tbl>
              <a:tblPr/>
              <a:tblGrid>
                <a:gridCol w="469800"/>
                <a:gridCol w="5013360"/>
                <a:gridCol w="884160"/>
                <a:gridCol w="884520"/>
                <a:gridCol w="977760"/>
              </a:tblGrid>
              <a:tr h="131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soká šk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ané přihláš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řijat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čet uchazečů na jedno mís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pedagogická, Hradec Králov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3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6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arykova univerzita, B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 4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8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zita Karlova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 5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7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zita Palackého, Olomou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 4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3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stravská univerzita, Ostra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2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ápadočeská univerzita, Plze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 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4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ihočeská univerzita, České Budějo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7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1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ekonomická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9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3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eská zemědělská univerzita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5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9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é učení technické, B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 7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8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eské vysoké učení technické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8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báňská – Technická univerzita, Ostra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3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38880"/>
            <a:ext cx="8362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363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zrůstající zájem o studium na V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jdynamičtější nárůst zazname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oukromé VŠ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čet podaných přihlášek na VŠ ve školním roce: 1992/93: </a:t>
            </a:r>
            <a:r>
              <a:rPr b="0" lang="cs-CZ" sz="2800" spc="-1" strike="noStrike">
                <a:solidFill>
                  <a:srgbClr val="ff3300"/>
                </a:solidFill>
                <a:latin typeface="Verdana"/>
              </a:rPr>
              <a:t>141140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2002/03: </a:t>
            </a:r>
            <a:r>
              <a:rPr b="0" lang="cs-CZ" sz="2800" spc="-1" strike="noStrike">
                <a:solidFill>
                  <a:srgbClr val="ff3300"/>
                </a:solidFill>
                <a:latin typeface="Verdana"/>
              </a:rPr>
              <a:t>23402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ůst počtu oborů: 112 na 2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árůst především u škol s humanitním zaměření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Školní rok 2004/2005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68360" y="1197000"/>
          <a:ext cx="8229600" cy="5087880"/>
        </p:xfrm>
        <a:graphic>
          <a:graphicData uri="http://schemas.openxmlformats.org/drawingml/2006/table">
            <a:tbl>
              <a:tblPr/>
              <a:tblGrid>
                <a:gridCol w="469800"/>
                <a:gridCol w="5013360"/>
                <a:gridCol w="884160"/>
                <a:gridCol w="884520"/>
                <a:gridCol w="977760"/>
              </a:tblGrid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soká šk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dané přihláš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řijat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ntuální úspěšnost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pedagogická, Hradec Králov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3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6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,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sarykova univerzita, B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 4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8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,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zita Karlova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 5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7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,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zita Palackého, Olomou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 4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3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stravská univerzita, Ostra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2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,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ápadočeská univerzita, Plze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 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4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ihočeská univerzita, České Budějov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7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1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ekonomická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9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3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eská zemědělská univerzita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5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9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1,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é učení technické, B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 7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8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eské vysoké učení technické, Pra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8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8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,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soká škola báňská – Technická univerzita, Ostrav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3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,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Školní rok 2004/2005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8360" y="1052640"/>
          <a:ext cx="8184960" cy="55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052640"/>
                    <a:ext cx="818496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droj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czso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iuv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888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31840"/>
            <a:ext cx="829152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výšená nabídka         zvýšená poptávka         Konkurenční boj mezi V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- projekt „Partnerství ve vzdělání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-11880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3628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ynamický nárůst soukromých V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648320" y="1143000"/>
            <a:ext cx="4038120" cy="5028840"/>
            <a:chOff x="4648320" y="1143000"/>
            <a:chExt cx="4038120" cy="5028840"/>
          </a:xfrm>
        </p:grpSpPr>
        <p:grpSp>
          <p:nvGrpSpPr>
            <p:cNvPr id="171" name=""/>
            <p:cNvGrpSpPr/>
            <p:nvPr/>
          </p:nvGrpSpPr>
          <p:grpSpPr>
            <a:xfrm>
              <a:off x="4654800" y="1149840"/>
              <a:ext cx="4024080" cy="5013720"/>
              <a:chOff x="4654800" y="1149840"/>
              <a:chExt cx="4024080" cy="501372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654800" y="1149840"/>
                <a:ext cx="1643400" cy="1500120"/>
                <a:chOff x="4654800" y="1149840"/>
                <a:chExt cx="1643400" cy="1500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654800" y="1149840"/>
                  <a:ext cx="1643400" cy="15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ukromé vysoké školy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654800" y="1149840"/>
                  <a:ext cx="1643400" cy="150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98560" y="1149840"/>
                <a:ext cx="1189800" cy="1500120"/>
                <a:chOff x="6298560" y="1149840"/>
                <a:chExt cx="1189800" cy="1500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98560" y="1149840"/>
                  <a:ext cx="1189800" cy="15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298560" y="1149840"/>
                  <a:ext cx="1189800" cy="150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89080" y="1149840"/>
                <a:ext cx="1189800" cy="1500120"/>
                <a:chOff x="7489080" y="1149840"/>
                <a:chExt cx="1189800" cy="1500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89080" y="1149840"/>
                  <a:ext cx="1189800" cy="150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89080" y="1149840"/>
                  <a:ext cx="1189800" cy="150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654800" y="2650320"/>
                <a:ext cx="1643400" cy="227520"/>
                <a:chOff x="4654800" y="2650320"/>
                <a:chExt cx="1643400" cy="2275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654800" y="2650320"/>
                  <a:ext cx="1643400" cy="22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54800" y="2650320"/>
                  <a:ext cx="1643400" cy="22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298560" y="2650320"/>
                <a:ext cx="1189800" cy="227520"/>
                <a:chOff x="6298560" y="2650320"/>
                <a:chExt cx="1189800" cy="2275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298560" y="2650320"/>
                  <a:ext cx="1189800" cy="22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298560" y="2650320"/>
                  <a:ext cx="1189800" cy="22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7489080" y="2650320"/>
                <a:ext cx="1189800" cy="227520"/>
                <a:chOff x="7489080" y="2650320"/>
                <a:chExt cx="1189800" cy="2275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7489080" y="2650320"/>
                  <a:ext cx="1189800" cy="22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9080" y="2650320"/>
                  <a:ext cx="1189800" cy="22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654800" y="2878200"/>
                <a:ext cx="1643400" cy="546840"/>
                <a:chOff x="4654800" y="2878200"/>
                <a:chExt cx="1643400" cy="5468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654800" y="2878200"/>
                  <a:ext cx="164340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školní rok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54800" y="2878200"/>
                  <a:ext cx="164340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298560" y="2878200"/>
                <a:ext cx="2379960" cy="546840"/>
                <a:chOff x="6298560" y="2878200"/>
                <a:chExt cx="2379960" cy="5468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298560" y="2878200"/>
                  <a:ext cx="237996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čet studentů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298560" y="2878200"/>
                  <a:ext cx="237996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654800" y="3425400"/>
                <a:ext cx="1643400" cy="547200"/>
                <a:chOff x="4654800" y="3425400"/>
                <a:chExt cx="1643400" cy="5472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654800" y="3425400"/>
                  <a:ext cx="164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0/0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54800" y="3425400"/>
                  <a:ext cx="16434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298560" y="3425400"/>
                <a:ext cx="2379960" cy="547200"/>
                <a:chOff x="6298560" y="3425400"/>
                <a:chExt cx="2379960" cy="5472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298560" y="3425400"/>
                  <a:ext cx="2379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38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298560" y="3425400"/>
                  <a:ext cx="23799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654800" y="3973320"/>
                <a:ext cx="1643400" cy="547200"/>
                <a:chOff x="4654800" y="3973320"/>
                <a:chExt cx="1643400" cy="5472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54800" y="3973320"/>
                  <a:ext cx="164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1/0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654800" y="3973320"/>
                  <a:ext cx="16434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298560" y="3973320"/>
                <a:ext cx="2379960" cy="547200"/>
                <a:chOff x="6298560" y="3973320"/>
                <a:chExt cx="2379960" cy="5472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298560" y="3973320"/>
                  <a:ext cx="2379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99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98560" y="3973320"/>
                  <a:ext cx="23799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654800" y="4521240"/>
                <a:ext cx="1643400" cy="546840"/>
                <a:chOff x="4654800" y="4521240"/>
                <a:chExt cx="1643400" cy="5468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654800" y="4521240"/>
                  <a:ext cx="164340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2/0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654800" y="4521240"/>
                  <a:ext cx="164340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98560" y="4521240"/>
                <a:ext cx="2379960" cy="546840"/>
                <a:chOff x="6298560" y="4521240"/>
                <a:chExt cx="2379960" cy="5468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298560" y="4521240"/>
                  <a:ext cx="237996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89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298560" y="4521240"/>
                  <a:ext cx="2379960" cy="54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4654800" y="5068440"/>
                <a:ext cx="1643400" cy="547200"/>
                <a:chOff x="4654800" y="5068440"/>
                <a:chExt cx="1643400" cy="5472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654800" y="5068440"/>
                  <a:ext cx="164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3/04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654800" y="5068440"/>
                  <a:ext cx="16434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298560" y="5068440"/>
                <a:ext cx="2379960" cy="547200"/>
                <a:chOff x="6298560" y="5068440"/>
                <a:chExt cx="2379960" cy="5472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298560" y="5068440"/>
                  <a:ext cx="2379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286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298560" y="5068440"/>
                  <a:ext cx="23799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654800" y="5616360"/>
                <a:ext cx="1643400" cy="547200"/>
                <a:chOff x="4654800" y="5616360"/>
                <a:chExt cx="1643400" cy="5472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654800" y="5616360"/>
                  <a:ext cx="164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4/05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654800" y="5616360"/>
                  <a:ext cx="16434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6298560" y="5616360"/>
                <a:ext cx="2379960" cy="547200"/>
                <a:chOff x="6298560" y="5616360"/>
                <a:chExt cx="2379960" cy="5472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6298560" y="5616360"/>
                  <a:ext cx="2379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12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298560" y="5616360"/>
                  <a:ext cx="23799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4648320" y="1143000"/>
              <a:ext cx="403812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52280" y="1143000"/>
            <a:ext cx="4572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ývoj soukromých VŠ za posl.3 rok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2x více soukr.šk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 60% více studen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259920"/>
            <a:ext cx="82184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iná strategie soukromých ško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ně financovány z vlastních zdrojů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ientace na obory s vazbou na konkrétní profesní uplatnění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ekonomická, veřejnoprávní sféra)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zdílné nároky pro přijetí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větší zájem je o humanitní obory na veřejných V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 technické obory někdy stačí pouze prospěch ze S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ukromé školy: odmítnuto pouze 6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Úspěšnost absolventů V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91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/5 VŠ má nezaměstnanost absolventů mez 2-1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oukromé VŠ jsou na tom lép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oká úspěšnost pedagogických a lékařských fakult (kolem 5%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bré výsledky (velmi blízko pětiprocentní hranici) mají školy ekonomické a technické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jhůře na tom jsou fakulty zemědělské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915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2392200" y="219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04920" y="1905120"/>
          <a:ext cx="8381880" cy="3801960"/>
        </p:xfrm>
        <a:graphic>
          <a:graphicData uri="http://schemas.openxmlformats.org/drawingml/2006/table">
            <a:tbl>
              <a:tblPr/>
              <a:tblGrid>
                <a:gridCol w="1328760"/>
                <a:gridCol w="1842840"/>
                <a:gridCol w="1174680"/>
                <a:gridCol w="1451160"/>
                <a:gridCol w="965160"/>
                <a:gridCol w="1619280"/>
              </a:tblGrid>
              <a:tr h="1216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kolní ro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koly celk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to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kulty celk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řejn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krom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át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/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3:18:24Z</dcterms:created>
  <dc:creator>Mejzlíkovi</dc:creator>
  <dc:description/>
  <dc:language>en-US</dc:language>
  <cp:lastModifiedBy>Mejzlíkovi</cp:lastModifiedBy>
  <dcterms:modified xsi:type="dcterms:W3CDTF">2006-11-27T03:20:12Z</dcterms:modified>
  <cp:revision>1</cp:revision>
  <dc:subject/>
  <dc:title>Trh vysokých škol </dc:title>
</cp:coreProperties>
</file>