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D4A-3168-4E50-9A38-D1344504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A4E-7074-4D21-8766-896E868E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60D-2968-436E-B940-C1519310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58D-EDE9-48C0-A8DA-8D58A9A6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B1AD-900D-4B0A-AEA0-F7641C7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8F7-318A-4566-BFDE-FAF0792B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1E12-BED2-45F2-90E1-0D772E96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0752-8A27-4CD6-BADC-FD9DB14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AC7-0342-402E-8E01-CBDB2C3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62A-9A6C-426C-9C3E-2CD9EC1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1C8A-3700-410B-8DA8-7AB4C70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45E-E6E3-429D-AC34-D08D71D1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8CCB-5480-4B40-B805-FB25E6B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1DDA-2107-4681-B7D6-4B29805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426D-166B-4AAA-AACC-359B365C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D22-F513-429D-88B2-8FB2E7C2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7DCE-84F0-4062-8D9A-0E824C19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25B-4ED1-4D14-BE53-090A883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D75-DE5F-4B63-B957-940767C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113-33AD-41F1-B26E-C27A69D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5B4-2569-4B1A-A9A9-FA7E1EC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531-3D3F-4FA0-860F-C15922EB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2E5-65A8-4205-AAD8-7BAFE1B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DA2-7E6E-477F-A624-58D17135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6849-C470-48B6-95B4-C9D903AAA9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FB7-1EBF-4D5E-8719-67B5471866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6294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ůzkum trhu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16000" y="2133720"/>
            <a:ext cx="668808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POVINNÉ RUČENÍ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Šárka Krobot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mi Melichár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ituace na trhu povinného ručení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02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kem je v Čr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5 520 710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aut, na které je sjednáno povinné ruče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é ručení je v Čr možné zařídit u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9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finančních institu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5 největších 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rývá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 93% trhu.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sou 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skytované služby se liší v:</a:t>
            </a:r>
            <a:r>
              <a:rPr b="0" lang="cs-CZ" sz="2800" spc="-1" strike="noStrike">
                <a:solidFill>
                  <a:srgbClr val="ff0000"/>
                </a:solidFill>
                <a:latin typeface="Garamond"/>
              </a:rPr>
              <a:t> pojistné výši, bonusech a zejména v asistenčních službách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(ty nejsou předmětem této prezent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752400" cy="885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1513080" cy="42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1216080" cy="75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1009800" cy="27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211640" y="3933720"/>
            <a:ext cx="33847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čty aut pojištěných u jednotlivých poskytovatel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1080" y="1700280"/>
          <a:ext cx="8712000" cy="425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700280"/>
                    <a:ext cx="871200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díl pěti největších poskytovatelů v procentech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4360" y="1773360"/>
          <a:ext cx="7927920" cy="48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773360"/>
                    <a:ext cx="792792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Ceny základních nabídek</a:t>
            </a:r>
            <a:br>
              <a:rPr sz="4000"/>
            </a:br>
            <a:r>
              <a:rPr b="1" lang="cs-CZ" sz="3200" spc="-1" strike="noStrike">
                <a:solidFill>
                  <a:srgbClr val="b9efee"/>
                </a:solidFill>
                <a:latin typeface="Garamond"/>
              </a:rPr>
              <a:t>od nejlevnejší po nejdražší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3429000"/>
          <a:ext cx="8372520" cy="1743120"/>
        </p:xfrm>
        <a:graphic>
          <a:graphicData uri="http://schemas.openxmlformats.org/drawingml/2006/table">
            <a:tbl>
              <a:tblPr/>
              <a:tblGrid>
                <a:gridCol w="1150920"/>
                <a:gridCol w="1235160"/>
                <a:gridCol w="1496880"/>
                <a:gridCol w="1496880"/>
                <a:gridCol w="1495440"/>
                <a:gridCol w="1497240"/>
              </a:tblGrid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100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2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3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6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44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135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44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94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983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9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85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2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7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67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8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906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2500 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45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129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28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420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19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412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d250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999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22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948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972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843 K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0920" y="6093000"/>
          <a:ext cx="7850160" cy="591840"/>
        </p:xfrm>
        <a:graphic>
          <a:graphicData uri="http://schemas.openxmlformats.org/drawingml/2006/table">
            <a:tbl>
              <a:tblPr/>
              <a:tblGrid>
                <a:gridCol w="1569600"/>
                <a:gridCol w="1570320"/>
                <a:gridCol w="1811520"/>
                <a:gridCol w="1328400"/>
                <a:gridCol w="15703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cc2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439640" cy="40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50920" y="616572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492360" y="6237360"/>
            <a:ext cx="1584360" cy="358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219640" y="616572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877080" y="6165720"/>
            <a:ext cx="792000" cy="433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1341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to ceny však nejsou porovnatelné, protože služby, které zákazník k základnímu tarifu dostane jsou rozdílné. Tabulka znázorňuje pouze to, za kolik se dá sehnat povinné ruče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2997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285264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jlevnější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jdražš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5229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vy znázorňují jednotlivé poskytovatele tak jak je znázorněno níž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ojistná výše u základních nabídek všech pěti největších poskytovatel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205000"/>
          <a:ext cx="6922800" cy="3841920"/>
        </p:xfrm>
        <a:graphic>
          <a:graphicData uri="http://schemas.openxmlformats.org/drawingml/2006/table">
            <a:tbl>
              <a:tblPr/>
              <a:tblGrid>
                <a:gridCol w="2307960"/>
                <a:gridCol w="2306880"/>
                <a:gridCol w="2307960"/>
              </a:tblGrid>
              <a:tr h="43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b475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ál pl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kladn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ěcné škody a ušlý zi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dy na zdraví nebo usmrcení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mil. K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1079640" cy="30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55640" y="2997360"/>
            <a:ext cx="792000" cy="34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1511280" cy="273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936720" cy="285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26920" y="5300640"/>
            <a:ext cx="576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hodnost měřená koeficientem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vždy od nejvýhodnějšího po nejméně výhodn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2565360"/>
          <a:ext cx="7561080" cy="2015640"/>
        </p:xfrm>
        <a:graphic>
          <a:graphicData uri="http://schemas.openxmlformats.org/drawingml/2006/table">
            <a:tbl>
              <a:tblPr/>
              <a:tblGrid>
                <a:gridCol w="1587240"/>
                <a:gridCol w="1134000"/>
                <a:gridCol w="1098720"/>
                <a:gridCol w="1247040"/>
                <a:gridCol w="1245240"/>
                <a:gridCol w="1248840"/>
              </a:tblGrid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00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667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6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4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35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8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5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185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5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0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 2500 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d 2500c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0920" y="6021360"/>
          <a:ext cx="8066160" cy="7351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4600"/>
                <a:gridCol w="1612800"/>
                <a:gridCol w="161316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0de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1439640" cy="40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050920" y="616572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492360" y="6237360"/>
            <a:ext cx="1584360" cy="35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219640" y="616572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093080" y="6165720"/>
            <a:ext cx="792000" cy="43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oeficient říká kolik Kč zákazník získá za svou jednu korunu při plném využití pojistné sum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200" y="5157720"/>
            <a:ext cx="79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vy znázorňují jednotlivé poskytovatele tak jak je znázorněno níž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Nabízené bonusy 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pro řidiče, kteří po dobu jednoho roku nezaviní nehodu a maximální výše bonusu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2276640"/>
          <a:ext cx="6190920" cy="2954160"/>
        </p:xfrm>
        <a:graphic>
          <a:graphicData uri="http://schemas.openxmlformats.org/drawingml/2006/table">
            <a:tbl>
              <a:tblPr/>
              <a:tblGrid>
                <a:gridCol w="2064240"/>
                <a:gridCol w="2062440"/>
                <a:gridCol w="20642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5c65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1439640" cy="401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1081080" cy="465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1296720" cy="358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1224000" cy="37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900000" y="4149720"/>
            <a:ext cx="792360" cy="43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1773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onu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vě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5 velkých pojišťovacích společností - 93%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jvětší je Česká pojišťovna, druhá Kooperativ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ednotlivé tarify se velmi liší rozsahem svých služeb (zejména u asistenčních služeb, které jsme právě pro jejich obtížnou srovnatelnost nehodnotily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šichni poskytovatelé nabízejí současně povinné ručení, asistenční služby a bonus (řidičům, kteří nejméně jeden rok nezpůsobili nehodu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5:14:01Z</dcterms:created>
  <dc:creator>A</dc:creator>
  <dc:description/>
  <dc:language>en-US</dc:language>
  <cp:lastModifiedBy>oem</cp:lastModifiedBy>
  <dcterms:modified xsi:type="dcterms:W3CDTF">2006-11-28T20:20:45Z</dcterms:modified>
  <cp:revision>16</cp:revision>
  <dc:subject/>
  <dc:title>Průzkum trhu</dc:title>
</cp:coreProperties>
</file>