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19EC-9F70-470A-84A5-57A5B9C2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FB01-8229-4EC6-87EC-5E54D165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8D26B-56DE-4534-8745-2C6A2AEA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F4A53-D115-4EB1-A849-6479C14E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B6245-C73D-42A8-8EE8-5539CBE2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F2683-85DC-4436-92E5-856EAFB8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2DFF3-9A40-4903-B8A2-476FAB99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211EC-FDD7-4CA7-9C9D-2FC31B55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5B2F9-4F76-418E-9AE7-C490E30C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EEACE-31D0-456E-865C-E0DE2138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ABD77-B365-4F77-9B43-AA7465C4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6C8F3-BF03-4135-B7D7-5BF3CEEB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E8E-03E0-4DB9-B5E0-1EAADFD9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0AE2A-B8CB-452D-B820-81FCFBB0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D6A51-CE2A-49FD-A64D-0AFBC571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72E65-92AA-4290-835F-16F42AC6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4B6EF-837D-49CE-B2B0-04ED5280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2EDA1-6AC0-47AD-B35D-7CE754B0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050E8-7566-4C33-974D-405EC4F3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614D6-F553-4252-A4A8-661B8ECD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E7CD7-1003-4AA7-B8A4-CC917AC4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CE9BA-999E-402E-B56F-CC9FF3FC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71710-E4BE-4DE4-94F9-A10FBB18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9AA3-8CE1-4345-8DE7-75AA73E3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3C0FA-ED35-4C19-9E86-553E622F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01635-6E46-4874-AF56-24557A44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54CE6-A1F2-43C6-AFBB-71179FA4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EEFB4-96E9-45B1-9DC2-9691DA98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F80AB-BA12-4E64-BA72-BAA3AF61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BD780-BE2B-43B1-90CE-E16D7662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68761-CA06-4932-93A6-44D8D697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0192F-4DC7-45A7-A8D6-F167AE03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66424-728E-4200-97CD-8D07952E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B8877-FA9C-4BB1-8904-5C04FC7D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18F5-6337-4EEA-8F55-4632EAE4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C0674-67E3-4A87-9504-5CF7B1FB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67B18-FB11-4758-AB63-F64B9C4B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FBE5E-A00F-427B-A69A-EB1304D1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574206-0CB5-424B-BE1E-EE822812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E2E96E-810F-4A9A-BFCC-67C6819F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E00EC7-EF48-4670-992F-A87F035F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6E6DBD-3E16-4A6A-BD8D-60E1B41B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930403-8CDB-47F6-948F-AC138091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E266A9-EA26-42BD-861A-F7F0603F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783E97-F694-48DE-AA6F-2D704D24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5818-F055-48F1-9EF7-B7D63474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FB5421-3AF0-4D52-810A-F08479DF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C7C648-A142-402A-B8E6-171F8093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F3D38C-6D1A-4C6E-9DB8-637781B9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A43D43-3971-41C3-9ECC-2EC2AB3F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DD87F4-4BEF-4934-A6CC-09832644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537B-A968-4B0F-8440-9307F07C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FD83-3122-4EF8-BE12-DFB11F95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CECF-B084-41D4-871B-6DA739E0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FE35-69CF-42A0-92B7-698EAF6C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6F13-2FBF-4553-9B49-1DF3591C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A37-DCF3-477A-B0EE-86B06E86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06D1-6427-4C00-9E34-0F104663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91F7-16E2-49F2-9183-DEE4A71D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A029-FC89-4E23-8E16-B889C3C6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94B2-5C6D-4917-A003-BB4E34E4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DB0F-39E6-47D3-AB12-353709CE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41B6E-1578-48C0-9D7F-99F8CBF4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18D87-CA4D-4BF3-8601-9DD52772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AE0A6-9A61-4971-A718-EBD7BF42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A7282-7E3A-4114-B200-08002E99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E4CEC-8A12-4C05-89AE-874F3CB4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406-5511-4DE2-9E09-7DEC36BD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46179-B205-40CA-8214-66F8C15B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C95E4-6B8C-44DD-B8EB-7FC63215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53242-5CF0-4B12-90B8-9305515B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918D0-54C1-4EA6-B453-D4C6BDFC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8DD32-8C89-4954-84DD-DFD44674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B90EA-4237-4DAB-9E46-9ABDFA5A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70BA4-5891-4DAC-BB5F-B7989B2A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09289-0785-4F55-A062-692CBA93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89334-9424-455B-8F4F-BC8CEAF2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3B16B-15C9-48CC-AA21-C84868E8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CBE-8ED1-420F-B7CB-BE0E853E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B4547-017D-42C4-B68A-07F2FE9B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93F3B-ADDA-46DE-947B-773C1B2F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7EC19-F36A-4E84-84CE-F8A490FD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6687C-1E66-4C01-B2EB-3E3D89E5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36A27-8A66-4687-A170-99BE5A89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209C2-5D12-4C6E-88EA-9898BCA4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3CCC0-A2D2-43AE-8973-BE042210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3AE48-7B8B-44CF-99B9-EC861BA9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CDA65-0CFB-4538-A33B-27569EF9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D3F22-F31B-43BD-B240-BAFE3074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49B-F38C-4D80-8288-14D514A5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43D16-15FD-47B4-8114-EBA600D4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57E09-FD22-429D-A63C-EEE364E5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18CBA-8658-4D74-B087-E3471353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F04C9-90A2-41AC-8EE9-384CB78A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10B85-2038-4E82-B802-F16EA143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64CBD-8054-44D8-8AEE-D7F27AA2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1C3E6-F2F9-48C5-8B7D-C148FFC9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72C64-554A-485A-AB82-1455BC9B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25E8C-3A0C-46D0-95A4-73380E6A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6A03B-A045-490C-BB2F-9DEB50C8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AF2B-D674-44B2-A333-45E6E603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58FE2-5841-4464-9968-1D1AD6B2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948AD-3670-4AE8-8D51-7250309A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51BC2-1446-4DB8-9435-66A3BDE2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3B6B4-F787-4763-9996-D38448DA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1A4C7-BBFE-4704-94BF-C9B30561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B4449-67E6-4B67-BABD-53DFF0F4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B6D94-DF53-4D4F-A727-9586B212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6465C-9EFF-429D-88CF-CC94C240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90580-7B7B-4FD5-8F1E-EC7F1334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D2749-6CA7-4BB9-84BD-C17C62E9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7A3-2842-413E-BC09-756C2E32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16CF7-E4C4-4AF2-AB80-F1DF3B7E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220E3-A760-4810-BB2D-2E7CD4B2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2035C-E63F-4F9E-BDA2-A6411E53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FFA36-DE82-4A69-BDC2-DACC9246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F39B3-331A-42D1-B146-880F9F17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E24C5-5284-46F9-A24B-B1FDE83C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6656C-3929-4A31-86B2-51413611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119A8-CF4C-42AA-AEFD-6DB0968E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A3FDD-FD0E-4392-A564-7BE2BA8D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000C0-25D0-43DC-98BD-764F4B0E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FC0E-C45A-4816-8833-BA29B4A0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2F8EA-57C9-4298-BDD0-CE6B0299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477A0-EB7D-45E4-A6F2-29AEFC3A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81A08-CA7A-4F30-B431-23925A02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E55B5-E207-4CA6-97BF-28FB7292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CF456-377C-4D21-A183-E1FF9595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574AD-0BC1-4426-B796-E1B6F4DA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1A5E6-540C-4AD8-9812-701E7B5B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BA812-3DBD-4949-BA93-007A5184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4E3CF-FDBF-4EB1-AACD-AE64BFB2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77EE6-C9EF-4E42-8B50-B75D9D4D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F5D6-9D9B-47A6-812F-325654C7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0551C-8100-49D0-BDF0-4990FD42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1C13C-98AD-431E-93BC-1B7CACCB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0814B-AB80-46FD-BCBE-248F5225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29B03-F11D-4C1F-876C-22063B4E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3DE1D-CB14-489A-BDB7-AF909945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7A772-DA20-435F-A37A-4AF62F79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1AEED-0FDA-4CC9-AE6B-A6ED0C34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6A566-334D-4335-BD04-C9C5D32F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576AA-01D6-4CDC-824B-A164BAB0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2BA56-EE58-41D8-BE19-86168992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E54A-37A0-44A7-9218-CEACE17D1C9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1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2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3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5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7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E620-A03C-4EF5-A3A4-00A6A9A82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81DD-65E2-45F4-8B9F-96DA66C78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A8B1-DD22-4CD4-B961-063FE7B0C1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0111-9A60-46BE-A819-07EBB844A14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5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C6AC-82A1-4037-9A40-2AB7E351A5B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8B91-3F49-4EED-98FE-86D26261351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43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46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3874-BD18-48AD-8267-210984E1E85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297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98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30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ftr" idx="1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94CC-5FB3-4A03-94CA-9CFFE496452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5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4321-1C1B-4637-88CB-CBBD1687DD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3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7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96EF-50E5-404D-8B10-B43CA143E7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1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1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2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4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6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1932-BF38-40A3-A037-B78FF1E6B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inance.cz/" TargetMode="External"/><Relationship Id="rId2" Type="http://schemas.openxmlformats.org/officeDocument/2006/relationships/hyperlink" Target="http://www.czso.cz/" TargetMode="External"/><Relationship Id="rId3" Type="http://schemas.openxmlformats.org/officeDocument/2006/relationships/hyperlink" Target="http://www.cnb.cz/" TargetMode="External"/><Relationship Id="rId4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307520" y="1556640"/>
            <a:ext cx="644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Bankovní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úv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ě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ový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rh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Č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306800" y="2780280"/>
            <a:ext cx="67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C 147 Základy marketingového výzku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413720" y="465192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ypracoval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115440" y="4651920"/>
            <a:ext cx="333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Jiří Šimon 1825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Denisa Novotná 2195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teřina Paučková 1822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4276440" y="1340280"/>
            <a:ext cx="21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úroková sazba 9,70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08840" y="497520"/>
            <a:ext cx="41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Nabízené úvěrové produkt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 :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potřebitelské úvěry :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  Snadná půjčk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700200" y="24915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dnikatelské úvěry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44440" y="205956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otovostní úvě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088080" y="2851560"/>
            <a:ext cx="195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vozní úvěr 5 PL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106080" y="256428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nvestiční úvě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095280" y="314064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vozní úvě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96680" y="391716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oteční úvěry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781720" y="4219920"/>
            <a:ext cx="24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ypotéka České spořiteln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802960" y="3931200"/>
            <a:ext cx="16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ové TOP bydlen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820960" y="450756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on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763560" y="544428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ontokorentní úvěry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055320" y="551556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Kontokorent ke sporoži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7151400" y="594936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stav v roce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936520" y="170064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potřebitelský úvě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565160" y="1700640"/>
            <a:ext cx="21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úroková sazba 8,50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276440" y="2059560"/>
            <a:ext cx="21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úroková sazba 9,70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29240" y="479628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YPOH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6877080" y="333360"/>
            <a:ext cx="176688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6372360" y="404640"/>
            <a:ext cx="2376360" cy="123516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611280" y="403920"/>
            <a:ext cx="45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omer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č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í banka, a.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8760" y="169848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ákladní ukazate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01560" y="270756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m poskytnutých úvěrů v mil. Kč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76440" y="342900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isk v mil. K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11000" y="407664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čet klient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923000" y="2133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012000" y="2133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010640" y="2133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8018640" y="2133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640040" y="27075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1 15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721120" y="27075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0 9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729480" y="27075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5 37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737480" y="27075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5 22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859280" y="342828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 76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942880" y="342828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 26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950880" y="342828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 29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958880" y="342828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 14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986280" y="4076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986280" y="4653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986280" y="52293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986280" y="57340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651640" y="40759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 262 45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651640" y="465228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 332 91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651640" y="573336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 467 21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645520" y="522864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 408 34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2173320" cy="78120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/>
          <p:nvPr/>
        </p:nvSpPr>
        <p:spPr>
          <a:xfrm>
            <a:off x="548640" y="836640"/>
            <a:ext cx="387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Nabízené úvěrové produk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40640" y="1628640"/>
            <a:ext cx="54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otřebitelské úvěry :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sobní úvěr – úroková sazba 7,9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723040" y="2060640"/>
            <a:ext cx="351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fektní půjčka – úroková sazba 14,9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84200" y="263700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dnikatelské úvěry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824200" y="2636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Profi úvěr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820240" y="306756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EU profi úvě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724120" y="3427920"/>
            <a:ext cx="42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volený debet na podnikatelském běžném účtu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79240" y="393372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oteční úvěry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547000" y="400428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lu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541600" y="4291560"/>
            <a:ext cx="66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Klas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46120" y="508464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ontokorentní úvěry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849040" y="5083920"/>
            <a:ext cx="26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volené debety pro obč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586280" y="6308640"/>
            <a:ext cx="14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stav k 1.10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676800" y="259560"/>
            <a:ext cx="419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GE - Money Bank, a.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98760" y="155412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ákladní ukazate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890960" y="1989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043680" y="1989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124760" y="1989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8204040" y="1989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601560" y="2636280"/>
            <a:ext cx="8381160" cy="369000"/>
            <a:chOff x="601560" y="2636280"/>
            <a:chExt cx="8381160" cy="369000"/>
          </a:xfrm>
        </p:grpSpPr>
        <p:sp>
          <p:nvSpPr>
            <p:cNvPr id="982" name=""/>
            <p:cNvSpPr/>
            <p:nvPr/>
          </p:nvSpPr>
          <p:spPr>
            <a:xfrm>
              <a:off x="601560" y="2637000"/>
              <a:ext cx="40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Objem poskytnutých úvěrů v mil. Kč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716000" y="263628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9 688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866920" y="263628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8 115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013880" y="2636280"/>
              <a:ext cx="8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37 23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027640" y="263628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47 896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676440" y="3141720"/>
            <a:ext cx="8322120" cy="439200"/>
            <a:chOff x="676440" y="3141720"/>
            <a:chExt cx="8322120" cy="439200"/>
          </a:xfrm>
        </p:grpSpPr>
        <p:sp>
          <p:nvSpPr>
            <p:cNvPr id="988" name=""/>
            <p:cNvSpPr/>
            <p:nvPr/>
          </p:nvSpPr>
          <p:spPr>
            <a:xfrm>
              <a:off x="676440" y="3141720"/>
              <a:ext cx="15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Zisk v mil. Kč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003280" y="321264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921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14160" y="321264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 98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166880" y="321264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 242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174880" y="321264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 673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639720" y="407664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čet klient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2907000" y="4075920"/>
            <a:ext cx="2820960" cy="1809000"/>
            <a:chOff x="2907000" y="4075920"/>
            <a:chExt cx="2820960" cy="1809000"/>
          </a:xfrm>
        </p:grpSpPr>
        <p:sp>
          <p:nvSpPr>
            <p:cNvPr id="995" name=""/>
            <p:cNvSpPr/>
            <p:nvPr/>
          </p:nvSpPr>
          <p:spPr>
            <a:xfrm>
              <a:off x="2907000" y="40766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907000" y="45799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907000" y="50846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00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907000" y="55166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00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35720" y="4075920"/>
              <a:ext cx="102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642 87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641840" y="457920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703 484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641840" y="508392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748 528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41840" y="551592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806 768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364000" y="260280"/>
            <a:ext cx="3457800" cy="936720"/>
            <a:chOff x="5364000" y="260280"/>
            <a:chExt cx="3457800" cy="936720"/>
          </a:xfrm>
        </p:grpSpPr>
        <p:sp>
          <p:nvSpPr>
            <p:cNvPr id="1004" name=""/>
            <p:cNvSpPr/>
            <p:nvPr/>
          </p:nvSpPr>
          <p:spPr>
            <a:xfrm>
              <a:off x="5364000" y="260280"/>
              <a:ext cx="345780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05" name="" descr=""/>
            <p:cNvPicPr/>
            <p:nvPr/>
          </p:nvPicPr>
          <p:blipFill>
            <a:blip r:embed="rId1"/>
            <a:stretch/>
          </p:blipFill>
          <p:spPr>
            <a:xfrm>
              <a:off x="5432760" y="318240"/>
              <a:ext cx="954360" cy="82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" descr=""/>
            <p:cNvPicPr/>
            <p:nvPr/>
          </p:nvPicPr>
          <p:blipFill>
            <a:blip r:embed="rId2"/>
            <a:stretch/>
          </p:blipFill>
          <p:spPr>
            <a:xfrm>
              <a:off x="6381360" y="318240"/>
              <a:ext cx="2396520" cy="4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" descr=""/>
            <p:cNvPicPr/>
            <p:nvPr/>
          </p:nvPicPr>
          <p:blipFill>
            <a:blip r:embed="rId3"/>
            <a:stretch/>
          </p:blipFill>
          <p:spPr>
            <a:xfrm>
              <a:off x="6381360" y="727920"/>
              <a:ext cx="1278720" cy="42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4203360" y="1267200"/>
            <a:ext cx="21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úroková sazba 9,90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38680" y="572400"/>
            <a:ext cx="41965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Nabízené úvěrové produkty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 :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spotřebitelské úvěry 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:   Osobní půjčka Exp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47040" y="1915920"/>
            <a:ext cx="22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odnikatelské úvěry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323800" y="19152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nvestiční úvě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432520" y="24202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Universal Busines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361960" y="220392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perativ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39720" y="2780280"/>
            <a:ext cx="152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xpres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442960" y="3067560"/>
            <a:ext cx="12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lexi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42080" y="393192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ypoteční úvěry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232360" y="4219920"/>
            <a:ext cx="95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em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239560" y="393120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nda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230560" y="450756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ptim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14360" y="5157360"/>
            <a:ext cx="22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kontokorentní úvěry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524320" y="515664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lexikred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158240" y="5949360"/>
            <a:ext cx="144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stav k 1.10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6443640" y="333360"/>
            <a:ext cx="2376360" cy="719280"/>
            <a:chOff x="6443640" y="333360"/>
            <a:chExt cx="2376360" cy="719280"/>
          </a:xfrm>
        </p:grpSpPr>
        <p:sp>
          <p:nvSpPr>
            <p:cNvPr id="1024" name=""/>
            <p:cNvSpPr/>
            <p:nvPr/>
          </p:nvSpPr>
          <p:spPr>
            <a:xfrm>
              <a:off x="6443640" y="333360"/>
              <a:ext cx="23763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5" name="" descr=""/>
            <p:cNvPicPr/>
            <p:nvPr/>
          </p:nvPicPr>
          <p:blipFill>
            <a:blip r:embed="rId1"/>
            <a:stretch/>
          </p:blipFill>
          <p:spPr>
            <a:xfrm>
              <a:off x="6490800" y="378000"/>
              <a:ext cx="655920" cy="63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" descr=""/>
            <p:cNvPicPr/>
            <p:nvPr/>
          </p:nvPicPr>
          <p:blipFill>
            <a:blip r:embed="rId2"/>
            <a:stretch/>
          </p:blipFill>
          <p:spPr>
            <a:xfrm>
              <a:off x="7142760" y="378000"/>
              <a:ext cx="1647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" descr=""/>
            <p:cNvPicPr/>
            <p:nvPr/>
          </p:nvPicPr>
          <p:blipFill>
            <a:blip r:embed="rId3"/>
            <a:stretch/>
          </p:blipFill>
          <p:spPr>
            <a:xfrm>
              <a:off x="7142760" y="692640"/>
              <a:ext cx="878760" cy="32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"/>
          <p:cNvGrpSpPr/>
          <p:nvPr/>
        </p:nvGrpSpPr>
        <p:grpSpPr>
          <a:xfrm>
            <a:off x="684360" y="5515560"/>
            <a:ext cx="1698480" cy="307080"/>
            <a:chOff x="684360" y="5515560"/>
            <a:chExt cx="1698480" cy="307080"/>
          </a:xfrm>
        </p:grpSpPr>
        <p:sp>
          <p:nvSpPr>
            <p:cNvPr id="1029" name=""/>
            <p:cNvSpPr/>
            <p:nvPr/>
          </p:nvSpPr>
          <p:spPr>
            <a:xfrm>
              <a:off x="960120" y="5515560"/>
              <a:ext cx="142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Banky celke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4360" y="5707080"/>
              <a:ext cx="421920" cy="108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39520" y="5659200"/>
              <a:ext cx="93600" cy="9324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30" y="0"/>
                  </a:moveTo>
                  <a:lnTo>
                    <a:pt x="59" y="30"/>
                  </a:lnTo>
                  <a:lnTo>
                    <a:pt x="30" y="59"/>
                  </a:lnTo>
                  <a:lnTo>
                    <a:pt x="0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84360" y="5875920"/>
            <a:ext cx="3287520" cy="307080"/>
            <a:chOff x="684360" y="5875920"/>
            <a:chExt cx="3287520" cy="307080"/>
          </a:xfrm>
        </p:grpSpPr>
        <p:sp>
          <p:nvSpPr>
            <p:cNvPr id="1033" name=""/>
            <p:cNvSpPr/>
            <p:nvPr/>
          </p:nvSpPr>
          <p:spPr>
            <a:xfrm>
              <a:off x="684360" y="6067440"/>
              <a:ext cx="421920" cy="1080"/>
            </a:xfrm>
            <a:prstGeom prst="line">
              <a:avLst/>
            </a:prstGeom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39880" y="6019560"/>
              <a:ext cx="79200" cy="77400"/>
            </a:xfrm>
            <a:prstGeom prst="rect">
              <a:avLst/>
            </a:prstGeom>
            <a:solidFill>
              <a:srgbClr val="ff00ff"/>
            </a:solidFill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919800" y="5875920"/>
              <a:ext cx="305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Banky s rozhodující českou účast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684360" y="6308640"/>
            <a:ext cx="431640" cy="144720"/>
            <a:chOff x="684360" y="6308640"/>
            <a:chExt cx="431640" cy="144720"/>
          </a:xfrm>
        </p:grpSpPr>
        <p:sp>
          <p:nvSpPr>
            <p:cNvPr id="1037" name=""/>
            <p:cNvSpPr/>
            <p:nvPr/>
          </p:nvSpPr>
          <p:spPr>
            <a:xfrm>
              <a:off x="684360" y="6371280"/>
              <a:ext cx="431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900720" y="6308640"/>
              <a:ext cx="0" cy="144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684360" y="6597360"/>
            <a:ext cx="358560" cy="115920"/>
            <a:chOff x="684360" y="6597360"/>
            <a:chExt cx="358560" cy="115920"/>
          </a:xfrm>
        </p:grpSpPr>
        <p:grpSp>
          <p:nvGrpSpPr>
            <p:cNvPr id="1040" name=""/>
            <p:cNvGrpSpPr/>
            <p:nvPr/>
          </p:nvGrpSpPr>
          <p:grpSpPr>
            <a:xfrm>
              <a:off x="684360" y="6604920"/>
              <a:ext cx="358560" cy="108360"/>
              <a:chOff x="684360" y="6604920"/>
              <a:chExt cx="358560" cy="108360"/>
            </a:xfrm>
          </p:grpSpPr>
          <p:sp>
            <p:nvSpPr>
              <p:cNvPr id="1041" name=""/>
              <p:cNvSpPr/>
              <p:nvPr/>
            </p:nvSpPr>
            <p:spPr>
              <a:xfrm>
                <a:off x="684360" y="6653520"/>
                <a:ext cx="358560" cy="108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02800" y="6604920"/>
                <a:ext cx="119520" cy="108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 flipV="1">
              <a:off x="867240" y="6597360"/>
              <a:ext cx="0" cy="1112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4" name=""/>
          <p:cNvSpPr/>
          <p:nvPr/>
        </p:nvSpPr>
        <p:spPr>
          <a:xfrm>
            <a:off x="893880" y="6236280"/>
            <a:ext cx="33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anky s rozhodující zahraniční účast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43200" y="6552000"/>
            <a:ext cx="17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anky bez lic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042920" y="3968640"/>
            <a:ext cx="720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042920" y="3394080"/>
            <a:ext cx="7209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42920" y="2803680"/>
            <a:ext cx="7209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042920" y="2212920"/>
            <a:ext cx="720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042920" y="1638360"/>
            <a:ext cx="7209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042920" y="1047600"/>
            <a:ext cx="720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042920" y="1047600"/>
            <a:ext cx="7209000" cy="3511800"/>
          </a:xfrm>
          <a:prstGeom prst="rect">
            <a:avLst/>
          </a:prstGeom>
          <a:solidFill>
            <a:srgbClr val="48c5de"/>
          </a:solidFill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042920" y="1047600"/>
            <a:ext cx="1800" cy="351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979560" y="4559400"/>
            <a:ext cx="63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979560" y="3968640"/>
            <a:ext cx="6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979560" y="3394080"/>
            <a:ext cx="63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979560" y="2803680"/>
            <a:ext cx="63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979560" y="2212920"/>
            <a:ext cx="6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979560" y="1638360"/>
            <a:ext cx="63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979560" y="1047600"/>
            <a:ext cx="6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42920" y="4559400"/>
            <a:ext cx="7209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1042920" y="455904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146700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189072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2314440" y="455904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273852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3162240" y="455904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358632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401004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443556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4859280" y="455904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528336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570708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6130800" y="455904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655488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6978600" y="455904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740268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782640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8251920" y="4559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62160" y="1343160"/>
            <a:ext cx="6784920" cy="2692440"/>
          </a:xfrm>
          <a:custGeom>
            <a:avLst/>
            <a:gdLst/>
            <a:ahLst/>
            <a:rect l="l" t="t" r="r" b="b"/>
            <a:pathLst>
              <a:path w="432" h="164">
                <a:moveTo>
                  <a:pt x="0" y="164"/>
                </a:moveTo>
                <a:lnTo>
                  <a:pt x="27" y="110"/>
                </a:lnTo>
                <a:lnTo>
                  <a:pt x="54" y="64"/>
                </a:lnTo>
                <a:lnTo>
                  <a:pt x="81" y="11"/>
                </a:lnTo>
                <a:lnTo>
                  <a:pt x="108" y="0"/>
                </a:lnTo>
                <a:lnTo>
                  <a:pt x="135" y="0"/>
                </a:lnTo>
                <a:lnTo>
                  <a:pt x="162" y="7"/>
                </a:lnTo>
                <a:lnTo>
                  <a:pt x="189" y="18"/>
                </a:lnTo>
                <a:lnTo>
                  <a:pt x="216" y="36"/>
                </a:lnTo>
                <a:lnTo>
                  <a:pt x="243" y="46"/>
                </a:lnTo>
                <a:lnTo>
                  <a:pt x="270" y="53"/>
                </a:lnTo>
                <a:lnTo>
                  <a:pt x="297" y="60"/>
                </a:lnTo>
                <a:lnTo>
                  <a:pt x="324" y="64"/>
                </a:lnTo>
                <a:lnTo>
                  <a:pt x="351" y="71"/>
                </a:lnTo>
                <a:lnTo>
                  <a:pt x="378" y="71"/>
                </a:lnTo>
                <a:lnTo>
                  <a:pt x="405" y="68"/>
                </a:lnTo>
                <a:lnTo>
                  <a:pt x="432" y="64"/>
                </a:lnTo>
              </a:path>
            </a:pathLst>
          </a:cu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262160" y="2573280"/>
            <a:ext cx="6784920" cy="1462320"/>
          </a:xfrm>
          <a:custGeom>
            <a:avLst/>
            <a:gdLst/>
            <a:ahLst/>
            <a:rect l="l" t="t" r="r" b="b"/>
            <a:pathLst>
              <a:path w="432" h="89">
                <a:moveTo>
                  <a:pt x="0" y="89"/>
                </a:moveTo>
                <a:lnTo>
                  <a:pt x="27" y="50"/>
                </a:lnTo>
                <a:lnTo>
                  <a:pt x="54" y="28"/>
                </a:lnTo>
                <a:lnTo>
                  <a:pt x="81" y="0"/>
                </a:lnTo>
                <a:lnTo>
                  <a:pt x="108" y="0"/>
                </a:lnTo>
                <a:lnTo>
                  <a:pt x="135" y="7"/>
                </a:lnTo>
                <a:lnTo>
                  <a:pt x="162" y="14"/>
                </a:lnTo>
                <a:lnTo>
                  <a:pt x="189" y="28"/>
                </a:lnTo>
                <a:lnTo>
                  <a:pt x="216" y="50"/>
                </a:lnTo>
                <a:lnTo>
                  <a:pt x="243" y="68"/>
                </a:lnTo>
                <a:lnTo>
                  <a:pt x="270" y="71"/>
                </a:lnTo>
                <a:lnTo>
                  <a:pt x="297" y="78"/>
                </a:lnTo>
                <a:lnTo>
                  <a:pt x="324" y="82"/>
                </a:lnTo>
                <a:lnTo>
                  <a:pt x="351" y="89"/>
                </a:lnTo>
                <a:lnTo>
                  <a:pt x="378" y="89"/>
                </a:lnTo>
                <a:lnTo>
                  <a:pt x="405" y="89"/>
                </a:lnTo>
                <a:lnTo>
                  <a:pt x="432" y="89"/>
                </a:lnTo>
              </a:path>
            </a:pathLst>
          </a:custGeom>
          <a:noFill/>
          <a:ln w="158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262160" y="2917800"/>
            <a:ext cx="6784920" cy="1641600"/>
          </a:xfrm>
          <a:custGeom>
            <a:avLst/>
            <a:gdLst/>
            <a:ahLst/>
            <a:rect l="l" t="t" r="r" b="b"/>
            <a:pathLst>
              <a:path w="432" h="100">
                <a:moveTo>
                  <a:pt x="0" y="100"/>
                </a:moveTo>
                <a:lnTo>
                  <a:pt x="27" y="86"/>
                </a:lnTo>
                <a:lnTo>
                  <a:pt x="54" y="61"/>
                </a:lnTo>
                <a:lnTo>
                  <a:pt x="81" y="36"/>
                </a:lnTo>
                <a:lnTo>
                  <a:pt x="108" y="25"/>
                </a:lnTo>
                <a:lnTo>
                  <a:pt x="135" y="18"/>
                </a:lnTo>
                <a:lnTo>
                  <a:pt x="162" y="18"/>
                </a:lnTo>
                <a:lnTo>
                  <a:pt x="189" y="14"/>
                </a:lnTo>
                <a:lnTo>
                  <a:pt x="216" y="11"/>
                </a:lnTo>
                <a:lnTo>
                  <a:pt x="243" y="4"/>
                </a:lnTo>
                <a:lnTo>
                  <a:pt x="270" y="7"/>
                </a:lnTo>
                <a:lnTo>
                  <a:pt x="297" y="7"/>
                </a:lnTo>
                <a:lnTo>
                  <a:pt x="324" y="7"/>
                </a:lnTo>
                <a:lnTo>
                  <a:pt x="351" y="7"/>
                </a:lnTo>
                <a:lnTo>
                  <a:pt x="378" y="7"/>
                </a:lnTo>
                <a:lnTo>
                  <a:pt x="405" y="4"/>
                </a:lnTo>
                <a:lnTo>
                  <a:pt x="432" y="0"/>
                </a:lnTo>
              </a:path>
            </a:pathLst>
          </a:custGeom>
          <a:noFill/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262160" y="2738520"/>
            <a:ext cx="6784920" cy="1820880"/>
          </a:xfrm>
          <a:custGeom>
            <a:avLst/>
            <a:gdLst/>
            <a:ahLst/>
            <a:rect l="l" t="t" r="r" b="b"/>
            <a:pathLst>
              <a:path w="432" h="111">
                <a:moveTo>
                  <a:pt x="0" y="111"/>
                </a:moveTo>
                <a:lnTo>
                  <a:pt x="27" y="111"/>
                </a:lnTo>
                <a:lnTo>
                  <a:pt x="54" y="111"/>
                </a:lnTo>
                <a:lnTo>
                  <a:pt x="81" y="111"/>
                </a:lnTo>
                <a:lnTo>
                  <a:pt x="108" y="104"/>
                </a:lnTo>
                <a:lnTo>
                  <a:pt x="135" y="93"/>
                </a:lnTo>
                <a:lnTo>
                  <a:pt x="162" y="86"/>
                </a:lnTo>
                <a:lnTo>
                  <a:pt x="189" y="72"/>
                </a:lnTo>
                <a:lnTo>
                  <a:pt x="216" y="47"/>
                </a:lnTo>
                <a:lnTo>
                  <a:pt x="243" y="33"/>
                </a:lnTo>
                <a:lnTo>
                  <a:pt x="270" y="25"/>
                </a:lnTo>
                <a:lnTo>
                  <a:pt x="297" y="18"/>
                </a:lnTo>
                <a:lnTo>
                  <a:pt x="324" y="11"/>
                </a:lnTo>
                <a:lnTo>
                  <a:pt x="351" y="4"/>
                </a:lnTo>
                <a:lnTo>
                  <a:pt x="378" y="4"/>
                </a:lnTo>
                <a:lnTo>
                  <a:pt x="405" y="0"/>
                </a:lnTo>
                <a:lnTo>
                  <a:pt x="432" y="0"/>
                </a:lnTo>
              </a:path>
            </a:pathLst>
          </a:custGeom>
          <a:noFill/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214280" y="3984480"/>
            <a:ext cx="95400" cy="100080"/>
          </a:xfrm>
          <a:custGeom>
            <a:avLst/>
            <a:gdLst/>
            <a:ahLst/>
            <a:rect l="l" t="t" r="r" b="b"/>
            <a:pathLst>
              <a:path w="60" h="63">
                <a:moveTo>
                  <a:pt x="30" y="0"/>
                </a:moveTo>
                <a:lnTo>
                  <a:pt x="60" y="32"/>
                </a:lnTo>
                <a:lnTo>
                  <a:pt x="30" y="63"/>
                </a:lnTo>
                <a:lnTo>
                  <a:pt x="0" y="32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639800" y="309888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29" y="0"/>
                </a:moveTo>
                <a:lnTo>
                  <a:pt x="59" y="31"/>
                </a:lnTo>
                <a:lnTo>
                  <a:pt x="29" y="62"/>
                </a:lnTo>
                <a:lnTo>
                  <a:pt x="0" y="31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063880" y="2344680"/>
            <a:ext cx="93600" cy="98640"/>
          </a:xfrm>
          <a:custGeom>
            <a:avLst/>
            <a:gdLst/>
            <a:ahLst/>
            <a:rect l="l" t="t" r="r" b="b"/>
            <a:pathLst>
              <a:path w="59" h="62">
                <a:moveTo>
                  <a:pt x="29" y="0"/>
                </a:moveTo>
                <a:lnTo>
                  <a:pt x="59" y="31"/>
                </a:lnTo>
                <a:lnTo>
                  <a:pt x="29" y="62"/>
                </a:lnTo>
                <a:lnTo>
                  <a:pt x="0" y="31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487600" y="147492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29" y="0"/>
                </a:moveTo>
                <a:lnTo>
                  <a:pt x="59" y="31"/>
                </a:lnTo>
                <a:lnTo>
                  <a:pt x="29" y="62"/>
                </a:lnTo>
                <a:lnTo>
                  <a:pt x="0" y="31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911320" y="1293840"/>
            <a:ext cx="9396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30" y="0"/>
                </a:moveTo>
                <a:lnTo>
                  <a:pt x="59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335400" y="129384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30" y="0"/>
                </a:moveTo>
                <a:lnTo>
                  <a:pt x="59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759120" y="1407960"/>
            <a:ext cx="95400" cy="9864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183200" y="1589040"/>
            <a:ext cx="95040" cy="9864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606920" y="1884240"/>
            <a:ext cx="95400" cy="9864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030640" y="2048040"/>
            <a:ext cx="95400" cy="99720"/>
          </a:xfrm>
          <a:custGeom>
            <a:avLst/>
            <a:gdLst/>
            <a:ahLst/>
            <a:rect l="l" t="t" r="r" b="b"/>
            <a:pathLst>
              <a:path w="60" h="63">
                <a:moveTo>
                  <a:pt x="30" y="0"/>
                </a:moveTo>
                <a:lnTo>
                  <a:pt x="60" y="32"/>
                </a:lnTo>
                <a:lnTo>
                  <a:pt x="30" y="63"/>
                </a:lnTo>
                <a:lnTo>
                  <a:pt x="0" y="32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456160" y="2163600"/>
            <a:ext cx="93600" cy="98640"/>
          </a:xfrm>
          <a:custGeom>
            <a:avLst/>
            <a:gdLst/>
            <a:ahLst/>
            <a:rect l="l" t="t" r="r" b="b"/>
            <a:pathLst>
              <a:path w="59" h="62">
                <a:moveTo>
                  <a:pt x="29" y="0"/>
                </a:moveTo>
                <a:lnTo>
                  <a:pt x="59" y="31"/>
                </a:lnTo>
                <a:lnTo>
                  <a:pt x="29" y="62"/>
                </a:lnTo>
                <a:lnTo>
                  <a:pt x="0" y="31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880240" y="227808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29" y="0"/>
                </a:moveTo>
                <a:lnTo>
                  <a:pt x="59" y="31"/>
                </a:lnTo>
                <a:lnTo>
                  <a:pt x="29" y="62"/>
                </a:lnTo>
                <a:lnTo>
                  <a:pt x="0" y="31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303960" y="2344680"/>
            <a:ext cx="93600" cy="98640"/>
          </a:xfrm>
          <a:custGeom>
            <a:avLst/>
            <a:gdLst/>
            <a:ahLst/>
            <a:rect l="l" t="t" r="r" b="b"/>
            <a:pathLst>
              <a:path w="59" h="62">
                <a:moveTo>
                  <a:pt x="30" y="0"/>
                </a:moveTo>
                <a:lnTo>
                  <a:pt x="59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727680" y="2459160"/>
            <a:ext cx="9396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30" y="0"/>
                </a:moveTo>
                <a:lnTo>
                  <a:pt x="59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151760" y="245916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30" y="0"/>
                </a:moveTo>
                <a:lnTo>
                  <a:pt x="59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575480" y="2409840"/>
            <a:ext cx="95400" cy="9828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7999560" y="2344680"/>
            <a:ext cx="95040" cy="9864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000080"/>
          </a:solidFill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214280" y="3984480"/>
            <a:ext cx="7956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639800" y="3344760"/>
            <a:ext cx="7776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063880" y="2984400"/>
            <a:ext cx="7776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487600" y="2523960"/>
            <a:ext cx="7776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911320" y="2523960"/>
            <a:ext cx="7812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335400" y="2639880"/>
            <a:ext cx="77760" cy="810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759120" y="2754360"/>
            <a:ext cx="79560" cy="8244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183200" y="2984400"/>
            <a:ext cx="7920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606920" y="3344760"/>
            <a:ext cx="7956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030640" y="3639960"/>
            <a:ext cx="7956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456160" y="3689280"/>
            <a:ext cx="7776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880240" y="3805200"/>
            <a:ext cx="77760" cy="810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6303960" y="3870360"/>
            <a:ext cx="77760" cy="8244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727680" y="3984480"/>
            <a:ext cx="7776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151760" y="3984480"/>
            <a:ext cx="7920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575480" y="3984480"/>
            <a:ext cx="7956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7999560" y="3984480"/>
            <a:ext cx="79200" cy="82800"/>
          </a:xfrm>
          <a:prstGeom prst="rect">
            <a:avLst/>
          </a:prstGeom>
          <a:solidFill>
            <a:srgbClr val="ff00ff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200240" y="4494240"/>
            <a:ext cx="1411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262160" y="4509720"/>
            <a:ext cx="1440" cy="4932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262160" y="4559400"/>
            <a:ext cx="1440" cy="4896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1213920" y="4559400"/>
            <a:ext cx="4788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262160" y="4559400"/>
            <a:ext cx="4752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623960" y="4264200"/>
            <a:ext cx="141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639800" y="4281120"/>
            <a:ext cx="93600" cy="98640"/>
            <a:chOff x="1639800" y="4281120"/>
            <a:chExt cx="93600" cy="98640"/>
          </a:xfrm>
        </p:grpSpPr>
        <p:sp>
          <p:nvSpPr>
            <p:cNvPr id="1125" name=""/>
            <p:cNvSpPr/>
            <p:nvPr/>
          </p:nvSpPr>
          <p:spPr>
            <a:xfrm flipV="1">
              <a:off x="1685880" y="4281120"/>
              <a:ext cx="1800" cy="49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685880" y="4330800"/>
              <a:ext cx="1800" cy="48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1639800" y="4330800"/>
              <a:ext cx="4608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685880" y="4330800"/>
              <a:ext cx="4752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2048040" y="3854520"/>
            <a:ext cx="1411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2109960" y="3870000"/>
            <a:ext cx="1440" cy="4932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109960" y="3919680"/>
            <a:ext cx="1440" cy="489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2063880" y="3919680"/>
            <a:ext cx="4608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109960" y="3919680"/>
            <a:ext cx="4752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471760" y="3443400"/>
            <a:ext cx="1411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533680" y="3460320"/>
            <a:ext cx="144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533680" y="3510000"/>
            <a:ext cx="144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2487600" y="3510000"/>
            <a:ext cx="4608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533680" y="3510000"/>
            <a:ext cx="4752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895480" y="3263760"/>
            <a:ext cx="141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2959200" y="3279240"/>
            <a:ext cx="1440" cy="4932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959200" y="3328920"/>
            <a:ext cx="1440" cy="4932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2910960" y="3328920"/>
            <a:ext cx="47880" cy="180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959200" y="3328920"/>
            <a:ext cx="46080" cy="180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319560" y="3147840"/>
            <a:ext cx="1411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3382920" y="3165120"/>
            <a:ext cx="180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382920" y="3214800"/>
            <a:ext cx="1800" cy="489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3335400" y="3214800"/>
            <a:ext cx="4752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382920" y="3214800"/>
            <a:ext cx="4608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743280" y="3147840"/>
            <a:ext cx="14148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3807000" y="3165120"/>
            <a:ext cx="1440" cy="4932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807000" y="3214800"/>
            <a:ext cx="1440" cy="4896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3758760" y="3214800"/>
            <a:ext cx="4788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807000" y="3214800"/>
            <a:ext cx="4752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167360" y="3083040"/>
            <a:ext cx="1411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4230720" y="3098880"/>
            <a:ext cx="1440" cy="489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230720" y="3147840"/>
            <a:ext cx="144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4183200" y="3147840"/>
            <a:ext cx="47520" cy="18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230720" y="3147840"/>
            <a:ext cx="47520" cy="18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591080" y="3033720"/>
            <a:ext cx="142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4654440" y="3049200"/>
            <a:ext cx="180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654440" y="3098880"/>
            <a:ext cx="1800" cy="489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4606920" y="3098880"/>
            <a:ext cx="4752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654440" y="3098880"/>
            <a:ext cx="4788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016600" y="2917800"/>
            <a:ext cx="1411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5078520" y="2935440"/>
            <a:ext cx="1440" cy="489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078520" y="2984400"/>
            <a:ext cx="144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5030280" y="2984400"/>
            <a:ext cx="47880" cy="18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078520" y="2984400"/>
            <a:ext cx="47520" cy="18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440320" y="2967120"/>
            <a:ext cx="1414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502240" y="2984040"/>
            <a:ext cx="180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502240" y="3033720"/>
            <a:ext cx="180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5456160" y="3033720"/>
            <a:ext cx="4608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502240" y="3033720"/>
            <a:ext cx="4752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864400" y="2967120"/>
            <a:ext cx="14112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5925960" y="2984040"/>
            <a:ext cx="1800" cy="4932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925960" y="3033720"/>
            <a:ext cx="1800" cy="4932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5879880" y="3033720"/>
            <a:ext cx="4572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925960" y="3033720"/>
            <a:ext cx="47880" cy="1440"/>
          </a:xfrm>
          <a:prstGeom prst="line">
            <a:avLst/>
          </a:prstGeom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288120" y="2967120"/>
            <a:ext cx="14112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6351480" y="2984040"/>
            <a:ext cx="180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351480" y="3033720"/>
            <a:ext cx="180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6303960" y="3033720"/>
            <a:ext cx="4752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351480" y="3033720"/>
            <a:ext cx="4608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711840" y="2967120"/>
            <a:ext cx="1414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6775560" y="2984040"/>
            <a:ext cx="144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775560" y="3033720"/>
            <a:ext cx="144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6727320" y="3033720"/>
            <a:ext cx="4788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775560" y="3033720"/>
            <a:ext cx="4608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135920" y="2967120"/>
            <a:ext cx="14112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7199280" y="2984040"/>
            <a:ext cx="180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199280" y="3033720"/>
            <a:ext cx="180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151760" y="3033720"/>
            <a:ext cx="4752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7199280" y="3033720"/>
            <a:ext cx="4608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7559640" y="2917800"/>
            <a:ext cx="14148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7623000" y="2935440"/>
            <a:ext cx="1800" cy="489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7623000" y="2984400"/>
            <a:ext cx="180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7575480" y="2984400"/>
            <a:ext cx="47520" cy="18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7623000" y="2984400"/>
            <a:ext cx="47880" cy="18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7983360" y="2852640"/>
            <a:ext cx="141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8047080" y="2868120"/>
            <a:ext cx="144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8047080" y="2917800"/>
            <a:ext cx="1440" cy="493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7999560" y="2917800"/>
            <a:ext cx="4752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8047080" y="2917800"/>
            <a:ext cx="47520" cy="1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214280" y="4510080"/>
            <a:ext cx="95400" cy="9828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39800" y="451008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29" y="0"/>
                </a:moveTo>
                <a:lnTo>
                  <a:pt x="59" y="31"/>
                </a:lnTo>
                <a:lnTo>
                  <a:pt x="29" y="62"/>
                </a:lnTo>
                <a:lnTo>
                  <a:pt x="0" y="31"/>
                </a:lnTo>
                <a:lnTo>
                  <a:pt x="29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063880" y="451008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29" y="0"/>
                </a:moveTo>
                <a:lnTo>
                  <a:pt x="59" y="31"/>
                </a:lnTo>
                <a:lnTo>
                  <a:pt x="29" y="62"/>
                </a:lnTo>
                <a:lnTo>
                  <a:pt x="0" y="31"/>
                </a:lnTo>
                <a:lnTo>
                  <a:pt x="29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487600" y="451008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29" y="0"/>
                </a:moveTo>
                <a:lnTo>
                  <a:pt x="59" y="31"/>
                </a:lnTo>
                <a:lnTo>
                  <a:pt x="29" y="62"/>
                </a:lnTo>
                <a:lnTo>
                  <a:pt x="0" y="31"/>
                </a:lnTo>
                <a:lnTo>
                  <a:pt x="29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911320" y="4395960"/>
            <a:ext cx="9396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30" y="0"/>
                </a:moveTo>
                <a:lnTo>
                  <a:pt x="59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335400" y="421488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30" y="0"/>
                </a:moveTo>
                <a:lnTo>
                  <a:pt x="59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759120" y="4100400"/>
            <a:ext cx="95400" cy="9864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183200" y="3870360"/>
            <a:ext cx="95040" cy="9828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606920" y="3460680"/>
            <a:ext cx="95400" cy="9864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030640" y="3230640"/>
            <a:ext cx="95400" cy="9828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456160" y="309888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29" y="0"/>
                </a:moveTo>
                <a:lnTo>
                  <a:pt x="59" y="31"/>
                </a:lnTo>
                <a:lnTo>
                  <a:pt x="29" y="62"/>
                </a:lnTo>
                <a:lnTo>
                  <a:pt x="0" y="31"/>
                </a:lnTo>
                <a:lnTo>
                  <a:pt x="29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5880240" y="2984400"/>
            <a:ext cx="93600" cy="98640"/>
          </a:xfrm>
          <a:custGeom>
            <a:avLst/>
            <a:gdLst/>
            <a:ahLst/>
            <a:rect l="l" t="t" r="r" b="b"/>
            <a:pathLst>
              <a:path w="59" h="62">
                <a:moveTo>
                  <a:pt x="29" y="0"/>
                </a:moveTo>
                <a:lnTo>
                  <a:pt x="59" y="31"/>
                </a:lnTo>
                <a:lnTo>
                  <a:pt x="29" y="62"/>
                </a:lnTo>
                <a:lnTo>
                  <a:pt x="0" y="31"/>
                </a:lnTo>
                <a:lnTo>
                  <a:pt x="29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303960" y="2868480"/>
            <a:ext cx="93600" cy="98640"/>
          </a:xfrm>
          <a:custGeom>
            <a:avLst/>
            <a:gdLst/>
            <a:ahLst/>
            <a:rect l="l" t="t" r="r" b="b"/>
            <a:pathLst>
              <a:path w="59" h="62">
                <a:moveTo>
                  <a:pt x="30" y="0"/>
                </a:moveTo>
                <a:lnTo>
                  <a:pt x="59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727680" y="2754360"/>
            <a:ext cx="9396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30" y="0"/>
                </a:moveTo>
                <a:lnTo>
                  <a:pt x="59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7151760" y="275436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30" y="0"/>
                </a:moveTo>
                <a:lnTo>
                  <a:pt x="59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7575480" y="2689200"/>
            <a:ext cx="95400" cy="9828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7999560" y="2689200"/>
            <a:ext cx="95040" cy="98280"/>
          </a:xfrm>
          <a:custGeom>
            <a:avLst/>
            <a:gdLst/>
            <a:ahLst/>
            <a:rect l="l" t="t" r="r" b="b"/>
            <a:pathLst>
              <a:path w="60" h="62">
                <a:moveTo>
                  <a:pt x="30" y="0"/>
                </a:moveTo>
                <a:lnTo>
                  <a:pt x="60" y="31"/>
                </a:lnTo>
                <a:lnTo>
                  <a:pt x="30" y="62"/>
                </a:lnTo>
                <a:lnTo>
                  <a:pt x="0" y="31"/>
                </a:lnTo>
                <a:lnTo>
                  <a:pt x="30" y="0"/>
                </a:lnTo>
                <a:close/>
              </a:path>
            </a:pathLst>
          </a:custGeom>
          <a:solidFill>
            <a:srgbClr val="ccffff"/>
          </a:solidFill>
          <a:ln w="158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402920" y="3919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250360" y="2278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675880" y="1407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099600" y="1228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523320" y="1228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947400" y="1343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4371120" y="15238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795200" y="1819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218920" y="19828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642640" y="2098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66720" y="2212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492240" y="2278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915960" y="2394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339680" y="2394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763760" y="2344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402920" y="3919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26280" y="3279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250360" y="2917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675880" y="2459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099600" y="2459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523320" y="25732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3947400" y="268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218920" y="35751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642640" y="3624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066720" y="3738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492240" y="3805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402920" y="444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826640" y="4214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250360" y="3805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675880" y="3394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099600" y="3214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3523320" y="30988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947400" y="30988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795200" y="2984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218920" y="28684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642640" y="2917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066720" y="2917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915960" y="2917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339680" y="2917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7763760" y="28684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099960" y="4330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3523680" y="4149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3947400" y="4035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4371120" y="3805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218920" y="31654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66720" y="2917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915960" y="268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339680" y="26892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7763760" y="2622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8046360" y="2179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794600" y="30002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8110080" y="3984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763760" y="3935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340040" y="3968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916320" y="3968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795200" y="32464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355280" y="2852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8093880" y="2901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492240" y="29512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371120" y="3147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8078040" y="2606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795200" y="3460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492240" y="2738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642640" y="30988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387080" y="444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826640" y="4379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675880" y="4330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250360" y="4395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774720" y="4429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65280" y="383688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5280" y="326376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5280" y="267192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65280" y="208116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280" y="15066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65280" y="9158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rot="16200000">
            <a:off x="1022040" y="4811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rot="16200000">
            <a:off x="1445760" y="48103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rot="16200000">
            <a:off x="1872720" y="48103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rot="16200000">
            <a:off x="2296800" y="48103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rot="16200000">
            <a:off x="2720520" y="48103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rot="16200000">
            <a:off x="3146040" y="48085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rot="16200000">
            <a:off x="3569760" y="48085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 rot="16200000">
            <a:off x="3993840" y="48085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 rot="16200000">
            <a:off x="4417560" y="48085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rot="16200000">
            <a:off x="4841280" y="48085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rot="16200000">
            <a:off x="5265360" y="48085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rot="16200000">
            <a:off x="5687640" y="48085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rot="16200000">
            <a:off x="6113160" y="48085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rot="16200000">
            <a:off x="6536880" y="4811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rot="16200000">
            <a:off x="6962400" y="4811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rot="16200000">
            <a:off x="7386120" y="4811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rot="16200000">
            <a:off x="7810200" y="48103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76280" y="703440"/>
            <a:ext cx="7916760" cy="467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80800" y="173880"/>
            <a:ext cx="50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č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t bank podle vlastnictví v letech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2050920" y="3860280"/>
            <a:ext cx="93600" cy="98640"/>
            <a:chOff x="2050920" y="3860280"/>
            <a:chExt cx="93600" cy="98640"/>
          </a:xfrm>
        </p:grpSpPr>
        <p:sp>
          <p:nvSpPr>
            <p:cNvPr id="1316" name=""/>
            <p:cNvSpPr/>
            <p:nvPr/>
          </p:nvSpPr>
          <p:spPr>
            <a:xfrm flipV="1">
              <a:off x="2097000" y="3860280"/>
              <a:ext cx="1800" cy="49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097000" y="3909960"/>
              <a:ext cx="1800" cy="48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2050920" y="3909960"/>
              <a:ext cx="4608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097000" y="3909960"/>
              <a:ext cx="4752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2916360" y="3284280"/>
            <a:ext cx="93600" cy="98640"/>
            <a:chOff x="2916360" y="3284280"/>
            <a:chExt cx="93600" cy="98640"/>
          </a:xfrm>
        </p:grpSpPr>
        <p:sp>
          <p:nvSpPr>
            <p:cNvPr id="1321" name=""/>
            <p:cNvSpPr/>
            <p:nvPr/>
          </p:nvSpPr>
          <p:spPr>
            <a:xfrm flipV="1">
              <a:off x="2962440" y="3284280"/>
              <a:ext cx="1800" cy="49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962440" y="3333960"/>
              <a:ext cx="1800" cy="48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2916360" y="3333960"/>
              <a:ext cx="4608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962440" y="3333960"/>
              <a:ext cx="4752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3780000" y="3141360"/>
            <a:ext cx="93600" cy="98640"/>
            <a:chOff x="3780000" y="3141360"/>
            <a:chExt cx="93600" cy="98640"/>
          </a:xfrm>
        </p:grpSpPr>
        <p:sp>
          <p:nvSpPr>
            <p:cNvPr id="1326" name=""/>
            <p:cNvSpPr/>
            <p:nvPr/>
          </p:nvSpPr>
          <p:spPr>
            <a:xfrm flipV="1">
              <a:off x="3826080" y="3141360"/>
              <a:ext cx="1800" cy="49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826080" y="3191040"/>
              <a:ext cx="1800" cy="48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3780000" y="3191040"/>
              <a:ext cx="4608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826080" y="3191040"/>
              <a:ext cx="4752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0" name=""/>
          <p:cNvGraphicFramePr/>
          <p:nvPr/>
        </p:nvGraphicFramePr>
        <p:xfrm>
          <a:off x="684360" y="836640"/>
          <a:ext cx="6912000" cy="1520640"/>
        </p:xfrm>
        <a:graphic>
          <a:graphicData uri="http://schemas.openxmlformats.org/drawingml/2006/table">
            <a:tbl>
              <a:tblPr/>
              <a:tblGrid>
                <a:gridCol w="2036880"/>
                <a:gridCol w="1274760"/>
                <a:gridCol w="1152360"/>
                <a:gridCol w="1081080"/>
                <a:gridCol w="13669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ČSO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 431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 901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0 328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Česká Spořitel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9 423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0 195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1 334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2 439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8 630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9 262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9 299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9 148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GE-Money ban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921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 987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 242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 673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1" name=""/>
          <p:cNvSpPr/>
          <p:nvPr/>
        </p:nvSpPr>
        <p:spPr>
          <a:xfrm>
            <a:off x="6942960" y="25858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541440" y="2637000"/>
            <a:ext cx="6948360" cy="3785040"/>
            <a:chOff x="541440" y="2637000"/>
            <a:chExt cx="6948360" cy="3785040"/>
          </a:xfrm>
        </p:grpSpPr>
        <p:sp>
          <p:nvSpPr>
            <p:cNvPr id="1333" name=""/>
            <p:cNvSpPr/>
            <p:nvPr/>
          </p:nvSpPr>
          <p:spPr>
            <a:xfrm>
              <a:off x="1505160" y="2747520"/>
              <a:ext cx="5983200" cy="2839680"/>
            </a:xfrm>
            <a:prstGeom prst="rect">
              <a:avLst/>
            </a:prstGeom>
            <a:solidFill>
              <a:srgbClr val="48c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05160" y="5187600"/>
              <a:ext cx="598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505160" y="4775040"/>
              <a:ext cx="598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505160" y="4374720"/>
              <a:ext cx="598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505160" y="3960360"/>
              <a:ext cx="598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505160" y="3560400"/>
              <a:ext cx="598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505160" y="3147840"/>
              <a:ext cx="598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05160" y="2747520"/>
              <a:ext cx="598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505160" y="2747520"/>
              <a:ext cx="5983200" cy="283968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505160" y="2747520"/>
              <a:ext cx="1440" cy="283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449360" y="558756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449360" y="518760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449360" y="4775040"/>
              <a:ext cx="55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449360" y="437472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449360" y="396036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449360" y="356040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449360" y="3147840"/>
              <a:ext cx="55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449360" y="274752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05160" y="5587560"/>
              <a:ext cx="598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1505160" y="55875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3006720" y="55875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4496040" y="55875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5999400" y="55875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7488360" y="55875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751200" y="3492360"/>
              <a:ext cx="2992680" cy="785160"/>
            </a:xfrm>
            <a:custGeom>
              <a:avLst/>
              <a:gdLst/>
              <a:ahLst/>
              <a:rect l="l" t="t" r="r" b="b"/>
              <a:pathLst>
                <a:path w="217" h="57">
                  <a:moveTo>
                    <a:pt x="0" y="57"/>
                  </a:moveTo>
                  <a:lnTo>
                    <a:pt x="108" y="50"/>
                  </a:lnTo>
                  <a:lnTo>
                    <a:pt x="217" y="0"/>
                  </a:lnTo>
                </a:path>
              </a:pathLst>
            </a:custGeom>
            <a:noFill/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249640" y="3065040"/>
              <a:ext cx="4494240" cy="606240"/>
            </a:xfrm>
            <a:custGeom>
              <a:avLst/>
              <a:gdLst/>
              <a:ahLst/>
              <a:rect l="l" t="t" r="r" b="b"/>
              <a:pathLst>
                <a:path w="326" h="44">
                  <a:moveTo>
                    <a:pt x="0" y="44"/>
                  </a:moveTo>
                  <a:lnTo>
                    <a:pt x="109" y="33"/>
                  </a:lnTo>
                  <a:lnTo>
                    <a:pt x="217" y="16"/>
                  </a:lnTo>
                  <a:lnTo>
                    <a:pt x="326" y="0"/>
                  </a:lnTo>
                </a:path>
              </a:pathLst>
            </a:custGeom>
            <a:noFill/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249640" y="3698640"/>
              <a:ext cx="4494240" cy="137520"/>
            </a:xfrm>
            <a:custGeom>
              <a:avLst/>
              <a:gdLst/>
              <a:ahLst/>
              <a:rect l="l" t="t" r="r" b="b"/>
              <a:pathLst>
                <a:path w="326" h="10">
                  <a:moveTo>
                    <a:pt x="0" y="10"/>
                  </a:moveTo>
                  <a:lnTo>
                    <a:pt x="109" y="1"/>
                  </a:lnTo>
                  <a:lnTo>
                    <a:pt x="217" y="0"/>
                  </a:lnTo>
                  <a:lnTo>
                    <a:pt x="326" y="2"/>
                  </a:lnTo>
                </a:path>
              </a:pathLst>
            </a:custGeom>
            <a:noFill/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249640" y="5049720"/>
              <a:ext cx="4494240" cy="345600"/>
            </a:xfrm>
            <a:custGeom>
              <a:avLst/>
              <a:gdLst/>
              <a:ahLst/>
              <a:rect l="l" t="t" r="r" b="b"/>
              <a:pathLst>
                <a:path w="326" h="25">
                  <a:moveTo>
                    <a:pt x="0" y="25"/>
                  </a:moveTo>
                  <a:lnTo>
                    <a:pt x="109" y="10"/>
                  </a:lnTo>
                  <a:lnTo>
                    <a:pt x="217" y="6"/>
                  </a:lnTo>
                  <a:lnTo>
                    <a:pt x="326" y="0"/>
                  </a:lnTo>
                </a:path>
              </a:pathLst>
            </a:custGeom>
            <a:noFill/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10160" y="4236840"/>
              <a:ext cx="82440" cy="820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199120" y="4140000"/>
              <a:ext cx="82440" cy="820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02480" y="3450960"/>
              <a:ext cx="82440" cy="820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208240" y="3630240"/>
              <a:ext cx="68400" cy="6804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10160" y="3477960"/>
              <a:ext cx="69840" cy="694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199120" y="3244680"/>
              <a:ext cx="69840" cy="676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702480" y="3024000"/>
              <a:ext cx="68400" cy="676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208240" y="3795480"/>
              <a:ext cx="82800" cy="820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710160" y="3671640"/>
              <a:ext cx="82440" cy="820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199120" y="365724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702480" y="3686040"/>
              <a:ext cx="82440" cy="820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194200" y="5340240"/>
              <a:ext cx="12384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2207880" y="5354280"/>
              <a:ext cx="41400" cy="4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249640" y="5395680"/>
              <a:ext cx="41400" cy="406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2207880" y="5395680"/>
              <a:ext cx="41400" cy="406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2249640" y="5354280"/>
              <a:ext cx="41400" cy="4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697560" y="5133600"/>
              <a:ext cx="12384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 flipV="1">
              <a:off x="3710160" y="5146200"/>
              <a:ext cx="41040" cy="406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751200" y="5187600"/>
              <a:ext cx="41400" cy="4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3710160" y="5187600"/>
              <a:ext cx="41040" cy="4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3751200" y="5146200"/>
              <a:ext cx="41400" cy="406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186520" y="5078160"/>
              <a:ext cx="12384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 flipV="1">
              <a:off x="5198760" y="5092200"/>
              <a:ext cx="41400" cy="406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240520" y="5133600"/>
              <a:ext cx="41040" cy="4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5198760" y="5133600"/>
              <a:ext cx="41400" cy="4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5240520" y="5092200"/>
              <a:ext cx="41040" cy="406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88080" y="4995720"/>
              <a:ext cx="12384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 flipV="1">
              <a:off x="6702120" y="5008320"/>
              <a:ext cx="41400" cy="4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743880" y="5049720"/>
              <a:ext cx="41040" cy="424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6702120" y="5049720"/>
              <a:ext cx="41400" cy="424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6743880" y="5008320"/>
              <a:ext cx="41040" cy="4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312240" y="3244680"/>
              <a:ext cx="1053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80"/>
                  </a:solidFill>
                  <a:latin typeface="Arial"/>
                </a:rPr>
                <a:t>10 328mil. kč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312240" y="2788920"/>
              <a:ext cx="1053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ff00ff"/>
                  </a:solidFill>
                  <a:latin typeface="Arial"/>
                </a:rPr>
                <a:t>12 439mil. kč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353640" y="3740040"/>
              <a:ext cx="95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ff0000"/>
                  </a:solidFill>
                  <a:latin typeface="Arial"/>
                </a:rPr>
                <a:t>9 148mil. kč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395040" y="4816080"/>
              <a:ext cx="95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ffff00"/>
                  </a:solidFill>
                  <a:latin typeface="Arial"/>
                </a:rPr>
                <a:t>2 673mil. kč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269720" y="5478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979560" y="50781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979560" y="4663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979560" y="42638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979560" y="38509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82720" y="345096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882720" y="303660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882720" y="263700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4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054520" y="57402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557880" y="57402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046840" y="57402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548400" y="57402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 rot="16200000">
              <a:off x="146160" y="4048560"/>
              <a:ext cx="97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Zisk v mil. kč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822680" y="6332400"/>
              <a:ext cx="371520" cy="1080"/>
            </a:xfrm>
            <a:prstGeom prst="line">
              <a:avLst/>
            </a:prstGeom>
            <a:ln w="14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959120" y="6291000"/>
              <a:ext cx="84240" cy="8208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26"/>
                  </a:lnTo>
                  <a:lnTo>
                    <a:pt x="27" y="52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235240" y="6208560"/>
              <a:ext cx="50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ČSO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828880" y="6332400"/>
              <a:ext cx="371520" cy="1080"/>
            </a:xfrm>
            <a:prstGeom prst="line">
              <a:avLst/>
            </a:prstGeom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965680" y="6291000"/>
              <a:ext cx="69840" cy="69480"/>
            </a:xfrm>
            <a:prstGeom prst="rect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237480" y="6208560"/>
              <a:ext cx="13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Česká Spořiteln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689720" y="6332400"/>
              <a:ext cx="371520" cy="108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827600" y="6291000"/>
              <a:ext cx="82800" cy="820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102280" y="620856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434200" y="6332400"/>
              <a:ext cx="371520" cy="10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558040" y="6278400"/>
              <a:ext cx="12384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 flipV="1">
              <a:off x="5571720" y="6291000"/>
              <a:ext cx="41400" cy="4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613480" y="6332400"/>
              <a:ext cx="41400" cy="406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5571720" y="6332400"/>
              <a:ext cx="41400" cy="4068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5613480" y="6291000"/>
              <a:ext cx="41400" cy="410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42440" y="6208560"/>
              <a:ext cx="1289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-Money ba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2101320" y="-720"/>
            <a:ext cx="4350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ývoj celkových zisků bank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největší banky na trhu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 v roce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1294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díl celkových zisků 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4 největší banky na trhu, v roce 2005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076720" y="2133720"/>
            <a:ext cx="1474920" cy="23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770200" y="1700280"/>
            <a:ext cx="4176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376880" y="2743200"/>
            <a:ext cx="1112760" cy="1352520"/>
          </a:xfrm>
          <a:custGeom>
            <a:avLst/>
            <a:gdLst/>
            <a:ahLst/>
            <a:rect l="l" t="t" r="r" b="b"/>
            <a:pathLst>
              <a:path w="73" h="94">
                <a:moveTo>
                  <a:pt x="69" y="94"/>
                </a:moveTo>
                <a:cubicBezTo>
                  <a:pt x="71" y="87"/>
                  <a:pt x="73" y="80"/>
                  <a:pt x="73" y="73"/>
                </a:cubicBezTo>
                <a:cubicBezTo>
                  <a:pt x="73" y="33"/>
                  <a:pt x="40" y="1"/>
                  <a:pt x="0" y="1"/>
                </a:cubicBezTo>
                <a:cubicBezTo>
                  <a:pt x="0" y="0"/>
                  <a:pt x="0" y="1"/>
                  <a:pt x="0" y="1"/>
                </a:cubicBezTo>
                <a:lnTo>
                  <a:pt x="0" y="73"/>
                </a:lnTo>
                <a:lnTo>
                  <a:pt x="69" y="94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3448080" y="3794040"/>
            <a:ext cx="1981080" cy="1036800"/>
          </a:xfrm>
          <a:custGeom>
            <a:avLst/>
            <a:gdLst/>
            <a:ahLst/>
            <a:rect l="l" t="t" r="r" b="b"/>
            <a:pathLst>
              <a:path w="130" h="72">
                <a:moveTo>
                  <a:pt x="0" y="39"/>
                </a:moveTo>
                <a:cubicBezTo>
                  <a:pt x="13" y="60"/>
                  <a:pt x="36" y="72"/>
                  <a:pt x="61" y="72"/>
                </a:cubicBezTo>
                <a:cubicBezTo>
                  <a:pt x="93" y="72"/>
                  <a:pt x="121" y="51"/>
                  <a:pt x="130" y="21"/>
                </a:cubicBezTo>
                <a:lnTo>
                  <a:pt x="61" y="0"/>
                </a:lnTo>
                <a:lnTo>
                  <a:pt x="0" y="39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263760" y="2871720"/>
            <a:ext cx="1113120" cy="1484280"/>
          </a:xfrm>
          <a:custGeom>
            <a:avLst/>
            <a:gdLst/>
            <a:ahLst/>
            <a:rect l="l" t="t" r="r" b="b"/>
            <a:pathLst>
              <a:path w="73" h="103">
                <a:moveTo>
                  <a:pt x="39" y="0"/>
                </a:moveTo>
                <a:cubicBezTo>
                  <a:pt x="15" y="13"/>
                  <a:pt x="1" y="37"/>
                  <a:pt x="1" y="64"/>
                </a:cubicBezTo>
                <a:cubicBezTo>
                  <a:pt x="0" y="78"/>
                  <a:pt x="4" y="91"/>
                  <a:pt x="12" y="103"/>
                </a:cubicBezTo>
                <a:lnTo>
                  <a:pt x="73" y="64"/>
                </a:lnTo>
                <a:lnTo>
                  <a:pt x="39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857760" y="2759040"/>
            <a:ext cx="519120" cy="1035000"/>
          </a:xfrm>
          <a:custGeom>
            <a:avLst/>
            <a:gdLst/>
            <a:ahLst/>
            <a:rect l="l" t="t" r="r" b="b"/>
            <a:pathLst>
              <a:path w="34" h="72">
                <a:moveTo>
                  <a:pt x="34" y="0"/>
                </a:moveTo>
                <a:cubicBezTo>
                  <a:pt x="22" y="0"/>
                  <a:pt x="10" y="3"/>
                  <a:pt x="0" y="8"/>
                </a:cubicBezTo>
                <a:lnTo>
                  <a:pt x="34" y="72"/>
                </a:lnTo>
                <a:lnTo>
                  <a:pt x="34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5275440" y="2800440"/>
            <a:ext cx="838080" cy="374400"/>
          </a:xfrm>
          <a:custGeom>
            <a:avLst/>
            <a:gdLst/>
            <a:ahLst/>
            <a:rect l="l" t="t" r="r" b="b"/>
            <a:pathLst>
              <a:path w="55" h="26">
                <a:moveTo>
                  <a:pt x="55" y="0"/>
                </a:moveTo>
                <a:lnTo>
                  <a:pt x="55" y="4"/>
                </a:lnTo>
                <a:lnTo>
                  <a:pt x="0" y="26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4545000" y="4844880"/>
            <a:ext cx="244440" cy="38916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27"/>
                </a:moveTo>
                <a:lnTo>
                  <a:pt x="16" y="2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2684520" y="3247920"/>
            <a:ext cx="625320" cy="301680"/>
          </a:xfrm>
          <a:custGeom>
            <a:avLst/>
            <a:gdLst/>
            <a:ahLst/>
            <a:rect l="l" t="t" r="r" b="b"/>
            <a:pathLst>
              <a:path w="41" h="21">
                <a:moveTo>
                  <a:pt x="0" y="0"/>
                </a:moveTo>
                <a:lnTo>
                  <a:pt x="4" y="0"/>
                </a:lnTo>
                <a:lnTo>
                  <a:pt x="41" y="21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3708360" y="2421000"/>
            <a:ext cx="409680" cy="365040"/>
          </a:xfrm>
          <a:custGeom>
            <a:avLst/>
            <a:gdLst/>
            <a:ahLst/>
            <a:rect l="l" t="t" r="r" b="b"/>
            <a:pathLst>
              <a:path w="31" h="30">
                <a:moveTo>
                  <a:pt x="0" y="0"/>
                </a:moveTo>
                <a:lnTo>
                  <a:pt x="0" y="4"/>
                </a:lnTo>
                <a:lnTo>
                  <a:pt x="31" y="3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086000" y="5291280"/>
            <a:ext cx="133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ČS: 12 439mi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4575240" y="55641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5275080" y="2239920"/>
            <a:ext cx="156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ČSOB:10 328mi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902200" y="25131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843640" y="1773360"/>
            <a:ext cx="1489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-Money Ba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673mil, 8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402560" y="2987640"/>
            <a:ext cx="115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B: 9 148m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786320" y="326232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"/>
          <p:cNvSpPr/>
          <p:nvPr/>
        </p:nvSpPr>
        <p:spPr>
          <a:xfrm>
            <a:off x="17928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ývoj objemu poskytnutých úvěrů 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 největší banky na trhu, v roce 2005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5" name=""/>
          <p:cNvGraphicFramePr/>
          <p:nvPr/>
        </p:nvGraphicFramePr>
        <p:xfrm>
          <a:off x="468360" y="1052640"/>
          <a:ext cx="7127640" cy="1515960"/>
        </p:xfrm>
        <a:graphic>
          <a:graphicData uri="http://schemas.openxmlformats.org/drawingml/2006/table">
            <a:tbl>
              <a:tblPr/>
              <a:tblGrid>
                <a:gridCol w="2003400"/>
                <a:gridCol w="1411560"/>
                <a:gridCol w="1337400"/>
                <a:gridCol w="1252440"/>
                <a:gridCol w="11228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SO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 059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0 414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5 707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eská Spořitel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8 578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4 903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9 289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3 420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1 154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 900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5 379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5 225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-Money ban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 688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115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 238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 896 mi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46" name=""/>
          <p:cNvGrpSpPr/>
          <p:nvPr/>
        </p:nvGrpSpPr>
        <p:grpSpPr>
          <a:xfrm>
            <a:off x="828000" y="2781360"/>
            <a:ext cx="6694920" cy="3741480"/>
            <a:chOff x="828000" y="2781360"/>
            <a:chExt cx="6694920" cy="3741480"/>
          </a:xfrm>
        </p:grpSpPr>
        <p:sp>
          <p:nvSpPr>
            <p:cNvPr id="1447" name=""/>
            <p:cNvSpPr/>
            <p:nvPr/>
          </p:nvSpPr>
          <p:spPr>
            <a:xfrm>
              <a:off x="1603080" y="2892960"/>
              <a:ext cx="5918400" cy="2805840"/>
            </a:xfrm>
            <a:prstGeom prst="rect">
              <a:avLst/>
            </a:prstGeom>
            <a:solidFill>
              <a:srgbClr val="48c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603080" y="5226120"/>
              <a:ext cx="591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03080" y="4767480"/>
              <a:ext cx="591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603080" y="4296240"/>
              <a:ext cx="591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03080" y="3822840"/>
              <a:ext cx="591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03080" y="3364200"/>
              <a:ext cx="591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03080" y="2892960"/>
              <a:ext cx="591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03080" y="2892960"/>
              <a:ext cx="5918400" cy="2805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03080" y="2892960"/>
              <a:ext cx="1800" cy="280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548360" y="5699160"/>
              <a:ext cx="54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548360" y="5226120"/>
              <a:ext cx="54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48360" y="4767480"/>
              <a:ext cx="54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548360" y="4296240"/>
              <a:ext cx="54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548360" y="3822840"/>
              <a:ext cx="54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548360" y="3364200"/>
              <a:ext cx="54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548360" y="2892960"/>
              <a:ext cx="54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603080" y="5699160"/>
              <a:ext cx="591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1603080" y="5699160"/>
              <a:ext cx="180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3086640" y="5699160"/>
              <a:ext cx="144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4570200" y="5699160"/>
              <a:ext cx="144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6039360" y="5699160"/>
              <a:ext cx="180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7521480" y="5699160"/>
              <a:ext cx="1440" cy="5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820320" y="3406680"/>
              <a:ext cx="2967120" cy="416160"/>
            </a:xfrm>
            <a:custGeom>
              <a:avLst/>
              <a:gdLst/>
              <a:ahLst/>
              <a:rect l="l" t="t" r="r" b="b"/>
              <a:pathLst>
                <a:path w="214" h="30">
                  <a:moveTo>
                    <a:pt x="0" y="30"/>
                  </a:moveTo>
                  <a:lnTo>
                    <a:pt x="107" y="17"/>
                  </a:lnTo>
                  <a:lnTo>
                    <a:pt x="214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338920" y="3045240"/>
              <a:ext cx="4448520" cy="889200"/>
            </a:xfrm>
            <a:custGeom>
              <a:avLst/>
              <a:gdLst/>
              <a:ahLst/>
              <a:rect l="l" t="t" r="r" b="b"/>
              <a:pathLst>
                <a:path w="321" h="64">
                  <a:moveTo>
                    <a:pt x="0" y="64"/>
                  </a:moveTo>
                  <a:lnTo>
                    <a:pt x="107" y="46"/>
                  </a:lnTo>
                  <a:lnTo>
                    <a:pt x="214" y="30"/>
                  </a:lnTo>
                  <a:lnTo>
                    <a:pt x="321" y="0"/>
                  </a:lnTo>
                </a:path>
              </a:pathLst>
            </a:custGeom>
            <a:noFill/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338920" y="3963240"/>
              <a:ext cx="4448520" cy="596880"/>
            </a:xfrm>
            <a:custGeom>
              <a:avLst/>
              <a:gdLst/>
              <a:ahLst/>
              <a:rect l="l" t="t" r="r" b="b"/>
              <a:pathLst>
                <a:path w="321" h="43">
                  <a:moveTo>
                    <a:pt x="0" y="43"/>
                  </a:moveTo>
                  <a:lnTo>
                    <a:pt x="107" y="37"/>
                  </a:lnTo>
                  <a:lnTo>
                    <a:pt x="214" y="20"/>
                  </a:lnTo>
                  <a:lnTo>
                    <a:pt x="321" y="0"/>
                  </a:ln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338920" y="5254200"/>
              <a:ext cx="4448520" cy="263880"/>
            </a:xfrm>
            <a:custGeom>
              <a:avLst/>
              <a:gdLst/>
              <a:ahLst/>
              <a:rect l="l" t="t" r="r" b="b"/>
              <a:pathLst>
                <a:path w="321" h="19">
                  <a:moveTo>
                    <a:pt x="0" y="19"/>
                  </a:moveTo>
                  <a:lnTo>
                    <a:pt x="107" y="13"/>
                  </a:lnTo>
                  <a:lnTo>
                    <a:pt x="214" y="7"/>
                  </a:lnTo>
                  <a:lnTo>
                    <a:pt x="321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780000" y="3782160"/>
              <a:ext cx="82800" cy="83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3" y="0"/>
                  </a:moveTo>
                  <a:lnTo>
                    <a:pt x="47" y="23"/>
                  </a:lnTo>
                  <a:lnTo>
                    <a:pt x="23" y="47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263200" y="3601440"/>
              <a:ext cx="83160" cy="83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3" y="0"/>
                  </a:moveTo>
                  <a:lnTo>
                    <a:pt x="47" y="23"/>
                  </a:lnTo>
                  <a:lnTo>
                    <a:pt x="23" y="47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745320" y="3364200"/>
              <a:ext cx="82800" cy="8496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24" y="0"/>
                  </a:moveTo>
                  <a:lnTo>
                    <a:pt x="47" y="24"/>
                  </a:lnTo>
                  <a:lnTo>
                    <a:pt x="24" y="48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296440" y="3891960"/>
              <a:ext cx="68760" cy="70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780000" y="3642120"/>
              <a:ext cx="68760" cy="687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263200" y="3420720"/>
              <a:ext cx="68760" cy="687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745320" y="3004560"/>
              <a:ext cx="70560" cy="687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296440" y="4517640"/>
              <a:ext cx="82800" cy="83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4" y="0"/>
                  </a:moveTo>
                  <a:lnTo>
                    <a:pt x="47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780000" y="4434480"/>
              <a:ext cx="82800" cy="83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3" y="0"/>
                  </a:moveTo>
                  <a:lnTo>
                    <a:pt x="47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263200" y="4198680"/>
              <a:ext cx="83160" cy="83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3" y="0"/>
                  </a:moveTo>
                  <a:lnTo>
                    <a:pt x="47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745320" y="3920400"/>
              <a:ext cx="82800" cy="83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4" y="0"/>
                  </a:moveTo>
                  <a:lnTo>
                    <a:pt x="47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282400" y="5461560"/>
              <a:ext cx="12528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 flipV="1">
              <a:off x="2296440" y="5475600"/>
              <a:ext cx="42480" cy="42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338920" y="5518080"/>
              <a:ext cx="40320" cy="40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2296440" y="5518080"/>
              <a:ext cx="42480" cy="40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V="1">
              <a:off x="2338920" y="5475600"/>
              <a:ext cx="40320" cy="42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765600" y="5378400"/>
              <a:ext cx="12528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 flipV="1">
              <a:off x="3780000" y="5392440"/>
              <a:ext cx="40320" cy="4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820320" y="5434920"/>
              <a:ext cx="42480" cy="40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3780000" y="5434920"/>
              <a:ext cx="40320" cy="40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3820320" y="5392440"/>
              <a:ext cx="42480" cy="4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249160" y="5295240"/>
              <a:ext cx="12384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 flipV="1">
              <a:off x="5262840" y="5309280"/>
              <a:ext cx="40680" cy="4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303880" y="5351760"/>
              <a:ext cx="42480" cy="40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5262840" y="5351760"/>
              <a:ext cx="40680" cy="40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5303880" y="5309280"/>
              <a:ext cx="42480" cy="4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732720" y="5197680"/>
              <a:ext cx="12384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 flipV="1">
              <a:off x="6745320" y="5211720"/>
              <a:ext cx="42480" cy="4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787800" y="5254200"/>
              <a:ext cx="40320" cy="40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6745320" y="5254200"/>
              <a:ext cx="42480" cy="40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6787800" y="5211720"/>
              <a:ext cx="40320" cy="4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15240" y="32950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45 707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14880" y="2934000"/>
              <a:ext cx="54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8342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914880" y="3851280"/>
              <a:ext cx="54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8522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914880" y="514260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7896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368000" y="55872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924840" y="511452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50 00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28000" y="465732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100 00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28000" y="4184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150 00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28000" y="3711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200 00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28000" y="325440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250 00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28000" y="27813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300 00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44880" y="58514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628440" y="58514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110560" y="58514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200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593400" y="58514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200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881000" y="6448320"/>
              <a:ext cx="37440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018880" y="6407640"/>
              <a:ext cx="82800" cy="83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4" y="0"/>
                  </a:moveTo>
                  <a:lnTo>
                    <a:pt x="47" y="23"/>
                  </a:lnTo>
                  <a:lnTo>
                    <a:pt x="24" y="47"/>
                  </a:lnTo>
                  <a:lnTo>
                    <a:pt x="0" y="2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296440" y="632448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ČSOB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892240" y="6448320"/>
              <a:ext cx="374760" cy="18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031560" y="6407640"/>
              <a:ext cx="68760" cy="687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310200" y="6324480"/>
              <a:ext cx="1253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Česká Spořiteln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762800" y="6448320"/>
              <a:ext cx="374760" cy="1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902840" y="6407640"/>
              <a:ext cx="82800" cy="83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3" y="0"/>
                  </a:moveTo>
                  <a:lnTo>
                    <a:pt x="47" y="47"/>
                  </a:lnTo>
                  <a:lnTo>
                    <a:pt x="0" y="4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179680" y="63244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KB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512680" y="6448320"/>
              <a:ext cx="3729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636520" y="6393600"/>
              <a:ext cx="12528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 flipV="1">
              <a:off x="5650560" y="6407640"/>
              <a:ext cx="42480" cy="40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693040" y="6448320"/>
              <a:ext cx="40320" cy="4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5650560" y="6448320"/>
              <a:ext cx="42480" cy="42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5693040" y="6407640"/>
              <a:ext cx="40320" cy="40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931000" y="6324480"/>
              <a:ext cx="1189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GE-Money ban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5" name=""/>
          <p:cNvSpPr/>
          <p:nvPr/>
        </p:nvSpPr>
        <p:spPr>
          <a:xfrm rot="16200000">
            <a:off x="-2736720" y="3681000"/>
            <a:ext cx="662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Objem úvěrů v mi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/>
          <p:nvPr/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bjem celkově poskytnutých úvěrů :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v roce 2005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826920" y="1530360"/>
            <a:ext cx="7013880" cy="4075200"/>
            <a:chOff x="826920" y="1530360"/>
            <a:chExt cx="7013880" cy="4075200"/>
          </a:xfrm>
        </p:grpSpPr>
        <p:sp>
          <p:nvSpPr>
            <p:cNvPr id="1538" name=""/>
            <p:cNvSpPr/>
            <p:nvPr/>
          </p:nvSpPr>
          <p:spPr>
            <a:xfrm>
              <a:off x="4437000" y="2835360"/>
              <a:ext cx="347760" cy="106668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24" y="4"/>
                  </a:moveTo>
                  <a:cubicBezTo>
                    <a:pt x="16" y="1"/>
                    <a:pt x="8" y="0"/>
                    <a:pt x="0" y="0"/>
                  </a:cubicBezTo>
                  <a:lnTo>
                    <a:pt x="0" y="76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437000" y="2890800"/>
              <a:ext cx="1098720" cy="101124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75" y="72"/>
                  </a:moveTo>
                  <a:cubicBezTo>
                    <a:pt x="75" y="72"/>
                    <a:pt x="76" y="72"/>
                    <a:pt x="76" y="72"/>
                  </a:cubicBezTo>
                  <a:cubicBezTo>
                    <a:pt x="76" y="39"/>
                    <a:pt x="55" y="10"/>
                    <a:pt x="24" y="0"/>
                  </a:cubicBezTo>
                  <a:lnTo>
                    <a:pt x="0" y="72"/>
                  </a:lnTo>
                  <a:lnTo>
                    <a:pt x="75" y="72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019400" y="3902040"/>
              <a:ext cx="1500480" cy="1052640"/>
            </a:xfrm>
            <a:custGeom>
              <a:avLst/>
              <a:gdLst/>
              <a:ahLst/>
              <a:rect l="l" t="t" r="r" b="b"/>
              <a:pathLst>
                <a:path w="104" h="75">
                  <a:moveTo>
                    <a:pt x="0" y="70"/>
                  </a:moveTo>
                  <a:cubicBezTo>
                    <a:pt x="9" y="74"/>
                    <a:pt x="19" y="75"/>
                    <a:pt x="29" y="75"/>
                  </a:cubicBezTo>
                  <a:cubicBezTo>
                    <a:pt x="70" y="75"/>
                    <a:pt x="104" y="42"/>
                    <a:pt x="104" y="0"/>
                  </a:cubicBezTo>
                  <a:lnTo>
                    <a:pt x="29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325680" y="3395520"/>
              <a:ext cx="1111320" cy="1489320"/>
            </a:xfrm>
            <a:custGeom>
              <a:avLst/>
              <a:gdLst/>
              <a:ahLst/>
              <a:rect l="l" t="t" r="r" b="b"/>
              <a:pathLst>
                <a:path w="77" h="106">
                  <a:moveTo>
                    <a:pt x="10" y="0"/>
                  </a:moveTo>
                  <a:cubicBezTo>
                    <a:pt x="4" y="11"/>
                    <a:pt x="1" y="23"/>
                    <a:pt x="1" y="35"/>
                  </a:cubicBezTo>
                  <a:cubicBezTo>
                    <a:pt x="0" y="67"/>
                    <a:pt x="19" y="95"/>
                    <a:pt x="48" y="106"/>
                  </a:cubicBezTo>
                  <a:lnTo>
                    <a:pt x="77" y="3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471840" y="2835360"/>
              <a:ext cx="965160" cy="106668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66" y="0"/>
                  </a:moveTo>
                  <a:cubicBezTo>
                    <a:pt x="39" y="0"/>
                    <a:pt x="13" y="15"/>
                    <a:pt x="0" y="40"/>
                  </a:cubicBezTo>
                  <a:lnTo>
                    <a:pt x="67" y="7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611600" y="2371680"/>
              <a:ext cx="185760" cy="47628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3" y="0"/>
                  </a:moveTo>
                  <a:lnTo>
                    <a:pt x="13" y="5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332320" y="3017880"/>
              <a:ext cx="938160" cy="266760"/>
            </a:xfrm>
            <a:custGeom>
              <a:avLst/>
              <a:gdLst/>
              <a:ahLst/>
              <a:rect l="l" t="t" r="r" b="b"/>
              <a:pathLst>
                <a:path w="65" h="19">
                  <a:moveTo>
                    <a:pt x="65" y="0"/>
                  </a:moveTo>
                  <a:lnTo>
                    <a:pt x="60" y="0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043600" y="4788000"/>
              <a:ext cx="492120" cy="57600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34" y="41"/>
                  </a:moveTo>
                  <a:lnTo>
                    <a:pt x="29" y="4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863800" y="4267080"/>
              <a:ext cx="549360" cy="5335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lnTo>
                    <a:pt x="5" y="38"/>
                  </a:lnTo>
                  <a:lnTo>
                    <a:pt x="3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138480" y="2341440"/>
              <a:ext cx="736560" cy="64620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0" y="0"/>
                  </a:moveTo>
                  <a:lnTo>
                    <a:pt x="5" y="0"/>
                  </a:lnTo>
                  <a:lnTo>
                    <a:pt x="51" y="4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646960" y="5097600"/>
              <a:ext cx="146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ČS; 283 420 mil.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77840" y="5376960"/>
              <a:ext cx="43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31%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383160" y="2751120"/>
              <a:ext cx="1457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KB; 185 225 mil.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309360" y="3030480"/>
              <a:ext cx="86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20%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340880" y="1530360"/>
              <a:ext cx="107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GE - Money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348080" y="1795320"/>
              <a:ext cx="153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Bank; 47 898 mil.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376520" y="2075040"/>
              <a:ext cx="649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5%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831680" y="1700280"/>
              <a:ext cx="72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Ostatní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767600" y="1947960"/>
              <a:ext cx="104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157 474 mil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980000" y="220500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17%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26920" y="4535640"/>
              <a:ext cx="200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ČSOB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245 707 mil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329120" y="4797360"/>
              <a:ext cx="75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27%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1169280" y="764280"/>
            <a:ext cx="53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Základní charakteristiky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040760" y="1627560"/>
            <a:ext cx="72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 roce 2004 celkový počet poskytnutých úvěrů dosáhl výš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19 724 mil. K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040400" y="2564280"/>
            <a:ext cx="582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úvěry poskytnuté domácnostem dosáhly výš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10 917 mil. Kč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012320" y="3499560"/>
            <a:ext cx="66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 největší bankovní instituce pokryly v roce 2005 8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úvěrového trhu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170720" y="4436280"/>
            <a:ext cx="69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ři čemž jejich zisky dosáhly celkem výše 34 488 mil. Kč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Zadluženost obyvatel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České Republik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oncem roku 1995 vykazovaly banky celkové úvěry a pohledávky za klienty z řad obyvatelstva ve výši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5,5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ld. koru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oncem roku 2004 se zadluženost českých domácností zvýšila n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82,9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mld. koru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 polovině roku 2005 pak činily dluhy českých domácností v úhrnu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21,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mld. koru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měna za léta 1995 až 2005 představuje nárůst dluhu českých domácností o více než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800 %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9541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ůvody růstu dluh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tevřené horizonty spotře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měněný náhled na zadluženo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ůst životní úrovně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nadná dostupnost peněz od bank, společností splátkového prodej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či leasingových společnost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lný marketing těchto finančních zprostředkovatel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lad po vlastním bydlení patrný zejména v posledních letech zkoumané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dobí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Zadluženost obyvat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v mld. koru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826920" y="1557360"/>
            <a:ext cx="7879680" cy="4583880"/>
            <a:chOff x="826920" y="1557360"/>
            <a:chExt cx="7879680" cy="4583880"/>
          </a:xfrm>
        </p:grpSpPr>
        <p:sp>
          <p:nvSpPr>
            <p:cNvPr id="1565" name=""/>
            <p:cNvSpPr/>
            <p:nvPr/>
          </p:nvSpPr>
          <p:spPr>
            <a:xfrm>
              <a:off x="1341360" y="1676520"/>
              <a:ext cx="6956280" cy="2647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341360" y="4324320"/>
              <a:ext cx="69562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1882800" y="4324320"/>
              <a:ext cx="144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2411280" y="4324320"/>
              <a:ext cx="144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2952720" y="4324320"/>
              <a:ext cx="144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V="1">
              <a:off x="3479760" y="4324320"/>
              <a:ext cx="144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>
              <a:off x="4020840" y="4324320"/>
              <a:ext cx="180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4549680" y="4324320"/>
              <a:ext cx="144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V="1">
              <a:off x="5091120" y="4324320"/>
              <a:ext cx="144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5618160" y="4324320"/>
              <a:ext cx="144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>
              <a:off x="6159240" y="4324320"/>
              <a:ext cx="180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6688080" y="4324320"/>
              <a:ext cx="144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V="1">
              <a:off x="7227720" y="4324320"/>
              <a:ext cx="180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V="1">
              <a:off x="7756560" y="4324320"/>
              <a:ext cx="144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V="1">
              <a:off x="8297640" y="4324320"/>
              <a:ext cx="1800" cy="66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373040" y="1992600"/>
              <a:ext cx="6912000" cy="2234880"/>
            </a:xfrm>
            <a:custGeom>
              <a:avLst/>
              <a:gdLst/>
              <a:ahLst/>
              <a:rect l="l" t="t" r="r" b="b"/>
              <a:pathLst>
                <a:path w="498" h="114">
                  <a:moveTo>
                    <a:pt x="0" y="112"/>
                  </a:moveTo>
                  <a:lnTo>
                    <a:pt x="41" y="112"/>
                  </a:lnTo>
                  <a:lnTo>
                    <a:pt x="83" y="112"/>
                  </a:lnTo>
                  <a:lnTo>
                    <a:pt x="124" y="114"/>
                  </a:lnTo>
                  <a:lnTo>
                    <a:pt x="166" y="111"/>
                  </a:lnTo>
                  <a:lnTo>
                    <a:pt x="207" y="110"/>
                  </a:lnTo>
                  <a:lnTo>
                    <a:pt x="249" y="100"/>
                  </a:lnTo>
                  <a:lnTo>
                    <a:pt x="291" y="98"/>
                  </a:lnTo>
                  <a:lnTo>
                    <a:pt x="332" y="92"/>
                  </a:lnTo>
                  <a:lnTo>
                    <a:pt x="374" y="79"/>
                  </a:lnTo>
                  <a:lnTo>
                    <a:pt x="415" y="64"/>
                  </a:lnTo>
                  <a:lnTo>
                    <a:pt x="457" y="51"/>
                  </a:lnTo>
                  <a:lnTo>
                    <a:pt x="498" y="0"/>
                  </a:lnTo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612800" y="4151520"/>
              <a:ext cx="6415200" cy="160200"/>
            </a:xfrm>
            <a:custGeom>
              <a:avLst/>
              <a:gdLst/>
              <a:ahLst/>
              <a:rect l="l" t="t" r="r" b="b"/>
              <a:pathLst>
                <a:path w="498" h="12">
                  <a:moveTo>
                    <a:pt x="0" y="12"/>
                  </a:moveTo>
                  <a:lnTo>
                    <a:pt x="41" y="12"/>
                  </a:lnTo>
                  <a:lnTo>
                    <a:pt x="83" y="12"/>
                  </a:lnTo>
                  <a:lnTo>
                    <a:pt x="124" y="12"/>
                  </a:lnTo>
                  <a:lnTo>
                    <a:pt x="166" y="11"/>
                  </a:lnTo>
                  <a:lnTo>
                    <a:pt x="207" y="10"/>
                  </a:lnTo>
                  <a:lnTo>
                    <a:pt x="249" y="10"/>
                  </a:lnTo>
                  <a:lnTo>
                    <a:pt x="291" y="9"/>
                  </a:lnTo>
                  <a:lnTo>
                    <a:pt x="332" y="6"/>
                  </a:lnTo>
                  <a:lnTo>
                    <a:pt x="374" y="5"/>
                  </a:lnTo>
                  <a:lnTo>
                    <a:pt x="415" y="3"/>
                  </a:lnTo>
                  <a:lnTo>
                    <a:pt x="457" y="2"/>
                  </a:lnTo>
                  <a:lnTo>
                    <a:pt x="498" y="0"/>
                  </a:lnTo>
                </a:path>
              </a:pathLst>
            </a:custGeom>
            <a:noFill/>
            <a:ln w="255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612800" y="3870360"/>
              <a:ext cx="6415200" cy="441360"/>
            </a:xfrm>
            <a:custGeom>
              <a:avLst/>
              <a:gdLst/>
              <a:ahLst/>
              <a:rect l="l" t="t" r="r" b="b"/>
              <a:pathLst>
                <a:path w="498" h="33">
                  <a:moveTo>
                    <a:pt x="0" y="33"/>
                  </a:moveTo>
                  <a:lnTo>
                    <a:pt x="41" y="33"/>
                  </a:lnTo>
                  <a:lnTo>
                    <a:pt x="83" y="33"/>
                  </a:lnTo>
                  <a:lnTo>
                    <a:pt x="124" y="33"/>
                  </a:lnTo>
                  <a:lnTo>
                    <a:pt x="166" y="33"/>
                  </a:lnTo>
                  <a:lnTo>
                    <a:pt x="207" y="33"/>
                  </a:lnTo>
                  <a:lnTo>
                    <a:pt x="249" y="33"/>
                  </a:lnTo>
                  <a:lnTo>
                    <a:pt x="291" y="31"/>
                  </a:lnTo>
                  <a:lnTo>
                    <a:pt x="332" y="11"/>
                  </a:lnTo>
                  <a:lnTo>
                    <a:pt x="374" y="8"/>
                  </a:lnTo>
                  <a:lnTo>
                    <a:pt x="415" y="1"/>
                  </a:lnTo>
                  <a:lnTo>
                    <a:pt x="457" y="1"/>
                  </a:lnTo>
                  <a:lnTo>
                    <a:pt x="498" y="0"/>
                  </a:ln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444320" y="2065320"/>
              <a:ext cx="6583680" cy="2246400"/>
            </a:xfrm>
            <a:custGeom>
              <a:avLst/>
              <a:gdLst/>
              <a:ahLst/>
              <a:rect l="l" t="t" r="r" b="b"/>
              <a:pathLst>
                <a:path w="498" h="157">
                  <a:moveTo>
                    <a:pt x="0" y="156"/>
                  </a:moveTo>
                  <a:lnTo>
                    <a:pt x="41" y="157"/>
                  </a:lnTo>
                  <a:lnTo>
                    <a:pt x="83" y="157"/>
                  </a:lnTo>
                  <a:lnTo>
                    <a:pt x="124" y="157"/>
                  </a:lnTo>
                  <a:lnTo>
                    <a:pt x="166" y="157"/>
                  </a:lnTo>
                  <a:lnTo>
                    <a:pt x="207" y="157"/>
                  </a:lnTo>
                  <a:lnTo>
                    <a:pt x="249" y="157"/>
                  </a:lnTo>
                  <a:lnTo>
                    <a:pt x="291" y="125"/>
                  </a:lnTo>
                  <a:lnTo>
                    <a:pt x="332" y="122"/>
                  </a:lnTo>
                  <a:lnTo>
                    <a:pt x="374" y="115"/>
                  </a:lnTo>
                  <a:lnTo>
                    <a:pt x="415" y="99"/>
                  </a:lnTo>
                  <a:lnTo>
                    <a:pt x="457" y="62"/>
                  </a:lnTo>
                  <a:lnTo>
                    <a:pt x="498" y="0"/>
                  </a:lnTo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4" name=""/>
            <p:cNvGrpSpPr/>
            <p:nvPr/>
          </p:nvGrpSpPr>
          <p:grpSpPr>
            <a:xfrm>
              <a:off x="826920" y="1557360"/>
              <a:ext cx="515880" cy="2905920"/>
              <a:chOff x="826920" y="1557360"/>
              <a:chExt cx="515880" cy="2905920"/>
            </a:xfrm>
          </p:grpSpPr>
          <p:sp>
            <p:nvSpPr>
              <p:cNvPr id="1585" name=""/>
              <p:cNvSpPr/>
              <p:nvPr/>
            </p:nvSpPr>
            <p:spPr>
              <a:xfrm>
                <a:off x="1341360" y="1676520"/>
                <a:ext cx="1440" cy="2647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277640" y="4324320"/>
                <a:ext cx="63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277640" y="3883320"/>
                <a:ext cx="63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277640" y="3441960"/>
                <a:ext cx="63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277640" y="3000600"/>
                <a:ext cx="63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1277640" y="2559240"/>
                <a:ext cx="63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277640" y="2117880"/>
                <a:ext cx="63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277640" y="1676520"/>
                <a:ext cx="63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1341360" y="4324320"/>
                <a:ext cx="1440" cy="669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1058760" y="420372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942840" y="3762360"/>
                <a:ext cx="2415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826920" y="332100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826920" y="288000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</a:rPr>
                  <a:t>150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826920" y="243864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</a:rPr>
                  <a:t>200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826920" y="199728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</a:rPr>
                  <a:t>250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826920" y="1557360"/>
                <a:ext cx="361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</a:rPr>
                  <a:t>300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1" name=""/>
            <p:cNvSpPr/>
            <p:nvPr/>
          </p:nvSpPr>
          <p:spPr>
            <a:xfrm rot="18900000">
              <a:off x="1052280" y="45813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99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 rot="18900000">
              <a:off x="2120760" y="45813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 rot="18900000">
              <a:off x="3190680" y="45813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rot="18900000">
              <a:off x="4259160" y="45813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 rot="18900000">
              <a:off x="5329080" y="45813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 rot="18900000">
              <a:off x="6397560" y="45813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 rot="18900000">
              <a:off x="7466040" y="45813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005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8" name=""/>
            <p:cNvGrpSpPr/>
            <p:nvPr/>
          </p:nvGrpSpPr>
          <p:grpSpPr>
            <a:xfrm>
              <a:off x="2900160" y="4992840"/>
              <a:ext cx="2895480" cy="259560"/>
              <a:chOff x="2900160" y="4992840"/>
              <a:chExt cx="2895480" cy="259560"/>
            </a:xfrm>
          </p:grpSpPr>
          <p:sp>
            <p:nvSpPr>
              <p:cNvPr id="1609" name=""/>
              <p:cNvSpPr/>
              <p:nvPr/>
            </p:nvSpPr>
            <p:spPr>
              <a:xfrm>
                <a:off x="2900160" y="5126040"/>
                <a:ext cx="309600" cy="18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260520" y="4992840"/>
                <a:ext cx="2535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</a:rPr>
                  <a:t>úvěry celkem (osa vpravo)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2884320" y="5305680"/>
              <a:ext cx="3137400" cy="259560"/>
              <a:chOff x="2884320" y="5305680"/>
              <a:chExt cx="3137400" cy="259560"/>
            </a:xfrm>
          </p:grpSpPr>
          <p:sp>
            <p:nvSpPr>
              <p:cNvPr id="1612" name=""/>
              <p:cNvSpPr/>
              <p:nvPr/>
            </p:nvSpPr>
            <p:spPr>
              <a:xfrm>
                <a:off x="2884320" y="5438520"/>
                <a:ext cx="309600" cy="1440"/>
              </a:xfrm>
              <a:prstGeom prst="line">
                <a:avLst/>
              </a:prstGeom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45760" y="5305680"/>
                <a:ext cx="2775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</a:rPr>
                  <a:t>úvěry krátkodobé (osa vlevo)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4" name=""/>
            <p:cNvSpPr/>
            <p:nvPr/>
          </p:nvSpPr>
          <p:spPr>
            <a:xfrm>
              <a:off x="2884320" y="5737320"/>
              <a:ext cx="309600" cy="1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246120" y="5592960"/>
              <a:ext cx="2908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úvěry střednědobé (osa vlevo)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6" name=""/>
            <p:cNvGrpSpPr/>
            <p:nvPr/>
          </p:nvGrpSpPr>
          <p:grpSpPr>
            <a:xfrm>
              <a:off x="2884320" y="5881680"/>
              <a:ext cx="3199320" cy="259560"/>
              <a:chOff x="2884320" y="5881680"/>
              <a:chExt cx="3199320" cy="259560"/>
            </a:xfrm>
          </p:grpSpPr>
          <p:sp>
            <p:nvSpPr>
              <p:cNvPr id="1617" name=""/>
              <p:cNvSpPr/>
              <p:nvPr/>
            </p:nvSpPr>
            <p:spPr>
              <a:xfrm>
                <a:off x="2884320" y="6016680"/>
                <a:ext cx="309600" cy="14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245400" y="5881680"/>
                <a:ext cx="2838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</a:rPr>
                  <a:t>úvěry dlouhodobé (osa vlevo)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9" name=""/>
            <p:cNvSpPr/>
            <p:nvPr/>
          </p:nvSpPr>
          <p:spPr>
            <a:xfrm>
              <a:off x="8356680" y="39369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285400" y="35766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285400" y="3216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5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8285400" y="28576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8285400" y="2424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25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8285400" y="20653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8285400" y="17049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35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ff99"/>
                </a:solidFill>
                <a:uFillTx/>
                <a:latin typeface="Tahoma"/>
                <a:ea typeface="Tahoma"/>
                <a:hlinkClick r:id="rId1"/>
              </a:rPr>
              <a:t>www.finance.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ff99"/>
                </a:solidFill>
                <a:uFillTx/>
                <a:latin typeface="Tahoma"/>
                <a:ea typeface="Tahoma"/>
                <a:hlinkClick r:id="rId2"/>
              </a:rPr>
              <a:t>www.czso.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ff99"/>
                </a:solidFill>
                <a:uFillTx/>
                <a:latin typeface="Tahoma"/>
                <a:ea typeface="Tahoma"/>
                <a:hlinkClick r:id="rId3"/>
              </a:rPr>
              <a:t>www.cnb.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Výroční zprávy: ČSOB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KB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Česká Spořitelna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GE-Money Bank 2003-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427680" y="447480"/>
            <a:ext cx="77778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Základním úkolem komerčních bank je obchodování s finančními prostředky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čímž se rozumí přijímání vkladů a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oskytování úvěrů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Úvěr můžeme definovat jako 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bjem finančních prostředků, které věřit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oskytne dlužníkovi za úplatu ve formě úroku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16960" y="2521440"/>
            <a:ext cx="7948080" cy="18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Hlavními kritérii při samotném rozhodování banky o poskytnutí úvěru js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: návratnost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, tj. schopnost dlužníka splatit úvěr ve sjednané lhůtě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: výnosnost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úvěr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ýnosnost úvěru je závislá především na </a:t>
            </a: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výši úrokové sazby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- tu ovlivňuje ř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faktorů, jako jsou :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406240" y="4101840"/>
            <a:ext cx="48319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ýše sazeb ČN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zby konkurenc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ýše nákladů bank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harakter úvěr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konomickými podmínkami – např. mírou inf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836640" y="575280"/>
            <a:ext cx="33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ákladní typy úvěr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50960" y="119628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dle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oby splatnosti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511440" y="119664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krátkodobé úvěry :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o 1 roku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511080" y="15570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třednědobé úvěry :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d 1 do 4 le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511440" y="1915920"/>
            <a:ext cx="31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louhodobé úvěry :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d 4 let víc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68360" y="4365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78240" y="2491560"/>
            <a:ext cx="52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dle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ubjektu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terému je úvěr poskytová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753880" y="2491920"/>
            <a:ext cx="16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úvěry občanů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720040" y="2923920"/>
            <a:ext cx="293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úvěry pro podnikatelské úč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735160" y="3357360"/>
            <a:ext cx="20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ezibankovní úvě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739120" y="3789000"/>
            <a:ext cx="235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úvěry obcím a městů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4400" y="4365000"/>
            <a:ext cx="34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dle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áměru využití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úvěru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001400" y="436536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potřebitelské úvě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005720" y="4723920"/>
            <a:ext cx="20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odnikatelské úvě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027680" y="5157360"/>
            <a:ext cx="17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ypoteční úvě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001400" y="558936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kontokorentní úvě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3" name=""/>
          <p:cNvGraphicFramePr/>
          <p:nvPr/>
        </p:nvGraphicFramePr>
        <p:xfrm>
          <a:off x="1332000" y="1484280"/>
          <a:ext cx="7127640" cy="4276800"/>
        </p:xfrm>
        <a:graphic>
          <a:graphicData uri="http://schemas.openxmlformats.org/drawingml/2006/table">
            <a:tbl>
              <a:tblPr/>
              <a:tblGrid>
                <a:gridCol w="1036440"/>
                <a:gridCol w="1038240"/>
                <a:gridCol w="1011240"/>
                <a:gridCol w="1009800"/>
                <a:gridCol w="1011240"/>
                <a:gridCol w="1009440"/>
                <a:gridCol w="10112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kupi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finanční institu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25 8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5 9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3 8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4 3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inanční institu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5 7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3 89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8 9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2 9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ládní institu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7 6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9 6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 6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0 7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ziskové institu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5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7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8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 8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mác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7 0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7 4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4 4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0 9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věry 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4 3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 5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2 8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19 7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4" name=""/>
          <p:cNvSpPr/>
          <p:nvPr/>
        </p:nvSpPr>
        <p:spPr>
          <a:xfrm>
            <a:off x="-181080" y="511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98760" y="328320"/>
            <a:ext cx="811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Korunové úvěry klientům poskytované bankovním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institucemi vybraným skupinám (stav k 31. 12.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675400" y="609264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Údaje jsou uvedeny v mil. Kč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684360" y="1846440"/>
          <a:ext cx="7704000" cy="35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6440"/>
                    <a:ext cx="770400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"/>
          <p:cNvSpPr/>
          <p:nvPr/>
        </p:nvSpPr>
        <p:spPr>
          <a:xfrm>
            <a:off x="697320" y="403200"/>
            <a:ext cx="750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abulka poskytnutých úvěrů podle jednotlivý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kupin v roce 200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747040" y="602100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Údaje jsou uvedeny v mil. Kč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826920" y="187920"/>
            <a:ext cx="79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Československá obchodní banka, a. s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6877080" y="260280"/>
            <a:ext cx="2016000" cy="1522440"/>
            <a:chOff x="6877080" y="260280"/>
            <a:chExt cx="2016000" cy="1522440"/>
          </a:xfrm>
        </p:grpSpPr>
        <p:pic>
          <p:nvPicPr>
            <p:cNvPr id="844" name="" descr=""/>
            <p:cNvPicPr/>
            <p:nvPr/>
          </p:nvPicPr>
          <p:blipFill>
            <a:blip r:embed="rId1"/>
            <a:stretch/>
          </p:blipFill>
          <p:spPr>
            <a:xfrm>
              <a:off x="6877080" y="260280"/>
              <a:ext cx="201600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5" name=""/>
          <p:cNvSpPr/>
          <p:nvPr/>
        </p:nvSpPr>
        <p:spPr>
          <a:xfrm>
            <a:off x="914400" y="172764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ákladní ukazate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44120" y="270828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m poskytnutých úvěrů v mil. Kč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26920" y="3357720"/>
            <a:ext cx="15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isk v mil. K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82280" y="407664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čet klient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354640" y="2205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732720" y="2205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024400" y="22050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275360" y="4076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275360" y="4653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275360" y="52293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073480" y="27075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1 05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440400" y="27075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20 41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737480" y="27075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45 70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295240" y="328392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 43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662160" y="328392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 90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884720" y="32839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 32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867280" y="40759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 789 4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867280" y="465228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 863 67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867280" y="522864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 911 65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806040" y="5979960"/>
            <a:ext cx="73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Pozn. Ve všech údajích je zahrnuta i Poštovní spořitelna,která je divizí ČSOB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u počtu klientů se jedná o neověřená čísl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"/>
          <p:cNvGrpSpPr/>
          <p:nvPr/>
        </p:nvGrpSpPr>
        <p:grpSpPr>
          <a:xfrm>
            <a:off x="7380360" y="260280"/>
            <a:ext cx="1512720" cy="1143000"/>
            <a:chOff x="7380360" y="260280"/>
            <a:chExt cx="1512720" cy="1143000"/>
          </a:xfrm>
        </p:grpSpPr>
        <p:pic>
          <p:nvPicPr>
            <p:cNvPr id="866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51272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"/>
          <p:cNvSpPr/>
          <p:nvPr/>
        </p:nvSpPr>
        <p:spPr>
          <a:xfrm>
            <a:off x="826920" y="476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Nabízené úvěrové produkty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 :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838800" y="98100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otřebitelské úvěry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107520" y="1052640"/>
            <a:ext cx="42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ůjčka na cokoliv (ČSOB) – úroková sazba 10,9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087000" y="1341360"/>
            <a:ext cx="403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potřebitelský úvěr (PS) – úroková sazba 8,9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844560" y="1773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dnikatelské úvěry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184464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Revolvingový úvěr     (ČSOB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174120" y="2133720"/>
            <a:ext cx="255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Kontokorentní úvěr    (ČSOB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232440" y="2421000"/>
            <a:ext cx="24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Komerční úvěr           (ČSOB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214440" y="2708280"/>
            <a:ext cx="25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U komplex úvěr        (ČSOB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197880" y="2997360"/>
            <a:ext cx="24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lý investiční úvěr      (P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94880" y="3500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oteční úvěry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7200" y="3572280"/>
            <a:ext cx="334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ČSOB Hypotéka bez dokládání příjmů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2280" y="38595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ČSOB Hypoték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626920" y="4075920"/>
            <a:ext cx="33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ČSOB Hypotéka na družstevní bydlení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687400" y="436500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ČSOB Hypotéka 2 v 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670840" y="4652280"/>
            <a:ext cx="32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Účelový hypoteční úvěr - HUF 85 (PS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670840" y="4941000"/>
            <a:ext cx="32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Účelový hypoteční úvěr - HUF 70 (PS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668320" y="5228640"/>
            <a:ext cx="339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Účelový hypoteční úvěr - HUF 100 (PS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700360" y="5409000"/>
            <a:ext cx="460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Účelový hypoteční úvěr - HUF bez dokládání příjmů (P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61760" y="580536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ontokorentní úvěry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132000" y="58770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volené přečerpání běžného účtu              (ČSOB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132000" y="61657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Povolené přečerpání postžirového účtu           (P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507800" y="638172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stav v roce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" descr=""/>
          <p:cNvPicPr/>
          <p:nvPr/>
        </p:nvPicPr>
        <p:blipFill>
          <a:blip r:embed="rId1"/>
          <a:stretch/>
        </p:blipFill>
        <p:spPr>
          <a:xfrm>
            <a:off x="6227640" y="260280"/>
            <a:ext cx="2448000" cy="100800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/>
          <p:nvPr/>
        </p:nvSpPr>
        <p:spPr>
          <a:xfrm>
            <a:off x="647640" y="358200"/>
            <a:ext cx="428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  <a:ea typeface="Tahoma"/>
              </a:rPr>
              <a:t>Č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ská spo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  <a:ea typeface="Tahoma"/>
              </a:rPr>
              <a:t>ř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telna, a. 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03440" y="162576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ákladní ukazate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72840" y="256464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m poskytnutých úvěrů v mil. Kč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896360" y="1988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0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904360" y="1988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0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20360" y="1988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0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641840" y="256464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8 57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49840" y="256464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14 90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7840" y="256464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39 28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665840" y="256464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83 42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47720" y="314100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isk v mil. K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936320" y="31410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 42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797080" y="3141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 19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805080" y="3141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 33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813440" y="3141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 43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45840" y="407592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čet klient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841480" y="40759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841480" y="45079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844720" y="4939560"/>
            <a:ext cx="7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844720" y="5373000"/>
            <a:ext cx="7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0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356000" y="40759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393 49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356000" y="45079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519 62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356000" y="493956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353 92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356000" y="537300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326 37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912360" y="1988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7:05:11Z</dcterms:created>
  <dc:creator>spravce</dc:creator>
  <dc:description/>
  <dc:language>en-US</dc:language>
  <cp:lastModifiedBy>Denisa - Novotná</cp:lastModifiedBy>
  <dcterms:modified xsi:type="dcterms:W3CDTF">2006-12-07T10:08:54Z</dcterms:modified>
  <cp:revision>70</cp:revision>
  <dc:subject/>
  <dc:title>Snímek 1</dc:title>
</cp:coreProperties>
</file>