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9D4-AC69-4BE3-998F-95B28114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D070-589B-470C-8E18-09FFD056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41E-FB32-4E78-96A3-5E4AF8B2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8B9-36D4-4E98-BB39-5E19A1EC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2163-5B41-4127-BEDD-6D8E49DD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6328-C26D-49CC-9EBA-5564C5B0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04DE-EC4F-4FE6-A84D-488EE77F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70EA-3930-410F-AF3D-E35B5A8D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E297-EEE2-41C9-9E16-42C25FD5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21A0-B695-4F38-AAB8-50890EC3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30DF-5F53-463A-9331-D1274066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F02-E784-45F7-82F5-A0796144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F817-C3B1-4DD0-8B4D-4F14E5F4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92EF-B4BB-4FF6-8CB7-DEF4AB66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A704-388E-4B1F-A876-BF26B500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AB1D-0DC4-4F1A-93C8-F2195269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A3E1-3D45-40AB-AE74-15B856CC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4BE-488C-41C6-9EFD-D2202C02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9FA-1363-4519-9A42-CB50DFDE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2CC-87F6-4EC7-8B16-8BB76E1E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906D-0591-46D9-8025-6BF31A54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24C6-0FA5-476C-A2B0-599D151E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0ECC-F609-43E6-BD41-EEB056B3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A88C-5F55-4350-BA86-CD5507A5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2B66-57E7-4D20-87E8-F414D8413D18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A4EC-3D88-4ED3-8884-617C2F25E9AF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incentrum.idnes.cz/" TargetMode="External"/><Relationship Id="rId2" Type="http://schemas.openxmlformats.org/officeDocument/2006/relationships/hyperlink" Target="http://www.finance.cz/" TargetMode="External"/><Relationship Id="rId3" Type="http://schemas.openxmlformats.org/officeDocument/2006/relationships/hyperlink" Target="http://www.mfcr.cz/" TargetMode="External"/><Relationship Id="rId4" Type="http://schemas.openxmlformats.org/officeDocument/2006/relationships/hyperlink" Target="http://www.apfcr.cz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nzijní připojištění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ůzkum trhu s penzijním připojištění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Zuzana Schneiderová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amila Varchoľáková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Zdroj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ýroční zprávy jednotlivých penzijních fond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www.fincentrum.idnes.c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www.finance.c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www.mfcr.c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www.apfcr.c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nzijní fon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stor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zvoj systému penzijního připojištění od poloviny 90. l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4 penzijních fond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časnost (data z roku 2004 – výroční zpráva Ministerstva financí Č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řibližně 3 miliony klientů (60% práceschopného obyvatelstv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1 penzijních fond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 nejsilnějších subjektů zaujímá 83,12 % trh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ecné nedostatk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áří klientů (pouze polovinu nových klientů tvoří lidé mladší 40 le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ětšina potenciálních klientů již penzijní připojištění má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ízký objem vkladů – nejčastěji kolem 500 Kč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nzervativní investiční strategie – nízké ale stabilní výnos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díl na trhu (2005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029200" y="1719360"/>
          <a:ext cx="327672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719360"/>
                    <a:ext cx="327672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137040" y="2639880"/>
          <a:ext cx="5389560" cy="381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7040" y="2639880"/>
                    <a:ext cx="538956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84360" y="1628640"/>
          <a:ext cx="2616120" cy="4537080"/>
        </p:xfrm>
        <a:graphic>
          <a:graphicData uri="http://schemas.openxmlformats.org/drawingml/2006/table">
            <a:tbl>
              <a:tblPr/>
              <a:tblGrid>
                <a:gridCol w="1800000"/>
                <a:gridCol w="816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zijní fo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íl na trhu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 České pojišťov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terth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0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 České spořitel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 Komerční ban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 P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SOB PF Stabili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SOB PF Prog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ianz P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nický PF Ostr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ský P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ývoj počtu aktivních účastníků u pěti největších P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06520" y="1341360"/>
          <a:ext cx="8186760" cy="49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1341360"/>
                    <a:ext cx="818676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ýnosy </a:t>
            </a:r>
            <a:br>
              <a:rPr sz="10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00720" y="2276640"/>
          <a:ext cx="4248000" cy="31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76640"/>
                    <a:ext cx="4248000" cy="31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755640" y="1957320"/>
          <a:ext cx="3384720" cy="3514680"/>
        </p:xfrm>
        <a:graphic>
          <a:graphicData uri="http://schemas.openxmlformats.org/drawingml/2006/table">
            <a:tbl>
              <a:tblPr/>
              <a:tblGrid>
                <a:gridCol w="2089080"/>
                <a:gridCol w="647640"/>
                <a:gridCol w="64800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 České pojišťov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terth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 České spořitel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 Komerční bank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 P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SOB PF Stabil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SOB PF Prog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ianz P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nický PF Ostr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ský P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Údaje o věku klientů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ČSOB Stabilita (2005) – 51,6 l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lianz (2005) – věkový průměr klientů 44 l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rnická PF (2005) – 44 le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ČSOB Progres (2003) – 40,3 l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nerali (2004) – věková skupina od 40 let tvoří 55,6% (tržní průměr je 72%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G (2003) –  věková skupina od 40 tvoří 62,5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F České pojišťovny – neuvede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F České spořitelny – neuvede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F Komerční banky – neuvede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nterthur – neuvede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emský PF – neuvede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Údaje o průměrné výši měsíčního příspěvku účastník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55640" y="1844640"/>
          <a:ext cx="7704000" cy="4567320"/>
        </p:xfrm>
        <a:graphic>
          <a:graphicData uri="http://schemas.openxmlformats.org/drawingml/2006/table">
            <a:tbl>
              <a:tblPr/>
              <a:tblGrid>
                <a:gridCol w="3075120"/>
                <a:gridCol w="2232000"/>
                <a:gridCol w="23968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zijní fo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ná výše měsíčního příspěvku účastníka (Kč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daje dle Výročních zpráv jednotlivých PF z ro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terth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 Komerční bank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ský P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ian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SOB Stabil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SOB Prog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nická P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 České pojišťov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 České spořitel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defe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žnosti rozvo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abídka investičních strategií podle věku klienta a jeho ochoty riskovat (ČSOB penzijní fondy Progres a Stabilit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abídka penzijních  plánů pro velké fir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avýšení počtu klientů s příspěvkem zaměstnavatele (průměrný příspěvek zaměstnavatele převyšuje průměrný příspěvek účastníka) – větší stabili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22:12:44Z</dcterms:created>
  <dc:creator>180420</dc:creator>
  <dc:description/>
  <dc:language>en-US</dc:language>
  <cp:lastModifiedBy>180420</cp:lastModifiedBy>
  <dcterms:modified xsi:type="dcterms:W3CDTF">2006-12-08T04:25:57Z</dcterms:modified>
  <cp:revision>8</cp:revision>
  <dc:subject/>
  <dc:title>Penzijní připojištění</dc:title>
</cp:coreProperties>
</file>