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3EA-DE48-4AEB-95F0-1FE8D99C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048-70EC-4D77-9FA5-3DDDE715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3DB-2D43-4BCE-8B20-CFF6CD93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5D0-8737-44FC-88B5-0F28DDD6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C4F-413D-4A50-8591-20D2F63E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28F5-7809-406A-87E9-AAF331D2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92D8-96B3-46FD-9127-556A8D4B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BF37-D866-4901-BA44-6AD417E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238C-E47F-4564-A021-5FD90478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D2F8-5898-401D-8776-8C6C337C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3F15-85FF-43DD-860A-96DD743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29F-61AB-4EC3-A61A-2B60964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F43-E4D0-447A-81BB-E6999E0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1D52-AEF1-40CA-92DB-35C30E55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E40-3DE6-493D-906C-A6C6A5E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726-75F0-4A05-9A9A-2566037D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0C18-9016-4B55-B1F1-0E13A4F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507-9A03-401B-AF4E-B0C11F57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6CB-554A-4E99-933F-3852C57F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052-1352-4412-9074-8C5E6227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13C-FBC2-4F1C-897C-1090959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004-0E45-4879-BB15-1C98219A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21A-1AC7-41EA-9762-497BD28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C6A-AC1B-4EB0-A661-FF03B6F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E99D-6D8E-423A-BA31-0056D675F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ECB4-B081-41D2-9611-03669DC42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h životních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41911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147 – Základy marketingového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pracovala: Kateřina Procházkov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66"/>
                </a:solidFill>
                <a:latin typeface="Arial"/>
              </a:rPr>
              <a:t>Trh ŽP podle předepsaného pojistného - graf</a:t>
            </a:r>
            <a:endParaRPr b="0" lang="en-US" sz="31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22160" y="1981080"/>
          <a:ext cx="7699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981080"/>
                    <a:ext cx="7699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38080" y="1828800"/>
          <a:ext cx="7648560" cy="404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764856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14400" y="60958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Zdroj: Česká sociace pojišťov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ybrané ukazatele ČAP 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465280"/>
          <a:ext cx="7772400" cy="2979720"/>
        </p:xfrm>
        <a:graphic>
          <a:graphicData uri="http://schemas.openxmlformats.org/drawingml/2006/table">
            <a:tbl>
              <a:tblPr/>
              <a:tblGrid>
                <a:gridCol w="2734560"/>
                <a:gridCol w="1439280"/>
                <a:gridCol w="1655280"/>
                <a:gridCol w="1943280"/>
              </a:tblGrid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ředepsané pojistné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ivotní pojištění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200 9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886 3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běžně place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363 5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 511 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jednorázově placen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s.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 837 4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375 2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5720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090440" y="906480"/>
          <a:ext cx="6963120" cy="48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06480"/>
                    <a:ext cx="69631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6019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ybrané ukazatele ČAP I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2057400"/>
          <a:ext cx="8229600" cy="2971800"/>
        </p:xfrm>
        <a:graphic>
          <a:graphicData uri="http://schemas.openxmlformats.org/drawingml/2006/table">
            <a:tbl>
              <a:tblPr/>
              <a:tblGrid>
                <a:gridCol w="2895840"/>
                <a:gridCol w="990360"/>
                <a:gridCol w="1447920"/>
                <a:gridCol w="1447920"/>
                <a:gridCol w="144756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íl na celkovém předepsaném pojistné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ivotní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životní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3520" y="5562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914400"/>
          <a:ext cx="7772400" cy="48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7724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11280" y="5867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: Č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mesec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peníze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aktualne.centrum.cz/finance/priloha/zivotni-pojisteni/clanek.phtml?id=16618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finance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mysl životního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yslem životního pojištění je pojistná ochrana pojištěn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pojistné události pojišťovna vyplatí obmyšlené osobě (osoba uvedená ve smlouvě) pojistné plnění. Tím je pojistná částka nebo kapitálová hodnota (u kapitálových a investičních pojištění). U rizikových pojištění není spořící složka a plněním je pouze pojistná část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ůležité pojm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á částk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maximální limit plnění v případě pojistné udál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á událo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nahodilá skutečnost, se kterou je spojena povinnost pojistitele plnit pojistnou smlouv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částka za poskytnutí pojistné ochr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štěn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osoba, v jejíž prospěch byla uzavřena pojistná smlouva (většinou shodná s pojistník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ojistní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ojištěnec) - osoba, která uzavřela s pojistitelem pojistnou smlouvu, tj. klient pojišťov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právněná osob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fyzická nebo právnická osoba, která může mít právo na pojistné plnění v případě smrti pojištěného (nebo i za jiných okolností), není-li oprávněná osoba určena, nabývají tohoto práva osoby určené zákonem, používá se převážně u životního nebo důchodového pojiště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uhy životního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zikové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álové (rezervotvorné)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ři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zikové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bsahuje spořící slož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je pouze pojištěná rizika (ne riziko doži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i pojistné událost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ýplata pojistné částky (pojištění zanik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jistná částka: pevná nebo klesají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P HYPOTÉKA (Pojišťovna České spořiteln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apitálové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ahuje spořící složku (tzv. smíšené ŽP – pojištění pro případ smrti nebo dožit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klient zemř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jišťovna vyplácí kapitálovou hodnotu pojištění + pojistnou částku pro případ smr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, že se klient dožije konce pojištění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placena pouze kapitálová hodnota pojišt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K (Česká pojišťovna), FLEXI (Pojišťovna České spořitel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vestiční Ž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uje spořící slož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oří rezervu investicemi do fon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ient – nese veškeré riziko s investováním spořící složky, sám si volí investiční strateg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VESTOR PLUS t-150 (ING Nationale-Nederlanden), FLEXI INVEST (Pojišťovna České spořitelny), DYNAMIK PLUS – kombinace kapitálového a investičního (Česká pojišťov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ůchodové při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ahuje spořící složku, pojištění pro případ do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ní kryto riziko smr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sjednávají pojistnou částku pro případ dožití, ale na roční důc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h ŽP podle předepsaného pojistnéh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905120"/>
          <a:ext cx="8229600" cy="453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jišťov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žní podí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eská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6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operativa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7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 Nationale-Nederland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jišťovna České spořitel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0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SOB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2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erční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5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ianz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i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slico AIG 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nterthur pojišťov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tat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9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33:33Z</dcterms:created>
  <dc:creator>181853</dc:creator>
  <dc:description/>
  <dc:language>en-US</dc:language>
  <cp:lastModifiedBy>MUDr. Procházková</cp:lastModifiedBy>
  <dcterms:modified xsi:type="dcterms:W3CDTF">2006-12-03T19:18:38Z</dcterms:modified>
  <cp:revision>8</cp:revision>
  <dc:subject/>
  <dc:title>Trh životních pojištění</dc:title>
</cp:coreProperties>
</file>