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170-D767-4CAF-B391-E1AC0C5B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9789-40D2-4CC7-A0BB-91AB815C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5DB-3882-4CC2-AE72-A220CEF1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6A1-8348-4A6B-B058-90B9D64D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9B03-25AF-44F1-9DAA-23AFC3C1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3DC4-34CB-4DE2-A3BF-901F0842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4503-1E53-46C6-A2DE-7122B9EF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A388-3E0A-4021-8B1A-ADF980F1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8EEE-080F-4DB4-982C-FBBD2339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62A2-DE46-4D3F-8908-6A89F12A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792E-964E-4D99-A281-F21B169C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1D7-6087-467A-9FC4-6B0D8DDF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F022-0026-4C09-883C-8FED9A7D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5E5B-60C3-4908-90E6-D8C0DF4A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E847-12B7-4C9A-A50D-2441FD6C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BD21-A1EC-4C2D-84CF-969BB2E1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BA8A-A0E9-49C2-859A-F1C522E5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08B-E266-4651-91B2-0B51BC1C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266-F3FB-4A8D-919E-FDF9478E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4BE-BEC2-45B6-833F-FAC25FC5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3B2-2B54-48A8-B9A3-8D6C87EC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F3F-07BF-4412-9AFB-7C885362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566-08F6-476F-8561-C965FE88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E6A-7A40-41FD-88F7-C25FDDBA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354A-D8FC-4ED7-B40D-E3CD574D9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8560-F221-47A2-AAEC-5231FB2C1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antikfoto.cz/" TargetMode="External"/><Relationship Id="rId2" Type="http://schemas.openxmlformats.org/officeDocument/2006/relationships/hyperlink" Target="http://www.antikfoto.cz/" TargetMode="External"/><Relationship Id="rId3" Type="http://schemas.openxmlformats.org/officeDocument/2006/relationships/hyperlink" Target="http://www.antikfoto.cz/" TargetMode="External"/><Relationship Id="rId4" Type="http://schemas.openxmlformats.org/officeDocument/2006/relationships/hyperlink" Target="http://www.antikfoto.cz/" TargetMode="External"/><Relationship Id="rId5" Type="http://schemas.openxmlformats.org/officeDocument/2006/relationships/hyperlink" Target="http://www.canon.cz/" TargetMode="External"/><Relationship Id="rId6" Type="http://schemas.openxmlformats.org/officeDocument/2006/relationships/hyperlink" Target="http://www.canon.cz/" TargetMode="External"/><Relationship Id="rId7" Type="http://schemas.openxmlformats.org/officeDocument/2006/relationships/hyperlink" Target="http://www.canon.cz/" TargetMode="External"/><Relationship Id="rId8" Type="http://schemas.openxmlformats.org/officeDocument/2006/relationships/hyperlink" Target="http://www.canon.cz/" TargetMode="External"/><Relationship Id="rId9" Type="http://schemas.openxmlformats.org/officeDocument/2006/relationships/hyperlink" Target="http://www.fotoroman.cz/" TargetMode="External"/><Relationship Id="rId10" Type="http://schemas.openxmlformats.org/officeDocument/2006/relationships/hyperlink" Target="http://www.fotoroman.cz/" TargetMode="External"/><Relationship Id="rId11" Type="http://schemas.openxmlformats.org/officeDocument/2006/relationships/hyperlink" Target="http://www.fotoroman.cz/" TargetMode="External"/><Relationship Id="rId12" Type="http://schemas.openxmlformats.org/officeDocument/2006/relationships/hyperlink" Target="http://www.fotoroman.cz/" TargetMode="External"/><Relationship Id="rId13" Type="http://schemas.openxmlformats.org/officeDocument/2006/relationships/hyperlink" Target="http://www.nikon.cz/" TargetMode="External"/><Relationship Id="rId14" Type="http://schemas.openxmlformats.org/officeDocument/2006/relationships/hyperlink" Target="http://www.oehling.cz/" TargetMode="External"/><Relationship Id="rId15" Type="http://schemas.openxmlformats.org/officeDocument/2006/relationships/hyperlink" Target="http://www.oehling.cz/" TargetMode="External"/><Relationship Id="rId16" Type="http://schemas.openxmlformats.org/officeDocument/2006/relationships/hyperlink" Target="http://www.oehling.cz/" TargetMode="External"/><Relationship Id="rId17" Type="http://schemas.openxmlformats.org/officeDocument/2006/relationships/hyperlink" Target="http://www.oehling.cz/" TargetMode="External"/><Relationship Id="rId18" Type="http://schemas.openxmlformats.org/officeDocument/2006/relationships/hyperlink" Target="http://www.olympus.cz/" TargetMode="External"/><Relationship Id="rId19" Type="http://schemas.openxmlformats.org/officeDocument/2006/relationships/hyperlink" Target="http://www.tamron.cz/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Fototechnika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vla Graba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ana Špičk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řehled ocenění Canon v anketě CIPA 2005-2006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lasická fotografie: Výherci v kategor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R fotoaparát amatérský Canon EOS 300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R fotoaparát profesionální Canon EOS 30V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gitální fotograf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ální kompakt 5 Mpx Canon PowerShot S2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cenění TIPA 200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roce 2005 odměněna odbornou asociací TIPA (Technical Image Press Association) medailemi za nejlepší produk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nění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„Nejlepší evropská profesionální digitální jednooká zrcadlovka roku 2005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získal fotoaprát EOS-1Ds Mark 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nění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„Nejlepší evropská digitální jednooká zrcadlovka vstupní úrovně roku 2005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získal digitální fotoaparát EOS 350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cenění TIPA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lečnost Canon při letošním vyhlášení cen asociace TIPA (Technical Image Press Association) získal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ocenění za nejlepší fotoapará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toaparát EOS 5D byl oceněn jako nejlepší profesionální digitální zrcadlov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IXUS 65 jako nejlepší ultrakompaktní digitální fotoapar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9360" y="-5322600"/>
            <a:ext cx="874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3772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čnost Canon zaujímá první pozici v segmentu digitálních jednookých zrcadlovek, digitálních fotoaparátů, a může se pochlubit nejprodávanějším produktem v segmentu digitálních fotoaparátů (fotoaparát Digital IXUS 555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é produkty uvedené na trh společností Canon v letošním ro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6 kompaktních digitálních fotoaparátů –          6 modelů IXUS a 10 modelů Power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 digitální jednooké zrcadlovky 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Nikon – ocenění TIP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06 dva fotoapatáty Nikon obsadily nejvyšší příčku ve své kategor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kon D200 oceněn jako „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jlepší evropská digitální jednooká zrcadlovka pro pokročilé fotografy roku 2006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kon D50 oceněn jako „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nejlepší evropská digitální jednooká zrcadlovka pro začátečníky roku 2006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cenění DIWA Awa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06 získal fotoaparát Nikon D200 zlatou medaili od asociace DIWA (Digital Imaging Website Association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lympus – graf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120" t="20669" r="7382" b="6398"/>
          <a:stretch/>
        </p:blipFill>
        <p:spPr>
          <a:xfrm>
            <a:off x="111600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af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5640" y="1904760"/>
            <a:ext cx="7729560" cy="4190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8120" t="20669" r="7382" b="6398"/>
          <a:stretch/>
        </p:blipFill>
        <p:spPr>
          <a:xfrm>
            <a:off x="1116000" y="1557360"/>
            <a:ext cx="770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Tržní podíly Olymp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>
            <a:alphaModFix amt="71000"/>
          </a:blip>
          <a:srcRect l="9966" t="32972" r="8858" b="13780"/>
          <a:stretch/>
        </p:blipFill>
        <p:spPr>
          <a:xfrm>
            <a:off x="826920" y="1916280"/>
            <a:ext cx="7999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Tržní podíly Olympus - DSL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9966" t="31496" r="8858" b="13780"/>
          <a:stretch/>
        </p:blipFill>
        <p:spPr>
          <a:xfrm>
            <a:off x="971640" y="1905120"/>
            <a:ext cx="7561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Fotoaparáty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cenění EIS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06 obdržel fotoaparát Olympus µ 720 SW cenu EISA (European Imaging &amp; Sound Association) jako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“Evropský kompaktní fotoaparát roku 2006-2007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cenění TIP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k 2006 - Ocenění TIPA pro Olympus E-330 Live Preview za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„nejlepší inovaci roku 2006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alší oceně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: Dobrá Značka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Objektivy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oužitelnost objektivů pro jednotlivé typy fotoaparátů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ěkteré objektivy je možné použít jak pro digitální, tak pro analogové fotoaparáty (většina digitálních fotoaparátů dokáže pracovat i s objektivy pro fotoaparáty analogov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ěkteré objektivy jsou vyrobeny speciálně pro digitální fotoaparáty (existují však digitální fotoaparáty, které dokáží používat pouze tyto objektiv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dělení objektivů </a:t>
            </a:r>
            <a:br>
              <a:rPr sz="4400"/>
            </a:b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(z hlediska ohniskové vzdálenosti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vné ohnis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měnlivé ohnisko (zoom objektiv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kro objekti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leobjekti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alší typy produktů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ilt/Shift objektivy – užití v architektu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5420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elekonvertory – nejedná se o objektiv v pravém slova smyslu. Slouží k prodloužení ohniskové vzdále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822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dělení z hlediska ostře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AF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Auto Focus – automatické ostře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F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Manual Focus – manuální ost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ýrobci objektivů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Výroba objektivů pro vlastní fotoapará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Ca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ik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Mino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lym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enta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ams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Výroba objektivů pro fotoaparáty jiných fir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kin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pro Canon, Nikon, Pentax, Sony, Mino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amron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pro viz Toki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igm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pro viz Tokina + Sigma a Olymp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n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66"/>
                </a:solidFill>
                <a:latin typeface="Arial"/>
              </a:rPr>
              <a:t>Vlastní dělení objektivů dle kv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loprofesionální ř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ální řada L (Luxu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letošním roce uvedla firma Canon na trh 4 nové objektiv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dělení fotoaparátů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igit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ak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rcadlovka (SL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nalogo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ak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rcadlovka  (DSL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681360" cy="4170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932360" y="1484280"/>
            <a:ext cx="3728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chnolog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Arial"/>
              </a:rPr>
              <a:t>Světová prvenství ve vývoji nových technologií objektiv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Ultrazvukový motor (USM – Ultrasonic Motor)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oprvé uvedený na trh v roce 1978 určený pro použití ve vyměnitelných objektivech SLR zrcadlov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vní použití asférického člen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hož úkolem je eliminovat sférickou aberaci, která při použití konvenčníchobjektivů způsobuje rozostření obrazu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692280"/>
            <a:ext cx="8007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vní vyměnitelný objektiv s vestavěným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abilizátorem obrazu (IS – Image Stabiliz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anon je první a doposud jediná společnost na světě, která do vyměnitelného objektivu zrcadlovky zakomponoval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ifraktivní optický (Diffractive Optics) prvek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Nikon – ocenění pro objektivy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TIPA 2006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- objektiv Nikon AF-S VR Micro-Nikkor 105 mm f/2,8G IF-ED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„Nejlepší evropský profesionální objektiv roku 2006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lympus – ocenění pro objektivy 200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ISA 200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řada ZUIKO DIGITAL Top Pro zahrnující 5 špičkových objektivů s pevnou světelností získala ocenění “Evropské Profesionální objektivy roku 2006-2007” za svoji profesionální kvalitu a extrémní výk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Tamron – ocenění pro objektivy (2005-2006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Arial"/>
              </a:rPr>
              <a:t>TIPA 2005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Tamron AF 18-200 mm F/3,5-6,3 XR DI II LD ASPH (IF)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Arial"/>
              </a:rPr>
              <a:t>DIGI FOTO Dobrá koupě 2006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- Tamron AF SP 11 - 18mm F/4.5-5.6 Di-II LD Asp.(IF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Arial"/>
              </a:rPr>
              <a:t>PC Magazine 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- Tamron SP AF 17-50mm F/2.8 XR Di II LD Asp.(IF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é internetové zdroj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antikfoto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www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canon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www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fotoroman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www.nikon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www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oehling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.</a:t>
            </a: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www.olympus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www.tamron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gitální kompakty – vybraní výrob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en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a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as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Fu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onica Mino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od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yoc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Le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Nik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nason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ent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lympus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ig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o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gitální zrcadlovky – vybraní výrob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a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u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k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lym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g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alogové zrcadlovky – vybraní výrob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an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ik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nol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n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í postavení společnosti Canon na poli fotografických technologi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iž 4. rok po sobě zaujímá první místo na západoevropském trhu s digitálními fotoaparáty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cenění CIP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cenění TIP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Podíl Canonu na trhu dle vybraných segmentů za rok 2005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1905120"/>
          <a:ext cx="8007480" cy="4190760"/>
        </p:xfrm>
        <a:graphic>
          <a:graphicData uri="http://schemas.openxmlformats.org/drawingml/2006/table">
            <a:tbl>
              <a:tblPr/>
              <a:tblGrid>
                <a:gridCol w="2001960"/>
                <a:gridCol w="2001960"/>
                <a:gridCol w="2001600"/>
                <a:gridCol w="20019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ice na tr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íl na tr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rů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13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itální zrcadlo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,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4,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itální kompaktní fotoapará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1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-532260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84502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lečnost Canon dosáhla v České republice a na Slovensku v roce 2005 rekordního obratu ve výši 2,210 miliardy Kč, což představuje nárůst o 6 % oproti předchozímu roku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segmentu foto/video produkt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 s obratem 790,4 milionu Kč zároveň poprvé st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číslem 1 v České republ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olidovaný obrat Canonu v České republice a na Slovensku vzrostl v loňském roce o 125 milionů korun na 2,210 miliardy koru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jvýznamnějším úspěchem je obsazení první pozice v segmentu foto-video s tržním podílem 19,7 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minantní postaven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 Canon udržuje předevší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oblasti fotografických zrcadlove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kde tržní podíl překračuje 55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6:12:35Z</dcterms:created>
  <dc:creator>Luboš</dc:creator>
  <dc:description/>
  <dc:language>en-US</dc:language>
  <cp:lastModifiedBy>Admin</cp:lastModifiedBy>
  <dcterms:modified xsi:type="dcterms:W3CDTF">2006-12-08T12:55:39Z</dcterms:modified>
  <cp:revision>15</cp:revision>
  <dc:subject/>
  <dc:title>Fototechnika</dc:title>
</cp:coreProperties>
</file>