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72E7-93CB-4B8F-B7A9-DE8BA3610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CAAB-074B-4475-BDAB-B9AFC6BDC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696E-FA43-49DC-AECC-F0E11C368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11D1-F5BC-4662-9E44-680EC7B70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CD0F-B976-4110-B2CD-3FDAB58D0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D4A2-5E18-40DF-9A19-AE13D7FDA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5E3E-DC70-4666-AD94-EAF885E6A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AC43-2450-4E45-B102-20C141FBE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8FD4-1759-4404-8D35-29F744167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B659-6DA8-4706-9C52-06F365D5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E8B7-6F8D-4B90-9CC2-17E45F9A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A7CC-2F57-4F70-9471-B6176AF5D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7c7c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EF0B2-A4E0-4485-B161-113A4B2EB2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cc"/>
            </a:gs>
            <a:gs pos="100000">
              <a:srgbClr val="7c7c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Arial"/>
              </a:rPr>
              <a:t>Trh biopotravin</a:t>
            </a:r>
            <a:br>
              <a:rPr sz="5400"/>
            </a:br>
            <a:br>
              <a:rPr sz="5400"/>
            </a:b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Základy marketingového výzkumu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C 147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Výzkumný tým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ladimíra Kuběnová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aroslav Procházka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ndřej Rutkovsk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cc"/>
            </a:gs>
            <a:gs pos="100000">
              <a:srgbClr val="7c7c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ovoz biopotravi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 vstupu do EU se výrazně zvýšil dovoz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ásledujících biopotrav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máčky, pomazánky, nápoje, sladidla, oleje a tuky, ale také luštěniny, semena a ořec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 roku 2005 se začalo ze zahraničí dovážet i čerstvé zboží, především ovo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elenin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léčné výrob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ětšina dovozových biopotravin pochází z Holandska Německa, Itálie a Bel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hraniční bio výrobci mají o český trh velký zájem, na trh však vstupují i noví čeští podnikatel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cc"/>
            </a:gs>
            <a:gs pos="100000">
              <a:srgbClr val="7c7c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ýměra zemědělské půdy v Č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ková výměra zemědělské půdy v České republice činí 4 264 000 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ůda pro pěstováni biopotravin tvoří pouze její zlom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ýměra půdy pro biopotraviny se v jednotlivých letech různí (viz následující gra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cc"/>
            </a:gs>
            <a:gs pos="100000">
              <a:srgbClr val="7c7c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5640" y="5300280"/>
            <a:ext cx="683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droj: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www.greenmarketing.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116000" y="549360"/>
          <a:ext cx="693432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549360"/>
                    <a:ext cx="693432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cc"/>
            </a:gs>
            <a:gs pos="100000">
              <a:srgbClr val="7c7c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rnutí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480" y="1844280"/>
            <a:ext cx="784872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h s biopotravinami se rozvíjí stále dynamičtě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roti západní Evropě ale není tak rozvin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řibývá prodejních míst biopotrav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 trhu tvoří jen zlomek prodávaných potrav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roti konvenčním potravinám jsou dražš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ČR zajisté existují půdní rezervy pro intenzivnější ekologické zemědělstv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cc"/>
            </a:gs>
            <a:gs pos="100000">
              <a:srgbClr val="7c7c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899640" y="2133720"/>
            <a:ext cx="6782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ttp://bio-potraviny.abecedazdravi.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ttp://www.greenmarketing.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ttp://www.mze.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ttp://www.biopotraviny.inf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ttp://www.mesicbiopotravin.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cc"/>
            </a:gs>
            <a:gs pos="100000">
              <a:srgbClr val="7c7c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Základní defini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50920" y="1341360"/>
            <a:ext cx="84247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opotravin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jsou všechny živočišné a rostlinné produkty, které byly vypěstovány nebo chovány v přírodních podmínkách bez použití pesticidů, fungicidů, hormonů nebo umělých hnojiv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kologické zemědělstv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je způsob hospodaření, který klade značný důraz na opatření chránící půdu a přírodu, zajišťuje ohleduplné zacházení se zvířaty a nepoužívá syntetické pesticidy ani umělá hnojiv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kologický původ biopotravin zajišťuje zákon a přísná kontrola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kologické zemědělství je v  České republice definován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řízením Rady EU 2092/199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ákonem 242/2000 Sb. o ekologickém zemědělství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cc"/>
            </a:gs>
            <a:gs pos="100000">
              <a:srgbClr val="7c7c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128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Základní údaje o prodeji biopotravi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94920" y="2133360"/>
            <a:ext cx="838188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roce 2005 dosáhl v ČR maloobchodní obrat s biopotravinami 350 milionů Kč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roti roku 2004  jde o 30% nárů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řesto se biopotraviny podílí na celkové spotřebě potravin jen 0,18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třeba na 1 obyvatele je 35 K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 srovnání se západní Evropou je spotřeba biopotravin velmi nízká (zhruba 3-4 % spotřeby na obyvatele a ro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cc"/>
            </a:gs>
            <a:gs pos="100000">
              <a:srgbClr val="7c7c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58560" y="4797000"/>
            <a:ext cx="482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droj: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www.mesicbiopotravin.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384120" y="635040"/>
          <a:ext cx="6164280" cy="425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635040"/>
                    <a:ext cx="6164280" cy="425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6293160" y="2492280"/>
            <a:ext cx="2210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 Hypermarke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 Prodejny zdravé výživ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 Farmy, tržiště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 Drobné obchod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cc"/>
            </a:gs>
            <a:gs pos="100000">
              <a:srgbClr val="7c7c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pracované biopotravin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léko a mléčné výrobk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aso a výrobky z mas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ápoj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ilniny, snídaňové směs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,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ečivo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voce a zelenin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,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yliny, čaje, koření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díl jednotlivých produktových kategorií na českém trhu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cc"/>
            </a:gs>
            <a:gs pos="100000">
              <a:srgbClr val="7c7c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3640" y="4759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rovnání cen biopotravin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 konvenčních výrobků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32000" y="1844280"/>
            <a:ext cx="69134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jce 6 k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0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blk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5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mbo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7,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léko (1l, plnotučné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5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ýr Eida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20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gurt bíl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5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vězí mas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přové maso ký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0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léb pšeničn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5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ěstoviny (špagety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0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uka pšeničná hrubá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90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Čaj ovocný porcovaný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2,5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cc"/>
            </a:gs>
            <a:gs pos="100000">
              <a:srgbClr val="7c7c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10 největších firem na trhu s biopotravinami dle obratu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68360" y="1699920"/>
            <a:ext cx="820728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lbio, s.r.o.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io-nebio s.r.o.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iopark s.r.o.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arrefour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ountry Life s.r.o.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rma Ratibořice rodiny Dobrovolných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lma a.s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-BIO s.r.o.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luneční brána s.r.o.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an Štěrba – Ekofarma Deblí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cc"/>
            </a:gs>
            <a:gs pos="100000">
              <a:srgbClr val="7c7c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0560" y="5373360"/>
            <a:ext cx="504036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droj: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www.greenmarketing.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585720" y="620640"/>
          <a:ext cx="7035840" cy="53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5720" y="620640"/>
                    <a:ext cx="7035840" cy="53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cc"/>
            </a:gs>
            <a:gs pos="100000">
              <a:srgbClr val="7c7c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38052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aktory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ovlivňující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 růst trhu s biopotravinam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4360" y="1773000"/>
            <a:ext cx="74880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výšená poptávka díky informačním a vzdělávacím kampaní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výšená poptávka díky informačním a vzdělávacím kampaní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řijetí biopotravin „tvůrci názorů“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ůst střední třídy a disponibilních příjmů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výšená podpora nabídky biopotravin v obchodních řetězcí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pora marketingu a propagace ze strany zahraničních dodavatelů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ětší výběr a lepší dostupno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15:21:53Z</dcterms:created>
  <dc:creator>Rutkovsky</dc:creator>
  <dc:description/>
  <dc:language>en-US</dc:language>
  <cp:lastModifiedBy>Vladěnka</cp:lastModifiedBy>
  <dcterms:modified xsi:type="dcterms:W3CDTF">2006-12-07T22:09:30Z</dcterms:modified>
  <cp:revision>13</cp:revision>
  <dc:subject/>
  <dc:title>Trh biopotravin  Základy marketingového výzkumu SOC 147   Výzkumný tým: Vladimíra Kuběnová Jaroslav Procházka Ondřej Rutkovský</dc:title>
</cp:coreProperties>
</file>