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54A-83C5-4C29-B06E-F6B98B33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54A-A502-4E5D-9ABE-4139A9D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CCE-AA2D-4580-91CD-82284730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395-B4D8-429F-9D8A-6372799A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3F8D-6737-4D56-B798-5062AA0F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8067-EE30-4BE6-A31E-F18E1054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E247-2305-47E9-B18B-04CD807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B8D1-F9B9-4E68-AE28-8A8F2DA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F4C7-5882-4460-94AD-BBAEF6B3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80C-6714-47AB-B903-21BD338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B1B0-2040-4731-9188-93EECCC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B3B-BB17-459A-BD80-A50FB2C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522-E69F-4DA5-99DF-7679EB5C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D8A-6667-460F-BEC9-398891A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5CCA-B5CA-4257-B298-52865925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ABF6-E66F-4B30-9EB9-79168E65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B9A-32AE-4651-9451-E07B0156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655-A0F2-4EE7-8299-510B2692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343-9965-4A88-AB3C-C4F4C4A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5DB-5B41-448B-B94E-505A11CD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480-05C3-4990-945B-8CB3A26B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EDF-402C-402C-8511-E848A1A2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A35-381B-430B-B652-0CA46C4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DDB-2321-4885-9EF5-FC04196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5EC1-1602-46D0-8F57-8140D701B6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5AC3-6070-4680-95BE-D35E06B9B4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Rozšíření bankovních karet v ČR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kum tr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7288200" y="5148360"/>
            <a:ext cx="1604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7640" y="5950080"/>
            <a:ext cx="16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Tomáš H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Brno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Růst objemu transakcí bankovními kartami a prostřednictvím bankomatů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řístup české populace k používání platebních kare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-684360" y="1600200"/>
          <a:ext cx="9828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600200"/>
                    <a:ext cx="9828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Novinky a budoucnost trh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álně dochází z důvodu větší bezpečnosti k přechodu od obyčejných elektronických karet s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magnetickým proužk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karty s čip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Čipová technolog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dražší, ale bezpečnější, bohužel ale do té doby, dokud budou existovat i karty s magnetickým proužkem, jsou benefity čipových k. nevyužite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konce roku 2005 bylo v ČR vydáno přes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7 310 000 kare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znamená, že jedna platební karta připadá na 3 lidi ze čtyř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ovšem neznamená, že je trh nasycený, protože v západní Evropě je objem karet mnohem větší, například v Norsku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řipadá 2,5 kart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 obyvat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Historie trhu platebních kare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ankovní kar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dána v New Yorku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5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stová kar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možňující placení pomocí mechanických snímačů vydána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858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ké v 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vní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tební karta u ná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ichází na svět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88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Živnostenské bance jako dispoziční karta k tuzexovému účt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 revoluci dochází k liberalizaci československého bankovnictví. V r. </a:t>
            </a:r>
            <a:r>
              <a:rPr b="0" lang="cs-CZ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199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lo založeno </a:t>
            </a:r>
            <a:r>
              <a:rPr b="0" lang="cs-CZ" sz="2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ezibankovní sdruže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 platební karty, jež začalo koordinovat rozšíření použití platebních karet u ná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Druhy platebních karet 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betní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vydaná k účtu, umožňující čerpat výhradně prostředky uložené na tomto účtu, výjimečně s povoleným překročením zůstatku o tzv. povolený debet, který se však úročí zvláštní (vyšší) sazbou.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reditní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sloužící k čerpání předem projednaného úvěru, s individuálně stanovenými podmínkami splácení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Charge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editní karta s pevně stanovenou (obvykle měsíční) lhůtou splacení úvěrového čerpání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Čipová karta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se zabudovanou mikroelektronickou součástkou (čipem), obsahující paměťové obvody, procesor a další obvody umožňující záznam dat a komunikaci s terminál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Druhy platebních karet II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ybrid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rta vybavená jak magnetickým proužkem, tak čip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rtuál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existující pouze ve formě čísla, určená pro použití v elektronickém prostředí (např. k placení na internetu). Nemá fyzickou (plastovou) reprezentaci, nemůže tedy být použita (event. zneužita) ve fyzickém obchodě nebo bankomat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lužební kar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ební karta vydaná k účtu organizace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užící výhradně k úhradě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žebních výdajů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Typy běžně užívaných debetních karet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lektronick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nejčastěj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užívané karty. Banky je většinou vydávají k účtu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zdarm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Jsou určeny především k výběrům z bankomatu a pro platby u obchodníků, kteří mají elektronický platební terminál. Nevýhodou je jejich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zatím omezená použitel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 plateb v prodejnách.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mbosovan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á se o platební karty s tzv.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reliéfním (plastickým) písm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Karty umožňují nakupovat i v prodejnách, které nejsou vybaveny elektronickým terminálem. Obchodník používá tzv. žehličku (imprinter - mechanický snímač), který sejme otisk všech údajů vyražených na kartě a zákazník údaje potvrdí svým podpisem. Na základě toho pak obchodník zúčtuje platbu. Embosované  karty lze používat na </a:t>
            </a:r>
            <a:r>
              <a:rPr b="0" lang="cs-CZ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více místech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ž karty elektronické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Vývoj trhu karet v Č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2060640"/>
          <a:ext cx="8785080" cy="3455640"/>
        </p:xfrm>
        <a:graphic>
          <a:graphicData uri="http://schemas.openxmlformats.org/drawingml/2006/table">
            <a:tbl>
              <a:tblPr/>
              <a:tblGrid>
                <a:gridCol w="2547720"/>
                <a:gridCol w="692280"/>
                <a:gridCol w="691920"/>
                <a:gridCol w="694080"/>
                <a:gridCol w="692280"/>
                <a:gridCol w="694440"/>
                <a:gridCol w="691920"/>
                <a:gridCol w="694440"/>
                <a:gridCol w="691920"/>
                <a:gridCol w="6940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ydané karty (tis.ks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4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5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39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6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2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6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66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7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talovaných bankoma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4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5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9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6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7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8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bchodní mí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13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00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47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26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340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02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487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15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8a500"/>
                          </a:solidFill>
                          <a:latin typeface="Times New Roman"/>
                          <a:ea typeface="Times New Roman"/>
                        </a:rPr>
                        <a:t>546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rovozovatelé platebních karet na našem trhu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 dominantní hráč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sa International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Visa Electron, embosované Visa Classic, Visa Silver, Visa Gold, Visa Plati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sterCard International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irrus, Maestro, embosovaná MC standard, MC Gold, World Signum (luxusní karta v ČR dosud nevydá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éně významní aktéř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ers Club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JBC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Japan Credit Burea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MEX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merican Exp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Celkem vydané karty v r. 2005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3040" y="1401840"/>
          <a:ext cx="8464680" cy="55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01840"/>
                    <a:ext cx="846468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Poměr typů vydaných karet v r. 2005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484280"/>
          <a:ext cx="9144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32:43Z</dcterms:created>
  <dc:creator>tomáš haken</dc:creator>
  <dc:description/>
  <dc:language>en-US</dc:language>
  <cp:lastModifiedBy>tomáš haken</cp:lastModifiedBy>
  <dcterms:modified xsi:type="dcterms:W3CDTF">2006-12-09T14:24:54Z</dcterms:modified>
  <cp:revision>6</cp:revision>
  <dc:subject/>
  <dc:title>Snímek 1</dc:title>
</cp:coreProperties>
</file>