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CEA-D533-41A2-9AD6-5981B3E5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377-55DB-4719-A835-2487B327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A6C-30B0-4F37-BA6E-EB85E6A6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BF1-CC16-4A83-A7FB-DC96BF55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C61-28CA-4256-850D-F9CE4505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A5E-36A9-437B-BFB1-08B26DCC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5E8-0BB8-4179-B7A6-6E91E808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60E-FEE8-41D2-9044-84F42165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963-9D59-4DBC-B956-716DFB0C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5E7-1B2C-4CB9-B0DD-5496B802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945-35C0-4069-B47C-79B6D7C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D1A-F979-4E21-8099-63F7365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F2B-B727-4409-8C71-0194B19FB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z.o2.com/" TargetMode="External"/><Relationship Id="rId3" Type="http://schemas.openxmlformats.org/officeDocument/2006/relationships/hyperlink" Target="http://www.cz.o2.com/" TargetMode="External"/><Relationship Id="rId4" Type="http://schemas.openxmlformats.org/officeDocument/2006/relationships/hyperlink" Target="http://www.cz.o2.com/" TargetMode="External"/><Relationship Id="rId5" Type="http://schemas.openxmlformats.org/officeDocument/2006/relationships/hyperlink" Target="http://www.cz.o2.com/" TargetMode="External"/><Relationship Id="rId6" Type="http://schemas.openxmlformats.org/officeDocument/2006/relationships/hyperlink" Target="http://www.gtsnovera.cz/" TargetMode="External"/><Relationship Id="rId7" Type="http://schemas.openxmlformats.org/officeDocument/2006/relationships/hyperlink" Target="http://www.gtsnovera.cz/" TargetMode="External"/><Relationship Id="rId8" Type="http://schemas.openxmlformats.org/officeDocument/2006/relationships/hyperlink" Target="http://www.gtsnovera.cz/" TargetMode="External"/><Relationship Id="rId9" Type="http://schemas.openxmlformats.org/officeDocument/2006/relationships/hyperlink" Target="http://www.gtsnovera.cz/" TargetMode="External"/><Relationship Id="rId10" Type="http://schemas.openxmlformats.org/officeDocument/2006/relationships/hyperlink" Target="http://www.gtsnovera.cz/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h pevných line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10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: Základy marketingového výzku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ři:     Koplíková Tereza, Krčmová Di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šicová Ludmila, Pokojová Vero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ránky Telefónicy O2: 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http://www.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3"/>
              </a:rPr>
              <a:t>cz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4"/>
              </a:rPr>
              <a:t>.o2.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5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ránky GTS Novery: 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6"/>
              </a:rPr>
              <a:t>http://www.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7"/>
              </a:rPr>
              <a:t>gtsnovera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8"/>
              </a:rPr>
              <a:t>.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9"/>
              </a:rPr>
              <a:t>cz</a:t>
            </a:r>
            <a:r>
              <a:rPr b="0" i="1" lang="cs-CZ" sz="2400" spc="-1" strike="noStrike" u="sng">
                <a:solidFill>
                  <a:srgbClr val="000066"/>
                </a:solidFill>
                <a:uFillTx/>
                <a:latin typeface="Arial"/>
                <a:hlinkClick r:id="rId10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ránky Radiokomunikací a.s.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www.radiokomunikace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inance.centrum.cz: Alternativní operátor vám nemusí ušetřit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aktualne.centrum.cz/finance/rodinne-finance/pausaly-a-tarify/clanek.phtml?id=256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upa.cz: Jaké plány má GTS Novera?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www.lupa.cz/clanky/jake-plany-ma-gts-nover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upa.cz: Radiokomunikace odkoupily Tele2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www.lupa.cz/clanky/ceske-radiokomunikace-odkoupily-tele2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▪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eský telekomunikační úřad: Měsíční monitorovací zpráva č.3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tupraha.cz/1/download/monitorovaci_zprava_03_rijen_2006_1163604044.d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kytovatelé pevných lin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333399"/>
                </a:solidFill>
                <a:latin typeface="Arial"/>
              </a:rPr>
              <a:t>Nejsilnější operátoři na t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fónica O2 Czech Republic a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iokomunikace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TS Novera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333399"/>
                </a:solidFill>
                <a:latin typeface="Arial"/>
              </a:rPr>
              <a:t>Menší operáto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iscali, Dial Telecom, Emea, UPC, Karneval, Czech on-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Telefónica O2 Czech Republic a.s.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: 1.7.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ský Telecom a.s. + Eurotel Praha, spol.        s r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30.6.20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et pevných linek: 2,835 mil. Kč        (-7,8%); kles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: 15,447 mld. Kč (-4,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Tržní podíl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9,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GTS Novera a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1.4.2005 přejmenováním společnosti Ali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pokládaná tržba: téměř 6 mld.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žní podíl: 14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lkový počet zákazníků neupřesn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ientace hlavně na firemní seg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diokomunikace a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 České radiokomunikace a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převod na Radiokomunikace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ěten 2006 – převzetí Tele2 s r.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s 450.000 zákazníků, z toho 88% domá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pokládaná tržba: cca 3 mld. K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,3 mld. Kč v roce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žní podíl: 4,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rytí: 38%; plán: v roce 2007 přes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íl na trhu fixních telekomunikačních operátorů podle výše tr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68360" y="1413000"/>
          <a:ext cx="8353440" cy="509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413000"/>
                    <a:ext cx="835344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rovnání let 2005 a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483160"/>
                <a:gridCol w="1440000"/>
                <a:gridCol w="1306440"/>
              </a:tblGrid>
              <a:tr h="90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komunikační operá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k 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k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fónica O2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Český Telecom + Eurot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TS Novera 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TS Novera + Contact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komunikace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České radiokomunikace + eT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rovnání tarifů - Přesměr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147160" cy="4060800"/>
        </p:xfrm>
        <a:graphic>
          <a:graphicData uri="http://schemas.openxmlformats.org/drawingml/2006/table">
            <a:tbl>
              <a:tblPr/>
              <a:tblGrid>
                <a:gridCol w="2243160"/>
                <a:gridCol w="1584360"/>
                <a:gridCol w="2232000"/>
                <a:gridCol w="208764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š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 na pevné linky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 na mobi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, 41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58/0,7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50/4,64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ra telefonní předvo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 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6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ní program Komfort (Radiokomunikace a.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 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/0,62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2/4,5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rovnání tarifů – převod pevné lin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13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š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ce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 na pevné linky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ání na mobil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, 41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58/0,7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50/4,64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 Telef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adiokomunikace a.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2, 31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vory na pevné linky v ČR – prvních 30-60 minut zdarma, a připojení k internetu 64 kbit/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prvních 30-60 minutá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3/0,6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5/4,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3:33:51Z</dcterms:created>
  <dc:creator>144316</dc:creator>
  <dc:description/>
  <dc:language>en-US</dc:language>
  <cp:lastModifiedBy>Svine Pitoma II.</cp:lastModifiedBy>
  <dcterms:modified xsi:type="dcterms:W3CDTF">2006-12-08T23:27:02Z</dcterms:modified>
  <cp:revision>56</cp:revision>
  <dc:subject/>
  <dc:title>Trh pevných linek</dc:title>
</cp:coreProperties>
</file>