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9.png" ContentType="image/png"/>
  <Override PartName="/ppt/media/image13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AA429-BDE2-4003-B97D-F3CD649A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10E36-89FB-4102-BBE5-4A178D7A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E3752-8E24-40AA-9B04-0BA0C215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06ECD-BCD7-43B3-98CD-38C95182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E484-C65C-4525-90D5-E4CDD10F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C8E2-870D-44C8-8920-A9DAA984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8F19-2690-4E8F-B5FA-7B4C655D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8BD5-2C51-45B7-BB7B-37D42588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845C-DD25-41DC-9D2A-B9EBDFAE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EDBA-D83C-4404-A7E0-2E244A4D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BC6C-918B-4D51-B11E-47CF55B0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B496F-BF2B-40E5-9E85-88D03F25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4F48-C1A4-46CE-8500-FB050393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5F07-A9D1-4E41-9192-29D42EA4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EA6C-1071-4255-AB6B-9BEF578A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8C6D-07BB-4FC9-966E-2651A73C9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8AFB-675C-4EC4-9029-B5F30058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CF97E-59DA-407E-A814-629CF86F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04EAA-37F1-470E-BDDC-D8A8DA7E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3BBE9-6EB7-4E06-8B92-971B511A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9772C-AB35-46A7-8E03-1BB28CE7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763C0-01E3-4D56-91CD-BAF48283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A03B0-DC7B-4095-B6A9-4A739943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05F3B-BB89-4176-863E-E7DC24FA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B22B-CF86-4711-B1D2-CFD42C842B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7399"/>
                  </a:gs>
                  <a:gs pos="100000">
                    <a:srgbClr val="7f7fa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7399"/>
                  </a:gs>
                  <a:gs pos="100000">
                    <a:srgbClr val="7f7fa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76789"/>
                  </a:gs>
                  <a:gs pos="100000">
                    <a:srgbClr val="7f7f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7f7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f7fa9"/>
                  </a:gs>
                  <a:gs pos="100000">
                    <a:srgbClr val="6f6f9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f7fa9"/>
                </a:gs>
                <a:gs pos="100000">
                  <a:srgbClr val="6b6b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7f7fa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7399"/>
                  </a:gs>
                  <a:gs pos="100000">
                    <a:srgbClr val="7f7fa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7399"/>
                  </a:gs>
                  <a:gs pos="100000">
                    <a:srgbClr val="7f7fa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76789"/>
                  </a:gs>
                  <a:gs pos="100000">
                    <a:srgbClr val="7f7f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7f7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f7fa9"/>
                  </a:gs>
                  <a:gs pos="100000">
                    <a:srgbClr val="6f6f9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f7fa9"/>
                </a:gs>
                <a:gs pos="100000">
                  <a:srgbClr val="6b6b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7f7fa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DEB2-3447-48E3-A49C-08B3261070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esec.cz/texty/zdravotni-pojisteni/" TargetMode="External"/><Relationship Id="rId2" Type="http://schemas.openxmlformats.org/officeDocument/2006/relationships/hyperlink" Target="http://www.mesec.cz/texty/zdravotni-pojisteni/" TargetMode="External"/><Relationship Id="rId3" Type="http://schemas.openxmlformats.org/officeDocument/2006/relationships/hyperlink" Target="http://www.mesec.cz/texty/zdravotni-pojisteni/" TargetMode="External"/><Relationship Id="rId4" Type="http://schemas.openxmlformats.org/officeDocument/2006/relationships/hyperlink" Target="http://www.mesec.cz/texty/zdravotni-pojisteni/" TargetMode="External"/><Relationship Id="rId5" Type="http://schemas.openxmlformats.org/officeDocument/2006/relationships/hyperlink" Target="http://www.mesec.cz/texty/zdravotni-pojisteni/" TargetMode="External"/><Relationship Id="rId6" Type="http://schemas.openxmlformats.org/officeDocument/2006/relationships/hyperlink" Target="http://www.mesec.cz/texty/zdravotni-pojisteni/" TargetMode="External"/><Relationship Id="rId7" Type="http://schemas.openxmlformats.org/officeDocument/2006/relationships/hyperlink" Target="http://www.mesec.cz/texty/zdravotni-pojisteni/" TargetMode="External"/><Relationship Id="rId8" Type="http://schemas.openxmlformats.org/officeDocument/2006/relationships/hyperlink" Target="http://www.mesec.cz/texty/zdravotni-pojisteni/" TargetMode="External"/><Relationship Id="rId9" Type="http://schemas.openxmlformats.org/officeDocument/2006/relationships/hyperlink" Target="http://www.mesec.cz/texty/zdravotni-pojisteni/" TargetMode="External"/><Relationship Id="rId10" Type="http://schemas.openxmlformats.org/officeDocument/2006/relationships/hyperlink" Target="http://www.vzp.cz/" TargetMode="External"/><Relationship Id="rId11" Type="http://schemas.openxmlformats.org/officeDocument/2006/relationships/hyperlink" Target="http://www.ozp.cz/" TargetMode="External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fe9"/>
                </a:solidFill>
                <a:latin typeface="Garamond"/>
              </a:rPr>
              <a:t>Trh zdravotních pojišťoven v ČR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501300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oleželová Ivan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Katzorová Denis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8. 12. 2006                                                                                 Pelánová Kateřin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635280" y="2924280"/>
            <a:ext cx="1776600" cy="182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093080" y="765000"/>
            <a:ext cx="1630080" cy="13734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360" y="213372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Marketingové strategie zdravotních pojišťoven dále ovlivňuje i gendrové složení jejich klientel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e většině zdravotních pojišťoven je poměr pohlaví vyrovnaný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becně se ZP snaží přilákat spíše ženy a převážně ženy v produktivním věku nebo ženy v těhotenství, jelikož předpokládají, že matka přihlásí své dítě do pojišťovny, jíž je sama klientkou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Zdravotní pojišťovny, které mají vysoký nepoměr mezi muži a ženami, s tím, že žen je výrazně více se snaží přilákat muže  na atraktivní programy sportovního charakteru (např. ZP M-A, muži 45,5%, ženy 54,5%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Marketingové strategie zdravotních pojišťoven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Ekonomické ukazatele ZP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71640" y="1628640"/>
          <a:ext cx="7200720" cy="4773600"/>
        </p:xfrm>
        <a:graphic>
          <a:graphicData uri="http://schemas.openxmlformats.org/drawingml/2006/table">
            <a:tbl>
              <a:tblPr/>
              <a:tblGrid>
                <a:gridCol w="1666800"/>
                <a:gridCol w="2592360"/>
                <a:gridCol w="294156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jišťov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říjmy (v Kč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ldo příjmů a výdajů (v Kč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Z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6 392 429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974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oZ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 394 939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41 03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Z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 899 077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11 516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Z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 007 569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85 81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P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888 03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4 053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P MV Č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 016 796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8 358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B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 284 36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3 286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P M - 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996 395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4 151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ČNZ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 159 698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21 568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723080" y="333360"/>
            <a:ext cx="124488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Ekonomické ukazatele ZP</a:t>
            </a: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195640" y="1773360"/>
          <a:ext cx="4038480" cy="4728960"/>
        </p:xfrm>
        <a:graphic>
          <a:graphicData uri="http://schemas.openxmlformats.org/drawingml/2006/table">
            <a:tbl>
              <a:tblPr/>
              <a:tblGrid>
                <a:gridCol w="1574640"/>
                <a:gridCol w="2463840"/>
              </a:tblGrid>
              <a:tr h="119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jišťov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ůměrný výdaj na zdravotní péči na 1 pojištěnce (v 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Z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5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oZ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3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Z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1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Z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7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PŠ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0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P MV Č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8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B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0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P M - 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99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ČNZ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9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588000" y="1197000"/>
            <a:ext cx="142092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Komentář k tabulkám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říjmy ZP odrážejí především počet jejich pojištěnců a z části průměrný příjem pojistného po přerozdělování na 1 pojištěnce ročně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ldo příjmů a výdajů je dán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24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Věkovou strukturou pojištěnců (Stárnutí stabilního kmene pojištěnců, což je způsobeno celkovým stárnutím české populace. Tzn. větší výdaje na lékařskou péči a tím také vyšší průměrný výdaj na zdravotní péči na 1 pojištěnce .)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24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Počtem pojištěnců nad rámec pojistného plánu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24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Výší pohledávek ZP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Shrnutí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78598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26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Trh zdravotních pojišťoven je tvořen devíti pojišťovnami, které si vzájemně konkurují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26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Všeobecná zdravotní pojišťovna je na českém trhu největší, má nejvíce klientů (65%) i příjmů, ale velkou část (23%) tvoří lidé v důchodovém věku, jejichž zdravotní péče je více nákladná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26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aramond"/>
              </a:rPr>
              <a:t>Ostatní pojišťovny se snaží spíše přilákat jiné spektrum klientů (produktivní věk, nízké náklady na zdravotní péči)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 rot="2850000">
            <a:off x="6229800" y="257400"/>
            <a:ext cx="165888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Zdroje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 u="sng">
                <a:solidFill>
                  <a:srgbClr val="ccecff"/>
                </a:solidFill>
                <a:uFillTx/>
                <a:latin typeface="Garamond"/>
                <a:hlinkClick r:id="rId1"/>
              </a:rPr>
              <a:t>http://www.</a:t>
            </a:r>
            <a:r>
              <a:rPr b="0" lang="cs-CZ" sz="2100" spc="-1" strike="noStrike" u="sng">
                <a:solidFill>
                  <a:srgbClr val="ccecff"/>
                </a:solidFill>
                <a:uFillTx/>
                <a:latin typeface="Garamond"/>
                <a:hlinkClick r:id="rId2"/>
              </a:rPr>
              <a:t>mesec</a:t>
            </a:r>
            <a:r>
              <a:rPr b="0" lang="cs-CZ" sz="2100" spc="-1" strike="noStrike" u="sng">
                <a:solidFill>
                  <a:srgbClr val="ccecff"/>
                </a:solidFill>
                <a:uFillTx/>
                <a:latin typeface="Garamond"/>
                <a:hlinkClick r:id="rId3"/>
              </a:rPr>
              <a:t>.</a:t>
            </a:r>
            <a:r>
              <a:rPr b="0" lang="cs-CZ" sz="2100" spc="-1" strike="noStrike" u="sng">
                <a:solidFill>
                  <a:srgbClr val="ccecff"/>
                </a:solidFill>
                <a:uFillTx/>
                <a:latin typeface="Garamond"/>
                <a:hlinkClick r:id="rId4"/>
              </a:rPr>
              <a:t>cz</a:t>
            </a:r>
            <a:r>
              <a:rPr b="0" lang="cs-CZ" sz="2100" spc="-1" strike="noStrike" u="sng">
                <a:solidFill>
                  <a:srgbClr val="ccecff"/>
                </a:solidFill>
                <a:uFillTx/>
                <a:latin typeface="Garamond"/>
                <a:hlinkClick r:id="rId5"/>
              </a:rPr>
              <a:t>/texty/</a:t>
            </a:r>
            <a:r>
              <a:rPr b="0" lang="cs-CZ" sz="2100" spc="-1" strike="noStrike" u="sng">
                <a:solidFill>
                  <a:srgbClr val="ccecff"/>
                </a:solidFill>
                <a:uFillTx/>
                <a:latin typeface="Garamond"/>
                <a:hlinkClick r:id="rId6"/>
              </a:rPr>
              <a:t>zdravotni</a:t>
            </a:r>
            <a:r>
              <a:rPr b="0" lang="cs-CZ" sz="2100" spc="-1" strike="noStrike" u="sng">
                <a:solidFill>
                  <a:srgbClr val="ccecff"/>
                </a:solidFill>
                <a:uFillTx/>
                <a:latin typeface="Garamond"/>
                <a:hlinkClick r:id="rId7"/>
              </a:rPr>
              <a:t>-</a:t>
            </a:r>
            <a:r>
              <a:rPr b="0" lang="cs-CZ" sz="2100" spc="-1" strike="noStrike" u="sng">
                <a:solidFill>
                  <a:srgbClr val="ccecff"/>
                </a:solidFill>
                <a:uFillTx/>
                <a:latin typeface="Garamond"/>
                <a:hlinkClick r:id="rId8"/>
              </a:rPr>
              <a:t>pojisteni</a:t>
            </a:r>
            <a:r>
              <a:rPr b="0" lang="cs-CZ" sz="2100" spc="-1" strike="noStrike" u="sng">
                <a:solidFill>
                  <a:srgbClr val="ccecff"/>
                </a:solidFill>
                <a:uFillTx/>
                <a:latin typeface="Garamond"/>
                <a:hlinkClick r:id="rId9"/>
              </a:rPr>
              <a:t>/</a:t>
            </a:r>
            <a:r>
              <a:rPr b="0" lang="cs-CZ" sz="2100" spc="-1" strike="noStrike">
                <a:solidFill>
                  <a:srgbClr val="ffffff"/>
                </a:solidFill>
                <a:latin typeface="Garamond"/>
              </a:rPr>
              <a:t> (ověřeno 7.12.2006)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 u="sng">
                <a:solidFill>
                  <a:srgbClr val="ccecff"/>
                </a:solidFill>
                <a:uFillTx/>
                <a:latin typeface="Garamond"/>
                <a:hlinkClick r:id="rId10"/>
              </a:rPr>
              <a:t>http://www.vzp.cz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 u="sng">
                <a:solidFill>
                  <a:srgbClr val="ccecff"/>
                </a:solidFill>
                <a:uFillTx/>
                <a:latin typeface="Garamond"/>
                <a:hlinkClick r:id="rId11"/>
              </a:rPr>
              <a:t>http://www.ozp.cz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Garamond"/>
              </a:rPr>
              <a:t>http://www.cnzp.cz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Garamond"/>
              </a:rPr>
              <a:t>http://www.hzp.cz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Garamond"/>
              </a:rPr>
              <a:t>http://www.rbp-zp.cz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Garamond"/>
              </a:rPr>
              <a:t>http://www.vozp.cz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Garamond"/>
              </a:rPr>
              <a:t>http://www.zpskoda.cz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Garamond"/>
              </a:rPr>
              <a:t>http://www.zpma.cz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Garamond"/>
              </a:rPr>
              <a:t>http://www.zpmvcr.cz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Garamond"/>
              </a:rPr>
              <a:t>http://www.uzis.cz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Garamond"/>
              </a:rPr>
              <a:t>http://www.mzcr.cz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Garamond"/>
              </a:rPr>
              <a:t>http://racek.vlada.cz/usneseni/usneseni_test.nsf/0/6e1f26ff0e16a43cc125706200350ad3/</a:t>
            </a:r>
            <a:r>
              <a:rPr b="0" lang="en-US" sz="2100" spc="-1" strike="noStrike">
                <a:solidFill>
                  <a:srgbClr val="ffffff"/>
                </a:solidFill>
                <a:latin typeface="Garamond"/>
              </a:rPr>
              <a:t>$</a:t>
            </a:r>
            <a:r>
              <a:rPr b="0" lang="cs-CZ" sz="2100" spc="-1" strike="noStrike">
                <a:solidFill>
                  <a:srgbClr val="ffffff"/>
                </a:solidFill>
                <a:latin typeface="Garamond"/>
              </a:rPr>
              <a:t>FILE/w050824a.1060.doc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Garamond"/>
              </a:rPr>
              <a:t>Výroční zprávy ZP za rok 2004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Struktura zdravotního pojištění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147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dravotní pojištění se řídí zákonem č.48/1997 Sb. – Zákon o veřejném zdravotním pojištění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aždý občan ČR musí platit zdravotní pojištění – buď si ho hradí sám nebo je za něj placeno státem (děti, studenti, důchodci, apod.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ýše pojistného zdravotního pojištění je 13,5 % z vyměřovacího základ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dravotní pojištění je určené k úhradě nákladů zdravotní péče – plně jsou hrazeny nezbytné lékařské úkony, léky a zdravotnický materiál; na některé léky a zákroky pacient připlácí, některé hradí zcela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524720" y="5157720"/>
            <a:ext cx="11876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Struktura zdravotního pojištění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V současné době působí na trhu 9 soukromých zdravotních pojišťoven, z nichž každá má svůj kód a zkratku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Revírní bratrská pokladna zaměstnanecká zdravotní pojišťovna (213; RBP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borová zdravotní pojišťovna zaměstnanců bank, pojišťoven a stavebnictví (207; OZP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Zdravotní pojišťovna ministerstva vnitra ČR (211; ZP MV Č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Zaměstnanecká pojišťovna Škoda (209; ZPŠ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Česká národní zdravotní pojišťovna (222; ČNZP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Hutnická zaměstnanecká pojišťovna (205; HZP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šeobecná zdravotní pojišťovna ČR, a.s. (111,;VZP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ojenská zdravotní pojišťovna ČR (201; VoZP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Zdravotní pojišťovna METAL – ALIANCE (217; ZP M-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Struktura trhu zdravotních pojišťoven v roce 2004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2325600"/>
          <a:ext cx="4038480" cy="307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25600"/>
                    <a:ext cx="403848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156360" y="2133720"/>
          <a:ext cx="2519280" cy="3244680"/>
        </p:xfrm>
        <a:graphic>
          <a:graphicData uri="http://schemas.openxmlformats.org/drawingml/2006/table">
            <a:tbl>
              <a:tblPr/>
              <a:tblGrid>
                <a:gridCol w="1224000"/>
                <a:gridCol w="1295280"/>
              </a:tblGrid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jišťov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čet pojištěnců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Z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 728 4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oZ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74 68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Z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33 37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Z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91 8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P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5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P MV Č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95 77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B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40 8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P M - 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11 0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ČNZ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7 5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50920" y="1557360"/>
          <a:ext cx="5765760" cy="4784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557360"/>
                    <a:ext cx="5765760" cy="47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Struktura trhu zdravotních pojišťoven v roce 2004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33240" y="2457360"/>
          <a:ext cx="3686400" cy="280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240" y="2457360"/>
                    <a:ext cx="3686400" cy="28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5408640" y="1600200"/>
          <a:ext cx="2517840" cy="2185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8640" y="1600200"/>
                    <a:ext cx="251784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547640" y="1557360"/>
          <a:ext cx="5880240" cy="51055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7640" y="1557360"/>
                    <a:ext cx="588024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Komentář ke grafům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1471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ysoký počet pojištěnců VZP je způsobený účinností zákona č. 551/1991 Sb. (Zákon o Všeobecné zdravotní pojišťovně České republik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odle tohoto zákona je každý občan ČR přihlášen k VZP, pokud si nevybere jinou z oborových, resortních či podnikových ZP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708360" y="4653000"/>
            <a:ext cx="1838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Komentář ke grafům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Největší úbytek pojištěnců má VZP, což vyplývá z výše zmíněného zákona č. 551/1991 Sb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Úbytek pojištěnců VoZP je způsoben zrušením povinné vojenské služb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ojáci základní vojenské služby měli povinnost být přihlášeni u VoZP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Důvod velkého nárůstu pojištěnců OZP není znám, ale z jejich výroční zprávy vyplývá, že to může být způsobeno zvýšeným počtem narozených dětí jejich pojištěncům, zlepšování služeb, zvýšeným počtem pojištěnců v produktivním věku (zvláště ve věku 30 – 34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Marketingové strategie ZP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Klienti mohou měnit zdravotní pojišťovnu nejvýše jednou za rok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Zdravotní pojišťovny se snaží přilákat klienty na nadstandardní péči (k základní zákonem stanovené) v podobě balíčků pro různé klient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Soustředí se především na preventivní péči, děti (ozdravné pobyty, očkování, rovnátka…), těhotné ženy, cestovní pojištění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Není zájem přilákat klienty v důchodovém věku (ve věku nad 80 let stojí ročně VZP jedna žena 40 102,-, přičemž průměrný výdaj na jednoho pojištěnce je 15 524,-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812000" y="836640"/>
            <a:ext cx="114480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Marketingové strategie zdravotních pojišťoven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ZP se snaží udržet si dětské klienty (spektrum očkování, rovnátka, ozdravné pobyty), „prevence civilizačních onemocnění“ (23% klientů ve věku 60+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ruhý největší poměr lidí v důchodovém věku má HZP (20%, strategie: přilákání studentů, ženy v produktivním věku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292720" y="2205000"/>
            <a:ext cx="352260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4:58:53Z</dcterms:created>
  <dc:creator>Ivana Doleželová</dc:creator>
  <dc:description/>
  <dc:language>en-US</dc:language>
  <cp:lastModifiedBy>Petra</cp:lastModifiedBy>
  <dcterms:modified xsi:type="dcterms:W3CDTF">2006-12-08T16:28:15Z</dcterms:modified>
  <cp:revision>82</cp:revision>
  <dc:subject/>
  <dc:title>Trh zdravotních pojišťoven v ČR</dc:title>
</cp:coreProperties>
</file>