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707-11E4-4F53-B2C5-1364CA6D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1CE-6B3D-4679-A2C3-6332FDEC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002-45ED-49F9-A0B7-13274203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99B-9CC5-46B8-9071-8BF01CE1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346-54B3-441D-A688-AED7F93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594-813E-4F1F-AAA8-41B485F2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A22-7215-412D-BCBB-CF59720A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E67-4437-4C62-B720-77A876F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6F8-EB7A-45F3-90B5-6709910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322-77B2-4858-AB76-5A736F75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887-7CC0-40CE-BF26-277FB6B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96B-1AE8-4512-B0EB-7FFFD5D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FBE-CE8E-4558-9123-F36470A8D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kum trhu benzinových pump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třeba paliv v ČR v roc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íny-262 063 274 li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fta-1 609 109 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avní společnosti provozující benzinové pum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OMV Aktiengesellscha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Shell Overseas Investments B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Unipetrol(PKN Or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-čepro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-Esso, Jet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čet benzinových p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217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155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327stani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ho bu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konce roku 90 + 12 nových patřit pod Benzina pl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SO-40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t-44 st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žní podí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mv-1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zina-9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ell-nezjiště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uroOil-nezjiště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znam produktů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tural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 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ooktanový benzin ( 98,99,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torová naf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rhu motorových pal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839960"/>
            <a:ext cx="7345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rhu autobenzí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19280" y="1706400"/>
            <a:ext cx="564660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a prodeje obchodního zboží za rok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obilové benziny 52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G 0,2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ová nafta vč. bionafty 46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atní ropné produkty 0,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rovnání obchodních bilancí jednotlivých firem v letech 2003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enz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 426 00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 516 777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649 367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1 378 869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906 548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499 00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 363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73 437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95 672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3 895 210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 021 164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6 459 938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4 151 936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0 100 657 0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115 971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12 849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2 594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ržby resp. výkon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6 494 493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7 853 894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7 801 688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at resp. výnos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38 784 668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8 855 291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8 355 481 0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spodářsk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346 566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830 184 00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496 764 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ýsledek 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tní obdob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21:11:18Z</dcterms:created>
  <dc:creator>Martin  Bartoš</dc:creator>
  <dc:description/>
  <dc:language>en-US</dc:language>
  <cp:lastModifiedBy>Martin  Bartoš</cp:lastModifiedBy>
  <dcterms:modified xsi:type="dcterms:W3CDTF">2006-12-08T22:16:24Z</dcterms:modified>
  <cp:revision>2</cp:revision>
  <dc:subject/>
  <dc:title>Výzkum trhu benzinových pump v ČR</dc:title>
</cp:coreProperties>
</file>