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EFD-C600-4EDD-B6A2-E1C5329A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68C-4674-4BA9-8537-EBDD6D4E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AF2-1053-46E6-A4B1-9B21B37A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732-DBB8-427A-AC03-938E86B1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E3E6-C9DB-4C5E-AA1B-43234F20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19A5-D407-4DF0-B6E2-30312928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4B42-9A7D-4970-A275-DF3AC989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9D1D-1F1D-47D9-AEA5-35F2E5E0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D5B8-F36D-47A0-B15F-D855DC0C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3319-4EA1-440D-871A-CD703B1A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469A-E9A8-4384-8C55-E073451E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2BE-0AC5-4A26-8542-980070B6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CC76-46E2-49A7-AD46-B038F3CE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87B3-9800-443E-9E3E-9EC7F583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0F52-4F0C-4162-9317-F48D3987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140D-01E6-42BC-8E7A-1D79B8D2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9418-6183-4D15-B259-AA0FDED9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205-5771-4DD2-B897-06C72BBC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285-592B-4FF5-A7CA-78475301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7BE-35B0-4D45-8BC9-0FA7A235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F2D-9C06-4224-A78A-A29617B7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517-38C2-4201-864A-0ECE304F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BB4-55E2-47F6-90E3-93C65E18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4E17-BC49-4586-B72F-0A0F61E8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4824-5297-4B51-9434-CE1CF2216A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12C2-9326-4A06-9A55-50540D68FD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33240" y="363960"/>
            <a:ext cx="7882920" cy="10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kundární výzku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hu čokoládových výrobk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68360" y="1752480"/>
            <a:ext cx="459612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Zdro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očenka Č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S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roční zprávy Nestlé Česko s.r.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QMagaz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Internetové stránky výrobců čokolá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34286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iří Grummi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Co je čokolád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2204640"/>
            <a:ext cx="80010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dle vyhlášky č. 43/2005 Sb. se čokoládou rozumí výrobek, který splňuje požadavky na jakost – například obsahuje 35 % kakaové sušiny (hořká čokoláda) nebo 25 % kakaové sušiny (mléčná čokoláda). Pochoutkami (například nugátová, kakaová, čokoládová), případně nějakým podobným názvem, se označují ty výrobky, které tento a další požadavky nesplňují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Spotřeba čokolády v Č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olik kg kakaové sušiny připadlo v průměru na 1 občana Č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3429000"/>
          <a:ext cx="7812000" cy="1006560"/>
        </p:xfrm>
        <a:graphic>
          <a:graphicData uri="http://schemas.openxmlformats.org/drawingml/2006/table">
            <a:tbl>
              <a:tblPr/>
              <a:tblGrid>
                <a:gridCol w="868320"/>
                <a:gridCol w="866520"/>
                <a:gridCol w="868680"/>
                <a:gridCol w="869760"/>
                <a:gridCol w="865080"/>
                <a:gridCol w="870120"/>
                <a:gridCol w="868320"/>
                <a:gridCol w="866880"/>
                <a:gridCol w="8683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1619280" y="517212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544500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použity z ČS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Situace na trhu před rokem 199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4 velké závody ve vzájemné konkurenc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Verdana"/>
              </a:rPr>
              <a:t>Zor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Olomou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Verdana"/>
              </a:rPr>
              <a:t>Or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Praha Modřa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Verdana"/>
              </a:rPr>
              <a:t>Sfinx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olešo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Verdana"/>
              </a:rPr>
              <a:t>Maryša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ohatec u Hodoní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+ import ze slovenska - </a:t>
            </a:r>
            <a:r>
              <a:rPr b="0" lang="cs-CZ" sz="2000" spc="-1" strike="noStrike">
                <a:solidFill>
                  <a:srgbClr val="336699"/>
                </a:solidFill>
                <a:latin typeface="Verdana"/>
              </a:rPr>
              <a:t>Figa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60920" y="2577960"/>
          <a:ext cx="3887640" cy="261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60920" y="2577960"/>
                    <a:ext cx="3887640" cy="26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Situace na trhu ny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 roce 2002 všechny závody skupuje mezinárodní společnost Nestlé. Vzniká Nestlé Česk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stlé Česk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raft foods (Figaro, Milka, 3bi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ik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ar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okoklas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ahraniční: Ferrero, Fazer (Geisha), Mars, Ritter Sport, Candy p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60920" y="2577960"/>
          <a:ext cx="3887640" cy="261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60920" y="2577960"/>
                    <a:ext cx="3887640" cy="26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0000"/>
                </a:solidFill>
                <a:latin typeface="Verdana"/>
              </a:rPr>
              <a:t>Nestlé Česko s.r.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šechny produkty pod značkami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Or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Del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Bon Par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JoJ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Sfinx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Hašlerk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Zo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Kit K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Lentilk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Modré z neb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Nesquik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Nejznámější produkty: Margot, Bounty, Koko, Kofila, Kočičí jazýčky, banány v čokoládě, čokolády Orion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0000"/>
                </a:solidFill>
                <a:latin typeface="Verdana"/>
              </a:rPr>
              <a:t>Nestlé Česko s.r.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893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ývoj společnosti (ukazatelé kromě zaměstnanců v milione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3284640"/>
          <a:ext cx="7956360" cy="2984400"/>
        </p:xfrm>
        <a:graphic>
          <a:graphicData uri="http://schemas.openxmlformats.org/drawingml/2006/table">
            <a:tbl>
              <a:tblPr/>
              <a:tblGrid>
                <a:gridCol w="1325520"/>
                <a:gridCol w="1326960"/>
                <a:gridCol w="1325880"/>
                <a:gridCol w="1325520"/>
                <a:gridCol w="1326960"/>
                <a:gridCol w="13255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žby Tuzemsk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rtní tržb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žby za prodej dovežených výrobk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čet zaměstnanc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žby celkov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986 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694 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534 8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680 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366 8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814 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738 5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181 4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408 5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296 4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295 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705 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504 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113 3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737 3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617 5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372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738 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863 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110 8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Zahraniční fir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lké globální společnosti mají již dlouholeté zázemí i u n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ARS: Tyčinky Mars, Snickers, Twix  - dostupné i v prodejních automat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raft Foods: Odkoupil Figaro a Alpskou Mil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Fazer: Geis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+ kvalitní belgické a švícarské čokolády (nezabírají moc místa na trhu – jsou drah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Česká tradiční výrob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mi malá, slabá konkurence oproti velkým zahraničním koncernů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významnější výrobce např. Carla (bonboniéry Mořské plod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4:45:42Z</dcterms:created>
  <dc:creator>OranžovejPomeranč</dc:creator>
  <dc:description/>
  <dc:language>en-US</dc:language>
  <cp:lastModifiedBy>OranžovejPomeranč</cp:lastModifiedBy>
  <dcterms:modified xsi:type="dcterms:W3CDTF">2006-12-08T17:19:40Z</dcterms:modified>
  <cp:revision>8</cp:revision>
  <dc:subject/>
  <dc:title>Sekundární výzkum  trhu čokoládových výrobků</dc:title>
</cp:coreProperties>
</file>