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png" ContentType="image/png"/>
  <Override PartName="/ppt/media/image13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B40E9-536E-4E94-B506-B8CF5B8A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A66F9-7E0A-4FF0-82E5-AAC55067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553D-6DFC-444B-8A83-0FAEBBD8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7F19D-D852-4F07-95EC-26CCC02C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291B-312E-417E-B91F-4FBD4BC1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D119-55AD-49B8-9D86-BC1FA852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2A81-1D7C-4D97-AF93-CD27212E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57A9-19FA-45FC-ACD7-D5FF3A00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B96E-3E72-4D98-B08D-17026072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2784-97BA-4555-B602-EFA7990A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473E-B5F5-4083-931F-FB458425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8D744-B6F4-443C-8781-B210B99E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CE47-38CA-4A25-B6C3-1C68E832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2A14-EF1F-435C-B0E3-C5120F48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5534-DE6E-4A45-B7C3-3069FE54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8F41-89DD-42EB-8E68-C98E594F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C3BF-267B-40F5-B0C1-66B7E32B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DB1F9-DBAD-42C7-9B1D-1DB4097B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E72AD-92D1-406D-A652-8508CDEC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4CE56-C593-4F76-977A-D93965D4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0B708-A405-4EE2-BC8C-CB479E39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31750-5D27-4797-8E8F-09DE2F13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88456-95D3-4419-BE29-B7998E9E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47D74-47B0-4D79-93DC-5241A5FC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F2C1-4036-4508-94DF-1A1694BD7B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7399"/>
                  </a:gs>
                  <a:gs pos="100000">
                    <a:srgbClr val="7f7fa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7399"/>
                  </a:gs>
                  <a:gs pos="100000">
                    <a:srgbClr val="7f7fa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76789"/>
                  </a:gs>
                  <a:gs pos="100000">
                    <a:srgbClr val="7f7f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7f7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a9"/>
                  </a:gs>
                  <a:gs pos="100000">
                    <a:srgbClr val="6f6f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f7fa9"/>
                </a:gs>
                <a:gs pos="100000">
                  <a:srgbClr val="6b6b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7f7f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7399"/>
                  </a:gs>
                  <a:gs pos="100000">
                    <a:srgbClr val="7f7fa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7399"/>
                  </a:gs>
                  <a:gs pos="100000">
                    <a:srgbClr val="7f7fa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76789"/>
                  </a:gs>
                  <a:gs pos="100000">
                    <a:srgbClr val="7f7f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7f7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a9"/>
                  </a:gs>
                  <a:gs pos="100000">
                    <a:srgbClr val="6f6f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f7fa9"/>
                </a:gs>
                <a:gs pos="100000">
                  <a:srgbClr val="6b6b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7f7f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DC0C-BD78-4024-823D-E94EB94622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esec.cz/texty/zdravotni-pojisteni/" TargetMode="External"/><Relationship Id="rId2" Type="http://schemas.openxmlformats.org/officeDocument/2006/relationships/hyperlink" Target="http://www.mesec.cz/texty/zdravotni-pojisteni/" TargetMode="External"/><Relationship Id="rId3" Type="http://schemas.openxmlformats.org/officeDocument/2006/relationships/hyperlink" Target="http://www.mesec.cz/texty/zdravotni-pojisteni/" TargetMode="External"/><Relationship Id="rId4" Type="http://schemas.openxmlformats.org/officeDocument/2006/relationships/hyperlink" Target="http://www.mesec.cz/texty/zdravotni-pojisteni/" TargetMode="External"/><Relationship Id="rId5" Type="http://schemas.openxmlformats.org/officeDocument/2006/relationships/hyperlink" Target="http://www.mesec.cz/texty/zdravotni-pojisteni/" TargetMode="External"/><Relationship Id="rId6" Type="http://schemas.openxmlformats.org/officeDocument/2006/relationships/hyperlink" Target="http://www.mesec.cz/texty/zdravotni-pojisteni/" TargetMode="External"/><Relationship Id="rId7" Type="http://schemas.openxmlformats.org/officeDocument/2006/relationships/hyperlink" Target="http://www.mesec.cz/texty/zdravotni-pojisteni/" TargetMode="External"/><Relationship Id="rId8" Type="http://schemas.openxmlformats.org/officeDocument/2006/relationships/hyperlink" Target="http://www.mesec.cz/texty/zdravotni-pojisteni/" TargetMode="External"/><Relationship Id="rId9" Type="http://schemas.openxmlformats.org/officeDocument/2006/relationships/hyperlink" Target="http://www.mesec.cz/texty/zdravotni-pojisteni/" TargetMode="External"/><Relationship Id="rId10" Type="http://schemas.openxmlformats.org/officeDocument/2006/relationships/hyperlink" Target="http://www.vzp.cz/" TargetMode="External"/><Relationship Id="rId11" Type="http://schemas.openxmlformats.org/officeDocument/2006/relationships/hyperlink" Target="http://www.ozp.cz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Trh zdravotních pojišťoven v ČR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leželová Ivan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atzorová Denis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8. 12. 2006                                                                                 Pelánová Kateřin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35280" y="2924280"/>
            <a:ext cx="1776600" cy="18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93080" y="765000"/>
            <a:ext cx="1630080" cy="1373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Marketingové strategie zdravotních pojišťoven dále ovlivňuje i gendrové složení jejich kliente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e většině zdravotních pojišťoven je poměr pohlaví vyrovnan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becně se ZP snaží přilákat spíše ženy a převážně ženy v produktivním věku nebo ženy v těhotenství, jelikož předpokládají, že matka přihlásí své dítě do pojišťovny, jíž je sama klientkou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dravotní pojišťovny, které mají vysoký nepoměr mezi muži a ženami, s tím, že žen je výrazně více se snaží přilákat muže  na atraktivní programy sportovního charakteru (např. ZP M-A, muži 45,5%, ženy 54,5%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Marketingové strategie zdravotních pojišťoven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Ekonomické ukazatele ZP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71640" y="1628640"/>
          <a:ext cx="7200720" cy="4773600"/>
        </p:xfrm>
        <a:graphic>
          <a:graphicData uri="http://schemas.openxmlformats.org/drawingml/2006/table">
            <a:tbl>
              <a:tblPr/>
              <a:tblGrid>
                <a:gridCol w="1666800"/>
                <a:gridCol w="2592360"/>
                <a:gridCol w="29415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jišťov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říjmy (v Kč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do příjmů a výdajů (v Kč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Z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6 392 429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74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oZ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394 939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41 03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Z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899 077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1 516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Z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 007 569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85 81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P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88 03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4 053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P MV Č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 016 796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8 358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B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284 36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 286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P M -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395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 151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ČNZ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159 698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1 568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23080" y="333360"/>
            <a:ext cx="12448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Ekonomické ukazatele ZP</a:t>
            </a: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95640" y="1773360"/>
          <a:ext cx="4038480" cy="4728960"/>
        </p:xfrm>
        <a:graphic>
          <a:graphicData uri="http://schemas.openxmlformats.org/drawingml/2006/table">
            <a:tbl>
              <a:tblPr/>
              <a:tblGrid>
                <a:gridCol w="1574640"/>
                <a:gridCol w="2463840"/>
              </a:tblGrid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jišťov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ůměrný výdaj na zdravotní péči na 1 pojištěnce (v 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Z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5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oZ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3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Z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1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Z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7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P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P MV Č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8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B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0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P M -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9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ČNZ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588000" y="1197000"/>
            <a:ext cx="142092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Komentář k tabulkám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íjmy ZP odrážejí především počet jejich pojištěnců a z části průměrný příjem pojistného po přerozdělování na 1 pojištěnce ročně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ldo příjmů a výdajů je dán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24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Věkovou strukturou pojištěnců (Stárnutí stabilního kmene pojištěnců, což je způsobeno celkovým stárnutím české populace. Tzn. větší výdaje na lékařskou péči a tím také vyšší průměrný výdaj na zdravotní péči na 1 pojištěnce .)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24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Počtem pojištěnců nad rámec pojistného plánu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24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Výší pohledávek ZP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Shrnutí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859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26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Trh zdravotních pojišťoven je tvořen devíti pojišťovnami, které si vzájemně konkurují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26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Všeobecná zdravotní pojišťovna je na českém trhu největší, má nejvíce klientů (65%) i příjmů, ale velkou část (23%) tvoří lidé v důchodovém věku, jejichž zdravotní péče je více nákladná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26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Ostatní pojišťovny se snaží spíše přilákat jiné spektrum klientů (produktivní věk, nízké náklady na zdravotní péči)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rot="2850000">
            <a:off x="6229800" y="257400"/>
            <a:ext cx="16588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Zdroje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://www.</a:t>
            </a: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mesec</a:t>
            </a: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.</a:t>
            </a: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cz</a:t>
            </a: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5"/>
              </a:rPr>
              <a:t>/texty/</a:t>
            </a: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6"/>
              </a:rPr>
              <a:t>zdravotni</a:t>
            </a: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-</a:t>
            </a: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8"/>
              </a:rPr>
              <a:t>pojisteni</a:t>
            </a: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9"/>
              </a:rPr>
              <a:t>/</a:t>
            </a: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 (ověřeno 7.12.2006)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10"/>
              </a:rPr>
              <a:t>http://www.vzp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11"/>
              </a:rPr>
              <a:t>http://www.ozp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www.cnzp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www.hzp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www.rbp-zp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www.vozp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www.zpskoda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www.zpma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www.zpmvcr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www.uzis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www.mzcr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racek.vlada.cz/usneseni/usneseni_test.nsf/0/6e1f26ff0e16a43cc125706200350ad3/</a:t>
            </a:r>
            <a:r>
              <a:rPr b="0" lang="en-US" sz="2100" spc="-1" strike="noStrike">
                <a:solidFill>
                  <a:srgbClr val="ffffff"/>
                </a:solidFill>
                <a:latin typeface="Garamond"/>
              </a:rPr>
              <a:t>$</a:t>
            </a: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FILE/w050824a.1060.doc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Výroční zprávy ZP za rok 2004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Struktura zdravotního pojištění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dravotní pojištění se řídí zákonem č.48/1997 Sb. – Zákon o veřejném zdravotním pojištění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aždý občan ČR musí platit zdravotní pojištění – buď si ho hradí sám nebo je za něj placeno státem (děti, studenti, důchodci, apod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še pojistného zdravotního pojištění je 13,5 % z vyměřovacího základ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dravotní pojištění je určené k úhradě nákladů zdravotní péče – plně jsou hrazeny nezbytné lékařské úkony, léky a zdravotnický materiál; na některé léky a zákroky pacient připlácí, některé hradí zcel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24720" y="5157720"/>
            <a:ext cx="11876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Struktura zdravotního pojištění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V současné době působí na trhu 9 soukromých zdravotních pojišťoven, z nichž každá má svůj kód a zkratku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Revírní bratrská pokladna zaměstnanecká zdravotní pojišťovna (213; RB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borová zdravotní pojišťovna zaměstnanců bank, pojišťoven a stavebnictví (207; OZ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dravotní pojišťovna ministerstva vnitra ČR (211; ZP MV Č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aměstnanecká pojišťovna Škoda (209; ZPŠ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Česká národní zdravotní pojišťovna (222; ČNZ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Hutnická zaměstnanecká pojišťovna (205; HZ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šeobecná zdravotní pojišťovna ČR, a.s. (111,;VZ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ojenská zdravotní pojišťovna ČR (201; VoZ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dravotní pojišťovna METAL – ALIANCE (217; ZP M-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Struktura trhu zdravotních pojišťoven v roce 2004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2325600"/>
          <a:ext cx="4038480" cy="307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5600"/>
                    <a:ext cx="40384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156360" y="2133720"/>
          <a:ext cx="2519280" cy="3244680"/>
        </p:xfrm>
        <a:graphic>
          <a:graphicData uri="http://schemas.openxmlformats.org/drawingml/2006/table">
            <a:tbl>
              <a:tblPr/>
              <a:tblGrid>
                <a:gridCol w="1224000"/>
                <a:gridCol w="129528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jišťov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 pojištěnců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Z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728 4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oZ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74 6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Z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3 3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Z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91 8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P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5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P MV Č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95 7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B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0 8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P M - 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1 0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ČNZ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7 5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50920" y="1557360"/>
          <a:ext cx="5765760" cy="4784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557360"/>
                    <a:ext cx="576576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Struktura trhu zdravotních pojišťoven v roce 2004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33240" y="2457360"/>
          <a:ext cx="3686400" cy="280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2457360"/>
                    <a:ext cx="368640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408640" y="1600200"/>
          <a:ext cx="2517840" cy="2185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8640" y="1600200"/>
                    <a:ext cx="25178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547640" y="1557360"/>
          <a:ext cx="5880240" cy="5105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1557360"/>
                    <a:ext cx="58802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Komentář ke grafům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1471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ysoký počet pojištěnců VZP je způsobený účinností zákona č. 551/1991 Sb. (Zákon o Všeobecné zdravotní pojišťovně České republik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dle tohoto zákona je každý občan ČR přihlášen k VZP, pokud si nevybere jinou z oborových, resortních či podnikových ZP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708360" y="4653000"/>
            <a:ext cx="1838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Komentář ke grafům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Největší úbytek pojištěnců má VZP, což vyplývá z výše zmíněného zákona č. 551/1991 Sb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Úbytek pojištěnců VoZP je způsoben zrušením povinné vojenské služb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ojáci základní vojenské služby měli povinnost být přihlášeni u VoZP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ůvod velkého nárůstu pojištěnců OZP není znám, ale z jejich výroční zprávy vyplývá, že to může být způsobeno zvýšeným počtem narozených dětí jejich pojištěncům, zlepšování služeb, zvýšeným počtem pojištěnců v produktivním věku (zvláště ve věku 30 – 34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Marketingové strategie ZP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Klienti mohou měnit zdravotní pojišťovnu nejvýše jednou za rok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dravotní pojišťovny se snaží přilákat klienty na nadstandardní péči (k základní zákonem stanovené) v podobě balíčků pro různé klient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oustředí se především na preventivní péči, děti (ozdravné pobyty, očkování, rovnátka…), těhotné ženy, cestovní pojištění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ní zájem přilákat klienty v důchodovém věku (ve věku nad 80 let stojí ročně VZP jedna žena 40 102,-, přičemž průměrný výdaj na jednoho pojištěnce je 15 524,-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812000" y="836640"/>
            <a:ext cx="114480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Marketingové strategie zdravotních pojišťoven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P se snaží udržet si dětské klienty (spektrum očkování, rovnátka, ozdravné pobyty), „prevence civilizačních onemocnění“ (23% klientů ve věku 60+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uhý největší poměr lidí v důchodovém věku má HZP (20%, strategie: přilákání studentů, ženy v produktivním věku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52260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4:58:53Z</dcterms:created>
  <dc:creator>Ivana Doleželová</dc:creator>
  <dc:description/>
  <dc:language>en-US</dc:language>
  <cp:lastModifiedBy>Petra</cp:lastModifiedBy>
  <dcterms:modified xsi:type="dcterms:W3CDTF">2006-12-08T16:28:15Z</dcterms:modified>
  <cp:revision>82</cp:revision>
  <dc:subject/>
  <dc:title>Trh zdravotních pojišťoven v ČR</dc:title>
</cp:coreProperties>
</file>