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D91-EA98-4CC8-B5EC-BBF83C1D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5B3-F434-4711-8ECC-FBDDAB7E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A13-B3BB-4BDE-8E49-2DE4E1E2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66E-9FF6-41DE-9A9E-CD4A824A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B3E4-E617-4FBE-BBEA-581538B6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3B6B-8839-4939-A419-80C78AE1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FB78-098E-469C-A0CC-4F4B0E5C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3F50-AF56-45F7-B97F-33D31014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087E-A521-4D85-8BB1-11369B73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44A1-A5BB-40C9-9404-65BFB79C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A6DE-E629-4EB7-9694-940F8A80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9B1-DA04-4B08-8AC3-783793A7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6B51-C16B-4A93-BE92-803F6181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63FF-05AE-4058-8891-37994F35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312D-BBD5-463B-A64E-EFE785DA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3675-686F-43B9-B063-DE38849B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E508-329D-4C9D-835B-066F52BD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FBC-ACDA-4A08-AE39-DD280C7F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38A-6BEF-43C0-A4BE-54659C55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4EE-3C26-4370-BC15-E223C53F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30F-6A36-4474-991D-F645324B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164-C6D1-4844-9A40-48951B28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E70-05AB-4144-8EB4-D0CC6F1C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C08-88A4-4D9F-8D67-0CC53BF9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A85E-52C7-459E-A9E7-BCFFF7102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6E8C-A9CA-4D23-9E96-4E7454F7B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h životních pojiště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41911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147 – Základy marketingového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pracovala: Kateřina Procházkov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66"/>
                </a:solidFill>
                <a:latin typeface="Arial"/>
              </a:rPr>
              <a:t>Trh ŽP podle předepsaného pojistného - graf</a:t>
            </a:r>
            <a:endParaRPr b="0" lang="en-US" sz="31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22160" y="1981080"/>
          <a:ext cx="7699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981080"/>
                    <a:ext cx="7699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38080" y="1828800"/>
          <a:ext cx="7648560" cy="4040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764856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914400" y="60958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Zdroj: Česká sociace pojišťov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ybrané ukazatele ČAP I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2465280"/>
          <a:ext cx="7772400" cy="2979720"/>
        </p:xfrm>
        <a:graphic>
          <a:graphicData uri="http://schemas.openxmlformats.org/drawingml/2006/table">
            <a:tbl>
              <a:tblPr/>
              <a:tblGrid>
                <a:gridCol w="2734560"/>
                <a:gridCol w="1439280"/>
                <a:gridCol w="1655280"/>
                <a:gridCol w="1943280"/>
              </a:tblGrid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ředepsané pojistné 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Životní pojištění 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s.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 200 9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 886 3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běžně placen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s.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363 5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 511 1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jednorázově placen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s.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 837 4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375 2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57200" y="5867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: Č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90440" y="906480"/>
          <a:ext cx="6963120" cy="48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06480"/>
                    <a:ext cx="696312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6019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: Č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ybrané ukazatele ČAP II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2057400"/>
          <a:ext cx="8229600" cy="2971800"/>
        </p:xfrm>
        <a:graphic>
          <a:graphicData uri="http://schemas.openxmlformats.org/drawingml/2006/table">
            <a:tbl>
              <a:tblPr/>
              <a:tblGrid>
                <a:gridCol w="2895840"/>
                <a:gridCol w="990360"/>
                <a:gridCol w="1447920"/>
                <a:gridCol w="1447920"/>
                <a:gridCol w="144756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díl na celkovém předepsaném pojistné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Životní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životní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533520" y="55627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: Č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85800" y="914400"/>
          <a:ext cx="7772400" cy="48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7724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11280" y="58672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: Č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mesec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peníze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ttp://aktualne.centrum.cz/finance/priloha/zivotni-pojisteni/clanek.phtml?id=16618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finance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mysl životního pojiště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yslem životního pojištění je pojistná ochrana pojištěné osob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 pojistné události pojišťovna vyplatí obmyšlené osobě (osoba uvedená ve smlouvě) pojistné plnění. Tím je pojistná částka nebo kapitálová hodnota (u kapitálových a investičních pojištění). U rizikových pojištění není spořící složka a plněním je pouze pojistná částk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ůležité pojmy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jistná částk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maximální limit plnění v případě pojistné udál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jistná událo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nahodilá skutečnost, se kterou je spojena povinnost pojistitele plnit pojistnou smlouv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jistn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částka za poskytnutí pojistné ochr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jištěn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osoba, v jejíž prospěch byla uzavřena pojistná smlouva (většinou shodná s pojistníkem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jistní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ojištěnec) - osoba, která uzavřela s pojistitelem pojistnou smlouvu, tj. klient pojišťov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právněná osob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fyzická nebo právnická osoba, která může mít právo na pojistné plnění v případě smrti pojištěného (nebo i za jiných okolností), není-li oprávněná osoba určena, nabývají tohoto práva osoby určené zákonem, používá se převážně u životního nebo důchodového pojiště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uhy životního pojiště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izikové ži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álové (rezervotvorné) ži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vestiční ži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ůchodové při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zikové Ž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bsahuje spořící slož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je pouze pojištěná rizika (ne riziko doži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i pojistné událost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ýplata pojistné částky (pojištění zaniká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jistná částka: pevná nebo klesají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ŽP HYPOTÉKA (Pojišťovna České spořiteln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apitálové Ž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ahuje spořící složku (tzv. smíšené ŽP – pojištění pro případ smrti nebo dožit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klient zemř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jišťovna vyplácí kapitálovou hodnotu pojištění + pojistnou částku pro případ smr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, že se klient dožije konce pojištění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yplacena pouze kapitálová hodnota pojiště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K (Česká pojišťovna), FLEXI (Pojišťovna České spořitel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vestiční Ž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sahuje spořící slož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oří rezervu investicemi do fon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ient – nese veškeré riziko s investováním spořící složky, sám si volí investiční strateg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VESTOR PLUS t-150 (ING Nationale-Nederlanden), FLEXI INVEST (Pojišťovna České spořitelny), DYNAMIK PLUS – kombinace kapitálového a investičního (Česká pojišťov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ůchodové připojiště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ahuje spořící složku, pojištění pro případ doži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ní kryto riziko smr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sjednávají pojistnou částku pro případ dožití, ale na roční důc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rh ŽP podle předepsaného pojistnéh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905120"/>
          <a:ext cx="8229600" cy="453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jišťov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žní podí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Česká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6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operativa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7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 Nationale-Nederland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jišťovna České spořitel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0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ČSOB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2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merční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5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ianz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7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i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3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slico AIG li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7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nterthur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tat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9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33:33Z</dcterms:created>
  <dc:creator>181853</dc:creator>
  <dc:description/>
  <dc:language>en-US</dc:language>
  <cp:lastModifiedBy>MUDr. Procházková</cp:lastModifiedBy>
  <dcterms:modified xsi:type="dcterms:W3CDTF">2006-12-03T19:18:38Z</dcterms:modified>
  <cp:revision>8</cp:revision>
  <dc:subject/>
  <dc:title>Trh životních pojištění</dc:title>
</cp:coreProperties>
</file>