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68E-1F53-4CFF-A4ED-B84805C1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C71-475B-47E4-AE26-A158FF2A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FAF7A-B1BD-45F3-A9AB-401A1455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AEEF2-4EBE-4363-844E-456CA045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943FC-EC74-420B-96B5-E38DB22F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E1526-AF64-441C-93EE-EC57127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9DE1-6C0D-45F9-89F2-5780F45D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47586-804F-415C-A3FA-C3AB7A39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95950-6B94-4B64-AB75-96B2AEBE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A8451-A372-4560-93C6-EF53E4DC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37A15-DB31-4282-9B92-10AA0BDA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8E2A5-CABD-44DF-BDE5-A158286F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5A8-8436-4A8C-BFA2-DB0EFD6A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4F437-23ED-4D09-8D1A-115DA8C6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C7BD1-BC0F-4253-85F6-F6FF6D26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392C7-E670-4E4D-8E5C-C96DA5CD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650AF-2C82-4A83-BACA-01B2C674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AB4D7-3E44-4C37-B323-AD6389D1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550DD-67C0-4CDF-B05E-55D493A3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63C45-DD35-44C6-A26A-B1E5F40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04ACA-250C-4E6A-A445-D4C2837D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66094-E5C5-41EB-BF63-162698C7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02183-E3F9-4FF0-9E19-88B0F3F4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BB1-5381-4E92-8B77-8640E73D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93443-C8BD-4A76-86DD-57DE305A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A3C3A-6330-4368-ABDA-FCB88B47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EBC44-21DC-4794-B202-0A1B031C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2AC39-6E1E-4A0A-BB67-C6537150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4EC0-D8EC-4C2B-A862-759BDBBE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2A197-0B87-4801-A8F2-6BAF3866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EC3B0-6C39-4DAE-ACF7-E98D5A92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E8EEA-979F-4352-A4DD-C6006966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9E686-37CA-4170-B23B-DFED28A4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1D74B-07C7-4C37-819C-A50EA23D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7114-DBDD-47D6-8601-D1DC5955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854B2-B15C-4151-942A-3CD10AF9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71807-2255-47A1-AD77-5B65A610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43066-FB88-4FF2-80DA-DE320AB1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79A33D-084A-4C7A-85AA-D17D9E48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BB4FAF-B4C4-4568-8869-F2D2437D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D74331-3296-403C-B989-9A0FC1CC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013DC4-793E-4A55-BC0B-73C24B8D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C65E6B-B912-4EDE-AA5C-94DF1858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1CC5B5-6BB7-4D3D-87E5-CAC9C99F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7572A7-E806-4AAB-97E0-2D0E5997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166A-7650-4639-96C5-98DA8F4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9545A3-7E9F-486F-8586-258072DF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437FAF-4A68-4561-B3BA-655E6095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0D595E-C57C-4877-8E00-C0A12057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129140-6344-4D6B-9B3A-60E50432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5182E9-98BD-4819-8FB9-4AEF267A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B773-7CFB-4D9A-A3C9-46DB64DF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D31D-8D32-4948-82D6-FE7108B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0A5C-FBCF-4600-BA59-D433CB05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40A9-5E62-4017-B33A-6F11A6C5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1B4C-FB2E-4ADE-86A8-0FDD021F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7F3-5DBD-4336-9915-F866793A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4480-F5C1-430E-9B05-7207127D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8536-299F-409F-BE89-3A6C9B3D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C767-CF8F-4352-9CDE-8ECD7158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07E7-1B76-4110-B39B-8B156E7C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2FEB-887B-4B03-9B25-A875871C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589B-37C9-4901-90F9-D4C6A804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552D-E3A9-40DA-ADBA-9CED93CB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B290-A469-4F71-B98A-F69DB6A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E53EA-301D-4506-A7A8-77EFA9CC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4012E-389A-42F1-9481-AE018F59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F32-A7FA-494C-801A-7CB67983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F2F8-57C3-49E2-A1A4-F34775FA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830D-B85F-4992-B1EC-7EEDE067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29DD-A7F2-462A-AD86-E838ACB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F679-ECD4-4D04-84EF-1D6A0FE5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EFF7-5E76-4D33-87B2-47D6E826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FC86-6A48-4BAF-A755-FDE2E8C3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F151-AAE7-4056-A8F0-A8AEA84E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82E7-3384-4891-8BD1-3DDA01AA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D019-1890-4FDB-BFCF-B67A51D8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94C31-6906-4FF6-8AD2-7D0798D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A29-D1AF-4347-87A2-F944CC4D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1D28-E19A-451B-84A1-FC7A0F34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FD54C-0CD0-4F32-B12F-6EC69020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AB5E6-2719-493A-8B8A-B6571A11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14CE-DE6C-4FA3-B807-89818F0C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3B348-9780-4981-A4F2-57B740DA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5790F-5304-4FAF-B93A-AA038521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EBCE-8652-408D-B128-D6495432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5DB6-686E-46AD-A9C2-86F1D730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E838-860E-41AA-8DD1-58080B56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18D6-AEAE-4D5C-B6B5-DD2AC38F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238-B204-47BF-B47D-18F796A6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F9D0-B627-4D9C-8791-2D57BA08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01C9-9A16-4980-86BD-4DBD5AA1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BC536-5D34-4DE2-AD94-B56F77D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6C9C7-071C-4AD8-9EB9-5367BA2B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A056-C81C-4A19-BB61-B6DFB9B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F926-FD99-4E00-88E2-E7785D2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E0985-0A92-45B0-8CC9-416E38A7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8173B-0080-44D5-9299-985A9AFF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E3D24-14FD-4E4C-B691-DED165C6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F1832-1C9E-4416-BF09-8863687D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1B9-A585-4461-AF55-8302ED74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395BF-6EC5-42E2-A3D6-7DCCAFBC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758B3-34E1-4BBD-908C-14C23074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83E14-9251-44A5-92B4-DF55115A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F1EBD-BE14-45AE-9BED-52BA41C2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F13E2-4F9D-4410-BFF8-B9D0EDBB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68992-4EF5-4F8F-A63A-60ABCD3C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876FD-AE8A-4400-A057-C42251D8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5F3DA-7987-43DB-9499-BBB3C4D8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6D307-C125-48ED-9FAB-8CC94AC5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98342-5931-4C65-9134-5E1B98D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852-0E73-4894-BB8C-24A2328F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D8ED-8D5F-43C5-BECD-E3CD5253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6956C-E1AC-48B5-A203-FD056194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9107-E562-4281-9A8A-3628E109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ED3CC-FCBE-4C07-BA6C-058BC7D2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CCE7C-82B4-465D-8E4C-914BF45D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E92F1-A1F1-42B4-9281-9AB20AE4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823CB-8607-45F5-A18A-592C0A04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5D01C-75BE-4C51-80C7-8639403A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F8669-6412-4F42-A1F0-07AE9783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95F3A-257F-48FA-83A3-43C0B92A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22C-C88E-4D4D-91F5-4D8D5FA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56178-E8C5-4AAE-B623-52E1286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87AA0-0DF2-4B3D-B760-DFCD64C7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D3427-84BD-4965-933B-159B97F7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1DB31-3CA0-449D-B2DB-CC25D270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F8408-B006-482B-8A09-5A37F400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7164A-239C-4D0C-8EFA-36DE74AE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F802E-6F7B-44F2-A538-4E7C4818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702F0-EFCA-4048-9F72-904A0922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1562-F0A5-47E6-B6FF-1C87CCC5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A700F-0029-4D7E-A0A5-3B2E1D34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569-C30B-4F75-BDD5-73586C8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B00BA-52CF-44C6-93F3-88C184E4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5FFA6-48D9-4787-9824-9BC6FA0E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31905-6576-4579-B949-0B7CC552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2A98E-3B21-416E-80FB-64BF676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4194D-40BA-4A98-9978-BF4A8FE7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6F1AE-8824-4A3B-A9D8-CA199CFD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9A6B3-D69E-4D9E-9F03-4D06D233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BBB8E-00FB-4593-9FC7-F568F1A2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A2A15-FC5B-4532-9D80-96131070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45D6D-C864-4B08-AB70-1B047F35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0F9E-BE9A-4D71-90E1-E167C865B6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1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2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3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5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7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B80F-5F3F-4529-851E-AFCABC53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DB57-95ED-4F99-951E-44495C0FE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6AB-E3F2-4966-8994-AC54F7877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C64E-33F5-4DF4-B855-E160D1C602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5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3E2F-163C-466E-B12F-AFDAEB40F6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D931-0579-471C-A447-F7202941DF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4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4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1E3A-6478-4AB2-BECA-716AF21068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9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9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0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FDC2-BE99-4B54-A207-325495DD1C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910F-5989-4A6F-97FB-AC13FAF94C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3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6A7E-589A-4A67-BE01-0F5A3AF186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2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4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6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90B4-2CFC-4B35-B2F2-33FDD2FAC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inance.cz/" TargetMode="External"/><Relationship Id="rId2" Type="http://schemas.openxmlformats.org/officeDocument/2006/relationships/hyperlink" Target="http://www.czso.cz/" TargetMode="External"/><Relationship Id="rId3" Type="http://schemas.openxmlformats.org/officeDocument/2006/relationships/hyperlink" Target="http://www.cnb.cz/" TargetMode="External"/><Relationship Id="rId4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307520" y="1556640"/>
            <a:ext cx="64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nkovní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úv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ě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ový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Č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06800" y="2780280"/>
            <a:ext cx="67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C 147 Základy marketingového výzku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413720" y="465192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ypracoval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115440" y="4651920"/>
            <a:ext cx="33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Jiří Šimon 1825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enisa Novotná 2195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teřina Paučková 1822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4276440" y="134028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úroková sazba 9,7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08840" y="49752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Nabízené úvěrové produkt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potřebitelské úvěry :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 Snadná půjčk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00200" y="24915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nikatelské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44440" y="20595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otovostní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088080" y="285156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vozní úvěr 5 PL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106080" y="25642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vestiční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095280" y="314064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vozní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96680" y="39171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č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781720" y="4219920"/>
            <a:ext cx="24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ypotéka České spořitel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02960" y="393120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vé TOP bydle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820960" y="45075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n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63560" y="544428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tokorent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55320" y="551556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ontokorent ke sporoži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151400" y="59493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tav v roce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936520" y="17006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565160" y="170064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úroková sazba 8,5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276440" y="205956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úroková sazba 9,7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29240" y="47962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YPOH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17668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376360" cy="123516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611280" y="40392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ome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í banka, a.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8760" y="16984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ukazat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560" y="270756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m poskytnutých úvěrů v mil. Kč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76440" y="34290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isk v mil. K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11000" y="407664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čet klient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923000" y="2133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012000" y="2133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010640" y="2133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018640" y="2133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4004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1 15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72112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0 9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72948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5 37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73748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5 2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59280" y="342828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 7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942880" y="34282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26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950880" y="34282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29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958880" y="34282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14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986280" y="4076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986280" y="4653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986280" y="5229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986280" y="5734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651640" y="4075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 262 45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651640" y="465228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332 91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51640" y="573336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 467 21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645520" y="52286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 408 3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173320" cy="78120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548640" y="836640"/>
            <a:ext cx="38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Nabízené úvěrové produk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40640" y="1628640"/>
            <a:ext cx="54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třebitelské úvěry 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sobní úvěr – úroková sazba 7,9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723040" y="2060640"/>
            <a:ext cx="351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fektní půjčka – úroková sazba 14,9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4200" y="26370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nikatelské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824200" y="2636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Profi úvěr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820240" y="306756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EU profi úvě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724120" y="3427920"/>
            <a:ext cx="42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volený debet na podnikatelském běžném účt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79240" y="39337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č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547000" y="40042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l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541600" y="429156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las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6120" y="508464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tokorent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849040" y="5083920"/>
            <a:ext cx="26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volené debety pro obč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586280" y="6308640"/>
            <a:ext cx="14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tav k 1.10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676800" y="259560"/>
            <a:ext cx="419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E - Money Bank, a.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8760" y="155412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ukazat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890960" y="1989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043680" y="1989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124760" y="1989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204040" y="1989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01560" y="2636280"/>
            <a:ext cx="8381160" cy="369000"/>
            <a:chOff x="601560" y="2636280"/>
            <a:chExt cx="8381160" cy="369000"/>
          </a:xfrm>
        </p:grpSpPr>
        <p:sp>
          <p:nvSpPr>
            <p:cNvPr id="982" name=""/>
            <p:cNvSpPr/>
            <p:nvPr/>
          </p:nvSpPr>
          <p:spPr>
            <a:xfrm>
              <a:off x="601560" y="2637000"/>
              <a:ext cx="40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bjem poskytnutých úvěrů v mil. Kč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716000" y="26362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9 68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66920" y="26362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8 115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013880" y="2636280"/>
              <a:ext cx="8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37 2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027640" y="26362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47 896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76440" y="3141720"/>
            <a:ext cx="8322120" cy="439200"/>
            <a:chOff x="676440" y="3141720"/>
            <a:chExt cx="8322120" cy="439200"/>
          </a:xfrm>
        </p:grpSpPr>
        <p:sp>
          <p:nvSpPr>
            <p:cNvPr id="988" name=""/>
            <p:cNvSpPr/>
            <p:nvPr/>
          </p:nvSpPr>
          <p:spPr>
            <a:xfrm>
              <a:off x="676440" y="314172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Zisk v mil. Kč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03280" y="32126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921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14160" y="32126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 98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6880" y="32126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 242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174880" y="32126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 673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639720" y="407664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čet klient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2907000" y="4075920"/>
            <a:ext cx="2820960" cy="1809000"/>
            <a:chOff x="2907000" y="4075920"/>
            <a:chExt cx="2820960" cy="1809000"/>
          </a:xfrm>
        </p:grpSpPr>
        <p:sp>
          <p:nvSpPr>
            <p:cNvPr id="995" name=""/>
            <p:cNvSpPr/>
            <p:nvPr/>
          </p:nvSpPr>
          <p:spPr>
            <a:xfrm>
              <a:off x="2907000" y="40766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907000" y="45799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907000" y="50846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907000" y="55166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35720" y="4075920"/>
              <a:ext cx="102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642 87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41840" y="457920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703 484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41840" y="5083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748 52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41840" y="5515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806 76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364000" y="260280"/>
            <a:ext cx="3457800" cy="936720"/>
            <a:chOff x="5364000" y="260280"/>
            <a:chExt cx="3457800" cy="936720"/>
          </a:xfrm>
        </p:grpSpPr>
        <p:sp>
          <p:nvSpPr>
            <p:cNvPr id="1004" name=""/>
            <p:cNvSpPr/>
            <p:nvPr/>
          </p:nvSpPr>
          <p:spPr>
            <a:xfrm>
              <a:off x="5364000" y="260280"/>
              <a:ext cx="34578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5" name="" descr=""/>
            <p:cNvPicPr/>
            <p:nvPr/>
          </p:nvPicPr>
          <p:blipFill>
            <a:blip r:embed="rId1"/>
            <a:stretch/>
          </p:blipFill>
          <p:spPr>
            <a:xfrm>
              <a:off x="5432760" y="318240"/>
              <a:ext cx="95436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"/>
            <a:stretch/>
          </p:blipFill>
          <p:spPr>
            <a:xfrm>
              <a:off x="6381360" y="318240"/>
              <a:ext cx="2396520" cy="4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3"/>
            <a:stretch/>
          </p:blipFill>
          <p:spPr>
            <a:xfrm>
              <a:off x="6381360" y="727920"/>
              <a:ext cx="1278720" cy="42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4203360" y="126720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úroková sazba 9,9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38680" y="572400"/>
            <a:ext cx="41965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Nabízené úvěrové produkty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 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potřebitelské úvěry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:   Osobní půjčka Exp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7040" y="19159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dnikatelské úvěry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323800" y="19152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vestiční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432520" y="24202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iversal Busines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61960" y="220392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perativ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39720" y="2780280"/>
            <a:ext cx="15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es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442960" y="306756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lexi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42080" y="393192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ypoteční úvěry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232360" y="421992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m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239560" y="393120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nd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230560" y="450756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ptim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14360" y="515736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ontokorentní úvěry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524320" y="515664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lexikred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158240" y="5949360"/>
            <a:ext cx="144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tav k 1.10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6443640" y="333360"/>
            <a:ext cx="2376360" cy="719280"/>
            <a:chOff x="6443640" y="333360"/>
            <a:chExt cx="2376360" cy="719280"/>
          </a:xfrm>
        </p:grpSpPr>
        <p:sp>
          <p:nvSpPr>
            <p:cNvPr id="1024" name=""/>
            <p:cNvSpPr/>
            <p:nvPr/>
          </p:nvSpPr>
          <p:spPr>
            <a:xfrm>
              <a:off x="6443640" y="333360"/>
              <a:ext cx="23763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6490800" y="378000"/>
              <a:ext cx="65592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2"/>
            <a:stretch/>
          </p:blipFill>
          <p:spPr>
            <a:xfrm>
              <a:off x="7142760" y="378000"/>
              <a:ext cx="1647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" descr=""/>
            <p:cNvPicPr/>
            <p:nvPr/>
          </p:nvPicPr>
          <p:blipFill>
            <a:blip r:embed="rId3"/>
            <a:stretch/>
          </p:blipFill>
          <p:spPr>
            <a:xfrm>
              <a:off x="7142760" y="692640"/>
              <a:ext cx="878760" cy="32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"/>
          <p:cNvGrpSpPr/>
          <p:nvPr/>
        </p:nvGrpSpPr>
        <p:grpSpPr>
          <a:xfrm>
            <a:off x="684360" y="5515560"/>
            <a:ext cx="1698480" cy="307080"/>
            <a:chOff x="684360" y="5515560"/>
            <a:chExt cx="1698480" cy="307080"/>
          </a:xfrm>
        </p:grpSpPr>
        <p:sp>
          <p:nvSpPr>
            <p:cNvPr id="1029" name=""/>
            <p:cNvSpPr/>
            <p:nvPr/>
          </p:nvSpPr>
          <p:spPr>
            <a:xfrm>
              <a:off x="960120" y="5515560"/>
              <a:ext cx="142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Banky celk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4360" y="5707080"/>
              <a:ext cx="421920" cy="10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9520" y="5659200"/>
              <a:ext cx="93600" cy="932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0" y="0"/>
                  </a:moveTo>
                  <a:lnTo>
                    <a:pt x="59" y="30"/>
                  </a:lnTo>
                  <a:lnTo>
                    <a:pt x="30" y="59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84360" y="5875920"/>
            <a:ext cx="3287520" cy="307080"/>
            <a:chOff x="684360" y="5875920"/>
            <a:chExt cx="3287520" cy="307080"/>
          </a:xfrm>
        </p:grpSpPr>
        <p:sp>
          <p:nvSpPr>
            <p:cNvPr id="1033" name=""/>
            <p:cNvSpPr/>
            <p:nvPr/>
          </p:nvSpPr>
          <p:spPr>
            <a:xfrm>
              <a:off x="684360" y="6067440"/>
              <a:ext cx="421920" cy="1080"/>
            </a:xfrm>
            <a:prstGeom prst="line">
              <a:avLst/>
            </a:prstGeom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9880" y="6019560"/>
              <a:ext cx="79200" cy="77400"/>
            </a:xfrm>
            <a:prstGeom prst="rect">
              <a:avLst/>
            </a:prstGeom>
            <a:solidFill>
              <a:srgbClr val="ff00ff"/>
            </a:solidFill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19800" y="5875920"/>
              <a:ext cx="305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Banky s rozhodující českou účast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684360" y="6308640"/>
            <a:ext cx="431640" cy="144720"/>
            <a:chOff x="684360" y="6308640"/>
            <a:chExt cx="431640" cy="144720"/>
          </a:xfrm>
        </p:grpSpPr>
        <p:sp>
          <p:nvSpPr>
            <p:cNvPr id="1037" name=""/>
            <p:cNvSpPr/>
            <p:nvPr/>
          </p:nvSpPr>
          <p:spPr>
            <a:xfrm>
              <a:off x="684360" y="637128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900720" y="6308640"/>
              <a:ext cx="0" cy="14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4360" y="6597360"/>
            <a:ext cx="358560" cy="115920"/>
            <a:chOff x="684360" y="6597360"/>
            <a:chExt cx="358560" cy="115920"/>
          </a:xfrm>
        </p:grpSpPr>
        <p:grpSp>
          <p:nvGrpSpPr>
            <p:cNvPr id="1040" name=""/>
            <p:cNvGrpSpPr/>
            <p:nvPr/>
          </p:nvGrpSpPr>
          <p:grpSpPr>
            <a:xfrm>
              <a:off x="684360" y="6604920"/>
              <a:ext cx="358560" cy="108360"/>
              <a:chOff x="684360" y="6604920"/>
              <a:chExt cx="358560" cy="108360"/>
            </a:xfrm>
          </p:grpSpPr>
          <p:sp>
            <p:nvSpPr>
              <p:cNvPr id="1041" name=""/>
              <p:cNvSpPr/>
              <p:nvPr/>
            </p:nvSpPr>
            <p:spPr>
              <a:xfrm>
                <a:off x="684360" y="6653520"/>
                <a:ext cx="358560" cy="10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02800" y="6604920"/>
                <a:ext cx="119520" cy="10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 flipV="1">
              <a:off x="867240" y="6597360"/>
              <a:ext cx="0" cy="1112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893880" y="6236280"/>
            <a:ext cx="33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nky s rozhodující zahraniční účast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43200" y="6552000"/>
            <a:ext cx="17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nky bez lic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042920" y="3968640"/>
            <a:ext cx="720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042920" y="3394080"/>
            <a:ext cx="720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42920" y="2803680"/>
            <a:ext cx="720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042920" y="2212920"/>
            <a:ext cx="720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042920" y="1638360"/>
            <a:ext cx="720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042920" y="1047600"/>
            <a:ext cx="720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42920" y="1047600"/>
            <a:ext cx="7209000" cy="3511800"/>
          </a:xfrm>
          <a:prstGeom prst="rect">
            <a:avLst/>
          </a:prstGeom>
          <a:solidFill>
            <a:srgbClr val="48c5de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42920" y="1047600"/>
            <a:ext cx="1800" cy="351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979560" y="455940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979560" y="396864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979560" y="339408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979560" y="280368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979560" y="221292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979560" y="163836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979560" y="104760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42920" y="4559400"/>
            <a:ext cx="720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104292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146700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189072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231444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273852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316224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358632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01004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443556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485928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528336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70708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613080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55488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97860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740268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782640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825192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62160" y="1343160"/>
            <a:ext cx="6784920" cy="2692440"/>
          </a:xfrm>
          <a:custGeom>
            <a:avLst/>
            <a:gdLst/>
            <a:ahLst/>
            <a:rect l="l" t="t" r="r" b="b"/>
            <a:pathLst>
              <a:path w="432" h="164">
                <a:moveTo>
                  <a:pt x="0" y="164"/>
                </a:moveTo>
                <a:lnTo>
                  <a:pt x="27" y="110"/>
                </a:lnTo>
                <a:lnTo>
                  <a:pt x="54" y="64"/>
                </a:lnTo>
                <a:lnTo>
                  <a:pt x="81" y="11"/>
                </a:lnTo>
                <a:lnTo>
                  <a:pt x="108" y="0"/>
                </a:lnTo>
                <a:lnTo>
                  <a:pt x="135" y="0"/>
                </a:lnTo>
                <a:lnTo>
                  <a:pt x="162" y="7"/>
                </a:lnTo>
                <a:lnTo>
                  <a:pt x="189" y="18"/>
                </a:lnTo>
                <a:lnTo>
                  <a:pt x="216" y="36"/>
                </a:lnTo>
                <a:lnTo>
                  <a:pt x="243" y="46"/>
                </a:lnTo>
                <a:lnTo>
                  <a:pt x="270" y="53"/>
                </a:lnTo>
                <a:lnTo>
                  <a:pt x="297" y="60"/>
                </a:lnTo>
                <a:lnTo>
                  <a:pt x="324" y="64"/>
                </a:lnTo>
                <a:lnTo>
                  <a:pt x="351" y="71"/>
                </a:lnTo>
                <a:lnTo>
                  <a:pt x="378" y="71"/>
                </a:lnTo>
                <a:lnTo>
                  <a:pt x="405" y="68"/>
                </a:lnTo>
                <a:lnTo>
                  <a:pt x="432" y="64"/>
                </a:lnTo>
              </a:path>
            </a:pathLst>
          </a:cu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262160" y="2573280"/>
            <a:ext cx="6784920" cy="1462320"/>
          </a:xfrm>
          <a:custGeom>
            <a:avLst/>
            <a:gdLst/>
            <a:ahLst/>
            <a:rect l="l" t="t" r="r" b="b"/>
            <a:pathLst>
              <a:path w="432" h="89">
                <a:moveTo>
                  <a:pt x="0" y="89"/>
                </a:moveTo>
                <a:lnTo>
                  <a:pt x="27" y="50"/>
                </a:lnTo>
                <a:lnTo>
                  <a:pt x="54" y="28"/>
                </a:lnTo>
                <a:lnTo>
                  <a:pt x="81" y="0"/>
                </a:lnTo>
                <a:lnTo>
                  <a:pt x="108" y="0"/>
                </a:lnTo>
                <a:lnTo>
                  <a:pt x="135" y="7"/>
                </a:lnTo>
                <a:lnTo>
                  <a:pt x="162" y="14"/>
                </a:lnTo>
                <a:lnTo>
                  <a:pt x="189" y="28"/>
                </a:lnTo>
                <a:lnTo>
                  <a:pt x="216" y="50"/>
                </a:lnTo>
                <a:lnTo>
                  <a:pt x="243" y="68"/>
                </a:lnTo>
                <a:lnTo>
                  <a:pt x="270" y="71"/>
                </a:lnTo>
                <a:lnTo>
                  <a:pt x="297" y="78"/>
                </a:lnTo>
                <a:lnTo>
                  <a:pt x="324" y="82"/>
                </a:lnTo>
                <a:lnTo>
                  <a:pt x="351" y="89"/>
                </a:lnTo>
                <a:lnTo>
                  <a:pt x="378" y="89"/>
                </a:lnTo>
                <a:lnTo>
                  <a:pt x="405" y="89"/>
                </a:lnTo>
                <a:lnTo>
                  <a:pt x="432" y="89"/>
                </a:lnTo>
              </a:path>
            </a:pathLst>
          </a:custGeom>
          <a:noFill/>
          <a:ln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2160" y="2917800"/>
            <a:ext cx="6784920" cy="1641600"/>
          </a:xfrm>
          <a:custGeom>
            <a:avLst/>
            <a:gdLst/>
            <a:ahLst/>
            <a:rect l="l" t="t" r="r" b="b"/>
            <a:pathLst>
              <a:path w="432" h="100">
                <a:moveTo>
                  <a:pt x="0" y="100"/>
                </a:moveTo>
                <a:lnTo>
                  <a:pt x="27" y="86"/>
                </a:lnTo>
                <a:lnTo>
                  <a:pt x="54" y="61"/>
                </a:lnTo>
                <a:lnTo>
                  <a:pt x="81" y="36"/>
                </a:lnTo>
                <a:lnTo>
                  <a:pt x="108" y="25"/>
                </a:lnTo>
                <a:lnTo>
                  <a:pt x="135" y="18"/>
                </a:lnTo>
                <a:lnTo>
                  <a:pt x="162" y="18"/>
                </a:lnTo>
                <a:lnTo>
                  <a:pt x="189" y="14"/>
                </a:lnTo>
                <a:lnTo>
                  <a:pt x="216" y="11"/>
                </a:lnTo>
                <a:lnTo>
                  <a:pt x="243" y="4"/>
                </a:lnTo>
                <a:lnTo>
                  <a:pt x="270" y="7"/>
                </a:lnTo>
                <a:lnTo>
                  <a:pt x="297" y="7"/>
                </a:lnTo>
                <a:lnTo>
                  <a:pt x="324" y="7"/>
                </a:lnTo>
                <a:lnTo>
                  <a:pt x="351" y="7"/>
                </a:lnTo>
                <a:lnTo>
                  <a:pt x="378" y="7"/>
                </a:lnTo>
                <a:lnTo>
                  <a:pt x="405" y="4"/>
                </a:lnTo>
                <a:lnTo>
                  <a:pt x="432" y="0"/>
                </a:lnTo>
              </a:path>
            </a:pathLst>
          </a:cu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262160" y="2738520"/>
            <a:ext cx="6784920" cy="1820880"/>
          </a:xfrm>
          <a:custGeom>
            <a:avLst/>
            <a:gdLst/>
            <a:ahLst/>
            <a:rect l="l" t="t" r="r" b="b"/>
            <a:pathLst>
              <a:path w="432" h="111">
                <a:moveTo>
                  <a:pt x="0" y="111"/>
                </a:moveTo>
                <a:lnTo>
                  <a:pt x="27" y="111"/>
                </a:lnTo>
                <a:lnTo>
                  <a:pt x="54" y="111"/>
                </a:lnTo>
                <a:lnTo>
                  <a:pt x="81" y="111"/>
                </a:lnTo>
                <a:lnTo>
                  <a:pt x="108" y="104"/>
                </a:lnTo>
                <a:lnTo>
                  <a:pt x="135" y="93"/>
                </a:lnTo>
                <a:lnTo>
                  <a:pt x="162" y="86"/>
                </a:lnTo>
                <a:lnTo>
                  <a:pt x="189" y="72"/>
                </a:lnTo>
                <a:lnTo>
                  <a:pt x="216" y="47"/>
                </a:lnTo>
                <a:lnTo>
                  <a:pt x="243" y="33"/>
                </a:lnTo>
                <a:lnTo>
                  <a:pt x="270" y="25"/>
                </a:lnTo>
                <a:lnTo>
                  <a:pt x="297" y="18"/>
                </a:lnTo>
                <a:lnTo>
                  <a:pt x="324" y="11"/>
                </a:lnTo>
                <a:lnTo>
                  <a:pt x="351" y="4"/>
                </a:lnTo>
                <a:lnTo>
                  <a:pt x="378" y="4"/>
                </a:lnTo>
                <a:lnTo>
                  <a:pt x="405" y="0"/>
                </a:lnTo>
                <a:lnTo>
                  <a:pt x="432" y="0"/>
                </a:lnTo>
              </a:path>
            </a:pathLst>
          </a:custGeom>
          <a:noFill/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214280" y="3984480"/>
            <a:ext cx="9540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30" y="0"/>
                </a:moveTo>
                <a:lnTo>
                  <a:pt x="60" y="32"/>
                </a:lnTo>
                <a:lnTo>
                  <a:pt x="30" y="63"/>
                </a:lnTo>
                <a:lnTo>
                  <a:pt x="0" y="32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639800" y="30988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063880" y="234468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87600" y="147492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911320" y="129384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335400" y="129384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759120" y="1407960"/>
            <a:ext cx="9540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183200" y="1589040"/>
            <a:ext cx="9504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606920" y="1884240"/>
            <a:ext cx="9540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030640" y="2048040"/>
            <a:ext cx="95400" cy="99720"/>
          </a:xfrm>
          <a:custGeom>
            <a:avLst/>
            <a:gdLst/>
            <a:ahLst/>
            <a:rect l="l" t="t" r="r" b="b"/>
            <a:pathLst>
              <a:path w="60" h="63">
                <a:moveTo>
                  <a:pt x="30" y="0"/>
                </a:moveTo>
                <a:lnTo>
                  <a:pt x="60" y="32"/>
                </a:lnTo>
                <a:lnTo>
                  <a:pt x="30" y="63"/>
                </a:lnTo>
                <a:lnTo>
                  <a:pt x="0" y="32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456160" y="216360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80240" y="2278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303960" y="234468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727680" y="245916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151760" y="245916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575480" y="2409840"/>
            <a:ext cx="9540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999560" y="2344680"/>
            <a:ext cx="9504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214280" y="3984480"/>
            <a:ext cx="795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39800" y="334476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063880" y="298440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487600" y="252396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911320" y="2523960"/>
            <a:ext cx="7812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35400" y="2639880"/>
            <a:ext cx="77760" cy="810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759120" y="2754360"/>
            <a:ext cx="79560" cy="8244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183200" y="2984400"/>
            <a:ext cx="7920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606920" y="3344760"/>
            <a:ext cx="795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030640" y="3639960"/>
            <a:ext cx="795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456160" y="368928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880240" y="3805200"/>
            <a:ext cx="77760" cy="810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303960" y="3870360"/>
            <a:ext cx="77760" cy="8244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727680" y="398448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151760" y="3984480"/>
            <a:ext cx="7920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575480" y="3984480"/>
            <a:ext cx="795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999560" y="3984480"/>
            <a:ext cx="7920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200240" y="4494240"/>
            <a:ext cx="141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262160" y="450972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262160" y="4559400"/>
            <a:ext cx="1440" cy="4896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1213920" y="4559400"/>
            <a:ext cx="47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262160" y="4559400"/>
            <a:ext cx="4752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623960" y="4264200"/>
            <a:ext cx="141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639800" y="4281120"/>
            <a:ext cx="93600" cy="98640"/>
            <a:chOff x="1639800" y="4281120"/>
            <a:chExt cx="93600" cy="98640"/>
          </a:xfrm>
        </p:grpSpPr>
        <p:sp>
          <p:nvSpPr>
            <p:cNvPr id="1125" name=""/>
            <p:cNvSpPr/>
            <p:nvPr/>
          </p:nvSpPr>
          <p:spPr>
            <a:xfrm flipV="1">
              <a:off x="1685880" y="4281120"/>
              <a:ext cx="1800" cy="49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85880" y="4330800"/>
              <a:ext cx="1800" cy="48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639800" y="4330800"/>
              <a:ext cx="4608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85880" y="4330800"/>
              <a:ext cx="47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048040" y="3854520"/>
            <a:ext cx="141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2109960" y="387000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109960" y="3919680"/>
            <a:ext cx="144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2063880" y="3919680"/>
            <a:ext cx="460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109960" y="3919680"/>
            <a:ext cx="4752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471760" y="3443400"/>
            <a:ext cx="141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533680" y="346032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533680" y="351000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2487600" y="351000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33680" y="351000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895480" y="3263760"/>
            <a:ext cx="141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2959200" y="327924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59200" y="332892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910960" y="3328920"/>
            <a:ext cx="4788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959200" y="3328920"/>
            <a:ext cx="4608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319560" y="3147840"/>
            <a:ext cx="141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382920" y="316512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382920" y="3214800"/>
            <a:ext cx="180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3335400" y="321480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382920" y="321480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743280" y="3147840"/>
            <a:ext cx="1414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07000" y="316512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07000" y="3214800"/>
            <a:ext cx="1440" cy="4896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3758760" y="3214800"/>
            <a:ext cx="47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807000" y="3214800"/>
            <a:ext cx="4752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7360" y="3083040"/>
            <a:ext cx="141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4230720" y="3098880"/>
            <a:ext cx="144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230720" y="314784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4183200" y="3147840"/>
            <a:ext cx="4752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230720" y="3147840"/>
            <a:ext cx="4752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591080" y="3033720"/>
            <a:ext cx="142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4654440" y="304920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654440" y="3098880"/>
            <a:ext cx="180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4606920" y="309888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654440" y="3098880"/>
            <a:ext cx="478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016600" y="2917800"/>
            <a:ext cx="1411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5078520" y="2935440"/>
            <a:ext cx="144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078520" y="298440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5030280" y="2984400"/>
            <a:ext cx="4788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078520" y="2984400"/>
            <a:ext cx="4752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440320" y="2967120"/>
            <a:ext cx="1414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502240" y="298404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02240" y="303372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5456160" y="303372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502240" y="303372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864400" y="2967120"/>
            <a:ext cx="1411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5925960" y="2984040"/>
            <a:ext cx="180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925960" y="3033720"/>
            <a:ext cx="180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5879880" y="3033720"/>
            <a:ext cx="4572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925960" y="3033720"/>
            <a:ext cx="47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288120" y="2967120"/>
            <a:ext cx="1411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351480" y="298404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351480" y="303372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6303960" y="303372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351480" y="303372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711840" y="2967120"/>
            <a:ext cx="1414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6775560" y="298404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775560" y="303372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6727320" y="3033720"/>
            <a:ext cx="478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775560" y="303372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135920" y="2967120"/>
            <a:ext cx="1411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7199280" y="298404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199280" y="303372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151760" y="303372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199280" y="303372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559640" y="2917800"/>
            <a:ext cx="1414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7623000" y="2935440"/>
            <a:ext cx="180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23000" y="298440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7575480" y="2984400"/>
            <a:ext cx="4752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623000" y="2984400"/>
            <a:ext cx="4788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983360" y="2852640"/>
            <a:ext cx="141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8047080" y="286812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8047080" y="291780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999560" y="291780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047080" y="291780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14280" y="4510080"/>
            <a:ext cx="9540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39800" y="4510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063880" y="4510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487600" y="4510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11320" y="439596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335400" y="42148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759120" y="4100400"/>
            <a:ext cx="9540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183200" y="387036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606920" y="3460680"/>
            <a:ext cx="9540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30640" y="3230640"/>
            <a:ext cx="9540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456160" y="30988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880240" y="298440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303960" y="286848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727680" y="275436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151760" y="275436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575480" y="2689200"/>
            <a:ext cx="9540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999560" y="268920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402920" y="391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250360" y="2278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675880" y="1407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99600" y="1228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523320" y="1228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947400" y="1343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371120" y="1523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9520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8920" y="1982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642640" y="2098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66720" y="2212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492240" y="2278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915960" y="2394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339680" y="2394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763760" y="2344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02920" y="391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26280" y="3279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25036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675880" y="2459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099600" y="2459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523320" y="2573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947400" y="268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218920" y="3575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642640" y="3624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066720" y="3738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492240" y="3805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402920" y="444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82664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250360" y="3805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675880" y="3394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099600" y="321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523320" y="3098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947400" y="3098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795200" y="2984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218920" y="2868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64264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06672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91596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33968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763760" y="2868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099960" y="43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523680" y="4149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947400" y="4035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371120" y="3805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18920" y="3165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6672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915960" y="268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339680" y="268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763760" y="2622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046360" y="2179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794600" y="3000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8110080" y="3984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63760" y="3935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340040" y="3968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16320" y="3968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795200" y="3246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355280" y="2852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8093880" y="2901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492240" y="2951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371120" y="3147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8078040" y="2606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795200" y="3460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492240" y="2738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642640" y="3098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387080" y="444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826640" y="4379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75880" y="43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250360" y="4395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74720" y="4429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65280" y="38368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5280" y="32637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5280" y="26719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65280" y="20811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280" y="1506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65280" y="9158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rot="16200000">
            <a:off x="1022040" y="4811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rot="16200000">
            <a:off x="144576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rot="16200000">
            <a:off x="187272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16200000">
            <a:off x="229680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rot="16200000">
            <a:off x="272052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rot="16200000">
            <a:off x="314604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rot="16200000">
            <a:off x="356976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rot="16200000">
            <a:off x="399384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rot="16200000">
            <a:off x="441756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rot="16200000">
            <a:off x="484128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rot="16200000">
            <a:off x="526536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rot="16200000">
            <a:off x="568764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611316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6536880" y="4811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rot="16200000">
            <a:off x="6962400" y="4811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rot="16200000">
            <a:off x="7386120" y="4811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rot="16200000">
            <a:off x="781020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76280" y="703440"/>
            <a:ext cx="7916760" cy="467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80800" y="173880"/>
            <a:ext cx="50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č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t bank podle vlastnictví v letech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2050920" y="3860280"/>
            <a:ext cx="93600" cy="98640"/>
            <a:chOff x="2050920" y="3860280"/>
            <a:chExt cx="93600" cy="98640"/>
          </a:xfrm>
        </p:grpSpPr>
        <p:sp>
          <p:nvSpPr>
            <p:cNvPr id="1316" name=""/>
            <p:cNvSpPr/>
            <p:nvPr/>
          </p:nvSpPr>
          <p:spPr>
            <a:xfrm flipV="1">
              <a:off x="2097000" y="3860280"/>
              <a:ext cx="1800" cy="49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097000" y="3909960"/>
              <a:ext cx="1800" cy="48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2050920" y="3909960"/>
              <a:ext cx="4608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097000" y="3909960"/>
              <a:ext cx="47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2916360" y="3284280"/>
            <a:ext cx="93600" cy="98640"/>
            <a:chOff x="2916360" y="3284280"/>
            <a:chExt cx="93600" cy="98640"/>
          </a:xfrm>
        </p:grpSpPr>
        <p:sp>
          <p:nvSpPr>
            <p:cNvPr id="1321" name=""/>
            <p:cNvSpPr/>
            <p:nvPr/>
          </p:nvSpPr>
          <p:spPr>
            <a:xfrm flipV="1">
              <a:off x="2962440" y="3284280"/>
              <a:ext cx="1800" cy="49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2440" y="3333960"/>
              <a:ext cx="1800" cy="48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2916360" y="3333960"/>
              <a:ext cx="4608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962440" y="3333960"/>
              <a:ext cx="47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3780000" y="3141360"/>
            <a:ext cx="93600" cy="98640"/>
            <a:chOff x="3780000" y="3141360"/>
            <a:chExt cx="93600" cy="98640"/>
          </a:xfrm>
        </p:grpSpPr>
        <p:sp>
          <p:nvSpPr>
            <p:cNvPr id="1326" name=""/>
            <p:cNvSpPr/>
            <p:nvPr/>
          </p:nvSpPr>
          <p:spPr>
            <a:xfrm flipV="1">
              <a:off x="3826080" y="3141360"/>
              <a:ext cx="1800" cy="49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826080" y="3191040"/>
              <a:ext cx="1800" cy="48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3780000" y="3191040"/>
              <a:ext cx="4608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26080" y="3191040"/>
              <a:ext cx="47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0" name=""/>
          <p:cNvGraphicFramePr/>
          <p:nvPr/>
        </p:nvGraphicFramePr>
        <p:xfrm>
          <a:off x="684360" y="836640"/>
          <a:ext cx="6912000" cy="1520640"/>
        </p:xfrm>
        <a:graphic>
          <a:graphicData uri="http://schemas.openxmlformats.org/drawingml/2006/table">
            <a:tbl>
              <a:tblPr/>
              <a:tblGrid>
                <a:gridCol w="2036880"/>
                <a:gridCol w="1274760"/>
                <a:gridCol w="1152360"/>
                <a:gridCol w="1081080"/>
                <a:gridCol w="1366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ČSO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 431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 901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 32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Česká Spořitel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 423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 195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1 334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 43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 630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 262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 29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 14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GE-Money ba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21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 987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 242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 673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"/>
          <p:cNvSpPr/>
          <p:nvPr/>
        </p:nvSpPr>
        <p:spPr>
          <a:xfrm>
            <a:off x="6942960" y="2585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541440" y="2637000"/>
            <a:ext cx="6948360" cy="3785040"/>
            <a:chOff x="541440" y="2637000"/>
            <a:chExt cx="6948360" cy="3785040"/>
          </a:xfrm>
        </p:grpSpPr>
        <p:sp>
          <p:nvSpPr>
            <p:cNvPr id="1333" name=""/>
            <p:cNvSpPr/>
            <p:nvPr/>
          </p:nvSpPr>
          <p:spPr>
            <a:xfrm>
              <a:off x="1505160" y="2747520"/>
              <a:ext cx="5983200" cy="2839680"/>
            </a:xfrm>
            <a:prstGeom prst="rect">
              <a:avLst/>
            </a:prstGeom>
            <a:solidFill>
              <a:srgbClr val="48c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05160" y="518760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05160" y="4775040"/>
              <a:ext cx="598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05160" y="437472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505160" y="396036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505160" y="356040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505160" y="3147840"/>
              <a:ext cx="598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05160" y="274752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05160" y="2747520"/>
              <a:ext cx="5983200" cy="2839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05160" y="2747520"/>
              <a:ext cx="1440" cy="28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49360" y="558756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449360" y="518760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49360" y="4775040"/>
              <a:ext cx="55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49360" y="43747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449360" y="396036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449360" y="356040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49360" y="3147840"/>
              <a:ext cx="55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49360" y="27475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05160" y="558756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1505160" y="55875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3006720" y="55875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496040" y="55875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5999400" y="55875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7488360" y="55875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751200" y="3492360"/>
              <a:ext cx="2992680" cy="785160"/>
            </a:xfrm>
            <a:custGeom>
              <a:avLst/>
              <a:gdLst/>
              <a:ahLst/>
              <a:rect l="l" t="t" r="r" b="b"/>
              <a:pathLst>
                <a:path w="217" h="57">
                  <a:moveTo>
                    <a:pt x="0" y="57"/>
                  </a:moveTo>
                  <a:lnTo>
                    <a:pt x="108" y="50"/>
                  </a:lnTo>
                  <a:lnTo>
                    <a:pt x="217" y="0"/>
                  </a:lnTo>
                </a:path>
              </a:pathLst>
            </a:custGeom>
            <a:noFill/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249640" y="3065040"/>
              <a:ext cx="4494240" cy="606240"/>
            </a:xfrm>
            <a:custGeom>
              <a:avLst/>
              <a:gdLst/>
              <a:ahLst/>
              <a:rect l="l" t="t" r="r" b="b"/>
              <a:pathLst>
                <a:path w="326" h="44">
                  <a:moveTo>
                    <a:pt x="0" y="44"/>
                  </a:moveTo>
                  <a:lnTo>
                    <a:pt x="109" y="33"/>
                  </a:lnTo>
                  <a:lnTo>
                    <a:pt x="217" y="16"/>
                  </a:lnTo>
                  <a:lnTo>
                    <a:pt x="326" y="0"/>
                  </a:lnTo>
                </a:path>
              </a:pathLst>
            </a:custGeom>
            <a:noFill/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3698640"/>
              <a:ext cx="4494240" cy="137520"/>
            </a:xfrm>
            <a:custGeom>
              <a:avLst/>
              <a:gdLst/>
              <a:ahLst/>
              <a:rect l="l" t="t" r="r" b="b"/>
              <a:pathLst>
                <a:path w="326" h="10">
                  <a:moveTo>
                    <a:pt x="0" y="10"/>
                  </a:moveTo>
                  <a:lnTo>
                    <a:pt x="109" y="1"/>
                  </a:lnTo>
                  <a:lnTo>
                    <a:pt x="217" y="0"/>
                  </a:lnTo>
                  <a:lnTo>
                    <a:pt x="326" y="2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9640" y="5049720"/>
              <a:ext cx="4494240" cy="345600"/>
            </a:xfrm>
            <a:custGeom>
              <a:avLst/>
              <a:gdLst/>
              <a:ahLst/>
              <a:rect l="l" t="t" r="r" b="b"/>
              <a:pathLst>
                <a:path w="326" h="25">
                  <a:moveTo>
                    <a:pt x="0" y="25"/>
                  </a:moveTo>
                  <a:lnTo>
                    <a:pt x="109" y="10"/>
                  </a:lnTo>
                  <a:lnTo>
                    <a:pt x="217" y="6"/>
                  </a:lnTo>
                  <a:lnTo>
                    <a:pt x="326" y="0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10160" y="423684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199120" y="414000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02480" y="345096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08240" y="3630240"/>
              <a:ext cx="68400" cy="680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10160" y="3477960"/>
              <a:ext cx="69840" cy="69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199120" y="3244680"/>
              <a:ext cx="69840" cy="67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702480" y="3024000"/>
              <a:ext cx="68400" cy="67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08240" y="3795480"/>
              <a:ext cx="8280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10160" y="367164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99120" y="365724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02480" y="368604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94200" y="5340240"/>
              <a:ext cx="1238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2207880" y="535428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249640" y="539568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207880" y="539568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2249640" y="535428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697560" y="513360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 flipV="1">
              <a:off x="3710160" y="5146200"/>
              <a:ext cx="4104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51200" y="518760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710160" y="5187600"/>
              <a:ext cx="4104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751200" y="514620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186520" y="507816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 flipV="1">
              <a:off x="5198760" y="509220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240520" y="5133600"/>
              <a:ext cx="4104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198760" y="513360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5240520" y="5092200"/>
              <a:ext cx="4104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88080" y="499572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6702120" y="500832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43880" y="5049720"/>
              <a:ext cx="41040" cy="42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702120" y="5049720"/>
              <a:ext cx="41400" cy="42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6743880" y="5008320"/>
              <a:ext cx="4104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312240" y="3244680"/>
              <a:ext cx="105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80"/>
                  </a:solidFill>
                  <a:latin typeface="Arial"/>
                </a:rPr>
                <a:t>10 328mil. kč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312240" y="2788920"/>
              <a:ext cx="105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ff00ff"/>
                  </a:solidFill>
                  <a:latin typeface="Arial"/>
                </a:rPr>
                <a:t>12 439mil. kč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353640" y="3740040"/>
              <a:ext cx="95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ff0000"/>
                  </a:solidFill>
                  <a:latin typeface="Arial"/>
                </a:rPr>
                <a:t>9 148mil. kč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95040" y="4816080"/>
              <a:ext cx="95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ffff00"/>
                  </a:solidFill>
                  <a:latin typeface="Arial"/>
                </a:rPr>
                <a:t>2 673mil. kč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69720" y="54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979560" y="50781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79560" y="4663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979560" y="4263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979560" y="3850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82720" y="34509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82720" y="3036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82720" y="26370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4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4520" y="5740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557880" y="5740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46840" y="5740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548400" y="5740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6200000">
              <a:off x="146160" y="4048560"/>
              <a:ext cx="97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Zisk v mil. kč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822680" y="6332400"/>
              <a:ext cx="371520" cy="10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959120" y="6291000"/>
              <a:ext cx="84240" cy="8208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235240" y="6208560"/>
              <a:ext cx="50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ČSO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28880" y="6332400"/>
              <a:ext cx="371520" cy="1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965680" y="6291000"/>
              <a:ext cx="69840" cy="69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237480" y="6208560"/>
              <a:ext cx="13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Česká Spořitel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689720" y="6332400"/>
              <a:ext cx="371520" cy="108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827600" y="6291000"/>
              <a:ext cx="8280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02280" y="620856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34200" y="6332400"/>
              <a:ext cx="371520" cy="1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58040" y="627840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 flipV="1">
              <a:off x="5571720" y="629100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613480" y="633240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5571720" y="633240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5613480" y="629100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42440" y="6208560"/>
              <a:ext cx="128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-Money ba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2101320" y="-720"/>
            <a:ext cx="435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ývoj celkových zisků bank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ejvětší banky na trh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v roc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1294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díl celkových zisků 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 největší banky na trhu, v roce 2005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076720" y="2133720"/>
            <a:ext cx="147492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770200" y="1700280"/>
            <a:ext cx="417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376880" y="2743200"/>
            <a:ext cx="1112760" cy="1352520"/>
          </a:xfrm>
          <a:custGeom>
            <a:avLst/>
            <a:gdLst/>
            <a:ahLst/>
            <a:rect l="l" t="t" r="r" b="b"/>
            <a:pathLst>
              <a:path w="73" h="94">
                <a:moveTo>
                  <a:pt x="69" y="94"/>
                </a:moveTo>
                <a:cubicBezTo>
                  <a:pt x="71" y="87"/>
                  <a:pt x="73" y="80"/>
                  <a:pt x="73" y="73"/>
                </a:cubicBezTo>
                <a:cubicBezTo>
                  <a:pt x="73" y="33"/>
                  <a:pt x="40" y="1"/>
                  <a:pt x="0" y="1"/>
                </a:cubicBezTo>
                <a:cubicBezTo>
                  <a:pt x="0" y="0"/>
                  <a:pt x="0" y="1"/>
                  <a:pt x="0" y="1"/>
                </a:cubicBezTo>
                <a:lnTo>
                  <a:pt x="0" y="73"/>
                </a:lnTo>
                <a:lnTo>
                  <a:pt x="69" y="94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448080" y="3794040"/>
            <a:ext cx="1981080" cy="1036800"/>
          </a:xfrm>
          <a:custGeom>
            <a:avLst/>
            <a:gdLst/>
            <a:ahLst/>
            <a:rect l="l" t="t" r="r" b="b"/>
            <a:pathLst>
              <a:path w="130" h="72">
                <a:moveTo>
                  <a:pt x="0" y="39"/>
                </a:moveTo>
                <a:cubicBezTo>
                  <a:pt x="13" y="60"/>
                  <a:pt x="36" y="72"/>
                  <a:pt x="61" y="72"/>
                </a:cubicBezTo>
                <a:cubicBezTo>
                  <a:pt x="93" y="72"/>
                  <a:pt x="121" y="51"/>
                  <a:pt x="130" y="21"/>
                </a:cubicBezTo>
                <a:lnTo>
                  <a:pt x="61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263760" y="2871720"/>
            <a:ext cx="1113120" cy="1484280"/>
          </a:xfrm>
          <a:custGeom>
            <a:avLst/>
            <a:gdLst/>
            <a:ahLst/>
            <a:rect l="l" t="t" r="r" b="b"/>
            <a:pathLst>
              <a:path w="73" h="103">
                <a:moveTo>
                  <a:pt x="39" y="0"/>
                </a:moveTo>
                <a:cubicBezTo>
                  <a:pt x="15" y="13"/>
                  <a:pt x="1" y="37"/>
                  <a:pt x="1" y="64"/>
                </a:cubicBezTo>
                <a:cubicBezTo>
                  <a:pt x="0" y="78"/>
                  <a:pt x="4" y="91"/>
                  <a:pt x="12" y="103"/>
                </a:cubicBezTo>
                <a:lnTo>
                  <a:pt x="73" y="64"/>
                </a:lnTo>
                <a:lnTo>
                  <a:pt x="39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857760" y="2759040"/>
            <a:ext cx="519120" cy="1035000"/>
          </a:xfrm>
          <a:custGeom>
            <a:avLst/>
            <a:gdLst/>
            <a:ahLst/>
            <a:rect l="l" t="t" r="r" b="b"/>
            <a:pathLst>
              <a:path w="34" h="72">
                <a:moveTo>
                  <a:pt x="34" y="0"/>
                </a:moveTo>
                <a:cubicBezTo>
                  <a:pt x="22" y="0"/>
                  <a:pt x="10" y="3"/>
                  <a:pt x="0" y="8"/>
                </a:cubicBezTo>
                <a:lnTo>
                  <a:pt x="34" y="72"/>
                </a:lnTo>
                <a:lnTo>
                  <a:pt x="34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275440" y="2800440"/>
            <a:ext cx="838080" cy="374400"/>
          </a:xfrm>
          <a:custGeom>
            <a:avLst/>
            <a:gdLst/>
            <a:ahLst/>
            <a:rect l="l" t="t" r="r" b="b"/>
            <a:pathLst>
              <a:path w="55" h="26">
                <a:moveTo>
                  <a:pt x="55" y="0"/>
                </a:moveTo>
                <a:lnTo>
                  <a:pt x="55" y="4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545000" y="4844880"/>
            <a:ext cx="244440" cy="38916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7"/>
                </a:moveTo>
                <a:lnTo>
                  <a:pt x="16" y="2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684520" y="3247920"/>
            <a:ext cx="625320" cy="301680"/>
          </a:xfrm>
          <a:custGeom>
            <a:avLst/>
            <a:gdLst/>
            <a:ahLst/>
            <a:rect l="l" t="t" r="r" b="b"/>
            <a:pathLst>
              <a:path w="41" h="21">
                <a:moveTo>
                  <a:pt x="0" y="0"/>
                </a:moveTo>
                <a:lnTo>
                  <a:pt x="4" y="0"/>
                </a:lnTo>
                <a:lnTo>
                  <a:pt x="41" y="21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708360" y="2421000"/>
            <a:ext cx="409680" cy="365040"/>
          </a:xfrm>
          <a:custGeom>
            <a:avLst/>
            <a:gdLst/>
            <a:ahLst/>
            <a:rect l="l" t="t" r="r" b="b"/>
            <a:pathLst>
              <a:path w="31" h="30">
                <a:moveTo>
                  <a:pt x="0" y="0"/>
                </a:moveTo>
                <a:lnTo>
                  <a:pt x="0" y="4"/>
                </a:lnTo>
                <a:lnTo>
                  <a:pt x="31" y="3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086000" y="5291280"/>
            <a:ext cx="133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ČS: 12 439mi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575240" y="5564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275080" y="2239920"/>
            <a:ext cx="156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ČSOB:10 328mi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902200" y="2513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843640" y="1773360"/>
            <a:ext cx="1489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-Money Ba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673mil, 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02560" y="2987640"/>
            <a:ext cx="115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B: 9 148m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786320" y="326232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17928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ývoj objemu poskytnutých úvěrů 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 největší banky na trhu, v roce 200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5" name=""/>
          <p:cNvGraphicFramePr/>
          <p:nvPr/>
        </p:nvGraphicFramePr>
        <p:xfrm>
          <a:off x="468360" y="1052640"/>
          <a:ext cx="7127640" cy="1515960"/>
        </p:xfrm>
        <a:graphic>
          <a:graphicData uri="http://schemas.openxmlformats.org/drawingml/2006/table">
            <a:tbl>
              <a:tblPr/>
              <a:tblGrid>
                <a:gridCol w="2003400"/>
                <a:gridCol w="1411560"/>
                <a:gridCol w="1337400"/>
                <a:gridCol w="1252440"/>
                <a:gridCol w="11228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SO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 05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 414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5 707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eská Spořitel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8 57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4 903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9 28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3 420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1 154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900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 37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5 225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-Money ba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 68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115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 23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 896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46" name=""/>
          <p:cNvGrpSpPr/>
          <p:nvPr/>
        </p:nvGrpSpPr>
        <p:grpSpPr>
          <a:xfrm>
            <a:off x="828000" y="2781360"/>
            <a:ext cx="6694920" cy="3741480"/>
            <a:chOff x="828000" y="2781360"/>
            <a:chExt cx="6694920" cy="3741480"/>
          </a:xfrm>
        </p:grpSpPr>
        <p:sp>
          <p:nvSpPr>
            <p:cNvPr id="1447" name=""/>
            <p:cNvSpPr/>
            <p:nvPr/>
          </p:nvSpPr>
          <p:spPr>
            <a:xfrm>
              <a:off x="1603080" y="2892960"/>
              <a:ext cx="5918400" cy="2805840"/>
            </a:xfrm>
            <a:prstGeom prst="rect">
              <a:avLst/>
            </a:prstGeom>
            <a:solidFill>
              <a:srgbClr val="48c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03080" y="5226120"/>
              <a:ext cx="59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03080" y="4767480"/>
              <a:ext cx="59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03080" y="4296240"/>
              <a:ext cx="59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3080" y="3822840"/>
              <a:ext cx="59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3080" y="3364200"/>
              <a:ext cx="59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3080" y="2892960"/>
              <a:ext cx="59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3080" y="2892960"/>
              <a:ext cx="5918400" cy="280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3080" y="2892960"/>
              <a:ext cx="1800" cy="280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548360" y="569916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48360" y="522612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48360" y="476748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48360" y="429624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48360" y="382284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48360" y="336420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8360" y="289296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603080" y="5699160"/>
              <a:ext cx="59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1603080" y="5699160"/>
              <a:ext cx="180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3086640" y="5699160"/>
              <a:ext cx="14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4570200" y="5699160"/>
              <a:ext cx="14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6039360" y="5699160"/>
              <a:ext cx="180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7521480" y="5699160"/>
              <a:ext cx="14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20320" y="3406680"/>
              <a:ext cx="2967120" cy="416160"/>
            </a:xfrm>
            <a:custGeom>
              <a:avLst/>
              <a:gdLst/>
              <a:ahLst/>
              <a:rect l="l" t="t" r="r" b="b"/>
              <a:pathLst>
                <a:path w="214" h="30">
                  <a:moveTo>
                    <a:pt x="0" y="30"/>
                  </a:moveTo>
                  <a:lnTo>
                    <a:pt x="107" y="17"/>
                  </a:lnTo>
                  <a:lnTo>
                    <a:pt x="214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338920" y="3045240"/>
              <a:ext cx="4448520" cy="889200"/>
            </a:xfrm>
            <a:custGeom>
              <a:avLst/>
              <a:gdLst/>
              <a:ahLst/>
              <a:rect l="l" t="t" r="r" b="b"/>
              <a:pathLst>
                <a:path w="321" h="64">
                  <a:moveTo>
                    <a:pt x="0" y="64"/>
                  </a:moveTo>
                  <a:lnTo>
                    <a:pt x="107" y="46"/>
                  </a:lnTo>
                  <a:lnTo>
                    <a:pt x="214" y="30"/>
                  </a:lnTo>
                  <a:lnTo>
                    <a:pt x="321" y="0"/>
                  </a:lnTo>
                </a:path>
              </a:pathLst>
            </a:cu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338920" y="3963240"/>
              <a:ext cx="4448520" cy="596880"/>
            </a:xfrm>
            <a:custGeom>
              <a:avLst/>
              <a:gdLst/>
              <a:ahLst/>
              <a:rect l="l" t="t" r="r" b="b"/>
              <a:pathLst>
                <a:path w="321" h="43">
                  <a:moveTo>
                    <a:pt x="0" y="43"/>
                  </a:moveTo>
                  <a:lnTo>
                    <a:pt x="107" y="37"/>
                  </a:lnTo>
                  <a:lnTo>
                    <a:pt x="214" y="20"/>
                  </a:lnTo>
                  <a:lnTo>
                    <a:pt x="321" y="0"/>
                  </a:ln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338920" y="5254200"/>
              <a:ext cx="4448520" cy="263880"/>
            </a:xfrm>
            <a:custGeom>
              <a:avLst/>
              <a:gdLst/>
              <a:ahLst/>
              <a:rect l="l" t="t" r="r" b="b"/>
              <a:pathLst>
                <a:path w="321" h="19">
                  <a:moveTo>
                    <a:pt x="0" y="19"/>
                  </a:moveTo>
                  <a:lnTo>
                    <a:pt x="107" y="13"/>
                  </a:lnTo>
                  <a:lnTo>
                    <a:pt x="214" y="7"/>
                  </a:lnTo>
                  <a:lnTo>
                    <a:pt x="32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780000" y="378216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23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63200" y="3601440"/>
              <a:ext cx="8316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23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5320" y="3364200"/>
              <a:ext cx="82800" cy="849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296440" y="3891960"/>
              <a:ext cx="68760" cy="70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780000" y="3642120"/>
              <a:ext cx="68760" cy="68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263200" y="3420720"/>
              <a:ext cx="68760" cy="68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5320" y="3004560"/>
              <a:ext cx="70560" cy="68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296440" y="451764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4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780000" y="443448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263200" y="4198680"/>
              <a:ext cx="8316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5320" y="392040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4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282400" y="5461560"/>
              <a:ext cx="12528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2296440" y="5475600"/>
              <a:ext cx="42480" cy="4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38920" y="5518080"/>
              <a:ext cx="4032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2296440" y="5518080"/>
              <a:ext cx="4248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2338920" y="5475600"/>
              <a:ext cx="40320" cy="4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765600" y="5378400"/>
              <a:ext cx="12528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 flipV="1">
              <a:off x="3780000" y="5392440"/>
              <a:ext cx="4032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20320" y="5434920"/>
              <a:ext cx="4248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3780000" y="5434920"/>
              <a:ext cx="4032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3820320" y="5392440"/>
              <a:ext cx="424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49160" y="5295240"/>
              <a:ext cx="1238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5262840" y="5309280"/>
              <a:ext cx="406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303880" y="5351760"/>
              <a:ext cx="42480" cy="4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5262840" y="5351760"/>
              <a:ext cx="40680" cy="4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5303880" y="5309280"/>
              <a:ext cx="424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732720" y="5197680"/>
              <a:ext cx="1238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>
              <a:off x="6745320" y="5211720"/>
              <a:ext cx="424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787800" y="5254200"/>
              <a:ext cx="4032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6745320" y="5254200"/>
              <a:ext cx="4248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6787800" y="5211720"/>
              <a:ext cx="4032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15240" y="32950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5 707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14880" y="293400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8342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914880" y="385128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8522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914880" y="514260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789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368000" y="5587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924840" y="511452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5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28000" y="465732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10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28000" y="4184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15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28000" y="3711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8000" y="32544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5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8000" y="27813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30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44880" y="58514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628440" y="58514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110560" y="58514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593400" y="58514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881000" y="6448320"/>
              <a:ext cx="3744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018880" y="640764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4" y="0"/>
                  </a:moveTo>
                  <a:lnTo>
                    <a:pt x="47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296440" y="632448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ČSOB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892240" y="6448320"/>
              <a:ext cx="374760" cy="18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031560" y="6407640"/>
              <a:ext cx="68760" cy="68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10200" y="6324480"/>
              <a:ext cx="1253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Česká Spořiteln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62800" y="6448320"/>
              <a:ext cx="374760" cy="1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902840" y="640764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179680" y="63244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12680" y="6448320"/>
              <a:ext cx="3729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636520" y="6393600"/>
              <a:ext cx="12528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 flipV="1">
              <a:off x="5650560" y="6407640"/>
              <a:ext cx="42480" cy="4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693040" y="6448320"/>
              <a:ext cx="4032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650560" y="6448320"/>
              <a:ext cx="424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5693040" y="6407640"/>
              <a:ext cx="40320" cy="4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931000" y="6324480"/>
              <a:ext cx="1189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GE-Money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5" name=""/>
          <p:cNvSpPr/>
          <p:nvPr/>
        </p:nvSpPr>
        <p:spPr>
          <a:xfrm rot="16200000">
            <a:off x="-2736720" y="3681000"/>
            <a:ext cx="66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Objem úvěrů v m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m celkově poskytnutých úvěrů :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v roce 2005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826920" y="1530360"/>
            <a:ext cx="7013880" cy="4075200"/>
            <a:chOff x="826920" y="1530360"/>
            <a:chExt cx="7013880" cy="4075200"/>
          </a:xfrm>
        </p:grpSpPr>
        <p:sp>
          <p:nvSpPr>
            <p:cNvPr id="1538" name=""/>
            <p:cNvSpPr/>
            <p:nvPr/>
          </p:nvSpPr>
          <p:spPr>
            <a:xfrm>
              <a:off x="4437000" y="2835360"/>
              <a:ext cx="347760" cy="106668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24" y="4"/>
                  </a:moveTo>
                  <a:cubicBezTo>
                    <a:pt x="16" y="1"/>
                    <a:pt x="8" y="0"/>
                    <a:pt x="0" y="0"/>
                  </a:cubicBezTo>
                  <a:lnTo>
                    <a:pt x="0" y="76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437000" y="2890800"/>
              <a:ext cx="1098720" cy="101124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75" y="72"/>
                  </a:moveTo>
                  <a:cubicBezTo>
                    <a:pt x="75" y="72"/>
                    <a:pt x="76" y="72"/>
                    <a:pt x="76" y="72"/>
                  </a:cubicBezTo>
                  <a:cubicBezTo>
                    <a:pt x="76" y="39"/>
                    <a:pt x="55" y="10"/>
                    <a:pt x="24" y="0"/>
                  </a:cubicBezTo>
                  <a:lnTo>
                    <a:pt x="0" y="72"/>
                  </a:lnTo>
                  <a:lnTo>
                    <a:pt x="75" y="7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019400" y="3902040"/>
              <a:ext cx="1500480" cy="105264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0" y="70"/>
                  </a:moveTo>
                  <a:cubicBezTo>
                    <a:pt x="9" y="74"/>
                    <a:pt x="19" y="75"/>
                    <a:pt x="29" y="75"/>
                  </a:cubicBezTo>
                  <a:cubicBezTo>
                    <a:pt x="70" y="75"/>
                    <a:pt x="104" y="42"/>
                    <a:pt x="104" y="0"/>
                  </a:cubicBezTo>
                  <a:lnTo>
                    <a:pt x="29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325680" y="3395520"/>
              <a:ext cx="1111320" cy="1489320"/>
            </a:xfrm>
            <a:custGeom>
              <a:avLst/>
              <a:gdLst/>
              <a:ahLst/>
              <a:rect l="l" t="t" r="r" b="b"/>
              <a:pathLst>
                <a:path w="77" h="106">
                  <a:moveTo>
                    <a:pt x="10" y="0"/>
                  </a:moveTo>
                  <a:cubicBezTo>
                    <a:pt x="4" y="11"/>
                    <a:pt x="1" y="23"/>
                    <a:pt x="1" y="35"/>
                  </a:cubicBezTo>
                  <a:cubicBezTo>
                    <a:pt x="0" y="67"/>
                    <a:pt x="19" y="95"/>
                    <a:pt x="48" y="106"/>
                  </a:cubicBezTo>
                  <a:lnTo>
                    <a:pt x="77" y="3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71840" y="2835360"/>
              <a:ext cx="965160" cy="106668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0"/>
                  </a:moveTo>
                  <a:cubicBezTo>
                    <a:pt x="39" y="0"/>
                    <a:pt x="13" y="15"/>
                    <a:pt x="0" y="40"/>
                  </a:cubicBezTo>
                  <a:lnTo>
                    <a:pt x="67" y="7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11600" y="2371680"/>
              <a:ext cx="185760" cy="4762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3" y="0"/>
                  </a:moveTo>
                  <a:lnTo>
                    <a:pt x="13" y="5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332320" y="3017880"/>
              <a:ext cx="938160" cy="26676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65" y="0"/>
                  </a:moveTo>
                  <a:lnTo>
                    <a:pt x="60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43600" y="4788000"/>
              <a:ext cx="492120" cy="5760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41"/>
                  </a:moveTo>
                  <a:lnTo>
                    <a:pt x="29" y="4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863800" y="4267080"/>
              <a:ext cx="549360" cy="5335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lnTo>
                    <a:pt x="5" y="38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38480" y="2341440"/>
              <a:ext cx="736560" cy="64620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0"/>
                  </a:moveTo>
                  <a:lnTo>
                    <a:pt x="5" y="0"/>
                  </a:lnTo>
                  <a:lnTo>
                    <a:pt x="51" y="4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646960" y="5097600"/>
              <a:ext cx="14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ČS; 283 420 mil.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77840" y="537696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31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383160" y="2751120"/>
              <a:ext cx="145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KB; 185 225 mil.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309360" y="3030480"/>
              <a:ext cx="86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340880" y="1530360"/>
              <a:ext cx="107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GE - Money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348080" y="179532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Bank; 47 898 mil.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376520" y="207504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831680" y="1700280"/>
              <a:ext cx="72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Ostatní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767600" y="1947960"/>
              <a:ext cx="104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157 474 mil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980000" y="220500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17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26920" y="4535640"/>
              <a:ext cx="200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ČSOB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245 707 mil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329120" y="4797360"/>
              <a:ext cx="75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27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169280" y="76428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ákladní charakteristiky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040760" y="1627560"/>
            <a:ext cx="72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 roce 2004 celkový počet poskytnutých úvěrů dosáhl výš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19 724 mil.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040400" y="2564280"/>
            <a:ext cx="58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úvěry poskytnuté domácnostem dosáhly výš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10 917 mil. Kč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12320" y="3499560"/>
            <a:ext cx="66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největší bankovní instituce pokryly v roce 2005 8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úvěrového trhu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70720" y="4436280"/>
            <a:ext cx="69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ři čemž jejich zisky dosáhly celkem výše 34 488 mil. Kč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Zadluženost obyvatel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České Republik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cem roku 1995 vykazovaly banky celkové úvěry a pohledávky za klienty z řad obyvatelstva ve výši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5,5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ld. kor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cem roku 2004 se zadluženost českých domácností zvýšila 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82,9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mld. kor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 polovině roku 2005 pak činily dluhy českých domácností v úhrnu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21,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mld. kor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měna za léta 1995 až 2005 představuje nárůst dluhu českých domácností o více než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800 %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954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ůvody růstu dluh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evřené horizonty spotře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měněný náhled na zadluženo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ůst životní úrovn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adná dostupnost peněz od bank, společností splátkového prodej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či leasingových společnost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lný marketing těchto finančních zprostředkovatel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lad po vlastním bydlení patrný zejména v posledních letech zkouman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dobí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adluženost obyvat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v mld. koru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826920" y="1557360"/>
            <a:ext cx="7879680" cy="4583880"/>
            <a:chOff x="826920" y="1557360"/>
            <a:chExt cx="7879680" cy="4583880"/>
          </a:xfrm>
        </p:grpSpPr>
        <p:sp>
          <p:nvSpPr>
            <p:cNvPr id="1565" name=""/>
            <p:cNvSpPr/>
            <p:nvPr/>
          </p:nvSpPr>
          <p:spPr>
            <a:xfrm>
              <a:off x="1341360" y="1676520"/>
              <a:ext cx="6956280" cy="2647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341360" y="4324320"/>
              <a:ext cx="69562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188280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241128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295272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347976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4020840" y="4324320"/>
              <a:ext cx="180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454968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509112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561816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6159240" y="4324320"/>
              <a:ext cx="180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668808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7227720" y="4324320"/>
              <a:ext cx="180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775656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8297640" y="4324320"/>
              <a:ext cx="180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373040" y="1992600"/>
              <a:ext cx="6912000" cy="2234880"/>
            </a:xfrm>
            <a:custGeom>
              <a:avLst/>
              <a:gdLst/>
              <a:ahLst/>
              <a:rect l="l" t="t" r="r" b="b"/>
              <a:pathLst>
                <a:path w="498" h="114">
                  <a:moveTo>
                    <a:pt x="0" y="112"/>
                  </a:moveTo>
                  <a:lnTo>
                    <a:pt x="41" y="112"/>
                  </a:lnTo>
                  <a:lnTo>
                    <a:pt x="83" y="112"/>
                  </a:lnTo>
                  <a:lnTo>
                    <a:pt x="124" y="114"/>
                  </a:lnTo>
                  <a:lnTo>
                    <a:pt x="166" y="111"/>
                  </a:lnTo>
                  <a:lnTo>
                    <a:pt x="207" y="110"/>
                  </a:lnTo>
                  <a:lnTo>
                    <a:pt x="249" y="100"/>
                  </a:lnTo>
                  <a:lnTo>
                    <a:pt x="291" y="98"/>
                  </a:lnTo>
                  <a:lnTo>
                    <a:pt x="332" y="92"/>
                  </a:lnTo>
                  <a:lnTo>
                    <a:pt x="374" y="79"/>
                  </a:lnTo>
                  <a:lnTo>
                    <a:pt x="415" y="64"/>
                  </a:lnTo>
                  <a:lnTo>
                    <a:pt x="457" y="51"/>
                  </a:lnTo>
                  <a:lnTo>
                    <a:pt x="498" y="0"/>
                  </a:lnTo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612800" y="4151520"/>
              <a:ext cx="6415200" cy="160200"/>
            </a:xfrm>
            <a:custGeom>
              <a:avLst/>
              <a:gdLst/>
              <a:ahLst/>
              <a:rect l="l" t="t" r="r" b="b"/>
              <a:pathLst>
                <a:path w="498" h="12">
                  <a:moveTo>
                    <a:pt x="0" y="12"/>
                  </a:moveTo>
                  <a:lnTo>
                    <a:pt x="41" y="12"/>
                  </a:lnTo>
                  <a:lnTo>
                    <a:pt x="83" y="12"/>
                  </a:lnTo>
                  <a:lnTo>
                    <a:pt x="124" y="12"/>
                  </a:lnTo>
                  <a:lnTo>
                    <a:pt x="166" y="11"/>
                  </a:lnTo>
                  <a:lnTo>
                    <a:pt x="207" y="10"/>
                  </a:lnTo>
                  <a:lnTo>
                    <a:pt x="249" y="10"/>
                  </a:lnTo>
                  <a:lnTo>
                    <a:pt x="291" y="9"/>
                  </a:lnTo>
                  <a:lnTo>
                    <a:pt x="332" y="6"/>
                  </a:lnTo>
                  <a:lnTo>
                    <a:pt x="374" y="5"/>
                  </a:lnTo>
                  <a:lnTo>
                    <a:pt x="415" y="3"/>
                  </a:lnTo>
                  <a:lnTo>
                    <a:pt x="457" y="2"/>
                  </a:lnTo>
                  <a:lnTo>
                    <a:pt x="498" y="0"/>
                  </a:lnTo>
                </a:path>
              </a:pathLst>
            </a:custGeom>
            <a:noFill/>
            <a:ln w="255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612800" y="3870360"/>
              <a:ext cx="6415200" cy="441360"/>
            </a:xfrm>
            <a:custGeom>
              <a:avLst/>
              <a:gdLst/>
              <a:ahLst/>
              <a:rect l="l" t="t" r="r" b="b"/>
              <a:pathLst>
                <a:path w="498" h="33">
                  <a:moveTo>
                    <a:pt x="0" y="33"/>
                  </a:moveTo>
                  <a:lnTo>
                    <a:pt x="41" y="33"/>
                  </a:lnTo>
                  <a:lnTo>
                    <a:pt x="83" y="33"/>
                  </a:lnTo>
                  <a:lnTo>
                    <a:pt x="124" y="33"/>
                  </a:lnTo>
                  <a:lnTo>
                    <a:pt x="166" y="33"/>
                  </a:lnTo>
                  <a:lnTo>
                    <a:pt x="207" y="33"/>
                  </a:lnTo>
                  <a:lnTo>
                    <a:pt x="249" y="33"/>
                  </a:lnTo>
                  <a:lnTo>
                    <a:pt x="291" y="31"/>
                  </a:lnTo>
                  <a:lnTo>
                    <a:pt x="332" y="11"/>
                  </a:lnTo>
                  <a:lnTo>
                    <a:pt x="374" y="8"/>
                  </a:lnTo>
                  <a:lnTo>
                    <a:pt x="415" y="1"/>
                  </a:lnTo>
                  <a:lnTo>
                    <a:pt x="457" y="1"/>
                  </a:lnTo>
                  <a:lnTo>
                    <a:pt x="498" y="0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444320" y="2065320"/>
              <a:ext cx="6583680" cy="2246400"/>
            </a:xfrm>
            <a:custGeom>
              <a:avLst/>
              <a:gdLst/>
              <a:ahLst/>
              <a:rect l="l" t="t" r="r" b="b"/>
              <a:pathLst>
                <a:path w="498" h="157">
                  <a:moveTo>
                    <a:pt x="0" y="156"/>
                  </a:moveTo>
                  <a:lnTo>
                    <a:pt x="41" y="157"/>
                  </a:lnTo>
                  <a:lnTo>
                    <a:pt x="83" y="157"/>
                  </a:lnTo>
                  <a:lnTo>
                    <a:pt x="124" y="157"/>
                  </a:lnTo>
                  <a:lnTo>
                    <a:pt x="166" y="157"/>
                  </a:lnTo>
                  <a:lnTo>
                    <a:pt x="207" y="157"/>
                  </a:lnTo>
                  <a:lnTo>
                    <a:pt x="249" y="157"/>
                  </a:lnTo>
                  <a:lnTo>
                    <a:pt x="291" y="125"/>
                  </a:lnTo>
                  <a:lnTo>
                    <a:pt x="332" y="122"/>
                  </a:lnTo>
                  <a:lnTo>
                    <a:pt x="374" y="115"/>
                  </a:lnTo>
                  <a:lnTo>
                    <a:pt x="415" y="99"/>
                  </a:lnTo>
                  <a:lnTo>
                    <a:pt x="457" y="62"/>
                  </a:lnTo>
                  <a:lnTo>
                    <a:pt x="498" y="0"/>
                  </a:lnTo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4" name=""/>
            <p:cNvGrpSpPr/>
            <p:nvPr/>
          </p:nvGrpSpPr>
          <p:grpSpPr>
            <a:xfrm>
              <a:off x="826920" y="1557360"/>
              <a:ext cx="515880" cy="2905920"/>
              <a:chOff x="826920" y="1557360"/>
              <a:chExt cx="515880" cy="2905920"/>
            </a:xfrm>
          </p:grpSpPr>
          <p:sp>
            <p:nvSpPr>
              <p:cNvPr id="1585" name=""/>
              <p:cNvSpPr/>
              <p:nvPr/>
            </p:nvSpPr>
            <p:spPr>
              <a:xfrm>
                <a:off x="1341360" y="1676520"/>
                <a:ext cx="1440" cy="2647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277640" y="4324320"/>
                <a:ext cx="63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277640" y="388332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277640" y="344196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277640" y="300060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277640" y="255924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277640" y="211788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277640" y="167652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1341360" y="4324320"/>
                <a:ext cx="1440" cy="66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058760" y="42037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942840" y="376236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826920" y="3321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826920" y="2880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15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26920" y="243864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26920" y="199728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26920" y="15573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1" name=""/>
            <p:cNvSpPr/>
            <p:nvPr/>
          </p:nvSpPr>
          <p:spPr>
            <a:xfrm rot="18900000">
              <a:off x="105228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99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rot="18900000">
              <a:off x="212076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18900000">
              <a:off x="319068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18900000">
              <a:off x="425916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 rot="18900000">
              <a:off x="532908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rot="18900000">
              <a:off x="639756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8900000">
              <a:off x="746604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8" name=""/>
            <p:cNvGrpSpPr/>
            <p:nvPr/>
          </p:nvGrpSpPr>
          <p:grpSpPr>
            <a:xfrm>
              <a:off x="2900160" y="4992840"/>
              <a:ext cx="2895480" cy="259560"/>
              <a:chOff x="2900160" y="4992840"/>
              <a:chExt cx="2895480" cy="259560"/>
            </a:xfrm>
          </p:grpSpPr>
          <p:sp>
            <p:nvSpPr>
              <p:cNvPr id="1609" name=""/>
              <p:cNvSpPr/>
              <p:nvPr/>
            </p:nvSpPr>
            <p:spPr>
              <a:xfrm>
                <a:off x="2900160" y="5126040"/>
                <a:ext cx="309600" cy="18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260520" y="4992840"/>
                <a:ext cx="2535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úvěry celkem (osa vpravo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2884320" y="5305680"/>
              <a:ext cx="3137400" cy="259560"/>
              <a:chOff x="2884320" y="5305680"/>
              <a:chExt cx="3137400" cy="259560"/>
            </a:xfrm>
          </p:grpSpPr>
          <p:sp>
            <p:nvSpPr>
              <p:cNvPr id="1612" name=""/>
              <p:cNvSpPr/>
              <p:nvPr/>
            </p:nvSpPr>
            <p:spPr>
              <a:xfrm>
                <a:off x="2884320" y="5438520"/>
                <a:ext cx="309600" cy="1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45760" y="5305680"/>
                <a:ext cx="2775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úvěry krátkodobé (osa vlevo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4" name=""/>
            <p:cNvSpPr/>
            <p:nvPr/>
          </p:nvSpPr>
          <p:spPr>
            <a:xfrm>
              <a:off x="2884320" y="5737320"/>
              <a:ext cx="30960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246120" y="5592960"/>
              <a:ext cx="290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úvěry střednědobé (osa vlevo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2884320" y="5881680"/>
              <a:ext cx="3199320" cy="259560"/>
              <a:chOff x="2884320" y="5881680"/>
              <a:chExt cx="3199320" cy="259560"/>
            </a:xfrm>
          </p:grpSpPr>
          <p:sp>
            <p:nvSpPr>
              <p:cNvPr id="1617" name=""/>
              <p:cNvSpPr/>
              <p:nvPr/>
            </p:nvSpPr>
            <p:spPr>
              <a:xfrm>
                <a:off x="2884320" y="6016680"/>
                <a:ext cx="309600" cy="14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245400" y="5881680"/>
                <a:ext cx="2838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úvěry dlouhodobé (osa vlevo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8356680" y="39369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285400" y="3576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285400" y="3216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5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285400" y="285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285400" y="2424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5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285400" y="2065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285400" y="17049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35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Tahoma"/>
                <a:ea typeface="Tahoma"/>
                <a:hlinkClick r:id="rId1"/>
              </a:rPr>
              <a:t>www.finance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Tahoma"/>
                <a:ea typeface="Tahoma"/>
                <a:hlinkClick r:id="rId2"/>
              </a:rPr>
              <a:t>www.czso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Tahoma"/>
                <a:ea typeface="Tahoma"/>
                <a:hlinkClick r:id="rId3"/>
              </a:rPr>
              <a:t>www.cnb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Výroční zprávy: ČSOB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KB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Česká Spořitelna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GE-Money Bank 2003-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427680" y="447480"/>
            <a:ext cx="7777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Základním úkolem komerčních bank je obchodování s finančními prostředk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čímž se rozumí přijímání vkladů a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oskytování úvěrů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Úvěr můžeme definovat jako 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bjem finančních prostředků, které věřit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oskytne dlužníkovi za úplatu ve formě úrok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6960" y="2521440"/>
            <a:ext cx="7948080" cy="18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lavními kritérii při samotném rozhodování banky o poskytnutí úvěru js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: návratnost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, tj. schopnost dlužníka splatit úvěr ve sjednané lhůt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: výnosnost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úvě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ýnosnost úvěru je závislá především na 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výši úrokové sazby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- tu ovlivňuje ř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aktorů, jako jsou 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406240" y="4101840"/>
            <a:ext cx="4831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ýše sazeb ČN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zby konkure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ýše nákladů bank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arakter úvě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konomickými podmínkami – např. mírou inf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836640" y="5752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typy úvěr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50960" y="119628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l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by splatnosti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511440" y="119664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rátkodobé úvěry 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o 1 roku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511080" y="15570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řednědobé úvěry 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d 1 do 4 le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511440" y="1915920"/>
            <a:ext cx="31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louhodobé úvěry 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d 4 let víc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8360" y="4365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78240" y="2491560"/>
            <a:ext cx="52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l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jektu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terému je úvěr poskytová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753880" y="249192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úvěry občanů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720040" y="2923920"/>
            <a:ext cx="29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úvěry pro podnikatelské úč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735160" y="3357360"/>
            <a:ext cx="20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zibankovní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39120" y="3789000"/>
            <a:ext cx="23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úvěry obcím a městů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4400" y="436500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l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áměru využití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úvěru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001400" y="436536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potřebitelské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005720" y="472392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dnikatelské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027680" y="515736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ypoteční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001400" y="558936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ontokorentní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3" name=""/>
          <p:cNvGraphicFramePr/>
          <p:nvPr/>
        </p:nvGraphicFramePr>
        <p:xfrm>
          <a:off x="1332000" y="1484280"/>
          <a:ext cx="7127640" cy="4276800"/>
        </p:xfrm>
        <a:graphic>
          <a:graphicData uri="http://schemas.openxmlformats.org/drawingml/2006/table">
            <a:tbl>
              <a:tblPr/>
              <a:tblGrid>
                <a:gridCol w="1036440"/>
                <a:gridCol w="1038240"/>
                <a:gridCol w="1011240"/>
                <a:gridCol w="1009800"/>
                <a:gridCol w="1011240"/>
                <a:gridCol w="1009440"/>
                <a:gridCol w="10112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up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finanční institu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5 8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5 9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3 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4 3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 7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 8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 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2 9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ládní institu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7 6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9 6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 6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0 7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ziskové institu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5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7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8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mác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7 0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7 4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4 4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0 9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věry 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4 3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 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2 8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19 7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4" name=""/>
          <p:cNvSpPr/>
          <p:nvPr/>
        </p:nvSpPr>
        <p:spPr>
          <a:xfrm>
            <a:off x="-181080" y="511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98760" y="328320"/>
            <a:ext cx="81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orunové úvěry klientům poskytované bankovním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stitucemi vybraným skupinám (stav k 31. 12.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675400" y="609264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Údaje jsou uvedeny v mil. K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684360" y="1846440"/>
          <a:ext cx="7704000" cy="35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6440"/>
                    <a:ext cx="770400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>
            <a:off x="697320" y="403200"/>
            <a:ext cx="750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abulka poskytnutých úvěrů podle jednotlivý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kupin v roce 200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747040" y="602100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Údaje jsou uvedeny v mil. K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826920" y="187920"/>
            <a:ext cx="79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Československá obchodní banka, a. s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6877080" y="260280"/>
            <a:ext cx="2016000" cy="1522440"/>
            <a:chOff x="6877080" y="260280"/>
            <a:chExt cx="2016000" cy="1522440"/>
          </a:xfrm>
        </p:grpSpPr>
        <p:pic>
          <p:nvPicPr>
            <p:cNvPr id="844" name="" descr=""/>
            <p:cNvPicPr/>
            <p:nvPr/>
          </p:nvPicPr>
          <p:blipFill>
            <a:blip r:embed="rId1"/>
            <a:stretch/>
          </p:blipFill>
          <p:spPr>
            <a:xfrm>
              <a:off x="6877080" y="260280"/>
              <a:ext cx="201600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5" name=""/>
          <p:cNvSpPr/>
          <p:nvPr/>
        </p:nvSpPr>
        <p:spPr>
          <a:xfrm>
            <a:off x="914400" y="172764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ukazat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44120" y="270828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m poskytnutých úvěrů v mil. Kč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6920" y="3357720"/>
            <a:ext cx="15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isk v mil. K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82280" y="407664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čet klient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354640" y="2205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732720" y="2205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024400" y="2205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275360" y="4076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275360" y="4653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75360" y="5229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07348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 05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44040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20 41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73748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45 7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295240" y="32839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43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662160" y="32839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90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884720" y="3283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3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867280" y="4075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 789 4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867280" y="465228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 863 67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867280" y="522864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 911 65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06040" y="597996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Pozn. Ve všech údajích je zahrnuta i Poštovní spořitelna,která je divizí ČSOB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u počtu klientů se jedná o neověřená čís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7380360" y="260280"/>
            <a:ext cx="1512720" cy="1143000"/>
            <a:chOff x="7380360" y="260280"/>
            <a:chExt cx="1512720" cy="1143000"/>
          </a:xfrm>
        </p:grpSpPr>
        <p:pic>
          <p:nvPicPr>
            <p:cNvPr id="866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51272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"/>
          <p:cNvSpPr/>
          <p:nvPr/>
        </p:nvSpPr>
        <p:spPr>
          <a:xfrm>
            <a:off x="826920" y="476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Nabízené úvěrové produkty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838800" y="981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třebitelské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107520" y="1052640"/>
            <a:ext cx="42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ůjčka na cokoliv (ČSOB) – úroková sazba 10,9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087000" y="1341360"/>
            <a:ext cx="40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třebitelský úvěr (PS) – úroková sazba 8,9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44560" y="1773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nikatelské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184464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Revolvingový úvěr 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4120" y="2133720"/>
            <a:ext cx="25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ontokorentní úvěr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232440" y="2421000"/>
            <a:ext cx="24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omerční úvěr       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214440" y="270828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U komplex úvěr    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197880" y="2997360"/>
            <a:ext cx="24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lý investiční úvěr      (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94880" y="3500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č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7200" y="3572280"/>
            <a:ext cx="334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ČSOB Hypotéka bez dokládání příjmů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2280" y="3859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ČSOB Hypoté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26920" y="407592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ČSOB Hypotéka na družstevní bydlení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87400" y="4365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ČSOB Hypotéka 2 v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670840" y="465228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čelový hypoteční úvěr - HUF 85 (PS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670840" y="49410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čelový hypoteční úvěr - HUF 70 (PS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68320" y="5228640"/>
            <a:ext cx="33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čelový hypoteční úvěr - HUF 100 (PS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700360" y="5409000"/>
            <a:ext cx="460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čelový hypoteční úvěr - HUF bez dokládání příjmů (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61760" y="580536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tokorent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132000" y="5877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volené přečerpání běžného účtu          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132000" y="6165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Povolené přečerpání postžirového účtu           (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507800" y="638172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tav v roce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448000" cy="100800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647640" y="358200"/>
            <a:ext cx="428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Č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ská spo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ř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telna, a. 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03440" y="162576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ukazate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72840" y="256464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m poskytnutých úvěrů v mil. Kč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96360" y="198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904360" y="198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20360" y="198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641840" y="2564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8 57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49840" y="2564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14 90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7840" y="2564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39 28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665840" y="2564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83 42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7720" y="31410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isk v mil. K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936320" y="3141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42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97080" y="314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19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805080" y="314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 33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813440" y="314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 43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45840" y="40759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čet klient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841480" y="4075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841480" y="4507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44720" y="4939560"/>
            <a:ext cx="7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44720" y="5373000"/>
            <a:ext cx="7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356000" y="4075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393 49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356000" y="4507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519 62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356000" y="493956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353 92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356000" y="537300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326 37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12360" y="198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7:05:11Z</dcterms:created>
  <dc:creator>spravce</dc:creator>
  <dc:description/>
  <dc:language>en-US</dc:language>
  <cp:lastModifiedBy>Denisa - Novotná</cp:lastModifiedBy>
  <dcterms:modified xsi:type="dcterms:W3CDTF">2006-12-07T10:08:54Z</dcterms:modified>
  <cp:revision>70</cp:revision>
  <dc:subject/>
  <dc:title>Snímek 1</dc:title>
</cp:coreProperties>
</file>