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9FC-2D59-4FA9-92C1-AFC97120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8C3-24CF-4DFE-B7BD-5E60B9A3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5D3E-16D3-45AA-A69A-6ED03084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D14-21F2-4D5E-A7F1-56C33A9A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0B8E-80E1-428F-9C91-087D0F3B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E30A-8BC8-4EE2-B02B-50DFFF3F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BA26-EE72-44C4-951B-28497F70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D435-0119-4209-B25C-9D6C296F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8F18-CA51-4A7A-ABC1-F3C1277B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E143-84EE-492A-845A-2AEB2506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49EB-0551-4FCD-BED5-DF528F5E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498-B443-492D-85FC-92302044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8BE9-89F8-467C-9B5C-066326DD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C206-DF86-483D-A981-67E2E4BA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19FD-274D-4BE1-ABC1-D10255B0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D088-A11E-4D58-84FC-9968DA17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2016-0F0E-414B-AEBE-871DDE4D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2627-72F1-4F9F-B207-909FB21E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1680-AF78-4BDD-8EA4-B39C4D00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659-6C7F-4B10-9ADF-1653A969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C443-9B11-41DC-9E89-F9D5ED41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E9C3-3897-4720-B0E9-EB2B7074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CD1-7362-4E28-A271-AFC2290E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A503-F708-442D-8E7A-057B6E62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09A4-20D0-433B-85E2-094A4E3CD81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3EDF-421D-4613-9FDD-EA4D4AF53E6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utosap.cz/" TargetMode="External"/><Relationship Id="rId2" Type="http://schemas.openxmlformats.org/officeDocument/2006/relationships/hyperlink" Target="http://www.czso.cz/" TargetMode="External"/><Relationship Id="rId3" Type="http://schemas.openxmlformats.org/officeDocument/2006/relationships/hyperlink" Target="http://www.skoda-auto.cz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rh s malými osobními automobily v Č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ezentace pro kurz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y marketingového výzkum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pracovali : Lumír Czech a Tomáš Chyti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zim 2006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odíl nových a ojetých aut na celém trhu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íl všech nově vyrobených aut na českém trhu v posledních letech klesá, v absolutních číslech stále okolo 100 000 vozů (mírný pokles o cca 3%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lednu až říjnu 2006 bylo poprvé zaregistrováno již 150 632 ks ojetých osobních automobilů (jedná se o automobily z dovozu). Oproti stejnému období roku 2005 zde byl opět zaznamenán nárůst registrací o 26,15 % (to je o 31 221 ojetin více). Podíl prvních registrací ojetých osobních automobilů z dovozu na celkových registracích osobních automobilů v ČR dosáhl v souhrnu za leden až říjen 2006 hodnoty 59,24 % (v roce 2005 to bylo „jen“ 52,81 %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ývoj se odráží i na rostoucím průměrném stáří au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raf 4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Vozový park v ČR dle stáří au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růměrný rok výroby 1992,66 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růměrné stáří OA v ČR 13,84 let 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graf 4 (zdroj:autosap.cz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1721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ůst automobilového průmyslu v Č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České republice bylo za 1.- 9. měsíc 2006 vyrobeno celkem 636 464 ks vozidel, což je o 48,87 % více než ve stejném období roku 2005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 přitom vzrostl téměř o 55 % na 585 289 vozidel. Za celý rok 2005 bylo přitom v ČR vyrobeno 606 294 vozidel, z čehož bylo 535 379 ks exportováno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árůst výroby je dán především náběhem na plnou kapacitu v TPCA Kolín a zvýšenou výrobou ve Škoda Auto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výšení produkce osobních a malých užitkových automobilů o 49,75 % (export přitom vzrostl o 54,97 %, domácí prodej zůstal v podstatě na úrovni loňského roku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ůst automobilového průmyslu v ČR I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valý růst v posledních deseti letech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zi lety 1997 a 2005 se zvýšil objem produkce 3x na současných téměř půl bilionu korun (graf 5, zdroj:ČSÚ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755640" y="2708280"/>
          <a:ext cx="7488360" cy="37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708280"/>
                    <a:ext cx="748836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autosap.c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.czso.c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skoda-auto.c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bsah prezentace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ákladní parametry trhu a vývoj tr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íl domácích a zahraničních výrobc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dělení trhu podle znač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íl nových a ojetých au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plňující informace k produktům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áří automobilů, objem produkce automobilového průmyslu v Č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ujeme s registrovanými O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ákladní parametry trhu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posledních letech trvalý mírný růst trhu, v jednotkách procent (graf 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ní domácí výrob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soký podíl aut třídy malá (graf 2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vyšující se počet aut na obyvate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ký poměr nových a ojetých au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soký podíl aut z dovoz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4969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Vývoj trhu </a:t>
            </a:r>
            <a:br>
              <a:rPr sz="2400"/>
            </a:b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graf 1(zdroj: autosap.cz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185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ecff"/>
                </a:solidFill>
                <a:latin typeface="Arial"/>
              </a:rPr>
              <a:t>Podíl třídy malá OA na trhu</a:t>
            </a:r>
            <a:br>
              <a:rPr sz="2000"/>
            </a:br>
            <a:r>
              <a:rPr b="0" lang="cs-CZ" sz="2000" spc="-1" strike="noStrike">
                <a:solidFill>
                  <a:srgbClr val="ccecff"/>
                </a:solidFill>
                <a:latin typeface="Arial"/>
              </a:rPr>
              <a:t>graf 2 (zdroj: autosap.cz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díl malých OA na celkovém počtu registrovaných dlouhodobě kolem 50%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af 2 : Registrace nových osobních automobilů ve třídě malé v roce 2005 - téměř 50%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29718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odíl domácích a zahraničních výrobců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Škoda Auto: celkově i ve třídě malá OA dominuje v kategorii nově vyrobených vozů v Č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bírá dlouhodobě mezi 40 a 50% na celkovém tr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 třídě malá OA pak mezi 50 a 60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íl domácích nově vyrobených aut na českém trhu klesá hluboko pod 30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raf 3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Graf 3 </a:t>
            </a:r>
            <a:br>
              <a:rPr sz="2400"/>
            </a:b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(zdroj: autosap.cz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274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47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Registrace nových OA v ČR v obchodní třídě - Malé OA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Škoda Fabia od svého uvedení na trh vévodí s více než 50% ročním podíl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souhrnné statistice vozů registrovaných v ČR je již na druhém místě (tabulka 2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této třídě bylo v roce 2005 prodáno celkem 61 731 ks vozidel (v 29 základních modelech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abulka 1(zdroj: autosap.cz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148360" y="0"/>
          <a:ext cx="3995640" cy="6857640"/>
        </p:xfrm>
        <a:graphic>
          <a:graphicData uri="http://schemas.openxmlformats.org/drawingml/2006/table">
            <a:tbl>
              <a:tblPr/>
              <a:tblGrid>
                <a:gridCol w="1381680"/>
                <a:gridCol w="907920"/>
                <a:gridCol w="1014840"/>
                <a:gridCol w="691200"/>
              </a:tblGrid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Období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200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Typ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Ks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Podíl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Pořadí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Citroën C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8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2.96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Fiat PUN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6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.01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Ford FIES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6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2.60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Ford FUS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95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.55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Honda JAZZ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5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0.84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yundai GETZ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.70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Chevrolet KAL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97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.58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Nissan MIC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4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0.74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Opel CORS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5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0.87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Peugeot 2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28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4.64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Renault CL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0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.68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nault THAL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06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Seat CORDOB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56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0.92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Seat IBIZ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6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.08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Suzuki IGNI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9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.53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Suzuki SWIF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37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0.61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Škoda FAB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62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8.74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Toyota YARI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87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3.04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Volkswagen POL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3.26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617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79760" y="260280"/>
            <a:ext cx="3592440" cy="6408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2098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cecff"/>
                </a:solidFill>
                <a:latin typeface="Arial"/>
              </a:rPr>
              <a:t>Tabulka 2</a:t>
            </a:r>
            <a:br>
              <a:rPr sz="1600"/>
            </a:br>
            <a:r>
              <a:rPr b="0" lang="cs-CZ" sz="1600" spc="-1" strike="noStrike">
                <a:solidFill>
                  <a:srgbClr val="ccecff"/>
                </a:solidFill>
                <a:latin typeface="Arial"/>
              </a:rPr>
              <a:t>(zdroj: autosap.cz)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2:32:19Z</dcterms:created>
  <dc:creator>143755</dc:creator>
  <dc:description/>
  <dc:language>en-US</dc:language>
  <cp:lastModifiedBy>143755</cp:lastModifiedBy>
  <dcterms:modified xsi:type="dcterms:W3CDTF">2006-12-08T15:20:01Z</dcterms:modified>
  <cp:revision>22</cp:revision>
  <dc:subject/>
  <dc:title>Trh s malými automobily</dc:title>
</cp:coreProperties>
</file>