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68F-82A9-4B14-BE3E-FFDE0B80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394-8F0E-41EB-9B9C-4FE99129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ADE1-4250-4FB4-8D7B-AE85ED92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140-647B-46B7-851C-D402E51B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301A-E470-46AF-A610-8AD47E9F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6B17-73F3-4A1E-83AF-CB19864D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DB8C-2B20-4F33-A9F6-0308B77C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8C21-8093-4F79-8808-089A7D44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7314-1319-4020-94A9-2374D9FF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0F04-A43E-46A1-AAF7-B99ADEBF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E4D4-14FE-4727-9172-E9504C54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A31-B727-49A1-8EF6-D548DCC7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347B-6253-40B7-ABAD-74D6760C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EDFB-33E6-4C09-AEAA-C3A13694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995D-1F41-4351-9F47-3B9F1944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C153-52DC-4696-BFA5-3D22681E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4AAC-2102-4354-ACCE-9A393A4A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D1A7-F0D5-4BA2-A582-C54E542E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6FE-A0D4-45A5-8E9E-30D54A7D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E90-5FCD-4C76-B8B3-0DB017CD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C4E-F084-4A01-9C37-A9DD127D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F2C9-1CA4-46C7-85F2-0FE904AC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A3E3-29AA-44A1-A044-487B27CF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469-4606-40A2-AB01-E31DA5A3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C42B-8B67-45D5-8EE7-3880F8212F79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E697-600D-4D64-BDEA-2EF2C178269E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ffffff"/>
                </a:solidFill>
                <a:latin typeface="Arial"/>
              </a:rPr>
              <a:t>Trh cigar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I. Aktéři na tomto trh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) Kuř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) Cigaretoví výrob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) Cigaretoví prodej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) St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) Skupiny lobbující pro či proti cigaret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3) Cigaretoví prodej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15880" y="1841400"/>
          <a:ext cx="6605640" cy="39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5880" y="1841400"/>
                    <a:ext cx="660564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3) Cigaretoví prodej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rodejní cena ciga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a je pevná a státem urče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garety jsou zatížené spotřební daní, která se postupně zvyšuje (důvod: slaďování s normami EU a snaha o boj proti kouř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dejci cigaret mají z prodeje 10% marž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a balíčku cigaret (20ks) se pohybuje v rozmezí od 35Kč do 74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4) Stá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řísňování legislativy (celoevropský tr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vody: ochrana zdraví nezletil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konomické důvody jsou sporné – některé zdroje uvádějí, že i přes vysokou míru zdanění stát na cigaretách prodělává (viz. Zpráva Světové banky); novinové články vidí stát spíše zisko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át je pod tlakem mnoha zájmových skupin a navíc i mezi politiky jsou zastánci a odpůrci kou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5) Lobbující skupin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ležití aktéři, poněvadž podoba trhu s cigaretami je značně ovlivňována státními zás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istují zájmové skupiny prodejců cigaret (Česká asociace prodejců cigaret a tabákových výrobků), tlaky nadnárodních tabákových koncernů, ale i tlaky odborné veřejnosti a neziskových organizací (např. Liga proti rakovině, Česká koalice proti tabáku a dalš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Podoba trhu s cigaretam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II. Jak tedy trh s cigaretami vypad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istuje široká nabídka a relativně vysoká poptáv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átní zásahy ovlivňují většinové spotřebitelské chování jen marginál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itelské chování má v tomto případě silnou setrvač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řísnění způsobuje spíše přechod na levnější druhy cigaret nebo uskrovňování se v jiných položkách rozpočtu domácn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ff"/>
                </a:solidFill>
                <a:latin typeface="Arial"/>
              </a:rPr>
              <a:t>Trh s cigaretam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užité zdroj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netové stránky České asociace prodejců cigaret a tabákových výrobků, výrobců cigaret (Philip Morris atd.), prodejců cigaret (Valmont), distributorů tabákových výrobků (Tabak plus, velkoobchod Pe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netové stránky organizací zaměřených proti kouření jako např. Česká koalice proti tabáku, nebo stránky www.nekurte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netové člá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ížky – např. studii Světové banky „Jak zvládnout kuřáckou epidemii“ nebo Novák „O kouření“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zkumy Ústavu zdravotnických informací a statistiky České republiky nazvaných „Výběrové šetření o zdravotním stavu české populace“ (z let 1999 a 200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1) Kuřá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garety kouří skoro 1/3 osob starších 15 l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ce muži než ženy (asi 37 % mužů a 25 % ž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d kouření se v dlouhodobém měřítku snižuje (na přelomu 60. a 70. let kouřilo přes 60 % lid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dé však začínají kouřit v čím dál nižším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yšší podíl příležitostných kuřáků je mezi mladými lidmi do 35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yšší podíl pravidelných kuřáků je u obou pohlaví ve věkové skupině 35-44 l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1) Kuřá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9480" y="2444760"/>
          <a:ext cx="3884760" cy="27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44760"/>
                    <a:ext cx="388476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041480" y="1695600"/>
          <a:ext cx="7348320" cy="4095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1480" y="1695600"/>
                    <a:ext cx="734832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1) Kuřá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74680" y="1839960"/>
          <a:ext cx="7139160" cy="399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1839960"/>
                    <a:ext cx="713916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1) Kuřá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a předchozí grafy byly sestrojeny na základě dat z „Výběrového šetření o zdravotním stavu české populace“, jenž se provádí co 3 ro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ledky z roku 1999 jsou velmi podob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ožka silný kuřák = vykouří 20 a více cigaret den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ze tedy konstatovat, že ze strany kupujících v ČR zájem o cigarety existuj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2) Cigaretoví výrob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Hlavní výrobci na českém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) Philip Mor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) JT Intern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) SIT = Imperial Toba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) BAT = British American Toba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2) Cigaretoví výrob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19240" y="1836720"/>
          <a:ext cx="6805440" cy="379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1836720"/>
                    <a:ext cx="6805440" cy="37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2) Cigaretoví výrob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načky cigaret jednotlivých výrobc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hilipp Morri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Marlboro, Chesterfield, 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, Sparta, Petra, Start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T Internation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Camel, More, Winston, Monte Carlo, Slavia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mperial Tobacc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Davidoff, Route 66, Moon, West, Paramount, Mars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ritish American Tobacc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Pall Mall, Viceroy, Dunhill, Gauloises, Lucky Strike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3) Cigaretoví prodej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de se cigarety prodávaj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) prodejny tabáku, trafiky, kiosky (je jich cca 15.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) čerpací sta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) obchodní řetěz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) potraviny do 4 pokladen a pultový prod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) ostatní prodej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r </cp:lastModifiedBy>
  <dcterms:modified xsi:type="dcterms:W3CDTF">2006-12-09T00:38:05Z</dcterms:modified>
  <cp:revision>35</cp:revision>
  <dc:subject/>
  <dc:title>PowerPoint Presentation</dc:title>
</cp:coreProperties>
</file>