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252-0BE9-49D1-8564-95EA28F6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B74-261A-40A5-A6C4-8E2EE0B7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12E-3E99-4778-A163-83301184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12B-9BDD-456D-B62D-D95C9457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BB7E-A226-47DE-84A0-1B395A8C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B48-8324-495B-BAB1-B6BE5FE5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B519-5338-44F5-9EE0-EFBB319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B66-E53C-42FA-8661-32241DD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58CE-EBD7-42BC-8B42-C08BF811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A0B8-A29D-4A7E-A095-EE79798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FB7C-175B-496E-B162-B9202A2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33-7F01-46C9-9B49-F1419B95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538-2809-4980-B520-9E271FC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7E0D-6DD4-4ABE-820A-31A6169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512-B4F7-4A62-9360-7498384D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08B-5191-4A07-91D7-3937BED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139-5FC3-42E7-9046-651AAC2C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DFD-495E-45BE-AD3C-9531F07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A3F-BB27-4677-B408-9B1088B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C25-5155-497D-88A2-9C83B21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687-30AA-4D31-8C81-E8B7F3F9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5C0-4B39-42F4-8646-E2C1EFC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FEF-167E-479C-BEE6-4345D63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EC5-C52C-4B71-A12D-AF24F6E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BC4-1897-4C6D-B960-1894DD6D2A9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5AE-E1C7-45E4-9263-E5D4BC39ECC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 Narrow"/>
              </a:rPr>
              <a:t>ZÁKLADY MARKETINGOVÉHO VÝZKUM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ANALÝZA TIŠTĚNÝCH PERIOD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egment: deníky s celostátní působno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5562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Arial Narrow"/>
              </a:rPr>
              <a:t>Filip Rozsíval (44244) a Ladislava Suchá (651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SP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RINGIER ČR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dná se o 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deník zaměřený na aktuální sportovní d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v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 územ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(Čechy, Moravskoslezs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pá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ho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 Magazí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0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v páte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4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ŠÍ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VLTAVA-LABE-PRES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tát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který je orientován především společensko-zábavně. Obsahuje však také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jdůležitějš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domác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zprávy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 zajímavosti ze zahraniční, zajímavosti ze světa sportu a TV program. Zahrnuje i různé speciálně zaměřené přílo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xistuje také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ražská mutac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Šípu, která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je doplněna o zprávy z hlavního měs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pondělí – sobo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pátečního vydání je Magaz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5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v pátek 9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SUPER SP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S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</a:rPr>
              <a:t>TRATOSFÉRA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dná se o celostátní společensko-zábavně orientovaný dení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d ledna 2007 přestává vycházet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tištěné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odobě 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ude nahraze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internetov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verz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eriodicita: pondělí – sobo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10 K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62040"/>
            <a:ext cx="8001000" cy="10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ffcc00"/>
                </a:solidFill>
                <a:latin typeface="Arial Narrow"/>
              </a:rPr>
              <a:t>Průměrné náklady deníků s celostátní působností v letech 1996 - 2005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90640" y="2443320"/>
            <a:ext cx="7362720" cy="19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33520" y="2971800"/>
          <a:ext cx="7924680" cy="27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971800"/>
                    <a:ext cx="79246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é náklady deníků s celostátní působností v letech 1996 - 2005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523880"/>
          <a:ext cx="853452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9201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Nečtenější celostátní deníky v období duben - září 200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90920" y="2362320"/>
          <a:ext cx="403848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4038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788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á čtenost na jedno vydání  - duben až září 200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3520" y="990720"/>
          <a:ext cx="822960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2296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34080"/>
            <a:ext cx="8610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br>
              <a:rPr sz="2800"/>
            </a:b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Titu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0" y="2286000"/>
          <a:ext cx="4724280" cy="31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72428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ý prodaný náklad  v období duben - září 2006: Titu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1523880"/>
          <a:ext cx="79250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72600"/>
            <a:ext cx="830592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ydavatelství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410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480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Vydavatelské společnosti působící v oblasti celostátních tištěných deníků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BIK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.r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INGIER ČR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CONOMIA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DOVÉ NOVINY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FRA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ORGIS, a.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LTAVA-LABE-PRES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TRATOSFÉRA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93200"/>
            <a:ext cx="82296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ydavatelství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1676520"/>
          <a:ext cx="7391520" cy="43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Aktuální situ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133720"/>
            <a:ext cx="8305920" cy="3111480"/>
          </a:xfrm>
          <a:prstGeom prst="rect">
            <a:avLst/>
          </a:pr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ejčtenějším celostátním deníkem je Blesk s 1,506 miliony čtenářů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Druhá příčka náleží Mladé frontě Dnes s 1,116 mil. 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tenářů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řetí deníku Právo (464 tis. čtenářů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ásledují Sport (300 tis. čtenářů) a Lidové noviny (216 tis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ově se mezi daty objevují mladé bulvární deníky Aha! a Šíp. Deník Aha! Začal vycházet v březnu 2006 a vykázal čtenost 209 tis. čtenářů a mezi deníky je šestým nejčtenějším deník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Hospodářské noviny čte 202 tis. čtenářů, Šíp 122 tisíc a Supe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r S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y 92 tisíc.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SuperSpy však od počátku roku 2007 přestává vycházet v tištěné podobě a nadále bude existovat pouze v elektronické podobě na internet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očet tištěných celostátních deníků tak klesne na os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V současné době existuje na českém trhu v tomto segmentu 9 deníků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H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L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HOSPODÁŘSKÉ NOVI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LIDOVÉ NOVI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MLADÁ FRONTA D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Á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ŠÍ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UPER S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AHA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EBIKA s.r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polečensko-zábav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mimo novinek ze života společnosti přináší informace z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u a TV progra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ondělí – nedě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 neděli vychází magazín AHA! T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nedělní magazín 9,50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BLESK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RINGIER ČR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který je orientován především společensko-zábavně,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řináš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šak také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ktuál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zajímavosti z domova i ze svě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chází v 6 regionálních mutacích (Praha, Sever, Střední Čechy, Brno, Morava, Moravskoslezská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 pátek vychází společně s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Blesk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páteční vydání s magazínem 12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HOSPODÁŘSKÉ NOVIN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ECONOMIA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deník přinášející především politické a ekonomické zpravodajství z domova i ze světa, komentář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odborné analýzy. Ze všech českých deníků věnuje největší pozornost informacím z české a světové ekonomik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áte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pátek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Víkend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áteční vydání 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gazínem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8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LIDOVÉ NOVIN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LIDOVÉ NOVINY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deník věnující se především domácímu a zahraničnímu zpravodajství, politic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konomice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bsahuje 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ždodenní ekonomic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řílo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 pravidelné tematické přílohy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Dále přináší 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mentáře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ktuality ze svět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předpověď počas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TV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chází ve 4 mutacích (Praha, Čechy, Morava a Br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pátečního vydání je magazín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Pátek L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áteční vydání s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sobotní vydání 12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MLADÁ FRONTA DN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MAFRA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řináší aktuální zpravodajství z domova a ze zahraničí, komentáře a názory, ekonomické zpravodajství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kulturní rubriku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istickou rubriku Společnost DNES, sportov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ogram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ředpověď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časí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jí součástí jsou každodenní specializované příloh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s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4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různými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gionálních přílo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mi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ondě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ho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čtvr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ho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magazí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0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ndě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m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ONA DNE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2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 čtvr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m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Magazínem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Dne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5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PRÁV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BORGI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společensk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litický deník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abíz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ktuální zpravodajství z domova a ze zahraničí, komentáře a názory, ekonomické zpravodajství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kulturní rubrik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sportov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ogra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sobotního vydání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gazín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 Práv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0 Kč, v 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bot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4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20:21:30Z</dcterms:created>
  <dc:creator>Pipo</dc:creator>
  <dc:description/>
  <dc:language>en-US</dc:language>
  <cp:lastModifiedBy>Pipo</cp:lastModifiedBy>
  <dcterms:modified xsi:type="dcterms:W3CDTF">2006-12-08T23:44:07Z</dcterms:modified>
  <cp:revision>24</cp:revision>
  <dc:subject/>
  <dc:title>ZÁKLADY MARKETINGOVÉHO VÝZKUMU</dc:title>
</cp:coreProperties>
</file>