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467-61BF-4F52-99D4-56DDCB22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DC8-B419-44D6-BFEA-9603F33D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073-4503-41C9-BE47-32AB871D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9CF-5106-4438-931E-C574286F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9D42-ABAB-40A4-B541-FAB91B7E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19BE-1D99-4CC2-A8A5-DACAE7DE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B1EA-E53F-416A-AED5-F37AAAFB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5E58-1563-4786-8298-31725E34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EF5B-8181-4B64-AF7B-6773F9D8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8D4D-D11F-4D9C-A672-7F93CEAF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472E-2194-4EC6-9477-C27EFE78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CE5-9D28-43D5-BC6D-BC9B8E1E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9F0F-24F8-4424-8D8A-B8C4E474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C315-1697-4B36-8E6A-CE9C66C9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8457-0802-4625-A298-1392AAA8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C98A-170A-420E-8367-082B45C2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8426-3F79-4989-82B7-0B32843A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193-6AFD-477E-9C19-3300C021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801-4F4F-43DD-AB3C-48A2E696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934-A5CB-4A79-BEF0-A5DF786B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ADD-BB14-4C17-BA0C-D3135790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A48-80FC-428B-B986-0F29081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BBB-B8EC-4FB2-91CC-13C089F7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92E-704E-4661-B2F3-38A1B1E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686E-3B8C-469D-A7AF-2D2BA4FCDFA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B40-3B4E-470C-95D2-D05B1121C40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inance.cz/" TargetMode="External"/><Relationship Id="rId2" Type="http://schemas.openxmlformats.org/officeDocument/2006/relationships/hyperlink" Target="http://www.cnb.cz/" TargetMode="External"/><Relationship Id="rId3" Type="http://schemas.openxmlformats.org/officeDocument/2006/relationships/hyperlink" Target="http://www.ceskenoviny.cz/" TargetMode="External"/><Relationship Id="rId4" Type="http://schemas.openxmlformats.org/officeDocument/2006/relationships/hyperlink" Target="http://www.penize.cz/" TargetMode="External"/><Relationship Id="rId5" Type="http://schemas.openxmlformats.org/officeDocument/2006/relationships/hyperlink" Target="http://www.kurzy.c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niiikyyy@seznam.cz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rh penzijních fondů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SOC 147: Základy marketingového výzkum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isk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4360" y="2133720"/>
          <a:ext cx="7642800" cy="3925440"/>
        </p:xfrm>
        <a:graphic>
          <a:graphicData uri="http://schemas.openxmlformats.org/drawingml/2006/table">
            <a:tbl>
              <a:tblPr/>
              <a:tblGrid>
                <a:gridCol w="4596840"/>
                <a:gridCol w="3045960"/>
              </a:tblGrid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is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Winterthur penzijni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767 000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enzijní fond České pojišťov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707 025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enzijní fond Komerční bank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39 735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 České spořitel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7 633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SOB Penzijní fond Stabili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 235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 167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ianz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 089 763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i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 297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SOB Penzijní fond Prog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 273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mský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 382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droj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finance.c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Česká národní banka –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www.cnb.c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www.ceskenoviny.c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www.penize.c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www.kurzy.c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 to bylo vše!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ěkuji za pozornos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Zpracovala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ikola Krejčířová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iikyyy@seznam.cz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íly na trh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19280" y="1844640"/>
          <a:ext cx="6130440" cy="4214520"/>
        </p:xfrm>
        <a:graphic>
          <a:graphicData uri="http://schemas.openxmlformats.org/drawingml/2006/table">
            <a:tbl>
              <a:tblPr/>
              <a:tblGrid>
                <a:gridCol w="3627720"/>
                <a:gridCol w="2502720"/>
              </a:tblGrid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íl na trhu v 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F České pojišťov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6,5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Winterthur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17,0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F České spořitel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14,9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 Komerční bank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4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SOB PF Stabili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SOB PF Prog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ianz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i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rnický PF Ostrav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mský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íly na trh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84400" y="1600200"/>
          <a:ext cx="677376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4400" y="1600200"/>
                    <a:ext cx="67737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čty klient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42920" y="1557360"/>
          <a:ext cx="6993720" cy="4530240"/>
        </p:xfrm>
        <a:graphic>
          <a:graphicData uri="http://schemas.openxmlformats.org/drawingml/2006/table">
            <a:tbl>
              <a:tblPr/>
              <a:tblGrid>
                <a:gridCol w="4206600"/>
                <a:gridCol w="2787120"/>
              </a:tblGrid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klientů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Zemský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770 640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ČSOB Penzijní fond Prog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614 456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enzijní fond České spořitel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10 352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 České pojišťov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 337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 Komerční bank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 321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SOB Penzijní fond Stabili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 330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thur penzijni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 760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i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 385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ianz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 347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 146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voj 1995 -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2421000"/>
          <a:ext cx="8229600" cy="2448000"/>
        </p:xfrm>
        <a:graphic>
          <a:graphicData uri="http://schemas.openxmlformats.org/drawingml/2006/table">
            <a:tbl>
              <a:tblPr/>
              <a:tblGrid>
                <a:gridCol w="1906560"/>
                <a:gridCol w="984240"/>
                <a:gridCol w="936720"/>
                <a:gridCol w="934920"/>
                <a:gridCol w="936720"/>
                <a:gridCol w="863640"/>
                <a:gridCol w="865080"/>
                <a:gridCol w="801720"/>
              </a:tblGrid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3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aktivních subjektů - penzijních fondů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voj 1995 –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23960" y="1893960"/>
          <a:ext cx="589608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1893960"/>
                    <a:ext cx="58960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ktiva PF celkem v tisících Kč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2421000"/>
          <a:ext cx="8713800" cy="1655640"/>
        </p:xfrm>
        <a:graphic>
          <a:graphicData uri="http://schemas.openxmlformats.org/drawingml/2006/table">
            <a:tbl>
              <a:tblPr/>
              <a:tblGrid>
                <a:gridCol w="1266840"/>
                <a:gridCol w="1274760"/>
                <a:gridCol w="1274760"/>
                <a:gridCol w="1225440"/>
                <a:gridCol w="1224000"/>
                <a:gridCol w="1224000"/>
                <a:gridCol w="122400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 069 10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 973 62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 238 99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 096 43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 433 30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 360 47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 955 77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rovnání – připsané výnos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761000"/>
        </p:xfrm>
        <a:graphic>
          <a:graphicData uri="http://schemas.openxmlformats.org/drawingml/2006/table">
            <a:tbl>
              <a:tblPr/>
              <a:tblGrid>
                <a:gridCol w="3519360"/>
                <a:gridCol w="2428920"/>
                <a:gridCol w="228132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ovnání v 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nosy 200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nosy 200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ČSOB PF Prog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5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Hornický PF Ostrav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Zemský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,3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 České spořitel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ČSOB PF Stabili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 Komerční bank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 České pojišťov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i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thur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ianz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rovnání – připsané výnos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00120" y="1846440"/>
          <a:ext cx="794376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846440"/>
                    <a:ext cx="79437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5:31:48Z</dcterms:created>
  <dc:creator>RPI07</dc:creator>
  <dc:description/>
  <dc:language>en-US</dc:language>
  <cp:lastModifiedBy>RPI07</cp:lastModifiedBy>
  <dcterms:modified xsi:type="dcterms:W3CDTF">2006-12-08T17:39:37Z</dcterms:modified>
  <cp:revision>14</cp:revision>
  <dc:subject/>
  <dc:title>Trh penzijních fondů</dc:title>
</cp:coreProperties>
</file>