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A57-1BB1-480E-A49B-E022AF1F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C05-9BA2-4F14-8B55-B3A82208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EEE-0526-4C6F-A640-BA2606D6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575-308E-4E11-97F4-5DDD894F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8251-C9E2-4822-939D-B98F9FF4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D35A-4425-4396-B6CC-44E2B265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B937-ABCA-4DBA-A872-825B0DF9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F041-F8F8-4C1F-8A05-51CD6EF5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900C-E48E-42E2-B716-2C54EEDD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9E0B-53B8-4A40-964A-DBBA6FC5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97E4-FD5F-4FB1-BDAA-5A6CDB4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840-981B-4125-894F-2C245810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CE97-75FD-4031-B53C-9450D9C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28D7-579F-4949-AF57-0F42CE8E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2D8F-6FF2-4476-A923-5E75C589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45E6-BC81-4304-8FFD-02C5B490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FF41-9564-433B-8DED-E7D987A9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BD5-B578-49BA-8EBD-3FE5416B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BD1-5CAF-4101-B7C3-D8C26EA4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5EE-F5DE-42F7-ADC6-B6A85B48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735-CFC1-4374-A576-2034FEA8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4C9-C2B9-41CD-94A7-C5BC5628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D17-F79C-47CF-A459-02BD57DA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5A1-276E-4DD3-B131-D3F1F5D8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078B-80C2-47DD-861A-9A787F900A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12F6-98B3-4FDE-8B36-C868FFD2D4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ocenkaunievydavatelu.cz/" TargetMode="External"/><Relationship Id="rId2" Type="http://schemas.openxmlformats.org/officeDocument/2006/relationships/hyperlink" Target="http://www.abccr.cr/" TargetMode="External"/><Relationship Id="rId3" Type="http://schemas.openxmlformats.org/officeDocument/2006/relationships/hyperlink" Target="http://www.ringier.cz/" TargetMode="External"/><Relationship Id="rId4" Type="http://schemas.openxmlformats.org/officeDocument/2006/relationships/hyperlink" Target="http://www.bauermedia.cz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bccr.cz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rh časopisů v ČR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rbora Pavlíčková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 147 – Základy marketingového výzkum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Čtenost programových časopis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70160" y="2448000"/>
          <a:ext cx="3579840" cy="28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2448000"/>
                    <a:ext cx="357984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58920" y="1916280"/>
          <a:ext cx="7416720" cy="389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916280"/>
                    <a:ext cx="7416720" cy="38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1280" y="580536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595008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Týdeník Televize, TV Revue a TV Plus vycházejí v jednom vydavatel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Čtenost zpravodajských a ekonomických časopisů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63640" y="1917720"/>
          <a:ext cx="6264360" cy="38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17720"/>
                    <a:ext cx="6264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18728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časopisy této kategorie vycházejí každý v jiném vydavatel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Čtenost společenských časopis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92360" y="1773360"/>
          <a:ext cx="6553080" cy="41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73360"/>
                    <a:ext cx="6553080" cy="41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55640" y="5950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časopisy této kategorie vycházejí každý v jiném vydavatel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Čtenost časopisů pro mláde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50920" y="1700280"/>
          <a:ext cx="5400720" cy="411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00280"/>
                    <a:ext cx="54007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68360" y="595008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Bravo, Bravo Girl! a Dívka vychází ve stejném vydavatel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Čtenost časopisů pro žen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03280" y="1773360"/>
          <a:ext cx="6193080" cy="43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73360"/>
                    <a:ext cx="619308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50920" y="616572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616572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ostatní: Žena a život, Překvapení, Praktická žena, Napsáno život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jvýznamnější česká vydavatelství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pouze výběr jejich produk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konomi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Ekon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uronews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Eu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Bauer Medi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Bravo, Bravo Girl!, Dívka, Chvilka pro tebe, Rytmus života, Žena a život, Pestrý svě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Hachette Filipacch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Elle, Marian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Mediacop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Týden, Instink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ingier ČR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ABC, Blesk pro ženy, Reflex, Týdeník televize, TV Revue, TV Pl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–Press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Respek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Sanona Magazines Prah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Praktická žena, Vla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žní podíly vydavatelstv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16000" y="1484280"/>
          <a:ext cx="6264360" cy="51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84280"/>
                    <a:ext cx="626436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416720" y="4508640"/>
            <a:ext cx="1727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Mafra a Vltava-Labe Press vydávají pouze dení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Objem inzerce v roce 2005 v mil. Kč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19280" y="1700280"/>
          <a:ext cx="6697800" cy="46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0280"/>
                    <a:ext cx="669780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užitá literatura a zdroj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31640" y="21337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rocenkaunievydavatelu.c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abccr.c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ringier.c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bauermedia.c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augue, 2003: Průzkum trhu. Computer Pr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ecifika trhu časopis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mi rozmanitý a širok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ěřováním nákladu tisku zajišťuje Kancelář ověřování nákladu tisku ABC ČR (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abccr.c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ětšina časopisů vychází ve vydavatelstvích s německým vlastník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zájemná „konkurence“ časopisů se stejným zaměřením, ale ve skutečnosti vydávaných jedním vydavatelství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zdělení časopisů dle zaměř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gramov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počítač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pravodajské, ekonomické a odborn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cestování, zajímavos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elektronika, games, ki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polečensk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 děti a mláde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bydlení, hobb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port, motorismus, muž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 žen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týdeník novinového typ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časopi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70160" y="2448000"/>
          <a:ext cx="3579840" cy="28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2448000"/>
                    <a:ext cx="357984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173640" y="3960720"/>
          <a:ext cx="297036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3640" y="3960720"/>
                    <a:ext cx="29703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156360" y="1916280"/>
          <a:ext cx="2303280" cy="3960360"/>
        </p:xfrm>
        <a:graphic>
          <a:graphicData uri="http://schemas.openxmlformats.org/drawingml/2006/table">
            <a:tbl>
              <a:tblPr/>
              <a:tblGrid>
                <a:gridCol w="1265040"/>
                <a:gridCol w="1038240"/>
              </a:tblGrid>
              <a:tr h="1113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iroční změna prodaného nákla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Du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magaz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Rev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0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ýdeník Telev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84360" y="1844640"/>
          <a:ext cx="5327640" cy="4037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1844640"/>
                    <a:ext cx="532764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68360" y="61657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TV magazín je suplementem Deníku, samostatně neprodej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Zpravodajské a ekonomické časopisy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26920" y="1700280"/>
          <a:ext cx="5040360" cy="42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504036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012000" y="1773360"/>
          <a:ext cx="2376000" cy="4031640"/>
        </p:xfrm>
        <a:graphic>
          <a:graphicData uri="http://schemas.openxmlformats.org/drawingml/2006/table">
            <a:tbl>
              <a:tblPr/>
              <a:tblGrid>
                <a:gridCol w="1188000"/>
                <a:gridCol w="1188000"/>
              </a:tblGrid>
              <a:tr h="87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iroční změna prodaného nákla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,1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7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2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,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8360" y="6165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Týden je dlouhodobě nejlépe prodávaný časopis ve své kateg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olečenské časopi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42920" y="1628640"/>
          <a:ext cx="5256360" cy="43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525636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516720" y="1700280"/>
          <a:ext cx="2158560" cy="4247640"/>
        </p:xfrm>
        <a:graphic>
          <a:graphicData uri="http://schemas.openxmlformats.org/drawingml/2006/table">
            <a:tbl>
              <a:tblPr/>
              <a:tblGrid>
                <a:gridCol w="1080000"/>
                <a:gridCol w="1078560"/>
              </a:tblGrid>
              <a:tr h="97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iroční změna prodaného nákla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,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3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5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 Výbě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trý svě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n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0,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50920" y="6021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ačkoliv Pestrý svět vychází teprve od r. 2004, jeho obliba prudce stoupá a počtem svých čtenářů převyšuje většinu konku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asopisy pro mláde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26920" y="1844640"/>
          <a:ext cx="4897440" cy="40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4897440" cy="40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012000" y="1844640"/>
          <a:ext cx="2305080" cy="4032000"/>
        </p:xfrm>
        <a:graphic>
          <a:graphicData uri="http://schemas.openxmlformats.org/drawingml/2006/table">
            <a:tbl>
              <a:tblPr/>
              <a:tblGrid>
                <a:gridCol w="1153080"/>
                <a:gridCol w="1152000"/>
              </a:tblGrid>
              <a:tr h="826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iroční změna prodaného nákla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co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,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í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,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vo Girl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,3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,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6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24000" y="616572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většina těchto časopisů se potýká s dlouhodobým poklesem prod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0182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asopisy pro žen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940360" y="1773360"/>
          <a:ext cx="2305080" cy="4752720"/>
        </p:xfrm>
        <a:graphic>
          <a:graphicData uri="http://schemas.openxmlformats.org/drawingml/2006/table">
            <a:tbl>
              <a:tblPr/>
              <a:tblGrid>
                <a:gridCol w="1368360"/>
                <a:gridCol w="936720"/>
              </a:tblGrid>
              <a:tr h="498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iroční změ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Žena a živ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0,6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25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la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6,1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9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ytmus živ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6,2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19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kvapen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8,3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93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ktická ž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6,4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psáno živo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8,9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46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ian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,8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vilka pro te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7,4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92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8,3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98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esk pro že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1,0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74880" y="1628640"/>
          <a:ext cx="4500360" cy="51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1628640"/>
                    <a:ext cx="450036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odíly na trhu z hlediska čtenos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čtenost = odhad čtenosti na vydá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eden zakoupený časopis si přečte více lidí než jen jeho ku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jišťováno v období od 1.4.2006 - 30.9.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díly na trhu z hlediska čtenos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programových časopis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zpravodajských a ekonomických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časopis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společenských časopis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. časopisů pro mláde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5. časopisů pro ž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8:36:00Z</dcterms:created>
  <dc:creator>barbora pavlíčková</dc:creator>
  <dc:description/>
  <dc:language>en-US</dc:language>
  <cp:lastModifiedBy>Libor</cp:lastModifiedBy>
  <dcterms:modified xsi:type="dcterms:W3CDTF">2006-12-07T18:32:02Z</dcterms:modified>
  <cp:revision>23</cp:revision>
  <dc:subject/>
  <dc:title>Trh časopisů v ČR</dc:title>
</cp:coreProperties>
</file>