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E2B-9A29-47B2-91C9-A967F99F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91E-E974-4CB7-8F68-BF09BD3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4ED-3B8E-4603-ABE0-0E5822F4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5CB-F24B-46CA-A4F5-E0F8DE42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EF89-1502-4731-B142-C4C997A8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0760-3A2F-48FB-9E43-00CF17DE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B524-ED82-4569-8238-BBAA06CA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F322-610C-42E5-B84D-F0F38A8B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0C95-63ED-4076-A79A-6077CC13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CB87-6144-4842-BBC8-7D3C226C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B881-377D-47C9-9165-4ABE8A1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B2B-5976-42AC-87EA-1A5CBDE5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D71E-3F7D-40DD-A1DA-37868F2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5C1-3D1D-4062-9516-8DA577E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6B59-C8EB-4FE5-B07F-BA7F7CC8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4540-B40B-4A90-B40C-887301EB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EA94-FA60-401B-863A-2A152384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7E9-695F-43BC-8F68-FEBD0E4F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748-98AD-4F28-87BF-80990CFD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3A3-1FC5-4D51-BABA-C4AD44BD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D1B-1619-4779-B375-2527F8A6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F97-AFD4-4881-975F-5AD949F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588-87CC-4CF7-83F1-81729CD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5CE-509C-4204-84C5-2BE1468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CB26-F00E-4CC7-897F-2E055574A2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1EEC-4896-4DC9-B814-C56D249CEC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6294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růzkum trhu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16000" y="2133720"/>
            <a:ext cx="668808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POVINNÉ RUČENÍ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5661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Šárka Krobot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omi Melichárk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ituace na trhu povinného ručení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02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lkem je v Čr 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5 520 710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aut, na které je sjednáno povinné ručen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vinné ručení je v Čr možné zařídit u 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9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finančních institu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5 největších 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rývá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 93% trhu.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sou 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skytované služby se liší v: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 pojistné výši, bonusech a zejména v asistenčních službách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(ty nejsou předmětem této prezentac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28000" y="3789360"/>
            <a:ext cx="752400" cy="885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15130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1216080" cy="750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64000" y="4508640"/>
            <a:ext cx="1009800" cy="276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211640" y="3933720"/>
            <a:ext cx="33847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očty aut pojištěných u jednotlivých poskytovatel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1080" y="1700280"/>
          <a:ext cx="8712000" cy="425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700280"/>
                    <a:ext cx="871200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odíl pěti největších poskytovatelů v procente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4360" y="1773360"/>
          <a:ext cx="7927920" cy="489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73360"/>
                    <a:ext cx="792792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Ceny základních nabídek</a:t>
            </a:r>
            <a:br>
              <a:rPr sz="4000"/>
            </a:br>
            <a:r>
              <a:rPr b="1" lang="cs-CZ" sz="3200" spc="-1" strike="noStrike">
                <a:solidFill>
                  <a:srgbClr val="b9efee"/>
                </a:solidFill>
                <a:latin typeface="Garamond"/>
              </a:rPr>
              <a:t>od nejlevnejší po nejdražší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3429000"/>
          <a:ext cx="8372520" cy="1743120"/>
        </p:xfrm>
        <a:graphic>
          <a:graphicData uri="http://schemas.openxmlformats.org/drawingml/2006/table">
            <a:tbl>
              <a:tblPr/>
              <a:tblGrid>
                <a:gridCol w="1150920"/>
                <a:gridCol w="1235160"/>
                <a:gridCol w="1496880"/>
                <a:gridCol w="1496880"/>
                <a:gridCol w="1495440"/>
                <a:gridCol w="1497240"/>
              </a:tblGrid>
              <a:tr h="341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100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25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32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6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36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44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135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5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644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94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983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196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41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185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25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72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867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8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906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250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45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129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28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42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192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41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d250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999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22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94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972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843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50920" y="6093000"/>
          <a:ext cx="7850160" cy="591840"/>
        </p:xfrm>
        <a:graphic>
          <a:graphicData uri="http://schemas.openxmlformats.org/drawingml/2006/table">
            <a:tbl>
              <a:tblPr/>
              <a:tblGrid>
                <a:gridCol w="1569600"/>
                <a:gridCol w="1570320"/>
                <a:gridCol w="1811520"/>
                <a:gridCol w="1328400"/>
                <a:gridCol w="157032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cc2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1439640" cy="401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050920" y="6165720"/>
            <a:ext cx="108108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492360" y="6237360"/>
            <a:ext cx="1584360" cy="358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219640" y="6165720"/>
            <a:ext cx="1224000" cy="374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877080" y="6165720"/>
            <a:ext cx="792000" cy="433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134136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to ceny však nejsou porovnatelné, protože služby, které zákazník k základnímu tarifu dostane jsou rozdílné. Tabulka znázorňuje pouze to, za kolik se dá sehnat povinné ruč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299736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285264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jlevnější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jdražš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5229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vy znázorňují jednotlivé poskytovatele tak jak je znázorněno níž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ojistná výše u základních nabídek všech pěti největších poskytovatel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205000"/>
          <a:ext cx="6922800" cy="3841920"/>
        </p:xfrm>
        <a:graphic>
          <a:graphicData uri="http://schemas.openxmlformats.org/drawingml/2006/table">
            <a:tbl>
              <a:tblPr/>
              <a:tblGrid>
                <a:gridCol w="2307960"/>
                <a:gridCol w="2306880"/>
                <a:gridCol w="2307960"/>
              </a:tblGrid>
              <a:tr h="43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b47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b47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b475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ál pl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kladní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1079640" cy="301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55640" y="2997360"/>
            <a:ext cx="792000" cy="34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55640" y="3716280"/>
            <a:ext cx="1511280" cy="273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936720" cy="285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826920" y="5300640"/>
            <a:ext cx="576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ýhodnost měřená koeficientem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vždy od nejvýhodnějšího po nejméně výhodný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2565360"/>
          <a:ext cx="7561080" cy="2015640"/>
        </p:xfrm>
        <a:graphic>
          <a:graphicData uri="http://schemas.openxmlformats.org/drawingml/2006/table">
            <a:tbl>
              <a:tblPr/>
              <a:tblGrid>
                <a:gridCol w="1587240"/>
                <a:gridCol w="1134000"/>
                <a:gridCol w="1098720"/>
                <a:gridCol w="1247040"/>
                <a:gridCol w="1245240"/>
                <a:gridCol w="1248840"/>
              </a:tblGrid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1000 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66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6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4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3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1350 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1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8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5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2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1850 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5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0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2500 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8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d 2500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7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0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3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3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7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0920" y="6021360"/>
          <a:ext cx="8066160" cy="7351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4600"/>
                <a:gridCol w="1612800"/>
                <a:gridCol w="161316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0de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1439640" cy="401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050920" y="6165720"/>
            <a:ext cx="1081080" cy="46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492360" y="6237360"/>
            <a:ext cx="1584360" cy="358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219640" y="6165720"/>
            <a:ext cx="1224000" cy="374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093080" y="6165720"/>
            <a:ext cx="792000" cy="433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564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oeficient říká kolik Kč zákazník získá za svou jednu korunu při plném využití pojistné sum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200" y="5157720"/>
            <a:ext cx="79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vy znázorňují jednotlivé poskytovatele tak jak je znázorněno níž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Nabízené bonusy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pro řidiče, kteří po dobu jednoho roku nezaviní nehodu a maximální výše bonusu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2276640"/>
          <a:ext cx="6190920" cy="2954160"/>
        </p:xfrm>
        <a:graphic>
          <a:graphicData uri="http://schemas.openxmlformats.org/drawingml/2006/table">
            <a:tbl>
              <a:tblPr/>
              <a:tblGrid>
                <a:gridCol w="2064240"/>
                <a:gridCol w="2062440"/>
                <a:gridCol w="206424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5c65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5c65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5c65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1439640" cy="401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1081080" cy="465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11280" y="2997360"/>
            <a:ext cx="1296720" cy="358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11280" y="4724280"/>
            <a:ext cx="1224000" cy="37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900000" y="4149720"/>
            <a:ext cx="792360" cy="433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79640" y="1773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nu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ávě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5 velkých pojišťovacích společností - 93% tr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jvětší je Česká pojišťovna, druhá Kooperativ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ednotlivé tarify se velmi liší rozsahem svých služeb (zejména u asistenčních služeb, které jsme právě pro jejich obtížnou srovnatelnost nehodnotily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šichni poskytovatelé nabízejí současně povinné ručení, asistenční služby a bonus (řidičům, kteří nejméně jeden rok nezpůsobili nehodu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5:14:01Z</dcterms:created>
  <dc:creator>A</dc:creator>
  <dc:description/>
  <dc:language>en-US</dc:language>
  <cp:lastModifiedBy>oem</cp:lastModifiedBy>
  <dcterms:modified xsi:type="dcterms:W3CDTF">2006-11-28T20:20:45Z</dcterms:modified>
  <cp:revision>16</cp:revision>
  <dc:subject/>
  <dc:title>Průzkum trhu</dc:title>
</cp:coreProperties>
</file>