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57E-8A45-48B4-AC8F-743F4AFB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8A0-17CE-4486-8195-6989CD63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34E-FF02-4523-8789-3860C0A8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157-0EFF-4402-90D4-8CFA0497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FCC8-60DE-4275-BC59-2A3F22AE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E783-6F9E-470F-92F9-EBA9B66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F4C9-C240-4FB6-B822-078D933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302-8A29-467A-A02E-91F5CA83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1DD-E44C-4A8D-B0A0-1AD24B3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721-EE52-4B19-A192-93DA8084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218C-9035-42CA-8FA9-2378EB8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1AB-45E6-4F16-8891-E75852E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871C-0B03-4C63-8B9D-D5808DE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6AA6-D24E-451C-8B88-37EEC58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A1A-79E1-43BB-8B4F-6C09C77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A696-8A2B-46EB-BC92-F12BC4A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8FD-9978-4024-9AEA-DEF99329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EE0D-B552-410B-8A4C-BAA8A36D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D8E7-0981-4574-B504-A6645C4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7B8B-F511-4D4D-A2AE-B0AFCBD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7360-B1C6-4026-8775-33BB554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7579-0228-4E59-9FF1-2C2EADC6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CB9-3F37-4E0B-AACD-21083FA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CEAD-FA1C-42A6-8EAA-2F4CAD64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9993-2A9C-4779-B6C5-123C169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72A9-2552-4C7D-B04B-2E54074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18EB-83F5-4BE0-BFD7-EB38CAB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FB22-D8CC-4EED-9AF7-197EA7B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DBDD-65A9-48AF-A103-249E331A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1081-008E-4A53-8AD1-DA7CBD20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0661-D102-45AC-973D-E3C9A65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BFEC-D6C3-4CD7-BC79-C380265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F442-820E-4D77-BA25-38CE5B4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CF3-D91D-4F3D-A168-C6E4B515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CE5B-3284-48B8-BC53-EA38EA61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CCB5-7599-4869-B23D-24FE33F5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9D4C-85A6-4C86-BAF2-4CA84BD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CB61-5079-4648-90D1-27FA4AA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5678-E8C9-4300-84E4-B33C1DF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5895-9D12-438F-90E0-D9CEEA4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6275-B5CA-44F6-BB74-4C3D6B0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A4E7-A9B1-4AC0-81EB-85264556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5414-F7C9-4941-BFFD-BF6957BD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5813F-225B-49B7-9540-4E861750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81A-A098-4604-BCAD-86458BC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C4F6-C476-45BD-8077-3B6EB1C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EA2B-1FB0-403F-8B7D-C17B51C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787E-7A78-42F7-8B77-246D44AB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C3C5E-2447-443F-AE04-CCC592AB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CCE3-24E8-414E-9AEA-9D62EF9C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245E-5D0F-4F3D-B7B1-08D49CD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5CE0-9B90-47CF-9619-11E6F0E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C065-6841-4C93-8049-7362773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B1FB-934F-461A-B0A7-FAFDAA67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AACE-68D8-430A-80BB-8ACA33D0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621-C780-4904-A6B3-32146AC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EA54-C1C4-410B-B7D3-2CABC40F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8AA3-6672-431F-BE19-2D586E9F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F3F3-EDD8-4BDB-A93B-26F40E9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D496-B0D7-4865-B939-788B3F1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ADB5-3FAD-4DFC-8398-6C1B55D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C0B4-5B00-4568-9385-25FABBF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C862-B28C-494C-A4D1-5EA1DC7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08A16-64F8-4A1D-9A54-1853391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530B-FA2D-4E87-8A66-1F1951F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C3EC-B951-4D27-A6DB-33F6CBB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1F3-8F16-4EC4-8E34-166E827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A430-24C6-4E42-A1A7-8A33486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DC5C-54E8-4CDE-987E-CF8F24C4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DC48-4578-4F16-BD7E-D12AD59D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A908-9400-4055-A3AD-24F32ED6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1EF2-CE9D-4D30-96DC-5BA3DA0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B440-C2C4-4788-806A-AA7CCFA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FB7C-FB5F-42B5-A964-6945E48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EDBCC-B8CC-49AF-91A7-FAB9BF81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DFA5A-C40B-4C10-A93A-6784BBD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0E8EA-9E6B-4022-8DCB-439DABD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670-AEFF-47B2-A524-F8368C6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2536-7F74-4BFA-BBD1-7E89E85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2EEB-84A5-4DDA-97FD-599DEE6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0193-8D6D-4B6A-A1D9-D5FF6E5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540C-03FB-4612-9128-3A925B09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88F94-2C45-4F08-A64B-A899121F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3CD7-CE9C-467E-A974-24561A80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4E16-89D1-4006-8545-A81AFB92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35E1-2329-4568-B06B-37E6D346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229A-9700-4C25-9C00-A8F4F667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A611-6417-4038-8BAD-864D431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357-F21A-4140-ABE3-FB8D938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C0F60-197F-43BA-A01C-ACB0F50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A3418-6CBD-4684-A242-5613E2F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D5F0-7A0F-4741-B812-E0E8EC2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9AD8-503E-47DF-8360-FB0BE61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A3DF-5154-43A4-BFF2-D8706985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7075-72D9-4D9A-B4F3-8AECACD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63ED0-7821-4180-BB7D-99447F33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434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434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5F4C-8D8D-48DB-84A7-8DC8822EB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6666"/>
            </a:solidFill>
            <a:ln w="5724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E2D2-90B9-4E5C-B678-1F55C3089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9434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9434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b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b6b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b6b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559-517D-46E0-9C68-6A545766CE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00b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DDF0-8F07-45E3-B6EA-7127CD6DAA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F99-8645-4711-B941-F6A7F5893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E70-BBAD-404C-B0F4-962720D01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19434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3FB-55EA-42D0-9553-E6CB723ADF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75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50760">
            <a:solidFill>
              <a:srgbClr val="194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31F5-858D-4477-890D-B287CC5AA0A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áklady marketingového výzkum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14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2195280" y="4076280"/>
            <a:ext cx="5545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dovan Palat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na Škaloudová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ýrobci (prodejc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Češt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olimpex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mantler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ěkný - unimex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ekny-unimex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H ProDiet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shprodiet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odejna Bezlepk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bezlepka.prodejc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Knuspi Beč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knuspi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lýn Šmajstrl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ohankovymlyn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Racio Břeclav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racio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amé Bab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ham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ega Provita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rovita.cz, dovozce zbozi Smak Zy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ekárna Novosedly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ekarna-nov.wz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dravý styl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zdravystyl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Jizerské pekárny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jipek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abet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labeta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aleta Lipn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aletalipnic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ýrobci (prodejc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Zahraniční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r. Scha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scha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ammermuehl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hammermuehle-online.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estl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nestle.cz/vyrobky/bezlepkovadiet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mak Zycia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glutenfree.com.p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ečivár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ptovský Hrádok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pecivarnelh.sk/produkty/prehlad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dejc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pecializova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+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velký výběr, poradenstv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zhoršená dostupn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Řetěz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+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nadná dostupn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malá (žádná) nabídka těchto produkt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dro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Společnost pro bezlepkovou dietu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http://coeliac.cz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Bezlepkový obchod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ttp://www.bezlepkovyobchod.info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Bezlepková dieta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http://www.bezlepkovadieta.cz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ezlepkové potravin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6796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stupnost základních potravin a pochutin pro osoby s bezlepkovou dieto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– peč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Hotové výrob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chléb bílý, tmavý, celozrnný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bulky, rohlí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bagety, crossaint, pizz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koláče a korpus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Suché směsi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chléb bílý, tmavý, celozrnný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Mouční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palačinky, bábov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pochu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cc"/>
                </a:solidFill>
                <a:latin typeface="Verdana"/>
              </a:rPr>
              <a:t>Sladké</a:t>
            </a:r>
            <a:endParaRPr b="0" lang="en-US" sz="2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bonbo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tyčinky, müsli tyčin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sušenky, oplatky, vafle 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zmrzlinové kornout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arizo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piškot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cc"/>
                </a:solidFill>
                <a:latin typeface="Verdana"/>
              </a:rPr>
              <a:t>Slané</a:t>
            </a:r>
            <a:endParaRPr b="0" lang="en-US" sz="2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krekr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preclí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grissi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vafle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ruhy potravin – mouky, obalovací smě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Mou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kukuřičná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směs (kuchyňská, chlebová, moučníková)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guárová gum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Obalovací směsi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hraška 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pan gratí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obalovací strouhank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těstov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Fettucini, lasagne, macaroni, spaghetti, conchigliette (mušličky), fusilli, penne (trubky), pipette (kolena), rigati (rourky), tagliatelle (široké nudle)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Flíčky, kolínka, vřetena, motýlci 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Nudle (široké, tenké, vlasové)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– hotová jíd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Instantní jídla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cc"/>
                </a:solidFill>
                <a:latin typeface="Verdana"/>
              </a:rPr>
              <a:t>Ochucená rýže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Polévky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Směs na knedlíky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hy potravin – ochucovadla, zlepšující příprav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Xantanová guma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Chlebové koření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Kořenící směsi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cc"/>
                </a:solidFill>
                <a:latin typeface="Verdana"/>
              </a:rPr>
              <a:t>Chilli, česnek, grilovací, bylinková, houbavá, zeleninová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náp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pivo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12:30Z</dcterms:created>
  <dc:creator>Radovan</dc:creator>
  <dc:description/>
  <dc:language>en-US</dc:language>
  <cp:lastModifiedBy>Radovan</cp:lastModifiedBy>
  <dcterms:modified xsi:type="dcterms:W3CDTF">2006-12-08T19:27:52Z</dcterms:modified>
  <cp:revision>52</cp:revision>
  <dc:subject/>
  <dc:title>Bezlepkové potraviny</dc:title>
</cp:coreProperties>
</file>