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86F-D97A-4692-8C5E-313DD4B7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221-440F-4186-9015-44AC62B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1BF-0D8E-4732-8D88-50566973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85A-58E1-40C0-8DA8-F75C2072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06-4C4B-4518-AFF2-C504EEB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F0A-DD19-493C-B062-42277AA2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2DA-A9E8-497F-BEDA-848B495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CB6-C62B-463F-92DA-C091CAA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56B-E3E6-4FA8-9BAC-14C630B1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1E1-3039-4A03-9525-96EAC05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8DF-DDEB-40CF-AEA0-13F2BC5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E1A-CA24-45A2-B646-4B2E301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93E-30E4-493C-8B80-352943EB2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Trh biopotravin</a:t>
            </a:r>
            <a:br>
              <a:rPr sz="5400"/>
            </a:br>
            <a:br>
              <a:rPr sz="5400"/>
            </a:b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áklady marketingového výzkumu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 147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zkumný tým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dimíra Kuběnová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roslav Procház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dřej Rutkov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voz biopotrav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vstupu do EU se výrazně zvýšil dovo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ásledujících biopotrav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máčky, pomazánky, nápoje, sladidla, oleje a tuky, ale také luštěniny, semena a oře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roku 2005 se začalo ze zahraničí dovážet i čerstvé zboží, především ovo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len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léčné výrob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ětšina dovozových biopotravin pochází z Holandska Německa, Itálie a Bel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hraniční bio výrobci mají o český trh velký zájem, na trh však vstupují i noví čeští podnikat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ýměra zemědělské půdy v Č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ková výměra zemědělské půdy v České republice činí 4 264 000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ůda pro pěstováni biopotravin tvoří pouze její zlo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měra půdy pro biopotraviny se v jednotlivých letech různí (viz následující gr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5300280"/>
            <a:ext cx="683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16000" y="549360"/>
          <a:ext cx="69343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49360"/>
                    <a:ext cx="69343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844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 s biopotravinami se rozvíjí stále dynamičtě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západní Evropě ale není tak rozvin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bývá prodejních míst biopotra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trhu tvoří jen zlomek prodávaných potra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konvenčním potravinám jsou draž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ČR zajisté existují půdní rezervy pro intenzivnější ekologické zeměděl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99640" y="21337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bio-potraviny.abecedazdravi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ze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biopotraviny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esicbiopotravin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ákladní defin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424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potra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ou všechny živočišné a rostlinné produkty, které byly vypěstovány nebo chovány v přírodních podmínkách bez použití pesticidů, fungicidů, hormonů nebo umělých hnoj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kologické zeměděl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způsob hospodaření, který klade značný důraz na opatření chránící půdu a přírodu, zajišťuje ohleduplné zacházení se zvířaty a nepoužívá syntetické pesticidy ani umělá hnoj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logický původ biopotravin zajišťuje zákon a přísná kontrol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logické zemědělství je v  České republice definová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řízením Rady EU 2092/19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onem 242/2000 Sb. o ekologickém zemědělství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ákladní údaje o prodeji biopotrav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83818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5 dosáhl v ČR maloobchodní obrat s biopotravinami 350 milionů K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roku 2004  jde o 30% nárů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to se biopotraviny podílí na celkové spotřebě potravin jen 0,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řeba na 1 obyvatele je 35 K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srovnání se západní Evropou je spotřeba biopotravin velmi nízká (zhruba 3-4 % spotřeby na obyvatele a r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9700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ww.mesicbiopotravin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4120" y="635040"/>
          <a:ext cx="616428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35040"/>
                    <a:ext cx="61642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293160" y="2492280"/>
            <a:ext cx="221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Hypermarke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rodejny zdravé výživ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Farmy, tržiště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robné obch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cované biopotra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éko a mléčné výrob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o a výrobky z ma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ilniny, snídaňové smě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čiv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oce a zelen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iny, čaje, koř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íl jednotlivých produktových kategorií na českém trh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rovnání cen biopotrav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konvenčních výrobk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844280"/>
            <a:ext cx="691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jce 6 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bl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mb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éko (1l, plnotučné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ýr Eid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gurt bíl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vězí ma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přové maso ký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éb pšenič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ěstoviny (špaget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ka pšeničná hrub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aj ovocný porcovan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,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0 největších firem na trhu s biopotravinami dle obrat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io,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-nebio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park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rrefou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untry Life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 Ratibořice rodiny Dobrovolných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ma a.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-BIO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eční brána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 Štěrba – Ekofarma Deb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5373360"/>
            <a:ext cx="50403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85720" y="620640"/>
          <a:ext cx="703584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620640"/>
                    <a:ext cx="703584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k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vlivňujíc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růst trhu s biopotravinam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48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ptávka díky informačním a vzdělávacím kampan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ptávka díky informačním a vzdělávacím kampaní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jetí biopotravin „tvůrci názorů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ůst střední třídy a disponibilních příjm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dpora nabídky biopotravin v obchodních řetězcí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pora marketingu a propagace ze strany zahraničních dodavatel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ětší výběr a lepší dostup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5:21:53Z</dcterms:created>
  <dc:creator>Rutkovsky</dc:creator>
  <dc:description/>
  <dc:language>en-US</dc:language>
  <cp:lastModifiedBy>Vladěnka</cp:lastModifiedBy>
  <dcterms:modified xsi:type="dcterms:W3CDTF">2006-12-07T22:09:30Z</dcterms:modified>
  <cp:revision>13</cp:revision>
  <dc:subject/>
  <dc:title>Trh biopotravin  Základy marketingového výzkumu SOC 147   Výzkumný tým: Vladimíra Kuběnová Jaroslav Procházka Ondřej Rutkovský</dc:title>
</cp:coreProperties>
</file>