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3DB-ABEF-4C22-8F0F-B4ED66BB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C48-67BA-4F7F-B2BD-656FC31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A6B-D7F5-4B96-A26C-8D7437A7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514-7458-473A-BD05-4814ED54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0195-3824-4EC4-BCFC-79FFB305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6FC4-5530-4970-AAC2-2857227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8FF1-643C-4A14-8D0F-86D4DEE5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1B8D-ED9F-4E5D-8DAA-7BEAB81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AC55-14B1-4929-8004-B8AF5919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EC19-BEB7-4A71-99D9-90966A5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054-A016-4966-8ECF-6749A1B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4B9-8B7A-46B6-85A6-1FA6CCE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25ED-7E26-4A5F-8AE2-B3DE565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5D6-6ACB-4238-8741-36C9680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03BE-5A13-41BB-B578-729827F2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105E-E4B8-4C4C-B3D0-4523493E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9446-822D-4D1B-99A2-29CFEEE6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65C-1676-458F-B410-DE6BAE1A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896-FAB8-4184-B6FE-F59C586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D09-0837-4AE3-9380-234BE56D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7E7-6265-4042-9155-15CD5D34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B68-42F7-47FB-8619-2C660B2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165-A93D-4238-B724-34CC21A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937-C184-4C8B-8A85-008DD048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2AD3-93C6-4A69-9FCA-A5622108F68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C7C-EA32-4546-B15C-15E52C1978B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Trh Top 5 českého obchodu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abriela Broda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tina Hyn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deňka Lechn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ývoj firemní struktury českého obchod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971640" y="63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op 5 českého obchod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68360" y="2060640"/>
          <a:ext cx="8229600" cy="4174920"/>
        </p:xfrm>
        <a:graphic>
          <a:graphicData uri="http://schemas.openxmlformats.org/drawingml/2006/table">
            <a:tbl>
              <a:tblPr/>
              <a:tblGrid>
                <a:gridCol w="1019160"/>
                <a:gridCol w="3084480"/>
                <a:gridCol w="1584360"/>
                <a:gridCol w="2541600"/>
              </a:tblGrid>
              <a:tr h="82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řad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ma/Skup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rat (mld.koru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Řetěz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kro Cash&amp;Carry ČR, s.r.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k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WARZ Č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ufland, Li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hold Czech Republic, a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ernova, Albe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WE Č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lla, Penny Mark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sco Stores ČR, a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co hypermarket, Tesco 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684360" y="64911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Makro Cash&amp;Carry ČR, s.r.o.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ěmecký koncern METRO AG, v ČR od roku 1997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brat: 37,5 mld. Kč/rok 200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amostatný segment - samoobslužný velkoobchod nabízející služby i konečným spotřebitelům </a:t>
            </a:r>
            <a:r>
              <a:rPr b="0" lang="cs-CZ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 řadí se mezi maloobchodní fi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12 velkoplošných tzv. cash&amp;carry marketů Makro (periferní lokality největších měst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elkoobchodní prodej spotřebního zboží registrovaným podnikatelů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CHWARZ ČR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ěmecký koncern, v ČR od roku 1998 – Kaufland (Ostrava), 2003 - Lid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rat: 37 mld.Kč/rok 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centrace na tzv. </a:t>
            </a:r>
            <a:r>
              <a:rPr b="1" i="1" lang="cs-CZ" sz="2400" spc="-1" strike="noStrike">
                <a:solidFill>
                  <a:srgbClr val="ffffff"/>
                </a:solidFill>
                <a:latin typeface="Verdana"/>
              </a:rPr>
              <a:t>diskontní prodejny -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jednotky s nižší kvalitou prodeje, menším množstvím prodávaných položek a nízkými cenami; nízká prodejní marže a rychloobrátkovost zbož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Řetězce v ČR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:Kaufland; Lid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aufland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: 68 prodej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Lidl: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124prodejen (plán: 200 prodejen v ČR); největší síť diskontních prodejen potravin v Evrop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HOL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izozemský koncern, v ČR od roku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1991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(původně pod názvem Euronova, a.s.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ejvětší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maloobchodní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firma na českém trhu; nejhustší síť obchodů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 roce 2001 se prodejny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rima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(provozované Aholdem v ČR) přejmenovávají na Hypernov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 lednu 2003 vznikla společnost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Ahold Central Europe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(ACE), která sdružila síly sesterských společností Ahold na Slovensku, v Polsku a České republice (AC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obrat 36 mld.Kč/rok 200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rok 2005 –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řevzetí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57 prodejen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Julius Mein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Řetězce v ČR: Albert; Hypernov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Albert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: 244 supermarketů v Č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Hypernova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: 53 hypermarketů v ČR; jeden z nevětších provozovatelů velkých hypermarketů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REWE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ěmecký koncern, v ČR od roku 1991 prodejny Billa, Penny Market od roku 1997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rat 23,2 mld.Kč/rok 200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odkoupe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supermarketů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elvita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ČR (belgická společnost Delhaiz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Řetězce v ČR: Billa; Penny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Bill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: 80 prodejen v ČR; původně rakouský diskontní obchod – v roce 1996 koupena německou skupinou REWE Gro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Penny Market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iskontní potravinářský řetězec, typu "tvrdý diskont„;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159 prodejen v Č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Tesco Stores ČR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britský maloobchodní řetězec nabízející potravinové a nepotravinové zboží, pohonné hmoty a finanční a telekomunikační služby.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stup na český trh v roce 1996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rat 22,5mld.Kč/rok 200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 roce 2006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odkup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sítě obchodů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Carrefour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11 hypermarketů); odkup části společnosti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Edeka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27 supermarket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Řetězce v ČR: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esco hypermarket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28 prodejen);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esco OD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6 prodej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ývoj obratu Top 5 českého obchod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68360" y="1700280"/>
          <a:ext cx="835164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35164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611280" y="64911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c3aa"/>
                </a:solidFill>
                <a:latin typeface="Arial"/>
              </a:rPr>
              <a:t>Vývoj počtu prodejen Top 5 českého obchodu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68360" y="1197000"/>
          <a:ext cx="81360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1360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op 5 českého obchodu – 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proces další konsolidace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ŘI HLAVNÍ TREN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další expanze stávajících řetězc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expanze zejména v méně lukrativních oblastech - výstavby malých tzv. kompaktních hypermarketových jednotek; v roce 2005 větší rychlost výstavby hypermarketů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zájemná převzetí firem, fúze, odchody z tr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ývoj nových formát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ze strany stávajících obchodních firem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upermarket x Hypermarke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Supermark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 samoobslužní prodejna s nabídkou převážně potravinářského zboží denní potřeby a s doplňkovým nepotravinářským zbožím. Prodejní plocha supermarketů se pohybuje v rozmezí od 400 do 2500 m</a:t>
            </a:r>
            <a:r>
              <a:rPr b="0" lang="cs-CZ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Hypermark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 samoobslužní velkokapacitní prodejna nebo obchodní dům s širokou nabídkou potravinářského a nepotravinářského zboží s prodejní plochou větší než 2500 m</a:t>
            </a:r>
            <a:r>
              <a:rPr b="0" lang="cs-CZ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Internetové zdroj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incoma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hbi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hyper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mobchod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Proč nás fascinují 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„chrámy konzumu“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Šíří sorti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likostí prodejní ploc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likostí nákupních koš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elnými slev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stupností au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evírací dob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ncentrací zábavy, služeb, li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istorie super/hypermarketů v ČR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vní supermarket v ČR: MANA v roce 1991 v Jihlavě (holandská společnost Ahold), další o týden později v Pra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91 další prodejny řetězců Delvita a Billa, 1992 diskontní prodejny Pl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ychlá expanze obchodních řetězců v následujících lete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voj sítě hypermarketů v ČR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ec roku 1999 - v ČR zhruba 50 hypermarketů - přibližně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jednotek na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0 -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1 -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4 –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 (555 supermarketů, 426 diskontních prodejen a 160 hypermarket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5 -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 (studie ACNielsen z listopadu 200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Verdana"/>
              </a:rPr>
              <a:t>dnes má Česká republika nejvyšší počet hypermarketů ve střední Evropě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rovnání: Slovensko 16, Maďarsko 9, Polsko 6, Francie, Velká Británie, Německo - 16-18 hypermarketů na 1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Organizační a prostorová transformace maloobchodu v ČR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1.etapa (1.polovina 90.let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ynamický rozvoj nových obchodních jednotek i rekonstrukce prodejen již stávající maloobchodní sítě (větší samoobsluhy, obchodní dom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u se účastní tuzemské společnosti a již i některé zahraniční firmy (Julius Meinl, Ahold, Delvit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2.etapa (2. polovina 90.let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ozsáhlá investiční účast zahraničních firem na rozvoji moderní velkoplošné obchodní sítě (např. Tesco, Globus, Carrefour, Hypernov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bchodní prostředí v ČR se stále více internacionalizuj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nes se v žebříčku TOP 10 obchodních společností vyskytují pouze zahraniční subjek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uper/Hypermarkety vs. Diskonty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Verdana"/>
              </a:rPr>
              <a:t>Diskonty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 jednotky s nižší kvalitou prodeje, menším množstvím prodávaných položek a nízkými cenami; nízká prodejní marže a rychloobrátkovost zbož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iskontní prodejny Top 5 v ČR: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enny Market, Lidl, Kaufland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 konce 90. let markantní vzestup počtu diskontních prodejen. Největší boom s příchodem řetězce Lidl na český trh v roce 2003 – do konce roku 2003 měl Lidl v ČR 51 a na konci roku 2004 již 97 prodej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voj hlavního nákupního místa potrav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9214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Prodejny podle měsíčně utracené sumy peněz obyvateli ČR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638172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0:01:24Z</dcterms:created>
  <dc:creator>Zdeňka Lechnerová</dc:creator>
  <dc:description/>
  <dc:language>en-US</dc:language>
  <cp:lastModifiedBy>Zdeňka Lechnerová</cp:lastModifiedBy>
  <dcterms:modified xsi:type="dcterms:W3CDTF">2006-11-30T16:28:25Z</dcterms:modified>
  <cp:revision>52</cp:revision>
  <dc:subject/>
  <dc:title>Trh hyper/supermarketů</dc:title>
</cp:coreProperties>
</file>