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BDB-7182-4489-9B46-B799CE3D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5AE9-B9A3-414C-81D3-2326634E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B63-CE07-4112-9F82-7EA597FA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FB8-F377-4634-B33E-81649C18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CCB3-D881-4378-AEEB-3EAFB88B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5CA6-1770-4C77-8824-F2D40A98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AE4D-C347-48E8-841B-6A383B92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A90F-9DFE-4E2C-B99E-7C2C18E4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13AD-C23F-4C29-BCF6-D79188BD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C441-9E7A-4D0F-A3E6-EF3253FE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C298-B23A-4DD8-8C47-E5E09324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73E-D5E3-4C02-B2F1-C9801929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F4C9-2555-471C-B8CE-F902909D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B826-5738-41EE-B8BF-7832FB0A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2F2E-8CEF-45B0-ACD0-E45C15FB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5655-4364-4989-BA0D-B9C07EA7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AC55-AC1F-446E-A10D-6D396FDF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1EF-861C-44A7-A19B-C64D7458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98F-B708-4BB6-AB02-022B3291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E2A-B340-4BE4-8A68-DC2B88A0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443-0102-4F19-9CAF-D4DF77F1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324-BE5C-408C-95F0-A1C446BC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EDF-EB37-4765-8F96-16B7C001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974-D8C5-48D5-9C52-5EC3E529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6139-67DC-4CBE-83FD-8E20F7ACE6F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BC08-E432-4992-A4A7-02EB37556F4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Prodej outgoing zájezdů na internetu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snova prezenta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e trh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kos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růs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h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lavní produkty trh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lavní aktéř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 trh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ientela trh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hody a nevýhody trhu v konkurenci offline prode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o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lientela trh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ladší generace (20-40 let), její movitější zástup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výběru se u starších zástupců této generace podílí celá rodina: žena vybírá, kam se pojede, děti zájezd hledají a muž jej pla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ienti platí převážně převodem z účtu, minoritní jsou přímé vklady na účet firmy či převody poš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lientela trh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ním z klíčových údajů je tzv. konverzní poměr – kolik uživatelů musí navštívit webové stránky firmy, aby 1 z nich koupil –za velmi dobrý poměr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e považuje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10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omocí tohoto poměru pak firmy sledují úspěšnosti kampaní – vyčíslením ROI = return on invest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edovanost webu Invia.cz je p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ř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ližně 7000 unikátních IP den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ienty je potřeba nejdřív na internet vůbec dostat – to ale CK ani CA neřeš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net lidi dostanou velké vyhledávač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K a CA si tu p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k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n pochytají svoje klienty –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jefektivnějším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stroji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rketingu jsou investice právě do vyhledávačů (place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traktiv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zi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 katalozích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ední dobou se rozmáhá search engine optimalizatio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ýhody e-nákupu zájezd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hodlí dom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žnost porovnat ce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hod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u obecně – možnost ihned dohledat komplementární informace (recenze destinací, fotogal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e, kurzy měn, předpovědi počasí, map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aj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evýhody e-nákupu zájezd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radox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asto neaktuální nabídk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na trhu převažují CA, které jen agregují zájezdy od CK – ty často dodávají informace pozdě a v nedokonalé podob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ence osobního kontaktu při prodej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droje prezenta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www.e-komerce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magconsulting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apek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www.justice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www.lupa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</a:rPr>
              <a:t>http://www.zive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www.ihned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mam.ihned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tuesday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neopublic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efinice trhu – co sem spadá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tohoto trhu spadá prodej celých zájezdů (více než dvě služby podle zákona 159/1999 Sb. o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stovních kancelářích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nebo i jeho samostatných komponent (ubytování, doprava, tj. především letenky, lyžařské permanentky aj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going = výjezdový cestovní ruch, tj. zájez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eských občanů mimo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trhu zahrnujem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ej jak cestovní kanceláří, tak cestovních agentu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agentury tvoří cca 7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efinice trhu – CK vs. 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stovní kancelář = firma, která zájezdy přímo „vyrábí“, tj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a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jišťuje ubytování, dopravu, průvodce a další služ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stovní agentura = firma, která zájezdy po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přeprodává, tj. nakupuje od cestovních kanceláří a zprostředkovává jejich prodej klientům; taková firma žije z provizí – ty jsou vzhledem k silně konkurenčnímu prostředí na trhu zájezdů poměrně nízké, průměrně ve výši 5-7% (= cca polovina průměrné marže cestovní kancelář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ůst trhu – prodané zájezdy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 milionech Kč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36760" y="2797200"/>
          <a:ext cx="4096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6760" y="2797200"/>
                    <a:ext cx="4096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504800" y="2017800"/>
          <a:ext cx="6094440" cy="406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4800" y="2017800"/>
                    <a:ext cx="609444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elikost trh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ůst trhu (viz graf)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750 mi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č v roce 2005, 1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00 mil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č za rok 2005, odh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pr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 2006 mluv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ž 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000 mil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to objem se na celkovém trhu cestován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K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 po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5%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do roku 2008 se očekává růst tohoto podílu až na 30-4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rh se stabilizuje, boom má za sebou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3 pomyslný start, 2004 rozvo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5 horeč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2006 stabiliz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lavní produkty trh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jvětší zájem je o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yt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ce (v pořadí): Řecko, Egypt, Tunisko, Turecko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harsko, Španělsk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vatsko, kam jezdí nejvíce Čechů, negeneruje obj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na online trh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e dvou důvodů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třebitelé si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jezdy s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řizují sa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trhu e-prodeje zájezdů nakupují především movitější klienti, kteří Chorvatsko jako low-cost destinaci opomíjej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lavní aktéř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větším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ráčem na trhu je Invia.cz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 rok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4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inil 320 mil.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 rok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5 už 605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il.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had pro rok 2006 je 900 mi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íl Invia.cz n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celé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h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i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lavní aktéři – více o Invia.c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ia.cz je díky svému obratu i desátým největším prodejcem zájezdů v ČR vůbe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kazuje tak, že i čistě internetová firma může hrát velmi významnou roli i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rh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ložena 2002 jako Mojedovolena.cz, v roce do ní vstoupil silný zahraniční partne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švýcarský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ralway Holding AG (koupil 51%) – ten změnil vše: z firmy s 10 zaměstnanci se stal kolos o 200 lidech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á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jí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ájezdy 260 CK, do budoucna kalkuluje s přibližně 30% ročním růstem, který by měl kopírovat růst celého trh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alší hlavní aktéř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ttravel.cz - obrat 171 mil. Kč za r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jezdy.cz – obrat 160 mil. K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ast.cz – obrat 140 mil. K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(vše údaje za rok 20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02:02:41Z</dcterms:created>
  <dc:creator>Tomáš Hložánek</dc:creator>
  <dc:description/>
  <dc:language>en-US</dc:language>
  <cp:lastModifiedBy>Tomáš Hložánek</cp:lastModifiedBy>
  <dcterms:modified xsi:type="dcterms:W3CDTF">2006-12-12T02:56:44Z</dcterms:modified>
  <cp:revision>28</cp:revision>
  <dc:subject/>
  <dc:title>Prodej outgoing zájezdů na internetu </dc:title>
</cp:coreProperties>
</file>