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23.wmf" ContentType="image/x-wmf"/>
  <Override PartName="/ppt/media/image8.png" ContentType="image/png"/>
  <Override PartName="/ppt/media/image14.jpeg" ContentType="image/jpeg"/>
  <Override PartName="/ppt/media/image12.jpeg" ContentType="image/jpeg"/>
  <Override PartName="/ppt/media/image22.wmf" ContentType="image/x-wmf"/>
  <Override PartName="/ppt/media/image6.png" ContentType="image/png"/>
  <Override PartName="/ppt/media/image21.png" ContentType="image/png"/>
  <Override PartName="/ppt/media/image20.jpeg" ContentType="image/jpeg"/>
  <Override PartName="/ppt/media/image7.jpeg" ContentType="image/jpeg"/>
  <Override PartName="/ppt/media/image18.png" ContentType="image/png"/>
  <Override PartName="/ppt/media/image19.jpeg" ContentType="image/jpeg"/>
  <Override PartName="/ppt/media/image1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png" ContentType="image/png"/>
  <Override PartName="/ppt/media/image2.jpeg" ContentType="image/jpeg"/>
  <Override PartName="/ppt/media/image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63241-2720-4032-B061-E93B3320E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5DA18-A272-4E48-B266-30404E73C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2FF1D-D50F-45E6-827F-29BB0984D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B2553-EFB6-44C2-B3D3-5087B45FD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7EA42-7C87-4516-91CF-C78154055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C06F5-6176-41BD-9B63-0CE775529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089DD-4A53-4F15-A2AF-CE48BE4DF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8BCBA-9CD1-4D41-B6C8-7937432CE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75D3F-EC99-4A20-A5D6-C2B280235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3834B-3F18-4952-8718-672245148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F22C3-327C-4808-A7F3-95FDD812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8AD27-DE09-4D54-B713-A46ACAAE3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0CD9A-4A5F-408B-BA19-6F1C6292A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19F15-68FC-465E-8874-35CE558DA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428CB-89CE-46E8-BC69-6829F0E1C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40E5C-F748-494E-88DF-A77B58C96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8EE8B-2AB3-4FDE-80EC-9B58C9D69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D5EE2-FA4D-4F55-BB22-42DD38351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71D2D-8BB5-4EE9-9959-984E06B64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B4A87-E2E7-4818-8E33-EBD32BC37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3BA18-7407-4460-B978-F074B489B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77DC5-A595-4C81-A870-AD993754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154D4-EBE4-41DF-9E26-FE530705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99F92-BAF7-42D5-8520-2B3ECB53F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C6983-26ED-4BDB-8C4E-32E0AC8CCD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cc6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f66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ffcc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f669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ff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cc6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ff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ff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ff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ff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147AB-7D67-4D72-8239-FCD542228A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6699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cc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kolist.cz/zprava.shtml?x=1905666" TargetMode="External"/><Relationship Id="rId2" Type="http://schemas.openxmlformats.org/officeDocument/2006/relationships/hyperlink" Target="http://www.ekospotrebitel.cz/" TargetMode="External"/><Relationship Id="rId3" Type="http://schemas.openxmlformats.org/officeDocument/2006/relationships/hyperlink" Target="http://www.ekospotrebitel.cz/" TargetMode="External"/><Relationship Id="rId4" Type="http://schemas.openxmlformats.org/officeDocument/2006/relationships/hyperlink" Target="http://www.ekospotrebitel.cz/" TargetMode="External"/><Relationship Id="rId5" Type="http://schemas.openxmlformats.org/officeDocument/2006/relationships/hyperlink" Target="http://www.ekospotrebitel.cz/" TargetMode="External"/><Relationship Id="rId6" Type="http://schemas.openxmlformats.org/officeDocument/2006/relationships/hyperlink" Target="http://www.mokosha.info/" TargetMode="External"/><Relationship Id="rId7" Type="http://schemas.openxmlformats.org/officeDocument/2006/relationships/hyperlink" Target="http://www.mokosha.info/" TargetMode="External"/><Relationship Id="rId8" Type="http://schemas.openxmlformats.org/officeDocument/2006/relationships/hyperlink" Target="http://www.mokosha.info/" TargetMode="External"/><Relationship Id="rId9" Type="http://schemas.openxmlformats.org/officeDocument/2006/relationships/hyperlink" Target="http://www.mokosha.info/" TargetMode="External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ekonomika.idnes.cz/test.asp?r=test&amp;c=2005M017t07B" TargetMode="External"/><Relationship Id="rId2" Type="http://schemas.openxmlformats.org/officeDocument/2006/relationships/hyperlink" Target="http://ekonomika.idnes.cz/test.asp?r=test&amp;c=2005M017t07B" TargetMode="External"/><Relationship Id="rId3" Type="http://schemas.openxmlformats.org/officeDocument/2006/relationships/hyperlink" Target="http://ekonomika.idnes.cz/test.asp?r=test&amp;c=2005M017t07B" TargetMode="External"/><Relationship Id="rId4" Type="http://schemas.openxmlformats.org/officeDocument/2006/relationships/hyperlink" Target="http://ekonomika.idnes.cz/test.asp?r=test&amp;c=2005M017t07B" TargetMode="External"/><Relationship Id="rId5" Type="http://schemas.openxmlformats.org/officeDocument/2006/relationships/hyperlink" Target="http://ekonomika.idnes.cz/test.asp?r=test&amp;c=2005M017t07B" TargetMode="External"/><Relationship Id="rId6" Type="http://schemas.openxmlformats.org/officeDocument/2006/relationships/hyperlink" Target="http://ekonomika.idnes.cz/test.asp?r=test&amp;c=2005M017t07B" TargetMode="External"/><Relationship Id="rId7" Type="http://schemas.openxmlformats.org/officeDocument/2006/relationships/hyperlink" Target="http://ekonomika.idnes.cz/test.asp?r=test&amp;c=2005M017t07B" TargetMode="External"/><Relationship Id="rId8" Type="http://schemas.openxmlformats.org/officeDocument/2006/relationships/hyperlink" Target="http://www.droxi.cz/" TargetMode="External"/><Relationship Id="rId9" Type="http://schemas.openxmlformats.org/officeDocument/2006/relationships/hyperlink" Target="http://www.fixies.cz/home/?acc=fixies_plenky" TargetMode="External"/><Relationship Id="rId10" Type="http://schemas.openxmlformats.org/officeDocument/2006/relationships/hyperlink" Target="http://www.helenharper.cz/" TargetMode="External"/><Relationship Id="rId11" Type="http://schemas.openxmlformats.org/officeDocument/2006/relationships/hyperlink" Target="http://www.huggiesclub.cz/script05/default.asp" TargetMode="External"/><Relationship Id="rId12" Type="http://schemas.openxmlformats.org/officeDocument/2006/relationships/hyperlink" Target="http://www.itesco.cz/" TargetMode="External"/><Relationship Id="rId13" Type="http://schemas.openxmlformats.org/officeDocument/2006/relationships/hyperlink" Target="http://www.popolini.cz/" TargetMode="External"/><Relationship Id="rId14" Type="http://schemas.openxmlformats.org/officeDocument/2006/relationships/hyperlink" Target="http://www.popolini.cz/" TargetMode="External"/><Relationship Id="rId15" Type="http://schemas.openxmlformats.org/officeDocument/2006/relationships/hyperlink" Target="http://www.popolini.cz/" TargetMode="External"/><Relationship Id="rId16" Type="http://schemas.openxmlformats.org/officeDocument/2006/relationships/hyperlink" Target="http://www.popolini.cz/" TargetMode="External"/><Relationship Id="rId17" Type="http://schemas.openxmlformats.org/officeDocument/2006/relationships/hyperlink" Target="http://www.rossmann.cz/produkty" TargetMode="External"/><Relationship Id="rId18" Type="http://schemas.openxmlformats.org/officeDocument/2006/relationships/hyperlink" Target="http://www.slevy.cz/index.php?rubrika=katalog&amp;produkt=17626" TargetMode="External"/><Relationship Id="rId19" Type="http://schemas.openxmlformats.org/officeDocument/2006/relationships/hyperlink" Target="http://www.utrading.sk/index1.html" TargetMode="External"/><Relationship Id="rId2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image" Target="../media/image15.png"/><Relationship Id="rId13" Type="http://schemas.openxmlformats.org/officeDocument/2006/relationships/image" Target="../media/image16.jpeg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image" Target="../media/image19.jpeg"/><Relationship Id="rId17" Type="http://schemas.openxmlformats.org/officeDocument/2006/relationships/image" Target="../media/image20.jpeg"/><Relationship Id="rId18" Type="http://schemas.openxmlformats.org/officeDocument/2006/relationships/image" Target="../media/image21.png"/><Relationship Id="rId1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Trh dětských plenek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Arial"/>
              </a:rPr>
              <a:t>Alžběta Kubinová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732720" y="4653000"/>
            <a:ext cx="21589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k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ždá značka se obvykle vyrábí ve vícero variantách a velikostech zohledňujících věk a hmotnost dítě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plňkový sortiment (produkty, které souvisí s přebalováním nebo kojení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66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ložky na přebal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66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sní tampony pro kojící mat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66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Čisticí ubrous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éninkové kalhotk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66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ypadají jako spodní prád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66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jí se snadno stáhnout a natáhn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66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tištěny obrázky – motivační charakter (obrázky zmizí, stane-li se „nehoda“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7380360" y="5734080"/>
            <a:ext cx="901800" cy="95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D177F-50E1-457B-BB3D-2D6C3CFBBAF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ndence na trh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ultipacky – příznivější c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ájem spotřebitelů o levnější produk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66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stor pro vlastní maloobchodní znač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66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načkoví výrobci – nutnost snižování cen + nutnost inovace (kompenzovat vyšší cenu vyšší kvalito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7380360" y="5734080"/>
            <a:ext cx="901800" cy="95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A2AEC-DFBC-4DB1-ABAE-071299AD071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nativ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derní látkové pleny (propagace zejména z tábora ekolog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kopleny – jednorázové pleny po použití dobře a rychle rozložitelné, jsou však drah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ezplenková metoda neboli minimální plena - učit dítě používat záchod již od naroz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ůvody: ekologické, ekonomické, zdravotní, výchov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zhledem k současnému stylu života není pravděpodobné, že by ohrozily výrobce jednorázových p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7380360" y="5734080"/>
            <a:ext cx="901800" cy="95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C16A0-EB8A-422C-9215-C2F5F70E9EC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užité 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míšek, J. (2004). Jednorázové dětské plenky. In: Zboží &amp; prodej, č. 110, s. 44-4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vadil, P. (2006). Ve Francii začala kampaň za prací dětské pleny. Dostupné z: </a:t>
            </a:r>
            <a:r>
              <a:rPr b="0" lang="cs-CZ" sz="2800" spc="-1" strike="noStrike" u="sng">
                <a:solidFill>
                  <a:srgbClr val="cc3300"/>
                </a:solidFill>
                <a:uFillTx/>
                <a:latin typeface="Arial"/>
                <a:hlinkClick r:id="rId1"/>
              </a:rPr>
              <a:t>http://www.ekolist.cz/zprava.shtml?x=1905666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itováno 6.12.200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cc3300"/>
                </a:solidFill>
                <a:uFillTx/>
                <a:latin typeface="Arial"/>
                <a:hlinkClick r:id="rId2"/>
              </a:rPr>
              <a:t>http://www.</a:t>
            </a:r>
            <a:r>
              <a:rPr b="0" lang="cs-CZ" sz="2800" spc="-1" strike="noStrike" u="sng">
                <a:solidFill>
                  <a:srgbClr val="cc3300"/>
                </a:solidFill>
                <a:uFillTx/>
                <a:latin typeface="Arial"/>
                <a:hlinkClick r:id="rId3"/>
              </a:rPr>
              <a:t>ekospotrebitel</a:t>
            </a:r>
            <a:r>
              <a:rPr b="0" lang="cs-CZ" sz="2800" spc="-1" strike="noStrike" u="sng">
                <a:solidFill>
                  <a:srgbClr val="cc3300"/>
                </a:solidFill>
                <a:uFillTx/>
                <a:latin typeface="Arial"/>
                <a:hlinkClick r:id="rId4"/>
              </a:rPr>
              <a:t>.</a:t>
            </a:r>
            <a:r>
              <a:rPr b="0" lang="cs-CZ" sz="2800" spc="-1" strike="noStrike" u="sng">
                <a:solidFill>
                  <a:srgbClr val="cc3300"/>
                </a:solidFill>
                <a:uFillTx/>
                <a:latin typeface="Arial"/>
                <a:hlinkClick r:id="rId5"/>
              </a:rPr>
              <a:t>cz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látkové plen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cc3300"/>
                </a:solidFill>
                <a:uFillTx/>
                <a:latin typeface="Arial"/>
                <a:hlinkClick r:id="rId6"/>
              </a:rPr>
              <a:t>http://www.</a:t>
            </a:r>
            <a:r>
              <a:rPr b="0" lang="cs-CZ" sz="2800" spc="-1" strike="noStrike" u="sng">
                <a:solidFill>
                  <a:srgbClr val="cc3300"/>
                </a:solidFill>
                <a:uFillTx/>
                <a:latin typeface="Arial"/>
                <a:hlinkClick r:id="rId7"/>
              </a:rPr>
              <a:t>mokosha</a:t>
            </a:r>
            <a:r>
              <a:rPr b="0" lang="cs-CZ" sz="2800" spc="-1" strike="noStrike" u="sng">
                <a:solidFill>
                  <a:srgbClr val="cc3300"/>
                </a:solidFill>
                <a:uFillTx/>
                <a:latin typeface="Arial"/>
                <a:hlinkClick r:id="rId8"/>
              </a:rPr>
              <a:t>.</a:t>
            </a:r>
            <a:r>
              <a:rPr b="0" lang="cs-CZ" sz="2800" spc="-1" strike="noStrike" u="sng">
                <a:solidFill>
                  <a:srgbClr val="cc3300"/>
                </a:solidFill>
                <a:uFillTx/>
                <a:latin typeface="Arial"/>
                <a:hlinkClick r:id="rId9"/>
              </a:rPr>
              <a:t>info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bezplenková metod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E7540-8986-4051-94FF-EC8872C7EBA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-line zdroje obrázků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cc3300"/>
                </a:solidFill>
                <a:uFillTx/>
                <a:latin typeface="Arial"/>
                <a:hlinkClick r:id="rId1"/>
              </a:rPr>
              <a:t>http://ekonomika.</a:t>
            </a:r>
            <a:r>
              <a:rPr b="0" lang="cs-CZ" sz="1400" spc="-1" strike="noStrike" u="sng">
                <a:solidFill>
                  <a:srgbClr val="cc3300"/>
                </a:solidFill>
                <a:uFillTx/>
                <a:latin typeface="Arial"/>
                <a:hlinkClick r:id="rId2"/>
              </a:rPr>
              <a:t>idnes</a:t>
            </a:r>
            <a:r>
              <a:rPr b="0" lang="cs-CZ" sz="1400" spc="-1" strike="noStrike" u="sng">
                <a:solidFill>
                  <a:srgbClr val="cc3300"/>
                </a:solidFill>
                <a:uFillTx/>
                <a:latin typeface="Arial"/>
                <a:hlinkClick r:id="rId3"/>
              </a:rPr>
              <a:t>.</a:t>
            </a:r>
            <a:r>
              <a:rPr b="0" lang="cs-CZ" sz="1400" spc="-1" strike="noStrike" u="sng">
                <a:solidFill>
                  <a:srgbClr val="cc3300"/>
                </a:solidFill>
                <a:uFillTx/>
                <a:latin typeface="Arial"/>
                <a:hlinkClick r:id="rId4"/>
              </a:rPr>
              <a:t>cz</a:t>
            </a:r>
            <a:r>
              <a:rPr b="0" lang="cs-CZ" sz="1400" spc="-1" strike="noStrike" u="sng">
                <a:solidFill>
                  <a:srgbClr val="cc3300"/>
                </a:solidFill>
                <a:uFillTx/>
                <a:latin typeface="Arial"/>
                <a:hlinkClick r:id="rId5"/>
              </a:rPr>
              <a:t>/test.</a:t>
            </a:r>
            <a:r>
              <a:rPr b="0" lang="cs-CZ" sz="1400" spc="-1" strike="noStrike" u="sng">
                <a:solidFill>
                  <a:srgbClr val="cc3300"/>
                </a:solidFill>
                <a:uFillTx/>
                <a:latin typeface="Arial"/>
                <a:hlinkClick r:id="rId6"/>
              </a:rPr>
              <a:t>asp</a:t>
            </a:r>
            <a:r>
              <a:rPr b="0" lang="cs-CZ" sz="1400" spc="-1" strike="noStrike" u="sng">
                <a:solidFill>
                  <a:srgbClr val="cc3300"/>
                </a:solidFill>
                <a:uFillTx/>
                <a:latin typeface="Arial"/>
                <a:hlinkClick r:id="rId7"/>
              </a:rPr>
              <a:t>?r=test&amp;c=2005M017t07B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(obrázek průřezu pleno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ttp://www.ahold.cz/jnp/sk/ahold/sit_a_znacky/maloobchodni_znacky/index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ttp://www.billa.cz/eurobilla_cz/default.asp?katNr=34341&amp;sNr=770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ttp://www.delvita.cz/index.php?node=59&amp;frommenu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ttp://www.delvita.cz/index.php?node=60&amp;frommenu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ttp://www.dm-drogeriemarkt.cz/bb/detail.html?qid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cc3300"/>
                </a:solidFill>
                <a:uFillTx/>
                <a:latin typeface="Arial"/>
                <a:hlinkClick r:id="rId8"/>
              </a:rPr>
              <a:t>http://www.droxi.c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cc3300"/>
                </a:solidFill>
                <a:uFillTx/>
                <a:latin typeface="Arial"/>
                <a:hlinkClick r:id="rId9"/>
              </a:rPr>
              <a:t>http://www.fixies.cz/home/?acc=fixies_plen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cc3300"/>
                </a:solidFill>
                <a:uFillTx/>
                <a:latin typeface="Arial"/>
                <a:hlinkClick r:id="rId10"/>
              </a:rPr>
              <a:t>http://www.helenharper.c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cc3300"/>
                </a:solidFill>
                <a:uFillTx/>
                <a:latin typeface="Arial"/>
                <a:hlinkClick r:id="rId11"/>
              </a:rPr>
              <a:t>http://www.huggiesclub.cz/script05/default.a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cc3300"/>
                </a:solidFill>
                <a:uFillTx/>
                <a:latin typeface="Arial"/>
                <a:hlinkClick r:id="rId12"/>
              </a:rPr>
              <a:t>http://www.itesco.c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cc3300"/>
                </a:solidFill>
                <a:uFillTx/>
                <a:latin typeface="Arial"/>
                <a:hlinkClick r:id="rId13"/>
              </a:rPr>
              <a:t>http://www.</a:t>
            </a:r>
            <a:r>
              <a:rPr b="0" lang="cs-CZ" sz="1400" spc="-1" strike="noStrike" u="sng">
                <a:solidFill>
                  <a:srgbClr val="cc3300"/>
                </a:solidFill>
                <a:uFillTx/>
                <a:latin typeface="Arial"/>
                <a:hlinkClick r:id="rId14"/>
              </a:rPr>
              <a:t>popolini</a:t>
            </a:r>
            <a:r>
              <a:rPr b="0" lang="cs-CZ" sz="1400" spc="-1" strike="noStrike" u="sng">
                <a:solidFill>
                  <a:srgbClr val="cc3300"/>
                </a:solidFill>
                <a:uFillTx/>
                <a:latin typeface="Arial"/>
                <a:hlinkClick r:id="rId15"/>
              </a:rPr>
              <a:t>.</a:t>
            </a:r>
            <a:r>
              <a:rPr b="0" lang="cs-CZ" sz="1400" spc="-1" strike="noStrike" u="sng">
                <a:solidFill>
                  <a:srgbClr val="cc3300"/>
                </a:solidFill>
                <a:uFillTx/>
                <a:latin typeface="Arial"/>
                <a:hlinkClick r:id="rId16"/>
              </a:rPr>
              <a:t>cz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(obrázek dítěte na titulní stránc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cc3300"/>
                </a:solidFill>
                <a:uFillTx/>
                <a:latin typeface="Arial"/>
                <a:hlinkClick r:id="rId17"/>
              </a:rPr>
              <a:t>http://www.rossmann.cz/produk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cc3300"/>
                </a:solidFill>
                <a:uFillTx/>
                <a:latin typeface="Arial"/>
                <a:hlinkClick r:id="rId18"/>
              </a:rPr>
              <a:t>http://www.slevy.cz/index.php?rubrika=katalog&amp;produkt=1762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ttp://www.spar.c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cc3300"/>
                </a:solidFill>
                <a:uFillTx/>
                <a:latin typeface="Arial"/>
                <a:hlinkClick r:id="rId19"/>
              </a:rPr>
              <a:t>http://www.utrading.sk/index1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DBB4E-7A7C-4AB5-BC36-C3F125309E0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fika trh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ákup zboží ve velké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elké finanční výda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mezený okruh spotřebitelů (domácnosti s malými dětm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mezená doba užívání (cca do dvou let věku dítě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ůležitá je důvěra rodičů ve značk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55640" y="6165720"/>
            <a:ext cx="655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baseline="30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ČR se v roce 2005 prodalo cca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50 milionů kusů jednorázových plen (Zavadil, 200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380360" y="5734080"/>
            <a:ext cx="901800" cy="95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4A0D3-81A2-40D1-9679-4D027AB10F2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ákladní poj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tegorie dětských plen = jednorázové papírové nebo buničité plenk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ůřez plenk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71640" y="3716280"/>
            <a:ext cx="4381560" cy="2124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7380360" y="5734080"/>
            <a:ext cx="901800" cy="95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04619-B31E-4EA7-B37C-074E3743A37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lastnické struktu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Značkoví výrob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lastní maloobchodní znač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39640" y="4437000"/>
            <a:ext cx="2303640" cy="6904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843280" y="5445000"/>
            <a:ext cx="1441440" cy="360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3059280" y="5950080"/>
            <a:ext cx="1047600" cy="4190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4572000" y="4437000"/>
            <a:ext cx="1206360" cy="1231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7956720" y="1557360"/>
            <a:ext cx="809280" cy="7905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2843280" y="2781360"/>
            <a:ext cx="981000" cy="7430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7"/>
          <a:stretch/>
        </p:blipFill>
        <p:spPr>
          <a:xfrm>
            <a:off x="7704000" y="2492280"/>
            <a:ext cx="1440000" cy="11415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8"/>
          <a:stretch/>
        </p:blipFill>
        <p:spPr>
          <a:xfrm>
            <a:off x="5219640" y="2133720"/>
            <a:ext cx="1143000" cy="13968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9"/>
          <a:stretch/>
        </p:blipFill>
        <p:spPr>
          <a:xfrm>
            <a:off x="3995640" y="2133720"/>
            <a:ext cx="1143000" cy="13968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0"/>
          <a:stretch/>
        </p:blipFill>
        <p:spPr>
          <a:xfrm>
            <a:off x="468360" y="2565360"/>
            <a:ext cx="2305080" cy="12495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11"/>
          <a:stretch/>
        </p:blipFill>
        <p:spPr>
          <a:xfrm>
            <a:off x="6156360" y="4437000"/>
            <a:ext cx="799920" cy="3906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12"/>
          <a:stretch/>
        </p:blipFill>
        <p:spPr>
          <a:xfrm>
            <a:off x="6156360" y="4941720"/>
            <a:ext cx="790560" cy="7048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3"/>
          <a:stretch/>
        </p:blipFill>
        <p:spPr>
          <a:xfrm>
            <a:off x="7308720" y="4365720"/>
            <a:ext cx="1295640" cy="12700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14"/>
          <a:stretch/>
        </p:blipFill>
        <p:spPr>
          <a:xfrm>
            <a:off x="684360" y="5300640"/>
            <a:ext cx="1714320" cy="5716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15"/>
          <a:stretch/>
        </p:blipFill>
        <p:spPr>
          <a:xfrm>
            <a:off x="755640" y="6021360"/>
            <a:ext cx="1504800" cy="3618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16"/>
          <a:stretch/>
        </p:blipFill>
        <p:spPr>
          <a:xfrm>
            <a:off x="3203640" y="443700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17"/>
          <a:stretch/>
        </p:blipFill>
        <p:spPr>
          <a:xfrm>
            <a:off x="6516720" y="2133720"/>
            <a:ext cx="1143000" cy="13968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18"/>
          <a:stretch/>
        </p:blipFill>
        <p:spPr>
          <a:xfrm>
            <a:off x="4572000" y="5805360"/>
            <a:ext cx="1057320" cy="63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E3601-BD9B-4BBF-895A-884869752F3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načkoví výrob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op 5 výrobců dětských plen</a:t>
            </a:r>
            <a:r>
              <a:rPr b="0" lang="cs-CZ" sz="3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cca 70 % trhu v objemu a 77 % v hodnotě</a:t>
            </a:r>
            <a:r>
              <a:rPr b="0" lang="cs-CZ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66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artmann Rico (značka Fixi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66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imberly-Clark (značka Huggi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66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ntex (značka Helen Harp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66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ct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Gamble (značka Pamp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66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niversal Trading SR (značky Pipi, Eco baby, Absorbers premiu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26920" y="5877000"/>
            <a:ext cx="6409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baseline="30000">
                <a:solidFill>
                  <a:srgbClr val="000000"/>
                </a:solidFill>
                <a:latin typeface="Arial"/>
              </a:rPr>
              <a:t>1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 abecedním pořad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Údaje za období květen 2003 – duben 2004 (zdroj: ACNielsen, podle Smíšek, 200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380360" y="5734080"/>
            <a:ext cx="901800" cy="95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0B766-3298-4C01-93F7-BF996A48463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lastní maloobchodní znač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kro Cash &amp; Carry ČR – značka A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esco Stores ČR – dvě značky: Tesco Výhodný nák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vyrábí Ontex), Tes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hold – značka EuroShopper, Hypernova, Alb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terspar – značka Spar (vyrábí Ont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aufland – značka Wickies (vyrábí Hygienika S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illa – značka Clever (vyrábí Ont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elvita – dvě značky: Delvita, 3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dl 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načka C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lus - Discount – značka Bon Bi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roxi – značka Droxi (vyrábí Ont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M - drogerie markt – značka BabyL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ssmann – značka Rossma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7380360" y="5734080"/>
            <a:ext cx="901800" cy="95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635F1-1C71-4F9E-918C-43FD24387F6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dle čeho si spotřebitelé plenky vybírají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nač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val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66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íra absorb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66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dravotní hlediska – úroveň péče o pokožku dítě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66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aktičnost používání – zejm. způsob a kvalita upínání, tvar plenky (aby se v ní dítě mohlo pohodlně pohybov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66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rázkový motiv na pleně (zejm. u starších dět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7380360" y="5734080"/>
            <a:ext cx="901800" cy="95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02B7F-66B0-4565-B9A3-BB719E53101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tegie získávání spotřebitel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naha působit na spotřebitele již ve chvíli, kdy se začíná rozhodovat, kterou značku plen bude kupovat – tedy již v porodnicí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eklama – televize, časopisy pro ženy, angažování slavných osobností a jejich dětí (např. lyžařka K. Neumannová a její dcera Lucie – Helen Harp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kce přímo v prodejně – POP materiály, předvádění výrobků, rozdávání vzorků a dár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kční nabíd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ěrnostní program (např. různé soutěže, Huggies Clu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7380360" y="5734080"/>
            <a:ext cx="901800" cy="95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B5CA9-842E-48E1-941D-80A9ACB12EC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Kde spotřebitelé plenky nakupují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0" y="1625760"/>
          <a:ext cx="4175280" cy="504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25760"/>
                    <a:ext cx="4175280" cy="50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4572000" y="1557360"/>
          <a:ext cx="4206960" cy="386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557360"/>
                    <a:ext cx="4206960" cy="38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5867280" y="5805360"/>
            <a:ext cx="302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droj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: ACNielsen (podle Smíšek, 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Údaje za období 05/2003 – 04/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46C30-77DF-4B6C-A5BC-D210E1F6690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8T08:42:15Z</dcterms:created>
  <dc:creator> </dc:creator>
  <dc:description/>
  <dc:language>en-US</dc:language>
  <cp:lastModifiedBy> </cp:lastModifiedBy>
  <dcterms:modified xsi:type="dcterms:W3CDTF">2006-12-10T23:35:42Z</dcterms:modified>
  <cp:revision>13</cp:revision>
  <dc:subject/>
  <dc:title>Trh dětských plenek</dc:title>
</cp:coreProperties>
</file>