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002C-119F-4EF1-81F5-AAC7CAFA7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09EF-1983-4F6A-A77B-6C34F9A4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A365-7875-4B8E-8633-D03A19F36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96DA-C6C9-430A-9E9E-582F68106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C3A0-61D7-42AB-9CA9-74981306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9811-C637-423B-84DE-99673B70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7A23-660D-4F69-B70F-371A385F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FF41-083E-4C09-BB07-2537D554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7907-B574-44EB-859E-C2669539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88D5-5C50-49EA-BC73-6F35C0E9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B14B-93C0-4200-AB93-F717784A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5164-96F0-4D54-AA64-FBF75077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E378-B284-4ABF-99EE-FBDE881E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040B-DC1D-4F79-9ACF-058D9777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6592-FE57-4C9F-B564-1B024E4D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ABEB-A518-4FD9-9416-C90713FB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34EF-07C7-4B8A-94E7-699A0F2AE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B4B2-3516-45BE-BDCB-B189C8AB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A1D8-C02F-4F9C-AA19-F9F89378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941F-568A-4CDB-B18B-3FF6A730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E246-341F-4A5E-8E02-622DC711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F0A2-B60F-46AD-8FA2-CB2FC4E8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5A7C-A5A6-4487-B3D0-2C234617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F5E8-A0B8-4FA6-8670-96871078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3AA0-8B33-4079-A5C1-6765DC8278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683D-C3F6-4AE2-B845-240C7ACDC1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Book Antiqua"/>
              </a:rPr>
              <a:t> </a:t>
            </a:r>
            <a:r>
              <a:rPr b="0" lang="en-US" sz="5400" spc="-1" strike="noStrike">
                <a:solidFill>
                  <a:srgbClr val="333399"/>
                </a:solidFill>
                <a:latin typeface="Book Antiqua"/>
              </a:rPr>
              <a:t>Výzkum trhu</a:t>
            </a:r>
            <a:br>
              <a:rPr sz="5400"/>
            </a:br>
            <a:br>
              <a:rPr sz="4800"/>
            </a:br>
            <a:r>
              <a:rPr b="1" lang="en-US" sz="5400" spc="-1" strike="noStrike">
                <a:solidFill>
                  <a:srgbClr val="333399"/>
                </a:solidFill>
                <a:latin typeface="Book Antiqua"/>
              </a:rPr>
              <a:t>STUDENTSKÉ ÚČTY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372000" y="6092640"/>
            <a:ext cx="2408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Pavla Slezáková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Book Antiqua"/>
              </a:rPr>
              <a:t>Přehled bank a jejich produktů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600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ČESKÁ SPOŘITELNA</a:t>
            </a: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    - Student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ČSOB</a:t>
            </a: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    - Student. Konto Pl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eBANKA</a:t>
            </a: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    - Program Stu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GE MONEY BANK </a:t>
            </a: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    - Genius Stu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KOMERČNÍ BANKA</a:t>
            </a: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    - Gaudeamu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Tahoma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  <a:ea typeface="Tahoma"/>
              </a:rPr>
              <a:t>POŠTOVNÍ SPOŘITELNA- Program Jun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  <a:ea typeface="Tahoma"/>
              </a:rPr>
              <a:t>RAIFFEISENBANK</a:t>
            </a:r>
            <a:r>
              <a:rPr b="0" lang="cs-CZ" sz="2400" spc="-1" strike="noStrike">
                <a:solidFill>
                  <a:srgbClr val="000000"/>
                </a:solidFill>
                <a:latin typeface="Book Antiqua"/>
                <a:ea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Book Antiqua"/>
                <a:ea typeface="Tahoma"/>
              </a:rPr>
              <a:t>    - Kompletkonto Stu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  <a:ea typeface="Tahoma"/>
              </a:rPr>
              <a:t>ŽIVNOSTENSKÁ BANKA- Studentské ko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ook Antiqua"/>
              </a:rPr>
              <a:t>Výše úrokové sazb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220500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050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334120" y="2017800"/>
          <a:ext cx="3809880" cy="411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201780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ook Antiqua"/>
              </a:rPr>
              <a:t>Úvěr a úro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77720" y="2136600"/>
          <a:ext cx="8137800" cy="361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2136600"/>
                    <a:ext cx="8137800" cy="36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611280" y="5950080"/>
            <a:ext cx="7993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Úrok z úvěru vyjádřen jako úvěr navýšený o roční úrok /RPSN/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eBanka a Živnobanka neposkytuje speciální úvěry pro studen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ook Antiqua"/>
              </a:rPr>
              <a:t>Náklad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7320" y="2013120"/>
          <a:ext cx="8850240" cy="36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320" y="2013120"/>
                    <a:ext cx="8850240" cy="36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468360" y="5589720"/>
            <a:ext cx="83516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Book Antiqua"/>
              </a:rPr>
              <a:t>Vedení účtu = měsíční poplatek za ved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Book Antiqua"/>
              </a:rPr>
              <a:t>Vklady a výběry = 1xvklad v hotovostI, 1x výběr v hotovostI, 3x výběr vlastní a 1x cizí banko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Book Antiqua"/>
              </a:rPr>
              <a:t>Poplatky za položkY = 2x příchozí a 2x odchozý účetní položka, 2x eloktronick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ook Antiqua"/>
              </a:rPr>
              <a:t>Nabízené služb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11280" y="2421000"/>
          <a:ext cx="8053200" cy="3165480"/>
        </p:xfrm>
        <a:graphic>
          <a:graphicData uri="http://schemas.openxmlformats.org/drawingml/2006/table">
            <a:tbl>
              <a:tblPr/>
              <a:tblGrid>
                <a:gridCol w="1728720"/>
                <a:gridCol w="790560"/>
                <a:gridCol w="790560"/>
                <a:gridCol w="790560"/>
                <a:gridCol w="790560"/>
                <a:gridCol w="790560"/>
                <a:gridCol w="790560"/>
                <a:gridCol w="790560"/>
                <a:gridCol w="790560"/>
              </a:tblGrid>
              <a:tr h="143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7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Ban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7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luž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Č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ČSO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Ban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K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pořitel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aiffei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b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Živnoban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GSM ban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nternetban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eleban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ook Antiqua"/>
              </a:rPr>
              <a:t>Shrnut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6000" y="220680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Book Antiqua"/>
              </a:rPr>
              <a:t>Česká Spořitelna a Raiffeisenbank je nejvýhodnější pro spoření – výše úroku 1,1% a 1,2%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Book Antiqua"/>
              </a:rPr>
              <a:t>Pro půjčení peněz je nejvhodnější Raiffeisenbank, dále ČSOB, KB a Spořitelna s obdobnou úrovní RPSN, ale nižší částko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Book Antiqua"/>
              </a:rPr>
              <a:t>/20 000Kč oproti 50 000Kč/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Book Antiqua"/>
              </a:rPr>
              <a:t>Z hlediska nákladů na účet je nejlevnější ČSOB-77Kč, Spořitelna-84Kč a Živnobanka-89Kč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Book Antiqua"/>
              </a:rPr>
              <a:t>Studentské účty jsou v nabízených službách srovnatelné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Book Antiqua"/>
              </a:rPr>
              <a:t>Z celkového pohledu jsou nejlepší studentské účty u České Spořitelny, dále u ČSOB, Raiffeisenbank a Živnoban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ook Antiqua"/>
              </a:rPr>
              <a:t>Použité zdro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www.finance.c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www.csas.c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www.csob.c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www.ebanka.c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www.gemoney.c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www.mojebanka.c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www.postovnisporitelna.c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www.raiffeisenbank.c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www1.zivnobanka.c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17:16:07Z</dcterms:created>
  <dc:creator>počítač</dc:creator>
  <dc:description/>
  <dc:language>en-US</dc:language>
  <cp:lastModifiedBy>počítač</cp:lastModifiedBy>
  <dcterms:modified xsi:type="dcterms:W3CDTF">2006-12-08T21:13:14Z</dcterms:modified>
  <cp:revision>4</cp:revision>
  <dc:subject/>
  <dc:title>Výzkum trhu  STUDENTSKÉ ÚČTY</dc:title>
</cp:coreProperties>
</file>