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23.wmf" ContentType="image/x-wmf"/>
  <Override PartName="/ppt/media/image22.wmf" ContentType="image/x-wmf"/>
  <Override PartName="/ppt/media/image6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985-06D3-45BD-B012-B0D220E9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412-C7A9-472B-BB59-101DBCD5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8B8-66FD-41B1-BC71-0F67DBD0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74A-57E7-4F18-8919-8E5C68F3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B9E5-DA50-4116-8772-D182E2F0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5019-F7DC-4916-9E29-5439628C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D66C-140F-4887-8D9F-5FE3C019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BCE3-029A-4E95-9C64-DF9EE9BD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E20F-61D5-44B8-B4AB-C505D0FF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9381-1631-4F51-9EBA-76E2713B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C6AD-7034-407B-990B-F8622885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EB7-299C-4EE1-A139-24DF45A6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C795-195F-4E46-AE56-41EB044A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21BF-1DC5-4B95-8A14-01EAD6BA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FFF8-C166-4817-8CAD-044942C3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9B2C-767F-44D8-A8BB-267C49B4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438D-454A-40D1-8BD5-FD27D0A8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344-C6E0-484D-B933-63C38752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170-57E9-4B4F-9368-4C926DB5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61C-B24D-4793-AB25-D5068AD1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75B-B7F6-4EFA-9A14-23DF11AB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6D5-B6A0-4926-B0B4-83C41CB3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208-9DE5-46E8-8A72-526B8532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78E-380B-468B-A974-56099B9C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D68F-CD30-484B-A0F4-B09E4918A9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9035-EF71-4E8C-B3A0-EABC448E55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hyperlink" Target="http://www.autosap.cz/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auto.cz/" TargetMode="External"/><Relationship Id="rId6" Type="http://schemas.openxmlformats.org/officeDocument/2006/relationships/hyperlink" Target="http://www.auto.cz/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auto.idnes.cz/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www.mdcr.cz/" TargetMode="External"/><Relationship Id="rId11" Type="http://schemas.openxmlformats.org/officeDocument/2006/relationships/hyperlink" Target="http://www.mdcr.cz/" TargetMode="External"/><Relationship Id="rId12" Type="http://schemas.openxmlformats.org/officeDocument/2006/relationships/hyperlink" Target="http://www.mdcr.cz/" TargetMode="External"/><Relationship Id="rId13" Type="http://schemas.openxmlformats.org/officeDocument/2006/relationships/hyperlink" Target="http://www.mdcr.cz/" TargetMode="External"/><Relationship Id="rId14" Type="http://schemas.openxmlformats.org/officeDocument/2006/relationships/image" Target="../media/image5.png"/><Relationship Id="rId15" Type="http://schemas.openxmlformats.org/officeDocument/2006/relationships/hyperlink" Target="http://www.skoda-auto.com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www.tpca-cz.com/" TargetMode="External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207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Trh s osobními vozidly v Č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589720"/>
            <a:ext cx="51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445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4149720"/>
            <a:ext cx="63356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C147 – 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ypracoval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ichal Mrkvička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UČO 182420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udijní obor: soc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trikulační ročník: 2005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3520"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 Brně, 8.12.2006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56360" y="206064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843280" y="1989000"/>
            <a:ext cx="3333600" cy="179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8360" y="2060640"/>
            <a:ext cx="2381040" cy="16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280" y="3357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lavními výrobky jsou dnes osobní automobily značky Škoda v modelových řadách Fabia, Octavia, Superb a nově i Room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a první pololetí 2006 vzrostla výroba vozů o 13,3 % oproti loňsku - příčinou je především zvýšení produkce stávajících modelů Octavia a Fabia a také náběh výroby nové modelové řady Room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ržby v 1.pololetí roku 2006 dosáhly 104 mil. Kč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lavní směry exportu – západní Německo (Německo, Španělsko, Francie), střední a východní Evropa (mimo ČR – Maďarsko, Slovinsko), zámoří, Asie, Afrika (Turecko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Škoda Auto, a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572000" y="1159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6732720" y="1773360"/>
            <a:ext cx="2000160" cy="145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9640" y="1989000"/>
            <a:ext cx="655164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celosvětově nejznámější česká fi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toprocentně vlastněna firmou Volkswagen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robní závody se nacházejí výhradně v ČR - v Mladé Boleslavi, Vrchlabí a Kvasinách; montážní závod umístěn v Aurangabadu v Indii – celkem zaměstnává 27 tis.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940360" y="414972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4149360"/>
            <a:ext cx="5832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 dosažení max. výrobní kapacity za rok vyjede z továrny 300 tis. vozidel, to znamená v průměru každou minutu sjede z rampy jedno hotové au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zjezd TPCA byl jedním z důvodů, proč v roce 2005 překročil růst HDP ČR čtyřprocentní hranic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lastnící firma PSA Peugeot Citroen staví nový výrobní závod ve slovenské Trnav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P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700280"/>
            <a:ext cx="813600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PCA =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yota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eugeot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itroen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ský výrobní závod sídlí v Ovčárech v průmyslové zóně Kolína, kde zaměstnává cca 2,5 tis.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roba byla zahájena 28. února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ontují se zde malé vozy pod značkami Toyota Aygo, Peugeot 107 a Citroën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ekonomické výsledky první roku fungování kolínské továrny vykázaly ztrátu 2,2 mld. Kč (nejvíce ze všech firem v ČR, způsobeno nejspíše náběhem výroby), obrat dosáhl 21 mld.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2195640" y="765000"/>
            <a:ext cx="2089080" cy="6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748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říklad studie o chování spotřebite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510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0000"/>
                </a:solidFill>
                <a:latin typeface="Verdana"/>
              </a:rPr>
              <a:t>Které kriterium je pro vás nejdůležitější při nákupu nového auta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Technika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30,7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Jízdní vlastnosti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24,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ena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– 17,3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esign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12,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Bezpečnost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10,1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mage značky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4,7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elikost zavazad. prostoru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1,1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ww.auto.cz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076720" y="1989000"/>
          <a:ext cx="2732040" cy="38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1989000"/>
                    <a:ext cx="2732040" cy="38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říloha: Vozy s nejvíce registracem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83364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43280" y="5661000"/>
            <a:ext cx="25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ww.autosap.c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Závěr a resum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Český automobilový trh se vyvíjí v závislosti na celosvětových trzích – velký vliv v současné době má výrazné oživení automobilového průmyslu v sousedním Německu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utomobilový trh v České republice je na vzestupu kvůli vzrůstající výrobě osobních automobilů ve Škodě Auto, a.s. a kolínské TPCA - v roce 2010 by se v obou podnicích souhrnně mělo vyrábět něco přes milión kusů aut ročně. Dnes se však 90% u nás vyráběných osob.vozidel exportuje do zahraničí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amotný prodej osobních vozidel má stagnující tendenci a spíše mírně klesá. I přes vysoké hodnoty růstu hrubého národního produktu se zvyšuje podíl ojetých vozidel. Paradoxem je, že český autotrh patří k nejlevnějším Evrop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oužité zdroje informac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21000" indent="-46980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autosap.c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www.auto.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c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www.auto.idnes.c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www.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mdcr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.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c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www.skoda-auto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1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www.tpca-cz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Verdana"/>
              </a:rPr>
              <a:t>Cílem této prezentace je stručně shrnout a obsáhnout základní stav a tendence trhu s osobními vozidly v České republice, také v souvislosti se stavem automobilového trhu ve světě. Pozornost je věnována i dvěma největším výrobcům aut v ČR – Škodě Auto, a.s. a Toyota Peugeot Citroen Automotiv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zn.: mezi osobní automobily se běžně řadí i malé užitkové voz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tav automobilového trhu ve svět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tav automobilového trhu ve Č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Osobní automobily v Č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dej vozidel – nejnovější čís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Výroba automobilů v ČR – Škoda Auto, a.s., TP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říklad studie – chování spotřebite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Závě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oužitá literatu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íl a obsah prezent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tav automobilového trhu - svě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84000" y="3500280"/>
            <a:ext cx="6264360" cy="30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2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atímco v Německu nebo v Itálii je zaznamenáván růst celkových trhů s novými automobily, tak např. ve Francii a Velké Británii došlo k poklesu – v Británii např. o 4,5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 automobilových trzích ve střední a východní Evropě pokračuje výrazný pokles prodeje nových vozů – způsoben především uvolněním dovozu ojetin – nejvíce je postižen trh v Polsk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ognóza Pricewaterhouse Coopers počítá v roce 2010 se 14% zvýšením výroby v Evropě oproti stavu z 200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773360"/>
            <a:ext cx="554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osvětový trh s automobily se v prvním pololetí roku 2006 vyvíjel poměrně pozitiv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ůst cen komodit pro automobilový průmysl je způsoben především rostoucí spotřebou ropy, oceli a převládající politickou nejistotou ve svě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 západní Evropě přináší komplikace silné euro a dlouhodobě slabá popt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95280" y="3716280"/>
            <a:ext cx="2254320" cy="182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724360" y="1844640"/>
            <a:ext cx="3000600" cy="159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962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tav automobilového trhu - Č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06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2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razným pozitivním činitelem co se týče exportu vozů z ČR je oživení vývozu do Německa, jehož ekonomice se po letech problémů začíná dař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atímco exportu se výrazně daří, prodej osobních (vč. malých užitkových) vozů v prvním pololetí 2006 oproti stejnému období roku minulého poklesl – prodalo se 32 tisíc nových vozů, což je pokles o 4,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ský autotrh má třetí nejnižší cenovou hladinu v Evropě (po Švýcarsku a Maďarsku) – ČR patří k nejlevnějším automobilovým trhům s cenami kolem 94% evropského průmě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spcBef>
                <a:spcPts val="400"/>
              </a:spcBef>
              <a:buNone/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spcBef>
                <a:spcPts val="400"/>
              </a:spcBef>
              <a:buNone/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844640"/>
            <a:ext cx="568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česká ekonomika v 1.pololetí roku 2006 roste nejrychleji v celé Evropě (nepočítáme-li pobaltské stá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sluhuje se o to zejména růst zpracovatelského průmyslu, v čele s výrobou automobi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227640" y="1628640"/>
            <a:ext cx="2286000" cy="16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8001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dle údajů Centrálního registru vozidel bylo k 30.6.2006 v ČR registrováno celkem 4.036.815 kusů osobních automobilů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tímco ještě před několika lety tvořila vozidla české výroby většinu, dnes větší část představují vozidla zahraniční výrob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ůměrné stáří vozu 13,8 rok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Osobní automobily v Č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Kliknutím zavřete okno ..."/>
          <p:cNvPicPr/>
          <p:nvPr/>
        </p:nvPicPr>
        <p:blipFill>
          <a:blip r:embed="rId5"/>
          <a:stretch/>
        </p:blipFill>
        <p:spPr>
          <a:xfrm>
            <a:off x="4140360" y="3141720"/>
            <a:ext cx="4386240" cy="2779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3213000"/>
            <a:ext cx="3816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ozový park stárne – jen 20% osobních automobilů je roku výroby 2001 – 2006, tedy max. 5 let sta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 roce 2005 se k nám také přivezlo 141 tisíc ojetých automobilů a další půldruhé desítky automobilů na náhradní dí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5805360"/>
            <a:ext cx="25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ww.autosap.c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rodej vozidel v ČR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(k 1.6.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64000" y="1773360"/>
          <a:ext cx="3384720" cy="3957480"/>
        </p:xfrm>
        <a:graphic>
          <a:graphicData uri="http://schemas.openxmlformats.org/drawingml/2006/table">
            <a:tbl>
              <a:tblPr/>
              <a:tblGrid>
                <a:gridCol w="536760"/>
                <a:gridCol w="2127240"/>
                <a:gridCol w="72072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d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Verdana"/>
                          <a:ea typeface="Arial"/>
                        </a:rPr>
                        <a:t>Škoda FA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Verdana"/>
                          <a:ea typeface="Arial"/>
                        </a:rPr>
                        <a:t>Škoda OCTA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Verdana"/>
                          <a:ea typeface="Arial"/>
                        </a:rPr>
                        <a:t>VW PAS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ugeot 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yundai GE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nault TH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nault MEG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d FO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yota YA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W 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286000" cy="161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328464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1.místo Škoda Fa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2924280"/>
            <a:ext cx="257184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71640" y="436572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2.místo Škoda Octav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39640" y="4292640"/>
            <a:ext cx="2286000" cy="1333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66100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3.místo Volkswagen Pass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rodej vozidel dle třídy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(k 1.6.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205000"/>
            <a:ext cx="799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řída mini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Fiat Pand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580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lé vozy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Škoda Fabi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19099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ižší střední třída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Škoda Octavi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9132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řední třída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Volkswagen Passa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1639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šší střední třída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Škoda Superb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1011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uxusní vozy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Mercedes-Benz 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92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portovní vozy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Alfa Romeo G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55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erénní vozy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Hyundai Santaf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465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2376720" cy="163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443640" y="4365720"/>
            <a:ext cx="1828800" cy="95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72360" y="4653000"/>
            <a:ext cx="212400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Výroba osobních automobilů v Č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4437000"/>
            <a:ext cx="6193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export při srovnání s loňskem vzrostl o 54,97 %, domácí prodej mírně pokles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ognóza na rok 2010 - podle zjištění agentury Pricewaterhouse Coopers se do 6 let zvýší výroba aut v ČR o 81% (na 1 045 tis. vozů za ro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773360"/>
            <a:ext cx="8136000" cy="27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 celý rok 2005 bylo v ČR vyrobeno 606 294 osobních vozi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 prvních devět měsíců roku 2006 se vyrobilo celkem 636 464 ks vozidel, což je o 48,87 % více než ve stejném období roku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ůvody výrazného vzrůstu výroby osob. automobilů v posledním 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výšena výroba ve Škoda Auto, a.s. (410 tisíc a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čátek dosažení plné výrobní kapacity v TPCA (219 tisíc a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čísla jasně hovoří, že kromě Škody Auto a TPCA mají ostatní české formy jen nepatrný podíl vyrobených osobních vozidel (necelé 1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 tohoto počtu vyrobených osob. aut se v ČR prodá jen 8%, zbylých 92% se exportuje do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11280" y="2349360"/>
          <a:ext cx="3914640" cy="432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349360"/>
                    <a:ext cx="391464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964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irmy v ČR vyrábějící osob.vo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427640" y="2708280"/>
          <a:ext cx="3921120" cy="261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2708280"/>
                    <a:ext cx="3921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716360" y="263700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ísto cílového prode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0:59:41Z</dcterms:created>
  <dc:creator>JD</dc:creator>
  <dc:description/>
  <dc:language>en-US</dc:language>
  <cp:lastModifiedBy>182420</cp:lastModifiedBy>
  <dcterms:modified xsi:type="dcterms:W3CDTF">2006-12-08T20:47:21Z</dcterms:modified>
  <cp:revision>150</cp:revision>
  <dc:subject/>
  <dc:title>Hurikány</dc:title>
</cp:coreProperties>
</file>