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A7C-F89D-4BF3-968E-B8000288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D0E3-37C6-4401-AC99-277EDA96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0EE-FF89-421F-958D-07853119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404F-63E0-4032-86DD-D43A4509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2847-F89E-4ADE-8B43-BC5AD43F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9AC4-8F64-4391-ACE0-E6C05323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E69D-04A3-44AF-AD18-E03E82CB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6A22-8B83-42E9-ADEF-97EC85FF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B6B1-3B07-4FF9-B6A6-E59EB693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C3AA-B84C-4A86-9992-516393D4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4B02-27A0-478F-8D3A-6DEA5E3D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B58-7D51-409C-A6EA-976231D5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950D-B5E6-4E43-AEF2-FBD7377B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329F-5971-4BC2-96A3-4F271830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CEEF-27DC-418D-AA96-72440A8A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A57D-3B87-4F0B-8452-F4ADE8BA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3526-FCFE-4E24-9FF2-8B4FBB72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7E1-E7B2-46CD-B486-25276A74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17AB-84FC-4F6E-945E-30D34FBF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385F-9B6C-499A-975C-CA0625F7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7D03-A88F-43E2-9047-A5B48203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35C3-9743-45E1-97BB-850DA4CE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84BB-BE9B-4BE3-ADE0-6965B126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1340-D01C-4449-9F34-4A4B28E6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8DC8-C88D-434B-BD80-74235925C17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A522-146E-4239-9455-D5227FE2F1F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Rozšíření bankovních karet v ČR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0328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zkum trh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7288200" y="5148360"/>
            <a:ext cx="1604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07640" y="5950080"/>
            <a:ext cx="160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Tomáš H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Brno,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Růst objemu transakcí bankovními kartami a prostřednictvím bankomatů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Přístup české populace k používání platebních karet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-684360" y="1600200"/>
          <a:ext cx="98283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4360" y="1600200"/>
                    <a:ext cx="98283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Novinky a budoucnost trh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mentálně dochází z důvodu větší bezpečnosti k přechodu od obyčejných elektronických karet s 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magnetickým proužke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 karty s čip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Čipová technologi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e dražší, ale bezpečnější, bohužel ale do té doby, dokud budou existovat i karty s magnetickým proužkem, jsou benefity čipových k. nevyužitel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konce roku 2005 bylo v ČR vydáno přes 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7 310 000 karet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znamená, že jedna platební karta připadá na 3 lidi ze čtyř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ovšem neznamená, že je trh nasycený, protože v západní Evropě je objem karet mnohem větší, například v Norsku 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připadá 2,5 kart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 obyvate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Historie trhu platebních kare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vní </a:t>
            </a:r>
            <a:r>
              <a:rPr b="0" lang="cs-CZ" sz="2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bankovní kar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ydána v New Yorku v r. 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195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vní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lastová kar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možňující placení pomocí mechanických snímačů vydána v r. 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1858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aké v 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vní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latební karta u ná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řichází na svět v r. 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1988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 Živnostenské bance jako dispoziční karta k tuzexovému účt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 revoluci dochází k liberalizaci československého bankovnictví. V r. 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1991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lo založeno </a:t>
            </a:r>
            <a:r>
              <a:rPr b="0" lang="cs-CZ" sz="2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Mezibankovní sdruže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 platební karty, jež začalo koordinovat rozšíření použití platebních karet u ná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Druhy platebních karet I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ebetní karta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ební karta vydaná k účtu, umožňující čerpat výhradně prostředky uložené na tomto účtu, výjimečně s povoleným překročením zůstatku o tzv. povolený debet, který se však úročí zvláštní (vyšší) sazbou.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Kreditní karta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ební karta sloužící k čerpání předem projednaného úvěru, s individuálně stanovenými podmínkami splácení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Charge karta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reditní karta s pevně stanovenou (obvykle měsíční) lhůtou splacení úvěrového čerpání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Čipová karta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rta se zabudovanou mikroelektronickou součástkou (čipem), obsahující paměťové obvody, procesor a další obvody umožňující záznam dat a komunikaci s terminál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Druhy platebních karet II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Hybridní kart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rta vybavená jak magnetickým proužkem, tak čipe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Virtuální kart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ební karta existující pouze ve formě čísla, určená pro použití v elektronickém prostředí (např. k placení na internetu). Nemá fyzickou (plastovou) reprezentaci, nemůže tedy být použita (event. zneužita) ve fyzickém obchodě nebo bankomat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lužební kart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ební karta vydaná k účtu organizace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užící výhradně k úhradě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užebních výdajů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Typy běžně užívaných debetních karet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lektronick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cs-CZ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nejčastěji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užívané karty. Banky je většinou vydávají k účtu </a:t>
            </a:r>
            <a:r>
              <a:rPr b="0" lang="cs-CZ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zdarm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Jsou určeny především k výběrům z bankomatu a pro platby u obchodníků, kteří mají elektronický platební terminál. Nevýhodou je jejich </a:t>
            </a:r>
            <a:r>
              <a:rPr b="0" lang="cs-CZ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zatím omezená použitelnost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 plateb v prodejnách.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mbosovan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ná se o platební karty s tzv. </a:t>
            </a:r>
            <a:r>
              <a:rPr b="0" lang="cs-CZ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reliéfním (plastickým) písm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Karty umožňují nakupovat i v prodejnách, které nejsou vybaveny elektronickým terminálem. Obchodník používá tzv. žehličku (imprinter - mechanický snímač), který sejme otisk všech údajů vyražených na kartě a zákazník údaje potvrdí svým podpisem. Na základě toho pak obchodník zúčtuje platbu. Embosované  karty lze používat na </a:t>
            </a:r>
            <a:r>
              <a:rPr b="0" lang="cs-CZ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více místech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ž karty elektronické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Vývoj trhu karet v ČR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79280" y="2060640"/>
          <a:ext cx="8785080" cy="3455640"/>
        </p:xfrm>
        <a:graphic>
          <a:graphicData uri="http://schemas.openxmlformats.org/drawingml/2006/table">
            <a:tbl>
              <a:tblPr/>
              <a:tblGrid>
                <a:gridCol w="2547720"/>
                <a:gridCol w="692280"/>
                <a:gridCol w="691920"/>
                <a:gridCol w="694080"/>
                <a:gridCol w="692280"/>
                <a:gridCol w="694440"/>
                <a:gridCol w="691920"/>
                <a:gridCol w="694440"/>
                <a:gridCol w="691920"/>
                <a:gridCol w="6940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ydané karty (tis.ks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14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18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25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39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46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52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63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66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7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stalovaných bankomat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13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14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15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15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19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2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26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27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28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bchodní mís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13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200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247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263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340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402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487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515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546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Provozovatelé platebních karet na našem trhu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 dominantní hráč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Visa International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Visa Electron, embosované Visa Classic, Visa Silver, Visa Gold, Visa Plati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MasterCard International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Cirrus, Maestro, embosovaná MC standard, MC Gold, World Signum (luxusní karta v ČR dosud nevydá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éně významní aktéř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iners Club Internat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JBC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Japan Credit Burea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MEX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merican Expres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Celkem vydané karty v r. 2005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03040" y="1401840"/>
          <a:ext cx="8464680" cy="55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1401840"/>
                    <a:ext cx="8464680" cy="55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Poměr typů vydaných karet v r. 2005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1484280"/>
          <a:ext cx="914400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3:32:43Z</dcterms:created>
  <dc:creator>tomáš haken</dc:creator>
  <dc:description/>
  <dc:language>en-US</dc:language>
  <cp:lastModifiedBy>tomáš haken</cp:lastModifiedBy>
  <dcterms:modified xsi:type="dcterms:W3CDTF">2006-12-09T14:24:54Z</dcterms:modified>
  <cp:revision>6</cp:revision>
  <dc:subject/>
  <dc:title>Snímek 1</dc:title>
</cp:coreProperties>
</file>