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A910-3B7C-4CCE-9536-B4502D1F2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46BD-2238-4993-A346-EE2DC15EA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D256-AF60-4F01-960A-1091BE9AC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3E36-5FB0-44AC-849A-DC0A9E264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11A37-0493-4346-891B-4A016AC54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EEB43-97D0-4108-A93C-BF0467549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B2876-097E-4792-B0F8-A62AE20F5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DE6C5-7EB8-48C8-A565-E44D01228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ED6D7-621F-4EFB-B927-B09BD8046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6D340-B316-4100-834B-5C11C88F1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E0780-0065-45D6-9674-170BF49B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B5A1-08B1-4398-B40D-E992DE4BC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B2211-A12B-4400-8FFC-E27F2629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AEA28-B0EC-4564-B34C-F5959F3E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C16C1-2552-46E2-9B9B-2ED0AF96F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D46F0-A6FE-459D-B3A3-04BD5B1C3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7C384-450F-47B1-8A73-77DFE57ED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F24E-C410-41BC-B1D0-5621FCFC8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A8EF-C60A-42D2-A6D9-D918B5B6F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FFBC-B79E-42C2-8199-2F7DE16E1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F2FC-BBBA-4716-A57E-A2DAD8C6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E6E9-BB7B-4459-A8D5-57B498A7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564F-85C6-4656-88FA-4860DE6C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D0D8-B2BB-4320-A354-7056BEF2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9B152-2CE3-4D4B-A314-17506A302915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CA983-ACC3-421B-B462-3EA92995617A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Český pivní trh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ypracovaly: Eva Kurucová (143959), Jana Perná (156269), Kateřina Stojaspalová (5717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03640" y="1881360"/>
            <a:ext cx="2376360" cy="17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920" y="620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Podíl největších pivovarů na produkci v roce 2005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908000" y="2746440"/>
            <a:ext cx="511200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Historie současných největších výrobců piva na českém trhu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1.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Historie SABMille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Times New Roman"/>
              </a:rPr>
              <a:t>SABMiller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 je s více než 134 miliony hektolitrů piva druhou největší světovou pivovarnickou společností. Společnost SABMiller vznikla v roce 2002, poté, co tehdejší SAB (South African Breweries – Jihoafrické pivovary) koupila většinu akcií druhého největšího amerického pivovaru, Miller Brewing Company.Od skromných začátků v roce 1895, kdy přistěhovalci z Anglie, Irska, Německa či Holandska založili v okolí Johannesburgu malý pivovar (500 hektolitrů ročně) k uspokojení potřeb žíznivých zlatokopů, přes africkou, evropskou, čínskou, indickou a americkou expanzi ke druhé největší světové pivovarnické společnosti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9528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Historický počátek společnosti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Staropramen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, a.s. lze brát 13. července roku 1869, kdy pražské noviny otiskly inzerát oznamující upisování akcií nového "Akcionářského pivovaru na Smíchově"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Doba národního obrození s sebou přinesla i zvýšenou oblibu českého piva. A právě v této době a z těchto důvodů byly vybudovány pivovary Staropramen, Braník a Ostrav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očátkem století zažívala česká ekonomika i pivovary relativní růst. Toho samozřejmě všechny tři pivovary využily. Pivovary se začaly rozrůstat, což mělo za následek potřebu modernizace. Rozvoji napomohly i dvě důležité události, které proběhly v posledních letech devatenáctého století: zavedení umělého chlazení a masové plnění piva do lahví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2. Historie Staropramenu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24000" y="1052280"/>
            <a:ext cx="822960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V této době se však začal přiostřovat i konkurenční boj mezi pivovary, obzvláště v Praze, kde působilo několik větších pivovarů V boji proti konkurenci byla značka Staropramen poprvé zaregistrována v roce 1911. Dobovou zajímavostí je i to, že autorem prvního výtvarného pojednání značky (loga) Braníku, byl známý český malíř Mikoláš Aleš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 první světovou válkou zažily všechny tři pivovary, stejně jako všechen ostatní průmysl, velkou krizi. Pivovary Staropramen, Braník i Ostravar přišly kvůli odvodům o nejschopnější dělníky, byla zahájena rekvizice surovin a strojního zařízení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K oživení ekonomiky v Praze dochází přibližně v polovině dvacátých let. Na konci desetiletí klesly ceny surovin a čekala se konjunktura. Namísto toho přišla hluboká hospodářská krize. Přes všechny těžkosti pivovar Staropramen právě v této době začal znovu vydělávat, investoval do zařízení a změnil se v moderní podnik. Byl to právě pivovar Staropramen, který se stal na dlouhou dobu pivovarem s největším výstavem v Československu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ak přišla další válečná katastrofa. Zastavily se investice, vyčerpaly suroviny, mnohé zařízení se zcela opotřebovalo či bylo zničeno válkou. Po válce byly všechny tři pivovary znárodněny a do poválečných let vstoupily jako národní podniky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V roce 1992 vznikla společnost Pražské pivovary, a. s. V roce 1994 se strategickým partnerem Pražských pivovarů stala britská pivovarnická společnost Bass, jeden z největších evropských producentů piv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V roce 2000 se staly Pivovary Staropramen součástí pivovarnické skupiny Interbrew, jejíž původ sahá až do roku 1366. Společnost je s více než 14% podílem na trhu druhým největším producentem piva v České republice a druhým největším českým exportérem piva. Mezi značky patří celorepublikový Staropramen a Braník, silná regionální značka Ostravar, dále pak Měšťan, Vratislav, dia pivo „D“ a pivní speciály Kelt a Velvet. Portfolio nabízí i belgická piva z portfolia společnosti InBev jako Stella Artois, Hoegaarden, Leffe či Belle-Vue Kriek. V říjnu roku 2003 došlo, po důkladném průzkumu vnímání tehdejšího názvu společnosti, ke změně korporátního jména. Původní název společnosti - Pražské pivovary a.s., daný historickým vývojem, se změnil na nový název: Pivovary Staropramen a.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Kvalita </a:t>
            </a:r>
            <a:r>
              <a:rPr b="1" lang="cs-CZ" sz="1800" spc="-1" strike="noStrike">
                <a:solidFill>
                  <a:srgbClr val="ffffff"/>
                </a:solidFill>
                <a:latin typeface="Times New Roman"/>
              </a:rPr>
              <a:t>Budvaru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 a věhlas budějovického piva, jehož historie sahá až do 13. století, vedly k tomu, že originální receptura i jeho jméno byly často předmětem napodobování a kopírování. Pivovar Budějovický Budvar je dlouhodobě jedním z nejúspěšnějších potravinářských podniků v České republice. Téměř polovina produkce je úspěšně prodávána ve více než 60 zemích celého svět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Přímým předchůdcem pivovaru Budějovický Budvar, n.p. byl Český akciový pivovar. Ten byl založen v roce 1895 a přímo navazoval na historickou tradici vaření piva v Českých Budějovicích, která sahá až do 13. století, do doby založení města a udělení práva várečného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V 19. století byly České Budějovice národnostně smíšeným městem. V konkurenci s německým Měšťanským pivovarem a dvěma schwarzenbergskými pivovary v Třeboni a Protivíně vždy vítězil Český akciový pivovar především díky vysoké kvalitě a výjimečné chuti svého piva, která byla poprvé oceněna již v roce 1896 na Průmyslově výstavě v Praze. Již v roce 1913 byl ležák z Českého akciového pivovaru znám v zahraničí. A právě díky rozvinutému exportu byla jeho obnova po 1. světové válce dokončena velmi rych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3. Historie Budvaru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Během druhé světové války byl pivovar pod nacistickou správou a po jejím skončení byl znárodně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Novodobá historie pivovaru se datuje do roku 1967, kdy Ministerstvo zemědělství České republiky založilo národní podnik Budějovický Budvar jako přímého nástupce Českého akciového pivovaru, který vařil pivo v Českých Budějovicích již od roku 1895. Ten byl založen českými právovárečníky, kteří navázali na více než 700 let starou historii vaření piva v Českých Budějovicích (dříve Budweis)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Budějovický Budvar vlastní cenné duševní vlastnictví v podobě více než 380 ochranných známek registrovaných ve 101 zemích světa. Mezi nejznámější patří Budweiser, Budvar, Budweiser Budvar, Bud, Budějovický Budvar a Czechvar. Toto duševní bohatství souvisí s místem svého původu, městem České Budějovice, dříve Budiwoyz či Budwei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stupnou expanzí na zahraniční trhy a posilováním prodejů doma dosáhl Budějovický Budvar pozice klíčového hráče na trhu piva nejen v České republice. Objem exportovaného výstavu řadí prémiový originální ležák Budweiser Budvar k jedné z nejexportovanějších pivních značek České republiky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4. Historie Drinks Union, a.s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Drinks Union, a.s.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 byla založena v roce 1997 a je čtvrtou největší pivovarskou skupinou v zemi a zároveň největším výrobcem piva s domácím soukromým kapitálem. Je také třetím největším domácím výrobcem lihovin. Sídlí v Ústí nad Labem a vlastní ji několik fyzických osob. Firma zastřešuje pivovary v Krásném a Velkém Březně, v Lounech a Kutné Hoře. Vyrábí piva Zlatopramen, Březňák, Louny, Dačický, Lorec a Jarošov. Do skupiny patří i sladovna ve Velkém Březně a sladovna v Jarošově. Drinks Union má i vlastní chmelnici nedaleko Žatce, kde pěstuje vlastní chmel jako přísadu do svých piv. V roce 2005 překročila společnost poprvé v historii magickou hranici milionu hektolitrů piva, které vyrobila. V domácích čtyřech pivovarech to bylo kolem 920 tisíc hektolitrů piva, zbytek tvořila licenční výroba piva Zlatopramen v Rusku.  Drinks Union více než čtvrtinu své produkce uplatňuje na zahraničních trzích a je s přibližně 260 tisíci hektolitry piva největším domácím exportérem na německý trh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Přehled produktů prvních třech největších producentů na českém trhu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627280" y="1557360"/>
            <a:ext cx="6248520" cy="48769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684360" y="2852640"/>
            <a:ext cx="136188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Přehled produktů prvních třech největších producentů na českém trhu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700360" y="1484280"/>
            <a:ext cx="6248520" cy="48769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84360" y="2997360"/>
            <a:ext cx="1028520" cy="116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Demografické skupiny a pití piva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 roce 2006 pijí pivo všechny věkové i vzdělanostní skupiny obyvate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ivo si při návštěvě restaurace objedná 44% ze všech, kteří občas navštěvují pohostinská a restaurační zařízení. Dá se tedy tvrdit, že pivo je nejoblíbenějším nápojem v české společnosti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 konzumaci piva jsou výrazné rozdíly mezi pohlavími. 74% mužů si v restauracích nejraději objednává pivo, zatímco pouze 12% žen upřednostňuje pivo před výběrem jiného nápoje, které  pohostinská zařízení běžně nabízejí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90% mužů v ČR pije pivo, zatímco žen pijících alespoň občas je téměř o polovinu méně - 53% 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učasným trendem pro české ženy je (oproti předchozí době) snižování podílu těch, které vůbec pivo pijí. Tento jev se ale týká pouze skupiny žen mladšího nebo středního věku, s vyšším vzděláním, dobrým pracovním postavením a finančním zajištěním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Přehled produktů prvních třech největších producentů na českém trhu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403280" y="3500280"/>
            <a:ext cx="6249960" cy="2286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924360" y="1916280"/>
            <a:ext cx="118116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Použitá literatura a zdroje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Použité zdroje: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Pivo. </a:t>
            </a:r>
            <a:r>
              <a:rPr b="0" i="1" lang="cs-CZ" sz="1400" spc="-1" strike="noStrike">
                <a:solidFill>
                  <a:srgbClr val="ffffff"/>
                </a:solidFill>
                <a:latin typeface="Times New Roman"/>
              </a:rPr>
              <a:t>Wikipedia</a:t>
            </a: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 [online].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[cit. 2006-03-12]. URL</a:t>
            </a: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http://cs.wikipedia.org/wiki/Pivo&gt;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Vinopal, Jiří. </a:t>
            </a:r>
            <a:r>
              <a:rPr b="0" i="1" lang="cs-CZ" sz="1400" spc="-1" strike="noStrike">
                <a:solidFill>
                  <a:srgbClr val="ffffff"/>
                </a:solidFill>
                <a:latin typeface="Times New Roman"/>
              </a:rPr>
              <a:t>Pití piva v české společnosti v roce 2006.</a:t>
            </a:r>
            <a:r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[online]. 21.11.2006 [cit. 2006-03-12]. Centrum pro výzkum veřejného mínění - Sociologická ústav AV ČR. URL:&lt;http://www.cvvm.cas.cz/upl/zpravy/100617s_OR61121b.pdf&gt;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Vinopal, Jiří</a:t>
            </a:r>
            <a:r>
              <a:rPr b="0" i="1" lang="cs-CZ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i="1" lang="cs-CZ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cs-CZ" sz="1400" spc="-1" strike="noStrike">
                <a:solidFill>
                  <a:srgbClr val="ffffff"/>
                </a:solidFill>
                <a:latin typeface="Times New Roman"/>
              </a:rPr>
              <a:t>Pivo v české společnosti v roce 2006</a:t>
            </a:r>
            <a:r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[online]. 21.11.2006 [cit. 2006-03-12]. Centrum pro výzkum veřejného mínění - Sociologická ústav AV ČR. URL:&lt;http://www.cvvm.cas.cz/upl/zpravy/100616s_OR61121a.pdf&gt;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ffffff"/>
                </a:solidFill>
                <a:latin typeface="Times New Roman"/>
              </a:rPr>
              <a:t>Spotřeba potravin v letech 1998 – 2005</a:t>
            </a: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. [online]. 21.11.2006 [cit. 2006-03-12]. Český statistický úřad - ČSÚ. URL:&lt;http://www.czso.cz/csu/2006edicniplan.nsf/t/340038A8EC/$File/3004rr_02.pdf&gt;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Podhrázký, Tomáš. </a:t>
            </a:r>
            <a:r>
              <a:rPr b="0" i="1" lang="cs-CZ" sz="1400" spc="-1" strike="noStrike">
                <a:solidFill>
                  <a:srgbClr val="ffffff"/>
                </a:solidFill>
                <a:latin typeface="Times New Roman"/>
              </a:rPr>
              <a:t>Marketingový mix konkrétního produktu.</a:t>
            </a: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 Brno, 2006. 56 s. Diplomová práce na Ekonomicko správní fakultě Masarykovy univerzity. Katedra podnikového hospodářství. Vedoucí práce Klára Doležalová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http://www.prazdroj.cz/cz/o-spolecnosti/sabmill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http://www.drinksunion.cz/o-spolecnosti/profil-spolecnosti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http://www.vetropack.cz/sklo_obaly_clanek09.ht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http://mam.ihned.cz/c4-10000145-19807190-100000_d-cesi-piji-mene-piva-a-jsou-vybiravej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http://www.staropramen.cz/pp/jnp/cz/historie/index.ht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http://www.budvar.cz/web/Znacka-Budvar/Historie-Budvaru.ht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Konzumace piva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dle statistického úřadu byla v roce 2005 v ČR průměrná roční spotřeba piva 163,5 litrů na osobu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lkový objem vypitého piva se však v roce 2006 oproti předchozí době nepatrně snížil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nto fakt pravděpodobně ovlivnil nárůst cen, jenž zapříčinil snížení spotřeby piva u skupin osob s nižšími příjm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Zároveň se projevilo snižování objemu konzumace piva u osob, které pravidelně pijí více než 14 piv za týden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ůměrný počet za týden vypitých piv u mužů v roce 2006 klesá v souvislosti s rostoucím vzděláním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Grafy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2421000"/>
            <a:ext cx="4038480" cy="28098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105520" y="2421000"/>
            <a:ext cx="40384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Druhy piva v Č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a českém pivním trhu je v současnosti nabízeno více než 470 piv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 ČR jsou nejtypičtější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větlá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iva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výčepní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tj. piva z ječných sladů s extraktem původní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mladiny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= roztok cukrů vařený s chmelem) 8 - 10 % hmotnostních („desítka“), a piva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ežáky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tj. piva z ječných sladů s extraktem původní mladiny 11 - 12 % hmotnostních („dvanáctka“)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alšími druhy jsou: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ivo tmavé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z tmavého nebo karamelového sladu),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řezané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při stáčení smíšené z tmavého a světlého piva),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ehké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do 7 % extraktu původní mladiny),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peciální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extrakt původní mladiny 13 % a výše),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orter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tmavé pivo s extraktem původní mladiny 18 % a více),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šeničné,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kvasnicové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vzniklá přidáním rozkvašené mladiny do hotového piva při stáčení),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ealkoholické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chucené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a další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258920" y="1028880"/>
            <a:ext cx="684216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Muži, ženy a pivo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Ženy tradičně preferují tmavé pivo, před ostatními druhy mu dává v roce 2006 přednost 23% z nich. Oproti roku 2004 se také projevil prudký nárůst preference černého piva u žen z původních 14%. Podíl žen, které se o to, jaký druh piva pijí nezajímají, se oproti minulosti snížil z 22 na 18%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 souvislosti s rostoucím ekonomickým postavením mužů se zvyšuje obliba ležáků u mužů a černých piv u žen. V nižších příjmových skupinách jsou nejoblíbenější levnější výčepní piva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648320" y="1620720"/>
            <a:ext cx="4038480" cy="44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ýběr spotřebitelů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becně se čeští spotřebitelé stále více zajímají o to, co pijí. Není jim lhostejné, jakou má konzumovaný nápoj značku nebo místo původu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ivo jen z některých konkrétních pivovarů si vybírá 80% mužů a 49% žen. Zbývajícím nezáleží na tom, jakou značku piva pijí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avidelní konzumenti piva (pijí alespoň 3 piva za týden) si častěji vybírají svou oblíbenou značku než ti, kteří pijí jen příležitostně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odíl těch, kteří upřednostňují značky piva z vlastního regionu, není příliš markantní, ale nepřetržitě stoupá. Vzhledem k rozložení největších výrobců piva v ČR se regionální patriotismus ve vztahu k pití piva objevuje nejvíce v kraji Plzeňském, Moravskoslezském, Jihočeském nebo Jihomoravském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Většina českých spotřebitelů si vybírá pivo spíše podle chuti, než podle ceny. Velká skupina konzumentů také přihlíží k oběma faktorům. S růstem životní úrovně také roste větší důležitost chuti před cenou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028960" y="3941640"/>
            <a:ext cx="508464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Láhev nebo plechovka?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ajímavým aspektem jsou procentuální prodeje piva v jednotlivých druzích obalů. V ČR zatím stále vede prodej piva v sudech – skoro 49% a ve skleněných lahvích – 45%. Oproti předešlé době také narůstá prodej piva v plechovkách a naopak nepříliš se ujalo zavedení prodeje některých značek piva v PET lahvích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572000" y="2133720"/>
            <a:ext cx="439272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09:04:03Z</dcterms:created>
  <dc:creator>khartlov</dc:creator>
  <dc:description/>
  <dc:language>en-US</dc:language>
  <cp:lastModifiedBy>kurucova</cp:lastModifiedBy>
  <dcterms:modified xsi:type="dcterms:W3CDTF">2006-12-06T10:11:13Z</dcterms:modified>
  <cp:revision>5</cp:revision>
  <dc:subject/>
  <dc:title>Historie současných největších výrobců piva na českém trhu</dc:title>
</cp:coreProperties>
</file>