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89A-8AFE-44D1-87B1-AFFA0812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157-D0A6-49B2-A79D-055D4446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21F-E5F3-4E6E-9B29-6815E607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3E2-537D-48FA-B5C1-B1B58506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A48-4CD6-4ADC-8901-81C7A757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C12-C3C8-450C-93F8-97325D3A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77A-C3E3-45C2-B6E1-8BFC37A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BBE-EE49-4609-BD5A-B5D6102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F6F-ED59-4C31-A0AE-EA7A7A15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430-2A30-44CD-A88B-FAD4B37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52C-1B41-46E4-9F17-1859BDA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344-EB25-45BD-958B-808310C6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BB4-CA38-4C1A-8699-E2B98A11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112536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TRH     PRACÍCH PRÁŠKŮ   V   ČESKÉ REPUBLI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436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Kvalita pracích prášk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12880" y="830160"/>
          <a:ext cx="759456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830160"/>
                    <a:ext cx="7594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53360" y="6248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Známost znač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085760"/>
          <a:ext cx="81536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85760"/>
                    <a:ext cx="8153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3360" y="6248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Tržní podíly firem v Č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09840" y="2021040"/>
            <a:ext cx="4322880" cy="28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241280"/>
            <a:ext cx="79246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očet všech výrobků na trhu – prací prostřed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4238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447920"/>
          <a:ext cx="8458200" cy="51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ozdělení společností dle poskytovaných produktů -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prací prášky, aviváže, tekuté prací prášky</a:t>
            </a:r>
            <a:br>
              <a:rPr sz="2600"/>
            </a:br>
            <a:br>
              <a:rPr sz="9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kty – sypké prací prášk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916280"/>
          <a:ext cx="7920000" cy="47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20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dukty - aviváž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052640"/>
          <a:ext cx="806472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0647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61928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16896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nkel, P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 a Setuza dodává na český trh po jednom typu aviváže, které můžeme dále členit dle jejich aroma a vůní, do dalších podskup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dukty – tekuté prací práš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28640"/>
          <a:ext cx="8207640" cy="496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07640" cy="49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-544680" y="6399720"/>
            <a:ext cx="9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odává na český trh pouze společnost Henkel a RB, Henkel – jeden typ, RB – dva typy, dále je můžeme členit dle vhodnosti na prádlo bílé, či barevn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Kategorie pracích prášků dle obsahů a typ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133720"/>
          <a:ext cx="7777080" cy="3733560"/>
        </p:xfrm>
        <a:graphic>
          <a:graphicData uri="http://schemas.openxmlformats.org/drawingml/2006/table">
            <a:tbl>
              <a:tblPr/>
              <a:tblGrid>
                <a:gridCol w="1258560"/>
                <a:gridCol w="1081080"/>
                <a:gridCol w="1079640"/>
                <a:gridCol w="1117440"/>
                <a:gridCol w="1150920"/>
                <a:gridCol w="1081080"/>
                <a:gridCol w="100836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pk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áš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u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áš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iváž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řehled výdajů za reklamu v roc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773360"/>
          <a:ext cx="8209080" cy="49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820908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imes New Roman"/>
              </a:rPr>
              <a:t>Kupovanost pracích prášk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1123920"/>
          <a:ext cx="8388360" cy="51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123920"/>
                    <a:ext cx="83883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53360" y="640080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6:33:37Z</dcterms:created>
  <dc:creator>Tommy</dc:creator>
  <dc:description/>
  <dc:language>en-US</dc:language>
  <cp:lastModifiedBy>Administrator</cp:lastModifiedBy>
  <dcterms:modified xsi:type="dcterms:W3CDTF">2006-12-15T19:12:13Z</dcterms:modified>
  <cp:revision>9</cp:revision>
  <dc:subject/>
  <dc:title>Tržní podíly firem v ČR</dc:title>
</cp:coreProperties>
</file>