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CC1-9AA0-4EC6-934C-399AC4FC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33E-5B0C-4231-BFEA-9BF7A91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172-C5E3-404A-AFD8-90DD4E5C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1CB-F55E-4E0F-A24B-495693B6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E980-E878-4AC9-B7F3-B86213A7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6AE-0F37-4A57-869E-65EB85A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6E6D-3B68-4E6F-A1A5-C7E057F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4D42-C8FC-40BE-AFC6-D3AEF73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6B8D-79ED-4354-8B24-541098C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F20-C30F-401D-B3F4-127F1D85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9F6C-DF30-4B46-A2AE-91683FD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4CD-A46C-4192-ACEB-AE985C7A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C5A-1636-457C-B965-DEF02E17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9E81-81C7-49D5-B3FB-F9D132B5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1D91-9EF9-47B4-AE12-50E61899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C4A8-6B46-400F-AFB9-CF51A7C6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B176-192D-43B6-A887-A0E5976C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97C-DE90-4BA6-B81C-54620500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F43-A92D-49CB-8D82-7AD24D3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E8C-D1D1-4B33-B55B-ECCC1158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3CE-B613-4CC0-85B4-DD7536CC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FAA-2851-4ADD-99B6-5EECADF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854-5634-4FD0-A14B-4D6704D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9EA-2BD5-47D6-8653-103CCFB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3FE0-F66F-4E7F-B598-78C18255B5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F5E-9789-495F-810A-323FC3B4AC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vdt.cz/" TargetMode="External"/><Relationship Id="rId2" Type="http://schemas.openxmlformats.org/officeDocument/2006/relationships/hyperlink" Target="http://www.rocenkaunievydavatelu.cz/" TargetMode="External"/><Relationship Id="rId3" Type="http://schemas.openxmlformats.org/officeDocument/2006/relationships/hyperlink" Target="http://www.vlp.cz/" TargetMode="External"/><Relationship Id="rId4" Type="http://schemas.openxmlformats.org/officeDocument/2006/relationships/hyperlink" Target="http://www.arbomedia.cz/" TargetMode="External"/><Relationship Id="rId5" Type="http://schemas.openxmlformats.org/officeDocument/2006/relationships/hyperlink" Target="http://www.mam.cz/" TargetMode="External"/><Relationship Id="rId6" Type="http://schemas.openxmlformats.org/officeDocument/2006/relationships/hyperlink" Target="http://www.abccr.cz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man"/>
              </a:rPr>
              <a:t>Sekundární výzkum mediálního trhu tištěných deníků v České republi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49525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Kurz: Základy marketingového výzkumu SOC 147              Zpracovala: Lucie Prachmanová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Vyučující: PhDr. Petr Soukup                                              UČO: 10310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Datum odevzdání: 8. 12.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regionálních deníků v letech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 2004 a 2005 I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279440" y="191304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2057400"/>
          <a:ext cx="6172200" cy="2066760"/>
        </p:xfrm>
        <a:graphic>
          <a:graphicData uri="http://schemas.openxmlformats.org/drawingml/2006/table">
            <a:tbl>
              <a:tblPr/>
              <a:tblGrid>
                <a:gridCol w="1543320"/>
                <a:gridCol w="1600200"/>
                <a:gridCol w="1535040"/>
                <a:gridCol w="149364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Deníky Bohemia –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86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88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Deníky Moravia –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9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5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LP - 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5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3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61720" y="4840200"/>
            <a:ext cx="8059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- z této shrnující tabulky vidíme, že během let 2004 a 2005 došlo k celkovému poklesu čtenosti regionální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tištěných deníků, i když celkově pouze o 1,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- zásadnější rozdíly můžeme sledovat na úrovni odlišení na Deníky Moravia a Bohemia, kde Deníky Morav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vykazují zápornou meziroční změnu a to o 9,2%, čtenost Deníků Bohemia naopak vzrostla a to o 2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2004, 2005 – celostátní deníky 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523880"/>
          <a:ext cx="7391160" cy="2514240"/>
        </p:xfrm>
        <a:graphic>
          <a:graphicData uri="http://schemas.openxmlformats.org/drawingml/2006/table">
            <a:tbl>
              <a:tblPr/>
              <a:tblGrid>
                <a:gridCol w="1847520"/>
                <a:gridCol w="1847880"/>
                <a:gridCol w="1848240"/>
                <a:gridCol w="18475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4 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5 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968 712 7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 188 280 111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2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24 771 0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21 963 2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75 415 6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91 696 5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 213 640 1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 443 017 2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13 360 0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26 224 5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3 666 9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63 731 5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10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Ší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 936 0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85400" y="4572000"/>
            <a:ext cx="855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u  celostátních deníků zaujímá první místo v objemu inzerce a to jak v roce 2004, tak i v roc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deník Mladá fronta DNES, jejíž objem inzerce je v obou letech téměř dvojnásobný oproti deníku s druhým největší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inzertním objemem, kterým je Ble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deník Blesk ale zaznamenal v oblasti inzerce mezi lety 2004 a 2005 největší kladnou meziroční změn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a to o 22,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- naopak nejhůře si vede deník Sport, jehož meziroční změna byla zároveň nejhorší a to – 10,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880" y="6613560"/>
            <a:ext cx="45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2004, 2005 – celostátní deníky 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523880"/>
          <a:ext cx="780876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087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1480" y="6400800"/>
            <a:ext cx="54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2004, 2005  – regionální deníky 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209680"/>
          <a:ext cx="8458200" cy="3124080"/>
        </p:xfrm>
        <a:graphic>
          <a:graphicData uri="http://schemas.openxmlformats.org/drawingml/2006/table">
            <a:tbl>
              <a:tblPr/>
              <a:tblGrid>
                <a:gridCol w="2114640"/>
                <a:gridCol w="2114280"/>
                <a:gridCol w="2114640"/>
                <a:gridCol w="211464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6 969 5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80 901 3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5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6 615 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04 379 0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9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oravskoslez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4 725 6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1 114 873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7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ever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40 089 5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2 000 4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4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české Deníky Bohemia + Večerník Prah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67 174 8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14 674 5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4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moravské a Východ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2 696 4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46 077 5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2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ýcho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6 634 6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77 836 7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6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ysočina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29 453 0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20 444 0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7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Zápa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41 340 54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00 431 9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2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56600" y="6477120"/>
            <a:ext cx="45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2004, 2005 – regionální deníky 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143000"/>
          <a:ext cx="780876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7808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31200" y="5486400"/>
            <a:ext cx="8494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z grafu vidíme, že nejvyšší inzertní příjmy u regionálních deníků, dosahovaly jak v roce 2004, tak roce 200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dohromady Středočeské Deníky Bohemia a Večeník Pra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patrný je taky meziroční pokles objemu inzerce mezi lety 2004 a 2005 u většiny regionálních deníků, výjimk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v tomto trendu tvoří Středomoravské a Východomoravské Deníky Moravia, v menší míře také u Moravskoslezský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Deníků Moravia a Jihomoravských Deníků Morav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Náklady celostátních deníků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v letech 2004 a 200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371600"/>
          <a:ext cx="8229600" cy="35877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tiště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32 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41 9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14 4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24 5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80 8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6 7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6 7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3 4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5 1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5 3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2 2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 8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79 6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73 4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08 4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9 8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43 2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27 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0 5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75 2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98 4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98 0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 5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 4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29200" y="6477120"/>
            <a:ext cx="42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http://www.rocenkaunievydavatelu.cz/index.php?akce=naklad&amp;tg=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000" y="5334120"/>
            <a:ext cx="816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- z výše uvedené tabulky vyplývá, že nejvyšší tištěný i prodaný náklad má deník Blesk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následuje Mladá fronta DNES a na třetím místě je Prá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k nejvýraznějším meziročním změnám v letech 2004 a 2005 došlo u deníku Právo, které zaznamenalo nejvyšší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percentuální pokles svých tištěných nákladů a Hospodářské noviny, u kterých došlo k největšímu pokles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nákladů prodaný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Náklady regionálních deníků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v letech 2004 a 200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2286000"/>
          <a:ext cx="8229600" cy="18972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tiště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LP – kompletní síť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67 5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43 0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88 5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65 1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392760" y="6400800"/>
            <a:ext cx="505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http://www.rocenkaunievydavatelu.cz/index.php?akce=naklad&amp;tg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280" y="4230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8520" y="4724280"/>
            <a:ext cx="69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- vývoj  tištěných i prodaných nákladů u regionálních deníků mezi lety 2004 a 2005 byl záporn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Použité zdroje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1"/>
              </a:rPr>
              <a:t>www.uvdt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2"/>
              </a:rPr>
              <a:t>www.rocenkaunievydavatelu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3"/>
              </a:rPr>
              <a:t>www.vlp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4"/>
              </a:rPr>
              <a:t>www.arbomedia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5"/>
              </a:rPr>
              <a:t>www.mam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6"/>
              </a:rPr>
              <a:t>www.abccr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Celostátní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deník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Bookman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man"/>
              </a:rPr>
              <a:t>Název ( dle abecedy)</a:t>
            </a:r>
            <a:r>
              <a:rPr b="1" lang="en-US" sz="1600" spc="-1" strike="noStrike">
                <a:solidFill>
                  <a:srgbClr val="ffffff"/>
                </a:solidFill>
                <a:latin typeface="Bookman"/>
              </a:rPr>
              <a:t>:       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man"/>
              </a:rPr>
              <a:t>Vydavat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Aha!                                               EBIKA, s.r.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Blesk                                              RINGIER ČR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Haló noviny                                    Futura, a.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Hospodářské noviny                       ECONOMIA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Lidové noviny                                 LIDOVÉ NOVINY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Mladá fronta                                   DNES MAFRA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Právo                                              BORGIS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Sport                                              RINGIER ČR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ŠÍP                                                 VLTAVA-LABE-PRESS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66360" y="1192320"/>
            <a:ext cx="567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v současné době se na českém mediálním trhu vyskytuje celkem 9 tištěný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celostátních deník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- ještě v minulém roce jich bylo ale pouz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Regionální</a:t>
            </a:r>
            <a:r>
              <a:rPr b="0" lang="en-US" sz="40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deníky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Převážnou většinu regionálních deníků v České Republice produkuje vydavatelství Vltava – Labe Press, a.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Těchto regionálních deníků je celkem 73 a jejich základní dělení je na základě oblasti, ve které vychází – tituly vycházející v Čechách spadají do podskupiny Deníky Bohemia, tituly vycházející na Moravě do podskupiny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Každá tato podskupina se dále člení podle regionů a to na sítě deníků (např. síť Jihočeské Deníky Bohemia), do nichž spadají již konkrétní regionální deníky</a:t>
            </a:r>
            <a:r>
              <a:rPr b="1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 </a:t>
            </a:r>
            <a:r>
              <a:rPr b="1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Jih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Sever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Středočeské Deníky Bohemia + Večerník Prah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ýchod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Západ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Jihomoravské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Moravskoslezské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Středomoravské a Východomoravské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ysočina Deníky Morav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Kritéria hodnocení tištěných médií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Hlavními kritérii pro hodnocení tištěných deníků v oblasti marketingu jsou tři pojmy – náklad (tištěný a prodaný), čtenost a příjmy z inzer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Bookman"/>
              </a:rPr>
              <a:t>Čtenost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- udává počet obyvatel, kteří si daný titul přečtou (pozn. MediaProjekt   při svém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výzkumu často bere jako cílovou skupinu věkovou kategorii 12 – 79 let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- obvykle několikrát vyšší číslo než hodnota příslušejícího prodaného nákladu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(deník zakoupený jedním členem domácnosti si čte obvykle více jejích členů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Bookman"/>
              </a:rPr>
              <a:t>Příjmy z inzerce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- jedná se o finanční částku, kterou daný deník získává z inzer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- vedle samotného prodeje nejvýznamnější zdroj financování deník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8769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Náklad </a:t>
            </a:r>
            <a:r>
              <a:rPr b="0" lang="en-US" sz="1400" spc="-1" strike="noStrike">
                <a:solidFill>
                  <a:srgbClr val="ffffff"/>
                </a:solidFill>
                <a:latin typeface="Bookman"/>
              </a:rPr>
              <a:t> - tištěný - souhrnný počet všech vytištěných výtisků jednoho vydá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Bookman"/>
              </a:rPr>
              <a:t>- prodaný - souhrnný počet všech prodaných výtisků jednoho vydání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Bookman"/>
              </a:rPr>
              <a:t>Výzkum čtenosti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         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ýzkum čtenosti tištěných médií se provádí pomocí výzkumu Media Projekt. Ještě do konc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roku 2005 tímto způsobem docházelo ke společnému dotazování na čtenost tisku a poslechovost rádií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od ledna 2006 došlo k oddělení těchto dvou oblastí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  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ýzkum je realizován na vzorku 30 000 respondentů, využívá se vícestupňový stratifikovan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náhodný výběr a dotazování probíhá „face to face“ metodou. Ve výstupech z Media projektu nejsou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uváděny výsledky u titulů, jejichž odhad čtenosti nedosáhl v projekci 20 000 čtenářů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  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Jelikož kompletní data z Media Projektu, týkající se roku 2006 zatím nejsou k dispozici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srovnávám data čtenosti z let 2004 a 2005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deníků v roce 2005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- regionální i celostátní deník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1219320" y="1752480"/>
          <a:ext cx="55627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752480"/>
                    <a:ext cx="5562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24280" y="2209680"/>
          <a:ext cx="3657600" cy="32259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očet čtenářů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očet čtenářů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5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LP 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 1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42240" y="6248520"/>
            <a:ext cx="12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 www.vlp.c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39320" y="1801800"/>
            <a:ext cx="386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fffcc"/>
                </a:solidFill>
                <a:latin typeface="Bookman"/>
              </a:rPr>
              <a:t>Čtenost celostátních i reginálních deníků v roce 200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celostátních deníků v letech 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2004 a 2005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2209680"/>
          <a:ext cx="4191120" cy="2895480"/>
        </p:xfrm>
        <a:graphic>
          <a:graphicData uri="http://schemas.openxmlformats.org/drawingml/2006/table">
            <a:tbl>
              <a:tblPr/>
              <a:tblGrid>
                <a:gridCol w="1047960"/>
                <a:gridCol w="1047600"/>
                <a:gridCol w="1047600"/>
                <a:gridCol w="10479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4        (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 513,5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543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,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93,6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2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5,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6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16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,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85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74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11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33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12,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79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80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,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219320" y="5715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5520" y="6477120"/>
            <a:ext cx="462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 http://www.rocenkaunievydavatelu.cz/index.php?akce=ctenost&amp;tg=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95280"/>
            <a:ext cx="78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022c"/>
                </a:solidFill>
                <a:latin typeface="Bookman"/>
              </a:rPr>
              <a:t>Tabulka četností celostátních tištěných deníků a jejich meziroční změna</a:t>
            </a:r>
            <a:r>
              <a:rPr b="0" lang="en-US" sz="4400" spc="-1" strike="noStrike">
                <a:solidFill>
                  <a:srgbClr val="2e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1600200"/>
          <a:ext cx="51051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600200"/>
                    <a:ext cx="5105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2280" y="5486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-  Nejvyšší míra čtenosti je u deníku Blesk, následuje Mladá Fronta DNES a na třetím místě Prá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Bookman"/>
              </a:rPr>
              <a:t>Čtenost regionálních deníků v letech </a:t>
            </a:r>
            <a:br>
              <a:rPr sz="2600"/>
            </a:br>
            <a:r>
              <a:rPr b="0" lang="cs-CZ" sz="2600" spc="-1" strike="noStrike">
                <a:solidFill>
                  <a:srgbClr val="ffffcc"/>
                </a:solidFill>
                <a:latin typeface="Bookman"/>
              </a:rPr>
              <a:t>2004 a 2005  I.</a:t>
            </a: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371600"/>
          <a:ext cx="7848360" cy="5028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 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59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8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6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4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4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8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oravskoslez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23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7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ever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63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93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české deníky Bohemia + Večerník Prah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5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0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9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moravské a Východ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9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3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29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ýcho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09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98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5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ysočina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6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Zápa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3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10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67680" y="6477120"/>
            <a:ext cx="41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cc"/>
                </a:solidFill>
                <a:latin typeface="Bookman"/>
              </a:rPr>
              <a:t>Zdroj: http://www.rocenkaunievydavatelu.cz/index.php?akce=ctenost&amp;tg=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71720" y="1066680"/>
            <a:ext cx="40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cc"/>
                </a:solidFill>
                <a:latin typeface="Bookman"/>
              </a:rPr>
              <a:t>Čtenost sítí regionálních deníků v letech 2004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regionálních deníků 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v letech 2004 a 2005 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93640" y="13795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447920"/>
          <a:ext cx="731520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315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009080" y="567072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4200" y="6095880"/>
            <a:ext cx="41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cc"/>
                </a:solidFill>
                <a:latin typeface="Bookman"/>
              </a:rPr>
              <a:t>Zdroj: http://www.rocenkaunievydavatelu.cz/index.php?akce=ctenost&amp;tg=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3105</cp:lastModifiedBy>
  <dcterms:modified xsi:type="dcterms:W3CDTF">2006-12-08T20:19:59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