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A42-191E-4001-8115-11B0E2D9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59D-A0E7-4FE9-93A6-A910805A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802-18A2-47D4-9963-6393479D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1AA-B982-4FA6-A327-93E98E6C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C37B-41EC-4D46-B305-BC444FBD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22AF-20BF-446B-9124-06FF890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5D98-CE37-49AF-ADEF-BFBEE7DD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064A-136A-47FE-B756-63A6AF0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1932-1999-4419-A654-D76B3F2D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74D2-58CE-4159-BC9D-0DEBD364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3E6D-7A28-46C0-B894-1270A84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071-2BBC-47DB-9BD4-D9E6E0E0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AEBB-139B-4DAC-8B70-E10B5F8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DD27-F118-4261-8FBC-F118A5D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D0A9-6A28-4D82-95CA-FB4FD7F1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0DF1-BF79-4F39-AA18-999843B4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69DA-3137-41B0-8924-76370A79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D4F-2508-43D9-AACB-C4F1A772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0C4-2D01-4829-AF40-8DF7109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555-D669-4B1A-AE61-A375A6C3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61C-E1F0-4C93-9A04-4F95550A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796-41F4-4D01-BAC9-B5DAFD3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D34-570B-4A05-90FA-992E826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3AD-7E6F-4D46-A567-73EC647B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9EA1-D7E3-4DFF-ABB9-15E8CF13C52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699C-6758-4C17-AF59-083041F5C93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incentrum.idnes.cz/" TargetMode="External"/><Relationship Id="rId2" Type="http://schemas.openxmlformats.org/officeDocument/2006/relationships/hyperlink" Target="http://www.finance.cz/" TargetMode="External"/><Relationship Id="rId3" Type="http://schemas.openxmlformats.org/officeDocument/2006/relationships/hyperlink" Target="http://www.mfcr.cz/" TargetMode="External"/><Relationship Id="rId4" Type="http://schemas.openxmlformats.org/officeDocument/2006/relationships/hyperlink" Target="http://www.apfcr.cz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nzijní připojištěn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ůzkum trhu s penzijním připojištění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Zuzana Schneiderová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amila Varchoľáková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droj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roční zprávy jednotlivých penzijních fond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fincentrum.idnes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finance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www.mfcr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www.apfcr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nzijní fon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zvoj systému penzijního připojištění od poloviny 90. 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4 penzijních fond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časnost (data z roku 2004 – výroční zpráva Ministerstva financí Č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řibližně 3 miliony klientů (60% práceschopného obyvatelstv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1 penzijních fond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 nejsilnějších subjektů zaujímá 83,12 % trh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ecné nedostatk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áří klientů (pouze polovinu nových klientů tvoří lidé mladší 40 le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ětšina potenciálních klientů již penzijní připojištění m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ízký objem vkladů – nejčastěji kolem 500 K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nzervativní investiční strategie – nízké ale stabilní výnos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díl na trhu (2005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029200" y="1719360"/>
          <a:ext cx="327672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719360"/>
                    <a:ext cx="32767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137040" y="2639880"/>
          <a:ext cx="5389560" cy="381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2639880"/>
                    <a:ext cx="53895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84360" y="1628640"/>
          <a:ext cx="2616120" cy="4537080"/>
        </p:xfrm>
        <a:graphic>
          <a:graphicData uri="http://schemas.openxmlformats.org/drawingml/2006/table">
            <a:tbl>
              <a:tblPr/>
              <a:tblGrid>
                <a:gridCol w="1800000"/>
                <a:gridCol w="816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zijní f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íl na trhu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pojišťov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th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spořite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Komerční ban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 P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F Stabil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F Prog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anz P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ický PF Ostr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ský P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ývoj počtu aktivních účastníků u pěti největších P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06520" y="1341360"/>
          <a:ext cx="818676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341360"/>
                    <a:ext cx="818676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ýnosy </a:t>
            </a:r>
            <a:br>
              <a:rPr sz="10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00720" y="2276640"/>
          <a:ext cx="424800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76640"/>
                    <a:ext cx="424800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55640" y="1957320"/>
          <a:ext cx="3384720" cy="3514680"/>
        </p:xfrm>
        <a:graphic>
          <a:graphicData uri="http://schemas.openxmlformats.org/drawingml/2006/table">
            <a:tbl>
              <a:tblPr/>
              <a:tblGrid>
                <a:gridCol w="2089080"/>
                <a:gridCol w="647640"/>
                <a:gridCol w="6480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pojišťov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th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spořitel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Komerční ban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 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F Stabil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F Prog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anz 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ický PF 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ský 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Údaje o věku klient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SOB Stabilita (2005) – 51,6 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ianz (2005) – věkový průměr klientů 44 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rnická PF (2005) – 44 le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SOB Progres (2003) – 40,3 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li (2004) – věková skupina od 40 let tvoří 55,6% (tržní průměr je 72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G (2003) –  věková skupina od 40 tvoří 62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F České pojišťovny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F České spořitelny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F Komerční banky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nterthur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emský PF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Údaje o průměrné výši měsíčního příspěvku účastník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844640"/>
          <a:ext cx="7704000" cy="4567320"/>
        </p:xfrm>
        <a:graphic>
          <a:graphicData uri="http://schemas.openxmlformats.org/drawingml/2006/table">
            <a:tbl>
              <a:tblPr/>
              <a:tblGrid>
                <a:gridCol w="3075120"/>
                <a:gridCol w="2232000"/>
                <a:gridCol w="2396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zijní f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ná výše měsíčního příspěvku účastníka (Kč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daje dle Výročních zpráv jednotlivých PF z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th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Komerční ban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ský 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an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Stabil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rog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ická 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pojišťov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spořitel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žnosti rozvo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bídka investičních strategií podle věku klienta a jeho ochoty riskovat (ČSOB penzijní fondy Progres a Stabili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bídka penzijních  plánů pro velké fir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výšení počtu klientů s příspěvkem zaměstnavatele (průměrný příspěvek zaměstnavatele převyšuje průměrný příspěvek účastníka) – větší stabili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12:44Z</dcterms:created>
  <dc:creator>180420</dc:creator>
  <dc:description/>
  <dc:language>en-US</dc:language>
  <cp:lastModifiedBy>180420</cp:lastModifiedBy>
  <dcterms:modified xsi:type="dcterms:W3CDTF">2006-12-08T04:25:57Z</dcterms:modified>
  <cp:revision>8</cp:revision>
  <dc:subject/>
  <dc:title>Penzijní připojištění</dc:title>
</cp:coreProperties>
</file>