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914-DAAC-4B93-BCE4-617C995D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FC9-0658-4DDF-A4C7-F59A03B7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E0A-88AA-4005-9BDB-E7C13530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9F8-903F-43CF-9447-E92F582E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3E93-D470-497C-864A-B8CAAA05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EE1-C841-448B-861D-2FF2C28F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268-684E-4354-9D44-3E5E307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03B2-D47C-4C3A-A9AE-0711D1B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8DC3-F11A-4A2C-9B29-92618695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71C1-9724-4350-8231-D4684FDA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7EC3-C6ED-4596-A98F-BAD5B2B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413-6C0B-4DCE-A388-2C071FF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D96A-B786-4378-BC5A-3552D18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A9F-0029-4E17-96CC-F82DB62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5EB1-5D2B-4449-9780-7071A517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9D56-1F17-40EC-96F8-6C875854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9EF5-7DAB-4DB7-91B8-AC4A7AC1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7F2-35BE-4965-8DAC-5B830BC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3FC-83B4-4826-A620-5FBF00A1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6FD-8C4D-4B89-A1CE-38FA88E6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26F-BE89-4DC8-A99B-D05D6AFB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4E7-13FB-476F-AAD5-825CD5A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53A-88D0-4FA0-8AD7-1430440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BA6-447C-4111-97D3-6456653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3F5-F377-4135-99AD-0CA8BAE8C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35C-815D-4380-BD9C-1A3A866A7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ntikfoto.cz/" TargetMode="External"/><Relationship Id="rId2" Type="http://schemas.openxmlformats.org/officeDocument/2006/relationships/hyperlink" Target="http://www.antikfoto.cz/" TargetMode="External"/><Relationship Id="rId3" Type="http://schemas.openxmlformats.org/officeDocument/2006/relationships/hyperlink" Target="http://www.antikfoto.cz/" TargetMode="External"/><Relationship Id="rId4" Type="http://schemas.openxmlformats.org/officeDocument/2006/relationships/hyperlink" Target="http://www.antikfoto.cz/" TargetMode="External"/><Relationship Id="rId5" Type="http://schemas.openxmlformats.org/officeDocument/2006/relationships/hyperlink" Target="http://www.canon.cz/" TargetMode="External"/><Relationship Id="rId6" Type="http://schemas.openxmlformats.org/officeDocument/2006/relationships/hyperlink" Target="http://www.canon.cz/" TargetMode="External"/><Relationship Id="rId7" Type="http://schemas.openxmlformats.org/officeDocument/2006/relationships/hyperlink" Target="http://www.canon.cz/" TargetMode="External"/><Relationship Id="rId8" Type="http://schemas.openxmlformats.org/officeDocument/2006/relationships/hyperlink" Target="http://www.canon.cz/" TargetMode="External"/><Relationship Id="rId9" Type="http://schemas.openxmlformats.org/officeDocument/2006/relationships/hyperlink" Target="http://www.fotoroman.cz/" TargetMode="External"/><Relationship Id="rId10" Type="http://schemas.openxmlformats.org/officeDocument/2006/relationships/hyperlink" Target="http://www.fotoroman.cz/" TargetMode="External"/><Relationship Id="rId11" Type="http://schemas.openxmlformats.org/officeDocument/2006/relationships/hyperlink" Target="http://www.fotoroman.cz/" TargetMode="External"/><Relationship Id="rId12" Type="http://schemas.openxmlformats.org/officeDocument/2006/relationships/hyperlink" Target="http://www.fotoroman.cz/" TargetMode="External"/><Relationship Id="rId13" Type="http://schemas.openxmlformats.org/officeDocument/2006/relationships/hyperlink" Target="http://www.nikon.cz/" TargetMode="External"/><Relationship Id="rId14" Type="http://schemas.openxmlformats.org/officeDocument/2006/relationships/hyperlink" Target="http://www.oehling.cz/" TargetMode="External"/><Relationship Id="rId15" Type="http://schemas.openxmlformats.org/officeDocument/2006/relationships/hyperlink" Target="http://www.oehling.cz/" TargetMode="External"/><Relationship Id="rId16" Type="http://schemas.openxmlformats.org/officeDocument/2006/relationships/hyperlink" Target="http://www.oehling.cz/" TargetMode="External"/><Relationship Id="rId17" Type="http://schemas.openxmlformats.org/officeDocument/2006/relationships/hyperlink" Target="http://www.oehling.cz/" TargetMode="External"/><Relationship Id="rId18" Type="http://schemas.openxmlformats.org/officeDocument/2006/relationships/hyperlink" Target="http://www.olympus.cz/" TargetMode="External"/><Relationship Id="rId19" Type="http://schemas.openxmlformats.org/officeDocument/2006/relationships/hyperlink" Target="http://www.tamron.cz/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Fototechnika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vla Graba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ana Špi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řehled ocenění Canon v anketě CIPA 2005-2006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lasická fotografie: Výherci v katego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R fotoaparát amatérský Canon EOS 300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R fotoaparát profesionální Canon EOS 30V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ální fotograf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ální kompakt 5 Mpx Canon PowerShot S2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 200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roce 2005 odměněna odbornou asociací TIPA (Technical Image Press Association) medailemi za nejlepší produk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nění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„Nejlepší evropská profesionální digitální jednooká zrcadlovka roku 2005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ískal fotoaprát EOS-1Ds Mark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nění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„Nejlepší evropská digitální jednooká zrcadlovka vstupní úrovně roku 2005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ískal digitální fotoaparát EOS 350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lečnost Canon při letošním vyhlášení cen asociace TIPA (Technical Image Press Association) získa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ocenění za nejlepší fotoapará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toaparát EOS 5D byl oceněn jako nejlepší profesionální digitální zrcadlov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XUS 65 jako nejlepší ultrakompaktní digitální fotoapar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9360" y="-5322600"/>
            <a:ext cx="87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3772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ost Canon zaujímá první pozici v segmentu digitálních jednookých zrcadlovek, digitálních fotoaparátů, a může se pochlubit nejprodávanějším produktem v segmentu digitálních fotoaparátů (fotoaparát Digital IXUS 55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produkty uvedené na trh společností Canon v letošním r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6 kompaktních digitálních fotoaparátů –          6 modelů IXUS a 10 modelů Power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digitální jednooké zrcadlovky 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Nikon – ocenění TI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dva fotoapatáty Nikon obsadily nejvyšší příčku ve své katego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 D200 oceněn jako „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lepší evropská digitální jednooká zrcadlovka pro pokročilé fotografy roku 2006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 D50 oceněn jako „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lepší evropská digitální jednooká zrcadlovka pro začátečníky roku 2006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cenění DIWA Awa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získal fotoaparát Nikon D200 zlatou medaili od asociace DIWA (Digital Imaging Website Associat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lympus – graf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120" t="20669" r="7382" b="6398"/>
          <a:stretch/>
        </p:blipFill>
        <p:spPr>
          <a:xfrm>
            <a:off x="111600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af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5640" y="1904760"/>
            <a:ext cx="7729560" cy="4190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8120" t="20669" r="7382" b="6398"/>
          <a:stretch/>
        </p:blipFill>
        <p:spPr>
          <a:xfrm>
            <a:off x="1116000" y="1557360"/>
            <a:ext cx="770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ržní podíly Olymp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alphaModFix amt="71000"/>
          </a:blip>
          <a:srcRect l="9966" t="32972" r="8858" b="13780"/>
          <a:stretch/>
        </p:blipFill>
        <p:spPr>
          <a:xfrm>
            <a:off x="826920" y="1916280"/>
            <a:ext cx="7999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ržní podíly Olympus - DSL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9966" t="31496" r="8858" b="13780"/>
          <a:stretch/>
        </p:blipFill>
        <p:spPr>
          <a:xfrm>
            <a:off x="971640" y="1905120"/>
            <a:ext cx="7561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Fotoaparáty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EI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obdržel fotoaparát Olympus µ 720 SW cenu EISA (European Imaging &amp; Sound Association) jak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“Evropský kompaktní fotoaparát roku 2006-2007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 2006 - Ocenění TIPA pro Olympus E-330 Live Preview z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nejlepší inovaci roku 2006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alší ocen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: Dobrá Značka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Objektivy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užitelnost objektivů pro jednotlivé typy fotoaparátů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ěkteré objektivy je možné použít jak pro digitální, tak pro analogové fotoaparáty (většina digitálních fotoaparátů dokáže pracovat i s objektivy pro fotoaparáty analogov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ěkteré objektivy jsou vyrobeny speciálně pro digitální fotoaparáty (existují však digitální fotoaparáty, které dokáží používat pouze tyto objektiv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objektivů 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(z hlediska ohniskové vzdálenosti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vné ohnis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nlivé ohnisko (zoom objektiv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kro objekti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leobjekti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lší typy produkt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ilt/Shift objektivy – užití v architektu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5420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nvertory – nejedná se o objektiv v pravém slova smyslu. Slouží k prodloužení ohniskové vzdále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z hlediska ostř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A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Auto Focus – automatické ostř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Manual Focus – manuální ost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robci objektiv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Výroba objektivů pro vlastní fotoapará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a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ik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ino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ly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ent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ams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Výroba objektivů pro fotoaparáty jiných fi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ki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Canon, Nikon, Pentax, Sony, Mino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amron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viz Tok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ig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viz Tokina + Sigma a Olym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Vlastní dělení objektivů dle kv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loprofesionální ř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řada L (Luxu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letošním roce uvedla firma Canon na trh 4 nové objektiv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fotoaparátů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igit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k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cadlovka (S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nalog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k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cadlovka  (DS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681360" cy="4170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728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chnolog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větová prvenství ve vývoji nových technologií objekti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ltrazvukový motor (USM – Ultrasonic Motor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prvé uvedený na trh v roce 1978 určený pro použití ve vyměnitelných objektivech SLR zrcadlo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vní použití asférického člen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hož úkolem je eliminovat sférickou aberaci, která při použití konvenčníchobjektivů způsobuje rozostření obraz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vní vyměnitelný objektiv s vestavěným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bilizátorem obrazu (IS – Image Stabili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anon je první a doposud jediná společnost na světě, která do vyměnitelného objektivu zrcadlovky zakomponoval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ifraktivní optický (Diffractive Optics) prve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Nikon – ocenění pro objektiv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TIPA 2006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objektiv Nikon AF-S VR Micro-Nikkor 105 mm f/2,8G IF-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Nejlepší evropský profesionální objektiv roku 2006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lympus – ocenění pro objektiv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ISA 200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řada ZUIKO DIGITAL Top Pro zahrnující 5 špičkových objektivů s pevnou světelností získala ocenění “Evropské Profesionální objektivy roku 2006-2007” za svoji profesionální kvalitu a extrémní výk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amron – ocenění pro objektivy (2005-2006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TIPA 2005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Tamron AF 18-200 mm F/3,5-6,3 XR DI II LD ASPH (IF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DIGI FOTO Dobrá koupě 2006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Tamron AF SP 11 - 18mm F/4.5-5.6 Di-II LD Asp.(I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PC Magazine 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Tamron SP AF 17-50mm F/2.8 XR Di II LD Asp.(I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é internetové 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antikfoto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canon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fotoroman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www.nikon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oehling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www.olympus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www.tamron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gitální kompakt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en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as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onica Mino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od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yo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e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e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lympus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gitální zrcadlovk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alogové zrcadlovk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an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o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í postavení společnosti Canon na poli fotografických technolog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iž 4. rok po sobě zaujímá první místo na západoevropském trhu s digitálními fotoaparáty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cenění CI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cenění TI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Podíl Canonu na trhu dle vybraných segmentů za rok 200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ice na tr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íl na tr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rů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itální zrcadlo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4,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itální kompaktní fotoapará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1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532260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450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lečnost Canon dosáhla v České republice a na Slovensku v roce 2005 rekordního obratu ve výši 2,210 miliardy Kč, což představuje nárůst o 6 % oproti předchozímu ro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segmentu foto/video produkt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 s obratem 790,4 milionu Kč zároveň poprvé st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číslem 1 v České republ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olidovaný obrat Canonu v České republice a na Slovensku vzrostl v loňském roce o 125 milionů korun na 2,210 miliardy kor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m úspěchem je obsazení první pozice v segmentu foto-video s tržním podílem 19,7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minantní postave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 Canon udržuje předevší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oblasti fotografických zrcadlov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kde tržní podíl překračuje 5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6:12:35Z</dcterms:created>
  <dc:creator>Luboš</dc:creator>
  <dc:description/>
  <dc:language>en-US</dc:language>
  <cp:lastModifiedBy>Admin</cp:lastModifiedBy>
  <dcterms:modified xsi:type="dcterms:W3CDTF">2006-12-08T12:55:39Z</dcterms:modified>
  <cp:revision>15</cp:revision>
  <dc:subject/>
  <dc:title>Fototechnika</dc:title>
</cp:coreProperties>
</file>