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12.wmf" ContentType="image/x-wmf"/>
  <Override PartName="/ppt/media/image8.jpeg" ContentType="image/jpeg"/>
  <Override PartName="/ppt/media/image9.jpeg" ContentType="image/jpeg"/>
  <Override PartName="/ppt/media/image10.wmf" ContentType="image/x-wmf"/>
  <Override PartName="/ppt/media/image11.wmf" ContentType="image/x-wmf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comments/comment4.xml" ContentType="application/vnd.openxmlformats-officedocument.presentationml.comments+xml"/>
  <Override PartName="/ppt/comments/comment11.xml" ContentType="application/vnd.openxmlformats-officedocument.presentationml.comments+xml"/>
  <Override PartName="/ppt/comments/comment15.xml" ContentType="application/vnd.openxmlformats-officedocument.presentationml.comments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1" name="Lenka" initials="L" lastIdx="1" clrIdx="1"/>
  <p:cmAuthor id="0" name="lnavrati" initials="l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<Relationship Id="rId25" Type="http://schemas.openxmlformats.org/officeDocument/2006/relationships/commentAuthors" Target="commentAuthors.xml"/>
</Relationships>
</file>

<file path=ppt/comments/comment11.xml><?xml version="1.0" encoding="utf-8"?>
<p:cmLst xmlns:p="http://schemas.openxmlformats.org/presentationml/2006/main">
  <p:cm authorId="1" dt="2006-12-08T10:40:12.625000000" idx="1">
    <p:pos x="3108" y="1347"/>
    <p:text>úděsná stránka!
jsem to upravila dala Jak akce probíha: interakce zákazník - promotér, služby... prostě přiblížení promoakce
ale stejně
S TÍMHLE SI PROSTĚ NEVÍM RADY.... PROSÍ,, BUĎ TO PROMAŽ NEBO S TÍM NĚCO UDĚLEJ
DÍK:-)
</p:text>
  </p:cm>
</p:cmLst>
</file>

<file path=ppt/comments/comment15.xml><?xml version="1.0" encoding="utf-8"?>
<p:cmLst xmlns:p="http://schemas.openxmlformats.org/presentationml/2006/main">
  <p:cm authorId="0" dt="2006-12-07T11:16:09.698000000" idx="2">
    <p:pos x="4444" y="1093"/>
    <p:text>nepoužíváme označení KAI DRUGS - tak proč ho vysvětlovat?
tady bych narvala ještě parfumerie atp. dle grafů...</p:text>
  </p:cm>
</p:cmLst>
</file>

<file path=ppt/comments/comment18.xml><?xml version="1.0" encoding="UTF-8" standalone="yes"?>
<p:cmLst xmlns:p="http://schemas.openxmlformats.org/presentationml/2006/main"><p:cm authorId="0" dt="2006-12-07T11:37:10.368000000" idx="3"><p:pos x="5386" y="2286"/><p:text>určitě pod ně patří tyhle smrady? nejsem si jistá... navíc bych uvedla prestige products P&G > ty mají Pumu, mexx, </p:text></p:cm></p:cmLst>
</file>

<file path=ppt/comments/comment4.xml><?xml version="1.0" encoding="utf-8"?>
<p:cmLst xmlns:p="http://schemas.openxmlformats.org/presentationml/2006/main">
  <p:cm authorId="0" dt="2006-12-07T11:17:30.237000000" idx="1">
    <p:pos x="10" y="10"/>
    <p:text>tady šoupnu nějaké povídání ze skript o marketing staregiích viz příloha do prezentace
Shelving a shelv marketing... strategie a systémy merchandisingu!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EF4F-48A7-409B-B5EC-75144E747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14A1-FA72-4E17-9CE2-83D1E650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607D-0388-47D2-9213-D6BDCC81F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1013-4912-4004-BB3F-ADC618151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AA90-5661-4FA0-97DB-32EBBFE48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581E-655C-4656-9041-312A99EE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80A8-C8BA-43CF-806D-0D08ED08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5783-0FF6-4FE2-8F28-FAB8925C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8875-CDF3-448C-9778-2C5C7E75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6C12-E211-424C-9CC0-93FBA895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FC43-C3A2-4827-9E1B-8D4CEFDE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6757-4DED-46AF-BFDB-B83139EB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4B74-7CA6-45B5-AA23-99E3A9CB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811D-7015-4598-8DDE-8DD5FB6F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A3D3-583C-4925-ACB1-C5738048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BF09-DB1B-4256-885E-9D219B4CD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DC14-CF74-4B14-8CFB-339BF9A1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18DE-752F-4E9D-8DA2-5970A442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A779-6584-45B6-A5C0-1073DAEF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B157-630C-405E-B236-7786098F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F3DE-B3ED-481A-BA87-E8E88C9D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BFB7-7CA8-4217-AC7B-CAE70480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70C2-B56B-415B-887E-B9DB0EA4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D72B-D8C5-4C53-A23A-3E32081D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EB88-162F-4102-9FA5-AD96F3643C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D6B8-C5A2-4744-BE20-A7765E6CEF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hyperlink" Target="http://www.vsem.cz/?section=4&amp;cat=3&amp;subcat=6" TargetMode="External"/><Relationship Id="rId6" Type="http://schemas.openxmlformats.org/officeDocument/2006/relationships/hyperlink" Target="http://www.czso.cz/" TargetMode="External"/><Relationship Id="rId7" Type="http://schemas.openxmlformats.org/officeDocument/2006/relationships/hyperlink" Target="http://www.geert-hofstede.com/" TargetMode="External"/><Relationship Id="rId8" Type="http://schemas.openxmlformats.org/officeDocument/2006/relationships/hyperlink" Target="http://www.brandpower.cz/" TargetMode="External"/><Relationship Id="rId9" Type="http://schemas.openxmlformats.org/officeDocument/2006/relationships/hyperlink" Target="http://www.consumerpsychologist.com/" TargetMode="External"/><Relationship Id="rId10" Type="http://schemas.openxmlformats.org/officeDocument/2006/relationships/hyperlink" Target="http://www.cvvm.cas.cz/" TargetMode="External"/><Relationship Id="rId11" Type="http://schemas.openxmlformats.org/officeDocument/2006/relationships/hyperlink" Target="http://www.westburn.co.uk/jcb/" TargetMode="External"/><Relationship Id="rId12" Type="http://schemas.openxmlformats.org/officeDocument/2006/relationships/hyperlink" Target="http://www.tgisurveys.com/" TargetMode="External"/><Relationship Id="rId13" Type="http://schemas.openxmlformats.org/officeDocument/2006/relationships/hyperlink" Target="http://www.mintel.co.uk/" TargetMode="External"/><Relationship Id="rId14" Type="http://schemas.openxmlformats.org/officeDocument/2006/relationships/hyperlink" Target="http://www.gentleye.com/research/cb/symblcb.html" TargetMode="External"/><Relationship Id="rId15" Type="http://schemas.openxmlformats.org/officeDocument/2006/relationships/hyperlink" Target="http://www.incoma.cz/" TargetMode="External"/><Relationship Id="rId16" Type="http://schemas.openxmlformats.org/officeDocument/2006/relationships/slideLayout" Target="../slideLayouts/slideLayout1.xml"/><Relationship Id="rId17" Type="http://schemas.openxmlformats.org/officeDocument/2006/relationships/comments" Target="../comments/commen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paceandprofit.cz/trenink/moduly.php" TargetMode="External"/><Relationship Id="rId2" Type="http://schemas.openxmlformats.org/officeDocument/2006/relationships/hyperlink" Target="http://www.spaceandprofit.cz/trenink/moduly.php" TargetMode="External"/><Relationship Id="rId3" Type="http://schemas.openxmlformats.org/officeDocument/2006/relationships/hyperlink" Target="http://www.spaceandprofit.cz/trenink/moduly.php" TargetMode="External"/><Relationship Id="rId4" Type="http://schemas.openxmlformats.org/officeDocument/2006/relationships/hyperlink" Target="http://www.spaceandprofit.cz/trenink/moduly.php" TargetMode="External"/><Relationship Id="rId5" Type="http://schemas.openxmlformats.org/officeDocument/2006/relationships/hyperlink" Target="http://www.spaceandprofit.cz/trenink/moduly.php" TargetMode="External"/><Relationship Id="rId6" Type="http://schemas.openxmlformats.org/officeDocument/2006/relationships/hyperlink" Target="http://www.spaceandprofit.cz/trenink/moduly.php" TargetMode="External"/><Relationship Id="rId7" Type="http://schemas.openxmlformats.org/officeDocument/2006/relationships/hyperlink" Target="http://www.spaceandprofit.cz/trenink/moduly.php" TargetMode="External"/><Relationship Id="rId8" Type="http://schemas.openxmlformats.org/officeDocument/2006/relationships/hyperlink" Target="http://www.spaceandprofit.cz/trenink/moduly.php" TargetMode="External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rketingový výzkum trhu s lifestylovými vůněm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3715920"/>
            <a:ext cx="82296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ablová Nik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rátilová Len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7640" y="3213000"/>
            <a:ext cx="202896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5582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Marketingové strategie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 Unicode MS"/>
              </a:rPr>
              <a:t>Promotion aktivity = propagační pod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87280" y="1916280"/>
            <a:ext cx="6705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ktivity se zaměřením na podporu výhodných obchodních vztahů mezi odběratelem a dodavate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odp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prodeje konkrétního výrobku či kategorie, na níž se obě strany podílí &gt; tyto aktivity bývají vždy realizovány na základě domluvy a synergie obou stran – dodavatele a odběrat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Příkla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letákové akce, spotřebitelské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těže, dárky za nákup, 1 + 1 zdarma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943600" y="388620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26920" y="4221000"/>
            <a:ext cx="1828800" cy="2438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 flipH="1" rot="318600">
            <a:off x="3276360" y="3933720"/>
            <a:ext cx="2057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523880" y="1828800"/>
          <a:ext cx="6083280" cy="40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828800"/>
                    <a:ext cx="6083280" cy="40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akce, trénink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íl informovat spotřebit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ej novinky sezónní akce, podpora prodeje stálého sortimentu,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24000" y="2781360"/>
            <a:ext cx="2519280" cy="3543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 flipH="1">
            <a:off x="6156000" y="2564640"/>
            <a:ext cx="2654280" cy="3776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059280" y="2421000"/>
            <a:ext cx="324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vinka, značka, rekl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uh vůně (sezó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dborné poradenst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valita ( trvanlivost vůn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řidaná hodnota- vzorek, dárek, s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32000" y="4491000"/>
            <a:ext cx="30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provodný materiál: promo-stolek, plakát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zorečky, testovací papírky, letáky ve stojánku,katalog manuálů, dárky za náku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-279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-27970200"/>
          <a:ext cx="182520" cy="62433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243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6767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5"/>
                        </a:rPr>
                        <a:t>Spotřební chování a segmentace trhu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6767ff"/>
                        </a:buClr>
                        <a:buSzPct val="80000"/>
                        <a:buFont typeface="Arial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6"/>
                        </a:rPr>
                        <a:t>ČSÚ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6767ff"/>
                        </a:buClr>
                        <a:buSzPct val="80000"/>
                        <a:buFont typeface="Arial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7"/>
                        </a:rPr>
                        <a:t>ITIM International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6767ff"/>
                        </a:buClr>
                        <a:buSzPct val="80000"/>
                        <a:buFont typeface="Arial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8"/>
                        </a:rPr>
                        <a:t>Brand Power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6767ff"/>
                        </a:buClr>
                        <a:buSzPct val="80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9"/>
                        </a:rPr>
                        <a:t>The psychology of consumers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6767ff"/>
                        </a:buClr>
                        <a:buSzPct val="80000"/>
                        <a:buFont typeface="Arial"/>
                        <a:buAutoNum type="arabicPeriod" startAt="6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10"/>
                        </a:rPr>
                        <a:t>CVVM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6767ff"/>
                        </a:buClr>
                        <a:buSzPct val="80000"/>
                        <a:buFont typeface="Arial"/>
                        <a:buAutoNum type="arabicPeriod" startAt="7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11"/>
                        </a:rPr>
                        <a:t>Journal of Customer Behaviour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6767ff"/>
                        </a:buClr>
                        <a:buSzPct val="80000"/>
                        <a:buFont typeface="Arial"/>
                        <a:buAutoNum type="arabicPeriod" startAt="8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12"/>
                        </a:rPr>
                        <a:t>Target Group Index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6767ff"/>
                        </a:buClr>
                        <a:buSzPct val="80000"/>
                        <a:buFont typeface="Arial"/>
                        <a:buAutoNum type="arabicPeriod" startAt="9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13"/>
                        </a:rPr>
                        <a:t>Mintel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6767ff"/>
                        </a:buClr>
                        <a:buSzPct val="80000"/>
                        <a:buFont typeface="Arial"/>
                        <a:buAutoNum type="arabicPeriod" startAt="10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14"/>
                        </a:rPr>
                        <a:t>Symbolic Consumer Behavior Articles, Essays and Ponderings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6767ff"/>
                        </a:buClr>
                        <a:buSzPct val="80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15"/>
                        </a:rPr>
                        <a:t>Incoma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1440" y="34462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76360" y="1989000"/>
            <a:ext cx="61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ér/ka - inform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osmetický průmysl a termín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496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P – parfémová voda (někdy mylně zaměňováno s parfém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aletní parfém nebo Eau de parfum 8 až 15 % kompozice, stupeň alkoholu 85 – 9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T – toaletní voda – nejčastěji prodávaný typ ředění parf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aletní voda nebo Eau de toilette 4 až 8 % kompozice v 80 % koncentrovaném li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osmetický průmysl a termíny 2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7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FTER SHAVE – voda po holení, tzv. kolíns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línská voda (eau de cologne/after shave) obsahuje 3 až 5 % kompozice ve zředěném, často 70%ním lihu (obsahuje 70 % ethanol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ODORANT – ve spreji (poměr 1-3% vonné esence v 50 – 70% alkoho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O VAPO – s rozprašovač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lkový vývoj českého trhu – hodnota prodeje ve 100 000 Kč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5661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ísta prodeje lifestylových vůn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rogistické řetězce (Rossmann, Drox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ypermarkety (HPM) – sítě hypermarketů  především velké prodejny nad 2500m</a:t>
            </a:r>
            <a:r>
              <a:rPr b="0" lang="cs-CZ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Tesco, Globus, Hypernova, Intersp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arfumerie (Fann, Sephora, Dougl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dependent- malé obchody, soukromníci</a:t>
            </a:r>
            <a:br>
              <a:rPr sz="3200"/>
            </a:b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Vývoj prodeje v Hypermarketech </a:t>
            </a:r>
            <a:br>
              <a:rPr sz="3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ve 100 000 Kč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68360" y="1600200"/>
            <a:ext cx="835164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Vývoj prodeje v drogeriích </a:t>
            </a:r>
            <a:br>
              <a:rPr sz="3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e 100 000 Kč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lavní hráči na trhu s vůněm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ot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největší výrobce vůní na světě, nabízí prestižní i lifestylové vůně a kosmetiku (Esprit, Miss Sixty, Celine Dion, David and Victoria Beckham, Isabella Rossellini, Chanson,Adidas, Astor, Chupa Chups, Exclamation, Jovan, Miss Sporty, Rimm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octer and Gambl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restige Products– gigant produkující širokou škálu výrobků od kosmetiky a vůní po přípravky na praní a péči o domácnost, mezi značky vůní nabízené na českém trhu patří Puma, Mexx, Tom Tailor, Gabriela Sabatini, Naomi Campbell, Bruno Banani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eiersdorf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opět průmyslový gigant sdružující výrobu širokého spektra výrobků a značek, na českém trhu známý především díky značkám Nivea a Lab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Unilever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opět široká škála výrobků od vaření (Knorr) po kosmetiku, na českém trhu známá především značka deodorantů Rexo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lavní hráči na českém trhu s vůněmi (EdT, EdP, Afterhave, Deo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424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h s lifestylovými vůněm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style – vůně střední střídy dostupné širokým řadám spotřebitelů, určené k běžnému noš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ěžně k dostání v řetězcích hypermarketů a droger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hrnují toaletní vody, parfémové vody, vody po holení a deodora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ww stránky distributorských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cs-CZ" sz="32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spaceandprofit</a:t>
            </a:r>
            <a:r>
              <a:rPr b="0" lang="cs-CZ" sz="32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32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cz</a:t>
            </a:r>
            <a:r>
              <a:rPr b="0" lang="cs-CZ" sz="32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/</a:t>
            </a:r>
            <a:r>
              <a:rPr b="0" lang="cs-CZ" sz="32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trenink</a:t>
            </a:r>
            <a:r>
              <a:rPr b="0" lang="cs-CZ" sz="3200" spc="-1" strike="noStrike" u="sng">
                <a:solidFill>
                  <a:srgbClr val="6767ff"/>
                </a:solidFill>
                <a:uFillTx/>
                <a:latin typeface="Arial"/>
                <a:hlinkClick r:id="rId7"/>
              </a:rPr>
              <a:t>/moduly.</a:t>
            </a:r>
            <a:r>
              <a:rPr b="0" lang="cs-CZ" sz="3200" spc="-1" strike="noStrike" u="sng">
                <a:solidFill>
                  <a:srgbClr val="6767ff"/>
                </a:solidFill>
                <a:uFillTx/>
                <a:latin typeface="Arial"/>
                <a:hlinkClick r:id="rId8"/>
              </a:rPr>
              <a:t>php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tler, Armstrong, Marketing, Grada,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teriály P&amp;G Prestige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ttp://www.parfemu-raj.cz/index.php?akce=strana&amp;id=1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jmy a defin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ingové strate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rategie prodej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i prodeji lifestylových vůní je využíváno běžných strategií prodeje zbož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 podporu prodeje je nejčastěji využívanou strategií umístění výrobku a aktivní pro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 JE TO MERCHANDISING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4000" y="3499920"/>
            <a:ext cx="84247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rchandising Negotiatio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42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Umění vyjednávat o prodejním prostoru jako o obchodovatelné komoditě různých hodno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helf Managemen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42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Navýšení efektivity regálové a celkové prodejní plochy a aktualizovat efektivní portfolio dané kategori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42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Maximalizace efektivity regálové plochy tak, aby se posílil obrat segmentu „maržetvorných“ a nestagnoval prodej „objemotvorných“ výrobků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700280"/>
            <a:ext cx="8351640" cy="18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ouhrn činností vykonávaných na prodejnách za účelem zlepšení všeobecné vizuality výrobků na regálech a druhotných vystaveních a tímto ovlivňovat konečné rozhodnutí spotřebitele o nákupu a tudíž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Unicode MS"/>
              </a:rPr>
              <a:t>zvyšovat prodej daných výrob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Prostřed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60912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Proč je merchandising důležitý ?</a:t>
            </a:r>
            <a:br>
              <a:rPr sz="3400"/>
            </a:br>
            <a:br>
              <a:rPr sz="34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 efektivní merchandising je nutná znalost spotřebního chování a segmentace trhu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1989000"/>
            <a:ext cx="75438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zhodnutí o nákupu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5 % plánovaný ná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droj – agentura  NFP Czech Republic )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5 % impulsivní ná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380988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5 % plánova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525780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5 % impuls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3276720"/>
            <a:ext cx="27432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8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 celkových nákupů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sou rozhodov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 místě prode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27280" y="321300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 % změní rozhodnutí o bran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00360" y="3933720"/>
            <a:ext cx="322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% změní rozhodnutí o velik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11280" y="3933720"/>
            <a:ext cx="3581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11280" y="4653000"/>
            <a:ext cx="3581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14600" y="5410080"/>
            <a:ext cx="3581280" cy="0"/>
          </a:xfrm>
          <a:prstGeom prst="line">
            <a:avLst/>
          </a:prstGeom>
          <a:ln w="82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Klíčové pojm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1700280"/>
            <a:ext cx="576072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Rozmíst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Facing/Fa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 - čelní strana výrobku v regále, výrobek v první radě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v regále – množství určuje prestiž zboží (luxusní výrobky 1 fac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Nebo je odpovědí na vysokou poptávku (více faceů, protože by 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zboží brzy vyproda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Primární umístěn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 – stálé umístění výrobku v regálu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vychází ze smlouvy mezi distributorem a prodejc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372360" y="1773360"/>
            <a:ext cx="2232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líčové pojmy 2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218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Sekundární umístěn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 – krátkodobé, akční umístěn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      –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uvedení nového výrobku, podpora prodeje určitý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typů produktů  - vánoční kazety, zboží v akci, nov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balení např. akční čelo regá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Regálové lišt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 – jsou speciálním typem liš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které upozorňují na konkrétní výrobek neb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značku v regálu  - výrazný design – často 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výšce oč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435640" y="1557360"/>
            <a:ext cx="2898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líčové pojmy 3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75708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Obecné poj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Listing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- část portfolia výrobků či celé portfolio výrobků dodavatele, které na základě vyjednaných podmínek zařadí maloobchod/řetězec do své nabídky, vyčlení jim stabilní regálové místo a každá prodejna je povinna pravidelně dle obrátky tyto položky objednáv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Shelving</a:t>
            </a:r>
            <a:r>
              <a:rPr b="0" lang="cs-CZ" sz="2300" spc="-1" strike="noStrike">
                <a:solidFill>
                  <a:srgbClr val="000000"/>
                </a:solidFill>
                <a:latin typeface="Times New Roman"/>
                <a:ea typeface="Tahoma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činnost merchandisera, při níž pracuje se zbožím, dbá na 100% naplnění regálu dle kritérií správné péče o regál (definováno dodavatel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22:12:39Z</dcterms:created>
  <dc:creator>Lenka</dc:creator>
  <dc:description/>
  <dc:language>en-US</dc:language>
  <cp:lastModifiedBy>Lenka</cp:lastModifiedBy>
  <dcterms:modified xsi:type="dcterms:W3CDTF">2006-12-08T09:40:28Z</dcterms:modified>
  <cp:revision>21</cp:revision>
  <dc:subject/>
  <dc:title>Pojmy a defin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