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BFC-82F7-420D-B90A-67123EF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143-F62E-4DA7-9DF6-576613C5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C44-6008-4D94-A947-752080F6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EE2-51B8-4C00-ADCA-1E87F09F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312-ABA1-4D32-A302-E847DF86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CD20-340D-43EE-8CA2-737BB60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13DB-EEE7-4FD1-B436-071553E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CBF-53C0-4278-AE2F-9821B47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A54D-FBD1-4777-8C8E-F6930DFF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BB1-2D95-443B-BC45-E463A41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8406-EC0D-4138-8C01-47EFC0E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F72-7CD7-45B2-AEAE-9042E4F0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ABA-8349-4002-92AC-A8DD9DB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5CAD-E62E-4E09-B907-9208F86C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553-3212-4B19-8A58-1AD05E5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EC87-E19B-4AB8-BF60-C6213C5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B0A-2567-40C3-A554-D7487ADB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B03-C56D-4FCF-B361-53E8512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F91-7A02-4A19-A3DE-376B82B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4E0-0633-4427-BE6D-8D4D4634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C74-B3CD-41E7-90F1-E886C83D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222-8A92-4B0E-AD4D-9377BE2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B23-636A-4C1A-A154-1816E65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994-D6C4-48B9-AEB7-7733FB8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FC97-456D-497B-A538-37A520EB77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366-DCBA-47EF-910B-5BCE8DD94C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hyperlink" Target="http://www.iuv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h vysokých škol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a Dudí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Kříčkov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mila Neumanov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eronika Mejzlí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álý nárůst počtu studen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 roce 2003/04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vě přijato celkem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6,9 ti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růst především u uchazečů prezenčního studia v bakalářských programech, který oproti předešlému roku činil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7,7 %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 magisterských naopak  pokles 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3,9 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vá strategie VŠ:  dvoustupňové studium: bakalářské a magisterské navazujíc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roce 2005/06 již počet poprvé zapsaných do bakalářských programů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4,8 tis.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íce než pětinásobně převyšoval počet přijatých k magisterskému studiu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0,5 t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). Celkem bylo nově přijat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70,0 t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student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64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d r. 1989 do r.2005 dvojnásobný nárůst absolventů VŠ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E! Snižuje se počet zájemců ze střeních šk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zdíl vyrovnávají cizinci a již pracují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3124080"/>
          <a:ext cx="8686800" cy="3332160"/>
        </p:xfrm>
        <a:graphic>
          <a:graphicData uri="http://schemas.openxmlformats.org/drawingml/2006/table">
            <a:tbl>
              <a:tblPr/>
              <a:tblGrid>
                <a:gridCol w="1911600"/>
                <a:gridCol w="2949480"/>
                <a:gridCol w="1914480"/>
                <a:gridCol w="1911240"/>
              </a:tblGrid>
              <a:tr h="78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ní 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tom státní občanstv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z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/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5 2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 7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 6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 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4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/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 7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6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0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/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1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9 6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5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/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8 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 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3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íl přijatých ke studiu vzrůstá (o 5,8% za posl.škol.ro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aždý uchazeč podá v průměru 2,2 přihlášky (2005: hlásilo celkem 130,9 tis., kteří podali celkem 294,8 tis. přihlášek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chazeči se nejvíce hlásí ke studiu humanitních a společenskovědních oborů, ekonomických, technických a pedagogických obor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8600" y="3352680"/>
          <a:ext cx="8469360" cy="3345120"/>
        </p:xfrm>
        <a:graphic>
          <a:graphicData uri="http://schemas.openxmlformats.org/drawingml/2006/table">
            <a:tbl>
              <a:tblPr/>
              <a:tblGrid>
                <a:gridCol w="1809720"/>
                <a:gridCol w="3406680"/>
                <a:gridCol w="3252960"/>
              </a:tblGrid>
              <a:tr h="11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aných přihláš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ijatých studentů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8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očet přihlášek, přihlášených, přijatých a zapsaných na VŠ  v tis.  v letech 1989/90 – 2005/06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 vysoké školy se hlásí převážn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ívky (56,7 %), které tvoří tak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tšinu přijatých (51,7 %). Chlapc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sou však při přijímacím řízení úspěšnější (75,1 % úspěšnost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 porovnání s dívkami (60,6 % úspěšnost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čty podaných přihlášek na VŠ a počty přijatých studentů v letech 1992/93 až 2002/03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2276640"/>
          <a:ext cx="543564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5435640" cy="345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40360" y="1557360"/>
          <a:ext cx="2962440" cy="5040360"/>
        </p:xfrm>
        <a:graphic>
          <a:graphicData uri="http://schemas.openxmlformats.org/drawingml/2006/table">
            <a:tbl>
              <a:tblPr/>
              <a:tblGrid>
                <a:gridCol w="1017720"/>
                <a:gridCol w="973080"/>
                <a:gridCol w="971640"/>
              </a:tblGrid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 studen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2/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1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 6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3/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4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 8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4/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66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 3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/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 2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6/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2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9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7/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05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 5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/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6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 2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/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3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 40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/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81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 2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/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74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 6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40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 0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50920" y="1341360"/>
          <a:ext cx="864072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0720" cy="488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79640" y="189000"/>
          <a:ext cx="5616720" cy="317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9000"/>
                    <a:ext cx="5616720" cy="31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979640" y="3429000"/>
          <a:ext cx="5689440" cy="321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429000"/>
                    <a:ext cx="5689440" cy="3216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zinárodní srovnání počtu vysokoškolsky vzdělané populace jednotlivých zemí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50920" y="1844640"/>
          <a:ext cx="872964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872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24000" y="981000"/>
          <a:ext cx="8229600" cy="5332320"/>
        </p:xfrm>
        <a:graphic>
          <a:graphicData uri="http://schemas.openxmlformats.org/drawingml/2006/table">
            <a:tbl>
              <a:tblPr/>
              <a:tblGrid>
                <a:gridCol w="469800"/>
                <a:gridCol w="5013360"/>
                <a:gridCol w="884160"/>
                <a:gridCol w="884520"/>
                <a:gridCol w="977760"/>
              </a:tblGrid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soká šk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 uchazečů na jedno mí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pedagogická, Hradec Králov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arykova univerzita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 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Karlov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Palackého, Olomo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 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3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travs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ápadočeská univerzita, Plze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 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4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ihočeská univerzita, České Budějo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7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ekonomická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9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á zemědělská univerzit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9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é učení technické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 7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8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é vysoké učení technické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báňská – Technic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38880"/>
            <a:ext cx="8362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363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zrůstající zájem o studium na V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jdynamičtější nárůst zaznam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ukromé V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čet podaných přihlášek na VŠ ve školním roce: 1992/93: </a:t>
            </a:r>
            <a:r>
              <a:rPr b="0" lang="cs-CZ" sz="2800" spc="-1" strike="noStrike">
                <a:solidFill>
                  <a:srgbClr val="ff3300"/>
                </a:solidFill>
                <a:latin typeface="Verdana"/>
              </a:rPr>
              <a:t>141140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002/03: </a:t>
            </a:r>
            <a:r>
              <a:rPr b="0" lang="cs-CZ" sz="2800" spc="-1" strike="noStrike">
                <a:solidFill>
                  <a:srgbClr val="ff3300"/>
                </a:solidFill>
                <a:latin typeface="Verdana"/>
              </a:rPr>
              <a:t>23402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ůst počtu oborů: 112 na 2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růst především u škol s humanitním zaměře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68360" y="1197000"/>
          <a:ext cx="8229600" cy="5087880"/>
        </p:xfrm>
        <a:graphic>
          <a:graphicData uri="http://schemas.openxmlformats.org/drawingml/2006/table">
            <a:tbl>
              <a:tblPr/>
              <a:tblGrid>
                <a:gridCol w="469800"/>
                <a:gridCol w="5013360"/>
                <a:gridCol w="884160"/>
                <a:gridCol w="884520"/>
                <a:gridCol w="977760"/>
              </a:tblGrid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soká šk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ntuální úspěšnost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pedagogická, Hradec Králov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,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arykova univerzita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 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Karlov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Palackého, Olomo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 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3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travs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ápadočeská univerzita, Plze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 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4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ihočeská univerzita, České Budějo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7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ekonomická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9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á zemědělská univerzit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9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é učení technické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 7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8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é vysoké učení technické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,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báňská – Technic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8360" y="1052640"/>
          <a:ext cx="818496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1849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zso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iuv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888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31840"/>
            <a:ext cx="8291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výšená nabídka         zvýšená poptávka         Konkurenční boj mezi V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- projekt „Partnerství ve vzdělán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11880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3628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ynamický nárůst soukromých V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48320" y="1143000"/>
            <a:ext cx="4038120" cy="5028840"/>
            <a:chOff x="4648320" y="1143000"/>
            <a:chExt cx="4038120" cy="5028840"/>
          </a:xfrm>
        </p:grpSpPr>
        <p:grpSp>
          <p:nvGrpSpPr>
            <p:cNvPr id="171" name=""/>
            <p:cNvGrpSpPr/>
            <p:nvPr/>
          </p:nvGrpSpPr>
          <p:grpSpPr>
            <a:xfrm>
              <a:off x="4654800" y="1149840"/>
              <a:ext cx="4024080" cy="5013720"/>
              <a:chOff x="4654800" y="1149840"/>
              <a:chExt cx="4024080" cy="501372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654800" y="1149840"/>
                <a:ext cx="1643400" cy="1500120"/>
                <a:chOff x="4654800" y="1149840"/>
                <a:chExt cx="1643400" cy="1500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54800" y="1149840"/>
                  <a:ext cx="16434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ukromé vysoké školy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54800" y="1149840"/>
                  <a:ext cx="16434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98560" y="1149840"/>
                <a:ext cx="1189800" cy="1500120"/>
                <a:chOff x="6298560" y="1149840"/>
                <a:chExt cx="1189800" cy="1500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98560" y="1149840"/>
                  <a:ext cx="11898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298560" y="1149840"/>
                  <a:ext cx="11898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89080" y="1149840"/>
                <a:ext cx="1189800" cy="1500120"/>
                <a:chOff x="7489080" y="1149840"/>
                <a:chExt cx="1189800" cy="1500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89080" y="1149840"/>
                  <a:ext cx="11898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89080" y="1149840"/>
                  <a:ext cx="11898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654800" y="2650320"/>
                <a:ext cx="1643400" cy="227520"/>
                <a:chOff x="4654800" y="2650320"/>
                <a:chExt cx="1643400" cy="227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54800" y="2650320"/>
                  <a:ext cx="16434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54800" y="2650320"/>
                  <a:ext cx="16434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298560" y="2650320"/>
                <a:ext cx="1189800" cy="227520"/>
                <a:chOff x="6298560" y="2650320"/>
                <a:chExt cx="1189800" cy="227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298560" y="2650320"/>
                  <a:ext cx="11898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298560" y="2650320"/>
                  <a:ext cx="11898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489080" y="2650320"/>
                <a:ext cx="1189800" cy="227520"/>
                <a:chOff x="7489080" y="2650320"/>
                <a:chExt cx="1189800" cy="227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489080" y="2650320"/>
                  <a:ext cx="11898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9080" y="2650320"/>
                  <a:ext cx="11898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654800" y="2878200"/>
                <a:ext cx="1643400" cy="546840"/>
                <a:chOff x="4654800" y="2878200"/>
                <a:chExt cx="1643400" cy="5468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654800" y="2878200"/>
                  <a:ext cx="16434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školní rok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54800" y="2878200"/>
                  <a:ext cx="164340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98560" y="2878200"/>
                <a:ext cx="2379960" cy="546840"/>
                <a:chOff x="6298560" y="2878200"/>
                <a:chExt cx="2379960" cy="5468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298560" y="2878200"/>
                  <a:ext cx="237996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čet studentů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298560" y="2878200"/>
                  <a:ext cx="237996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54800" y="3425400"/>
                <a:ext cx="1643400" cy="547200"/>
                <a:chOff x="4654800" y="3425400"/>
                <a:chExt cx="1643400" cy="54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54800" y="342540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/0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54800" y="342540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98560" y="3425400"/>
                <a:ext cx="2379960" cy="547200"/>
                <a:chOff x="6298560" y="3425400"/>
                <a:chExt cx="2379960" cy="547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298560" y="342540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38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298560" y="342540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654800" y="3973320"/>
                <a:ext cx="1643400" cy="547200"/>
                <a:chOff x="4654800" y="3973320"/>
                <a:chExt cx="1643400" cy="547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54800" y="397332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1/0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54800" y="397332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298560" y="3973320"/>
                <a:ext cx="2379960" cy="547200"/>
                <a:chOff x="6298560" y="3973320"/>
                <a:chExt cx="2379960" cy="547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298560" y="397332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99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98560" y="397332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654800" y="4521240"/>
                <a:ext cx="1643400" cy="546840"/>
                <a:chOff x="4654800" y="4521240"/>
                <a:chExt cx="1643400" cy="5468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654800" y="4521240"/>
                  <a:ext cx="16434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2/0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654800" y="4521240"/>
                  <a:ext cx="164340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98560" y="4521240"/>
                <a:ext cx="2379960" cy="546840"/>
                <a:chOff x="6298560" y="4521240"/>
                <a:chExt cx="2379960" cy="5468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98560" y="4521240"/>
                  <a:ext cx="237996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89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98560" y="4521240"/>
                  <a:ext cx="237996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654800" y="5068440"/>
                <a:ext cx="1643400" cy="547200"/>
                <a:chOff x="4654800" y="5068440"/>
                <a:chExt cx="1643400" cy="547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654800" y="506844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3/04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54800" y="506844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298560" y="5068440"/>
                <a:ext cx="2379960" cy="547200"/>
                <a:chOff x="6298560" y="5068440"/>
                <a:chExt cx="2379960" cy="5472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298560" y="506844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286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98560" y="506844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654800" y="5616360"/>
                <a:ext cx="1643400" cy="547200"/>
                <a:chOff x="4654800" y="5616360"/>
                <a:chExt cx="1643400" cy="54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54800" y="561636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4/0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54800" y="561636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298560" y="5616360"/>
                <a:ext cx="2379960" cy="547200"/>
                <a:chOff x="6298560" y="5616360"/>
                <a:chExt cx="2379960" cy="547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298560" y="561636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12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298560" y="561636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4648320" y="1143000"/>
              <a:ext cx="403812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2280" y="1143000"/>
            <a:ext cx="457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voj soukromých VŠ za posl.3 rok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2x více soukr.šk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60% více studen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iná strategie soukromých ško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ně financovány z vlastních zdrojů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entace na obory s vazbou na konkrétní profesní uplatně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ekonomická, veřejnoprávní sféra)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zdílné nároky pro přijet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větší zájem je o humanitní obory na veřejných V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 technické obory někdy stačí pouze prospěch ze S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ukromé školy: odmítnuto pouze 6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spěšnost absolventů V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/5 VŠ má nezaměstnanost absolventů mez 2-1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kromé VŠ jsou na tom lép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oká úspěšnost pedagogických a lékařských fakult (kolem 5%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bré výsledky (velmi blízko pětiprocentní hranici) mají školy ekonomické a technick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hůře na tom jsou fakulty zemědělsk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915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2392200" y="21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905120"/>
          <a:ext cx="8381880" cy="3801960"/>
        </p:xfrm>
        <a:graphic>
          <a:graphicData uri="http://schemas.openxmlformats.org/drawingml/2006/table">
            <a:tbl>
              <a:tblPr/>
              <a:tblGrid>
                <a:gridCol w="1328760"/>
                <a:gridCol w="1842840"/>
                <a:gridCol w="1174680"/>
                <a:gridCol w="1451160"/>
                <a:gridCol w="965160"/>
                <a:gridCol w="1619280"/>
              </a:tblGrid>
              <a:tr h="1216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ní r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y celk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to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kulty celk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řej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krom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át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/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3:18:24Z</dcterms:created>
  <dc:creator>Mejzlíkovi</dc:creator>
  <dc:description/>
  <dc:language>en-US</dc:language>
  <cp:lastModifiedBy>Mejzlíkovi</cp:lastModifiedBy>
  <dcterms:modified xsi:type="dcterms:W3CDTF">2006-11-27T03:20:12Z</dcterms:modified>
  <cp:revision>1</cp:revision>
  <dc:subject/>
  <dc:title>Trh vysokých škol </dc:title>
</cp:coreProperties>
</file>