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403-8886-4316-BFFC-7B94B404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7BC-08C6-42C2-9EE1-9D5B9C43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A33-5451-495B-A9CB-113E20B8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5E9-9236-4FFB-8D46-86268CB4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7A2-00BF-4E73-A19F-CDD24767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9FA-1DC4-4E94-B7ED-241A5C6F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76C-3FC4-4177-9725-4BC7C51A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543-2077-42EA-92DC-87FBB8BF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F0B-83DD-4567-A498-C2932C78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156-0DAA-458D-ACF8-99022478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E88-AF6B-4566-8701-22DAFF44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8BC-78B0-4BD0-B79B-712242B7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2484-59FD-47FA-8E59-50B2D7226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zkum trhu benzinových pump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otřeba paliv v ČR v roc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zíny-262 063 274 lit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fta-1 609 109 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lavní společnosti provozující benzinové pum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MV-OMV Aktiengesellscha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hell-Shell Overseas Investments B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nzina-Unipetrol(PKN Or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uroOil-čepro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lší-Esso, Jet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čet benzinových p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mv-217 st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hell-155 st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nzina-327stani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oho bu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konce roku 90 + 12 nových patřit pod Benzina pl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uro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SO-40 st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t-44 st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ní podí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mv-1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nzina-9,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hell-nezjiště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uroOil-nezjiště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znam produktů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tural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al 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ooktanový benzin ( 98,99,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torová naf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trhu motorových pal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1839960"/>
            <a:ext cx="73454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trhu autobenzí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19280" y="1706400"/>
            <a:ext cx="564660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a prodeje obchodního zboží za rok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obilové benziny 52,6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G 0,2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ová nafta vč. bionafty 46,6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atní ropné produkty 0,6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rovnání obchodních bilancí jednotlivých firem v letech 2003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benz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ržby resp. výkony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 426 000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 516 777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7 649 367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at resp. výnosy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1 378 869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7 906 548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ospodářský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499 000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 363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273 437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ýsledek 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četní obdob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O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ržby resp. výkony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95 672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3 895 210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8 021 164 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at resp. výnosy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6 459 938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4 151 936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 100 657 0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ospodářský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115 971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12 849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2 594 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ýsledek 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četní obdob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ržby resp. výkon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36 494 493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7 853 894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7 801 688 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at resp. výnos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38 784 668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8 855 291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8 355 481 0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ospodářsk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346 566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830 184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496 764 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ýsledek 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četní obdob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21:11:18Z</dcterms:created>
  <dc:creator>Martin  Bartoš</dc:creator>
  <dc:description/>
  <dc:language>en-US</dc:language>
  <cp:lastModifiedBy>Martin  Bartoš</cp:lastModifiedBy>
  <dcterms:modified xsi:type="dcterms:W3CDTF">2006-12-08T22:16:24Z</dcterms:modified>
  <cp:revision>2</cp:revision>
  <dc:subject/>
  <dc:title>Výzkum trhu benzinových pump v ČR</dc:title>
</cp:coreProperties>
</file>