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9A68-8C17-477B-99F1-426B3714D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78C6-AF54-45D1-96B0-637A38755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B309-2EE4-4D98-B39C-F2B67F333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E398-14F2-4CAF-8018-30601D4EB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2E66-B78D-4072-B4B6-15DEE405D7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92A4-9B60-497E-AA3C-B12D5C43F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6335-F67E-44ED-9283-D3D252632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A1F0-5BF9-47A3-845C-3AD16AD3E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78DD-F2B0-4871-AD3F-F0ED3E04B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D076-09A0-4817-9324-5361CB59E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9F71-CBCB-4E9A-B0AA-2B8048A66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843-A9B4-4AE9-87AE-2D78B8E56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5EA-36BA-4DA5-B50C-AF950A962FB1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é test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3B54-60AE-42A2-AF08-2EC2D2397B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5680" y="17002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00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1B87-66ED-43DE-BCF2-7B59A071E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444" t="3792" r="1691" b="3792"/>
          <a:stretch/>
        </p:blipFill>
        <p:spPr>
          <a:xfrm>
            <a:off x="324000" y="1197000"/>
            <a:ext cx="851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4568-A336-4AC9-8BEC-17E2584D2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duc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ožné začlenit prakticky do jakéhokoliv výzkum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Hypotetická situ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Izolované hodnocení jednoho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lze interpolov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mezený počet cenových hladi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F93F-836B-47C9-9B2F-70D92D753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á citlivos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Tahoma"/>
              </a:rPr>
              <a:t>Van Westendorp - price senzitivity meter - PSM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kládáme čtyři otázky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pro respondenta levný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LEVNÝ)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tak levný, že by to vzbudilo pochybnosti o jeho kvalitě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LEVNÝ)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pro respondenta již drahý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DRAHÝ)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tak drahý, že by si ho respondent za žádnou cenu nekoupil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DRAHÝ)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5F99-0B99-42D1-B241-E1021B982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360" y="4492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2600" y="4262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85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691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5884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utr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běžnější cena na trhu, někdy to bývá medián ceny nebo cena dominantního výro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0A9E-8088-4D09-8945-6B4F20069C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83680" y="4005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4120" y="37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1577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35280" y="1717200"/>
            <a:ext cx="1152720" cy="34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častěji doporučená cena. Cena proti které je na trhu nejméně námi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4865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B748-3FEF-490F-8F1E-90A0821EB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val nejlepší cen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zřejmě čím větší je, tím větší má výrobce prostor pro stanovení c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80000" y="148428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4880" y="4946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1C98-05EB-4916-9C91-B1CE1D283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levn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Cheap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26920" y="692280"/>
            <a:ext cx="57636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6960" y="49417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684520"/>
            <a:ext cx="0" cy="288108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0" y="40766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69720" y="414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690640"/>
            <a:ext cx="0" cy="288144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05264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drah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Expensive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1844640"/>
            <a:ext cx="1079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429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81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199400">
            <a:off x="3992400" y="1051920"/>
            <a:ext cx="219240" cy="2952720"/>
          </a:xfrm>
          <a:custGeom>
            <a:avLst/>
            <a:gdLst>
              <a:gd name="textAreaLeft" fmla="*/ 0 w 219240"/>
              <a:gd name="textAreaRight" fmla="*/ 79200 w 2192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zsah akceptovateln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569F-F341-4655-8227-504FB11732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pět velmi jednoduché a pochopiteln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nadno integrovatelné do většiny výzkum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spondent musí znát ceny v daném segmen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bere v potaz ostatní výrobky (pouze nepřím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8D83-30EE-4A04-B185-71AE9C1D57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BPTO - Brand-Price-Trade-Off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Princip „spotřebitelské hry“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spondent musí znát výrobky a jejich ceny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Vycházíme z reálných cen, ze kterých vytvoříme několik cenových hladin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ere v potaz konkurenční prostřed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3759120"/>
          <a:ext cx="2016000" cy="2262240"/>
        </p:xfrm>
        <a:graphic>
          <a:graphicData uri="http://schemas.openxmlformats.org/drawingml/2006/table">
            <a:tbl>
              <a:tblPr/>
              <a:tblGrid>
                <a:gridCol w="1257120"/>
                <a:gridCol w="75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64000" y="3759120"/>
          <a:ext cx="2171520" cy="221940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908000" y="5272200"/>
            <a:ext cx="1008360" cy="3585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487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504120" y="3772080"/>
          <a:ext cx="2171520" cy="221904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79600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4518000"/>
            <a:ext cx="100800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9314-DF66-46B2-9826-F240EAA939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kladní pojm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E01C-1EC6-410C-AF9B-9ABBD0DBE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prvních výběrů znač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ěrnost znač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na trhu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echod od jedné značky ke druhé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eakce na změnu cen u konkuren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pojíme-li s odhadem nakupovaného množství za danou cenu, lze odhadnout i objem prode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mulace chování lidí (změny DPH, zdražení, atd.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8005-2498-4787-ADFC-AC6C425AFF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elké vzorky (nákladné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utnost provádět samostatně (nelze začlenit do jiného výzkumu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louhé, pracné a komplikované 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iziko „odhalení hry“ respondente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8C6D-DDE5-46EF-A7F0-4233BF74CA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(preferenční analýza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 ceně přidáváme i parametry výrobku / služby / tarif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užíváme zejména před uvedením na tr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em je komplexní pohled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kombinace ceny a parametr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ůležitost jednotlivých vlastnos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složení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42DA-90AE-4284-B01B-AB4F8A39F5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71520" y="978480"/>
            <a:ext cx="45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3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" y="3164400"/>
            <a:ext cx="42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E386-4F08-4D0C-A6F7-18B39599B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–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a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ložité na pochopení, analyzování a vysvětl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yžaduje velké know-how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tazovací softw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kušené tazatele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3B7E-6B63-4F59-A798-FE325EA39A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abídka a poptávk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2600" y="5589000"/>
            <a:ext cx="89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konalá konkurence: firmy maximalizují ZISK, spotřebitelé maximalizují UŽI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96000" cy="426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34800" y="119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3960" y="5013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AA43-DB0A-4126-87B5-713BAC427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rčení cen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ákladová cena – analýza nákladů, daní, apod.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nkurenční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ptávková - výzku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umpingová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EBFC-E15F-4D5C-AE3D-DBE8334DB2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ABAD-AEF2-47C1-8F00-2D524C3ED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nás zajímá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ou určit cenovou strategii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zv. 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 by se trh vyvíjel po příp. zdraž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5731-A6E9-46A6-9841-18F60D52D1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čekávaná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děpodobnost koupě“ (Gabor Grang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ová citlivost“ (Van Westendor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PTO (Brand-Price-Trade-Off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onjoint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6479-DA50-4217-8728-05BC9BBB3E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čekávaná cen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 jednoduchou orienta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etailně představíme respondentovi výrob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a pokládáme otázku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JAKÁ BY BYLA OČEKÁVANÁ CENA, TOHOTO VÝROBKU?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5816-6314-44E8-980F-66B9F76347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avděpodobnost koupě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abor-Granger – GG - Purchase intention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0. léta 20. stole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350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7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860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3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2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0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9625-7539-44F6-99F0-4FD8D12FE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1:56Z</dcterms:modified>
  <cp:revision>132</cp:revision>
  <dc:subject/>
  <dc:title>Snímek 1</dc:title>
</cp:coreProperties>
</file>