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F3AD-E838-4A88-91C7-8615C8EB1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2F19-7EDC-49CE-9091-9B85E26DE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B019-417E-4CEC-948A-94B004885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518B-33DF-4348-8D20-C391C1504E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E933-4675-4E72-B59B-324065515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44D1-3D32-438B-8936-0415AB82A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A46F-E2AC-43F4-98EA-7E7184E11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E32A-8590-4012-916F-8DA7B8F1D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9171-326D-405C-BA29-97764F969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127D-9219-47B5-B611-D3AABDAA7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4576-08C8-4B70-B62B-0CAE9CFD3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1DE8-A5C2-4E66-A1A2-AE771279F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C05F-E75C-4DFA-8395-1A84E159E713}" type="slidenum">
              <a:rPr b="1" lang="cs-CZ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, typologi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7FE9-87C5-4F7C-B6AC-778EC557AA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ata z výzkumů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95440" y="1192320"/>
            <a:ext cx="82436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užívají se pro „ad-hoc“ typ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o doplněk databází (přidávají dimenzi „proč“ a postoje, které nejsou součástí databáz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amostatné, otestované segmentační nástroje, sloužící k analýze spektra spotřebitelů kl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AE26-8999-486C-845F-1279EA0B22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mografická dat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595440" y="1192320"/>
            <a:ext cx="824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 nás založena na zdrojích z Českého statistického úř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klady pro demografickou typ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t definování absolutních počtů cílových skupin, výpočet potenciálu, ap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AA2F-B677-4A6C-9DEF-AB573870DE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4320" y="29718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toneSanItcTEEMed"/>
              </a:rPr>
              <a:t>Prax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7923-0C0E-48F7-9715-F32388E9EF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užití behaviorální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95440" y="1066680"/>
            <a:ext cx="8243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 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ikujeme budoucí chová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na základě toho minul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Cílení komunik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oslovujeme jenom někter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áření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abídek na míru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podle známých potřeb a očekává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se stále doplňuje a mění (nové znalosti o segmentech lidí (např. o response rate v minulé kampan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ypicky je používají firmy, které se zákazníky přicházejí pravidelně do styku: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elefonní operátory, kabelové televize, ban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AF34-83AA-4F91-A74A-4391D144B1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užití postojový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595440" y="1192320"/>
            <a:ext cx="8396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asto se používají „brandované“ nástroje agent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nalýza složení stávajících zákazníků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=&gt; určení nového cílení, počtu rizikových zákazníků, hodnoty nových, srovnání s konkurencí, nalezení nových cílových skupin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oplněk stávající CRM segment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postojová složka,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stroj, jak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znat svoje zákazní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jaké mají životní strategie, priority, cíle, jak žijí, jak se chovají, za co utrácejí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de samozřejmě do jisté míry o módní zále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0DF0-BF81-4FA5-B9AE-FE57D32455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95440" y="914400"/>
            <a:ext cx="8243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ení krátkodobý projekt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je to způsob, kterým by se mělo řídit podnikání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rá segmentace komunikuj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mocí ATL i BTL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komunikace vůči zákazníkům by měla být ve všech kanálech konziste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vodítkem pr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vizici, obchodní cílení a retenc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měla by managementu „říkat na koho a čí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ím je kontakt se zákazníky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ěsnějš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tím ví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ehaviorál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y segmentace měla bý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zahrnovat i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odnotu zákazník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identifikovat ty nejlepší zákaz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473A-2425-405A-A38F-4A1F4A290D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95440" y="914400"/>
            <a:ext cx="8243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lastností lidí jsou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ícedimenzionál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gmentace by měla zákazníky popisovat ve více rovinách (hodnoty, potřeby, životní styl,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mnohem jednodušší segmentaci vymyslet, než ji potom zavést a dlouhodobě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aticky použí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vytvoře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míru konkrétní firm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ndardizované nástroje nemusí vždy fung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 nejjednodušš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nadno uchopitelná a pochopitelná a zároveň nést co nejmenší redukcí re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ždá segmentace se (paradoxně:-) týk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d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ěla by proto reagovat na potřeby lidí nikoliv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38C9-CAB6-407D-8711-8068640DE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 založení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atabáze (tvrd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zkum (měkk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Clusterová analýza (nalezení podobných respondentů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orová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ritorní a manažerská rozhodnu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ropojování segmentací, mikrosegment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47DE-11C8-4A1D-A2B2-C83646CEA3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9497-0363-4505-92C0-D25A15BD6F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85560" y="2971800"/>
            <a:ext cx="63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AISA &amp; Leo Burne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C0B2-2035-4F5A-AC27-9C733C5880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č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ologi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, ukázk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8EFF-0FF8-44E6-82FF-D09C50DE7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10040" y="2971800"/>
            <a:ext cx="58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Tambor typolog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EAD5-4580-4ADA-B99C-9BCAA5E15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9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552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31840" y="1295280"/>
          <a:ext cx="69674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295280"/>
                    <a:ext cx="6967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88360" y="3486240"/>
            <a:ext cx="695160" cy="9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00720" y="5516640"/>
            <a:ext cx="930240" cy="6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8338" r="10987" b="0"/>
          <a:stretch/>
        </p:blipFill>
        <p:spPr>
          <a:xfrm>
            <a:off x="1130400" y="2340000"/>
            <a:ext cx="77292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578640" y="1409760"/>
            <a:ext cx="102060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835280" y="5805360"/>
            <a:ext cx="109836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883560" y="28195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Klára &amp; Ric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KONZERVATIV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2320" y="5765760"/>
            <a:ext cx="24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Věra &amp; Mi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TŘEDNÍ LÉ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20" y="11113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Tonda &amp; Růž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DEPRIVOVA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36840" y="527040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02e4c"/>
                </a:solidFill>
                <a:latin typeface="Arial Narrow"/>
              </a:rPr>
              <a:t>Aneta &amp; Ke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lang="cs-CZ" sz="1400" spc="-1" strike="noStrike">
                <a:solidFill>
                  <a:srgbClr val="ff3300"/>
                </a:solidFill>
                <a:latin typeface="Arial Narrow"/>
              </a:rPr>
              <a:t>MLADÍ A NEKLID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765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Marcela &amp; Jiř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DUC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60684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Ludmila &amp; Ka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EBEVĚDOM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83808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Roman &amp; Jiř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NEKVALIFIKOVANÍ LID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914480" y="909720"/>
            <a:ext cx="1036800" cy="7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774960" y="1663560"/>
            <a:ext cx="78120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14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6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7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1790640"/>
            <a:ext cx="7808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0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3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56400" y="2502000"/>
            <a:ext cx="7808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1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3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9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3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78280" y="402588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2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8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5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81320" y="394956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37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12880" y="4229280"/>
            <a:ext cx="755640" cy="10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254320" y="3454560"/>
            <a:ext cx="20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30 %</a:t>
            </a:r>
            <a:r>
              <a:rPr b="1" lang="en-US" sz="14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4 % </a:t>
            </a: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6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13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87480" y="2044800"/>
            <a:ext cx="781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28 %</a:t>
            </a:r>
            <a:br>
              <a:rPr sz="1600"/>
            </a:br>
            <a:r>
              <a:rPr b="1" lang="en-US" sz="1400" spc="-1" strike="noStrike">
                <a:solidFill>
                  <a:srgbClr val="ffff66"/>
                </a:solidFill>
                <a:latin typeface="Arial Narrow"/>
              </a:rPr>
              <a:t> 24 %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2 %</a:t>
            </a:r>
            <a:br>
              <a:rPr sz="1400"/>
            </a:br>
            <a:r>
              <a:rPr b="1" lang="en-US" sz="1400" spc="-1" strike="noStrike">
                <a:solidFill>
                  <a:srgbClr val="b6b3b2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00009a"/>
                </a:solidFill>
                <a:latin typeface="Arial Narrow"/>
              </a:rPr>
              <a:t>1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04120" y="4597560"/>
            <a:ext cx="1644480" cy="1736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XX %  kategorie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           energ. nápoj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66"/>
                </a:solidFill>
                <a:latin typeface="Arial Narrow"/>
              </a:rPr>
              <a:t>XX %  Red Bull</a:t>
            </a: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3300"/>
                </a:solidFill>
                <a:latin typeface="Arial Narrow"/>
              </a:rPr>
              <a:t>XX %  American B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b6b3b2"/>
                </a:solidFill>
                <a:latin typeface="Arial Narrow"/>
              </a:rPr>
              <a:t>XX % 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cc00"/>
                </a:solidFill>
                <a:latin typeface="Arial Narrow"/>
              </a:rPr>
              <a:t>XX %  Kamik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9a"/>
                </a:solidFill>
                <a:latin typeface="Arial Narrow"/>
              </a:rPr>
              <a:t>XX %  Sem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XX %  Podíl skupiny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v  popula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5683-2610-4D8F-BCFB-2344B243BF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190520"/>
          <a:ext cx="8564400" cy="4326120"/>
        </p:xfrm>
        <a:graphic>
          <a:graphicData uri="http://schemas.openxmlformats.org/drawingml/2006/table">
            <a:tbl>
              <a:tblPr/>
              <a:tblGrid>
                <a:gridCol w="2450880"/>
                <a:gridCol w="952560"/>
                <a:gridCol w="978120"/>
                <a:gridCol w="990360"/>
                <a:gridCol w="1054080"/>
                <a:gridCol w="1079640"/>
                <a:gridCol w="1058760"/>
              </a:tblGrid>
              <a:tr h="437400">
                <a:tc gridSpan="3"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enároční škudlilové</a:t>
                      </a:r>
                      <a:r>
                        <a:rPr b="1" lang="en-US" sz="1200" spc="-1" strike="noStrike" baseline="30000">
                          <a:solidFill>
                            <a:srgbClr val="233253"/>
                          </a:solidFill>
                          <a:latin typeface="Tahoma"/>
                        </a:rPr>
                        <a:t>*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akupují Impulsivn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slouchají 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žadují kvali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Tonda &amp; Růže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EPRIVOV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17 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Roman &amp; Jiř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NEKVALIFIKOVANÍ LID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065 3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lára &amp; Rich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KONZERVATIV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,3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02 5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ěra &amp; Mi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TŘEDNÍ LÉ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917 5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neta &amp; Kev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A NEKLID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8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306 7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Ludmila &amp; Kar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EBEVĚDOM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6 4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rcela &amp; Jiř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DUCH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16 1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0600">
                <a:tc>
                  <a:txBody>
                    <a:bodyPr lIns="0" rIns="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 102 096</a:t>
                      </a:r>
                      <a:r>
                        <a:rPr b="0" lang="en-US" sz="1500" spc="-1" strike="noStrike" baseline="30000">
                          <a:solidFill>
                            <a:srgbClr val="292929"/>
                          </a:solidFill>
                          <a:latin typeface="Tahoma"/>
                        </a:rPr>
                        <a:t>*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529920" y="5711760"/>
            <a:ext cx="610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  Populace 16 až 64 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* Podíl lidí s touto charakteristikou v daném segmentu popul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BEC7-0661-437F-A5F3-56BD3276E4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č segmentaci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595440" y="1116000"/>
            <a:ext cx="801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dnešních trzích jsou dva protikladné tren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hy se stávaj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ovými a globální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unifikace služeb a zboží na globální úrovni (ztráta regionálních rozdíl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etlak na trhu, převis nabídky nad poptávkou vede ke stále vetší potřebě cílit 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ší a menší cílové skupi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např. homosexuálov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0120" y="5494320"/>
            <a:ext cx="45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třeb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SEGMEN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191120"/>
            <a:ext cx="609840" cy="12189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A689-6A57-4618-9048-77F6F00BB1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 popul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95440" y="1116000"/>
            <a:ext cx="816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arketéři (typicky firmy FMCG nebo služeb) si uvědomili, že své unifikované a masově vyráběné výrobky prodávají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ŮZNÝ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zákazníkům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305080"/>
            <a:ext cx="2667240" cy="199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91120" y="2011320"/>
            <a:ext cx="973080" cy="163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3774960"/>
            <a:ext cx="2301840" cy="18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91120" y="4626000"/>
            <a:ext cx="1805040" cy="146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052960" y="2357280"/>
            <a:ext cx="10875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rcRect l="12432" t="16675" r="12432" b="16675"/>
          <a:stretch/>
        </p:blipFill>
        <p:spPr>
          <a:xfrm>
            <a:off x="6843600" y="1828800"/>
            <a:ext cx="1289160" cy="189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500960" y="3470400"/>
            <a:ext cx="133812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8037360" y="2168640"/>
            <a:ext cx="103032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5659560" y="3098880"/>
            <a:ext cx="2112840" cy="1542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1000000">
            <a:off x="3580920" y="281916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5440" y="4724280"/>
            <a:ext cx="34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že zákazníci kupují stejné věci z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ůzných důvod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CB8B-2E6C-459C-9477-94271A26FD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7040" y="2954160"/>
            <a:ext cx="46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Jak se to dělá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291A-9BDD-44BB-BFC2-1BC71B2D7A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ruhy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1192320"/>
            <a:ext cx="801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haviorální (na základě ch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sage, struktura spotře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oj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emograf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ložená na hodnotě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+ kombinace výše zmíněných (multidimenzion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8228-07A2-4770-A3AB-BD014DC61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íle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595440" y="1192320"/>
            <a:ext cx="8243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RM (Customer Relationship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 zefektivnění direct market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rčení hodnoty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edikce budoucího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ubší poznání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kvizice zákazníků, cross-sellu, up-sellu, r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E8F9-3F35-4D89-96A9-F11E486740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Z čeho se segmentace dělaj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95440" y="1192320"/>
            <a:ext cx="824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ejní a CRM databá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zkumy (postojové segm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grafická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10F9-D5B8-4CAA-8AD0-9C4C74C73B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dejní a CRM databáz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95440" y="1192320"/>
            <a:ext cx="824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kud jsou databáze v dobrém stavu, jde o nejlepší zdroj d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znamenávají reálné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ořenou segmentaci lze použít přímo v komunikaci se zákaz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víme, proč se lidé chovají, tak jak se chovají (lidé nakupují stejné věci z různých důvodů – 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např. tarif Home Mini mohou lidé mít ze stovky důvodů a mnoha způsoby jej využíva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AF6A-DA82-4D0B-AEBD-38B3BCA59A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2:08Z</dcterms:modified>
  <cp:revision>102</cp:revision>
  <dc:subject/>
  <dc:title>Snímek 1</dc:title>
</cp:coreProperties>
</file>