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CB13-2299-49B4-ADAE-A356095B1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BE49-5604-4192-A002-DC00876B6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C9A7-B08A-47C0-8E8A-BFFCF2BF8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4745-9098-4672-8A4D-78C7987F2C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21F3-64BE-436A-AD77-D2EB9B3B55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1310-F61C-41E5-978D-4BE8E4606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3D0B-49C9-4314-8D8C-CAA01C933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30D3-6F5C-46E4-8CBF-AB45B8426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86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85F95-BD53-455A-A3A9-07142620A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996E-A17D-41B4-9540-375238CAF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B073-6DCA-402F-92A4-AAAF34CEE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8632A-933E-4AF6-BD38-DFEC63559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066000"/>
            <a:ext cx="72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4360" y="6265440"/>
            <a:ext cx="57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EC23-79F6-4E3E-BDC4-75CD4728EDCA}" type="slidenum">
              <a:rPr b="1" lang="cs-CZ" sz="2400" spc="-1" strike="noStrike">
                <a:solidFill>
                  <a:srgbClr val="ff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4880" y="633096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Základy marketingového výzk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3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egmentace, typologi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573F6-DF3D-43B6-9EE2-CC6768DAED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ata z výzkumů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595440" y="1192320"/>
            <a:ext cx="82436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užívají se pro „ad-hoc“ typ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ako doplněk databází (přidávají dimenzi „proč“ a postoje, které nejsou součástí databáz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amostatné, otestované segmentační nástroje, sloužící k analýze spektra spotřebitelů kli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D1D3-9B65-443B-B448-9FD55E3035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emografická dat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595440" y="1192320"/>
            <a:ext cx="8243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 nás založena na zdrojích z Českého statistického úř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dklady pro demografickou typ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žnost definování absolutních počtů cílových skupin, výpočet potenciálu, ap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FEA8-CC20-4115-AF2B-B1A6985BD9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4320" y="2971800"/>
            <a:ext cx="201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toneSanItcTEEMed"/>
              </a:rPr>
              <a:t>Prax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A4844-4410-4EFD-8153-BC5B65FF35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užití behaviorálních segmentací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595440" y="1066680"/>
            <a:ext cx="82436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 C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edikujeme budoucí chová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na základě toho minul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Cílení komunikac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(oslovujeme jenom někter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tváření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abídek na míru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podle známých potřeb a očekávání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se stále doplňuje a mění (nové znalosti o segmentech lidí (např. o response rate v minulé kampani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ypicky je používají firmy, které se zákazníky přicházejí pravidelně do styku: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elefonní operátory, kabelové televize, bank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910E-87CD-4414-8DD3-8031604C6B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užití postojových segmentací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595440" y="1192320"/>
            <a:ext cx="8396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Často se používají „brandované“ nástroje agent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nalýza složení stávajících zákazníků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=&gt; určení nového cílení, počtu rizikových zákazníků, hodnoty nových, srovnání s konkurencí, nalezení nových cílových skupin,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ako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doplněk stávající CRM segmentac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(postojová složka,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ástroj, jak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oznat svoje zákazník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jaké mají životní strategie, priority, cíle, jak žijí, jak se chovají, za co utrácejí,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de samozřejmě do jisté míry o módní záležit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26DF-C9D9-4C8A-8F3D-D9CF3821C8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esatero pro praxi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595440" y="914400"/>
            <a:ext cx="82436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ení krátkodobý projekt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je to způsob, kterým by se mělo řídit podnikání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brá segmentace komunikuje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omocí ATL i BTL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(komunikace vůči zákazníkům by měla být ve všech kanálech konzistent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by měla vodítkem pro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kvizici, obchodní cílení a retenci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měla by managementu „říkat na koho a čím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Čím je kontakt se zákazníky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ěsnějš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tím více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ehaviorál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by segmentace měla bý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by měla zahrnovat i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hodnotu zákazníka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identifikovat ty nejlepší zákazní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DC10-9754-48AC-871D-776A588F8A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esatero pro praxi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595440" y="914400"/>
            <a:ext cx="82436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lastností lidí jsou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ícedimenzionáln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egmentace by měla zákazníky popisovat ve více rovinách (hodnoty, potřeby, životní styl,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 mnohem jednodušší segmentaci vymyslet, než ji potom zavést a dlouhodobě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stematicky použí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ce by měla být vytvořen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 míru konkrétní firmě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andardizované nástroje nemusí vždy fung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ce by měla bý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 nejjednodušš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nadno uchopitelná a pochopitelná a zároveň nést co nejmenší redukcí re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ždá segmentace se (paradoxně:-) týk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d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měla by proto reagovat na potřeby lidí nikoliv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36A7-BA05-4CBC-8A14-F9F79F854F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tody založení segment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atabáze (tvrdá data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ýzkum (měkká data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Clusterová analýza (nalezení podobných respondentů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Faktorová analýz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eritorní a manažerská rozhodnut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ropojování segmentací, mikrosegment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1897-4486-429E-8833-BFA3718145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kázk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5A3D-3E8F-42E8-93AB-68A1523192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kázk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85560" y="2971800"/>
            <a:ext cx="632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StoneSanItcTEEMed"/>
              </a:rPr>
              <a:t>AISA &amp; Leo Burne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1777-1AB5-4F1F-9399-6DD0B434B7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řehled lek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roč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etodologi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ednotlivé nástroje, ukázk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6897-9FF8-458C-B6AD-FB32A89783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kázk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10040" y="2971800"/>
            <a:ext cx="589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StoneSanItcTEEMed"/>
              </a:rPr>
              <a:t>Tambor typolog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B19E-BCAE-43DC-849D-6CC1DEAE79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7948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5520"/>
          </a:xfrm>
          <a:prstGeom prst="rect">
            <a:avLst/>
          </a:prstGeom>
          <a:solidFill>
            <a:srgbClr val="233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AMBOR TYPOLOGIE</a:t>
            </a:r>
            <a:br>
              <a:rPr sz="2800"/>
            </a:b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SEGMENTACE POPULACE 16 – 64 LET</a:t>
            </a:r>
            <a:endParaRPr b="0" lang="en-US" sz="18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31840" y="1295280"/>
          <a:ext cx="696744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295280"/>
                    <a:ext cx="69674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488360" y="3486240"/>
            <a:ext cx="695160" cy="92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00720" y="5516640"/>
            <a:ext cx="930240" cy="67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5"/>
          <a:srcRect l="0" t="8338" r="10987" b="0"/>
          <a:stretch/>
        </p:blipFill>
        <p:spPr>
          <a:xfrm>
            <a:off x="1130400" y="2340000"/>
            <a:ext cx="772920" cy="104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6578640" y="1409760"/>
            <a:ext cx="1020600" cy="76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835280" y="5805360"/>
            <a:ext cx="1098360" cy="73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883560" y="281952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Klára &amp; Rich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MLADÍ KONZERVATIV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32320" y="5765760"/>
            <a:ext cx="245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Věra &amp; Mi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STŘEDNÍ LÉ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520" y="111132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Tonda &amp; Růže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DEPRIVOVA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36840" y="527040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02e4c"/>
                </a:solidFill>
                <a:latin typeface="Arial Narrow"/>
              </a:rPr>
              <a:t>Aneta &amp; Kev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3300"/>
                </a:solidFill>
                <a:latin typeface="Arial Narrow"/>
              </a:rPr>
              <a:t> </a:t>
            </a:r>
            <a:r>
              <a:rPr b="1" lang="cs-CZ" sz="1400" spc="-1" strike="noStrike">
                <a:solidFill>
                  <a:srgbClr val="ff3300"/>
                </a:solidFill>
                <a:latin typeface="Arial Narrow"/>
              </a:rPr>
              <a:t>MLADÍ A NEKLID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7840" y="176544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Marcela &amp; Jiř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MLADÍ DUC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60684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Ludmila &amp; Ka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SEBEVĚDOM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35640" y="83808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Roman &amp; Jiři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NEKVALIFIKOVANÍ LID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1914480" y="909720"/>
            <a:ext cx="1036800" cy="76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3774960" y="1663560"/>
            <a:ext cx="78120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14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12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1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1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6 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7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64160" y="1790640"/>
            <a:ext cx="78084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27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20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3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7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7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56400" y="2502000"/>
            <a:ext cx="78084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41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32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5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4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9 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32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78280" y="4025880"/>
            <a:ext cx="7812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22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18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4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5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5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14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81320" y="3949560"/>
            <a:ext cx="7812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47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37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4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11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7 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29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12880" y="4229280"/>
            <a:ext cx="755640" cy="105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2254320" y="3454560"/>
            <a:ext cx="20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30 %</a:t>
            </a:r>
            <a:r>
              <a:rPr b="1" lang="en-US" sz="1400" spc="-1" strike="noStrike">
                <a:solidFill>
                  <a:srgbClr val="ff66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24 % </a:t>
            </a: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4%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6 %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13 %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87480" y="2044800"/>
            <a:ext cx="781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28 %</a:t>
            </a:r>
            <a:br>
              <a:rPr sz="1600"/>
            </a:br>
            <a:r>
              <a:rPr b="1" lang="en-US" sz="1400" spc="-1" strike="noStrike">
                <a:solidFill>
                  <a:srgbClr val="ffff66"/>
                </a:solidFill>
                <a:latin typeface="Arial Narrow"/>
              </a:rPr>
              <a:t> 24 %</a:t>
            </a:r>
            <a:br>
              <a:rPr sz="1400"/>
            </a:b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2 %</a:t>
            </a:r>
            <a:br>
              <a:rPr sz="1400"/>
            </a:br>
            <a:r>
              <a:rPr b="1" lang="en-US" sz="1400" spc="-1" strike="noStrike">
                <a:solidFill>
                  <a:srgbClr val="b6b3b2"/>
                </a:solidFill>
                <a:latin typeface="Arial Narrow"/>
              </a:rPr>
              <a:t>8 %</a:t>
            </a:r>
            <a:br>
              <a:rPr sz="1400"/>
            </a:br>
            <a:r>
              <a:rPr b="1" lang="en-US" sz="1400" spc="-1" strike="noStrike">
                <a:solidFill>
                  <a:srgbClr val="99cc00"/>
                </a:solidFill>
                <a:latin typeface="Arial Narrow"/>
              </a:rPr>
              <a:t>8 %</a:t>
            </a:r>
            <a:br>
              <a:rPr sz="1400"/>
            </a:br>
            <a:r>
              <a:rPr b="1" lang="en-US" sz="1400" spc="-1" strike="noStrike">
                <a:solidFill>
                  <a:srgbClr val="00009a"/>
                </a:solidFill>
                <a:latin typeface="Arial Narrow"/>
              </a:rPr>
              <a:t>17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04120" y="4597560"/>
            <a:ext cx="1644480" cy="1736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 Narrow"/>
              </a:rPr>
              <a:t>XX %  kategorie 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 Narrow"/>
              </a:rPr>
              <a:t>           energ. nápoj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66"/>
                </a:solidFill>
                <a:latin typeface="Arial Narrow"/>
              </a:rPr>
              <a:t>XX %  Red Bull</a:t>
            </a: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3300"/>
                </a:solidFill>
                <a:latin typeface="Arial Narrow"/>
              </a:rPr>
              <a:t>XX %  American B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b6b3b2"/>
                </a:solidFill>
                <a:latin typeface="Arial Narrow"/>
              </a:rPr>
              <a:t>XX % 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99cc00"/>
                </a:solidFill>
                <a:latin typeface="Arial Narrow"/>
              </a:rPr>
              <a:t>XX %  Kamik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9a"/>
                </a:solidFill>
                <a:latin typeface="Arial Narrow"/>
              </a:rPr>
              <a:t>XX %  Semt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XX %  Podíl skupiny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           v  popula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A749-4E99-4065-88A4-16C4945300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2400"/>
          </a:xfrm>
          <a:prstGeom prst="rect">
            <a:avLst/>
          </a:prstGeom>
          <a:solidFill>
            <a:srgbClr val="233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AMBOR TYPOLOGIE</a:t>
            </a:r>
            <a:br>
              <a:rPr sz="2800"/>
            </a:b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SEGMENTACE POPULACE 16 – 64 LET</a:t>
            </a:r>
            <a:endParaRPr b="0" lang="en-US" sz="18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04920" y="1190520"/>
          <a:ext cx="8564400" cy="4326120"/>
        </p:xfrm>
        <a:graphic>
          <a:graphicData uri="http://schemas.openxmlformats.org/drawingml/2006/table">
            <a:tbl>
              <a:tblPr/>
              <a:tblGrid>
                <a:gridCol w="2450880"/>
                <a:gridCol w="952560"/>
                <a:gridCol w="978120"/>
                <a:gridCol w="990360"/>
                <a:gridCol w="1054080"/>
                <a:gridCol w="1079640"/>
                <a:gridCol w="1058760"/>
              </a:tblGrid>
              <a:tr h="437400">
                <a:tc gridSpan="3"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Nenároční škudlilové</a:t>
                      </a:r>
                      <a:r>
                        <a:rPr b="1" lang="en-US" sz="1200" spc="-1" strike="noStrike" baseline="30000">
                          <a:solidFill>
                            <a:srgbClr val="233253"/>
                          </a:solidFill>
                          <a:latin typeface="Tahoma"/>
                        </a:rPr>
                        <a:t>**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Nakupují Impulsivn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Poslouchají im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Požadují kvali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Tonda &amp; Růže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DEPRIVOVA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,1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17 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4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Roman &amp; Jiři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NEKVALIFIKOVANÍ LID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5,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 065 3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3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7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lára &amp; Rich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MLADÍ KONZERVATIV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,3 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02 5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9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Věra &amp; Mi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STŘEDNÍ LÉ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7,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 917 5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Aneta &amp; Kevi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MLADÍ A NEKLID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8,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 306 7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0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Ludmila &amp; Kar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SEBEVĚDOM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,3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76 4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Marcela &amp; Jiří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MLADÍ DUCH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,9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916 1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0600">
                <a:tc>
                  <a:txBody>
                    <a:bodyPr lIns="0" rIns="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 102 096</a:t>
                      </a:r>
                      <a:r>
                        <a:rPr b="0" lang="en-US" sz="1500" spc="-1" strike="noStrike" baseline="30000">
                          <a:solidFill>
                            <a:srgbClr val="292929"/>
                          </a:solidFill>
                          <a:latin typeface="Tahoma"/>
                        </a:rPr>
                        <a:t>*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9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2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3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529920" y="5711760"/>
            <a:ext cx="610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253"/>
                </a:solidFill>
                <a:latin typeface="Tahoma"/>
              </a:rPr>
              <a:t>*  Populace 16 až 64 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253"/>
                </a:solidFill>
                <a:latin typeface="Tahoma"/>
              </a:rPr>
              <a:t>** Podíl lidí s touto charakteristikou v daném segmentu popula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CD19-1577-4B5C-9017-4F0A994ADF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oč segmentaci?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595440" y="1116000"/>
            <a:ext cx="80150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 dnešních trzích jsou dva protikladné tren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hy se stávají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ovými a globálním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unifikace služeb a zboží na globální úrovni (ztráta regionálních rozdíl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etlak na trhu, převis nabídky nad poptávkou vede ke stále vetší potřebě cílit n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nší a menší cílové skupin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např. homosexuálov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90120" y="5494320"/>
            <a:ext cx="45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třeba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SEGMENT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4191120"/>
            <a:ext cx="609840" cy="121896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CA24-8B7F-4948-AED7-85167FE033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egmentace popul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595440" y="1116000"/>
            <a:ext cx="816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Marketéři (typicky firmy FMCG nebo služeb) si uvědomili, že své unifikované a masově vyráběné výrobky prodávají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RŮZNÝM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zákazníkům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2305080"/>
            <a:ext cx="2667240" cy="1996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91120" y="2011320"/>
            <a:ext cx="973080" cy="163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114800" y="3774960"/>
            <a:ext cx="2301840" cy="184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991120" y="4626000"/>
            <a:ext cx="1805040" cy="146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052960" y="2357280"/>
            <a:ext cx="108756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rcRect l="12432" t="16675" r="12432" b="16675"/>
          <a:stretch/>
        </p:blipFill>
        <p:spPr>
          <a:xfrm>
            <a:off x="6843600" y="1828800"/>
            <a:ext cx="1289160" cy="1892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7500960" y="3470400"/>
            <a:ext cx="1338120" cy="201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8037360" y="2168640"/>
            <a:ext cx="1030320" cy="1731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5659560" y="3098880"/>
            <a:ext cx="2112840" cy="1542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21000000">
            <a:off x="3580920" y="281916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5440" y="4724280"/>
            <a:ext cx="34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že zákazníci kupují stejné věci z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ůzných důvod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56BB-3B9F-494A-BE76-3345ACF33D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27040" y="2954160"/>
            <a:ext cx="46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Jak se to dělá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D607-A557-4A13-A7FB-C093371DD1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ruhy segment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595440" y="1192320"/>
            <a:ext cx="801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Behaviorální (na základě chov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Usage, struktura spotře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stoj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emograf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ložená na hodnotě zákaz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+ kombinace výše zmíněných (multidimenzionál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7676-7A78-41BD-B7E8-33C07F81B2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íle segment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595440" y="1192320"/>
            <a:ext cx="8243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RM (Customer Relationship Manag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pora a zefektivnění direct marketin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Určení hodnoty zákaz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edikce budoucího chování li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Hlubší poznání zákaz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pora akvizice zákazníků, cross-sellu, up-sellu, re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17A9-0D28-4B6B-8E80-37B69EA73E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Z čeho se segmentace dělají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595440" y="1192320"/>
            <a:ext cx="8243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ejní a CRM databá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ýzkumy (postojové segm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grafická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CB69-11C4-42D4-9FAA-65395F9ADF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odejní a CRM databáz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595440" y="1192320"/>
            <a:ext cx="82436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kud jsou databáze v dobrém stavu, jde o nejlepší zdroj d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znamenávají reálné chování li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tvořenou segmentaci lze použít přímo v komunikaci se zákazní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evíme, proč se lidé chovají, tak jak se chovají (lidé nakupují stejné věci z různých důvodů – 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např. tarif Home Mini mohou lidé mít ze stovky důvodů a mnoha způsoby jej využíva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857D-CF4B-4C9F-B48E-9A50165D6A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00:50Z</dcterms:created>
  <dc:creator>počitadlo</dc:creator>
  <dc:description/>
  <dc:language>en-US</dc:language>
  <cp:lastModifiedBy>user</cp:lastModifiedBy>
  <dcterms:modified xsi:type="dcterms:W3CDTF">2008-12-03T08:32:08Z</dcterms:modified>
  <cp:revision>102</cp:revision>
  <dc:subject/>
  <dc:title>Snímek 1</dc:title>
</cp:coreProperties>
</file>