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F5D7-58E6-4ED4-8220-B1CCAEE8F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DF08-5DD0-4516-B2F3-B1E7C1F18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02CE-4B75-4334-BCA1-B9799E514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A254-09FE-4A2A-9CAD-8696978574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25FA-67EE-41C9-8F9A-816EC44238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6EAA-B1CB-4670-89D9-BDCCF0FD3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C4E8-7BF3-404D-98EC-B53F62147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7C14-0924-4E44-B3B1-C0AB3319C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86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4254-25A3-46E6-8A1A-85E9C47B2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60C4-73C7-4AEF-ADDD-3915E2C20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D36D-F8E2-44A4-AB2A-1576A58C0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2320-6BF9-4AD2-A84B-2D1F2440F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066000"/>
            <a:ext cx="72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4360" y="6265440"/>
            <a:ext cx="57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8E34-272B-4E95-A690-9565638C84F5}" type="slidenum">
              <a:rPr b="1" lang="en-US" sz="2400" spc="-1" strike="noStrike">
                <a:solidFill>
                  <a:srgbClr val="ff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4880" y="633096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Základy marketingového výzk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enové test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8CC9-D959-4AE5-BBA3-04F389D2B0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5680" y="170028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70028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33AF-3658-4B18-B2BD-67B548AD72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2444" t="3792" r="1691" b="3792"/>
          <a:stretch/>
        </p:blipFill>
        <p:spPr>
          <a:xfrm>
            <a:off x="324000" y="1197000"/>
            <a:ext cx="8515080" cy="488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8E7D-F50A-4581-8D71-97D00E8D7B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hody /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ednoduch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ožné začlenit prakticky do jakéhokoliv výzkum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Hypotetická situ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Izolované hodnocení jednoho výrobk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elze interpolov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mezený počet cenových hladin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9EA03-381E-42B9-8B05-F250D16B11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enová citlivos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Tahoma"/>
              </a:rPr>
              <a:t>Van Westendorp - price senzitivity meter - PSM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okládáme čtyři otázky: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4906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které by byl výrobek pro respondenta levný.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LEVNÝ)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které by byl výrobek tak levný, že by to vzbudilo pochybnosti o jeho kvalitě. 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PŘÍLIŠ LEVNÝ)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níž by byl výrobek pro respondenta již drahý. 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DRAHÝ)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níž by byl výrobek tak drahý, že by si ho respondent za žádnou cenu nekoupil.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PŘÍLIŠ DRAHÝ)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D8D9-81F3-42E7-8A27-1417B15C5E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04360" y="4492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12600" y="42624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85264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24360" y="691920"/>
            <a:ext cx="9349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258840"/>
            <a:ext cx="403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utrální cena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jběžnější cena na trhu, někdy to bývá medián ceny nebo cena dominantního výro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720" y="25178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FFB7-CE4C-4C05-BB97-34063845BF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83680" y="40053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64120" y="371628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5157720"/>
            <a:ext cx="3585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635280" y="1717200"/>
            <a:ext cx="1152720" cy="34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981000"/>
            <a:ext cx="403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timální cena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jčastěji doporučená cena. Cena proti které je na trhu nejméně námit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34880" y="486576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AAB4C-9842-425C-AECA-1504045A61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78960" y="30621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84840" y="342900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1080" y="522936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981000"/>
            <a:ext cx="403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val nejlepší ceny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mozřejmě čím větší je, tím větší má výrobce prostor pro stanovení ce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292428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59244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5128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24880" y="47959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72600" y="4662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780000" y="148428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720" y="25178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4880" y="494676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3BFD-DD82-4AC0-860D-07CAB42579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78960" y="30621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84840" y="342900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1080" y="522936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60280"/>
            <a:ext cx="403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od marginální levnosti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(Point of Marginal Cheap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292428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59244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85128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24880" y="47959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72600" y="4662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626920" y="692280"/>
            <a:ext cx="576360" cy="38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720" y="25178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26960" y="494172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7280" y="2684520"/>
            <a:ext cx="0" cy="2881080"/>
          </a:xfrm>
          <a:prstGeom prst="line">
            <a:avLst/>
          </a:prstGeom>
          <a:ln w="34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7600" y="407664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69720" y="414972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0000" y="2690640"/>
            <a:ext cx="0" cy="2881440"/>
          </a:xfrm>
          <a:prstGeom prst="line">
            <a:avLst/>
          </a:prstGeom>
          <a:ln w="34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1052640"/>
            <a:ext cx="403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od marginální drahosti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(Point of Marginal Expensive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08720" y="1844640"/>
            <a:ext cx="107928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7080" y="429264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458136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199400">
            <a:off x="3992400" y="1051920"/>
            <a:ext cx="219240" cy="2952720"/>
          </a:xfrm>
          <a:custGeom>
            <a:avLst/>
            <a:gdLst>
              <a:gd name="textAreaLeft" fmla="*/ 0 w 219240"/>
              <a:gd name="textAreaRight" fmla="*/ 79200 w 21924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5280" y="198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zsah akceptovatelné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C999-9989-4A56-A3C4-9C1BEB4129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hody /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pět velmi jednoduché a pochopiteln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nadno integrovatelné do většiny výzkum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espondent musí znát ceny v daném segment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ebere v potaz ostatní výrobky (pouze nepřímo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B07B-C713-427C-9268-89181637CF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BPTO - Brand-Price-Trade-Off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2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Princip „spotřebitelské hry“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Respondent musí znát výrobky a jejich ceny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Vycházíme z reálných cen, ze kterých vytvoříme několik cenových hladin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Bere v potaz konkurenční prostřed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26920" y="3759120"/>
          <a:ext cx="2016000" cy="2262240"/>
        </p:xfrm>
        <a:graphic>
          <a:graphicData uri="http://schemas.openxmlformats.org/drawingml/2006/table">
            <a:tbl>
              <a:tblPr/>
              <a:tblGrid>
                <a:gridCol w="1257120"/>
                <a:gridCol w="75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epsi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f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žá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564000" y="3759120"/>
          <a:ext cx="2171520" cy="2219400"/>
        </p:xfrm>
        <a:graphic>
          <a:graphicData uri="http://schemas.openxmlformats.org/drawingml/2006/table">
            <a:tbl>
              <a:tblPr/>
              <a:tblGrid>
                <a:gridCol w="1271520"/>
                <a:gridCol w="90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epsi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f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žá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908000" y="5272200"/>
            <a:ext cx="1008360" cy="3585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54878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504120" y="3772080"/>
          <a:ext cx="2171520" cy="2219040"/>
        </p:xfrm>
        <a:graphic>
          <a:graphicData uri="http://schemas.openxmlformats.org/drawingml/2006/table">
            <a:tbl>
              <a:tblPr/>
              <a:tblGrid>
                <a:gridCol w="1271520"/>
                <a:gridCol w="90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epsi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f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žá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796000" y="46958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07000" y="4518000"/>
            <a:ext cx="100800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B009-C968-433B-9B97-5EF2D25EB2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řehled lek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Základní pojm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etod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ýstup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C1FA-CA66-44E1-A16E-83DE090DA6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PTO - 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96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díly prvních výběrů značek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ěrnost znač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enové prah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díly na trhu v závislosti na ceně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řechod od jedné značky ke druhé v závislosti na ceně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Reakce na změnu cen u konkuren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ropojíme-li s odhadem nakupovaného množství za danou cenu, lze odhadnout i objem prodej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mulace chování lidí (změny DPH, zdražení, atd.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1E22-19FA-4063-A842-B790A6B4FB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PTO -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elké vzorky (nákladné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utnost provádět samostatně (nelze začlenit do jiného výzkumu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louhé, pracné a komplikované dotazová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Riziko „odhalení hry“ respondentem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870C-B865-4250-9EFF-01FA76082F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Conjoint analýza (preferenční analýza)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 ceně přidáváme i parametry výrobku / služby / tarif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užíváme zejména před uvedením na tr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ýstupem je komplexní pohled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ptimální kombinace ceny a parametr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ůležitost jednotlivých vlastnost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ptimální složení výrobk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4333-7C08-4122-8209-3962EB46AF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Conjoint analýz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71520" y="978480"/>
            <a:ext cx="45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arif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minut: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SMS: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vedení volných minut: 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ena: 13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9880" y="3164400"/>
            <a:ext cx="429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arif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minut: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SMS: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vedení volných minut: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ena: 1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7BF5-DBA8-48B7-B866-1E0976CC8E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Conjoint analýza –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rah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ložité na pochopení, analyzování a vysvětle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yžaduje velké know-how agentur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otazovací softwar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Zkušené tazatele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B160-174C-4F1E-BDFD-ECC8F9B559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Nabídka a poptávk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02600" y="5589000"/>
            <a:ext cx="89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konalá konkurence: firmy maximalizují ZISK, spotřebitelé maximalizují UŽI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4896000" cy="4268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34800" y="11970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3960" y="50133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ož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68B2-2543-475A-95C0-4876EADC3E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rčení cen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ákladová cena – analýza nákladů, daní, apod.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onkurenční – monitoring trh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ptávková - výzkum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umpingová – monitoring trh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FA12-9AC1-43FF-972B-2ED88DF5A8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08080" y="0"/>
            <a:ext cx="5127840" cy="623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9AEC-1ADE-4838-A1B1-509AEA8627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 nás zajímá?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akou určit cenovou strategii?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ptimální cen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zv. cenové prah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ak by se trh vyvíjel po příp. zdraže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BE8F-CD0B-4DBA-8ED0-130004E0F0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t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čekávaná cen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avděpodobnost koupě“ (Gabor Granger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enová citlivost“ (Van Westendorp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BPTO (Brand-Price-Trade-Off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onjoint analýz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1085-7915-479C-B659-F468867ABA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Očekávaná cen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ro jednoduchou orientaci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etailně představíme respondentovi výrobek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a pokládáme otázku: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JAKÁ BY BYLA OČEKÁVANÁ CENA, TOHOTO VÝROBKU?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4503-E778-4E65-ACD3-1692F5B1C6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avděpodobnost koupě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Gabor-Granger – GG - Purchase intention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0. léta 20. stolet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23508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upil/a byste si výrobek v testované chuti a oba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 cenu 27,90 K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jedno 140g bal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328608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upil/a byste si výrobek v testované chuti a oba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 cenu 23,90 K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jedno 140g bal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42224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upil/a byste si výrobek v testované chuti a oba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 cenu 20,90 K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jedno 140g bal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A3FF-A136-4EE5-A4F9-B56163BF0E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00:50Z</dcterms:created>
  <dc:creator>počitadlo</dc:creator>
  <dc:description/>
  <dc:language>en-US</dc:language>
  <cp:lastModifiedBy>user</cp:lastModifiedBy>
  <dcterms:modified xsi:type="dcterms:W3CDTF">2008-12-03T08:31:56Z</dcterms:modified>
  <cp:revision>132</cp:revision>
  <dc:subject/>
  <dc:title>Snímek 1</dc:title>
</cp:coreProperties>
</file>