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67F5-E638-422F-84EF-5D118BE40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6207-8B73-49AD-BE17-50C67F1B5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EEC0-1811-48DC-B573-0EDFA74CB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D07B-1824-4DF7-A385-AFEE934C3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2130-C8E2-4B1A-A624-7105B55D8C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40FE-3277-4CD7-BE2C-3C6E3CFE1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27AC-D74C-4191-8260-2B94A426B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45BA-8DBA-4594-B2A6-7CF94D77C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CAD7-C021-481D-AD38-D40E61AEE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2526-EFC2-48A8-9B41-F5CA9E0DC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6A12-45BA-4CFD-B3A7-F62464234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2075-63B5-4909-9D88-41683168E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C02E-A954-4730-ABBF-5C83CA4FCD08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é test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D4C8-C363-4B81-9407-629351FE2B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5680" y="17002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00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E610-E210-4836-99C5-0E38CE417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444" t="3792" r="1691" b="3792"/>
          <a:stretch/>
        </p:blipFill>
        <p:spPr>
          <a:xfrm>
            <a:off x="324000" y="1197000"/>
            <a:ext cx="851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2B8C-B58E-4433-BCC4-6FDBC317F6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duc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ožné začlenit prakticky do jakéhokoliv výzkum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Hypotetická situ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Izolované hodnocení jednoho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lze interpolov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mezený počet cenových hladi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6486-FC54-4EFD-B63D-027123471A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á citlivos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Tahoma"/>
              </a:rPr>
              <a:t>Van Westendorp - price senzitivity meter - PSM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kládáme čtyři otázky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pro respondenta levný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LEVNÝ)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tak levný, že by to vzbudilo pochybnosti o jeho kvalitě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LEVNÝ)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pro respondenta již drahý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DRAHÝ)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tak drahý, že by si ho respondent za žádnou cenu nekoupil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DRAHÝ)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91AF-09E2-46C2-BCA3-FD51E0F0FC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360" y="4492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2600" y="4262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85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691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5884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utr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běžnější cena na trhu, někdy to bývá medián ceny nebo cena dominantního výro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85B7-5CB7-444A-9C6C-54F95EDD23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83680" y="4005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4120" y="37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1577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35280" y="1717200"/>
            <a:ext cx="1152720" cy="34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častěji doporučená cena. Cena proti které je na trhu nejméně námi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4865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5B83-BBC1-40D3-A5AF-B8218B1515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val nejlepší cen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zřejmě čím větší je, tím větší má výrobce prostor pro stanovení c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80000" y="148428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4880" y="4946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D230-3CFD-4CD8-84D1-EA9CD82C6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levn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Cheap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26920" y="692280"/>
            <a:ext cx="57636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6960" y="49417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684520"/>
            <a:ext cx="0" cy="288108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0" y="40766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69720" y="414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690640"/>
            <a:ext cx="0" cy="288144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05264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drah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Expensive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1844640"/>
            <a:ext cx="1079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429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81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199400">
            <a:off x="3992400" y="1051920"/>
            <a:ext cx="219240" cy="2952720"/>
          </a:xfrm>
          <a:custGeom>
            <a:avLst/>
            <a:gdLst>
              <a:gd name="textAreaLeft" fmla="*/ 0 w 219240"/>
              <a:gd name="textAreaRight" fmla="*/ 79200 w 2192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zsah akceptovateln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A975-6F8A-495F-803B-3B3930FCD4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pět velmi jednoduché a pochopiteln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nadno integrovatelné do většiny výzkum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spondent musí znát ceny v daném segmen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bere v potaz ostatní výrobky (pouze nepřím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B37B-34B6-4673-BE92-67F3394BCD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BPTO - Brand-Price-Trade-Off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Princip „spotřebitelské hry“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spondent musí znát výrobky a jejich ceny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Vycházíme z reálných cen, ze kterých vytvoříme několik cenových hladin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ere v potaz konkurenční prostřed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3759120"/>
          <a:ext cx="2016000" cy="2262240"/>
        </p:xfrm>
        <a:graphic>
          <a:graphicData uri="http://schemas.openxmlformats.org/drawingml/2006/table">
            <a:tbl>
              <a:tblPr/>
              <a:tblGrid>
                <a:gridCol w="1257120"/>
                <a:gridCol w="75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64000" y="3759120"/>
          <a:ext cx="2171520" cy="221940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908000" y="5272200"/>
            <a:ext cx="1008360" cy="3585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487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504120" y="3772080"/>
          <a:ext cx="2171520" cy="221904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79600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4518000"/>
            <a:ext cx="100800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9026-7997-4D2E-8CC4-713381F4F1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kladní pojm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0455-538C-4D0B-8035-DBDB1DB57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prvních výběrů znač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ěrnost znač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na trhu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echod od jedné značky ke druhé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eakce na změnu cen u konkuren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pojíme-li s odhadem nakupovaného množství za danou cenu, lze odhadnout i objem prode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mulace chování lidí (změny DPH, zdražení, atd.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47CF-28B0-4D30-94A0-EF3777B39A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elké vzorky (nákladné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utnost provádět samostatně (nelze začlenit do jiného výzkumu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louhé, pracné a komplikované 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iziko „odhalení hry“ respondente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DEC6-ED0A-4A91-BB94-9C2898BDAE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(preferenční analýza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 ceně přidáváme i parametry výrobku / služby / tarif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užíváme zejména před uvedením na tr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em je komplexní pohled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kombinace ceny a parametr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ůležitost jednotlivých vlastnos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složení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CC98-80BC-47E6-BBA2-C20C3EC5E8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71520" y="978480"/>
            <a:ext cx="45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3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" y="3164400"/>
            <a:ext cx="42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40CB-34F8-42FD-8FA7-E0155C0A85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–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a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ložité na pochopení, analyzování a vysvětl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yžaduje velké know-how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tazovací softw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kušené tazatele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6259-7044-4BFD-B2C1-3EA2D93687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abídka a poptávk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2600" y="5589000"/>
            <a:ext cx="89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konalá konkurence: firmy maximalizují ZISK, spotřebitelé maximalizují UŽI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96000" cy="426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34800" y="119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3960" y="5013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DCD2-E86B-4D4F-8911-3A4C82453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rčení cen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ákladová cena – analýza nákladů, daní, apod.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nkurenční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ptávková - výzku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umpingová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9D7E-BA00-46B9-A201-E29BDE256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6517-25B0-4C60-974D-FE901C55F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nás zajímá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ou určit cenovou strategii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zv. 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 by se trh vyvíjel po příp. zdraž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1FDF-9268-4AD5-A705-B801FBC5EC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čekávaná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děpodobnost koupě“ (Gabor Grang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ová citlivost“ (Van Westendor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PTO (Brand-Price-Trade-Off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onjoint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B0F0-F6D3-41F4-9E66-FBD10E05D1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čekávaná cen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 jednoduchou orienta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etailně představíme respondentovi výrob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a pokládáme otázku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JAKÁ BY BYLA OČEKÁVANÁ CENA, TOHOTO VÝROBKU?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427A-384F-49C5-86B5-6746C7072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avděpodobnost koupě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abor-Granger – GG - Purchase intention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0. léta 20. stole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350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7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860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3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2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0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4BFC-AA8C-451B-9CB5-EB5B60AD34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1:56Z</dcterms:modified>
  <cp:revision>132</cp:revision>
  <dc:subject/>
  <dc:title>Snímek 1</dc:title>
</cp:coreProperties>
</file>