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BB390-20DE-4589-A4EE-0D83D99B0B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95A82-BB81-4A75-BD14-937D838FC9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6FFDB-3A15-4EDE-A101-823030259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5B1D1-6683-44F0-AA75-512EEB0913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40FF4-881C-4D26-97AB-50BDCD3F3A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3914-D273-4271-AE91-3083F0CA9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7DA38-5733-4D59-81A0-2B5D96524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3A050-C905-477A-9330-38F5B5767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86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F461-12AA-48BE-8B27-FF8247C98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0EF92-4FC3-456D-9628-CDBF417FEF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08B4-5C40-4735-9918-0B05B1D69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3693-1AC8-4D76-89B6-6E935639B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611280" y="6066000"/>
            <a:ext cx="72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4360" y="6265440"/>
            <a:ext cx="57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A52B-D4C7-4193-88C4-D6FC0E11A317}" type="slidenum">
              <a:rPr b="1" lang="en-US" sz="2400" spc="-1" strike="noStrike">
                <a:solidFill>
                  <a:srgbClr val="ff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74880" y="633096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Základy marketingového výzku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to.cz/ftp/top20.csv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2D868-6C31-40F9-A409-80CF1ACC58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ojm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GRP – Gross Rating Points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1 point = 1 % obecné koupěschopné cílové populace (15+)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používá se pro výpočet ceny spotu 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TV stanice prodávají GRP 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v Česku 1 bod za 22000 Kč = 85 000 diváků 15+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TRP – Target Rating Points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GRP na konkrétní cílové skupině (ženy 25-30, rozvedené, s jedním dítětem a nakupující 1x denně)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v praxi se GRP a TRP často nerozlišují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66872-CFD4-4FCD-ADC9-EF5575124A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ojm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OTH/OTS – Opportunity To Hear/See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Kolikrát měl člověk v cílové skupině možnost vidět/slyšet reklamní sdělení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OTS = TRPs/Net reach 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ROI - Return on Investment 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Kolik přinese každá investovaná jednotka </a:t>
            </a:r>
            <a:r>
              <a:rPr b="0" i="1" lang="cs-CZ" sz="1600" spc="-1" strike="noStrike">
                <a:solidFill>
                  <a:srgbClr val="000000"/>
                </a:solidFill>
                <a:latin typeface="Tahoma"/>
              </a:rPr>
              <a:t>(%, Kč, EUR)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Share of Voice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Podíl naší kampaně na reklamním trhu daného segmentu (GRP, odhad media spendů)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Důležitý ukazatel při plánování kampaní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Data sbírají specializované agentury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C3CEE-FA61-4174-9091-6154E84B5B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ATO (Asociace Televizních Organizací):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Česká televize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CET 21 spol.s r.o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FTV Prima spol. s r.o.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Asociace komunikačních agentur České republiky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Technicky realizuje Mediaresearch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www.ato.cz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B517-30C7-453F-835C-2E730693DC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Existuje od roku 1997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Již třetí vlna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d 04/2007 nový panel s 1600 domácnostmi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Panel je reprezentativní na domácnosti s TV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eprezentativita je kontrolována souběžným F2F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Kontrola „podezřelých“ respondent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nline přístup k datům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oční obměna 25 % panelu  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ruhá televizní domácnos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A6E7-30BE-4241-94A2-178826F1A5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00720" y="1052640"/>
            <a:ext cx="3809880" cy="2489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51280" y="4005360"/>
            <a:ext cx="4552920" cy="1657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4880" y="135720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enos dat pomocí 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5B90-8386-42AF-9A63-75D357247E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ating (sledovanost)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% cílové skupiny sledující pořad či kanál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Total rating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% cílové skupiny sledující  jakýkoliv kanál čili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TV přijímač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Shar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% podíl kanálu z Total rating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ATS – Average Time Spen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EF985-C7F8-43A7-806C-F8361B9F3F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344680" y="203040"/>
          <a:ext cx="6691320" cy="5818320"/>
        </p:xfrm>
        <a:graphic>
          <a:graphicData uri="http://schemas.openxmlformats.org/drawingml/2006/table">
            <a:tbl>
              <a:tblPr/>
              <a:tblGrid>
                <a:gridCol w="642960"/>
                <a:gridCol w="1452600"/>
                <a:gridCol w="347760"/>
                <a:gridCol w="571320"/>
                <a:gridCol w="919080"/>
                <a:gridCol w="919440"/>
                <a:gridCol w="919080"/>
                <a:gridCol w="919080"/>
              </a:tblGrid>
              <a:tr h="431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týden 2007 (12.11.- 18.11.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Poř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Progr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Kaná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Datu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Začáte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Kone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Sled.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49: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8: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8: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8: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6: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1: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7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2: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9: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4: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6: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9: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5: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1: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7: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-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inace v růžové zahrad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13: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:24: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-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as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7: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8: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1: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7: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inace v růžové zahrad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11: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:25: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etnické humoresk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T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0: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:28: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-1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jišťovna štěst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12: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:22: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-1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4: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0: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jišťovna štěst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13: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:24: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as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5: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6: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</a:tbl>
          </a:graphicData>
        </a:graphic>
      </p:graphicFrame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4800" y="709560"/>
            <a:ext cx="285480" cy="285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69960" y="98100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B8DE-8B4D-4C7D-AAD2-D528B2220E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Shar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68360" y="1341360"/>
          <a:ext cx="8228880" cy="4750200"/>
        </p:xfrm>
        <a:graphic>
          <a:graphicData uri="http://schemas.openxmlformats.org/drawingml/2006/table">
            <a:tbl>
              <a:tblPr/>
              <a:tblGrid>
                <a:gridCol w="2082960"/>
                <a:gridCol w="1191240"/>
                <a:gridCol w="1028880"/>
                <a:gridCol w="1191240"/>
                <a:gridCol w="1270440"/>
                <a:gridCol w="1464120"/>
              </a:tblGrid>
              <a:tr h="95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T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T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at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ěti 4 -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,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95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eny 15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,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95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ži 15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,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,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95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spělí 15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,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3378240" y="98064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6. týden 2007 (12.11.- 18.11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BAF58-AE7D-4964-BFA7-668992DA0F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ýhody a nevýhody TV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Vysoké náklady na spot, dlouhodobé plánování, přetlak inzerentů, monopol Primy a Novy (85 %)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TV je pasivní médium =&gt; obtížně zasáhnutelné „výnosné“ cílové skupiny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Dobré měření sledovanosti (dobré cílení), rychlý zásah, celoplošné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1BD94-949F-4E9F-863F-2FA87DD569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Radioprojek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iz externí prezenta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d roku 2006 došlo k oddělení od Mediaprojekt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Zlepšení reliability výsledků díky nové metodologii (CATI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Faktické problémy – je respondent schopen si pamatovat co, kdy a jak poslouchal?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ení možné sledovat „online“ vývoj pořadů (výsledky po Q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EC305-D396-418F-874F-354DABE91E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řehled lek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Komerční komunika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Metody měře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Jednotlivé nástroj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2D560-B567-4185-9047-62C6EA0FD4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Tištěná reklama – Mediaprojek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iz externí prezenta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ozlišuje čtenost od prodaného náklad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livy na inzerci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DD928-BC07-4E1B-853E-45932AACFB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Tištěná reklama – ABC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věřování nákladu média (vytištěného / prodaného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Předplatné + přímý prodej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věřování supplement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C497C-9A61-483D-A50D-C129DBF18A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08000" y="1197000"/>
          <a:ext cx="8989920" cy="4324320"/>
        </p:xfrm>
        <a:graphic>
          <a:graphicData uri="http://schemas.openxmlformats.org/drawingml/2006/table">
            <a:tbl>
              <a:tblPr/>
              <a:tblGrid>
                <a:gridCol w="2160360"/>
                <a:gridCol w="758880"/>
                <a:gridCol w="758880"/>
                <a:gridCol w="758880"/>
                <a:gridCol w="758880"/>
                <a:gridCol w="758880"/>
                <a:gridCol w="758880"/>
                <a:gridCol w="758520"/>
                <a:gridCol w="758880"/>
                <a:gridCol w="758880"/>
              </a:tblGrid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onděl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Úter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tře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Čtvrt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át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obo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Nedě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Denní průměr tištěný nákl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Denní průměr prodaný nákl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Blesk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Ringier ČR, a. s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41 2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73 8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53 3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35 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72 6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75 6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75 5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58 7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Deník / TV Magazín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br>
                        <a:rPr sz="1000"/>
                      </a:b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Vltava-Labe-Press, a. 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56 3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79 3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61 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50 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81 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4 0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96 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22 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Mladá fronta DNES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Mafra, a. s.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63 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46 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49 6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45 3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43 8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11 5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66 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93 4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rávo</a:t>
                      </a: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Borgis, a. s.</a:t>
                      </a: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11 8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8 2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30 9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8 6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9 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41 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04 8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51 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Aha! </a:t>
                      </a:r>
                      <a:r>
                        <a:rPr b="0" i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Erika, s.r.o.</a:t>
                      </a: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14 4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5 5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43 0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42 6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26 7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12 7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32 6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13 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25 4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port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Ringier ČR, a. s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98 4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7 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8 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85 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86 1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7 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11 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8 8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Šíp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Vltava-Labe-Press, a. s.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3 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1 7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5 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0 7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47 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4 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20 4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2 3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Lidové noviny</a:t>
                      </a: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Lidové noviny, a. s</a:t>
                      </a: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.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4 7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3 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3 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3 5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6 3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4 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3 6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5 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Hospodářské noviny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Economia, a. 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7 6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6 6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9 2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8 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5 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5 3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9 3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208440" y="404640"/>
            <a:ext cx="61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áří 2007 – prodaný / tištěný nák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EEAA8-0852-4600-BF8A-B400E03B8F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C109F-EB47-48A4-B9F6-D80E18EB97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A8A0B-1FF0-4D0E-895E-495550F2A53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27440" y="6093000"/>
            <a:ext cx="34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zn.: Právo má 40% SŠ a vyš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1B1CA-BCA8-4D96-B503-7538C6DE61F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C5750-E77A-4E49-B200-5CC563C046E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Mediální agentu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avrhují mediaplán a mediamix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ediamix: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televizní reklamy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rádiové reklamy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tiskové a internetové reklamy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outdoorová reklama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onitorují téměř všechna média v ČR (výstupem je např. share of voice nebo media spendy ostatních firem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7FB3F-331F-41B6-8A3E-1F7AA1D0D3B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odlinková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FA51-11AF-4DE4-BFA9-5EF72A084E3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odlinková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irect marketing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eklama v místě prodeje (POP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Sales promotion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Sampling (např. vzorky v novinách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atd.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DACD3-9674-40B8-9D98-45302D088BE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Komerční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B2C (Bussiness to Customer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B2B (Bussiness to Bussiness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adlinková komunikace, Above the Line (ATL), „nadlinka“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Podlinková komunikace, Below the Line, „podlinka“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irect marketing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ediální a reklamní agentur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97495-31A9-42B0-9371-810282A49F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odlinková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ěříme response rat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obré cílení na úzké cílové skupin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obré opory výběru (databáze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Experiment (kontrolní skupiny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ůže být velmi účinná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ákladná(?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A0E98-5AE4-442A-8B58-F83AA35003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Komerční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Image kampaně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Kampaně stimulující k určitému chování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Udržovací 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Zaváděcí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Re-branding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Sezónní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Náklady na komunikaci jsou komplexní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Nelze přesně určit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Výrazně se mění podle produktů (dřevo x parfémy)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B0D93-3F5D-4B2D-A7AA-263A925288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Met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římé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Nepřímé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ozorová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Dotazová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BD513-0485-4187-9B32-351C98D9FA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o měříme?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Zásah kampaně (cílová skupina) - REACH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Účinnost kampaně - IMPAC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Krátkodobý a dlouhodobý vliv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56D0B-C232-444C-986F-9E5EF137C6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Nadlinková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C7612-803F-4D2A-9A11-0EBED252FD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Nadlinková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TV – Sledovanost - peoplemeter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ádio – Poslechovost - Radioprojek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Tisk - Čtenost - Mediaprojek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BD7CA-5D69-46F7-AF2D-F36F74F8C5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ojm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et Reach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Procento cílové skupiny zasažené během kampaně alespoň jednou. 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Příklad: Net Reach 86% znamená, že 86% dotyčné cílové skupiny vidělo z celé kampaně alespoň jeden TV spot. 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292929"/>
                </a:solidFill>
                <a:latin typeface="Tahoma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Tahoma"/>
              </a:rPr>
              <a:t>x efektivní frekvence (typ kampaně – zaváděcí, udržovací, konkurenčnost segmentu, typ produktu, atd.)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Afinita - TAI, Target Affinity Index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Index (poměr mezi sledovaností pořadu, čteností média u cílové skupiny a průměrem)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Vhodné pro orientační stanovení cílové skupiny kampaně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7F4AF-DDDD-4925-B138-88093F9A20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00:50Z</dcterms:created>
  <dc:creator>počitadlo</dc:creator>
  <dc:description/>
  <dc:language>en-US</dc:language>
  <cp:lastModifiedBy>P&amp;P</cp:lastModifiedBy>
  <dcterms:modified xsi:type="dcterms:W3CDTF">2007-11-22T23:03:04Z</dcterms:modified>
  <cp:revision>97</cp:revision>
  <dc:subject/>
  <dc:title>Snímek 1</dc:title>
</cp:coreProperties>
</file>