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D2E9F-0DF2-44E2-8584-35057EDCDE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82284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9179F-AFE4-4B33-8192-F340EBCB7D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D64A6-7346-40D0-83F2-7D59104A58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3410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3410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82284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382284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382284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17A3E-DF74-4B47-8127-354EE3B951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B3196-5429-40FB-BF3F-16360BB33E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C22F6-E22F-476A-ACE0-D0A22D7253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22D2B-C086-4C53-A7ED-FE951E675C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4E0AF-22DE-402D-9B0B-C87ECF6C24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86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2C25C-D715-432D-9D39-F35CE1A098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E0B32-33AD-45C2-A4C1-FBB5DFF13C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1359D-0D99-4E52-B9F7-28F59399C6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82284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003AC-C909-4EB9-A19D-ADB90CE980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611280" y="6066000"/>
            <a:ext cx="72072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4360" y="6265440"/>
            <a:ext cx="574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75D87-F272-4E69-81AE-219CF002A7AF}" type="slidenum">
              <a:rPr b="1" lang="en-US" sz="2400" spc="-1" strike="noStrike">
                <a:solidFill>
                  <a:srgbClr val="ff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474880" y="6330960"/>
            <a:ext cx="36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Základy marketingového výzku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to.cz/ftp/top20.csv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4292280"/>
            <a:ext cx="56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Komunikac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72F61-C441-4977-A1CE-BE32816837C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Pojm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Tahoma"/>
              </a:rPr>
              <a:t>GRP – Gross Rating Points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1 point = 1 % obecné koupěschopné cílové populace (15+)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používá se pro výpočet ceny spotu </a:t>
            </a: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TV stanice prodávají GRP 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v Česku 1 bod za 22000 Kč = 85 000 diváků 15+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Tahoma"/>
              </a:rPr>
              <a:t>TRP – Target Rating Points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GRP na konkrétní cílové skupině (ženy 25-30, rozvedené, s jedním dítětem a nakupující 1x denně)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v praxi se GRP a TRP často nerozlišují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24216-ABC3-4132-98D9-62429608958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Pojm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67564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Tahoma"/>
              </a:rPr>
              <a:t>OTH/OTS – Opportunity To Hear/See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Kolikrát měl člověk v cílové skupině možnost vidět/slyšet reklamní sdělení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OTS = TRPs/Net reach 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Tahoma"/>
              </a:rPr>
              <a:t>ROI - Return on Investment 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Kolik přinese každá investovaná jednotka </a:t>
            </a:r>
            <a:r>
              <a:rPr b="0" i="1" lang="cs-CZ" sz="1600" spc="-1" strike="noStrike">
                <a:solidFill>
                  <a:srgbClr val="000000"/>
                </a:solidFill>
                <a:latin typeface="Tahoma"/>
              </a:rPr>
              <a:t>(%, Kč, EUR)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Tahoma"/>
              </a:rPr>
              <a:t>Share of Voice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Podíl naší kampaně na reklamním trhu daného segmentu (GRP, odhad media spendů)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Důležitý ukazatel při plánování kampaní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Data sbírají specializované agentury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A429E-8BB0-4797-A918-F1D591E66FB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Peoplemeter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ATO (Asociace Televizních Organizací): 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ahoma"/>
              </a:rPr>
              <a:t>Česká televize 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ahoma"/>
              </a:rPr>
              <a:t>CET 21 spol.s r.o 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ahoma"/>
              </a:rPr>
              <a:t>FTV Prima spol. s r.o.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ahoma"/>
              </a:rPr>
              <a:t>Asociace komunikačních agentur České republiky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Technicky realizuje Mediaresearch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www.ato.cz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116D3-C46A-44DA-824E-91193D55538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Peoplemeter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Existuje od roku 1997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Již třetí vlna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Od 04/2007 nový panel s 1600 domácnostmi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Panel je reprezentativní na domácnosti s TV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Reprezentativita je kontrolována souběžným F2F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Kontrola „podezřelých“ respondentů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Online přístup k datům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Roční obměna 25 % panelu   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Druhá televizní domácnost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27902-80EC-4318-BF23-C93E6208919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Peoplemeter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00720" y="1052640"/>
            <a:ext cx="3809880" cy="24890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851280" y="4005360"/>
            <a:ext cx="4552920" cy="16570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34880" y="1357200"/>
            <a:ext cx="271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řenos dat pomocí 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4C7BB-BEE4-4649-930C-165446EE39D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Peoplemeter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Rating (sledovanost) 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ahoma"/>
              </a:rPr>
              <a:t>% cílové skupiny sledující pořad či kanál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Total rating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ahoma"/>
              </a:rPr>
              <a:t>% cílové skupiny sledující  jakýkoliv kanál čili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Tahoma"/>
              </a:rPr>
              <a:t>TV přijímač 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Share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ahoma"/>
              </a:rPr>
              <a:t>% podíl kanálu z Total rating 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ATS – Average Time Spent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C12B4-2F86-474F-9302-1D756DC90F6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Peoplemeter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344680" y="203040"/>
          <a:ext cx="6691320" cy="5818320"/>
        </p:xfrm>
        <a:graphic>
          <a:graphicData uri="http://schemas.openxmlformats.org/drawingml/2006/table">
            <a:tbl>
              <a:tblPr/>
              <a:tblGrid>
                <a:gridCol w="642960"/>
                <a:gridCol w="1452600"/>
                <a:gridCol w="347760"/>
                <a:gridCol w="571320"/>
                <a:gridCol w="919080"/>
                <a:gridCol w="919440"/>
                <a:gridCol w="919080"/>
                <a:gridCol w="919080"/>
              </a:tblGrid>
              <a:tr h="4312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.týden 2007 (12.11.- 18.11.)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900" spc="-1" strike="noStrike">
                          <a:solidFill>
                            <a:srgbClr val="fff8dc"/>
                          </a:solidFill>
                          <a:latin typeface="Arial"/>
                        </a:rPr>
                        <a:t>Poř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08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8dc"/>
                          </a:solidFill>
                          <a:latin typeface="Arial"/>
                        </a:rPr>
                        <a:t>Progr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8dc"/>
                          </a:solidFill>
                          <a:latin typeface="Arial"/>
                        </a:rPr>
                        <a:t>Kaná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8dc"/>
                          </a:solidFill>
                          <a:latin typeface="Arial"/>
                        </a:rPr>
                        <a:t>Datu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8dc"/>
                          </a:solidFill>
                          <a:latin typeface="Arial"/>
                        </a:rPr>
                        <a:t>Začáte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8dc"/>
                          </a:solidFill>
                          <a:latin typeface="Arial"/>
                        </a:rPr>
                        <a:t>Kone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8dc"/>
                          </a:solidFill>
                          <a:latin typeface="Arial"/>
                        </a:rPr>
                        <a:t>Sled.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08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evizní novi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30: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49: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evizní novi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30: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58: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evizní novi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30: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58: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evizní novi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30: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58: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evizní novi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30: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56: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rtovní novi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51: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57: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evizní novi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30: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52: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rtovní novi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59: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:04: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evizní novi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30: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56: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rtovní novi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59: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:05: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rtovní novi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:01: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:07: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-1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inace v růžové zahrad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:13: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:24: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-1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as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57: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58: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rtovní novi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:01: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:07: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inace v růžové zahrad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:11: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:25: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etnické humoresk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T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:00: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:28: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-18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jišťovna štěst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:12: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:22: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-18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rtovní novi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54: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:00: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jišťovna štěst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:13: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:24: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as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:05: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:06: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</a:tr>
            </a:tbl>
          </a:graphicData>
        </a:graphic>
      </p:graphicFrame>
      <p:pic>
        <p:nvPicPr>
          <p:cNvPr id="7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24800" y="709560"/>
            <a:ext cx="285480" cy="2858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69960" y="981000"/>
            <a:ext cx="13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56537-FA0A-491E-9E21-12B60F0BC13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Shar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468360" y="1341360"/>
          <a:ext cx="8228880" cy="4750200"/>
        </p:xfrm>
        <a:graphic>
          <a:graphicData uri="http://schemas.openxmlformats.org/drawingml/2006/table">
            <a:tbl>
              <a:tblPr/>
              <a:tblGrid>
                <a:gridCol w="2082960"/>
                <a:gridCol w="1191240"/>
                <a:gridCol w="1028880"/>
                <a:gridCol w="1191240"/>
                <a:gridCol w="1270440"/>
                <a:gridCol w="1464120"/>
              </a:tblGrid>
              <a:tr h="950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up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T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T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tat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50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ěti 4 - 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,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,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,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,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,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</a:tr>
              <a:tr h="950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Ženy 15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,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,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,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</a:tr>
              <a:tr h="950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ži 15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,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,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,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,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,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</a:tr>
              <a:tr h="950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spělí 15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,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,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,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,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,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3378240" y="98064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6. týden 2007 (12.11.- 18.11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0868D-7991-4B7C-B1B5-E4A6272CFCE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Peoplemeter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Výhody a nevýhody TV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ahoma"/>
              </a:rPr>
              <a:t>Vysoké náklady na spot, dlouhodobé plánování, přetlak inzerentů, monopol Primy a Novy (85 %) 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ahoma"/>
              </a:rPr>
              <a:t>TV je pasivní médium =&gt; obtížně zasáhnutelné „výnosné“ cílové skupiny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ahoma"/>
              </a:rPr>
              <a:t>Dobré měření sledovanosti (dobré cílení), rychlý zásah, celoplošné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C5989-B78D-4F0D-8890-F30CE5AA4F7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Radioprojekt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Viz externí prezentace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Od roku 2006 došlo k oddělení od Mediaprojektu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Zlepšení reliability výsledků díky nové metodologii (CATI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Faktické problémy – je respondent schopen si pamatovat co, kdy a jak poslouchal?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Není možné sledovat „online“ vývoj pořadů (výsledky po Q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948B7-4507-4967-9023-189710DC524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Přehled lekc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Komerční komunikace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Metody měření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Jednotlivé nástroje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4EC7D-16FD-48F5-A4C7-7235A96372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Tištěná reklama – Mediaprojekt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Viz externí prezentace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Rozlišuje čtenost od prodaného nákladu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Vlivy na inzerci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923BE-112B-4E55-ACDC-B9E1E8241C4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Tištěná reklama – ABC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Ověřování nákladu média (vytištěného / prodaného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Předplatné + přímý prodej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Ověřování supplementů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62C61-EE50-4CD7-811A-D32830BC5E1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108000" y="1197000"/>
          <a:ext cx="8989920" cy="4324320"/>
        </p:xfrm>
        <a:graphic>
          <a:graphicData uri="http://schemas.openxmlformats.org/drawingml/2006/table">
            <a:tbl>
              <a:tblPr/>
              <a:tblGrid>
                <a:gridCol w="2160360"/>
                <a:gridCol w="758880"/>
                <a:gridCol w="758880"/>
                <a:gridCol w="758880"/>
                <a:gridCol w="758880"/>
                <a:gridCol w="758880"/>
                <a:gridCol w="758880"/>
                <a:gridCol w="758520"/>
                <a:gridCol w="758880"/>
                <a:gridCol w="758880"/>
              </a:tblGrid>
              <a:tr h="703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Ponděl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Úter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Stře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Čtvrte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Páte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Sobo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Nedě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Denní průměr tištěný nákl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Denní průměr prodaný nákl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Blesk</a:t>
                      </a: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 </a:t>
                      </a:r>
                      <a:r>
                        <a:rPr b="0" i="1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Ringier ČR, a. s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441 2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473 8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453 3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435 5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72 6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75 6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x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75 5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458 7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Deník / TV Magazín</a:t>
                      </a: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 </a:t>
                      </a:r>
                      <a:br>
                        <a:rPr sz="1000"/>
                      </a:br>
                      <a:r>
                        <a:rPr b="0" i="1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Vltava-Labe-Press, a. 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56 3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79 3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61 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50 1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81 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04 0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x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96 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22 1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Mladá fronta DNES</a:t>
                      </a: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 </a:t>
                      </a:r>
                      <a:r>
                        <a:rPr b="0" i="1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Mafra, a. s.</a:t>
                      </a: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63 8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46 2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49 6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445 3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43 8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11 5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x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66 5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93 4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Právo</a:t>
                      </a: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 </a:t>
                      </a:r>
                      <a:r>
                        <a:rPr b="0" i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Borgis, a. s.</a:t>
                      </a: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11 8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08 2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30 9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08 6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09 3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41 9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x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04 8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51 8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Aha! </a:t>
                      </a:r>
                      <a:r>
                        <a:rPr b="0" i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Erika, s.r.o.</a:t>
                      </a: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14 4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05 5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43 0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42 6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26 7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12 7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32 6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13 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25 4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Sport</a:t>
                      </a: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 </a:t>
                      </a:r>
                      <a:r>
                        <a:rPr b="0" i="1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Ringier ČR, a. s</a:t>
                      </a: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98 4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67 1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68 5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85 2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86 1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67 3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x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11 1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78 8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Šíp</a:t>
                      </a: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 </a:t>
                      </a:r>
                      <a:r>
                        <a:rPr b="0" i="1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Vltava-Labe-Press, a. s.</a:t>
                      </a: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3 5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61 7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5 6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60 7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47 3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4 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x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20 4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72 3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Lidové noviny</a:t>
                      </a: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 </a:t>
                      </a:r>
                      <a:r>
                        <a:rPr b="0" i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Lidové noviny, a. s</a:t>
                      </a: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.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4 7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3 4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3 0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3 5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06 3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74 1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x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03 6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65 8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Hospodářské noviny</a:t>
                      </a: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 </a:t>
                      </a:r>
                      <a:r>
                        <a:rPr b="0" i="1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Economia, a. 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7 6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6 6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9 2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8 2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65 1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x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x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75 3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9 3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208440" y="404640"/>
            <a:ext cx="613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áří 2007 – prodaný / tištěný nákl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283AE-DB6F-40AA-9FEF-FA45F0258C2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F20F0-C708-4DB7-ABF8-5A467CEE36B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2C6C6-656D-4E48-8A79-68AD0BD655A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627440" y="6093000"/>
            <a:ext cx="348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zn.: Právo má 40% SŠ a vyš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6A412-A698-41EB-8E29-DB4B222B3AD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F6B4A-3A40-4162-B2E8-07807C06748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Mediální agentur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Navrhují mediaplán a mediamix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Mediamix: 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ahoma"/>
              </a:rPr>
              <a:t>televizní reklamy 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ahoma"/>
              </a:rPr>
              <a:t>rádiové reklamy 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ahoma"/>
              </a:rPr>
              <a:t>tiskové a internetové reklamy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ahoma"/>
              </a:rPr>
              <a:t>outdoorová reklama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Monitorují téměř všechna média v ČR (výstupem je např. share of voice nebo media spendy ostatních firem 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00D68-2146-4FEF-A8FB-B372424092D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4292280"/>
            <a:ext cx="56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Podlinková komunikac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C79C4-62FF-4708-B855-77407A7073A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Podlinková komunikac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Direct marketing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Reklama v místě prodeje (POP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Sales promotion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Sampling (např. vzorky v novinách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atd. 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B9C12-313D-47A6-A3C7-61F329610FC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Komerční komunikac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B2C (Bussiness to Customer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B2B (Bussiness to Bussiness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Nadlinková komunikace, Above the Line (ATL), „nadlinka“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Podlinková komunikace, Below the Line, „podlinka“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Direct marketing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Mediální a reklamní agentury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754DE-8492-42DE-B059-2AD2D73AC6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Podlinková komunikac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Měříme response rate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Dobré cílení na úzké cílové skupiny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Dobré opory výběru (databáze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Experiment (kontrolní skupiny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Může být velmi účinná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Nákladná(?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47ED6-E7FE-4B94-80AE-0DF5EECBC19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Komerční komunikac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Tahoma"/>
              </a:rPr>
              <a:t>Image kampaně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Tahoma"/>
              </a:rPr>
              <a:t>Kampaně stimulující k určitému chování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Tahoma"/>
              </a:rPr>
              <a:t>Udržovací 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Tahoma"/>
              </a:rPr>
              <a:t>Zaváděcí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Tahoma"/>
              </a:rPr>
              <a:t>Re-branding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Tahoma"/>
              </a:rPr>
              <a:t>Sezónní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Tahoma"/>
              </a:rPr>
              <a:t>Náklady na komunikaci jsou komplexní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Nelze přesně určit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Výrazně se mění podle produktů (dřevo x parfémy)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21F3E-538E-409F-9F44-B3DF78BA97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Metod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Přímé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Nepřímé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Pozorování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Dotazování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FAFA7-E889-4EF4-8E03-F0AB8D8580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Co měříme?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Zásah kampaně (cílová skupina) - REACH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Účinnost kampaně - IMPACT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Krátkodobý a dlouhodobý vliv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48C7B-80E8-4438-955B-C6DEE0E25A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4292280"/>
            <a:ext cx="56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Nadlinková komunikac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8AD50-DCC9-43F9-8ADC-9AA05C9AC0F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Nadlinková komunikac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TV – Sledovanost - peoplemetery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Rádio – Poslechovost - Radioprojekt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Tisk - Čtenost - Mediaprojekt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BD031-73D8-45E0-BA45-4D6DA3D0582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Pojm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Net Reach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ahoma"/>
              </a:rPr>
              <a:t>Procento cílové skupiny zasažené během kampaně alespoň jednou. </a:t>
            </a:r>
            <a:endParaRPr b="0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ahoma"/>
              </a:rPr>
              <a:t>Příklad: Net Reach 86% znamená, že 86% dotyčné cílové skupiny vidělo z celé kampaně alespoň jeden TV spot. </a:t>
            </a:r>
            <a:endParaRPr b="0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292929"/>
                </a:solidFill>
                <a:latin typeface="Tahoma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Tahoma"/>
              </a:rPr>
              <a:t>x efektivní frekvence (typ kampaně – zaváděcí, udržovací, konkurenčnost segmentu, typ produktu, atd.)</a:t>
            </a:r>
            <a:endParaRPr b="0" lang="en-US" sz="2000" spc="-1" strike="noStrike">
              <a:solidFill>
                <a:srgbClr val="29292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Afinita - TAI, Target Affinity Index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ahoma"/>
              </a:rPr>
              <a:t>Index (poměr mezi sledovaností pořadu, čteností média u cílové skupiny a průměrem)</a:t>
            </a:r>
            <a:endParaRPr b="0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ahoma"/>
              </a:rPr>
              <a:t>Vhodné pro orientační stanovení cílové skupiny kampaně</a:t>
            </a:r>
            <a:endParaRPr b="0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DC179-1125-440F-8946-AA820756BA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19:00:50Z</dcterms:created>
  <dc:creator>počitadlo</dc:creator>
  <dc:description/>
  <dc:language>en-US</dc:language>
  <cp:lastModifiedBy>P&amp;P</cp:lastModifiedBy>
  <dcterms:modified xsi:type="dcterms:W3CDTF">2007-11-22T23:03:04Z</dcterms:modified>
  <cp:revision>97</cp:revision>
  <dc:subject/>
  <dc:title>Snímek 1</dc:title>
</cp:coreProperties>
</file>