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5638E-B41C-4E15-A266-859C6A1A97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CD6FB-CD4A-4143-AFF0-14C07F8B20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83B5B-482A-430B-943F-1AED0A1BF7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DEAE7-6ADE-41A7-92D4-485F38F591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0AD06-A96F-4539-A337-48F15DBFAF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E6F17-B519-4A2B-9516-791C92E29D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BEFF9-29C4-4996-9F55-96DE870C9A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A2682-0866-4224-878B-8317996F5A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86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31CB9-F2B5-4463-B598-0A8E65A583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53445-9240-4F77-81BB-F1007532B6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B04C2-9059-4F46-B7D4-751F102CDE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A0FBE-434A-4C22-B6AA-2486521940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611280" y="6066000"/>
            <a:ext cx="72072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4360" y="6265440"/>
            <a:ext cx="57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8722-7964-4ACA-9947-4C75DAEA7745}" type="slidenum">
              <a:rPr b="1" lang="en-US" sz="2400" spc="-1" strike="noStrike">
                <a:solidFill>
                  <a:srgbClr val="ff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474880" y="6330960"/>
            <a:ext cx="36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Základy marketingového výzku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29228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enové test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DF4B4-92C9-4897-B626-EE62C793CB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ýstup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525680" y="170028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70028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B2421-A277-405A-9AD8-721326FDFE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ýstup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2444" t="3792" r="1691" b="3792"/>
          <a:stretch/>
        </p:blipFill>
        <p:spPr>
          <a:xfrm>
            <a:off x="324000" y="1197000"/>
            <a:ext cx="8515080" cy="488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4E462-84B8-418F-B94A-3C41087927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ýhody / Nevýhod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247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Jednoduché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Možné začlenit prakticky do jakéhokoliv výzkumu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Hypotetická situac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Izolované hodnocení jednoho výrobku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Nelze interpolova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Omezený počet cenových hladin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15E79-2FBA-42A5-9B01-23D66208D6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enová citlivost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Tahoma"/>
              </a:rPr>
              <a:t>Van Westendorp - price senzitivity meter - PSM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490680" indent="-4906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Pokládáme čtyři otázky: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4906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92929"/>
              </a:solidFill>
              <a:latin typeface="Tahoma"/>
            </a:endParaRPr>
          </a:p>
          <a:p>
            <a:pPr marL="490680" indent="-49068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Cena, při které by byl výrobek pro respondenta levný.</a:t>
            </a:r>
            <a:br>
              <a:rPr sz="2400"/>
            </a:br>
            <a:r>
              <a:rPr b="1" lang="cs-CZ" sz="2400" spc="-1" strike="noStrike">
                <a:solidFill>
                  <a:srgbClr val="ff0000"/>
                </a:solidFill>
                <a:latin typeface="Tahoma"/>
              </a:rPr>
              <a:t>(LEVNÝ)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490680" indent="-49068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Cena, při které by byl výrobek tak levný, že by to vzbudilo pochybnosti o jeho kvalitě. </a:t>
            </a:r>
            <a:br>
              <a:rPr sz="2400"/>
            </a:br>
            <a:r>
              <a:rPr b="1" lang="cs-CZ" sz="2400" spc="-1" strike="noStrike">
                <a:solidFill>
                  <a:srgbClr val="ff0000"/>
                </a:solidFill>
                <a:latin typeface="Tahoma"/>
              </a:rPr>
              <a:t>(PŘÍLIŠ LEVNÝ)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490680" indent="-49068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Cena, při níž by byl výrobek pro respondenta již drahý. </a:t>
            </a:r>
            <a:br>
              <a:rPr sz="2400"/>
            </a:br>
            <a:r>
              <a:rPr b="1" lang="cs-CZ" sz="2400" spc="-1" strike="noStrike">
                <a:solidFill>
                  <a:srgbClr val="ff0000"/>
                </a:solidFill>
                <a:latin typeface="Tahoma"/>
              </a:rPr>
              <a:t>(DRAHÝ)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490680" indent="-49068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Cena, při níž by byl výrobek tak drahý, že by si ho respondent za žádnou cenu nekoupil.</a:t>
            </a:r>
            <a:br>
              <a:rPr sz="2400"/>
            </a:br>
            <a:r>
              <a:rPr b="1" lang="cs-CZ" sz="2400" spc="-1" strike="noStrike">
                <a:solidFill>
                  <a:srgbClr val="ff0000"/>
                </a:solidFill>
                <a:latin typeface="Tahoma"/>
              </a:rPr>
              <a:t>(PŘÍLIŠ DRAHÝ) 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42DDC-BB58-43F3-8DEC-DBD155BB28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ýstup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55640" y="2133720"/>
          <a:ext cx="79376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133720"/>
                    <a:ext cx="79376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456480" y="24811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904360" y="449280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12600" y="42624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h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852640"/>
            <a:ext cx="35892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924360" y="691920"/>
            <a:ext cx="934920" cy="21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88000" y="258840"/>
            <a:ext cx="4032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utrální cena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jběžnější cena na trhu, někdy to bývá medián ceny nebo cena dominantního výrob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720" y="25178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725C7-C4E6-4551-8436-5C8827B3D1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ýstup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755640" y="2133720"/>
          <a:ext cx="79376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133720"/>
                    <a:ext cx="79376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456480" y="24811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83680" y="40053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říliš lev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964120" y="371628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říliš drah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5157720"/>
            <a:ext cx="35856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635280" y="1717200"/>
            <a:ext cx="1152720" cy="34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88000" y="981000"/>
            <a:ext cx="4032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timální cena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jčastěji doporučená cena. Cena proti které je na trhu nejméně námit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34880" y="486576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4FAEA-9D5D-4CA6-A455-0E722DA0B4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ýstup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55640" y="2133720"/>
          <a:ext cx="79376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133720"/>
                    <a:ext cx="79376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456480" y="24811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78960" y="30621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říliš lev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84840" y="342900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říliš drah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1080" y="5229360"/>
            <a:ext cx="35892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88000" y="981000"/>
            <a:ext cx="4032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val nejlepší ceny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mozřejmě čím větší je, tím větší má výrobce prostor pro stanovení ce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08360" y="2924280"/>
            <a:ext cx="35892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592440" y="263700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851280" y="263700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24880" y="479592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72600" y="466236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h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780000" y="1484280"/>
            <a:ext cx="10080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48720" y="25178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34880" y="494676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C9655-6608-4849-89A7-1085FE29DD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ýstup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55640" y="2133720"/>
          <a:ext cx="79376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133720"/>
                    <a:ext cx="79376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456480" y="24811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78960" y="30621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říliš lev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84840" y="342900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říliš drah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1080" y="5229360"/>
            <a:ext cx="35892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260280"/>
            <a:ext cx="4032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Bod marginální levnosti</a:t>
            </a:r>
            <a:br>
              <a:rPr sz="2400"/>
            </a:b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(Point of Marginal Cheapn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2924280"/>
            <a:ext cx="35892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592440" y="263700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851280" y="263700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24880" y="479592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72600" y="466236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h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626920" y="692280"/>
            <a:ext cx="576360" cy="38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8720" y="25178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26960" y="494172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27280" y="2684520"/>
            <a:ext cx="0" cy="2881080"/>
          </a:xfrm>
          <a:prstGeom prst="line">
            <a:avLst/>
          </a:prstGeom>
          <a:ln w="34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7600" y="4076640"/>
            <a:ext cx="6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69720" y="414972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0000" y="2690640"/>
            <a:ext cx="0" cy="2881440"/>
          </a:xfrm>
          <a:prstGeom prst="line">
            <a:avLst/>
          </a:prstGeom>
          <a:ln w="34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1052640"/>
            <a:ext cx="4032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Bod marginální drahosti</a:t>
            </a:r>
            <a:br>
              <a:rPr sz="2400"/>
            </a:b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(Point of Marginal Expensiven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508720" y="1844640"/>
            <a:ext cx="107928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37080" y="4292640"/>
            <a:ext cx="35892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11280" y="4581360"/>
            <a:ext cx="35892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6199400">
            <a:off x="3992400" y="1051920"/>
            <a:ext cx="219240" cy="2952720"/>
          </a:xfrm>
          <a:custGeom>
            <a:avLst/>
            <a:gdLst>
              <a:gd name="textAreaLeft" fmla="*/ 0 w 219240"/>
              <a:gd name="textAreaRight" fmla="*/ 79200 w 21924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35280" y="198900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ozsah akceptovatelné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7915B-16DA-4815-BBB3-79E7488F3C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ýhody / Nevýhod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Opět velmi jednoduché a pochopitelné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Snadno integrovatelné do většiny výzkumů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Respondent musí znát ceny v daném segmentu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Nebere v potaz ostatní výrobky (pouze nepřímo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A63C1-80C4-44EE-8912-B8A5F5E464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BPTO - Brand-Price-Trade-Off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20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Princip „spotřebitelské hry“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Respondent musí znát výrobky a jejich ceny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Vycházíme z reálných cen, ze kterých vytvoříme několik cenových hladin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Bere v potaz konkurenční prostředí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26920" y="3759120"/>
          <a:ext cx="2016000" cy="2262240"/>
        </p:xfrm>
        <a:graphic>
          <a:graphicData uri="http://schemas.openxmlformats.org/drawingml/2006/table">
            <a:tbl>
              <a:tblPr/>
              <a:tblGrid>
                <a:gridCol w="1257120"/>
                <a:gridCol w="758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Sp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Coca-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Fa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8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Pepsi-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5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Kof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5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žádn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564000" y="3759120"/>
          <a:ext cx="2171520" cy="2219400"/>
        </p:xfrm>
        <a:graphic>
          <a:graphicData uri="http://schemas.openxmlformats.org/drawingml/2006/table">
            <a:tbl>
              <a:tblPr/>
              <a:tblGrid>
                <a:gridCol w="1271520"/>
                <a:gridCol w="900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Sp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Coca-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Fa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8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Pepsi-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5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Kof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žádn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1908000" y="5272200"/>
            <a:ext cx="1008360" cy="3585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16360" y="54878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504120" y="3772080"/>
          <a:ext cx="2171520" cy="2219040"/>
        </p:xfrm>
        <a:graphic>
          <a:graphicData uri="http://schemas.openxmlformats.org/drawingml/2006/table">
            <a:tbl>
              <a:tblPr/>
              <a:tblGrid>
                <a:gridCol w="1271520"/>
                <a:gridCol w="900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Sp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Coca-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Fa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5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Pepsi-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5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Kof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žádn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796000" y="46958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07000" y="4518000"/>
            <a:ext cx="100800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2586C-3FE8-4C87-9C3B-2CEC926356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řehled lek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Základní pojm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Metod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Výstup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5F0C8-CEF5-4122-9045-0577023551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BPTO - výstup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963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odíly prvních výběrů značek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Věrnost značc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Cenové prah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odíly na trhu v závislosti na ceně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řechod od jedné značky ke druhé v závislosti na ceně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Reakce na změnu cen u konkurenc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ropojíme-li s odhadem nakupovaného množství za danou cenu, lze odhadnout i objem prodej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imulace chování lidí (změny DPH, zdražení, atd.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6B18A-DD02-443C-AC41-2A07B4650D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BPTO - nevýhod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Velké vzorky (nákladné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Nutnost provádět samostatně (nelze začlenit do jiného výzkumu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Dlouhé, pracné a komplikované dotazován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Riziko „odhalení hry“ respondentem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9CF25-72B3-4BD4-94E0-7259A6456C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Conjoint analýza (preferenční analýza)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K ceně přidáváme i parametry výrobku / služby / tarifu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oužíváme zejména před uvedením na trh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Výstupem je komplexní pohled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Optimální kombinace ceny a parametrů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Důležitost jednotlivých vlastnost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Optimální složení výrobku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47895-BE53-4E71-81E1-CEA19003F5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Conjoint analýza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371520" y="978480"/>
            <a:ext cx="45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Tarif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čet minut: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čet SMS: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řevedení volných minut: 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Cena: 13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9880" y="3164400"/>
            <a:ext cx="4290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Tarif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čet minut: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čet SMS: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řevedení volných minut: 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Cena: 1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67F85-E6E0-4BC8-8840-F77E793611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Conjoint analýza – nevýhod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Drahé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Složité na pochopení, analyzování a vysvětlen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Vyžaduje velké know-how agentur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Dotazovací softwar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Zkušené tazatele 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46834-F75E-4DD6-A036-EED83BDB2DB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Nabídka a poptávka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102600" y="5589000"/>
            <a:ext cx="89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konalá konkurence: firmy maximalizují ZISK, spotřebitelé maximalizují UŽITE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63640" y="836640"/>
            <a:ext cx="4896000" cy="4268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34800" y="11970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3960" y="501336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nožst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EF30C-71A7-415C-86E1-52A4CADA10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Určení cen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Nákladová cena – analýza nákladů, daní, apod.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Konkurenční – monitoring trhů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optávková - výzkum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Dumpingová – monitoring trhů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B6A37-6BE6-493B-9619-F91D96B8CB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08080" y="0"/>
            <a:ext cx="5127840" cy="623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F93D6-BBEC-432A-830F-644A43F389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o nás zajímá?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Jakou určit cenovou strategii?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Optimální cena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Tzv. cenové prah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Jak by se trh vyvíjel po příp. zdražen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E5678-716B-49C3-8C3B-0977CB79FD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Metod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Očekávaná cena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ravděpodobnost koupě“ (Gabor Granger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cenová citlivost“ (Van Westendorp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BPTO (Brand-Price-Trade-Off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Conjoint analýza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D34C1-062E-4042-9B77-57AC2A05AD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Očekávaná cena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6756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ro jednoduchou orientaci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Detailně představíme respondentovi výrobek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a pokládáme otázku: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JAKÁ BY BYLA OČEKÁVANÁ CENA, TOHOTO VÝROBKU?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599CE-5470-4420-AE58-F0E5E87F14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ravděpodobnost koupě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Gabor-Granger – GG - Purchase intention 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0. léta 20. stolet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1187280" y="235080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upil/a byste si výrobek v testované chuti a obal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 cenu 27,90 K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za jedno 140g balen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3286080"/>
            <a:ext cx="71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upil/a byste si výrobek v testované chuti a obal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 cenu 23,90 K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za jedno 140g balen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87280" y="422244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upil/a byste si výrobek v testované chuti a obal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 cenu 20,90 K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za jedno 140g balen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A3F9B-B60F-4E3C-BA3A-4F42F9A605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9:00:50Z</dcterms:created>
  <dc:creator>počitadlo</dc:creator>
  <dc:description/>
  <dc:language>en-US</dc:language>
  <cp:lastModifiedBy>user</cp:lastModifiedBy>
  <dcterms:modified xsi:type="dcterms:W3CDTF">2008-12-03T08:31:56Z</dcterms:modified>
  <cp:revision>132</cp:revision>
  <dc:subject/>
  <dc:title>Snímek 1</dc:title>
</cp:coreProperties>
</file>