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4BC-F8E4-4063-9C9F-0D95D228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4BE-EAAC-4845-93F1-3C90C587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A51-A2D9-44E3-A1EE-ED423496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604-FD3B-4FFC-8F35-12EE5ABA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9EC-2540-48CE-9AA9-3F221DEC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18B5-5812-4972-96BF-90F2E98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356-898F-4EEE-8D61-90E244B6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2E6-78C3-463D-A96A-FDDF4B4B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AF8-D496-4F83-91B4-B4C484EB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A0F-BA89-4F8B-B83F-1A8477E2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DF3-9978-4CD6-9C63-F2B00FE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24F-ED6D-4125-B0BD-79DFC4B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F9B4-25FC-49F0-84B2-BBA80A6A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istické usuzování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statistická infer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k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alizace zjištěných výsledk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et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stick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ové odh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y význam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dmínky statistické generaliz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výběrový soubor je dobrým reprezentantem populace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tato populace je náležitě definována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byl použit adekvátní pravděpodobnostní výběrový postup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míra neuskutečněných rozhovorů je nízká (počet odmítnutých rozhovorů byl nízký), takže tzv. </a:t>
            </a:r>
            <a:r>
              <a:rPr b="0" i="1" lang="cs-CZ" sz="3300" spc="-1" strike="noStrike">
                <a:solidFill>
                  <a:srgbClr val="ffffff"/>
                </a:solidFill>
                <a:latin typeface="Arial"/>
              </a:rPr>
              <a:t>response rate </a:t>
            </a: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je vysoký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má smysl zobecňovat, kdy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820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pracujeme s celou populací (jakkoliv definovanou pro účely našeho výzkumu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běrový soubor je vybrán prostřednictvím nepravděpodobnostních meto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a uskutečněných rozvorů je nižší než 85 %. Vysoká míra odmítnutých rozhovorů snižuje reprezentativitu souboru a zvyšuje tak pravděpodobnost, že náš výběr bude nespolehlivý pro generalizaci výsledk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ce (základní soubor)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ýběry (výběrový soubo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285264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běrové postupy vedoucí k reprezentativ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 výběrového soub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dyž je soubor vychýl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ážíme dat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ážení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ovit vá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áhy zabudovat do soub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spcAft>
                <a:spcPts val="524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at s váženými d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ovení vá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áha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84360" y="4560840"/>
                <a:ext cx="12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pula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zore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 i.s. je ovlivně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í výběrového soubor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elikostí rozptylu v základním souboru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rou jistoty (spolehlivosti), kterou požadujeme. Ve statistice je obvykle stanovena na 95 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výpočet i.s. musí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znát výběrovou charakteristiku, pro niž i. s. počítáme (průměr, procento, procentuální rozdíl mezi skupinami, ale také korelační  koeficienty nebo regresní koeficienty) - získáme výpočtem z dat výběrového souboru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5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. vypočítat směrodatnou chybu, která měří velikost výběrové chyb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. rozhodnout, jak velkou úroveň spolehlivosti požadujeme. (sociální vědy - jistota 95 %, ale někdy požadujeme i úroveň 99 %, popř. 99,9 % (s tak vysokou jistotou pracují především v biologii a medicíně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5:09:39Z</dcterms:created>
  <dc:creator>Rabusic</dc:creator>
  <dc:description/>
  <dc:language>en-US</dc:language>
  <cp:lastModifiedBy>Rabusic Ladislav</cp:lastModifiedBy>
  <dcterms:modified xsi:type="dcterms:W3CDTF">2006-10-18T07:11:56Z</dcterms:modified>
  <cp:revision>8</cp:revision>
  <dc:subject/>
  <dc:title>Statistické usuzování (statistická inference)</dc:title>
</cp:coreProperties>
</file>