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52A4-8978-404A-B1F0-DB0451D8EF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 = 0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ztah není nebo není lineární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nalost hodnoty X nezlepší naši schopnost odhadnout správně hodnotu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pozi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rost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r = - 1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perfektní negativní korelac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rostoucí hodnotou X hodnota Y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kles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Hodnotu Y odhadneme na základě znalosti hodnoty X bez jakéhokoliv omy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859-3918-4865-A22B-A3B8B88E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E3B-F24E-4E86-B7C5-2B5900CC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53B-E640-4C87-9A75-DF66B435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556-A1EA-4BF9-82CB-FE9669BF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478F-1A8D-4562-A02D-50C7379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F0E8-67A2-404C-AC31-C991ABB3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3B69-6FE1-4B3E-ADC5-8FCE1DAD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816B-FC4A-466D-8136-D9A1A997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1C5B-9BDE-42F5-82E3-7280E8C3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4CCC-F4CB-4D3D-B315-AA743D9C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0D5-1775-41CA-BFBF-C5EAF74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641-A96E-4414-A932-4841E77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97B0-4C29-4AA2-A3D3-6B77178A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C018-DCFB-4DD2-B972-5EE994B8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F960-6D7A-4148-86AD-E676529E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E3D4-68A3-4913-B4B7-CDD1AB4C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E5A-82B4-4A6A-A3DE-A93B6906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BBA6-92DC-4345-986E-EE14F19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FA2-8DCD-487A-9BF0-BAB793D9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6FA-CED6-41D2-9432-C277F5EB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876-79CF-46D3-9FB8-02312B46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11D-D130-4354-A79D-10231B0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2A2-C0C5-4D55-9FF6-1A26A5D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933-B4D8-44B5-93DB-6B33FC9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1EA0-C4AD-4E36-BD62-8E8A71D5BE76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D773-3F19-438E-839B-6D2324FB1A27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D181-EB6B-4E49-B0C7-2958F0EFD688}" type="datetime">
              <a:rPr b="0" lang="cs-CZ" sz="1000" spc="-1" strike="noStrike">
                <a:solidFill>
                  <a:srgbClr val="ffffff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C4B7-436A-4DB1-AF5F-0DD4C9F336C1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622440"/>
            <a:ext cx="8713800" cy="43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Základy dvourozměrné  analýzy: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měření síly asociací dvou proměnných 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koeficienty asociace)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9764F2-DF37-4194-A80F-61C887889BD4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0920" y="549360"/>
            <a:ext cx="83170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-1;+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znaménko o jeho směru (ordinální a kardinální proměnné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8B214-EFEB-4F43-8548-3D90F043B59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2000" y="620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Čím vyšší je hodnota koeficientu asociace (v absolutní hodnotě), tím silnější je vzta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naménko koeficientu asociace určuje směr (asymetrického) vztahu. Neříká nic o síle vztah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o té vypovídá absolutní hodnota koeficient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854D-CF0D-4A55-A898-E37028DC6A2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HODNOTA KOEFICIENTU ASOCIAC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704600"/>
            <a:ext cx="8534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86421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ulov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bvykl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znamená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existu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ěkdy ovšem je to jen výraz toho, ž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ztah není lineární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dnota 1,00 znamená perfektní vzta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1CD5-CC27-495E-8C8B-1AE214E89A7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0240" y="333360"/>
            <a:ext cx="84214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KOEFICIENTY MÍRY ASOCIACE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1" lang="cs-CZ" sz="3600" spc="-1" strike="noStrike">
                <a:solidFill>
                  <a:srgbClr val="ffff99"/>
                </a:solidFill>
                <a:latin typeface="Arial"/>
              </a:rPr>
              <a:t> ZALOŽENÉ NA CHÍ</a:t>
            </a:r>
            <a:r>
              <a:rPr b="1" lang="cs-CZ" sz="36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 Phi: Pro tabulky 2x2, u větších může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at hodnot nad 1,0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: Pearsonův koeficient kontingence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bývá hodnot &lt;0;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ram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’s 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větší tabul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tabulky 2x2 je identický s Phi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F22AD-CE23-4804-8E45-32321A41A2F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KOEFICIENTY ASOCIACE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PRO NOMINÁLNÍ PROMĚNNÉ</a:t>
            </a:r>
            <a:br>
              <a:rPr sz="3600"/>
            </a:br>
            <a:r>
              <a:rPr b="0" lang="cs-CZ" sz="3600" spc="-1" strike="noStrike">
                <a:solidFill>
                  <a:srgbClr val="ffff99"/>
                </a:solidFill>
                <a:latin typeface="Arial"/>
              </a:rPr>
              <a:t> ZALOŽENÉ NA PROPORCIÁLNÍ REDUKCI CHYBY 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299880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cké LAMB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symetrické LAMBDA. Hodnota závisí na tom, která proměnná predikuje druhou proměnnou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CBEE3-6BB0-410F-AAF3-FBE74A93A77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KOEFICIENTY ASOCI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ORDINÁLNÍCH PROMĚNNÝCH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bývají hodnot &lt;-1;1&g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 lineární vztahy. U nelineárních vztahů se použije míra asociace pro nominální proměnn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5013360"/>
            <a:ext cx="8280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3468A-6D23-4600-AFD3-BE529A1393F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33200"/>
            <a:ext cx="842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461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symetrické vztah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Goodman-Kruskalovo Gamm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čtvercová tabulka)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endallovo tau</a:t>
            </a:r>
            <a:r>
              <a:rPr b="0" lang="cs-CZ" sz="3200" spc="-1" strike="noStrike" baseline="-25000">
                <a:solidFill>
                  <a:srgbClr val="66ffff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obdélníkové tabulky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99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pořadové korel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o asymetrické vzta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buClr>
                <a:srgbClr val="66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omersovo D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 jedna z proměnných brána jako závislá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B7D8F-D987-44ED-8987-85DFB52D162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0240" y="33300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GAMM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90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založeno na schopnosti odhadnout hodnoty jedné proměnné na základě znalosti hodnot druhé proměnn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DA2C7-F203-4553-8808-D0265648AEF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KLA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ředpokládejme, že míra religiozi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zitivně koresponduje s míro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vůči potratům (obě ordinální!)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-li tedy osoba A religióznější než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soba B, lze předpokládat, že i mí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odporu proti potratům u ní bude větš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než u osoby B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áváme všechny páry a GAM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je podílem párových srovnání, kter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tomuto předpokladu vyhovují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B028A-C8D4-445E-8EA1-F94022BAD97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404640"/>
            <a:ext cx="838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ZALOŽENÉ 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NA POŘADOVÉ KORELACI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28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SPEARMANŮ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66ffff"/>
                </a:solidFill>
                <a:latin typeface="Verdana"/>
              </a:rPr>
              <a:t>koeficien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pořadové korelace je neparametrickou metodou a nabývá hodnot &lt;-1;+1&gt;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hodný pro ordinální proměnné s větším počtem hodno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F354E-BCE7-46C0-93A5-0266A19C5E4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620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kolem dvourozměrné analýzy nebo vícerozměrné analýzy (více proměnných) je zjistit, je-li mezi nimi prokazatelná souvislost (matematická – kterou nelze zaměnit za vztah příčiny a ná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„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Osoby s vysokoškolským vzděláním mají vyšší příjmy“.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09549-AD77-4C5C-86CD-ADE9A346F34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KOEFICIENTY KOREALCE</a:t>
            </a:r>
            <a:br>
              <a:rPr sz="4000"/>
            </a:b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PRO KARDINÁLNÍ PROMĚNNÉ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2492280"/>
            <a:ext cx="800568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Verdana"/>
              </a:rPr>
              <a:t>PEARSONŮV KORELAČNÍ KOEFICIENT 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oeficient nerozlišuje co je příčina a co důsledek (nezávislá a závislá proměnná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01315-DDF9-4BC1-B6A5-A255C14257F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19512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KORE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0238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060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3613320"/>
            <a:ext cx="360036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ERFEKTNÍ NEZÁVIS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3627360"/>
            <a:ext cx="367164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pozi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80000" y="4437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384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60920" y="6524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042920" y="1196640"/>
            <a:ext cx="151308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077840" y="5373360"/>
            <a:ext cx="2702160" cy="109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5300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37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5877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87640" y="580536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5640" y="616572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35280" y="6021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3528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623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57340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616572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23280" y="551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04000" y="5732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20000" y="5948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451640" y="4869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6093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27640" y="4724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1200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4797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32720" y="5157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948360" y="6237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40360" y="50846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2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536256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867280" y="4365720"/>
            <a:ext cx="2017800" cy="1942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508464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4869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508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3087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72360" y="5877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5013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287200">
            <a:off x="1258560" y="558936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11280" y="602136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5661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445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566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720" y="4221000"/>
            <a:ext cx="115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692280"/>
            <a:ext cx="144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ozitivní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182520"/>
            <a:ext cx="3672000" cy="32004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LNÁ KORE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negativ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981000"/>
            <a:ext cx="0" cy="20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3080" y="3068640"/>
            <a:ext cx="266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1640" y="1197000"/>
            <a:ext cx="2376360" cy="20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99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3242600">
            <a:off x="5435280" y="1773000"/>
            <a:ext cx="252108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5280" y="220500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0920" y="2421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46920" y="213372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20000" y="24922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22766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6000" y="2708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2492280"/>
            <a:ext cx="144720" cy="144720"/>
          </a:xfrm>
          <a:custGeom>
            <a:avLst/>
            <a:gdLst>
              <a:gd name="textAreaLeft" fmla="*/ 59760 w 144720"/>
              <a:gd name="textAreaRight" fmla="*/ 84960 w 14472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940360" y="1700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56360" y="127944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149544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171144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192708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99280" y="177336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15280" y="1989000"/>
            <a:ext cx="144360" cy="144720"/>
          </a:xfrm>
          <a:custGeom>
            <a:avLst/>
            <a:gdLst>
              <a:gd name="textAreaLeft" fmla="*/ 59400 w 144360"/>
              <a:gd name="textAreaRight" fmla="*/ 84960 w 144360"/>
              <a:gd name="textAreaTop" fmla="*/ 59760 h 144720"/>
              <a:gd name="textAreaBottom" fmla="*/ 84960 h 1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520" bIns="-20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0920" y="220500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484280"/>
            <a:ext cx="144720" cy="144360"/>
          </a:xfrm>
          <a:custGeom>
            <a:avLst/>
            <a:gdLst>
              <a:gd name="textAreaLeft" fmla="*/ 59760 w 144720"/>
              <a:gd name="textAreaRight" fmla="*/ 84960 w 14472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20160" bIns="-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00000" y="981000"/>
            <a:ext cx="1584360" cy="22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2112840"/>
            <a:ext cx="1511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 = 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negativ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59640" y="103824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58920" y="478152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 se blíží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78F10-AC37-481B-A912-D5AC94F199B8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TA koefic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dyž </a:t>
            </a: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závisle proměn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kardinální (měřená na intervalové škále) 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99"/>
                </a:solidFill>
                <a:latin typeface="Verdana"/>
              </a:rPr>
              <a:t>nezávisle proměnn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nominální nebo ordinální (měř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nominální nebo ordinální škále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55C47-EE6D-4F9F-BD6D-F61362696F7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TEST LINEARITY ASOCI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kontingenční tabulku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skupinové průměr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rovnat lineární a nelineární koeficient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Analyzovat residuály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Použít „Curve Estimation Programs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707CB-26D6-40A9-A477-278A81F919F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0240" y="475920"/>
            <a:ext cx="8421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797040"/>
            <a:ext cx="8280360" cy="26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PROCEDU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800000"/>
                </a:solidFill>
                <a:latin typeface="Arial"/>
              </a:rPr>
              <a:t>CORRELATION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cs-CZ" sz="4000" spc="-1" strike="noStrike">
                <a:solidFill>
                  <a:srgbClr val="800000"/>
                </a:solidFill>
                <a:latin typeface="Arial"/>
              </a:rPr>
              <a:t>matice korelačních koeficientů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cddrive"/>
          <p:cNvSpPr/>
          <p:nvPr/>
        </p:nvSpPr>
        <p:spPr>
          <a:xfrm>
            <a:off x="1979640" y="4179960"/>
            <a:ext cx="5184720" cy="1625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CB244-D14A-4091-9381-4C7901AE55FD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57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AE1F6-E2F9-4255-89CE-BBF2556CE89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81406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kázání ASOCIACE není důkazem její KAUZALITY.</a:t>
            </a:r>
            <a:br>
              <a:rPr sz="3600"/>
            </a:b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ouvislost či vztah je vlastně jen   pravděpodobnosti uhádnout správně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v (hodnotu) jedné proměnné na základě stavu (hodnoty) druhé proměnné.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EAD3B-75BE-4C66-957E-0EBD0D0960E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3 PODMÍNKY KAUZALIT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69600" y="1196640"/>
            <a:ext cx="8150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ISTUJÍ SOUBĚŽNÉ ZMĚNY V OBOU PROMĚNNÝ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JE VYLOUČENA EXISTENCE NĚJAKÉ DALŠÍ, VNĚJŠÍ PŘÍČIN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MĚNY V OBOU PROMĚNNÝCH SE OBJEVUJÍ V LOGICKÉM POŘADÍ (ROZLIŠENÍ PŘÍČINY A DŮSLEDKU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34A2D-5045-4EA2-9982-CCF482759962}" type="datetime1">
              <a:rPr lang="en-US"/>
              <a:t>07/28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15560"/>
            <a:ext cx="842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Arial"/>
              </a:rPr>
              <a:t>V PŘÍPADĚ ASOCIACE ŘEŠÍM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-li vůbec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existuj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, či nikoli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da je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ymetrická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či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nesymetrická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ý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měr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je-li pozitivní, či negativ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sílu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i="1" lang="cs-CZ" sz="2800" spc="-1" strike="noStrike">
                <a:solidFill>
                  <a:srgbClr val="ffffff"/>
                </a:solidFill>
                <a:latin typeface="Verdana"/>
              </a:rPr>
              <a:t>těsnos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): Do jaké míry rozložení variant jedné proměnné určuje rozložení variant druhé proměnné (rozdíly párového výskytu jednotlivých variant proměnných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Jakou má </a:t>
            </a:r>
            <a:r>
              <a:rPr b="0" i="1" lang="cs-CZ" sz="2800" spc="-1" strike="noStrike">
                <a:solidFill>
                  <a:srgbClr val="00ffff"/>
                </a:solidFill>
                <a:latin typeface="Verdana"/>
              </a:rPr>
              <a:t>povahu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 je-li monotónní (lineární) či jiného druh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Určujeme i významnost (když máme reprezentativní výběrové soubory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5B4F-9005-4BA5-B761-FFC1AA4ED08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421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99"/>
                </a:solidFill>
                <a:latin typeface="Arial"/>
              </a:rPr>
              <a:t>SÍLA ASOCIACE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ěří statistické koeficienty asociace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užití konkrétních koeficientů je určen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Úrovní měření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ostí či tvarem kontingenční tabulk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nearitou či nelinearitou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56376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ymetrií či asymetrií vztah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75CBE-E34F-4339-9AE7-F9D3C32A6B23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3757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ffffff"/>
                </a:solidFill>
                <a:latin typeface="Verdana"/>
              </a:rPr>
              <a:t>Pro každou úroveň měření  (nominální, ordinální a kardinální) jsou určeny zvláštní koeficienty.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5B284-737E-452C-A4AC-2CB9A453F9A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24000" y="1268280"/>
          <a:ext cx="84960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496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68360" y="2133720"/>
            <a:ext cx="158256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4221000"/>
            <a:ext cx="1582920" cy="43200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3080" y="2190600"/>
            <a:ext cx="1582920" cy="3938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27280" y="404640"/>
            <a:ext cx="5761080" cy="51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ukrývá i Spearmanův koe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06840" y="1692360"/>
            <a:ext cx="1582920" cy="431640"/>
          </a:xfrm>
          <a:prstGeom prst="ellipse">
            <a:avLst/>
          </a:prstGeom>
          <a:noFill/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90792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D6438-5C9C-43D7-8A44-0EF12CA6F5D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920" y="475920"/>
            <a:ext cx="831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odnoty koeficientů se většinou pohybují v intervalech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00ffff"/>
                </a:solidFill>
                <a:latin typeface="Verdana"/>
              </a:rPr>
              <a:t>&lt;0;1&gt;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Koeficient vypovídá o síle tohoto vztahu, ne o jeho směr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(u nominálního znaku nemá směr žádný smysl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9D42F-AC88-4BB5-88DF-4489409C90B0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9:42:22Z</dcterms:created>
  <dc:creator>Petr Mareš</dc:creator>
  <dc:description/>
  <dc:language>en-US</dc:language>
  <cp:lastModifiedBy>Ladislav Rabušic</cp:lastModifiedBy>
  <dcterms:modified xsi:type="dcterms:W3CDTF">2006-11-22T08:32:58Z</dcterms:modified>
  <cp:revision>94</cp:revision>
  <dc:subject/>
  <dc:title>Analýza dat</dc:title>
</cp:coreProperties>
</file>