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BD8-48DC-437C-8E2D-C780EDF6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6D4-3D73-4F6D-8EF1-61540EE5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A1EA-C870-41E5-B779-DCDB1FC2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084-AC7A-4398-B9BB-FEBEB6F9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BA4B-21C9-4591-877D-BBA36DEB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E37A-268B-4163-ACA3-2031F8E5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2BC4-1E19-4D58-86D1-FF8901AD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BB0C-9717-4D83-8A8F-B665480F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4942-7AA8-4473-AF36-C9396782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5846-4576-44C0-A44B-CC7B949F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6FC1-26AF-41B9-8F80-C17DAB66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1523-FAF8-4042-A6FE-3F37230A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51C6-DB82-4DA5-B76E-135BAB60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B6CC-9635-40D2-8183-D2458A56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AABB-A140-43E3-88C3-E041D1B9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26CC-077A-489F-BBE9-61CF31BB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BA70-1293-4CBC-B41C-5001A5B8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844-621C-4D08-99D1-53E46F73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9B6-5D83-4882-BDEA-3FD85B1B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686-E910-4619-8225-C71DA176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F20-5028-4FDE-8C2A-6C9984DA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8D4-3643-4623-81E0-909A0546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82C-0ABB-4DCC-93DD-829B2516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AFD-3237-4709-BCA7-54E97783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228600" y="640044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&lt;footer&gt;</a:t>
            </a:r>
            <a:r>
              <a:rPr b="0" lang="cs-CZ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fld id="{146EB7AA-DF3B-4A15-9001-CA5701EECE58}" type="slidenum"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1A61-C1F4-42FF-94FE-AA978022B1F3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71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rvním krokem v jakékoliv analýze j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explorace dat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hledání pravidelností v datech. Začínáme s analýzou podle jednoho znaku, popisujeme soub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opis děláme v závislosti na typu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U nominálních znaků a u znaků s malým počtem kategorií vytváříme tabulky a graf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U znaků ordinálních s velkým počtem kategorií a u znaků kardinálních prezentujeme shrnující informaci prostřednictvím měr střední tendence a měr variability (rozptyl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DA1-1C84-4D2F-8E49-83ADD12697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45720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Jak nemá vypadat 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ab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5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Pramen: European Values Study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1905120"/>
          <a:ext cx="8763120" cy="444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5120"/>
                    <a:ext cx="8763120" cy="44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329-1903-4F21-AEF2-5E9BEC9EFEC0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Jak má vypadat 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Tab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(1991 19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Pramen: European Values Study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066680" y="2133720"/>
          <a:ext cx="6858000" cy="3876480"/>
        </p:xfrm>
        <a:graphic>
          <a:graphicData uri="http://schemas.openxmlformats.org/drawingml/2006/table">
            <a:tbl>
              <a:tblPr/>
              <a:tblGrid>
                <a:gridCol w="4864320"/>
                <a:gridCol w="199368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zhodně 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zhodně nesouhlasí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 = 1 78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6B8-604D-4AC1-B06D-442FABFEEA82}" type="slidenum">
              <a:t>3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27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Obr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00"/>
                </a:solidFill>
                <a:latin typeface="Times New Roman"/>
              </a:rPr>
              <a:t>Pramen: EVS 199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892080"/>
          <a:ext cx="762012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92080"/>
                    <a:ext cx="762012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4F9-80FB-4FB4-906F-D3A31C1D07C4}" type="slidenum">
              <a:t>4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marL="27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Obr. 1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Zaměstnání je dobrá věc, po čem však většina žen opravdu touží, je domov a dět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(1991 a 19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3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00"/>
                </a:solidFill>
                <a:latin typeface="Times New Roman"/>
              </a:rPr>
              <a:t>Pramen: EVS 1991 a 199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43000" y="838080"/>
          <a:ext cx="7620120" cy="558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762012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DD9-81AD-41D1-B602-512AC7340F22}" type="slidenum">
              <a:t>5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00"/>
                </a:solidFill>
                <a:latin typeface="Times New Roman"/>
              </a:rPr>
              <a:t>Univariační analýz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48520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etrické znaky nemá smysl tabel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rezentujeme jejich střední hodnoty a míry var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Střední hodno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odus, medián, průmě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íry varibil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Směrodatná odchylka, kvartily, decily, percent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CD4-A36D-499F-82C7-5B2700CBFE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1:24:24Z</dcterms:created>
  <dc:creator>Rabusic</dc:creator>
  <dc:description/>
  <dc:language>en-US</dc:language>
  <cp:lastModifiedBy>Rabusic</cp:lastModifiedBy>
  <dcterms:modified xsi:type="dcterms:W3CDTF">2006-10-04T06:44:29Z</dcterms:modified>
  <cp:revision>210</cp:revision>
  <dc:subject/>
  <dc:title>Proč jsou u nás lidé, kteří žijí v nouzi?  Ladislav Rabušic</dc:title>
</cp:coreProperties>
</file>