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039680" y="715680"/>
            <a:ext cx="478008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9077040"/>
            <a:ext cx="29718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B33-D81A-44BF-AE82-E60BD99B01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39680" y="71604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538520"/>
            <a:ext cx="50292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1E5-802C-4EA5-8173-B8ACE833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E4E-6931-450E-B489-CB229F85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C2B-334F-40C6-8056-8DFE41A4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B92-2A61-4BBB-8D09-34813082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B47C-77D5-4045-B579-BD2EFA58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2534-AE73-48D0-A069-2D535E8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5896-E59F-4769-9AFB-7614B766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A840-46A2-4675-890E-693DF0E2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2F4B-C293-49BE-AA9D-3054030C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484D-DE64-448D-8348-98B23367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291E-45FC-467E-9038-081A493E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2D0-0E53-42DC-9A62-85215716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C5A2-8738-46FA-8878-85A2046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A8A3-80C3-4DB3-BD0A-55352A69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57E0-B8EB-4A4D-A0DB-55E97E5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2CBF-D87B-4522-863F-CC0E148B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B401-4651-43AD-9777-64551E67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6BC-2EAE-4A1D-ABD4-CA61F4B2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CF8-FAE8-44DF-8F06-7A0C59A1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050-272E-452A-B813-0FCE084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B95-FC95-4834-A030-D90D6BA3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15F-8237-47BD-B96B-1D259D40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115-1C11-45F5-9B60-3D3C0B2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870-FEF1-4B98-807A-2C4BA924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4FBE-6DB9-4C30-A632-6ADDE2707A59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3BF2-36F4-41A6-8575-2280E942DBD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380880"/>
            <a:ext cx="868680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1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č jsou u nás lidé, kteří žijí v nouzi? Zde jsou čtyři možné důvody. Který z nich považujete za nejdůležitější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vyznačte jeden ve sloupci (a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Q12: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který důvod považujete za druhý nejdůležitější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Pokyn:  vyznačte jeden ve sloupci (b) dol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8600" y="1978200"/>
            <a:ext cx="8686080" cy="4574520"/>
            <a:chOff x="228600" y="1978200"/>
            <a:chExt cx="8686080" cy="4574520"/>
          </a:xfrm>
        </p:grpSpPr>
        <p:sp>
          <p:nvSpPr>
            <p:cNvPr id="154" name=""/>
            <p:cNvSpPr/>
            <p:nvPr/>
          </p:nvSpPr>
          <p:spPr>
            <a:xfrm>
              <a:off x="228600" y="197820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6000" y="197820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0480" y="197820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0084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a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7760" y="197820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00" y="2537640"/>
              <a:ext cx="4374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6000" y="2537640"/>
              <a:ext cx="43444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mají smůl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480" y="2537640"/>
              <a:ext cx="99036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084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57760" y="2537640"/>
              <a:ext cx="14569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8600" y="308520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000" y="308520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Z lenosti a nedostatku pevné vů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10480" y="308520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7760" y="308520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632040"/>
              <a:ext cx="43740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6000" y="3632040"/>
              <a:ext cx="434448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tože je v naší  společnosti bezprá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0480" y="3632040"/>
              <a:ext cx="99036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084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57760" y="3632040"/>
              <a:ext cx="1456920" cy="69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600" y="4326480"/>
              <a:ext cx="43740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6000" y="4326480"/>
              <a:ext cx="434448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yhnutelně to patří k pokroku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0480" y="4326480"/>
              <a:ext cx="9903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0084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57760" y="4326480"/>
              <a:ext cx="145692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48736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6000" y="48736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Žádný z těchto  důvodů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0480" y="48736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084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7760" y="48736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433480"/>
              <a:ext cx="437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6000" y="5433480"/>
              <a:ext cx="4344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10480" y="5433480"/>
              <a:ext cx="9903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0084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57760" y="5433480"/>
              <a:ext cx="14569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Symbol"/>
                </a:rPr>
                <a:t> 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5993280"/>
              <a:ext cx="43740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6000" y="5993280"/>
              <a:ext cx="434448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0480" y="5993280"/>
              <a:ext cx="990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0084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57760" y="5993280"/>
              <a:ext cx="145692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89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215-3A48-430F-9230-D6CFC5088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kto můžeme vytvořit postupně zbylé proměnné „lenost“, „bezprav“ a „pokrok“. Jelikož ale je to zdlouhavém, využijeme možnosti syntaxe. Při vytváření proměnné „smula“ jsem totiž po každém kroku klikl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aste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, které vtlačí operaci sestavenou z kroků v SPSS oknech do textového souboru. Konkrétně tedy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2895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ení nic snazšího, než tento text editovat takovým způsobem, abychom dostali příkaz pro vytvoření zbylých tří proměnnýc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638-E336-43BB-83DE-BCB3FF7D8C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716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smula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 = 1) smula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 = 1) smula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lenost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2) lenost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2) lenost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bezprav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3) bezpravi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3) bezpravi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COMPUTE pokrok = 1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2=4) pokrok = 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IF (q11=4) pokrok = 3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urier New"/>
              </a:rPr>
              <a:t>EXECU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C49-5942-47D9-A283-6196347D5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 syntax: výsledek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09680" y="946080"/>
            <a:ext cx="5029200" cy="1619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38480" y="2886120"/>
            <a:ext cx="5000400" cy="1609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314440" y="4802040"/>
            <a:ext cx="5000760" cy="15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E14-D414-46EF-8F1F-39152ADD45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 procedura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ransform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 Compute: všem případům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astavíme hodnotu 1. Klikneme na OK.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1420920"/>
            <a:ext cx="7875720" cy="5132160"/>
            <a:chOff x="1066680" y="1420920"/>
            <a:chExt cx="7875720" cy="513216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066680" y="1420920"/>
              <a:ext cx="787572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1066680" y="1420920"/>
              <a:ext cx="7875720" cy="513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609480" indent="-609480">
                <a:spcBef>
                  <a:spcPts val="1599"/>
                </a:spcBef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4191120" y="914400"/>
            <a:ext cx="1218960" cy="12193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A13-850A-4D94-990E-8780026A0B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Hodnotu 2 přiřadíme těm případům, kteří variantu „smůla“ vybrali jako druhou v pořadí.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If…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a vepíšeme podmínku, že hodnota q12 se rovná 1.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70000" y="152388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47920" y="1295280"/>
            <a:ext cx="2590560" cy="41911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0E0-2342-4204-A75A-AA9FA2D783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epsali jsme podmínku a klikneme na tlačítko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ontinu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70000" y="1371600"/>
            <a:ext cx="77724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B88-3FB3-4A4E-8CB9-D8520F96AD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V dialogovém okně vidíme, že proměnná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bude mít hodnotu 2, když q12=1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170000" y="1482840"/>
            <a:ext cx="777240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2C3-E8DE-4676-9685-8E216777AD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Objeví se otázka, zdali chceme změnit existující proměnnou. My samozřejmě chceme, neboť tímto krokem přidáváme k již existující hodnotě 1, kterou zatím mají všichni respondenti, hodnotu 2 těm, kdo variantu „smůla“ vybrali na druhém místě. Klikneme na OK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09680" y="2940120"/>
            <a:ext cx="4953240" cy="262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24A-06E0-403D-B1CB-9875468D2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tejným způsobem doplníme podmínku, že pokud respondent vybral jako nejdůležitější důvod smůlu (zvolil tedy v proměnné q11 hodnotu 1), dostane v nové proměnné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smula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odnotu 3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0000" y="23623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4724280" y="1557360"/>
            <a:ext cx="152640" cy="3962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1981080"/>
            <a:ext cx="1066680" cy="9144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C36-02CB-4953-A34D-6DC2909B0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Ukažme si pro kontrolu výsledek. Nejdříve rozložení q11 a q12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95280" y="1255680"/>
            <a:ext cx="4419720" cy="270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724280" y="4124160"/>
            <a:ext cx="41911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348-0094-44DF-AB1F-5FA866AA4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If: Srovnejme varianty prvního důvodu s proměnnou q11 a druhého důvodu s proměnnou q12. Vidíme, že rozložení je stejné, postupujeme tedy správným způsobem.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70000" y="2752560"/>
            <a:ext cx="7772400" cy="250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5B9-F9BB-49CA-A5B1-DD352FCD00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</cp:lastModifiedBy>
  <dcterms:modified xsi:type="dcterms:W3CDTF">2002-10-22T09:44:40Z</dcterms:modified>
  <cp:revision>52</cp:revision>
  <dc:subject/>
  <dc:title>Proč jsou u nás lidé, kteří žijí v nouzi?  Ladislav Rabušic</dc:title>
</cp:coreProperties>
</file>