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B18-2DCC-4CFB-BADF-084577E3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C99-BF80-4E04-BDB4-73F8DABD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C376-F5C3-4332-B406-EA29DAF4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11B4-9E76-4990-9C45-664FDBAF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58CB-8DED-462A-9A08-9C9462BB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4136-FE76-46C2-98BE-46953B70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55B1-63A1-4228-9CA2-96B90229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8F70-D37F-42F8-8362-C81B7E01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9894-F53C-4399-AD93-30D453C7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A554-578D-40D6-B5B4-7C2271C2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A0F1-CF21-46F5-863E-FBC93DEF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0DAB-A974-497E-8B69-3D9D35A3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9F5A-798A-4772-BAFE-8514DCE9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87DF-A955-4B68-B246-B06C7A27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66C2-C2C6-405B-BB6F-A5D0EC18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C90D-BE45-414D-9F35-3ABD36E0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1623-064E-40DE-97AD-3452BA4E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0A7C-4EAD-4508-81E3-D7EA90B0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CD66-BC91-40DB-BB9D-F8836A70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6467-3AB5-4105-9070-F2A1F2C1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44D-A00E-4539-AFE4-D96A309F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C7C-C2BA-47B2-A404-35040D99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FC38-ED19-45CD-95F9-AC8EE630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B44-CA39-4B70-A548-9877297E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228600" y="640044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r>
              <a:rPr b="0" lang="cs-CZ" sz="1200" spc="-1" strike="noStrike">
                <a:solidFill>
                  <a:srgbClr val="ffff99"/>
                </a:solidFill>
                <a:latin typeface="Times New Roman"/>
              </a:rPr>
              <a:t> </a:t>
            </a:r>
            <a:fld id="{AFDE325F-E13A-468C-8941-393C9CCA13CE}" type="slidenum"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9A8C-C590-485F-8564-419E8688CF2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Srovnávání skupin na základě středních hodnot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71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cedury SP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M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T-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An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F8F-48A9-45A1-A32B-22ED00C151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Testování hypotéz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280" y="380880"/>
            <a:ext cx="894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00"/>
                </a:solidFill>
                <a:latin typeface="Times New Roman"/>
              </a:rPr>
              <a:t>Nulová hypotéza jako specifický případ statistické hypotézy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ffffff"/>
                </a:solidFill>
                <a:latin typeface="Times New Roman"/>
              </a:rPr>
              <a:t>Mezi blondýnkami a černovláskami nebude v testech inteligence žádný rozdíl (rozdíl bude 0 nebo blízký 0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 u="sng">
                <a:solidFill>
                  <a:srgbClr val="ffff00"/>
                </a:solidFill>
                <a:uFillTx/>
                <a:latin typeface="Times New Roman"/>
              </a:rPr>
              <a:t>Alternativní </a:t>
            </a:r>
            <a:r>
              <a:rPr b="0" lang="cs-CZ" sz="2900" spc="-1" strike="noStrike">
                <a:solidFill>
                  <a:srgbClr val="ffff00"/>
                </a:solidFill>
                <a:latin typeface="Times New Roman"/>
              </a:rPr>
              <a:t>hypotéza k hypotéze nulové: </a:t>
            </a:r>
            <a:r>
              <a:rPr b="0" lang="cs-CZ" sz="2900" spc="-1" strike="noStrike" u="sng">
                <a:solidFill>
                  <a:srgbClr val="ffff00"/>
                </a:solidFill>
                <a:uFillTx/>
                <a:latin typeface="Times New Roman"/>
              </a:rPr>
              <a:t>nesměrová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ffffff"/>
                </a:solidFill>
                <a:latin typeface="Times New Roman"/>
              </a:rPr>
              <a:t>Blondýnky a černovlásky se budou v testech inteligence odlišovat (průměry budou odlišné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00"/>
                </a:solidFill>
                <a:latin typeface="Times New Roman"/>
              </a:rPr>
              <a:t>Alternativní hypotéza k hypotéze nulové: </a:t>
            </a:r>
            <a:r>
              <a:rPr b="0" lang="cs-CZ" sz="2900" spc="-1" strike="noStrike" u="sng">
                <a:solidFill>
                  <a:srgbClr val="ffff00"/>
                </a:solidFill>
                <a:uFillTx/>
                <a:latin typeface="Times New Roman"/>
              </a:rPr>
              <a:t>směrová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ffffff"/>
                </a:solidFill>
                <a:latin typeface="Times New Roman"/>
              </a:rPr>
              <a:t>Blondýnky budou mít v testech inteligence nižší skóre než černovlásky (průměr B </a:t>
            </a:r>
            <a:r>
              <a:rPr b="0" i="1" lang="en-US" sz="2900" spc="-1" strike="noStrike">
                <a:solidFill>
                  <a:srgbClr val="ffffff"/>
                </a:solidFill>
                <a:latin typeface="Times New Roman"/>
              </a:rPr>
              <a:t>&lt; p</a:t>
            </a:r>
            <a:r>
              <a:rPr b="0" i="1" lang="cs-CZ" sz="2900" spc="-1" strike="noStrike">
                <a:solidFill>
                  <a:srgbClr val="ffffff"/>
                </a:solidFill>
                <a:latin typeface="Times New Roman"/>
              </a:rPr>
              <a:t>růměr Č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00"/>
                </a:solidFill>
                <a:latin typeface="Times New Roman"/>
              </a:rPr>
              <a:t>Alternativní hypotéza k hypotéze nulové: </a:t>
            </a:r>
            <a:r>
              <a:rPr b="0" lang="cs-CZ" sz="2900" spc="-1" strike="noStrike" u="sng">
                <a:solidFill>
                  <a:srgbClr val="ffff00"/>
                </a:solidFill>
                <a:uFillTx/>
                <a:latin typeface="Times New Roman"/>
              </a:rPr>
              <a:t>přesná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26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900" spc="-1" strike="noStrike">
                <a:solidFill>
                  <a:srgbClr val="ffffff"/>
                </a:solidFill>
                <a:latin typeface="Times New Roman"/>
              </a:rPr>
              <a:t>Černovlásky budou mít v testech inteligence skóre vyšší o 20 bodů než blondýnky (Č – B = 20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A133-22CD-47F9-BF77-68CFAD51CB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Testy statistické významnosti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713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Na základě čeho rozhoduji o významnosti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Na základě kritické hodnoty – hladina významnosti (alf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Magická hranice 95 % (p = 0,05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DA0B-ED74-4766-8128-FA962DA1D7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790120" cy="56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Jednostranný (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one-tailed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) a dvoustranný test (two-tail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ritika testů význam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Nadužívání testů významnosti (reprezentativi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Rigidita 95% hranice význam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Nešťastný výraz „významnost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Parametrické a neparametrické tes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1D69-E983-4F11-9A36-5819DA2271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Srovnávání skupin na základě středních hodnot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13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Means: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2 a více proměnn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visle proměnná – kardinál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ávisle proměnná(é): kategorizovaná /ordinální nebo nominál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3880" y="3657600"/>
          <a:ext cx="6096240" cy="2736720"/>
        </p:xfrm>
        <a:graphic>
          <a:graphicData uri="http://schemas.openxmlformats.org/drawingml/2006/table">
            <a:tbl>
              <a:tblPr/>
              <a:tblGrid>
                <a:gridCol w="4038840"/>
                <a:gridCol w="205740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tegorie nezávisle pro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2DB-8CB9-4861-91CA-26D66895B6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Srovnávání skupin na základě středních hodnot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13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Means: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2 a více proměnn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visle proměnná – kardinál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ávisle proměnná(é): kategorizovaná /ordinální nebo nominál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523880" y="3657600"/>
          <a:ext cx="6096240" cy="2736720"/>
        </p:xfrm>
        <a:graphic>
          <a:graphicData uri="http://schemas.openxmlformats.org/drawingml/2006/table">
            <a:tbl>
              <a:tblPr/>
              <a:tblGrid>
                <a:gridCol w="4038840"/>
                <a:gridCol w="205740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tegorie nezávisle pro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ákladn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yučen(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992-30C1-43EE-AD84-A3EDA6210E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Srovnávání skupin na základě středních hodnot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13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Means: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2 a více proměnn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visle proměnná – kardinál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ávisle proměnná(é): kategorizovaná /ordinální nebo nominál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23880" y="3657600"/>
          <a:ext cx="6096240" cy="2736720"/>
        </p:xfrm>
        <a:graphic>
          <a:graphicData uri="http://schemas.openxmlformats.org/drawingml/2006/table">
            <a:tbl>
              <a:tblPr/>
              <a:tblGrid>
                <a:gridCol w="4038840"/>
                <a:gridCol w="205740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tegorie nezávisle pro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ůměry z.p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ákladn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yučen(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D42-6015-4F27-B876-7C71542B27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Srovnávání skupin na základě středních hodnot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13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Means: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2 a více proměnn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visle proměnná – kardinál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ávisle proměnná(é): kategorizovaná /ordinální nebo nominál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23880" y="3657600"/>
          <a:ext cx="6096240" cy="2736720"/>
        </p:xfrm>
        <a:graphic>
          <a:graphicData uri="http://schemas.openxmlformats.org/drawingml/2006/table">
            <a:tbl>
              <a:tblPr/>
              <a:tblGrid>
                <a:gridCol w="4038840"/>
                <a:gridCol w="205740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tegorie nezávisle pro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ůměry z.p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ákladn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yučen(a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4EA3-D7D3-415B-A8F5-655C912D07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Srovnávání skupin na základě středních hodnot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533520"/>
            <a:ext cx="8713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T-tes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2 proměnn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visle proměnná – kardinál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ávisle proměnná: kategorizovaná pouze se dvěma kategorie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3880" y="3740040"/>
          <a:ext cx="6096240" cy="1670040"/>
        </p:xfrm>
        <a:graphic>
          <a:graphicData uri="http://schemas.openxmlformats.org/drawingml/2006/table">
            <a:tbl>
              <a:tblPr/>
              <a:tblGrid>
                <a:gridCol w="4038840"/>
                <a:gridCol w="2057400"/>
              </a:tblGrid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tegorie nezávisle pro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ůměry z.p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ž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Žen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228600" y="5668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Test signifikance rozdílů mezi průmě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ED6-4C06-45C7-AC56-A58FEBADEF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8390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Srovnávání skupin na základě středních hodnot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609120"/>
            <a:ext cx="8713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Anova: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2 proměnn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visle proměnná – kardinál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závisle proměnná: kategorizovaná s více než  dvěma kategorie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3880" y="3200400"/>
          <a:ext cx="6096240" cy="2705040"/>
        </p:xfrm>
        <a:graphic>
          <a:graphicData uri="http://schemas.openxmlformats.org/drawingml/2006/table">
            <a:tbl>
              <a:tblPr/>
              <a:tblGrid>
                <a:gridCol w="4038840"/>
                <a:gridCol w="2057400"/>
              </a:tblGrid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tegorie nezávisle pro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ůměry z.p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-29 l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-39 l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-49 l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 a více l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80880" y="597384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Test signifikance </a:t>
            </a: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vzájemných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rozdílů mezi průmě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C524-6D6A-4068-8AC0-B8F09E544E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imes New Roman"/>
              </a:rPr>
              <a:t>Co je testování statistické signifikance?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71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last statistického usuzování (statistické infere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ESTOVÁNÍ směřuje </a:t>
            </a: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k zobecnění dat výběrového souboru na základní soubor.</a:t>
            </a: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je se prostřednictvím </a:t>
            </a: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testů signfik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est signifikance: </a:t>
            </a:r>
            <a:r>
              <a:rPr b="0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test nulové hypotéz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zdali je možné, nebo ji není možné zamítn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o je nulová hypotéz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02D-C991-4D34-BD4F-B6138EE3C8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imes New Roman"/>
              </a:rPr>
              <a:t>Testování hypotéz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713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ýzkumná hypotéz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arva vlasů ženy má vliv na míru její intelig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Statistická hypotéza jako operacionalizovaná výzkumná hypotéz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londýnky se budou lišit od černovlásek ve výsledcích v testu intelige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Nulová hypotéza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jako specifický případ statistické hypotéz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ezi blondýnkami a černovláskami nebude v testech inteligence žádný rozdí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2BDE-5899-4D99-8FAD-F497B2C6FB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21:24:24Z</dcterms:created>
  <dc:creator>Rabusic</dc:creator>
  <dc:description/>
  <dc:language>en-US</dc:language>
  <cp:lastModifiedBy>Rabusic</cp:lastModifiedBy>
  <dcterms:modified xsi:type="dcterms:W3CDTF">2006-11-01T07:45:23Z</dcterms:modified>
  <cp:revision>221</cp:revision>
  <dc:subject/>
  <dc:title>Proč jsou u nás lidé, kteří žijí v nouzi?  Ladislav Rabušic</dc:title>
</cp:coreProperties>
</file>