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53C4-5176-4BBF-9C1D-D75831AD16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 = 0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ztah není nebo není lineárn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lost hodnoty X nezlepší naši schopnost odhadnout správně hodnotu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r = 1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erfektní pozitivní korel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rostoucí hodnotou X hodnota Y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rost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Hodnotu Y odhadneme na základě znalosti hodnoty X bez jakéhokoliv omy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r = - 1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erfektní negativní korel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rostoucí hodnotou X hodnota Y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kles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Hodnotu Y odhadneme na základě znalosti hodnoty X bez jakéhokoliv omy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9FE-DE78-4128-969E-DF314AD8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AE5-03D5-4DB1-8531-1F86CE84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A49-90B2-417C-A432-F532C26C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0D4-285C-4D3F-8083-93DC7163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B215-0283-4A48-86B8-E224E8CA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7B8C-FB8F-445A-8B97-D308A609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7AAB-60CF-43C5-B275-322A14DB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0268-BD43-4A9C-9934-640DD917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6BE2-1FB5-4430-B637-F419E8EC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B790-2206-43EF-9FBB-60428F77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F09F-4DCA-4307-BD24-4ECCBBA9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D0F-5D9F-4027-B28E-30D0C81C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A36B-322C-4815-BC16-8CE21AFB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7E35-9783-4E69-89BD-D292215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7EA-F01B-4D80-80FA-02F7E885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37B3-6DED-4499-8364-0FDCBBE2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174C-E77F-41C3-A46C-6FAFA840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98D-0D3C-4368-8F6B-0E447CFD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37F-93DE-4A5E-9DF4-526A5BD0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08C-8892-4314-8A71-A86ECA3E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59F-6B2A-4B8A-95C6-C6BB0F8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59E-A465-4E8F-B74C-ECCA977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F66-AECD-4491-B8D1-A632A81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59D-075C-4609-B1D4-0DAD98DB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E0CD-7499-466C-BB58-4CE1AE7F980A}" type="datetime">
              <a:rPr b="0" lang="cs-CZ" sz="1000" spc="-1" strike="noStrike">
                <a:solidFill>
                  <a:srgbClr val="ffffff"/>
                </a:solidFill>
                <a:latin typeface="Verdana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828F-4DE8-434C-97AE-BB2EA3AFCA5B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5126-AAF2-4912-8A87-FCB857D1CC2A}" type="datetime">
              <a:rPr b="0" lang="cs-CZ" sz="1000" spc="-1" strike="noStrike">
                <a:solidFill>
                  <a:srgbClr val="ffffff"/>
                </a:solidFill>
                <a:latin typeface="Verdana"/>
              </a:rPr>
              <a:t>29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463A-7F4E-48A8-8C09-B1C9D95A368B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622440"/>
            <a:ext cx="8713800" cy="43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Základy dvourozměrné  analýzy: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měření síly asociací dvou proměnných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(koeficienty asociace)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8BE80A-1D13-409C-84BB-85A347E4D139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0920" y="549360"/>
            <a:ext cx="8317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&lt;-1;+1&gt;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oeficient vypovídá o síle tohoto vztahu, znaménko o jeho směru (ordinální a kardinální proměnné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07082-B037-4DB9-9F7F-CA86ADF48DB8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2000" y="620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ím vyšší je hodnota koeficientu asociace (v absolutní hodnotě), tím silnější je vzta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naménko koeficientu asociace určuje směr (asymetrického) vztahu. Neříká nic o síle vztah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o té vypovídá absolutní hodnota koeficient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0EAA3-1A4D-4844-AC26-78C3C95D8C81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42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HODNOTA KOEFICIENTU ASOCIACE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704600"/>
            <a:ext cx="8534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86421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ulov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bvykl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znamená, ž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tah neexistuj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ěkdy ovšem je to jen výraz toho, ž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tah není lineárn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dnota 1,00 znamená perfektní vzt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666CC-D52F-434D-B6CE-C66C6AFFCD6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0240" y="333360"/>
            <a:ext cx="84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KOEFICIENTY MÍRY ASOCIACE</a:t>
            </a:r>
            <a:br>
              <a:rPr sz="3600"/>
            </a:b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PRO NOMINÁLNÍ PROMĚNNÉ</a:t>
            </a:r>
            <a:br>
              <a:rPr sz="3600"/>
            </a:b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 ZALOŽENÉ NA CHÍ</a:t>
            </a:r>
            <a:r>
              <a:rPr b="1" lang="cs-CZ" sz="36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Phi: Pro tabulky 2x2, u větších může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bývat hodnot nad 1,0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: Pearsonův koeficient kontingence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bývá hodnot &lt;0;1&gt;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ram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’s 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 větší tabul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u tabulky 2x2 je identický s Ph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629D6-7568-4131-817A-8822E11231F8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0240" y="333000"/>
            <a:ext cx="84214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99"/>
                </a:solidFill>
                <a:latin typeface="Arial"/>
              </a:rPr>
              <a:t>KOEFICIENTY ASOCIACE</a:t>
            </a:r>
            <a:br>
              <a:rPr sz="3600"/>
            </a:br>
            <a:r>
              <a:rPr b="0" lang="cs-CZ" sz="3600" spc="-1" strike="noStrike">
                <a:solidFill>
                  <a:srgbClr val="ffff99"/>
                </a:solidFill>
                <a:latin typeface="Arial"/>
              </a:rPr>
              <a:t>PRO NOMINÁLNÍ PROMĚNNÉ</a:t>
            </a:r>
            <a:br>
              <a:rPr sz="3600"/>
            </a:br>
            <a:r>
              <a:rPr b="0" lang="cs-CZ" sz="3600" spc="-1" strike="noStrike">
                <a:solidFill>
                  <a:srgbClr val="ffff99"/>
                </a:solidFill>
                <a:latin typeface="Arial"/>
              </a:rPr>
              <a:t> ZALOŽENÉ NA PROPORCIÁLNÍ REDUKCI CHYBY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99880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metrické LAMB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symetrické LAMBDA. Hodnota závisí na tom, která proměnná predikuje druhou proměnno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7BE2A-E4EE-4F93-A311-A266C3878B80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KOEFICIENTY ASOCI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ORDINÁLNÍCH PROMĚNNÝCH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bývají hodnot &lt;-1;1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 lineární vztahy. U nelineárních vztahů se použije míra asociace pro nominální proměnn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5013360"/>
            <a:ext cx="828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DEC2F-024B-4B6C-B980-97230ED28EA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133200"/>
            <a:ext cx="8421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461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 symetrické vzta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Goodman-Kruskalovo Gamma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Kendallovo tau</a:t>
            </a:r>
            <a:r>
              <a:rPr b="0" lang="cs-CZ" sz="3200" spc="-1" strike="noStrike" baseline="-25000">
                <a:solidFill>
                  <a:srgbClr val="66ffff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čtvercová tabulka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Kendallovo tau</a:t>
            </a:r>
            <a:r>
              <a:rPr b="0" lang="cs-CZ" sz="3200" spc="-1" strike="noStrike" baseline="-25000">
                <a:solidFill>
                  <a:srgbClr val="66ffff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obdélníkové tabulky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ff"/>
                </a:solidFill>
                <a:latin typeface="Verdana"/>
              </a:rPr>
              <a:t>Spearmanů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oeficient pořadové korel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 asymetrické vzta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Somersovo D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 jedna z proměnných brána jako závislá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4E502-9B6D-4F29-967D-A91FCBD15978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0240" y="333000"/>
            <a:ext cx="8421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GAM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9036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založeno na schopnosti odhadnout hodnoty jedné proměnné na základě znalosti hodnot druhé proměnn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83AB1-8EEB-4A7B-8B72-5F5D526CFA39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KLA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dpokládejme, že míra religioz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zitivně koresponduje s míro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odporu vůči potratům (obě ordinální!)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Je-li tedy osoba A religióznější než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osoba B, lze předpokládat, že i mí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odporu proti potratům u ní bude větš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než u osoby B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rovnáváme všechny páry a GAM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je podílem párových srovnání, kter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omuto předpokladu vyhovují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C2B20-BDC7-4D1C-AB06-A7B6C68DDAD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404640"/>
            <a:ext cx="838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KOEFICIENTY ZALOŽENÉ </a:t>
            </a:r>
            <a:br>
              <a:rPr sz="4000"/>
            </a:b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NA POŘADOVÉ KORELAC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SPEARMANŮ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koeficien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pořadové korelace je neparametrickou metodou a nabývá hodnot &lt;-1;+1&gt;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vhodný pro ordinální proměnné s větším počtem hodno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4D879-C2D7-499F-98BD-EDFEB411013E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8000" y="620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kolem dvourozměrné analýzy nebo vícerozměrné analýzy (více proměnných) je zjistit, je-li mezi nimi prokazatelná souvislost (matematická – kterou nelze zaměnit za vztah příčiny a následk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„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Osoby s vysokoškolským vzděláním mají vyšší příjmy“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308AF-2570-4939-9591-130FD2A876CF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KOEFICIENTY KOREALCE</a:t>
            </a:r>
            <a:br>
              <a:rPr sz="4000"/>
            </a:b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PRO KARDINÁLNÍ PROMĚNNÉ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2492280"/>
            <a:ext cx="800568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Verdana"/>
              </a:rPr>
              <a:t>PEARSONŮV KORELAČNÍ KOEFICIENT 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eficient nerozlišuje co je příčina a co důsledek (nezávislá a závislá proměnná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0EBC5-CFBE-44CE-B924-3E49A608A77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000" y="195120"/>
            <a:ext cx="367164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FEKTNÍ KOREL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023840" y="981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0600" y="3068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3613320"/>
            <a:ext cx="360036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FEKTNÍ NEZÁVIS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627360"/>
            <a:ext cx="367164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ILNÁ KORE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pozitiv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4437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4437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23840" y="6524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0920" y="6524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042920" y="1196640"/>
            <a:ext cx="151308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077840" y="5373360"/>
            <a:ext cx="2702160" cy="10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5300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732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537372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5877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580536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5640" y="616572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6021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6237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6237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0000" y="57340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616572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23280" y="5516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04000" y="5732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594828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5877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51640" y="4869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6093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472428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12000" y="508464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4508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5445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32720" y="4797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32720" y="515772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623736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508464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72360" y="5661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536256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4365720"/>
            <a:ext cx="2017800" cy="1942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508464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3080" y="4869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508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566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08720" y="566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72360" y="5877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27640" y="501336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0287200">
            <a:off x="1258560" y="5589360"/>
            <a:ext cx="252108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602136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5661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445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920" y="566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720" y="4221000"/>
            <a:ext cx="115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692280"/>
            <a:ext cx="1440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ozitivní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182520"/>
            <a:ext cx="367200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ILNÁ KORE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negativ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981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3080" y="3068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1197000"/>
            <a:ext cx="2376360" cy="20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99280" y="1989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3242600">
            <a:off x="5435280" y="1773000"/>
            <a:ext cx="252108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15280" y="2205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0920" y="242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46920" y="213372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20000" y="249228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2276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6000" y="27082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249228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0360" y="17002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127944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14954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88000" y="171144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192708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99280" y="1773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5280" y="1989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30920" y="2205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48428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0000" y="981000"/>
            <a:ext cx="158436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2112840"/>
            <a:ext cx="1511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 =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negativ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103824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 se blíží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58920" y="478152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 se blíží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CE0BC-0FA8-4C26-A1BE-BC51DE3C446F}" type="datetime1">
              <a:rPr lang="en-US"/>
              <a:t>07/29/26</a:t>
            </a:fld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TA koefici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dyž </a:t>
            </a:r>
            <a:r>
              <a:rPr b="0" lang="cs-CZ" sz="3200" spc="-1" strike="noStrike">
                <a:solidFill>
                  <a:srgbClr val="ffff99"/>
                </a:solidFill>
                <a:latin typeface="Verdana"/>
              </a:rPr>
              <a:t>závisle proměn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kardinální (měřená na intervalové škále) 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99"/>
                </a:solidFill>
                <a:latin typeface="Verdana"/>
              </a:rPr>
              <a:t>nezávisle proměnn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nominální nebo ordinální (měře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nominální nebo ordinální škál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72B5E-7211-4C11-AA3A-E19B6C73D13A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0240" y="475920"/>
            <a:ext cx="8421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TEST LINEARITY ASOCI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užít kontingenční tabulku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rovnat skupinové průměr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rovnat lineární a nelineární koeficient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nalyzovat residuál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užít „Curve Estimation Program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4ACD6-0B39-4C59-9621-1E014BF40A9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0240" y="475920"/>
            <a:ext cx="84214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797040"/>
            <a:ext cx="8280360" cy="26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800000"/>
                </a:solidFill>
                <a:latin typeface="Arial"/>
              </a:rPr>
              <a:t>PROCEDU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800000"/>
                </a:solidFill>
                <a:latin typeface="Arial"/>
              </a:rPr>
              <a:t>CORRELA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cs-CZ" sz="4000" spc="-1" strike="noStrike">
                <a:solidFill>
                  <a:srgbClr val="800000"/>
                </a:solidFill>
                <a:latin typeface="Arial"/>
              </a:rPr>
              <a:t>matice korelačních koeficientů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cddrive"/>
          <p:cNvSpPr/>
          <p:nvPr/>
        </p:nvSpPr>
        <p:spPr>
          <a:xfrm>
            <a:off x="1979640" y="4179960"/>
            <a:ext cx="5184720" cy="1625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63120-C689-4A8D-96D0-CF1E2BDA9AFE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57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9DAC5-7147-424A-9170-1289CF21320F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81406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kázání ASOCIACE není důkazem její KAUZALITY.</a:t>
            </a:r>
            <a:br>
              <a:rPr sz="3600"/>
            </a:b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ouvislost či vztah je vlastně jen   pravděpodobnosti uhádnout správně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v (hodnotu) jedné proměnné na základě stavu (hodnoty) druhé proměnné.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5F848-D59A-41E9-BF43-3A6C8BC22699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3 PODMÍNKY KAUZA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9600" y="1196640"/>
            <a:ext cx="815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ISTUJÍ SOUBĚŽNÉ ZMĚNY V OBOU PROMĚNNÝ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VYLOUČENA EXISTENCE NĚJAKÉ DALŠÍ, VNĚJŠÍ PŘÍČI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MĚNY V OBOU PROMĚNNÝCH SE OBJEVUJÍ V LOGICKÉM POŘADÍ (ROZLIŠENÍ PŘÍČINY A DŮSLEDK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BDFFB-B7B7-4C36-BB8C-58C1E57DA18B}" type="datetime1">
              <a:rPr lang="en-US"/>
              <a:t>07/29/26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15560"/>
            <a:ext cx="842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Arial"/>
              </a:rPr>
              <a:t>V PŘÍPADĚ ASOCIACE ŘEŠÍM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da-li vůbec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existuj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, či nikoli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da je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symetrická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či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nesymetrická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ký má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směr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je-li pozitivní, či negativ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kou má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sílu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těsnos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): Do jaké míry rozložení variant jedné proměnné určuje rozložení variant druhé proměnné (rozdíly párového výskytu jednotlivých variant proměnných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kou má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povah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 je-li monotónní (lineární) či jiného druh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Určujeme i významnost (když máme reprezentativní výběrové soubory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36012-4473-4976-BA3E-CD28C949EDFA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421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99"/>
                </a:solidFill>
                <a:latin typeface="Arial"/>
              </a:rPr>
              <a:t>SÍLA ASOCIACE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ěří statistické koeficienty asocia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užití konkrétních koeficientů je určen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rovní měření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ikostí či tvarem kontingenční tabul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nearitou či nelinearitou vztah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metrií či asymetrií vztah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5A226-6621-467B-BE21-04B794AD9C3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3757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ff"/>
                </a:solidFill>
                <a:latin typeface="Verdana"/>
              </a:rPr>
              <a:t>Pro každou úroveň měření  (nominální, ordinální a kardinální) jsou určeny zvláštní koeficienty.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1F5E3-23D6-4BEA-A9ED-0D53FBDDDA2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24000" y="1268280"/>
          <a:ext cx="8496000" cy="54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496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68360" y="2133720"/>
            <a:ext cx="1582560" cy="43164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4221000"/>
            <a:ext cx="1582920" cy="43200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3080" y="2190600"/>
            <a:ext cx="1582920" cy="39384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404640"/>
            <a:ext cx="5761080" cy="51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ukrývá i Spearmanův koe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6840" y="1692360"/>
            <a:ext cx="1582920" cy="43164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907920"/>
            <a:ext cx="287280" cy="792360"/>
          </a:xfrm>
          <a:prstGeom prst="downArrow">
            <a:avLst>
              <a:gd name="adj1" fmla="val 50000"/>
              <a:gd name="adj2" fmla="val 68954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8AA17-A66F-49FB-9806-E7097DF321B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0920" y="475920"/>
            <a:ext cx="8317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odnoty koeficientů se většinou pohybují v intervalec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&lt;0;1&gt;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oeficient vypovídá o síle tohoto vztahu, ne o jeho směr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u nominálního znaku nemá směr žádný smysl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61121-39EA-4CFA-BB9F-F46C5CFE19EE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9:42:22Z</dcterms:created>
  <dc:creator>Petr Mareš</dc:creator>
  <dc:description/>
  <dc:language>en-US</dc:language>
  <cp:lastModifiedBy>Ladislav Rabušic</cp:lastModifiedBy>
  <dcterms:modified xsi:type="dcterms:W3CDTF">2006-11-22T08:32:58Z</dcterms:modified>
  <cp:revision>94</cp:revision>
  <dc:subject/>
  <dc:title>Analýza dat</dc:title>
</cp:coreProperties>
</file>