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E76-D0C3-4389-88B4-3EB2C0BE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EAA-16F0-43B5-8672-AD4AF0C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B39-2E14-423D-817F-99A23CE8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F53-4186-420F-A5A4-FF0EC519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5D8-51F4-41E4-BE28-8F1EF343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80E1-4646-4F28-8150-408A85B6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D6A0-D0C7-4AD7-A425-680FD627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802C-AAE1-452D-BBF2-B2706C56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6132-0D1C-4D9F-8B54-04E23F18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D728-67E2-4B7C-8B37-1D7AD4A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1D1-504A-45AA-B138-2149180E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2DC-B9AD-4B5F-8DF1-C52F522E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3C4-875A-4B06-9F2A-CB39B77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B74B-444F-4DC5-92B9-9D51637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CB0E-E4FB-4F3D-A0A8-7BF8EC45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650-5D65-47AB-BAF8-D93A448F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1964-6313-4734-AC7D-CDC86FC0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CB6-6BF9-48E9-BA53-E507CF7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832-1D3B-40D6-BE11-DF4B06FA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5FE-65A0-4919-90C5-914AEEE3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751-76E6-47E9-8923-DAF7944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096-AB53-4CE0-A4E1-F4F0792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054-7D8A-42DC-BAE7-99B4075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16E-2AD5-49F2-8BCB-AF6EA4B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fld id="{F3E5C7E9-7807-463D-8D1F-DB6A570369D0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B577-A9AC-429F-A6EA-F9900195E24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1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vním krokem v jakékoliv analýze j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explorace dat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hledání pravidelností v datech. Začínáme s analýzou podle jednoho znaku, popisujeme soub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pis děláme v závislosti na typu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U nominálních znaků a u znaků s malým počtem kategorií vytváříme tabulky a gra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U znaků ordinálních s velkým počtem kategorií a u znaků kardinálních prezentujeme shrnující informaci prostřednictvím měr střední tendence a měr variability (rozptyl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F70-B161-4B82-AD8C-D9E7B9A76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4572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Jak nemá vypadat 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b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Pramen: European Values Study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905120"/>
          <a:ext cx="876312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6312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402-C35C-452E-8187-E4C5675C0C95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Jak má vypadat 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b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(1991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Pramen: European Values Study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66680" y="2133720"/>
          <a:ext cx="6858000" cy="3876480"/>
        </p:xfrm>
        <a:graphic>
          <a:graphicData uri="http://schemas.openxmlformats.org/drawingml/2006/table">
            <a:tbl>
              <a:tblPr/>
              <a:tblGrid>
                <a:gridCol w="4864320"/>
                <a:gridCol w="199368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zhodně 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zhodně ne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 = 1 7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BF4-D7D0-447B-8F2D-4562EF58367A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Obr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00"/>
                </a:solidFill>
                <a:latin typeface="Times New Roman"/>
              </a:rPr>
              <a:t>Pramen: EVS 199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892080"/>
          <a:ext cx="762012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92080"/>
                    <a:ext cx="762012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643-4933-4A67-BCE3-87C655573AF2}" type="slidenum">
              <a:t>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Obr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(1991 a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00"/>
                </a:solidFill>
                <a:latin typeface="Times New Roman"/>
              </a:rPr>
              <a:t>Pramen: EVS 1991 a 199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838080"/>
          <a:ext cx="762012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762012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840-4B44-4C75-82D7-16A71BD5B4FF}" type="slidenum">
              <a:t>5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4852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etrické znaky nemá smysl tabel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ezentujeme jejich střední hodnoty a míry 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Střední hodno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odus, medián, průmě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íry varibil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Směrodatná odchylka, kvartily, decily, percent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EBF-BBCB-4E82-9556-DBDE3EABB7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sic</cp:lastModifiedBy>
  <dcterms:modified xsi:type="dcterms:W3CDTF">2006-10-04T06:44:29Z</dcterms:modified>
  <cp:revision>210</cp:revision>
  <dc:subject/>
  <dc:title>Proč jsou u nás lidé, kteří žijí v nouzi?  Ladislav Rabušic</dc:title>
</cp:coreProperties>
</file>