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E3E-54E6-482B-8E3F-30AB0FC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228-2257-4C50-ADF3-34536C31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6FB-D7BB-4C55-847B-503A250D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C75-7AEB-4737-B966-16FA8272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C74-F517-4CA3-AB5D-939CE2BF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70B3-F407-4370-B851-D1721E9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E4CB-8E81-4D5C-AB69-AE86951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7FC5-C238-4041-9358-AF6D254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E44C-00F9-44EE-99D3-F16CCBD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1227-E90C-4FA2-B443-AF35775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46F3-107F-4C59-8A55-20726DB6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948-39C9-4495-AF6B-0FD2A2F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2D4D-693A-4D62-B3E0-4B4C585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FA0-3723-43C6-9CAA-389B5E1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3EAC-E45F-4CD6-A989-6E3116A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0C12-4829-4D20-AB05-B073FF13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CD3F-1472-462A-8010-9A8AC30A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110-5081-40AC-A424-21DA9C9A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3CD-A6EB-4BDB-8021-92858CCE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373-D0DA-47F6-8492-90E2E671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529-9514-4235-8B21-84FE4277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9B2-E2CC-4DA9-B253-1A552130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FCF-441A-4427-AE3E-7B7C84C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B67-315A-4CEA-BAA8-A24CD70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fld id="{45F837DE-A2E8-4217-95FE-C1A13FA5E813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1FC5-F4C3-439C-89AE-302F82BC0B4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71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dury SP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T-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7D4-4141-439D-8D71-E8B404D6F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estování hypotéz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280" y="380880"/>
            <a:ext cx="894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Nulová hypotéza jako specifický případ statistické hypotéz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Mezi blondýnkami a černovláskami nebude v testech inteligence žádný rozdíl (rozdíl bude 0 nebo blízký 0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Alternativní </a:t>
            </a: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nesměrov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Blondýnky a černovlásky se budou v testech inteligence odlišovat (průměry budou odlišné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Alternativní 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směrov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Blondýnky budou mít v testech inteligence nižší skóre než černovlásky (průměr B </a:t>
            </a: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&lt; p</a:t>
            </a: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růměr Č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Alternativní 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přesn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Černovlásky budou mít v testech inteligence skóre vyšší o 20 bodů než blondýnky (Č – B = 20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DFA-500D-4AAF-B625-ED53D14AE9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Testy statistické významnost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1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 základě čeho rozhoduji o významnos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 základě kritické hodnoty – hladina významnosti (alf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agická hranice 95 % (p = 0,05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E2B-F92E-47BC-BA01-43B46A76A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790120" cy="56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ednostranný (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one-tailed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) a dvoustranný test (two-tail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ka testů význam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dužívání testů významnosti (reprezentativi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igidita 95% hranice význam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šťastný výraz „významnost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Parametrické a neparametrické tes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349-0023-4297-8657-962EB8F6FB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B78-A447-4703-8CF7-B7F886D91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510-C60F-41AC-BA84-BF363E8D6D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AA8-94AC-4B0A-8EB6-493406E46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930-A975-4447-A522-E451EF2D8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71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T-tes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: kategorizovaná pouze se dvěma kategorie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3880" y="3740040"/>
          <a:ext cx="6096240" cy="167004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ž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e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28600" y="5668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est signifikance rozdílů mezi průmě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2D2-C9C2-462B-BAF1-01C9E7C50C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839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713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nova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: kategorizovaná s více než  dvěma kategorie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3200400"/>
          <a:ext cx="6096240" cy="270504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2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3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4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a více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80880" y="597384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est signifikance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ájemných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rozdílů mezi průmě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6B9-BD45-4A5F-AF9C-260A81C6CD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Co je testování statistické signifikance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71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last statistického usuzování (statistické in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STOVÁNÍ směřuje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 zobecnění dat výběrového souboru na základní soubor.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e se prostřednictvím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stů signfik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st signifikance: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st nulové hypotéz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zdali je možné, nebo ji není možné zamítn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o je nulová hypoté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939-7E4E-4E05-B97E-68BAA470F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Testování hypotéz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zkumná hypoté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arva vlasů ženy má vliv na míru její inte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tatistická hypotéza jako operacionalizovaná výzkumná hypoté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londýnky se budou lišit od černovlásek ve výsledcích v testu intelig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ulová hypotéz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ako specifický případ statistické hypotéz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i blondýnkami a černovláskami nebude v testech inteligence žádný rozdí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804-8E0A-41DA-86A5-0600077126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sic</cp:lastModifiedBy>
  <dcterms:modified xsi:type="dcterms:W3CDTF">2006-11-01T07:45:23Z</dcterms:modified>
  <cp:revision>221</cp:revision>
  <dc:subject/>
  <dc:title>Proč jsou u nás lidé, kteří žijí v nouzi?  Ladislav Rabušic</dc:title>
</cp:coreProperties>
</file>