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78C7-A4CB-4261-8065-4B45889E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6A37-863C-4009-B7CD-B647EB4A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FE13-E405-42E5-8304-6D4D2FA1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FA95-F281-4D91-A1DB-FBEBE4E5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C3F3-8771-46DF-AC96-62509346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C337-706A-4A24-B02F-9C10BA96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8424-C284-417B-B413-1F5A9BEF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2A47-D092-490F-B853-089DCDF2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91FB-5A69-4AF0-A3FA-640B2504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BD3B-16A1-4E95-AF6E-BCBE3468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ECD3-44B6-474A-B8F9-5F2E085F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3652-527C-41CF-B479-8007A904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9C90-2D6A-48E4-A027-827095FCE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istické usuzování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statistická inferen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kc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eralizace zjištěných výsledk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oret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stická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dové odh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y význam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dmínky statistické generaliz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339920"/>
            <a:ext cx="8820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výběrový soubor je dobrým reprezentantem populace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tato populace je náležitě definována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byl použit adekvátní pravděpodobnostní výběrový postup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míra neuskutečněných rozhovorů je nízká (počet odmítnutých rozhovorů byl nízký), takže tzv. </a:t>
            </a:r>
            <a:r>
              <a:rPr b="0" i="1" lang="cs-CZ" sz="3300" spc="-1" strike="noStrike">
                <a:solidFill>
                  <a:srgbClr val="ffffff"/>
                </a:solidFill>
                <a:latin typeface="Arial"/>
              </a:rPr>
              <a:t>response rate </a:t>
            </a: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je vysoký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má smysl zobecňovat, kdy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339920"/>
            <a:ext cx="8820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dyž pracujeme s celou populací (jakkoliv definovanou pro účely našeho výzkumu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ýběrový soubor je vybrán prostřednictvím nepravděpodobnostních met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íra uskutečněných rozvorů je nižší než 85 %. Vysoká míra odmítnutých rozhovorů snižuje reprezentativitu souboru a zvyšuje tak pravděpodobnost, že náš výběr bude nespolehlivý pro generalizaci výsledk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pulace (základní soubor)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ýběry (výběrový soubo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2852640"/>
            <a:ext cx="8820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ýběrové postupy vedoucí k reprezentativ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likost výběrového soub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dyž je soubor vychý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ážíme dat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ážení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spcAft>
                <a:spcPts val="52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ovit vá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spcAft>
                <a:spcPts val="52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áhy zabudovat do soub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spcAft>
                <a:spcPts val="52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ovat s váženými da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ovení vá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áha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484360" y="4560840"/>
                <a:ext cx="1295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opulac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zore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likost i.s. je ovlivně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likostí výběrového soubor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likostí rozptylu v základním souboru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írou jistoty (spolehlivosti), kterou požadujeme. Ve statistice je obvykle stanovena na 95 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 výpočet i.s. musí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75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znát výběrovou charakteristiku, pro niž i. s. počítáme (průměr, procento, procentuální rozdíl mezi skupinami, ale také korelační  koeficienty nebo regresní koeficienty) - získáme výpočtem z dat výběrového souboru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75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. vypočítat směrodatnou chybu, která měří velikost výběrové chyb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. rozhodnout, jak velkou úroveň spolehlivosti požadujeme. (sociální vědy - jistota 95 %, ale někdy požadujeme i úroveň 99 %, popř. 99,9 % (s tak vysokou jistotou pracují především v biologii a medicíně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05:09:39Z</dcterms:created>
  <dc:creator>Rabusic</dc:creator>
  <dc:description/>
  <dc:language>en-US</dc:language>
  <cp:lastModifiedBy>Rabusic Ladislav</cp:lastModifiedBy>
  <dcterms:modified xsi:type="dcterms:W3CDTF">2006-10-18T07:11:56Z</dcterms:modified>
  <cp:revision>8</cp:revision>
  <dc:subject/>
  <dc:title>Statistické usuzování (statistická inference)</dc:title>
</cp:coreProperties>
</file>