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039680" y="715680"/>
            <a:ext cx="478008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-360" y="907704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9"/>
          </p:nvPr>
        </p:nvSpPr>
        <p:spPr>
          <a:xfrm>
            <a:off x="3885840" y="907704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13AD-4AD9-4021-AF90-D85A51CD0BB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A803-D9B3-4706-8D23-7D53C8F1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24AF-0671-4477-B04A-EDDE0914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6A85-694D-4DFE-A6BE-50C18D1E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BCDC-AC48-4A22-B131-971B459E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A579-184F-4E48-B6FC-DF0CB7F5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63B1-E252-4BB3-B79B-095A87AA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56F0-0B13-4147-BAAC-4C19400F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C045-7752-431A-80CB-B83EA25F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3E29-14DE-4D20-A3B4-E809E8E2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8A94-273B-49A6-BA9F-56504257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A210-F1A5-4238-9FD4-F7D670D4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1956-FC4C-4C88-81CE-64DD2754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8847-7E54-4DC3-9B11-634A1295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9607-116C-4D17-A6C2-E4A41C81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4531-D5ED-4DAA-BDE7-C912C7DD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EBA2-F8B3-4371-BAA6-5E86B354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8094-5E75-492B-B2BE-BB48A3F9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F4A3-8B08-4BC7-813E-98C176D2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393E-5EA4-46D5-AA36-9FE6C127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3784-5EB8-4F3E-A5F0-306A032A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A7BC-809C-4A08-BB03-91D35532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6680-949B-4CD5-9D68-A60C96D6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51EA-0D9E-4D87-8BAC-BF5E4D2C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640A-294A-4C29-98C8-E5EE7AC0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228600" y="640044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8243-1A77-4F0A-9C72-52D0B187CD80}" type="slidenum"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5CB9-A1BF-4BCA-9C9F-9D2CF9DC9270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380880"/>
            <a:ext cx="8686800" cy="17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Q11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č jsou u nás lidé, kteří žijí v nouzi? Zde jsou čtyři možné důvody. Který z nich považujete za nejdůležitější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Pokyn: vyznačte jeden ve sloupci (a) dol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Q12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který důvod považujete za druhý nejdůležitější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Pokyn:  vyznačte jeden ve sloupci (b) dol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28600" y="1978200"/>
            <a:ext cx="8686080" cy="4574520"/>
            <a:chOff x="228600" y="1978200"/>
            <a:chExt cx="8686080" cy="4574520"/>
          </a:xfrm>
        </p:grpSpPr>
        <p:sp>
          <p:nvSpPr>
            <p:cNvPr id="154" name=""/>
            <p:cNvSpPr/>
            <p:nvPr/>
          </p:nvSpPr>
          <p:spPr>
            <a:xfrm>
              <a:off x="228600" y="1978200"/>
              <a:ext cx="43740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6000" y="1978200"/>
              <a:ext cx="434448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0480" y="1978200"/>
              <a:ext cx="99036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00840" y="1978200"/>
              <a:ext cx="145692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(a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57760" y="1978200"/>
              <a:ext cx="145692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(b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8600" y="2537640"/>
              <a:ext cx="4374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6000" y="2537640"/>
              <a:ext cx="434448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tože mají smůl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10480" y="2537640"/>
              <a:ext cx="99036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00840" y="2537640"/>
              <a:ext cx="145692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57760" y="2537640"/>
              <a:ext cx="145692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8600" y="3085200"/>
              <a:ext cx="43740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6000" y="3085200"/>
              <a:ext cx="434448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Z lenosti a nedostatku pevné vů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10480" y="3085200"/>
              <a:ext cx="99036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00840" y="3085200"/>
              <a:ext cx="145692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57760" y="3085200"/>
              <a:ext cx="145692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3632040"/>
              <a:ext cx="437400" cy="69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6000" y="3632040"/>
              <a:ext cx="4344480" cy="69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tože je v naší  společnosti bezpráv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10480" y="3632040"/>
              <a:ext cx="990360" cy="69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00840" y="3632040"/>
              <a:ext cx="1456920" cy="69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57760" y="3632040"/>
              <a:ext cx="1456920" cy="69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8600" y="4326480"/>
              <a:ext cx="43740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6000" y="4326480"/>
              <a:ext cx="434448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vyhnutelně to patří k pokrok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10480" y="4326480"/>
              <a:ext cx="99036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00840" y="4326480"/>
              <a:ext cx="145692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457760" y="4326480"/>
              <a:ext cx="145692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600" y="4873680"/>
              <a:ext cx="43740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6000" y="4873680"/>
              <a:ext cx="434448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Žádný z těchto  důvodů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10480" y="4873680"/>
              <a:ext cx="99036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00840" y="4873680"/>
              <a:ext cx="145692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57760" y="4873680"/>
              <a:ext cx="145692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600" y="5433480"/>
              <a:ext cx="4374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6000" y="5433480"/>
              <a:ext cx="43444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v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10480" y="5433480"/>
              <a:ext cx="9903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-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00840" y="5433480"/>
              <a:ext cx="14569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57760" y="5433480"/>
              <a:ext cx="14569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8600" y="5993280"/>
              <a:ext cx="43740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6000" y="5993280"/>
              <a:ext cx="434448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10480" y="5993280"/>
              <a:ext cx="99036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00840" y="5993280"/>
              <a:ext cx="145692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57760" y="5993280"/>
              <a:ext cx="145692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063C-BA3A-419B-8960-1703FA212C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If syntax: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Takto můžeme vytvořit postupně zbylé proměnné „lenost“, „bezprav“ a „pokrok“. Jelikož ale je to zdlouhavém, využijeme možnosti syntaxe. Při vytváření proměnné „smula“ jsem totiž po každém kroku klikl na tlačítko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Paste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, které vtlačí operaci sestavenou z kroků v SPSS oknech do textového souboru. Konkrétně tedy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70000" y="2895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urier New"/>
              </a:rPr>
              <a:t>COMPUTE smula =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urier New"/>
              </a:rPr>
              <a:t>IF (q12 = 1) smula = 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urier New"/>
              </a:rPr>
              <a:t>IF (q11 = 1) smula = 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urier New"/>
              </a:rPr>
              <a:t>EXECU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ení nic snazšího, než tento text editovat takovým způsobem, abychom dostali příkaz pro vytvoření zbylých tří proměnných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394D-F8DD-4269-A498-253AF70BA3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If syntax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71600" y="8377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COMPUTE smula = 1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IF (q12 = 1) smula = 2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IF (q11 = 1) smula = 3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EXECU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COMPUTE lenost = 1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IF (q12=2) lenost = 2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IF (q11=2) lenost = 3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EXECU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COMPUTE bezprav = 1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IF (q12=3) bezpravi = 2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IF (q11=3) bezpravi = 3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EXECU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COMPUTE pokrok = 1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IF (q12=4) pokrok = 2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IF (q11=4) pokrok = 3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EXECU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B411-9A0B-4CB5-81C2-4757217AAA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If syntax: výsledek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09680" y="946080"/>
            <a:ext cx="5029200" cy="1619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238480" y="2886120"/>
            <a:ext cx="5000400" cy="16095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314440" y="4802040"/>
            <a:ext cx="5000760" cy="15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AA38-7B45-4467-8AE9-13FA5B67AA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If procedura: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Transform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 Compute: všem případům v nové proměnné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smula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astavíme hodnotu 1. Klikneme na OK.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66680" y="1420920"/>
            <a:ext cx="7875720" cy="5132160"/>
            <a:chOff x="1066680" y="1420920"/>
            <a:chExt cx="7875720" cy="513216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1066680" y="1420920"/>
              <a:ext cx="7875720" cy="51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 txBox="1"/>
            <p:nvPr/>
          </p:nvSpPr>
          <p:spPr>
            <a:xfrm>
              <a:off x="1066680" y="1420920"/>
              <a:ext cx="7875720" cy="513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609480" indent="-609480">
                <a:spcBef>
                  <a:spcPts val="1599"/>
                </a:spcBef>
                <a:buClr>
                  <a:srgbClr val="ffffff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4191120" y="914400"/>
            <a:ext cx="1218960" cy="12193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E20F-CB5A-43C8-8E3A-08196E0B17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If: Hodnotu 2 přiřadíme těm případům, kteří variantu „smůla“ vybrali jako druhou v pořadí. Klikneme na tlačítko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If…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a vepíšeme podmínku, že hodnota q12 se rovná 1. 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70000" y="1523880"/>
            <a:ext cx="7772400" cy="50292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447920" y="1295280"/>
            <a:ext cx="2590560" cy="41911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036-E6F8-489C-969F-AB3B4C81DE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If: Vepsali jsme podmínku a klikneme na tlačítko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170000" y="1371600"/>
            <a:ext cx="777240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63B0-456E-4496-A6B1-36074AABAE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If: V dialogovém okně vidíme, že proměnná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smula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bude mít hodnotu 2, když q12=1. Klikneme na OK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170000" y="1482840"/>
            <a:ext cx="7772400" cy="491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D259-8E43-43EC-9B97-D85259F344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If: Objeví se otázka, zdali chceme změnit existující proměnnou. My samozřejmě chceme, neboť tímto krokem přidáváme k již existující hodnotě 1, kterou zatím mají všichni respondenti, hodnotu 2 těm, kdo variantu „smůla“ vybrali na druhém místě. Klikneme na OK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209680" y="2940120"/>
            <a:ext cx="4953240" cy="262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C047-E5ED-49F1-BA32-412BC41A41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If: Stejným způsobem doplníme podmínku, že pokud respondent vybral jako nejdůležitější důvod smůlu (zvolil tedy v proměnné q11 hodnotu 1), dostane v nové proměnné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smula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odnotu 3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170000" y="23623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flipH="1">
            <a:off x="4724280" y="1557360"/>
            <a:ext cx="152640" cy="39625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1981080"/>
            <a:ext cx="1066680" cy="914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74A6-4C0B-4F08-91A3-D65F78D533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If: Ukažme si pro kontrolu výsledek. Nejdříve rozložení q11 a q12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295280" y="1255680"/>
            <a:ext cx="4419720" cy="2706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724280" y="4124160"/>
            <a:ext cx="4191120" cy="25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315E-8CCF-471E-BBA8-18E5F921EB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If: Srovnejme varianty prvního důvodu s proměnnou q11 a druhého důvodu s proměnnou q12. Vidíme, že rozložení je stejné, postupujeme tedy správným způsobem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170000" y="2752560"/>
            <a:ext cx="7772400" cy="250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4AB6-240E-4C62-9587-BDC53390A2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21:24:24Z</dcterms:created>
  <dc:creator>Rabusic</dc:creator>
  <dc:description/>
  <dc:language>en-US</dc:language>
  <cp:lastModifiedBy>rabu</cp:lastModifiedBy>
  <dcterms:modified xsi:type="dcterms:W3CDTF">2002-10-22T09:44:40Z</dcterms:modified>
  <cp:revision>52</cp:revision>
  <dc:subject/>
  <dc:title>Proč jsou u nás lidé, kteří žijí v nouzi?  Ladislav Rabušic</dc:title>
</cp:coreProperties>
</file>