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039680" y="715680"/>
            <a:ext cx="478008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8885-5E84-4AB1-96A7-F5D5410B1B1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AC1-9699-4843-8C1E-589775C3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F0F-0E77-4236-85D3-5634C5FE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6EE-1D25-46C6-9F0C-FA9008F7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BB9-246B-4EF6-B61E-C90CC4A5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AF19-800C-45A0-AF97-22577B8D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1B09-22C8-4AA3-A061-4079685D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D6DE-E5BB-474D-9C95-2C34963E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64DE-86CA-4DE3-997F-BB44FDF9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EE5C-8BDC-4DC4-8272-DDD426D7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C27A-2357-4B0A-9859-CEC2B532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504B-7323-446B-8133-8F27499F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4D2-7BBC-4B22-BF58-F9BA595F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B2F1-6FDA-478A-B493-5078AC7A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9A3B-327C-4692-B2EF-967EA038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B68A-E1F6-44EC-8ECC-C03B2CED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0840-9F4D-4EDC-92E4-A4940E49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7A94-3B26-43EC-AEBE-B894F463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35B-7668-4439-89C6-EC9FCA68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38A-BC27-4755-887F-DC65369F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4EB-6849-437C-8B40-E2F927E7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A80-F53C-4D94-BB61-5E3BEC34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B61-7E61-4579-A378-97C1759B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3BE-2E9C-45B1-9494-BC97B179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0212-877B-4611-B64D-8F9E68E0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228600" y="640044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BE25-29BA-4B2D-9B0E-DD6F2852BBC8}" type="slidenum"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983B-744D-4031-AAF6-0AC7B6604F4E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380880"/>
            <a:ext cx="8686800" cy="17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Q11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č jsou u nás lidé, kteří žijí v nouzi? Zde jsou čtyři možné důvody. Který z nich považujete za nejdůležitější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Pokyn: vyznačte jeden ve sloupci (a) do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Q12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který důvod považujete za druhý nejdůležitější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Pokyn:  vyznačte jeden ve sloupci (b) do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8600" y="1978200"/>
            <a:ext cx="8686080" cy="4574520"/>
            <a:chOff x="228600" y="1978200"/>
            <a:chExt cx="8686080" cy="4574520"/>
          </a:xfrm>
        </p:grpSpPr>
        <p:sp>
          <p:nvSpPr>
            <p:cNvPr id="154" name=""/>
            <p:cNvSpPr/>
            <p:nvPr/>
          </p:nvSpPr>
          <p:spPr>
            <a:xfrm>
              <a:off x="228600" y="1978200"/>
              <a:ext cx="4374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6000" y="1978200"/>
              <a:ext cx="434448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0480" y="1978200"/>
              <a:ext cx="9903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00840" y="1978200"/>
              <a:ext cx="14569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(a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57760" y="1978200"/>
              <a:ext cx="14569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(b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600" y="2537640"/>
              <a:ext cx="4374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6000" y="2537640"/>
              <a:ext cx="43444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tože mají smůl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480" y="2537640"/>
              <a:ext cx="99036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00840" y="2537640"/>
              <a:ext cx="14569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57760" y="2537640"/>
              <a:ext cx="14569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8600" y="3085200"/>
              <a:ext cx="43740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6000" y="3085200"/>
              <a:ext cx="434448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Z lenosti a nedostatku pevné vů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10480" y="3085200"/>
              <a:ext cx="99036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00840" y="3085200"/>
              <a:ext cx="145692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57760" y="3085200"/>
              <a:ext cx="145692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3632040"/>
              <a:ext cx="437400" cy="6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6000" y="3632040"/>
              <a:ext cx="4344480" cy="6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tože je v naší  společnosti bezpráv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10480" y="3632040"/>
              <a:ext cx="990360" cy="6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00840" y="3632040"/>
              <a:ext cx="1456920" cy="6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57760" y="3632040"/>
              <a:ext cx="1456920" cy="6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600" y="4326480"/>
              <a:ext cx="43740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6000" y="4326480"/>
              <a:ext cx="434448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vyhnutelně to patří k pokrok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10480" y="4326480"/>
              <a:ext cx="99036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00840" y="4326480"/>
              <a:ext cx="145692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57760" y="4326480"/>
              <a:ext cx="145692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600" y="4873680"/>
              <a:ext cx="4374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6000" y="4873680"/>
              <a:ext cx="434448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Žádný z těchto  důvod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10480" y="4873680"/>
              <a:ext cx="9903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0840" y="4873680"/>
              <a:ext cx="14569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57760" y="4873680"/>
              <a:ext cx="14569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433480"/>
              <a:ext cx="4374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6000" y="5433480"/>
              <a:ext cx="43444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v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10480" y="5433480"/>
              <a:ext cx="9903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00840" y="5433480"/>
              <a:ext cx="14569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57760" y="5433480"/>
              <a:ext cx="14569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600" y="5993280"/>
              <a:ext cx="4374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6000" y="5993280"/>
              <a:ext cx="434448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10480" y="5993280"/>
              <a:ext cx="9903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00840" y="5993280"/>
              <a:ext cx="14569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57760" y="5993280"/>
              <a:ext cx="14569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BB4-30F5-4857-A891-2B952E469A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If syntax: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Takto můžeme vytvořit postupně zbylé proměnné „lenost“, „bezprav“ a „pokrok“. Jelikož ale je to zdlouhavém, využijeme možnosti syntaxe. Při vytváření proměnné „smula“ jsem totiž po každém kroku klikl na tlačítko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Paste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, které vtlačí operaci sestavenou z kroků v SPSS oknech do textového souboru. Konkrétně tedy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0000" y="2895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urier New"/>
              </a:rPr>
              <a:t>COMPUTE smula =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urier New"/>
              </a:rPr>
              <a:t>IF (q12 = 1) smula =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urier New"/>
              </a:rPr>
              <a:t>IF (q11 = 1) smula =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urier New"/>
              </a:rPr>
              <a:t>EXECU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ní nic snazšího, než tento text editovat takovým způsobem, abychom dostali příkaz pro vytvoření zbylých tří proměnných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006-DE74-4559-B3CF-883347592D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 syntax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COMPUTE smula = 1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2 = 1) smula = 2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1 = 1) smula = 3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EXECU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COMPUTE lenost = 1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2=2) lenost = 2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1=2) lenost = 3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EXECU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COMPUTE bezprav = 1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2=3) bezpravi = 2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1=3) bezpravi = 3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EXECU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COMPUTE pokrok = 1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2=4) pokrok = 2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1=4) pokrok = 3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EXECU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BA1-27EF-4965-A37C-72CDD7481C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 syntax: výsledek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09680" y="946080"/>
            <a:ext cx="5029200" cy="1619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238480" y="2886120"/>
            <a:ext cx="5000400" cy="16095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314440" y="4802040"/>
            <a:ext cx="5000760" cy="15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AB4-88DD-473B-A2B0-B399D60BC9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If procedura: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Transform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 Compute: všem případům v nové proměnné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smula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astavíme hodnotu 1. Klikneme na OK.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66680" y="1420920"/>
            <a:ext cx="7875720" cy="5132160"/>
            <a:chOff x="1066680" y="1420920"/>
            <a:chExt cx="7875720" cy="513216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1066680" y="1420920"/>
              <a:ext cx="7875720" cy="51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 txBox="1"/>
            <p:nvPr/>
          </p:nvSpPr>
          <p:spPr>
            <a:xfrm>
              <a:off x="1066680" y="1420920"/>
              <a:ext cx="7875720" cy="513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609480" indent="-609480">
                <a:spcBef>
                  <a:spcPts val="1599"/>
                </a:spcBef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4191120" y="914400"/>
            <a:ext cx="1218960" cy="12193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9C9-87BC-4CE0-B3B0-BCFDB95D89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Hodnotu 2 přiřadíme těm případům, kteří variantu „smůla“ vybrali jako druhou v pořadí. Klikneme na tlačítko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If…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a vepíšeme podmínku, že hodnota q12 se rovná 1.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70000" y="1523880"/>
            <a:ext cx="7772400" cy="5029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447920" y="1295280"/>
            <a:ext cx="2590560" cy="41911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D08F-30B3-4080-8166-8347CC9F24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Vepsali jsme podmínku a klikneme na tlačítko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70000" y="1371600"/>
            <a:ext cx="777240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7C2-39D5-492E-AB4E-6863DA9F91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V dialogovém okně vidíme, že proměnná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smula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bude mít hodnotu 2, když q12=1. Klikneme na OK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70000" y="1482840"/>
            <a:ext cx="7772400" cy="49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156-1848-4AF3-BBAC-B330C59AEF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Objeví se otázka, zdali chceme změnit existující proměnnou. My samozřejmě chceme, neboť tímto krokem přidáváme k již existující hodnotě 1, kterou zatím mají všichni respondenti, hodnotu 2 těm, kdo variantu „smůla“ vybrali na druhém místě. Klikneme na OK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209680" y="2940120"/>
            <a:ext cx="4953240" cy="262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ACC-8858-4277-B154-BA723A083D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Stejným způsobem doplníme podmínku, že pokud respondent vybral jako nejdůležitější důvod smůlu (zvolil tedy v proměnné q11 hodnotu 1), dostane v nové proměnné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smula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odnotu 3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70000" y="23623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H="1">
            <a:off x="4724280" y="1557360"/>
            <a:ext cx="152640" cy="39625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1981080"/>
            <a:ext cx="1066680" cy="914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3AA-5612-4172-A05F-A5BD36F520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Ukažme si pro kontrolu výsledek. Nejdříve rozložení q11 a q12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95280" y="1255680"/>
            <a:ext cx="4419720" cy="2706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724280" y="4124160"/>
            <a:ext cx="4191120" cy="25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EE6-D437-4527-821D-F200236015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Srovnejme varianty prvního důvodu s proměnnou q11 a druhého důvodu s proměnnou q12. Vidíme, že rozložení je stejné, postupujeme tedy správným způsobem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70000" y="2752560"/>
            <a:ext cx="7772400" cy="250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BC9-2840-45B1-A70F-F995CB3204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21:24:24Z</dcterms:created>
  <dc:creator>Rabusic</dc:creator>
  <dc:description/>
  <dc:language>en-US</dc:language>
  <cp:lastModifiedBy>rabu</cp:lastModifiedBy>
  <dcterms:modified xsi:type="dcterms:W3CDTF">2002-10-22T09:44:40Z</dcterms:modified>
  <cp:revision>52</cp:revision>
  <dc:subject/>
  <dc:title>Proč jsou u nás lidé, kteří žijí v nouzi?  Ladislav Rabušic</dc:title>
</cp:coreProperties>
</file>