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2A9-6BCD-40A9-BB70-106D5B5D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97B-96FA-4A1D-AFB4-95A5BFD9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206-7AB0-4335-A6E6-63B15D05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AA9-7149-491C-94B9-BC9DBD33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9B44-1165-45C0-9B87-CFF3D6A1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931B-AEF9-4BF5-85E4-57E005DE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9EB0-4C66-4687-B0AA-103FC06F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D9B6-7345-4FB6-B771-974B3820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7CFC-349E-4ABD-9DD2-BA06DC14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210C-F6B4-4155-9CA5-DFF74CE8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70DF-3DFE-4116-90DC-117CDC7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3BF-D58A-4833-AC28-0712F0D4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5B07-A1BF-45FF-A475-9997230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379B-A02C-4DB3-870A-EC73064C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B8A1-58EF-4A27-9A00-D6FB87C4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7231-9BAA-4A0C-AA14-7A295932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FC68-2BEF-41F7-AAC4-8F606461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DD7-B988-451D-AE64-C7ED2C38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069-7479-41DA-8C2A-8923434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474-17B9-4DC0-AFEF-7EBAFEE1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FE4-0DB5-4AD8-883A-DAC59FCC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177-AD70-4A09-A39F-B447356E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C72-C21C-4943-A42D-239B2B05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7C4-DDDD-44E0-BEE0-76C730D2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fld id="{BC946DAD-CED9-4D62-ADD9-2803F06056CD}" type="slidenum"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3298-60AA-493F-B706-02DA92A0497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1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rvním krokem v jakékoliv analýze j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explorace dat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hledání pravidelností v datech. Začínáme s analýzou podle jednoho znaku, popisujeme soub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pis děláme v závislosti na typu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U nominálních znaků a u znaků s malým počtem kategorií vytváříme tabulky a gra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U znaků ordinálních s velkým počtem kategorií a u znaků kardinálních prezentujeme shrnující informaci prostřednictvím měr střední tendence a měr variability (rozptyl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344-76E1-43EE-A383-17B482F906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4572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Jak nemá vypadat 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ab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Pramen: European Values Study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905120"/>
          <a:ext cx="876312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6312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FB1-81DE-4012-8130-95817D85B7CB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Jak má vypadat 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ab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(1991 19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Pramen: European Values Study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66680" y="2133720"/>
          <a:ext cx="6858000" cy="3876480"/>
        </p:xfrm>
        <a:graphic>
          <a:graphicData uri="http://schemas.openxmlformats.org/drawingml/2006/table">
            <a:tbl>
              <a:tblPr/>
              <a:tblGrid>
                <a:gridCol w="4864320"/>
                <a:gridCol w="199368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zhodně 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zhodně ne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 = 1 7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477-438B-436C-8833-2551C222883B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Obr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00"/>
                </a:solidFill>
                <a:latin typeface="Times New Roman"/>
              </a:rPr>
              <a:t>Pramen: EVS 199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892080"/>
          <a:ext cx="762012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92080"/>
                    <a:ext cx="762012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A06-8394-4F5B-A1B4-F3A729516F55}" type="slidenum">
              <a:t>4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Obr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(1991 a 19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00"/>
                </a:solidFill>
                <a:latin typeface="Times New Roman"/>
              </a:rPr>
              <a:t>Pramen: EVS 1991 a 199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838080"/>
          <a:ext cx="762012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762012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8D6-91B0-4026-8B68-ACFEA500FEC5}" type="slidenum">
              <a:t>5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48520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etrické znaky nemá smysl tabel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rezentujeme jejich střední hodnoty a míry var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Střední hodno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odus, medián, průmě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íry varibil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Směrodatná odchylka, kvartily, decily, percent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CA4-325E-4D3A-8535-E053A176F7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24:24Z</dcterms:created>
  <dc:creator>Rabusic</dc:creator>
  <dc:description/>
  <dc:language>en-US</dc:language>
  <cp:lastModifiedBy>Rabusic</cp:lastModifiedBy>
  <dcterms:modified xsi:type="dcterms:W3CDTF">2006-10-04T06:44:29Z</dcterms:modified>
  <cp:revision>210</cp:revision>
  <dc:subject/>
  <dc:title>Proč jsou u nás lidé, kteří žijí v nouzi?  Ladislav Rabušic</dc:title>
</cp:coreProperties>
</file>