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E28-0F94-45DB-8D32-C84C8445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C41-6EF0-4A92-B8B3-F133C848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7719-2F02-499C-A411-38F8A213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A9C-8841-411F-BB7F-1758AE2B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6476-E624-4C25-ACBE-F30553FF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4D53-CAB7-4752-A071-AF1FC210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5B69-7346-4AC3-9831-9F08F710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8098-E7FE-418F-858E-C113D531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2529-F802-47A1-A5C7-912F0A63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0B9C-08A8-47A7-BDC7-74FB6B1D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3185-71DE-48D0-BE98-411829BB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F49-5066-48F8-B66B-ED52B1EC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DFB7-28B9-4A84-9B0F-7E324139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BE71-F8BE-48EF-8A88-6B002838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76F6-F338-4F0F-AAB0-0524216C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F57B-53E0-49EF-B32E-883EA35F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46BF-4DCB-4C4C-A29C-59FC09EE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1AF-FBFD-4BB9-8380-A6105408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A42-B348-46C8-BCD4-6829C66B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BC0-D78C-4FF0-AE20-C19A24A3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327-E712-43B1-A7B0-C3EAB349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E26-1192-4001-9A5A-7B7266F7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0C0-A83E-47F4-8FD8-10D413D4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975-8DD2-4743-99F3-79BA338D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228600" y="640044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r>
              <a:rPr b="0" lang="cs-CZ" sz="1200" spc="-1" strike="noStrike">
                <a:solidFill>
                  <a:srgbClr val="ffff99"/>
                </a:solidFill>
                <a:latin typeface="Times New Roman"/>
              </a:rPr>
              <a:t> </a:t>
            </a:r>
            <a:fld id="{F8D00BC9-1704-436B-953D-76C39F14D394}" type="slidenum"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6325-0BB9-4769-81C4-5DFF42AC05D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71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cedury SP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T-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An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F461-9AF4-4F49-B7BE-8D6084853F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Testování hypotéz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280" y="380880"/>
            <a:ext cx="894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00"/>
                </a:solidFill>
                <a:latin typeface="Times New Roman"/>
              </a:rPr>
              <a:t>Nulová hypotéza jako specifický případ statistické hypotézy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ffffff"/>
                </a:solidFill>
                <a:latin typeface="Times New Roman"/>
              </a:rPr>
              <a:t>Mezi blondýnkami a černovláskami nebude v testech inteligence žádný rozdíl (rozdíl bude 0 nebo blízký 0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ffff00"/>
                </a:solidFill>
                <a:uFillTx/>
                <a:latin typeface="Times New Roman"/>
              </a:rPr>
              <a:t>Alternativní </a:t>
            </a:r>
            <a:r>
              <a:rPr b="0" lang="cs-CZ" sz="2900" spc="-1" strike="noStrike">
                <a:solidFill>
                  <a:srgbClr val="ffff00"/>
                </a:solidFill>
                <a:latin typeface="Times New Roman"/>
              </a:rPr>
              <a:t>hypotéza k hypotéze nulové: </a:t>
            </a:r>
            <a:r>
              <a:rPr b="0" lang="cs-CZ" sz="2900" spc="-1" strike="noStrike" u="sng">
                <a:solidFill>
                  <a:srgbClr val="ffff00"/>
                </a:solidFill>
                <a:uFillTx/>
                <a:latin typeface="Times New Roman"/>
              </a:rPr>
              <a:t>nesměrová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ffffff"/>
                </a:solidFill>
                <a:latin typeface="Times New Roman"/>
              </a:rPr>
              <a:t>Blondýnky a černovlásky se budou v testech inteligence odlišovat (průměry budou odlišné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00"/>
                </a:solidFill>
                <a:latin typeface="Times New Roman"/>
              </a:rPr>
              <a:t>Alternativní hypotéza k hypotéze nulové: </a:t>
            </a:r>
            <a:r>
              <a:rPr b="0" lang="cs-CZ" sz="2900" spc="-1" strike="noStrike" u="sng">
                <a:solidFill>
                  <a:srgbClr val="ffff00"/>
                </a:solidFill>
                <a:uFillTx/>
                <a:latin typeface="Times New Roman"/>
              </a:rPr>
              <a:t>směrová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ffffff"/>
                </a:solidFill>
                <a:latin typeface="Times New Roman"/>
              </a:rPr>
              <a:t>Blondýnky budou mít v testech inteligence nižší skóre než černovlásky (průměr B </a:t>
            </a:r>
            <a:r>
              <a:rPr b="0" i="1" lang="en-US" sz="2900" spc="-1" strike="noStrike">
                <a:solidFill>
                  <a:srgbClr val="ffffff"/>
                </a:solidFill>
                <a:latin typeface="Times New Roman"/>
              </a:rPr>
              <a:t>&lt; p</a:t>
            </a:r>
            <a:r>
              <a:rPr b="0" i="1" lang="cs-CZ" sz="2900" spc="-1" strike="noStrike">
                <a:solidFill>
                  <a:srgbClr val="ffffff"/>
                </a:solidFill>
                <a:latin typeface="Times New Roman"/>
              </a:rPr>
              <a:t>růměr Č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00"/>
                </a:solidFill>
                <a:latin typeface="Times New Roman"/>
              </a:rPr>
              <a:t>Alternativní hypotéza k hypotéze nulové: </a:t>
            </a:r>
            <a:r>
              <a:rPr b="0" lang="cs-CZ" sz="2900" spc="-1" strike="noStrike" u="sng">
                <a:solidFill>
                  <a:srgbClr val="ffff00"/>
                </a:solidFill>
                <a:uFillTx/>
                <a:latin typeface="Times New Roman"/>
              </a:rPr>
              <a:t>přesná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ffffff"/>
                </a:solidFill>
                <a:latin typeface="Times New Roman"/>
              </a:rPr>
              <a:t>Černovlásky budou mít v testech inteligence skóre vyšší o 20 bodů než blondýnky (Č – B = 20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FD8-C959-45AD-B4F3-741FC00888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Testy statistické významnosti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71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Na základě čeho rozhoduji o významnosti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Na základě kritické hodnoty – hladina významnosti (alf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Magická hranice 95 % (p = 0,05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C2B-0793-49ED-B061-3B4786C7C7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790120" cy="56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Jednostranný (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one-tailed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) a dvoustranný test (two-tail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ritika testů význam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Nadužívání testů významnosti (reprezentativi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Rigidita 95% hranice význam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Nešťastný výraz „významnost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Parametrické a neparametrické tes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FBE-B496-49E9-86CB-824B224012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1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Means: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2 a více proměn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isle proměnná – kardinál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ávisle proměnná(é): kategorizovaná /ordinální nebo nominál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3657600"/>
          <a:ext cx="6096240" cy="2736720"/>
        </p:xfrm>
        <a:graphic>
          <a:graphicData uri="http://schemas.openxmlformats.org/drawingml/2006/table">
            <a:tbl>
              <a:tblPr/>
              <a:tblGrid>
                <a:gridCol w="4038840"/>
                <a:gridCol w="205740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tegorie nezávisle pro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38E-C995-461A-B2F8-948ECA1E84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1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Means: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2 a více proměn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isle proměnná – kardinál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ávisle proměnná(é): kategorizovaná /ordinální nebo nominál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523880" y="3657600"/>
          <a:ext cx="6096240" cy="2736720"/>
        </p:xfrm>
        <a:graphic>
          <a:graphicData uri="http://schemas.openxmlformats.org/drawingml/2006/table">
            <a:tbl>
              <a:tblPr/>
              <a:tblGrid>
                <a:gridCol w="4038840"/>
                <a:gridCol w="205740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tegorie nezávisle pro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ákladn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yučen(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C84-F684-4738-97C5-A6E9D02FF9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1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Means: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2 a více proměn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isle proměnná – kardinál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ávisle proměnná(é): kategorizovaná /ordinální nebo nominál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3657600"/>
          <a:ext cx="6096240" cy="2736720"/>
        </p:xfrm>
        <a:graphic>
          <a:graphicData uri="http://schemas.openxmlformats.org/drawingml/2006/table">
            <a:tbl>
              <a:tblPr/>
              <a:tblGrid>
                <a:gridCol w="4038840"/>
                <a:gridCol w="205740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tegorie nezávisle pro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ůměry z.p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ákladn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yučen(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58DE-21F3-42D4-8099-FF35B94808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1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Means: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2 a více proměn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isle proměnná – kardinál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ávisle proměnná(é): kategorizovaná /ordinální nebo nominál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23880" y="3657600"/>
          <a:ext cx="6096240" cy="2736720"/>
        </p:xfrm>
        <a:graphic>
          <a:graphicData uri="http://schemas.openxmlformats.org/drawingml/2006/table">
            <a:tbl>
              <a:tblPr/>
              <a:tblGrid>
                <a:gridCol w="4038840"/>
                <a:gridCol w="205740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tegorie nezávisle pro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ůměry z.p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ákladn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yučen(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DDED-107C-4CC8-9DF3-9F34B09465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533520"/>
            <a:ext cx="8713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T-tes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2 proměn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isle proměnná – kardinál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ávisle proměnná: kategorizovaná pouze se dvěma kategorie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3880" y="3740040"/>
          <a:ext cx="6096240" cy="1670040"/>
        </p:xfrm>
        <a:graphic>
          <a:graphicData uri="http://schemas.openxmlformats.org/drawingml/2006/table">
            <a:tbl>
              <a:tblPr/>
              <a:tblGrid>
                <a:gridCol w="4038840"/>
                <a:gridCol w="205740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tegorie nezávisle pro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ůměry z.p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ž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Žen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28600" y="5668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Test signifikance rozdílů mezi průmě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F7C-4C5E-4792-9BFC-5C0D2D8ED9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8390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609120"/>
            <a:ext cx="8713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Anova: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2 proměn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isle proměnná – kardinál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ávisle proměnná: kategorizovaná s více než  dvěma kategorie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3200400"/>
          <a:ext cx="6096240" cy="2705040"/>
        </p:xfrm>
        <a:graphic>
          <a:graphicData uri="http://schemas.openxmlformats.org/drawingml/2006/table">
            <a:tbl>
              <a:tblPr/>
              <a:tblGrid>
                <a:gridCol w="4038840"/>
                <a:gridCol w="2057400"/>
              </a:tblGrid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tegorie nezávisle pro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ůměry z.p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-29 l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-39 l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-49 l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 a více l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80880" y="597384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Test signifikance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vzájemných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rozdílů mezi průmě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9C3-2504-4AC1-BF94-2BB9341F86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Co je testování statistické signifikance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71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last statistického usuzování (statistické infere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ESTOVÁNÍ směřuje </a:t>
            </a: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k zobecnění dat výběrového souboru na základní soubor.</a:t>
            </a: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e se prostřednictvím </a:t>
            </a: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testů signfik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est signifikance: </a:t>
            </a: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test nulové hypotéz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zdali je možné, nebo ji není možné zamítn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o je nulová hypotéz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1E4-5C8C-460D-A66C-5CEE3CA671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Testování hypotéz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1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ýzkumná hypotéz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arva vlasů ženy má vliv na míru její intelig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tatistická hypotéza jako operacionalizovaná výzkumná hypotéz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londýnky se budou lišit od černovlásek ve výsledcích v testu intelig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Nulová hypotéza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ako specifický případ statistické hypotéz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ezi blondýnkami a černovláskami nebude v testech inteligence žádný rozdí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589-C16E-404D-8C6B-39734D1BE7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21:24:24Z</dcterms:created>
  <dc:creator>Rabusic</dc:creator>
  <dc:description/>
  <dc:language>en-US</dc:language>
  <cp:lastModifiedBy>Rabusic</cp:lastModifiedBy>
  <dcterms:modified xsi:type="dcterms:W3CDTF">2006-11-01T07:45:23Z</dcterms:modified>
  <cp:revision>221</cp:revision>
  <dc:subject/>
  <dc:title>Proč jsou u nás lidé, kteří žijí v nouzi?  Ladislav Rabušic</dc:title>
</cp:coreProperties>
</file>