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FC30D-19A0-4055-8720-F87F0E920AD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 = 0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vztah není nebo není lineární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nalost hodnoty X nezlepší naši schopnost odhadnout správně hodnotu 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r = 1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perfektní pozitivní korelac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 rostoucí hodnotou X hodnota Y </a:t>
            </a:r>
            <a:r>
              <a:rPr b="0" lang="cs-CZ" sz="1600" spc="-1" strike="noStrike" u="sng">
                <a:solidFill>
                  <a:srgbClr val="000000"/>
                </a:solidFill>
                <a:uFillTx/>
                <a:latin typeface="Arial"/>
              </a:rPr>
              <a:t>rost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 Hodnotu Y odhadneme na základě znalosti hodnoty X bez jakéhokoliv omyl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r = - 1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perfektní negativní korelac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 rostoucí hodnotou X hodnota Y </a:t>
            </a:r>
            <a:r>
              <a:rPr b="0" lang="cs-CZ" sz="1600" spc="-1" strike="noStrike" u="sng">
                <a:solidFill>
                  <a:srgbClr val="000000"/>
                </a:solidFill>
                <a:uFillTx/>
                <a:latin typeface="Arial"/>
              </a:rPr>
              <a:t>klesá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 Hodnotu Y odhadneme na základě znalosti hodnoty X bez jakéhokoliv omyl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F89C-C74F-4032-901D-9D6268BEA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11A9-BC8F-437C-9322-F2156FF96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0A20-0FA7-475B-AF31-E4224D023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C51E-1091-4FFE-9E9F-D18549A18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A3873-6168-4582-9783-8151832DD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E9BA6-7EC5-4BB3-AE92-5251677F4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8D9EA-1C91-4495-90C4-8D2F8EBC5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7BB24-2D24-436C-8E73-2D1742897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DEA52-0BFA-4FA6-A0DC-2E6E76C05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E37F4-9873-4D69-9688-5856D9607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D71B6-7423-4945-9DD6-33C4A295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4D2D-8110-4381-A5B2-CF77F323F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1EEB6-B9B5-4969-897B-91640204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12572-2114-46A7-9ADC-582041D5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402D2-9E7B-44D3-99E0-5903D9FDF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C65EC-54CC-464E-A230-5CA472BFC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11E89-46E1-4B61-AC6F-8A4712666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BC53-614E-4C9B-865A-553EDC6BE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96C1-9ADB-4A76-AAD5-EF48B80AC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5DBF-45B0-495E-B6FB-458B8EF08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5360-9F8A-4D43-8A7C-557DA128F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8233-2383-40DC-8928-E99CD6BE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AC5E-1B87-4DC5-A18A-0C8C9020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F0D8-E3BE-41C1-8CE1-53CC7770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E8267-67AC-4DB8-8098-952A1BB2C6BA}" type="datetime">
              <a:rPr b="0" lang="cs-CZ" sz="1000" spc="-1" strike="noStrike">
                <a:solidFill>
                  <a:srgbClr val="ffffff"/>
                </a:solidFill>
                <a:latin typeface="Verdana"/>
              </a:rPr>
              <a:t>30.07.20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8B86A-6CDA-4313-8470-8A5EE59F8842}" type="slidenum">
              <a:rPr b="0" lang="cs-CZ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C0AB5-2A25-403E-862F-8273A33188CB}" type="datetime">
              <a:rPr b="0" lang="cs-CZ" sz="1000" spc="-1" strike="noStrike">
                <a:solidFill>
                  <a:srgbClr val="ffffff"/>
                </a:solidFill>
                <a:latin typeface="Verdana"/>
              </a:rPr>
              <a:t>30.07.20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FF5FD-F483-43AF-A8B5-84B2564D196C}" type="slidenum">
              <a:rPr b="0" lang="cs-CZ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560" y="622440"/>
            <a:ext cx="8713800" cy="431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Základy dvourozměrné  analýzy:</a:t>
            </a:r>
            <a:br>
              <a:rPr sz="4000"/>
            </a:b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měření síly asociací dvou proměnných </a:t>
            </a:r>
            <a:br>
              <a:rPr sz="4000"/>
            </a:br>
            <a:br>
              <a:rPr sz="4000"/>
            </a:b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(koeficienty asociace)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CE7F4A7-609D-4A74-9EC2-1EB3F84AB20B}" type="datetime1">
              <a:rPr lang="en-US"/>
              <a:t>07/30/26</a:t>
            </a:fld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70920" y="549360"/>
            <a:ext cx="831708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ffff"/>
                </a:solidFill>
                <a:latin typeface="Verdana"/>
              </a:rPr>
              <a:t>	</a:t>
            </a:r>
            <a:r>
              <a:rPr b="0" lang="cs-CZ" sz="3200" spc="-1" strike="noStrike">
                <a:solidFill>
                  <a:srgbClr val="00ffff"/>
                </a:solidFill>
                <a:latin typeface="Verdana"/>
              </a:rPr>
              <a:t>&lt;-1;+1&gt;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Koeficient vypovídá o síle tohoto vztahu, znaménko o jeho směru (ordinální a kardinální proměnné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9815ED-3A42-4869-BBE2-0520F117F8B0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252000" y="620640"/>
            <a:ext cx="82803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Čím vyšší je hodnota koeficientu asociace (v absolutní hodnotě), tím silnější je vztah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Znaménko koeficientu asociace určuje směr (asymetrického) vztahu. Neříká nic o síle vztahu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(o té vypovídá absolutní hodnota koeficientu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B59D22-CFF7-4EC4-8506-B5761D087B03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7640" y="259920"/>
            <a:ext cx="8421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99"/>
                </a:solidFill>
                <a:latin typeface="Arial"/>
              </a:rPr>
              <a:t>HODNOTA KOEFICIENTU ASOCIACE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240" y="1704600"/>
            <a:ext cx="853452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250920" y="1125360"/>
            <a:ext cx="8642160" cy="35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ffff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ulová hodnota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obvykle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znamená, ž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ztah neexistuj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ěkdy ovšem je to jen výraz toho, ž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ztah není lineární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Hodnota 1,00 znamená perfektní vzta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0A1794-6CA0-45DC-9981-A89DF7F772B7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0240" y="333360"/>
            <a:ext cx="842148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99"/>
                </a:solidFill>
                <a:latin typeface="Arial"/>
              </a:rPr>
              <a:t>KOEFICIENTY MÍRY ASOCIACE</a:t>
            </a:r>
            <a:br>
              <a:rPr sz="3600"/>
            </a:br>
            <a:r>
              <a:rPr b="1" lang="cs-CZ" sz="3600" spc="-1" strike="noStrike">
                <a:solidFill>
                  <a:srgbClr val="ffff99"/>
                </a:solidFill>
                <a:latin typeface="Arial"/>
              </a:rPr>
              <a:t>PRO NOMINÁLNÍ PROMĚNNÉ</a:t>
            </a:r>
            <a:br>
              <a:rPr sz="3600"/>
            </a:br>
            <a:r>
              <a:rPr b="1" lang="cs-CZ" sz="3600" spc="-1" strike="noStrike">
                <a:solidFill>
                  <a:srgbClr val="ffff99"/>
                </a:solidFill>
                <a:latin typeface="Arial"/>
              </a:rPr>
              <a:t> ZALOŽENÉ NA CHÍ</a:t>
            </a:r>
            <a:r>
              <a:rPr b="1" lang="cs-CZ" sz="3600" spc="-1" strike="noStrike" baseline="30000">
                <a:solidFill>
                  <a:srgbClr val="ffff9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50560" y="2060280"/>
            <a:ext cx="8785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- Phi: Pro tabulky 2x2, u větších může 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nabývat hodnot nad 1,00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C: Pearsonův koeficient kontingence.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Nabývá hodnot &lt;0;1&gt;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Crame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’s V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ro větší tabulky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(u tabulky 2x2 je identický s Phi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D818B0-D4C3-45AB-8E92-B12AC7E004D5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0240" y="333000"/>
            <a:ext cx="842148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99"/>
                </a:solidFill>
                <a:latin typeface="Arial"/>
              </a:rPr>
              <a:t>KOEFICIENTY ASOCIACE</a:t>
            </a:r>
            <a:br>
              <a:rPr sz="3600"/>
            </a:br>
            <a:r>
              <a:rPr b="0" lang="cs-CZ" sz="3600" spc="-1" strike="noStrike">
                <a:solidFill>
                  <a:srgbClr val="ffff99"/>
                </a:solidFill>
                <a:latin typeface="Arial"/>
              </a:rPr>
              <a:t>PRO NOMINÁLNÍ PROMĚNNÉ</a:t>
            </a:r>
            <a:br>
              <a:rPr sz="3600"/>
            </a:br>
            <a:r>
              <a:rPr b="0" lang="cs-CZ" sz="3600" spc="-1" strike="noStrike">
                <a:solidFill>
                  <a:srgbClr val="ffff99"/>
                </a:solidFill>
                <a:latin typeface="Arial"/>
              </a:rPr>
              <a:t> ZALOŽENÉ NA PROPORCIÁLNÍ REDUKCI CHYBY 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2998800"/>
            <a:ext cx="91440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Aft>
                <a:spcPts val="799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Symetrické LAMBD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Aft>
                <a:spcPts val="799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Asymetrické LAMBDA. Hodnota závisí na tom, která proměnná predikuje druhou proměnnou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949060-77BD-44D5-8D49-E1A0BE786ECE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864072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Verdana"/>
              </a:rPr>
              <a:t>KOEFICIENTY ASOCIA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Verdana"/>
              </a:rPr>
              <a:t>ORDINÁLNÍCH PROMĚNNÝCH</a:t>
            </a: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Nabývají hodnot &lt;-1;1&gt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ro lineární vztahy. U nelineárních vztahů se použije míra asociace pro nominální proměnné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68360" y="5013360"/>
            <a:ext cx="8280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A84DAB-2C2B-4E2A-88C6-21F20A0EC66A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133200"/>
            <a:ext cx="8421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8461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ro symetrické vztah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buClr>
                <a:srgbClr val="66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ffff"/>
                </a:solidFill>
                <a:latin typeface="Verdana"/>
              </a:rPr>
              <a:t>Goodman-Kruskalovo Gamma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buClr>
                <a:srgbClr val="66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ffff"/>
                </a:solidFill>
                <a:latin typeface="Verdana"/>
              </a:rPr>
              <a:t>Kendallovo tau</a:t>
            </a:r>
            <a:r>
              <a:rPr b="0" lang="cs-CZ" sz="3200" spc="-1" strike="noStrike" baseline="-25000">
                <a:solidFill>
                  <a:srgbClr val="66ffff"/>
                </a:solidFill>
                <a:latin typeface="Verdana"/>
              </a:rPr>
              <a:t>b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(čtvercová tabulka)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buClr>
                <a:srgbClr val="66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ffff"/>
                </a:solidFill>
                <a:latin typeface="Verdana"/>
              </a:rPr>
              <a:t>Kendallovo tau</a:t>
            </a:r>
            <a:r>
              <a:rPr b="0" lang="cs-CZ" sz="3200" spc="-1" strike="noStrike" baseline="-25000">
                <a:solidFill>
                  <a:srgbClr val="66ffff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(obdélníkové tabulky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99ff"/>
                </a:solidFill>
                <a:latin typeface="Verdana"/>
              </a:rPr>
              <a:t>Spearmanův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koeficient pořadové korela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ro asymetrické vztahy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buClr>
                <a:srgbClr val="66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ffff"/>
                </a:solidFill>
                <a:latin typeface="Verdana"/>
              </a:rPr>
              <a:t>Somersovo D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–  jedna z proměnných brána jako závislá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FABE7F-4132-42B8-9637-6C15A8F10D98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0240" y="333000"/>
            <a:ext cx="84214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99"/>
                </a:solidFill>
                <a:latin typeface="Arial"/>
              </a:rPr>
              <a:t>GAMM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90360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Je založeno na schopnosti odhadnout hodnoty jedné proměnné na základě znalosti hodnot druhé proměnné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C41568-D947-4137-B037-36F9409A3211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79280" y="404280"/>
            <a:ext cx="885672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ŘÍKLAD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SzPct val="10977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Předpokládejme, že míra religiozit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pozitivně koresponduje s mírou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odporu vůči potratům (obě ordinální!).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SzPct val="10977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Je-li tedy osoba A religióznější než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osoba B, lze předpokládat, že i mír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odporu proti potratům u ní bude větš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než u osoby B.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SzPct val="10977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Porovnáváme všechny páry a GAM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je podílem párových srovnání, která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tomuto předpokladu vyhovují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226B3A-AD3C-40D1-A30D-3C6ECE2D2D47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45600" y="404640"/>
            <a:ext cx="838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99"/>
                </a:solidFill>
                <a:latin typeface="Arial"/>
              </a:rPr>
              <a:t>KOEFICIENTY ZALOŽENÉ </a:t>
            </a:r>
            <a:br>
              <a:rPr sz="4000"/>
            </a:br>
            <a:r>
              <a:rPr b="1" lang="cs-CZ" sz="4000" spc="-1" strike="noStrike">
                <a:solidFill>
                  <a:srgbClr val="ffff99"/>
                </a:solidFill>
                <a:latin typeface="Arial"/>
              </a:rPr>
              <a:t>NA POŘADOVÉ KORELACI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78920" y="2637000"/>
            <a:ext cx="8280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3200" spc="-1" strike="noStrike">
                <a:solidFill>
                  <a:srgbClr val="66ffff"/>
                </a:solidFill>
                <a:latin typeface="Verdana"/>
              </a:rPr>
              <a:t>SPEARMANŮV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3200" spc="-1" strike="noStrike">
                <a:solidFill>
                  <a:srgbClr val="66ffff"/>
                </a:solidFill>
                <a:latin typeface="Verdana"/>
              </a:rPr>
              <a:t>koeficient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pořadové korelace je neparametrickou metodou a nabývá hodnot &lt;-1;+1&gt;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Je vhodný pro ordinální proměnné s větším počtem hodnot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080B61-0AC5-4F2B-9207-7D67BDB49991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08000" y="620640"/>
            <a:ext cx="88567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Úkolem dvourozměrné analýzy nebo vícerozměrné analýzy (více proměnných) je zjistit, je-li mezi nimi prokazatelná souvislost (matematická – kterou nelze zaměnit za vztah příčiny a následku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3200" spc="-1" strike="noStrike">
                <a:solidFill>
                  <a:srgbClr val="00ffff"/>
                </a:solidFill>
                <a:latin typeface="Verdana"/>
              </a:rPr>
              <a:t>„</a:t>
            </a:r>
            <a:r>
              <a:rPr b="0" lang="cs-CZ" sz="3200" spc="-1" strike="noStrike">
                <a:solidFill>
                  <a:srgbClr val="00ffff"/>
                </a:solidFill>
                <a:latin typeface="Verdana"/>
              </a:rPr>
              <a:t>Osoby s vysokoškolským vzděláním mají vyšší příjmy“.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6CAE37-F429-46C6-B2C2-90EC19F0BBEA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99"/>
                </a:solidFill>
                <a:latin typeface="Arial"/>
              </a:rPr>
              <a:t>KOEFICIENTY KOREALCE</a:t>
            </a:r>
            <a:br>
              <a:rPr sz="4000"/>
            </a:br>
            <a:r>
              <a:rPr b="1" lang="cs-CZ" sz="4000" spc="-1" strike="noStrike">
                <a:solidFill>
                  <a:srgbClr val="ffff99"/>
                </a:solidFill>
                <a:latin typeface="Arial"/>
              </a:rPr>
              <a:t>PRO KARDINÁLNÍ PROMĚNNÉ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50920" y="2492280"/>
            <a:ext cx="8005680" cy="34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Verdana"/>
              </a:rPr>
              <a:t>PEARSONŮV KORELAČNÍ KOEFICIENT r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Koeficient nerozlišuje co je příčina a co důsledek (nezávislá a závislá proměnná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959114-54A6-40EE-869F-46799B9AFBE8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84000" y="195120"/>
            <a:ext cx="3671640" cy="32004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ERFEKTNÍ KORELA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                  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/>
          <p:nvPr/>
        </p:nvSpPr>
        <p:spPr>
          <a:xfrm>
            <a:off x="1023840" y="981000"/>
            <a:ext cx="0" cy="208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020600" y="3068640"/>
            <a:ext cx="266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19640" y="3613320"/>
            <a:ext cx="3600360" cy="32004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ERFEKTNÍ NEZÁVISL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4360" y="3627360"/>
            <a:ext cx="3671640" cy="32004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SILNÁ KOREL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(pozitivní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042920" y="4437000"/>
            <a:ext cx="0" cy="208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80000" y="4437000"/>
            <a:ext cx="0" cy="208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023840" y="6524640"/>
            <a:ext cx="266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560920" y="6524640"/>
            <a:ext cx="266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1042920" y="1196640"/>
            <a:ext cx="1513080" cy="18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1077840" y="5373360"/>
            <a:ext cx="2702160" cy="109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372360" y="5300640"/>
            <a:ext cx="144360" cy="144360"/>
          </a:xfrm>
          <a:custGeom>
            <a:avLst/>
            <a:gdLst>
              <a:gd name="textAreaLeft" fmla="*/ 59400 w 144360"/>
              <a:gd name="textAreaRight" fmla="*/ 84960 w 14436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276720" y="5732640"/>
            <a:ext cx="144360" cy="144360"/>
          </a:xfrm>
          <a:custGeom>
            <a:avLst/>
            <a:gdLst>
              <a:gd name="textAreaLeft" fmla="*/ 59400 w 144360"/>
              <a:gd name="textAreaRight" fmla="*/ 84960 w 14436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059280" y="5373720"/>
            <a:ext cx="144360" cy="144360"/>
          </a:xfrm>
          <a:custGeom>
            <a:avLst/>
            <a:gdLst>
              <a:gd name="textAreaLeft" fmla="*/ 59400 w 144360"/>
              <a:gd name="textAreaRight" fmla="*/ 84960 w 14436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771640" y="5877000"/>
            <a:ext cx="144720" cy="144360"/>
          </a:xfrm>
          <a:custGeom>
            <a:avLst/>
            <a:gdLst>
              <a:gd name="textAreaLeft" fmla="*/ 59760 w 144720"/>
              <a:gd name="textAreaRight" fmla="*/ 84960 w 14472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987640" y="5805360"/>
            <a:ext cx="144360" cy="144720"/>
          </a:xfrm>
          <a:custGeom>
            <a:avLst/>
            <a:gdLst>
              <a:gd name="textAreaLeft" fmla="*/ 59400 w 144360"/>
              <a:gd name="textAreaRight" fmla="*/ 84960 w 144360"/>
              <a:gd name="textAreaTop" fmla="*/ 59760 h 144720"/>
              <a:gd name="textAreaBottom" fmla="*/ 84960 h 14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520" bIns="-20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195640" y="6165720"/>
            <a:ext cx="144360" cy="144720"/>
          </a:xfrm>
          <a:custGeom>
            <a:avLst/>
            <a:gdLst>
              <a:gd name="textAreaLeft" fmla="*/ 59400 w 144360"/>
              <a:gd name="textAreaRight" fmla="*/ 84960 w 144360"/>
              <a:gd name="textAreaTop" fmla="*/ 59760 h 144720"/>
              <a:gd name="textAreaBottom" fmla="*/ 84960 h 14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520" bIns="-20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835280" y="6021360"/>
            <a:ext cx="144360" cy="144360"/>
          </a:xfrm>
          <a:custGeom>
            <a:avLst/>
            <a:gdLst>
              <a:gd name="textAreaLeft" fmla="*/ 59400 w 144360"/>
              <a:gd name="textAreaRight" fmla="*/ 84960 w 14436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835280" y="6237360"/>
            <a:ext cx="144360" cy="144360"/>
          </a:xfrm>
          <a:custGeom>
            <a:avLst/>
            <a:gdLst>
              <a:gd name="textAreaLeft" fmla="*/ 59400 w 144360"/>
              <a:gd name="textAreaRight" fmla="*/ 84960 w 14436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332000" y="6237360"/>
            <a:ext cx="144360" cy="144360"/>
          </a:xfrm>
          <a:custGeom>
            <a:avLst/>
            <a:gdLst>
              <a:gd name="textAreaLeft" fmla="*/ 59400 w 144360"/>
              <a:gd name="textAreaRight" fmla="*/ 84960 w 14436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40000" y="5734080"/>
            <a:ext cx="144360" cy="144360"/>
          </a:xfrm>
          <a:custGeom>
            <a:avLst/>
            <a:gdLst>
              <a:gd name="textAreaLeft" fmla="*/ 59400 w 144360"/>
              <a:gd name="textAreaRight" fmla="*/ 84960 w 14436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547640" y="6165720"/>
            <a:ext cx="144720" cy="144720"/>
          </a:xfrm>
          <a:custGeom>
            <a:avLst/>
            <a:gdLst>
              <a:gd name="textAreaLeft" fmla="*/ 59760 w 144720"/>
              <a:gd name="textAreaRight" fmla="*/ 84960 w 144720"/>
              <a:gd name="textAreaTop" fmla="*/ 59760 h 144720"/>
              <a:gd name="textAreaBottom" fmla="*/ 84960 h 14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520" bIns="-20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523280" y="5516640"/>
            <a:ext cx="144360" cy="144360"/>
          </a:xfrm>
          <a:custGeom>
            <a:avLst/>
            <a:gdLst>
              <a:gd name="textAreaLeft" fmla="*/ 59400 w 144360"/>
              <a:gd name="textAreaRight" fmla="*/ 84960 w 14436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804000" y="5732640"/>
            <a:ext cx="144360" cy="144360"/>
          </a:xfrm>
          <a:custGeom>
            <a:avLst/>
            <a:gdLst>
              <a:gd name="textAreaLeft" fmla="*/ 59400 w 144360"/>
              <a:gd name="textAreaRight" fmla="*/ 84960 w 14436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20000" y="5948280"/>
            <a:ext cx="144360" cy="144720"/>
          </a:xfrm>
          <a:custGeom>
            <a:avLst/>
            <a:gdLst>
              <a:gd name="textAreaLeft" fmla="*/ 59400 w 144360"/>
              <a:gd name="textAreaRight" fmla="*/ 84960 w 144360"/>
              <a:gd name="textAreaTop" fmla="*/ 59760 h 144720"/>
              <a:gd name="textAreaBottom" fmla="*/ 84960 h 14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520" bIns="-20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307280" y="5877000"/>
            <a:ext cx="144360" cy="144360"/>
          </a:xfrm>
          <a:custGeom>
            <a:avLst/>
            <a:gdLst>
              <a:gd name="textAreaLeft" fmla="*/ 59400 w 144360"/>
              <a:gd name="textAreaRight" fmla="*/ 84960 w 14436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451640" y="4869000"/>
            <a:ext cx="144720" cy="144360"/>
          </a:xfrm>
          <a:custGeom>
            <a:avLst/>
            <a:gdLst>
              <a:gd name="textAreaLeft" fmla="*/ 59760 w 144720"/>
              <a:gd name="textAreaRight" fmla="*/ 84960 w 14472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588000" y="6093000"/>
            <a:ext cx="144720" cy="144360"/>
          </a:xfrm>
          <a:custGeom>
            <a:avLst/>
            <a:gdLst>
              <a:gd name="textAreaLeft" fmla="*/ 59760 w 144720"/>
              <a:gd name="textAreaRight" fmla="*/ 84960 w 14472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227640" y="4724280"/>
            <a:ext cx="144720" cy="144720"/>
          </a:xfrm>
          <a:custGeom>
            <a:avLst/>
            <a:gdLst>
              <a:gd name="textAreaLeft" fmla="*/ 59760 w 144720"/>
              <a:gd name="textAreaRight" fmla="*/ 84960 w 144720"/>
              <a:gd name="textAreaTop" fmla="*/ 59760 h 144720"/>
              <a:gd name="textAreaBottom" fmla="*/ 84960 h 14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520" bIns="-20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12000" y="5084640"/>
            <a:ext cx="144720" cy="144720"/>
          </a:xfrm>
          <a:custGeom>
            <a:avLst/>
            <a:gdLst>
              <a:gd name="textAreaLeft" fmla="*/ 59760 w 144720"/>
              <a:gd name="textAreaRight" fmla="*/ 84960 w 144720"/>
              <a:gd name="textAreaTop" fmla="*/ 59760 h 144720"/>
              <a:gd name="textAreaBottom" fmla="*/ 84960 h 14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520" bIns="-20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020000" y="4508640"/>
            <a:ext cx="144360" cy="144360"/>
          </a:xfrm>
          <a:custGeom>
            <a:avLst/>
            <a:gdLst>
              <a:gd name="textAreaLeft" fmla="*/ 59400 w 144360"/>
              <a:gd name="textAreaRight" fmla="*/ 84960 w 14436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3080" y="5445000"/>
            <a:ext cx="144360" cy="144720"/>
          </a:xfrm>
          <a:custGeom>
            <a:avLst/>
            <a:gdLst>
              <a:gd name="textAreaLeft" fmla="*/ 59400 w 144360"/>
              <a:gd name="textAreaRight" fmla="*/ 84960 w 144360"/>
              <a:gd name="textAreaTop" fmla="*/ 59760 h 144720"/>
              <a:gd name="textAreaBottom" fmla="*/ 84960 h 14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520" bIns="-20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732720" y="4797360"/>
            <a:ext cx="144360" cy="144360"/>
          </a:xfrm>
          <a:custGeom>
            <a:avLst/>
            <a:gdLst>
              <a:gd name="textAreaLeft" fmla="*/ 59400 w 144360"/>
              <a:gd name="textAreaRight" fmla="*/ 84960 w 14436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732720" y="5157720"/>
            <a:ext cx="144360" cy="144360"/>
          </a:xfrm>
          <a:custGeom>
            <a:avLst/>
            <a:gdLst>
              <a:gd name="textAreaLeft" fmla="*/ 59400 w 144360"/>
              <a:gd name="textAreaRight" fmla="*/ 84960 w 14436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948360" y="6237360"/>
            <a:ext cx="144720" cy="144360"/>
          </a:xfrm>
          <a:custGeom>
            <a:avLst/>
            <a:gdLst>
              <a:gd name="textAreaLeft" fmla="*/ 59760 w 144720"/>
              <a:gd name="textAreaRight" fmla="*/ 84960 w 14472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940360" y="5084640"/>
            <a:ext cx="144360" cy="144720"/>
          </a:xfrm>
          <a:custGeom>
            <a:avLst/>
            <a:gdLst>
              <a:gd name="textAreaLeft" fmla="*/ 59400 w 144360"/>
              <a:gd name="textAreaRight" fmla="*/ 84960 w 144360"/>
              <a:gd name="textAreaTop" fmla="*/ 59760 h 144720"/>
              <a:gd name="textAreaBottom" fmla="*/ 84960 h 14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520" bIns="-20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72360" y="5661000"/>
            <a:ext cx="144360" cy="144360"/>
          </a:xfrm>
          <a:custGeom>
            <a:avLst/>
            <a:gdLst>
              <a:gd name="textAreaLeft" fmla="*/ 59400 w 144360"/>
              <a:gd name="textAreaRight" fmla="*/ 84960 w 14436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580000" y="536256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867280" y="4365720"/>
            <a:ext cx="2017800" cy="1942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308720" y="5084640"/>
            <a:ext cx="144720" cy="144720"/>
          </a:xfrm>
          <a:custGeom>
            <a:avLst/>
            <a:gdLst>
              <a:gd name="textAreaLeft" fmla="*/ 59760 w 144720"/>
              <a:gd name="textAreaRight" fmla="*/ 84960 w 144720"/>
              <a:gd name="textAreaTop" fmla="*/ 59760 h 144720"/>
              <a:gd name="textAreaBottom" fmla="*/ 84960 h 14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520" bIns="-20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093080" y="4869000"/>
            <a:ext cx="144360" cy="144360"/>
          </a:xfrm>
          <a:custGeom>
            <a:avLst/>
            <a:gdLst>
              <a:gd name="textAreaLeft" fmla="*/ 59400 w 144360"/>
              <a:gd name="textAreaRight" fmla="*/ 84960 w 14436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516720" y="4508640"/>
            <a:ext cx="144360" cy="144360"/>
          </a:xfrm>
          <a:custGeom>
            <a:avLst/>
            <a:gdLst>
              <a:gd name="textAreaLeft" fmla="*/ 59400 w 144360"/>
              <a:gd name="textAreaRight" fmla="*/ 84960 w 14436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084720" y="5661000"/>
            <a:ext cx="144720" cy="144360"/>
          </a:xfrm>
          <a:custGeom>
            <a:avLst/>
            <a:gdLst>
              <a:gd name="textAreaLeft" fmla="*/ 59760 w 144720"/>
              <a:gd name="textAreaRight" fmla="*/ 84960 w 14472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308720" y="5661000"/>
            <a:ext cx="144720" cy="144360"/>
          </a:xfrm>
          <a:custGeom>
            <a:avLst/>
            <a:gdLst>
              <a:gd name="textAreaLeft" fmla="*/ 59760 w 144720"/>
              <a:gd name="textAreaRight" fmla="*/ 84960 w 14472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372360" y="5877000"/>
            <a:ext cx="144360" cy="144360"/>
          </a:xfrm>
          <a:custGeom>
            <a:avLst/>
            <a:gdLst>
              <a:gd name="textAreaLeft" fmla="*/ 59400 w 144360"/>
              <a:gd name="textAreaRight" fmla="*/ 84960 w 14436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227640" y="5013360"/>
            <a:ext cx="144720" cy="144360"/>
          </a:xfrm>
          <a:custGeom>
            <a:avLst/>
            <a:gdLst>
              <a:gd name="textAreaLeft" fmla="*/ 59760 w 144720"/>
              <a:gd name="textAreaRight" fmla="*/ 84960 w 14472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rot="20287200">
            <a:off x="1258560" y="5589360"/>
            <a:ext cx="2521080" cy="576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411280" y="6021360"/>
            <a:ext cx="144720" cy="144360"/>
          </a:xfrm>
          <a:custGeom>
            <a:avLst/>
            <a:gdLst>
              <a:gd name="textAreaLeft" fmla="*/ 59760 w 144720"/>
              <a:gd name="textAreaRight" fmla="*/ 84960 w 14472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700360" y="5661000"/>
            <a:ext cx="144360" cy="144360"/>
          </a:xfrm>
          <a:custGeom>
            <a:avLst/>
            <a:gdLst>
              <a:gd name="textAreaLeft" fmla="*/ 59400 w 144360"/>
              <a:gd name="textAreaRight" fmla="*/ 84960 w 14436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916360" y="5445000"/>
            <a:ext cx="144360" cy="144720"/>
          </a:xfrm>
          <a:custGeom>
            <a:avLst/>
            <a:gdLst>
              <a:gd name="textAreaLeft" fmla="*/ 59400 w 144360"/>
              <a:gd name="textAreaRight" fmla="*/ 84960 w 144360"/>
              <a:gd name="textAreaTop" fmla="*/ 59760 h 144720"/>
              <a:gd name="textAreaBottom" fmla="*/ 84960 h 14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520" bIns="-20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050920" y="5661000"/>
            <a:ext cx="144720" cy="144360"/>
          </a:xfrm>
          <a:custGeom>
            <a:avLst/>
            <a:gdLst>
              <a:gd name="textAreaLeft" fmla="*/ 59760 w 144720"/>
              <a:gd name="textAreaRight" fmla="*/ 84960 w 14472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740720" y="4221000"/>
            <a:ext cx="1152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 = 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84360" y="692280"/>
            <a:ext cx="1440000" cy="8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 =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(pozitivní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181480" y="182520"/>
            <a:ext cx="3672000" cy="32004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SILNÁ KOREL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(negativní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651640" y="981000"/>
            <a:ext cx="0" cy="208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653080" y="3068640"/>
            <a:ext cx="266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651640" y="1197000"/>
            <a:ext cx="2376360" cy="20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299280" y="1989000"/>
            <a:ext cx="144360" cy="144720"/>
          </a:xfrm>
          <a:custGeom>
            <a:avLst/>
            <a:gdLst>
              <a:gd name="textAreaLeft" fmla="*/ 59400 w 144360"/>
              <a:gd name="textAreaRight" fmla="*/ 84960 w 144360"/>
              <a:gd name="textAreaTop" fmla="*/ 59760 h 144720"/>
              <a:gd name="textAreaBottom" fmla="*/ 84960 h 14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520" bIns="-20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3242600">
            <a:off x="5435280" y="1773000"/>
            <a:ext cx="2521080" cy="576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15280" y="2205000"/>
            <a:ext cx="144360" cy="144360"/>
          </a:xfrm>
          <a:custGeom>
            <a:avLst/>
            <a:gdLst>
              <a:gd name="textAreaLeft" fmla="*/ 59400 w 144360"/>
              <a:gd name="textAreaRight" fmla="*/ 84960 w 14436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30920" y="2421000"/>
            <a:ext cx="144720" cy="144360"/>
          </a:xfrm>
          <a:custGeom>
            <a:avLst/>
            <a:gdLst>
              <a:gd name="textAreaLeft" fmla="*/ 59760 w 144720"/>
              <a:gd name="textAreaRight" fmla="*/ 84960 w 14472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946920" y="2133720"/>
            <a:ext cx="144360" cy="144360"/>
          </a:xfrm>
          <a:custGeom>
            <a:avLst/>
            <a:gdLst>
              <a:gd name="textAreaLeft" fmla="*/ 59400 w 144360"/>
              <a:gd name="textAreaRight" fmla="*/ 84960 w 14436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020000" y="2492280"/>
            <a:ext cx="144360" cy="144720"/>
          </a:xfrm>
          <a:custGeom>
            <a:avLst/>
            <a:gdLst>
              <a:gd name="textAreaLeft" fmla="*/ 59400 w 144360"/>
              <a:gd name="textAreaRight" fmla="*/ 84960 w 144360"/>
              <a:gd name="textAreaTop" fmla="*/ 59760 h 144720"/>
              <a:gd name="textAreaBottom" fmla="*/ 84960 h 14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520" bIns="-20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236000" y="2276640"/>
            <a:ext cx="144360" cy="144360"/>
          </a:xfrm>
          <a:custGeom>
            <a:avLst/>
            <a:gdLst>
              <a:gd name="textAreaLeft" fmla="*/ 59400 w 144360"/>
              <a:gd name="textAreaRight" fmla="*/ 84960 w 14436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236000" y="2708280"/>
            <a:ext cx="144360" cy="144360"/>
          </a:xfrm>
          <a:custGeom>
            <a:avLst/>
            <a:gdLst>
              <a:gd name="textAreaLeft" fmla="*/ 59400 w 144360"/>
              <a:gd name="textAreaRight" fmla="*/ 84960 w 14436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451640" y="2492280"/>
            <a:ext cx="144720" cy="144720"/>
          </a:xfrm>
          <a:custGeom>
            <a:avLst/>
            <a:gdLst>
              <a:gd name="textAreaLeft" fmla="*/ 59760 w 144720"/>
              <a:gd name="textAreaRight" fmla="*/ 84960 w 144720"/>
              <a:gd name="textAreaTop" fmla="*/ 59760 h 144720"/>
              <a:gd name="textAreaBottom" fmla="*/ 84960 h 14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520" bIns="-20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940360" y="1700280"/>
            <a:ext cx="144360" cy="144360"/>
          </a:xfrm>
          <a:custGeom>
            <a:avLst/>
            <a:gdLst>
              <a:gd name="textAreaLeft" fmla="*/ 59400 w 144360"/>
              <a:gd name="textAreaRight" fmla="*/ 84960 w 14436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56360" y="1279440"/>
            <a:ext cx="144360" cy="144720"/>
          </a:xfrm>
          <a:custGeom>
            <a:avLst/>
            <a:gdLst>
              <a:gd name="textAreaLeft" fmla="*/ 59400 w 144360"/>
              <a:gd name="textAreaRight" fmla="*/ 84960 w 144360"/>
              <a:gd name="textAreaTop" fmla="*/ 59760 h 144720"/>
              <a:gd name="textAreaBottom" fmla="*/ 84960 h 14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520" bIns="-20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372360" y="1495440"/>
            <a:ext cx="144360" cy="144360"/>
          </a:xfrm>
          <a:custGeom>
            <a:avLst/>
            <a:gdLst>
              <a:gd name="textAreaLeft" fmla="*/ 59400 w 144360"/>
              <a:gd name="textAreaRight" fmla="*/ 84960 w 14436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588000" y="1711440"/>
            <a:ext cx="144720" cy="144360"/>
          </a:xfrm>
          <a:custGeom>
            <a:avLst/>
            <a:gdLst>
              <a:gd name="textAreaLeft" fmla="*/ 59760 w 144720"/>
              <a:gd name="textAreaRight" fmla="*/ 84960 w 14472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804000" y="1927080"/>
            <a:ext cx="144360" cy="144720"/>
          </a:xfrm>
          <a:custGeom>
            <a:avLst/>
            <a:gdLst>
              <a:gd name="textAreaLeft" fmla="*/ 59400 w 144360"/>
              <a:gd name="textAreaRight" fmla="*/ 84960 w 144360"/>
              <a:gd name="textAreaTop" fmla="*/ 59760 h 144720"/>
              <a:gd name="textAreaBottom" fmla="*/ 84960 h 14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520" bIns="-20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299280" y="1773360"/>
            <a:ext cx="144360" cy="144360"/>
          </a:xfrm>
          <a:custGeom>
            <a:avLst/>
            <a:gdLst>
              <a:gd name="textAreaLeft" fmla="*/ 59400 w 144360"/>
              <a:gd name="textAreaRight" fmla="*/ 84960 w 14436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515280" y="1989000"/>
            <a:ext cx="144360" cy="144720"/>
          </a:xfrm>
          <a:custGeom>
            <a:avLst/>
            <a:gdLst>
              <a:gd name="textAreaLeft" fmla="*/ 59400 w 144360"/>
              <a:gd name="textAreaRight" fmla="*/ 84960 w 144360"/>
              <a:gd name="textAreaTop" fmla="*/ 59760 h 144720"/>
              <a:gd name="textAreaBottom" fmla="*/ 84960 h 14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520" bIns="-20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730920" y="2205000"/>
            <a:ext cx="144720" cy="144360"/>
          </a:xfrm>
          <a:custGeom>
            <a:avLst/>
            <a:gdLst>
              <a:gd name="textAreaLeft" fmla="*/ 59760 w 144720"/>
              <a:gd name="textAreaRight" fmla="*/ 84960 w 14472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484280"/>
            <a:ext cx="144720" cy="144360"/>
          </a:xfrm>
          <a:custGeom>
            <a:avLst/>
            <a:gdLst>
              <a:gd name="textAreaLeft" fmla="*/ 59760 w 144720"/>
              <a:gd name="textAreaRight" fmla="*/ 84960 w 14472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900000" y="981000"/>
            <a:ext cx="1584360" cy="22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195640" y="2112840"/>
            <a:ext cx="1511280" cy="8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 = -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(negativní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659640" y="1038240"/>
            <a:ext cx="208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r se blíží -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258920" y="4781520"/>
            <a:ext cx="208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r se blíží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FCF1B0-6E7B-451D-B9FE-F08C3B7B53A6}" type="datetime1">
              <a:rPr lang="en-US"/>
              <a:t>07/30/26</a:t>
            </a:fld>
          </a:p>
        </p:txBody>
      </p:sp>
    </p:spTree>
  </p:cSld>
  <p:transition spd="med">
    <p:wipe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684000" y="475920"/>
            <a:ext cx="80643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ETA koefici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když </a:t>
            </a:r>
            <a:r>
              <a:rPr b="0" lang="cs-CZ" sz="3200" spc="-1" strike="noStrike">
                <a:solidFill>
                  <a:srgbClr val="ffff99"/>
                </a:solidFill>
                <a:latin typeface="Verdana"/>
              </a:rPr>
              <a:t>závisle proměnn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je kardinální (měřená na intervalové škále) a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99"/>
                </a:solidFill>
                <a:latin typeface="Verdana"/>
              </a:rPr>
              <a:t>nezávisle proměnná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je nominální nebo ordinální (měřen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na nominální nebo ordinální škále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1291ED-5DA2-4069-AA5D-23B8B72E74FA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90240" y="475920"/>
            <a:ext cx="84214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99"/>
                </a:solidFill>
                <a:latin typeface="Arial"/>
              </a:rPr>
              <a:t>TEST LINEARITY ASOCIAC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56944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SzPct val="10977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Použít kontingenční tabulku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SzPct val="10977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Porovnat skupinové průměry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SzPct val="10977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Porovnat lineární a nelineární koeficienty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SzPct val="10977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Analyzovat residuály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SzPct val="10977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Použít „Curve Estimation Programs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3C2ABD-F81A-4393-BD59-C019D3AE31D6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90240" y="475920"/>
            <a:ext cx="842148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br>
              <a:rPr sz="7200"/>
            </a:br>
            <a:br>
              <a:rPr sz="7200"/>
            </a:br>
            <a:br>
              <a:rPr sz="7200"/>
            </a:br>
            <a:endParaRPr b="0" lang="en-US" sz="7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39640" y="797040"/>
            <a:ext cx="8280360" cy="269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800000"/>
                </a:solidFill>
                <a:latin typeface="Arial"/>
              </a:rPr>
              <a:t>PROCEDUR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800000"/>
                </a:solidFill>
                <a:latin typeface="Arial"/>
              </a:rPr>
              <a:t>CORRELATION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(</a:t>
            </a:r>
            <a:r>
              <a:rPr b="1" lang="cs-CZ" sz="4000" spc="-1" strike="noStrike">
                <a:solidFill>
                  <a:srgbClr val="800000"/>
                </a:solidFill>
                <a:latin typeface="Arial"/>
              </a:rPr>
              <a:t>matice korelačních koeficientů</a:t>
            </a: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cddrive"/>
          <p:cNvSpPr/>
          <p:nvPr/>
        </p:nvSpPr>
        <p:spPr>
          <a:xfrm>
            <a:off x="1979640" y="4179960"/>
            <a:ext cx="5184720" cy="16254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F91EE4-AFB3-4BC1-8261-38CD7CC7F8BA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-324000" y="0"/>
            <a:ext cx="9576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556675-DC23-408B-A8BF-D4830D4A059E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814068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rokázání ASOCIACE není důkazem její KAUZALITY.</a:t>
            </a:r>
            <a:br>
              <a:rPr sz="3600"/>
            </a:br>
            <a:br>
              <a:rPr sz="36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Souvislost či vztah je vlastně jen   pravděpodobnosti uhádnout správně</a:t>
            </a: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stav (hodnotu) jedné proměnné na základě stavu (hodnoty) druhé proměnné.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6E833F-A991-4A55-A873-C07DABAEFA08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0240" y="259920"/>
            <a:ext cx="84214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Arial"/>
              </a:rPr>
              <a:t>3 PODMÍNKY KAUZALIT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69600" y="1196640"/>
            <a:ext cx="815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EXISTUJÍ SOUBĚŽNÉ ZMĚNY V OBOU PROMĚNNÝCH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JE VYLOUČENA EXISTENCE NĚJAKÉ DALŠÍ, VNĚJŠÍ PŘÍČIN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ZMĚNY V OBOU PROMĚNNÝCH SE OBJEVUJÍ V LOGICKÉM POŘADÍ (ROZLIŠENÍ PŘÍČINY A DŮSLEDKU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CEA2D6-466D-4C4A-8B19-D7078924657A}" type="datetime1">
              <a:rPr lang="en-US"/>
              <a:t>07/30/26</a:t>
            </a:fld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0240" y="115560"/>
            <a:ext cx="8421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99"/>
                </a:solidFill>
                <a:latin typeface="Arial"/>
              </a:rPr>
              <a:t>V PŘÍPADĚ ASOCIACE ŘEŠÍME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Aft>
                <a:spcPts val="700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Zda-li vůbec </a:t>
            </a:r>
            <a:r>
              <a:rPr b="0" i="1" lang="cs-CZ" sz="2800" spc="-1" strike="noStrike">
                <a:solidFill>
                  <a:srgbClr val="00ffff"/>
                </a:solidFill>
                <a:latin typeface="Verdana"/>
              </a:rPr>
              <a:t>existuje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, či nikoliv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Aft>
                <a:spcPts val="700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Zda je </a:t>
            </a:r>
            <a:r>
              <a:rPr b="0" i="1" lang="cs-CZ" sz="2800" spc="-1" strike="noStrike">
                <a:solidFill>
                  <a:srgbClr val="00ffff"/>
                </a:solidFill>
                <a:latin typeface="Verdana"/>
              </a:rPr>
              <a:t>symetrická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či </a:t>
            </a:r>
            <a:r>
              <a:rPr b="0" i="1" lang="cs-CZ" sz="2800" spc="-1" strike="noStrike">
                <a:solidFill>
                  <a:srgbClr val="00ffff"/>
                </a:solidFill>
                <a:latin typeface="Verdana"/>
              </a:rPr>
              <a:t>nesymetrická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Aft>
                <a:spcPts val="700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Jaký má </a:t>
            </a:r>
            <a:r>
              <a:rPr b="0" i="1" lang="cs-CZ" sz="2800" spc="-1" strike="noStrike">
                <a:solidFill>
                  <a:srgbClr val="00ffff"/>
                </a:solidFill>
                <a:latin typeface="Verdana"/>
              </a:rPr>
              <a:t>směr</a:t>
            </a:r>
            <a:r>
              <a:rPr b="0" i="1" lang="cs-CZ" sz="2800" spc="-1" strike="noStrike">
                <a:solidFill>
                  <a:srgbClr val="ffffff"/>
                </a:solidFill>
                <a:latin typeface="Verdana"/>
              </a:rPr>
              <a:t>: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je-li pozitivní, či negativn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Aft>
                <a:spcPts val="700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Jakou má </a:t>
            </a:r>
            <a:r>
              <a:rPr b="0" i="1" lang="cs-CZ" sz="2800" spc="-1" strike="noStrike">
                <a:solidFill>
                  <a:srgbClr val="00ffff"/>
                </a:solidFill>
                <a:latin typeface="Verdana"/>
              </a:rPr>
              <a:t>sílu</a:t>
            </a:r>
            <a:r>
              <a:rPr b="0" i="1" lang="cs-CZ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i="1" lang="cs-CZ" sz="2800" spc="-1" strike="noStrike">
                <a:solidFill>
                  <a:srgbClr val="ffffff"/>
                </a:solidFill>
                <a:latin typeface="Verdana"/>
              </a:rPr>
              <a:t>těsnost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): Do jaké míry rozložení variant jedné proměnné určuje rozložení variant druhé proměnné (rozdíly párového výskytu jednotlivých variant proměnných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Aft>
                <a:spcPts val="700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Jakou má </a:t>
            </a:r>
            <a:r>
              <a:rPr b="0" i="1" lang="cs-CZ" sz="2800" spc="-1" strike="noStrike">
                <a:solidFill>
                  <a:srgbClr val="00ffff"/>
                </a:solidFill>
                <a:latin typeface="Verdana"/>
              </a:rPr>
              <a:t>povahu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: je-li monotónní (lineární) či jiného druhu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Určujeme i významnost (když máme reprezentativní výběrové soubory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4D0830-7EB4-4D4E-86AE-EFCA00CBE69D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0240" y="260280"/>
            <a:ext cx="8421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99"/>
                </a:solidFill>
                <a:latin typeface="Arial"/>
              </a:rPr>
              <a:t>SÍLA ASOCIACE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Měří statistické koeficienty asociace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oužití konkrétních koeficientů je určeno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56376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Úrovní měření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56376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Velikostí či tvarem kontingenční tabulk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56376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Linearitou či nelinearitou vztahu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56376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Symetrií či asymetrií vztahu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CFEFE5-4396-47A8-9FBE-C6B826B37AE8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83757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ffffff"/>
                </a:solidFill>
                <a:latin typeface="Verdana"/>
              </a:rPr>
              <a:t>Pro každou úroveň měření  (nominální, ordinální a kardinální) jsou určeny zvláštní koeficienty. 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9993D7-B4D1-4159-931B-39C79172603D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324000" y="1268280"/>
          <a:ext cx="8496000" cy="540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268280"/>
                    <a:ext cx="849600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468360" y="2133720"/>
            <a:ext cx="1582560" cy="431640"/>
          </a:xfrm>
          <a:prstGeom prst="ellipse">
            <a:avLst/>
          </a:prstGeom>
          <a:noFill/>
          <a:ln w="572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39640" y="4221000"/>
            <a:ext cx="1582920" cy="432000"/>
          </a:xfrm>
          <a:prstGeom prst="ellipse">
            <a:avLst/>
          </a:prstGeom>
          <a:noFill/>
          <a:ln w="572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13080" y="2190600"/>
            <a:ext cx="1582920" cy="393840"/>
          </a:xfrm>
          <a:prstGeom prst="ellipse">
            <a:avLst/>
          </a:prstGeom>
          <a:noFill/>
          <a:ln w="572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627280" y="404640"/>
            <a:ext cx="5761080" cy="5191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ukrývá i Spearmanův koefic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06840" y="1692360"/>
            <a:ext cx="1582920" cy="431640"/>
          </a:xfrm>
          <a:prstGeom prst="ellipse">
            <a:avLst/>
          </a:prstGeom>
          <a:noFill/>
          <a:ln w="572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148360" y="907920"/>
            <a:ext cx="287280" cy="792360"/>
          </a:xfrm>
          <a:prstGeom prst="downArrow">
            <a:avLst>
              <a:gd name="adj1" fmla="val 50000"/>
              <a:gd name="adj2" fmla="val 68954"/>
            </a:avLst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6BE051-F7AD-4DFF-8B8F-420C54AF23A9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70920" y="475920"/>
            <a:ext cx="831708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Hodnoty koeficientů se většinou pohybují v intervalech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3200" spc="-1" strike="noStrike">
                <a:solidFill>
                  <a:srgbClr val="00ffff"/>
                </a:solidFill>
                <a:latin typeface="Verdana"/>
              </a:rPr>
              <a:t>&lt;0;1&gt;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Koeficient vypovídá o síle tohoto vztahu, ne o jeho směru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(u nominálního znaku nemá směr žádný smysl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7F1364-A3C6-4AF8-9FA5-5217336755C2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4T09:42:22Z</dcterms:created>
  <dc:creator>Petr Mareš</dc:creator>
  <dc:description/>
  <dc:language>en-US</dc:language>
  <cp:lastModifiedBy>Ladislav Rabušic</cp:lastModifiedBy>
  <dcterms:modified xsi:type="dcterms:W3CDTF">2006-11-22T08:32:58Z</dcterms:modified>
  <cp:revision>94</cp:revision>
  <dc:subject/>
  <dc:title>Analýza dat</dc:title>
</cp:coreProperties>
</file>