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92F-6A8F-4926-B021-92A6EA7F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32A-5E1F-4CD9-91C7-8FAE6BD7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FED-8855-459F-9CBB-9E1E5AB9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EB3-75D2-4F7D-A8A7-D9ADE9D8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937-ED25-4274-99AB-14BB0CAD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56B-03E7-4334-B0B4-CA76E54C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83D-BB7A-4289-BD01-3D2F9AF1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7DA-82E6-48BA-BF20-5C05BC0A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315-A4ED-4F2D-8FB9-297FF67D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F75-13AC-495F-A88E-D2D8FE86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E93-F95F-4832-87AA-C1E67C90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FAA-49B8-494F-B9E0-96B912B2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CC63-56F8-428E-A390-5485695C2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istické usuzování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tatistická inferen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kc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ralizace zjištěných výsledk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oret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k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ové odh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y význam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dmínky statistické generaliz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výběrový soubor je dobrým reprezentantem populace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tato populace je náležitě definována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byl použit adekvátní pravděpodobnostní výběrový postup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míra neuskutečněných rozhovorů je nízká (počet odmítnutých rozhovorů byl nízký), takže tzv. </a:t>
            </a:r>
            <a:r>
              <a:rPr b="0" i="1" lang="cs-CZ" sz="3300" spc="-1" strike="noStrike">
                <a:solidFill>
                  <a:srgbClr val="ffffff"/>
                </a:solidFill>
                <a:latin typeface="Arial"/>
              </a:rPr>
              <a:t>response rate </a:t>
            </a: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je vysoký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má smysl zobecňovat, kdy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ž pracujeme s celou populací (jakkoliv definovanou pro účely našeho výzkumu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běrový soubor je vybrán prostřednictvím nepravděpodobnostních met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ra uskutečněných rozvorů je nižší než 85 %. Vysoká míra odmítnutých rozhovorů snižuje reprezentativitu souboru a zvyšuje tak pravděpodobnost, že náš výběr bude nespolehlivý pro generalizaci výsledk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ce (základní soubor)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ýběry (výběrový soubo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2852640"/>
            <a:ext cx="8820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běrové postupy vedoucí k reprezentativ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ikost výběrového soub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ž je soubor vychý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ážíme dat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ážení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ovit vá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áhy zabudovat do soub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ovat s váženými da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ovení vá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áha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84360" y="4560840"/>
                <a:ext cx="12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opula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zore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ikost i.s. je ovlivně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ikostí výběrového soubor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ikostí rozptylu v základním souboru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rou jistoty (spolehlivosti), kterou požadujeme. Ve statistice je obvykle stanovena na 95 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výpočet i.s. musí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znát výběrovou charakteristiku, pro niž i. s. počítáme (průměr, procento, procentuální rozdíl mezi skupinami, ale také korelační  koeficienty nebo regresní koeficienty) - získáme výpočtem z dat výběrového souboru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. vypočítat směrodatnou chybu, která měří velikost výběrové chyb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. rozhodnout, jak velkou úroveň spolehlivosti požadujeme. (sociální vědy - jistota 95 %, ale někdy požadujeme i úroveň 99 %, popř. 99,9 % (s tak vysokou jistotou pracují především v biologii a medicíně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5:09:39Z</dcterms:created>
  <dc:creator>Rabusic</dc:creator>
  <dc:description/>
  <dc:language>en-US</dc:language>
  <cp:lastModifiedBy>Rabusic Ladislav</cp:lastModifiedBy>
  <dcterms:modified xsi:type="dcterms:W3CDTF">2006-10-18T07:11:56Z</dcterms:modified>
  <cp:revision>8</cp:revision>
  <dc:subject/>
  <dc:title>Statistické usuzování (statistická inference)</dc:title>
</cp:coreProperties>
</file>