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35598-A0B8-4DA4-B926-56943D629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89163-1008-4539-9358-B1A9ED8D2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3595A-A1F9-4FC3-A3FE-4D0A0C2B9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DF8F9-37CA-4047-BAC0-9B99F650F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143DD-84F9-42FE-BCBB-FFB4350F9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C8D15-B344-449D-A7E0-6C628648C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36024-C7B3-47A1-9017-C22EF39B5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D18F0-A02B-4B35-914F-65399444C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DD6BC-CD0D-471C-BF43-1F9E769E8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37C8E-43AA-4382-ACE4-9B9F003E2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C4489-4F03-4A17-9071-14CFC6727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AC7C2-F69E-452D-A37A-530106736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6CB2C-7388-4EC8-B4F8-AA4EC353E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6E4BC-FE43-4A0E-AE03-50A93FC8B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36559-3780-40D7-80D9-2C7B0110B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E04E5-19FF-49B5-AD23-5AB4683BF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B960C-9474-4785-979C-CD60F2704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C6C36-F418-4732-93E8-9BF5B2FB0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A43F9-6A98-4434-B72C-8BBE6D70F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7B723-C234-446D-BD20-EF29E96D6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1ED1D-0C71-43C2-B56C-CAA9D5992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40C0B-4E25-40B9-92E8-6B275CFFF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C422A-820C-47A5-8035-D57189FF9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A9DF2-6D85-4AE9-873E-CE9CEC28F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6B02B-9207-49CE-8F7E-F3F6385904E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DF1B8-5AE7-421F-BCDD-3DBC1F9EA56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45676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VII. PÚSOBENÍ MASOVÝCH MÉDIÍ A ROLE INTERPERSONÁLNÍ KOMUNIKACE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0" y="1052640"/>
            <a:ext cx="914400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A/ Dvoustupňová komunikac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B/ Difůze inovací S -křivk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C/ J- Křivk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eec94"/>
                </a:solidFill>
                <a:latin typeface="Times New Roman"/>
              </a:rPr>
              <a:t>Vedle psychologických výzkumů zaměřených na mechanismy přesvědčování je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druhá  etapa výzkumu mediálních účinků </a:t>
            </a:r>
            <a:r>
              <a:rPr b="0" lang="cs-CZ" sz="32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charakterizována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sociologickou snahou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oddémonizovat pozici masových médií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, respektive korigovat představu o jejich všemocném a přímém působení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očíná zde etapa tzv.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omezených mediálních účinků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VÝZKUM DECATUR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( E. Katz /P.F. Lazarsfeld, 1954)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0" y="764640"/>
            <a:ext cx="9144000" cy="609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DESIGN VÝZKUM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ýzkum byl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koncipován tak, aby odpověděl otázku pro National  news magazine týkající se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nákupních vzorců, vkusu při oblékání a užívání kosmetiky, návštěvě kina a formování mínění v lokálních politických událostech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Studie identifikovala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názorové vůdce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podle jejich pozice, kterou zastávají v životním cyklu a podle sociálního statu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Klíčovými otázkami, které si v této době výzkumníci položili se zaměřili na to zda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1/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se tvůrci mínění shodují ve věku, pohlaví, sociálním statu apod.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2/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zda jsou tvůrci mínění více vystaveni médiím?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3/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či jsou tvůrci mínění více zaujati daným problémem?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HLAVNÍ ZJIŠTĚNÍ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1/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42% postojových změn v jednotlivých tématech bylo způsobeno osobním vlivem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druhé osoby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2/ Jako rozhodující se ukázala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míra integrace do skupiny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, ostatní sociodemografické charakteristiky jako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věk, pohlaví, vzdělání byly až sekundární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3/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Studie potvrdila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předpoklad, že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tvůrci mínění se vyskytují  na všech statusových rovinách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. Vyvstává tak otázka čím se liší od svých souběžců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a/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Personifikací hodnot dané skupiny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(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co je zač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)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e to tedy osoba jíž se souběžci snaží napodobi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b/ Kompetencí 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(co zná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c/ Strategickou sociální pozicí 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(koho zná)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Strategická pozice je jednak dána tím koho zná uvnitř skupiny, (leader musí mít souběžce) které dominuje a zároveň koho zná mimo skupinu v relevanci k danému tématu.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 SOCIOGRA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4/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Studie dále prokázala, že se tvůrci mínění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více vystavují mediálnímu působení než jejich souběžci.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Více četli noviny a politické rubriky v případě volebního vůdcovstv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5/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Názorové vůdcovství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je definováno výrazně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tématem, předmětem sdělení.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Tvůrci mínění mají někdy kosmopolitní charakter někdy charakter lokální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6/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vliv „opinion leaderů“ je dán nejen tím, čím jsou - tedy sociálním  statem, věkem nebo pohlavím, ale též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strukturou a hodnotami skupiny jíž jsou členy.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Tvůrci mínění defacto fungují tak, že posilují skupinové normy a individuální mínění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Interpersonální působení zvyšuje názorovou homogenitu skupiny. Ti, kteří původně deklarovali  jiný postoj jej změnili v tom směru, že se konformizoval s jejich primární skupinou, přáteli a známými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Jako charakteristický rys vztahu souběžců k tvůrcům mínění se ukázala jejich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ochota podpořit je i v případě, že pochybovali o správnosti jejich názoru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(podobné zjištění potvrzují studie zabývající se diseminací tzv. inovací - v případě šíření a doporučení nových léků se projevila ochota souběžců podržet své názorové vůdce i v situaci, že jimi doporučené léky selhaly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7/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osobní vliv se ukázal silnější a častější nejen v politice, ale i  módě,  umění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atd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Například p</a:t>
            </a: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ři </a:t>
            </a: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postojových změnách ve vztahu k filmové produkci byl </a:t>
            </a:r>
            <a:r>
              <a:rPr b="1" i="1" lang="cs-CZ" sz="2800" spc="-1" strike="noStrike">
                <a:solidFill>
                  <a:srgbClr val="feec94"/>
                </a:solidFill>
                <a:latin typeface="Times New Roman"/>
              </a:rPr>
              <a:t>personální kontakt pět a půlkrát silnější než druhé nejvýraznější médium -  noviny</a:t>
            </a: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. (J</a:t>
            </a: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e ale třeba předpokládat jak časovou dynamiku, tak i odlišnou kulturní pozici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eec94"/>
                </a:solidFill>
                <a:uFillTx/>
                <a:latin typeface="Times New Roman"/>
              </a:rPr>
              <a:t>FENOMENISTICKÝ PŘÍSTUP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0" y="620640"/>
            <a:ext cx="914400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Celou etapu omezených účinků (jak psychologické tak i sociologické studie) shrnuje a završuje  práce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Josepha Klappera Effects of Mass Communication (1960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Klapper zde činí několik základních  generalizací postavených na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téměř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300 empirických studiích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(především laboratorní povahy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Klapper koncipoval 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tzv.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fenomenistický přístup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který odmítá dlouho dominantní model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„hypodermického účinku“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. Místo toho preferuje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„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situační“ či „funkční“ optiku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Klapper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opouští teorii, která  považuje masovou komunikaci za jedinou a dostačující podmínku sociálního účinku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                  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FENOMENISTICKÝ PŘÍSTUP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VYCHÁZÍ Z PŘEDPOKLADU, ŽE MÉDIA PŮSOBÍ SPOLEČNĚ S OSTATNÍMI VLIVY V KOMPLEXNÍ SITUACI, KTEROU NELZE REDUKOVAT NA PÚSOBENÍ JEDINÉ PROMÉNNÉ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/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asová komunikace obyčejně </a:t>
            </a:r>
            <a:r>
              <a:rPr b="1" lang="en-US" sz="2800" spc="-1" strike="noStrike" u="sng">
                <a:solidFill>
                  <a:srgbClr val="feec94"/>
                </a:solidFill>
                <a:uFillTx/>
                <a:latin typeface="Times New Roman"/>
              </a:rPr>
              <a:t>není nutnou a postačující příčinou sociálních účinků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ale působí spíše společně s řadou zprostředkujících faktorů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/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tyto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zprostředkující faktory obvykle proměňují masovou komunikaci v </a:t>
            </a:r>
            <a:r>
              <a:rPr b="1" lang="en-US" sz="2800" spc="-1" strike="noStrike" u="sng">
                <a:solidFill>
                  <a:srgbClr val="feec94"/>
                </a:solidFill>
                <a:uFillTx/>
                <a:latin typeface="Times New Roman"/>
              </a:rPr>
              <a:t>dílčí sílu tj. nikoliv v jedinou příčinu posilování postojů veřejnosti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.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Spíše tak postoje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posiluje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než mění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3/ Tam, kde vyvolává masová komunikace čistou postojovou konverzi buď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eec94"/>
                </a:solidFill>
                <a:latin typeface="Times New Roman"/>
              </a:rPr>
              <a:t>a/ zprostředkující faktory jsou neúčinné a působení je přímé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b/ </a:t>
            </a:r>
            <a:r>
              <a:rPr b="1" i="1" lang="en-US" sz="2800" spc="-1" strike="noStrike">
                <a:solidFill>
                  <a:srgbClr val="feec94"/>
                </a:solidFill>
                <a:latin typeface="Times New Roman"/>
              </a:rPr>
              <a:t>zprostředkující faktory, které posilují postoj, působí ve smyslu změn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/zbývají zde ještě další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reziduální situace,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ve kterých skutečně působí masová komunikace přímo a slouží tak jistým </a:t>
            </a:r>
            <a:r>
              <a:rPr b="1" lang="en-US" sz="2800" spc="-1" strike="noStrike" u="sng">
                <a:solidFill>
                  <a:srgbClr val="feec94"/>
                </a:solidFill>
                <a:uFillTx/>
                <a:latin typeface="Times New Roman"/>
              </a:rPr>
              <a:t>psychofyzickým funkcím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Jako hlavní determinanty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mechanismu posílení a tzv. malé změny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idí Klapper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a/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mechanismus dvoustupňové komunikace</a:t>
            </a: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, resp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individuální psychickou výbavu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ovlivňující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selektivní mechanism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b/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komerční povahu masových médií,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která jsou nucena zastávat pouze ta hlediska a hodnoty proti nimž není námitek a tak pouze  posiluje dosavadní názor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Klapper tvrdí, že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klíčový je okamžik, kdy si vytvoříme zábranu proti cizím názorům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Tyto zábrany ale 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nepůsobí v případech zrodu mínění o otázkách zcela nových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Právě zde vidí prostor pro přesvědčovací působení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Klapper zde připomíná Goebelsovu parolu „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kdokoli řekne první slovo světu má vždy pravdu“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KRITIKA DVOUSTUPŇOVÉHO MODELU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0" y="475920"/>
            <a:ext cx="9144000" cy="63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1/ větší část studií potvrzuje, že zpráva se šíří ve 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větší míře </a:t>
            </a:r>
            <a:r>
              <a:rPr b="1" lang="cs-CZ" sz="2600" spc="-1" strike="noStrike" u="sng">
                <a:solidFill>
                  <a:srgbClr val="feec94"/>
                </a:solidFill>
                <a:uFillTx/>
                <a:latin typeface="Times New Roman"/>
              </a:rPr>
              <a:t>přímo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 ne zprostředkovaně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2/ je otázka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 zda jde o </a:t>
            </a:r>
            <a:r>
              <a:rPr b="1" lang="cs-CZ" sz="2600" spc="-1" strike="noStrike" u="sng">
                <a:solidFill>
                  <a:srgbClr val="feec94"/>
                </a:solidFill>
                <a:uFillTx/>
                <a:latin typeface="Times New Roman"/>
              </a:rPr>
              <a:t>přímé ovlivňování či pouhé sdílení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 mínění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. Odlišnost O.L. a souběžců je někdy sporná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3/ ukazuje se, že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 op. leadři mohou být jak </a:t>
            </a:r>
            <a:r>
              <a:rPr b="1" lang="cs-CZ" sz="2600" spc="-1" strike="noStrike" u="sng">
                <a:solidFill>
                  <a:srgbClr val="feec94"/>
                </a:solidFill>
                <a:uFillTx/>
                <a:latin typeface="Times New Roman"/>
              </a:rPr>
              <a:t>aktivní tak i pasivní</a:t>
            </a:r>
            <a:r>
              <a:rPr b="1" lang="cs-CZ" sz="2600" spc="-1" strike="noStrike" u="sng">
                <a:solidFill>
                  <a:srgbClr val="ffffff"/>
                </a:solidFill>
                <a:uFillTx/>
                <a:latin typeface="Times New Roman"/>
              </a:rPr>
              <a:t> -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 dvoustupňový model předpokládá pouze jejich aktivitu a pasivitu masy, je třeba uvažovat možnou záměnu rolí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4/ tento model zcela 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ignoruje existenci </a:t>
            </a:r>
            <a:r>
              <a:rPr b="1" lang="cs-CZ" sz="2600" spc="-1" strike="noStrike" u="sng">
                <a:solidFill>
                  <a:srgbClr val="feec94"/>
                </a:solidFill>
                <a:uFillTx/>
                <a:latin typeface="Times New Roman"/>
              </a:rPr>
              <a:t>třetího typu a to individua, které není ani leadrem a souběžcem,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 individua, která zprávy nevyhledávají ani se nenechávají ovlivnit v diskusi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, jde o </a:t>
            </a:r>
            <a:r>
              <a:rPr b="1" lang="cs-CZ" sz="2600" spc="-1" strike="noStrike" u="sng">
                <a:solidFill>
                  <a:srgbClr val="ffffff"/>
                </a:solidFill>
                <a:uFillTx/>
                <a:latin typeface="Times New Roman"/>
              </a:rPr>
              <a:t>izoláty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 či neparticipanty, kterých ovšem může být poměrně vysoký počet ve vztahu k různým tématům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100" spc="-1" strike="noStrike">
                <a:solidFill>
                  <a:srgbClr val="ffffff"/>
                </a:solidFill>
                <a:latin typeface="Times New Roman"/>
              </a:rPr>
              <a:t>5/ další výzkumy potvrzuje existenc</a:t>
            </a:r>
            <a:r>
              <a:rPr b="1" lang="cs-CZ" sz="3100" spc="-1" strike="noStrike">
                <a:solidFill>
                  <a:srgbClr val="ffffff"/>
                </a:solidFill>
                <a:latin typeface="Times New Roman"/>
              </a:rPr>
              <a:t>i </a:t>
            </a:r>
            <a:r>
              <a:rPr b="1" lang="cs-CZ" sz="3100" spc="-1" strike="noStrike">
                <a:solidFill>
                  <a:srgbClr val="feec94"/>
                </a:solidFill>
                <a:latin typeface="Times New Roman"/>
              </a:rPr>
              <a:t>více kroků či stupň</a:t>
            </a:r>
            <a:r>
              <a:rPr b="0" lang="cs-CZ" sz="3100" spc="-1" strike="noStrike">
                <a:solidFill>
                  <a:srgbClr val="feec94"/>
                </a:solidFill>
                <a:latin typeface="Times New Roman"/>
              </a:rPr>
              <a:t>ů</a:t>
            </a:r>
            <a:r>
              <a:rPr b="0" lang="cs-CZ" sz="3100" spc="-1" strike="noStrike">
                <a:solidFill>
                  <a:srgbClr val="ffffff"/>
                </a:solidFill>
                <a:latin typeface="Times New Roman"/>
              </a:rPr>
              <a:t> (Trohldahl - Dvoucyklový model)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100" spc="-1" strike="noStrike">
                <a:solidFill>
                  <a:srgbClr val="ffffff"/>
                </a:solidFill>
                <a:latin typeface="Times New Roman"/>
              </a:rPr>
              <a:t>6/</a:t>
            </a:r>
            <a:r>
              <a:rPr b="1" lang="cs-CZ" sz="3100" spc="-1" strike="noStrike">
                <a:solidFill>
                  <a:srgbClr val="ffffff"/>
                </a:solidFill>
                <a:latin typeface="Times New Roman"/>
              </a:rPr>
              <a:t> předpoklad, že O.L. </a:t>
            </a:r>
            <a:r>
              <a:rPr b="1" lang="cs-CZ" sz="3100" spc="-1" strike="noStrike">
                <a:solidFill>
                  <a:srgbClr val="feec94"/>
                </a:solidFill>
                <a:latin typeface="Times New Roman"/>
              </a:rPr>
              <a:t>používají pouze mediální kanály selhává v rozvojových zemích, ale i v krizových situacích, kdy se dá spíše předpokládat </a:t>
            </a:r>
            <a:r>
              <a:rPr b="1" lang="cs-CZ" sz="3100" spc="-1" strike="noStrike" u="sng">
                <a:solidFill>
                  <a:srgbClr val="feec94"/>
                </a:solidFill>
                <a:uFillTx/>
                <a:latin typeface="Times New Roman"/>
              </a:rPr>
              <a:t>řetězová komunikace než klastrová - tedy přes názorového vůdce</a:t>
            </a:r>
            <a:r>
              <a:rPr b="0" lang="cs-CZ" sz="3100" spc="-1" strike="noStrike" u="sng">
                <a:solidFill>
                  <a:srgbClr val="feec94"/>
                </a:solidFill>
                <a:uFillTx/>
                <a:latin typeface="Times New Roman"/>
              </a:rPr>
              <a:t> 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100" spc="-1" strike="noStrike">
                <a:solidFill>
                  <a:srgbClr val="ffffff"/>
                </a:solidFill>
                <a:latin typeface="Times New Roman"/>
              </a:rPr>
              <a:t>7/ je třeba zdůraznit  </a:t>
            </a:r>
            <a:r>
              <a:rPr b="1" lang="cs-CZ" sz="3100" spc="-1" strike="noStrike">
                <a:solidFill>
                  <a:srgbClr val="feec94"/>
                </a:solidFill>
                <a:latin typeface="Times New Roman"/>
              </a:rPr>
              <a:t>rozdíl mezi tím jak pracují se sdělením jeho první nositelé a jeho druzí uživatelé</a:t>
            </a:r>
            <a:r>
              <a:rPr b="0" lang="cs-CZ" sz="3100" spc="-1" strike="noStrike">
                <a:solidFill>
                  <a:srgbClr val="ffffff"/>
                </a:solidFill>
                <a:latin typeface="Times New Roman"/>
              </a:rPr>
              <a:t> (souběžci), kteří </a:t>
            </a:r>
            <a:r>
              <a:rPr b="1" lang="cs-CZ" sz="3100" spc="-1" strike="noStrike">
                <a:solidFill>
                  <a:srgbClr val="ffffff"/>
                </a:solidFill>
                <a:latin typeface="Times New Roman"/>
              </a:rPr>
              <a:t>více lpí na na osobnostních zdrojích, zatímco tvůrci mínění dají více na média.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VIII. MECHANISMY DISTRIBUCE INFORMACÍ A ÚČINKY ZPRAVODAJSKÝCH OBSAHŮ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914400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Můžeme zde rozlišovat tři základní sub-témata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a/ distribuce zpráv z pohledu typu události a typu média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(uvedená problematika zahrnuje i otázky týkající se mechanismů distribuce zpravodajských obsahů, například v krizových situacích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(J-křivka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b/ distribuce informací ve společnosti a její nerovnováh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Do této oblasti patří otázky spojené s tzv. informační chudobou nebo s dnes módním pojmem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„digital devide“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V širších smyslu zahrnuje toto téma i problematika distribuce vědění /např. inovací/ 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(S-křivka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c/ nastolování témat a forma selektivního výběru událost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Jde především o mechanismy konstrukce tzv. mediální agendy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(agenda setting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11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Peoples´ Choice (1948)</a:t>
            </a:r>
            <a:br>
              <a:rPr sz="2800"/>
            </a:b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 Paul Felix Lazarsfeld, Hazel Gaudetová a Bernard Berelson </a:t>
            </a:r>
            <a:br>
              <a:rPr sz="2800"/>
            </a:b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První výzkum (1940), který se pokusil měřit účinky volební kampaně ve vztahu k potenciálním voličům. 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0" y="2204640"/>
            <a:ext cx="9144000" cy="46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Analýza mediální  persuaze v reálné situac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Výzkum byl postaven na technice opakovaných interview se skupinou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600 respondentů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v Erie County v Ohiu. Úkolem bylo odhalit jak masová média ovlivnila postoje v presidentské kampani. V pravidelných měsíčních intervalech byl po sedm měsíců dotazován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panel potenciálních voličů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kopírující v základní sociodemografických charakteristikách strukturu populace Erie County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ýzkumný projekt byl designován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z pohledu teorie sílných masových médií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Výsledek šetření byl překvapující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AD A/ MODEL DISTRIBUCE INFORMACÍ V ZÁVISLOSTI NA TYPU UDÁLOSTI A TYPU MÉDIA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/J-KŘIVKA/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91440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vedená problematika zahrnuje i otázky týkající se mechanismů distribuce zpravodajských obsahů, například v krizových situacích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Vedle studií o šíření inovací se v šedesátých letech začíná věnovat pozornost podmínkám, za kterých je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při distribuci sdělení dána přednost face to face komunikaci před informacemi z masových médií</a:t>
            </a:r>
            <a:r>
              <a:rPr b="0" lang="en-US" sz="32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Bezprostředním impulsem k výzkumu byl atentát na Kennedyho  v roce 1963. Cílem těchto studií byla speciální potřeba 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kontrolovat veřejnou reakci a pokus o to vyhnout se panice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V roce 1964 se objevuje první studie od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Richarda Hilla a Charlese Bonjeana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, která přinesla překvapivé zjištění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O atentátu na presidenta v Dallasu se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více než polovina Američanů dozvěděla prostřednictvím interpersonální komunikace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od známých či přátel, čtvrtina z televize, šestina z rozhlasu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Detailnější analýza ukazuje v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procesu šíření informací čtyři hlavní proměnné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1/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rozsah znalostí o dané kauze, kterými populace disponuj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2/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význam dané událost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3/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množství přenášených informací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4/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míra v níž znalost o dané události pochází prvotně z médií, respektive z osobních kontaktů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Greenberg rozdělil události ve zpravodajství do tří typů podle toho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v jaké míře jsou šířeny prostřednictvím interpersonální komunikace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I. Typ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- jde o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události, které mají 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nízkou obecnou významnost,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ale jsou velmi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významné pro malou skupinu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lidí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. Takové zprávy nejsou prominentním cílem médií, ale protože informace je důležitá pro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jistou cílovou skupinu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jsou zprávy selektivně zmiňovány a předávány těm, kteří se k nim nedostali v prvním kole prostřednictvím osobního sdělení. Příkladem je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vyhlášení vítěze v soutěži mladých houslistů  pořádané při hudebním festivalu Pražské jaro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II. Typ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-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jde o události 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obecně sdíleného významu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- hlavní zprávy dne, které dostaly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výraznou podporu ve zpravodajství a jsou sdělovány většině populace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Takové události se nepředávají dominantně personálním stykem, i když mohou být poté diskutovány. Jde např. o 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ukončení stávky nebo zprávu o plánovaném zvýšení jízdného na dráze nebo velká bankovní loupež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 u="sng">
                <a:solidFill>
                  <a:srgbClr val="ffffff"/>
                </a:solidFill>
                <a:uFillTx/>
                <a:latin typeface="Times New Roman"/>
              </a:rPr>
              <a:t>III. Typ</a:t>
            </a:r>
            <a:r>
              <a:rPr b="1" lang="cs-CZ" sz="3600" spc="-1" strike="noStrike">
                <a:solidFill>
                  <a:srgbClr val="ffffff"/>
                </a:solidFill>
                <a:latin typeface="Times New Roman"/>
              </a:rPr>
              <a:t> -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 jde o zprávy 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extrémní důležitosti, vysoké dramatické kvality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Dá se zde předpokládat, že budou významné skoro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pro všechny a také dostanou téměř stoprocentní mediální pozornost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. V Greenbergově studii je příkladem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atentát na Kennedyho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. Mohl by to být útok na Twins v NY nebo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report z listopadová demonstrace na národní třídě.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imes New Roman"/>
              </a:rPr>
              <a:t>Výzkum ukazuje, že paradoxně </a:t>
            </a:r>
            <a:r>
              <a:rPr b="1" lang="cs-CZ" sz="3600" spc="-1" strike="noStrike">
                <a:solidFill>
                  <a:srgbClr val="feec94"/>
                </a:solidFill>
                <a:latin typeface="Times New Roman"/>
              </a:rPr>
              <a:t>přes extrémní mediální pozornost stoupá zde význam interpersonální komunikace.</a:t>
            </a:r>
            <a:r>
              <a:rPr b="0" lang="cs-CZ" sz="36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ffffff"/>
                </a:solidFill>
                <a:latin typeface="Times New Roman"/>
              </a:rPr>
              <a:t>Extrémní význam zprávy mobilizuje nejen zájem </a:t>
            </a:r>
            <a:r>
              <a:rPr b="1" lang="cs-CZ" sz="3600" spc="-1" strike="noStrike">
                <a:solidFill>
                  <a:srgbClr val="feec94"/>
                </a:solidFill>
                <a:latin typeface="Times New Roman"/>
              </a:rPr>
              <a:t>médii</a:t>
            </a:r>
            <a:r>
              <a:rPr b="1" lang="cs-CZ" sz="3600" spc="-1" strike="noStrike">
                <a:solidFill>
                  <a:srgbClr val="ffffff"/>
                </a:solidFill>
                <a:latin typeface="Times New Roman"/>
              </a:rPr>
              <a:t>, ale i interpersonální komunikaci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VÝZKUM: J-KŘIVKA (B.S. Greenberg, 1965)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0" y="620640"/>
            <a:ext cx="914400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Výzkum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zjišťoval zdroje informací o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18 různých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dálostech - od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4% do 100% znalosti. Vzniká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ypologie na základě porovnání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/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kolik procent znalo jednotlivé informace z medi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B/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kolik procent je zná, ale zdrojem nebyla masová média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YPOLOGIE (viz graf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 - 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 - B, C, 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3 - 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-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feec94"/>
                </a:solidFill>
                <a:latin typeface="Times New Roman"/>
              </a:rPr>
              <a:t>/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nízká obecná známost události - relativně nízký vliv osobního sdělení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-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B, C, D/ událost obecného významu - osobní sdělení má nejslabší vliv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3-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E/ s narůstající dramatičností zprávy progresivně roste význam interpersonálního přenosu informa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323640" y="549360"/>
            <a:ext cx="8569080" cy="5975280"/>
          </a:xfrm>
          <a:prstGeom prst="rect">
            <a:avLst/>
          </a:prstGeom>
          <a:solidFill>
            <a:srgbClr val="000000"/>
          </a:solidFill>
          <a:ln w="38160">
            <a:solidFill>
              <a:srgbClr val="c0c0c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                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Ukazuje se, že když „jde do tuhého“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média nejsou  nejrychlejším ani nejkredibilnějším tamtame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Lidé se automaticky vrací k interpersonální komunikaci jako k jakési antropologické konstantě, jistotě, která vytěsňuje umělý svět médií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AD B/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DISTRIBUCE INOVACÍ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 JAKO TYP DVOUSTUPŃOVÉ KOMUNIKACE 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125360"/>
            <a:ext cx="91440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V zásadě je situace šíření inovací postavena na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dvoustupňovém komunikačním modelu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. Model šíření inovací se soustřeďuje především na finální stádium procesu tj. přivlastnění resp. odmítnutí sdělení.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Jde tedy o analýzu sociálního procesu popisující jak jsou nové ideje, praxe či konkrétní objekty šířeny v rámci sociálního systému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Everett Rogers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v práci </a:t>
            </a:r>
            <a:r>
              <a:rPr b="1" i="1" lang="cs-CZ" sz="3200" spc="-1" strike="noStrike">
                <a:solidFill>
                  <a:srgbClr val="feec94"/>
                </a:solidFill>
                <a:latin typeface="Times New Roman"/>
              </a:rPr>
              <a:t>Diffusion of Innovations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(1983) popisuje proces přijetí i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novace v následujících  pěti krocích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/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Relativní výhodnos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- stupeň ve kterém je daná inovace vnímána jako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lepší než stav, který jí předcház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/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Kompatibilita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- stupeň, ve kterém je inovace vnímána v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ouladu s existujícími hodnotami, minulou zkušeností a potřebami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jejích potenciálních příjemců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/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Komplexita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stupeň ve kterém je inovace vnímána jako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ložitá k pochopení a následnému užit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4/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Modifikovatelnost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stupeň ve kterém se dá s inovací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xperimentovat na při modifikaci jejích některých funkc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5/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Transparentnos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- stupeň ve kterém jsou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výsledky inovace viditelné pro ostatní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Čím vyšší hodnota jednotlivých kategorií, tím větší pravděpodobnost přijetí dané inovac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Samotný proces rozhodování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rozděluje Rogers do pěti stádi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1/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cs-CZ" sz="3200" spc="-1" strike="noStrike" u="sng">
                <a:solidFill>
                  <a:srgbClr val="feec94"/>
                </a:solidFill>
                <a:uFillTx/>
                <a:latin typeface="Times New Roman"/>
              </a:rPr>
              <a:t>znalost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-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vystavení se působení inovace a pochopení jak funguj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2/ </a:t>
            </a:r>
            <a:r>
              <a:rPr b="1" lang="cs-CZ" sz="3200" spc="-1" strike="noStrike" u="sng">
                <a:solidFill>
                  <a:srgbClr val="feec94"/>
                </a:solidFill>
                <a:uFillTx/>
                <a:latin typeface="Times New Roman"/>
              </a:rPr>
              <a:t>persuaze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-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formování postoje vůči inovac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3/ </a:t>
            </a:r>
            <a:r>
              <a:rPr b="1" lang="cs-CZ" sz="3200" spc="-1" strike="noStrike" u="sng">
                <a:solidFill>
                  <a:srgbClr val="feec94"/>
                </a:solidFill>
                <a:uFillTx/>
                <a:latin typeface="Times New Roman"/>
              </a:rPr>
              <a:t>rozhodnut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í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-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proces ústící v rozhodnutí zda přijmout či nepřijmout danou inovac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4/ </a:t>
            </a:r>
            <a:r>
              <a:rPr b="1" lang="cs-CZ" sz="3200" spc="-1" strike="noStrike" u="sng">
                <a:solidFill>
                  <a:srgbClr val="feec94"/>
                </a:solidFill>
                <a:uFillTx/>
                <a:latin typeface="Times New Roman"/>
              </a:rPr>
              <a:t>realizace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-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vlastní využití inovace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5/ </a:t>
            </a:r>
            <a:r>
              <a:rPr b="1" lang="cs-CZ" sz="3200" spc="-1" strike="noStrike" u="sng">
                <a:solidFill>
                  <a:srgbClr val="feec94"/>
                </a:solidFill>
                <a:uFillTx/>
                <a:latin typeface="Times New Roman"/>
              </a:rPr>
              <a:t>potvrzení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-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osílení nebo naopak popření daného rozhodnut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Rogers vytvořil typologii potenciálních příjemců inovac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1/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inovátoři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 -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silně motivovaní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aktivní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hledači nových ideí, kteří mají kosmopolitnější vztahy než ostatn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2/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první osvojitelé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-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respektovaní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druzí, často </a:t>
            </a: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tvůrci mínění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, ke kterým se informace stává brzo protože mají velké množství komunikačních a vztahových sít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3/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raná většina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-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opatrní,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nejdříve se obracejí na své blízké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či tvůrce míněn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4/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pozdní většina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-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skeptičtí, často si přivlastňují inovaci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na základě okolního tlaku např.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z pracovní či ekonomické nevyhnutelnost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5/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opozdilci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-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tradiční, často lidé v izolaci, obrácení do minulost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TABULK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1/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53%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členů panelu /obyvatel v Erie County/ 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posílilo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své dlouhodoběji držené </a:t>
            </a: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volební preference,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2/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26%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přešlo</a:t>
            </a: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od příklonu k jedné politické straně /kandidátovi/ k postoji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„nejsem rozhodnut“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nebo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od „nejsem rozhodnut“ k nějaké politické straně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Prokázaný vliv masových médií na uskutečnění čisté postojové konverze byl velmi nízký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Pouze 5%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respondentů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změnilo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v průběhu prezidentské kampaně svůj postoj, své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volební preferenc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Klíčovým zjištěním ale bylo, ž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Osobní kontakt je mnohem častější a efektivnější než kontakt s médii, a to z pohledu jejich volebního chování.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Respondenti potvrdili, že 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výraznější vliv na jejich rozhodování o tom koho volit měly vlastní politické diskuse se známými a blízkými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Vliv tisku a rozhlasu byl v tomto smyslu sekundární.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66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Rogersova S křivka (1983, 1995) „Distribuce inovací“</a:t>
            </a:r>
            <a:br>
              <a:rPr sz="2800"/>
            </a:b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STANDARDNÍ PRÚBĚH PENETRACE INOVACÍ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	</a:t>
            </a:r>
            <a:br>
              <a:rPr sz="2800"/>
            </a:b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0" y="1052640"/>
            <a:ext cx="9144000" cy="58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LASTNICTVÍ ČERNOBÍLÉHO/BAREVNÉHO TV USA1946-196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-324000" y="549360"/>
          <a:ext cx="9468000" cy="6308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24000" y="549360"/>
                    <a:ext cx="9468000" cy="630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IX.  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HYPOTÉZA VĚDOMOSTNÍ PROPASTI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 (Knowledge gap)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914400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-396720" y="476280"/>
            <a:ext cx="954072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1/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WO-STEP-FLOW MODEL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 (Model dvoustupňové komunikace)</a:t>
            </a:r>
            <a:br>
              <a:rPr sz="2800"/>
            </a:b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  2/ hypotéza o existenci „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OPINION LEADERS“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0" y="1773360"/>
            <a:ext cx="9144000" cy="587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Jde o  komunikační model, který předpokládá, že informace jdou nejdříve k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TVŮRCŮM MÍNĚNÍ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a od nich k ostatním tzv. souběžcům (follower)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ýzkum odhalil, že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interpersonální vztahy (KOMUNIKACE) byly mnohem vlivnější, a to především pro ty, kteří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změnili svůj postoj v průběhu kampaně či učinili své rozhodnutí až v závěru.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Toto zjištění bylo překvapující protože celý výzkum byl koncipován na základě - TEORIE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atomizovaného masového publika a nepředpokládal tedy vůbec roli další zprostředkující osoby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Média nepůsobí v sociálním vakuu, ale vstupují do velmi komplexní sítě sociálních vztahů a soupeří s dalšími zdroji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dybychom užili jiné terminologie - dvoustupňový komunikační model popisuje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specifický typ  selektivní expozice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Uvedená zjištění změnila východiska následujících výzkumů v tom smyslu, že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respondenti-publikum musí být vždy zkoumáni v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kontextu skupiny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 či skupin k nimž náleží nebo které mají na mysli. To znamená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ěch které je mohou ovlivňovat při formulaci mínění postojů či rozhodnutí. Došlo k znovuobjevení role malé skupin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Základní zjištění z této studie lze shrnout do následujících bodů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1/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individua </a:t>
            </a:r>
            <a:r>
              <a:rPr b="1" lang="cs-CZ" sz="3200" spc="-1" strike="noStrike" u="sng">
                <a:solidFill>
                  <a:srgbClr val="feec94"/>
                </a:solidFill>
                <a:uFillTx/>
                <a:latin typeface="Times New Roman"/>
              </a:rPr>
              <a:t>nejsou sociálně izolovanými atomy,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ale členy sociálních skupin v nichž dynamicky interaguj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2/ </a:t>
            </a:r>
            <a:r>
              <a:rPr b="1" lang="cs-CZ" sz="3200" spc="-1" strike="noStrike" u="sng">
                <a:solidFill>
                  <a:srgbClr val="feec94"/>
                </a:solidFill>
                <a:uFillTx/>
                <a:latin typeface="Times New Roman"/>
              </a:rPr>
              <a:t>reakce na mediální sdělení není přímá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, ale zprostředkovaná a ovlivněná sociálními vztahy individu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3/ </a:t>
            </a:r>
            <a:r>
              <a:rPr b="1" lang="cs-CZ" sz="3200" spc="-1" strike="noStrike" u="sng">
                <a:solidFill>
                  <a:srgbClr val="feec94"/>
                </a:solidFill>
                <a:uFillTx/>
                <a:latin typeface="Times New Roman"/>
              </a:rPr>
              <a:t>individua v rámci komunikačního procesu nejsou rovná,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ale zastávají různé role, které lze rozdělit na aktivní individua, která informace vyhledávají a pasivní, která jsou závislá na sděleních aktivních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eec94"/>
                </a:solidFill>
                <a:latin typeface="Times New Roman"/>
              </a:rPr>
              <a:t>4/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tvůrci mínění</a:t>
            </a:r>
            <a:r>
              <a:rPr b="1" lang="cs-CZ" sz="3200" spc="-1" strike="noStrike" u="sng">
                <a:solidFill>
                  <a:srgbClr val="feec94"/>
                </a:solidFill>
                <a:uFillTx/>
                <a:latin typeface="Times New Roman"/>
              </a:rPr>
              <a:t> jsou charakterizováni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a/ vyšší konzumací médií, častěji se vystavují jejich působení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b/ jsou společenštější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c/ mají vyšší vědomím vlastního vlivu na druhé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d/disponují připsanou rolí zdroje a průvodce v rámci daných informac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e/ vyskytují se v každé statusové skupině a sdílejí některé charakteristiky s ovlivňovaným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Čtyři nejvýznamnější výzkumy v dané oblasti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1/ 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Merton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(1949) -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„Patterns of Influence“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Intepersonální vliv komunikace v Rovere Rovere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stát New Jersey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:- 86 respondentů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ožádáno, aby uvedli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jména těch, na které se obracejí o radu v nejrůznějších záležitostech. Ti kteří  byli zmíněni alespoň 4x byli  speciálně dotazováni. Rozlišují dva typy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„Cosmopolitans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“  a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„Locals“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2/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Berelson, Lazarsfeld a McPhee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(Voting: A Study of Opinion Formation in a Presidential Campaig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analýza volební kampaně (1948) v městečku </a:t>
            </a: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Elmira (stát New York),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kde se navíc ukázalo, že k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postojové konverzi docházelo méně u těch, kteří byli vystavování intenzivnější mu působení a měli tendenci více trvat na své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3/ Katz, E., Mantzel</a:t>
            </a: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 „Social Relations and Innovation in Medical Profession“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ýzkum zaměřený na mechanismus akceptaci  nového léku mezi lékaři.I zde </a:t>
            </a: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silný vliv interpersonální komunikac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4/ 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Katzův a Lazarsfeldův výzkum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 v 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„Decatur“ (Illinois),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analýza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rozhodování v takových situacích jako je nakupování, móda, návštěva kina, veřejné záležitost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91440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E.Katz a P. Lazarsfeld: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PERSONAL INFLUENCE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 (1955) 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0" y="2204640"/>
            <a:ext cx="9144000" cy="46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Téma: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vliv tzv. tvůrců mínění v každodenním životě 800 žen z Decaturu.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V teoretické části práce se již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hovoří o nutnosti, aby  klasický model persuaze  počítal s rolí individua jako intervenujícího faktoru mezi stimulem média a výsledným míněním, rozhodnutím a jednání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2T08:02:27Z</dcterms:created>
  <dc:creator>JV</dc:creator>
  <dc:description/>
  <dc:language>en-US</dc:language>
  <cp:lastModifiedBy>JV</cp:lastModifiedBy>
  <dcterms:modified xsi:type="dcterms:W3CDTF">2010-11-18T09:07:55Z</dcterms:modified>
  <cp:revision>5</cp:revision>
  <dc:subject/>
  <dc:title>VII. PÚSOBENÍ MASOVÝCH MÉDIÍ A ROLE INTERPERSONÁLNÍ KOMUNIKACE</dc:title>
</cp:coreProperties>
</file>