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EF4-5C00-4F12-9B94-D0EF297D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0DD-E5CE-4F4D-81E2-352AADF7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28C-272C-48FC-81DA-18CD47A9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FD4-4B37-476E-ADC7-7F5EDF36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652F-0388-4199-8C4E-8CC4A68F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DDF7-7F97-4017-B269-D8C19534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FEFC-A1D2-4B4E-A278-1155469E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1678-DDDD-4770-8E68-1C530BE7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ECB7-998C-495D-A24A-B5106FB2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0AB8-0405-420D-B9DA-8BA99E73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DF0-E298-4A8E-8CF5-E9C2845B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2BF-C007-4F6E-853A-9350B273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910F-83EA-448B-8823-FA42A77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743D-C57D-4202-9680-E7554EE0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8CDA-9932-48B7-BA7E-4EEB634B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152D-FBFB-4E38-B5DE-BAC060FD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27DA-1AD2-4FEB-99A4-3469F150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B05-6F85-475B-81A6-1F886AE2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F41-3E0B-4C8A-A06F-B297EBEE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068-5719-4249-B9A9-3F5AF457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985-021A-4440-85BF-F88E11E2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8C8-F55C-4754-BE21-FD89CDE7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2DC-ABBE-46A9-AE9E-D105A75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557-CAE6-4D37-87FD-C2E281C4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3FDC-A9B0-482D-863D-F5FE4BF4D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1A3F-4D19-4AD8-9737-E011059F0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4:02Z</dcterms:modified>
  <cp:revision>11</cp:revision>
  <dc:subject/>
  <dc:title>III.3. REKLAMY JAKO GESTALT</dc:title>
</cp:coreProperties>
</file>