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C691-DCFD-47F4-9323-54BCFF269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1623-20A6-4D48-8B05-4B4563AE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DD0C-D6F1-40E8-9F37-0B054FD7D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6313-FC16-489F-88D0-7AA4F5C92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4163-081F-4BA3-BAC1-3FD0B4690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3920-36A1-4E74-AB20-CB3F689B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79C5-2097-4E55-9AE4-8B352F90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FFDB-4427-4881-9626-2028727D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0EC7-C810-4747-8134-EAFF202A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E328-D6EC-4B8F-ABA4-143D94C9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91A89-D373-4939-95B5-A4DCC10D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7A13-4BB3-4A3A-BD8D-CC87FA10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5B0D-E36B-4FCE-9026-2119970F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7425-A3AB-49ED-ABE6-CB8BCDB8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FC4B-11AA-45F9-BF66-425A1647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339D7-5157-49E3-9AD4-3A655F57C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D5348-67A4-4760-9E9B-3A537D7CB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14A8-C498-4A66-8403-3EBA33BC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37C1-905C-482B-A489-D20D51F9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3B3A-A55D-43A8-95C2-7C025537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CB77-E5CA-43B2-85DD-772E079F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9920-C2D7-4993-BA31-00475FF4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C633-5BF6-4500-8953-F919E058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B82F-313F-4C23-8B99-8E64675E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345E-6880-4A03-9C5A-F0EB3A7349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B105-2E7C-4F78-A191-F75B139739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XI. SPIRÁLA MLČENÍ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80928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éma se de facto objevuje již ve výzkumu „People´s Choice“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973 Elisabeth Noelle - Neumannová ředitelka centra pro Výzkum veřejného mínění Allennsbachu a profesorka na universitě v Mainzu. (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Zpět k teorii silných účinků, 1972)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jí koncepc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stupuje do etapy silných mediálních účinků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umannová tvrdí, že  pochybnosti o silných mediálních účincích byly dány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etodologickým omezení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ětšiny klasických výzkumů zaměřených na vliv masových médi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4508640"/>
            <a:ext cx="8137440" cy="20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ncepc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irály mlčen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vychází ze známého, historicky ověřeného zjištění, že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polečnost trestá své nepřizpůsobivé za jejich neochotu sdílet většinové, dominantní hodnoty, normy a postoj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. INTERPRETACE VOLEBNÍCH VÝSLEDK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(parlamentní volby  - 196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bízí se zde Lazarsfeldova teorie tzv.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and wagon effect“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poslední vagón při volebních kampaních, ve  kterém měla své místo kapela - kam se dalo naskočil ještě za rozjezdu )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č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„last minute swing“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volba v poslední minutě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er analogiam – jakoby voliči v posledních třech měsících naskočili do onoho vozu s kapelou, který vezl SP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oellová ovšem ve své koncepci  polemizuje s názorem P. F. Lazarsfelda, který tvrdí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lidé chtějí být vždy na straně vítěz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jelikož s ním spojuj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ředstavu určitéh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isku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odmítá tak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rincip „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and wagon effect“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oellová tvrdí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ětšina lidí nemá ambice získat úřad či moc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terou může vítěz poskytnout. Říká, že je zde ve hře  jiný fenomén, a to o snah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YHNOUT SE IZOLACI, KTERÁ JE SPOLEČNÁ VŠEM.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D. VOLEBNÍ TEST</a:t>
            </a:r>
            <a:br>
              <a:rPr sz="40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oellová se pokusila prokázat svou tezi tím, že  konfrontovala voličské preference zjišťované standardní otázkou  </a:t>
            </a:r>
            <a:br>
              <a:rPr sz="3200"/>
            </a:b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„které politické straně byste dali hlas, kdyby byly zítra volby?“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tázkou 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DO PODLE VAŠEHO NÁZORU VYHRAJE PARLAMENTNÍ VOLBY?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ak ukazuje vývoj očekávání u této druhé otázky objevuje se zde trend naznačující, ž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ěkteří (váhaví) voliči v závěru naskočí do vagónu SP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o j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rinci spirály mlčení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le Noellové bylo přesvědčivé vítězství dáno právě tímto fenoménem.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Šlo o vládní stranu a přimknutí k ní bylo mnohem snadnějš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inými slovy,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sympatizanti obou stran mohou být početně velmi blízko, al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ohou se lišit svou energií, svou hlasitostí projevu - tj. například nošení stranických odznaků, mediálně vděčné performac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– (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ituální výzva na souboj inscenovaná před kamerami)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apod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íla obou stran je navíc nerozhodnutými percipována defakto jen n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základě několika parciálních, vzhledem k síle strany irelevantních většinou mediálních „detailů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éně hlasití“ postupně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éně komunikují svůj názor  a tím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nabývají více dojem o vlastním vyloučení a více pochybují o správnosti vlastní percepce problému, o správnosti vlastního soudu a tudíž komunikují ještě méně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zhodujícím důvodem pro toto mlčení je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trach z izola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k s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odí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ředstava o reálnosti převahy jedněch nad druhým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která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á tvar spirály, jejíž průběh indikuje oslabování názoru jedné stra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umanová de facto tvrdí, že o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chota lidí hovořit o nějakém problému je silně  determinována veřejným klimatem či společenskou atmosférou, která se daného tématu dotýká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okud je individuum držitelem názoru, který většina nepodporuje umlká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. HISTORICKÉ ANALOG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říklad mechanismu „spirály“ ilustroval de facto již Tocqueville, když popisoval úpadek církve v polovině 18 s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a hlavní faktor tohoto úpadku bylo podle něho právě postupné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„odmlčování se.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ocqueville píše, ž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ti, co si podrželi víru v církev začali mít strach, zda by je taková veřejná deklarace nevedla k izolac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roce 1972 Noellová celý výzkum opakovala 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dařilo se jí identifikovat skupinu lidí, kteří se cítí relativně izolovaní a prokázala u nich silnou inklinaci podléhat fenoménu poslední minuty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Šlo o jedin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/ s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ižším sebevědomí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éně zaujaté politikou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C/ TĚMTO LIDE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ŠLO O TO BÝT U MOCI, ALE O TO BÝT S VĚTŠINOU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dyž lidé cítí, že se od nich ostatní odvracejí jsou mnohem manipulovatelnějš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rach z izolace je silou, která dává spirálu mlčení do pohybu. V případě, že náš názor nemá šanci na širokou akceptaci a zároveň se ná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nechce jej opustit zbývá druhá možnost - zmlknou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KRITIK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éma, které nechává teorie spirály nezodpovězené se týká otázky „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jak začít znovu“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abízí se možnost, ž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i, kteří  sdílí většinový názor pomalu </a:t>
            </a:r>
            <a:r>
              <a:rPr b="1" lang="en-US" sz="3200" spc="-1" strike="noStrike" u="sng">
                <a:solidFill>
                  <a:srgbClr val="feec94"/>
                </a:solidFill>
                <a:uFillTx/>
                <a:latin typeface="Times New Roman"/>
              </a:rPr>
              <a:t>ztrácejí sílu hájit jej neb se již nesetkávají se silným odpor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91440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umanová říká, že pro povahu masové komunikace jsou určující tři následující charakteristik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/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kumulativnost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ytváření jednotlivých sdělení na základě nabalování dílčích událostí podle 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představy o jejich potenciálně spojité povaze a vytváření kontinuitního pojetí děj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b/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všudypřítomnos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není oblast, které by se dnes média vyhýba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c/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konsonantno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shoda při produkci základních témat či rámců komunikačního sdělení resp. produkcí unifikovaného obrazu daného tématu či události bez ohledu na různé typy médií.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nto efekt shody omezuje působení selektivních mechanismů a brání možnosti vybrat si jiné sděle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B. PSYCHOLOGICKO - ANTROPOLOGICKÉ KOŘENY TEORIE SPIRÁLY MLČENÍ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umanová vychází z toho, že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společnost užívá k udržení sociální integrity takové tlaky či sociální mechanismy jako 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strakizace, sociální exkluze, zesměšnění či sociální izolace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kud s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edinec chce vyhnout izolaci musí přijmout způsoby chování, normy, hodnoty, které jsou obecně akceptovány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Lidský život je v tomto smysl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ermanentním monitorováním situace na tomto poli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umannová hovoří o tom, že každý jedinec disponuje  jakýmsi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kvázi-statistickým orgánem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íky kterému je schopen vníma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oměny veřejného mínění, aniž by ovšem byl schopen detailněji je kvantifikovat či vysvětlit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tav veřejného mínění odhadují jedinci na základě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/ pozorování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eziosobních interakc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/ na základě sledování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asových médi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které poskytují informace o distribuci veřejného mínění ve vztahu k jednotlivým problémů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Strach z izolac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podle Neumannové klíčovou hodnotou. Funguje jako antropologická konstanta výrazně ovlivňující náš životn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ocit bezpečí - 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ntologickou jistot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mpiricky inspiroval Noellovou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výzkum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Solomona Ash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: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Solomon Ash, 1952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sh testoval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ak budou respondenti ochotni korigovat svůj odhad na základě vlivu ostatních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EXPERIMENTÁLNÍ ÚKO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ždy desetičlenné skupiny měli posuzovat,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která ze tří uvedených čar odpovídá jedné vybrané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REALIZ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Členové experimentální skupiny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jeden po druhém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přistupovali k uvedeným vzorkům a označovali identické čáry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Každý odhad se opakoval 12 krá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vní dvě kola všichni naprosto správně odhadovali velikost.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 dvou kolech začali asistenti, kteří byli členy skupiny označovat za stejně dlouhou evidentně kratší čáru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 deseti řádných členu skupiny postupně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šest opustilo svůj původní správný názor.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3300"/>
                </a:solidFill>
                <a:latin typeface="Times New Roman"/>
              </a:rPr>
              <a:t>Pouze  dva si stáli na svém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správném hodnocení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alší dva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ednou nebo dvakrát zaváhal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ale jinak drželi správný názo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Zbývajících šest se zcela přizpůsobilo tlaku většiny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ětšina lidí se spojuje s názorem většiny byť by její názor byl mylný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o potvrzuje Tocquevillův názor, že 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hrozba z izolace je silnější než hrozba omyl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 cílem vyhnout se možné sociální izolaci vykonáváme podle Noellové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ovky drobných pozorová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zaznamenáváme stovky signálů o tom, zda jsm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bklopeni sympatií či naopak zda jsme odmítáni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Noellová odtud vyvozuje, že pr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formování veřejného míně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líčové rozdělení na t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DO MLUV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  B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 TY, KDO MLČ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šší „hlasitost“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dné skupiny, která nemusí být zpočátku výrazně početnější vede k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panování veřejného prostoru jedním názorem a ke spuštění mechanism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munikační či názorové spirály. Hlasitější názor dále posiluje 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méně viditelný či slyšitelný dále ztrác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případě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ntroverzních témat sílí ti, jejichž názor se jeví být dominantně sdílen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zatímco ti, jejichž názor tuto charakteristiku postrádá postupně umlkaj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i, co se cítí silnější projevují se hlasitěji a jsou tudíž viditelnější a opticky silnějš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sová média ovlivňují proces spirály třemi způsob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 formují povědomí o tom,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které názory jsou dominant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/ formují povědomí,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která témata a názory jsou na vzestup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/ informují o tom,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které názory člověk může prezentovat, aniž by se vystavoval hrozbě izo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A. HISTORICKÉ SOUVISLOSTI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dea „spirály mlčení“ se rodí v ro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1965, kdy na podzim vrcholila volební kampaň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oellová vedla jeden z výzkumných týmů, který v průběhu této kampaně měřil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olební preference politických stran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Celý poslední rok měly obě dominantní strany CDU/CSU a SPD velmi podobné výsledky. Rozdíl mezi nimi byl velmi malý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i vlastních volbách však došlo k tomu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ozdíl narostl na více než deset procent ve prospěch SPD (SPD - 49,5,  CDU/CSU - 38,5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ště v srpnu činil rozdíl mezi oběma stranami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2.5%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ezi srpnem a říjnem došlo tedy k nárůstu rozdílu o 8%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Noellová si položila otázku,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co mohlo vézt k tak razantní změně, takovému nárůstu preferencí pro SP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08:44:38Z</dcterms:created>
  <dc:creator>JV</dc:creator>
  <dc:description/>
  <dc:language>en-US</dc:language>
  <cp:lastModifiedBy>JV</cp:lastModifiedBy>
  <dcterms:modified xsi:type="dcterms:W3CDTF">2010-12-02T08:37:10Z</dcterms:modified>
  <cp:revision>3</cp:revision>
  <dc:subject/>
  <dc:title>XI. SPIRÁLA MLČENÍ </dc:title>
</cp:coreProperties>
</file>