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8AFC-50F6-4D7F-846C-F92FDD2F7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B0A4-81DD-497A-B276-A3A1401E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8E92-368E-4DF5-AFBF-F18FA60FE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F169-38FF-412F-86CD-76B52AB63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5FA8-0985-4116-A01E-63E47A2B4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F1B9-1F95-461E-956A-E9E832AB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43AA-AC3B-4220-8598-10F0DF06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6F93-93AD-4AA8-B475-1784B829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C291-08B2-4AFB-BA2C-67974D3F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1BC1-C63A-4A14-9DDC-88B80998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86F1-4E41-4FCA-BDC1-272138B0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05C4-0292-452E-82D9-A470CE87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46DB-B8EC-4BD2-AFB7-C58BEFAA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140B-C032-4B31-BA6D-C39378BF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C4F1-2EF8-46AF-AA28-42E9CBDB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EB86-5390-4CCA-9369-74ADA5D87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7499-93A8-4E12-AE75-C45345001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5E7C-C6C5-41BA-A124-EE2A195E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9F8B-95E4-4F6D-B7C5-3445A5D7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E058-B00F-4F65-8768-E2E0B7F2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9640-2FA7-4D26-B50D-8DCF6C61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D6DB-7EFA-4C25-ADAD-C033BA3F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3622-AF48-46D4-952E-19374BBC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88D3-0C43-4543-B460-B4D0C183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1D2F-A49D-4614-ADE1-611C4A26D7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D8B8-95C4-4511-AB83-02BD98FAF4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9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V. T E O R I E   P Ř E S V Ě D Č O V Á N Í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(PERSVAZE, PERSUAZE)</a:t>
            </a:r>
            <a:br>
              <a:rPr sz="2800"/>
            </a:b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kutečnými manipulátory jsou naši vnitřní přisvědčovatelé – naše chutě, naše strachy, marnivost a ješitnost, které zručný manipulátor využívá.“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2349360"/>
            <a:ext cx="9144000" cy="450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rsvazivní komunikace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představuje pouze jeden z typů masového komunikování. Jde ale o typ vysoce frekventovaný. Jeho cílem 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ormovat postoje, respektive způsobit postojovou změnu (konverzi) u objektů, na které daná komunikace cíl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kum persvaze se odlišuje od jiných typů výzkumu mediálního působení především v tom, že analyzuje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zamýšlené, intencionální působe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ětšina typů mediálního působení je ovšem nezáměrná a spouští tzv. nezamýšlené důsledky/působe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KOGNITIVNÍ FUNKCE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umožňuj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rukturovat zkušenost tak, aby se nám jevila jako smysluplná a srozumitelná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 Zkušenost je proto v postojích reorganizována tak, aby byla vnímána jako konzistentní, bezrozporná. Klasickým příkladem jsou náboženské postoje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3112560"/>
            <a:ext cx="9144000" cy="374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 spuštění tohoto typu postoje je třeb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 otevřít nějaký starý problém, který nebyl nikdy dořešen a dotknout se všech souvislostí, které se na něj váž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poskytnout k jeho řešení ambivalentní informace nebo změnit prostřed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/ nabídnout více významných informací o daném problé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.1. EFEKTIVITA PŘESVĚDČOVACÍHO AKTU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kumem přesvědčovacího mechanismu se zabývali již v 50. letech Hovland, Janis a Kelley, kteří kategorizovali sílu informačních zdrojů (sociální kredit zdroje informací) u vysokoškolských studentů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2924280"/>
            <a:ext cx="9144000" cy="388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ako klíčové označují následujících pět proměnných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povaha materiál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 prostředí jedi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/ osobnost (sugestibilita, inteligen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/ mínění většiny (má větší vliv než mínění expertů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/ emocionální argumentace je vlivnější než racionál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POSTOJOVÁ KONVERZ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stává většinou u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eutrálníc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eb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mbivalentníc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ostoj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řídka u vyhraněnýc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Významný vliv má referenční skupin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kutečnění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stojové změny se musí odehrávat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stupně.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jprve spíše navozováním neutrálního postoje a pak protikladnéh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nak nastává tzv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bumerangový efek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ŘÍKLAD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ediální kampaně zaměřené na změnu postoje vůči Rómům zdůrazňující negativní (rasistické) vlastnosti majoritní populace spouštějí „bumerangový efekt“ i u tzv.slušných občan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        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HLAVNÍ FAKTORY OVLIVŇUJÍCÍ EFEKTIVITU PŘESVĚDČOVACÍHO AK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vland, Janis a Kelley definovali v prác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Communication and Persuasion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4 klíčové atributy ovlivňující efektivitu přesvědčovacího akt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CHEMA 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1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/ KREDIBILITA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a zdroje kredibility jsou považovány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tnost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a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polehlivost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EXPERTNOST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vychází z jistého odborného školení, zkušeností, inteligence, profesionálních schopností a sociálního statu. Ti, kteří preferují expertní soud a nechají se jím ovlivnit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920" y="3212640"/>
            <a:ext cx="8642160" cy="3645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90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jsou většinou lidé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racionálně řešící problém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de o jedince, kteří se snaží co nejvíc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řiblížit své postoje vnější realitě či reálnému světu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při takovém ovlivnění většinou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internalizují nový postoj, který se pak stává rezistentním vůči změně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28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SPOLEHLIVOS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je dána důvěrou publika v to, že komunikátor je motivován k tomu komunikovat své sdělení bez falše. Tedy, ž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olehlivý zdroj nemá záměr manipulovat a nebude tedy mít žádný zisk z toho pokud jeho doporučení bude publikum akceptova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 Prodejce automobilů, který jezdí ve své značce je jen zřídka vnímám jako spolehlivý zdroj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3573360"/>
            <a:ext cx="9144000" cy="32846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tní a spolehlivý zdroj je vnímán jako kredibilní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HOVLAND a WEIS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zolovali za pomoci faktorové analýzy dva klíčové faktory"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upřímnost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rustworthiness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(věrohodnost).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„The Influence of Source on Communication Effectivness“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(1951)/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FAKTORY KREDIBILITY (WHITEHEAD,</a:t>
            </a:r>
            <a:r>
              <a:rPr b="0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1968)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65 sémanticky diferentních pojm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Faktorovou analýzou pak došel ke čtyřem dominantním faktorům, které definují kredibilitu zdroj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polehlivost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dobrý/špatný,čestný/nečestný,spolehlivý nespolehlivý, spravedlivý/nespravedlivý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fesionalita nebo kompeten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zkušený /nezkušený, má profesionální návyky/nemá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ynamičnos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agresivní/poddajný, aktivní/pasivní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bjektivit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otevřený/uzavřený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kazuje se ale, že základní charakteristiky kredibilního zdroje jako je jeho status, spolehlivost, expertnost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působí ve smyslu načítání jednotlivých charakteristik do KREDIBILIT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ale jde o tzv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ultiplikativní či násobící účinek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dy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a charakteristika násobí účinek druhé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ak se rodí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charismatiký typ persuaz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VÝZKUM: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HOVLAND/WEIS, 195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SIGN VÝZKUMU: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vě skupiny vysokoškoláků měli hodnotit různé názory na základě informací ze dvou typů zdrojů: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edna skupina obdržela sdělení od zdrojů s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ízkým kredite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druhá od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soce kredibilních zdroj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ubjektivní názor na daná témata byl měřen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 na začátku experimentu - „před výzkumem“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/ v druhém kroku respondenti obdrželi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články argumentující k danému tématu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 jejich přečtení byli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pětně dotazováni na stejná témat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/ Po měsíci bylo dotazování opakován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Témata, o které při přesvědčování šlo byla následující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i="1" lang="cs-CZ" sz="2600" spc="-1" strike="noStrike">
                <a:solidFill>
                  <a:srgbClr val="feec94"/>
                </a:solidFill>
                <a:latin typeface="Times New Roman"/>
              </a:rPr>
              <a:t>Může TV za úbytek diváků v kinech?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Respondenti obdrželi články argumentující k danému tématu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expertní názor v časopise Fortune b/ proti interwiev s  ženou z lidu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i="1" lang="cs-CZ" sz="2600" spc="-1" strike="noStrike">
                <a:solidFill>
                  <a:srgbClr val="feec94"/>
                </a:solidFill>
                <a:latin typeface="Times New Roman"/>
              </a:rPr>
              <a:t>Mohou být antihistaminové léky prodávány bez lékařského předpisu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New England Journal of Biology and Medicine vs. b/ obrázkový časopi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C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e nedostatek oceli způsoben ocelářským průmyslem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Bulletin of National Resources Planning Board, b/pravicový sloupkař zaměřený militantně protidělnick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4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sou Američané schopni postavit atomovou ponorku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špičkový fyzik Robert Oppenheimer b/ ruská Pravd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       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ZDROJE S VYSOKOU KREDIBILITOU MĚLY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         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ÝRAZNĚJŠÍ VLIV NA ZMĚNU POSTOJ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HRNUTÍ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řesvědčování je efektivní tehdy, když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/ příjemci věnují sdělení pozor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/ sdělení rozu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/ akceptují h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.1. POSTOJ A POSTOJOVÁ KONVERZE</a:t>
            </a:r>
            <a:br>
              <a:rPr sz="2800"/>
            </a:br>
            <a:br>
              <a:rPr sz="2800"/>
            </a:br>
            <a:r>
              <a:rPr b="0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„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POSTOJ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“ -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homas, Znaniecki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(Polish Peasant in Europe and America 1918-20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stoje jsou to stálejší obecné orientace individua vůči jeho okolí.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stoj představuje stav pohotovosti pro určitý typ odpovědi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2923920"/>
            <a:ext cx="9144000" cy="3933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Postojem rozumím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av individuálního vědomí, které determinuje reálné nebo možné aktivity individua v sociálním světě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Postoj je tendence odpovídat (reagovat)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ladn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eb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áporn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a určité osoby, předměty nebo situ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/ Postoj odráž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hotovost k aktivaci motiv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"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stoj je dispozice jednat vnímat, myslet a cítit ve vztahu k dané věci (Theorore Newcomb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 měsíci se dostavil tzv. 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Fenomén spáčského efektu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CHEMA 2</a:t>
            </a: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VÝZKUM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(HOVLAND, 1942-45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Jak jsou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efektivní edukační filmy, užívané pro výcvik a především  zvýšení motivace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(Why we fight, Battle of Britai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VÝZKUMNÝ DESIG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Metoda: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rozsáhlé kvantitativní šetření na souboru 2100 respond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Tři hlavní výzkumné otázky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ak zvyšovaly faktické vědění - informa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ak formovaly specifické postoje týkající se Bitvy o Angli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ak zvyšovali/měnili postoje akceptace vojenské role,  vůli bojov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Hlavní zjištění výzkumu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ysoká efektivita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šíření informací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faktického charakteru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oměrně úspěšný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při formování a proměně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specifických postojů ve vztahu k BITVĚ a Britům obecně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neměl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žádný vliv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na motivaci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sloužit v armádě či při zvyšování nenávisti k nepříteli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EDNORÁZOVÁ MASOVÁ KOMUNIKACE NEMÁ VLIV             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NA SILNĚ DRŽENÉ POSTOJ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 zde se projevil  spáčský efekt (SCHEMA č.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stování postojové změny se uskutečnil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pět dnů po promítání filmu 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/opakovaně 9 týdnů po promítá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aradoxně se ukázalo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raznější změna nastala po 9 týdnech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ktuálně po shlédnutí filmu nebylo sdělení tak významné, ale s přibývajícím časem nabývalo na aktuálnost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dno z možných vysvětlení  tohoto fenoménu vychází z možnosti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ám zdroj tedy filmové médium bylo považováno za málo věrohodné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ale po několika týdnech byla tat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věrohodnost zapomenut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zůstala pouze vlastní inform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OSTRANNÉ NEBO OBOUSTRANNÉ SDĚLENÍ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roblém psychologie přesvědčování - zda sdělovat informaci pouze jednostrannou nebo zohlednit dva či více různých mnohdy protichůdných pohledů a podtrhnout pohled svůj. </a:t>
            </a:r>
            <a:br>
              <a:rPr sz="2800"/>
            </a:b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Jaký typ přesvědčovacích strategii/sdělení je efektivnější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jednostranné (one-sided) nebo oboustranné (two-sided).</a:t>
            </a:r>
            <a:br>
              <a:rPr sz="2800"/>
            </a:b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Jednostranná informa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bývá obhajována proto, aby nebyly vyvolány velké pochybnosti.</a:t>
            </a:r>
            <a:br>
              <a:rPr sz="2800"/>
            </a:b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oustranná informa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bývá preferována z důvodů lepší možnosti připravit příjemce, kteří jsou proti sdělení a odblokovat možné potenciální námitky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VÝZKUM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(Hovland, 1945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Jak motivovat vojáky v boji proti Japoncům v situaci, kdy válka v Evropě už skončil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ÝZKUMNÝ DESIG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řed experimentem vyplnili respondenti dotazník, kde deklarovali  očekávání „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jak dlouho bude ještě válka trvat“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řipraveny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dvě verze rozhlasových poselství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V obou byla základní informace, že by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álka měla trvat ještě nejméně dva roky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Bylo ale využito dvou způsobů prezentace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rvní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j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ednostranné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poselství trvalo 15 min.Argument -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álka bude pokračovat nejméně dva roky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 Dále následovala charakteristika japonské armády a obyvatelstv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Druhé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oboustranné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trvalo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19 minut a obsahovalo  popis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komplikovanosti situace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ale zdůrazňovalo i výhody existence pouze jednoho nepřítel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Osloveny tři skupiny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1/  jednostranně (one sided)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2/  oboustranným sdělením (two sided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3/ žádné sdělení kontrolní skupin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ásledoval opakovaný dotazník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ě testované skupiny korigovaly postoj na rozdíl od skupiny kontrolní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ezi oběma skupinami však nebyl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žádný rozdí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ozdělili skupinu na ty, kteří  původně předpokládali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kratší trvání válk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jejich odhad byl méně než 1.5 roku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/ ty, kteří předpokládali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delší trván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víc než 1.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FEREN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na respondenty, kteří původně předpokládal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delší trvání válk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 působilo efektivněji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ednostranné sděle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 Oboustranné sdělení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ůsobilo efektivněji na ty, kteří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očekávali kratší trvá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 pohled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zdělán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yl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ednostranné sdělení efektivnější u respondentů s nižším vzděláním a naopa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907560"/>
            <a:ext cx="7993080" cy="525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ÁVĚR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ersvazivní efektivita sdělení závisí na individuálních psychologických charakteristikách. 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 tomto smyslu jsou účinky propagandy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íce nahodilé než cílené.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IMUNITNÍ TEORIE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PAPAGEORGIS/ McGUIRE,1962)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ím z nejfrekventovanějších výzkumných cílů je snaha odhali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chanismus rezistence či imunity vůči přesvědčovacím technikám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Tato teorie je postavena na analogii s medicínskou koncepcí očkování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2491920"/>
            <a:ext cx="9144000" cy="43657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munikační ohrožení spočívá v tom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isponujeme velkým množstvím postojů, které nikdy nebyly vystaveny tlaku zpochybnění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y jsou náchylnější k postojové změně. Nedisponujeme zde obrannými látkami.Nabízejí se dvě možnosti jak tomuto ohrožení  zabráni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podávat podpůrné látky - posilovat stávající postoj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ostranně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postupně vystavovat individua oslabené formě nákazy - tj. podávat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boustranné vyvážené inform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ýhodnější je vystavovat individua kontraargumentům.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MUNITNÍ TEORIE KOMUNIKACE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    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PAPAGEORGIS/ McGUIRE,196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volili pro testování taková přesvědčení, která se jen obtížně zpochybňují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ulturní truism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1/ každý by se měl dostavit jednou ročně na rentgen zda nemá tuberkulóz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2/ účinky penicilinu jsou jednoznačné, až na malé výjimky pozitiv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3/ většina forem duševních nemocí není nakažliv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4/ každý by si měl čistit zuby každý d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6868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ntrolní skupina je na škále jednoznačně lživé - jednoznačně pravdivé 1-15 hodnotila (13.26 med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tvořil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vě skupin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 první dostávala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oboustranné informa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dpůrn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pochybňujíc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druhá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jednostranné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dpůrné informa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 té byli obě skupiny vystaveny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asivnímu zpochybňová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dnotlivých tez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U skupiny s jednostrannými informacemi způsobilo zpochybňování pokles na 6.60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max 15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kupina těch, kteří byli „očkováni“ oboustranně byl pokles menší pouze na 10.30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Efektivnější při vytváření rezistence se projevilo (pasivní) čtení než (aktivní) psa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harakteristika postojů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ncionali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yjadřují určitou kvalitu - sympatie/antipat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jí intenzi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rekven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jí polární charak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sou konzistentní nebo nekonzistentní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soudržnost kognitivních, afektivních a konativních složek). Nejkonzistentnější jsou extrémní postoj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val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stoje se vytvářejí v procesu sociálního uče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/ dramatickou zkušenos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/ nápodob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TRAKTIVITA - PŘITAŽLIVOST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 obecném pojetí jde o představu spojenou s fyzickou atraktivitou či charismatem. Vzhledem k obtížné operacionalizovatelnosti a měřitelnosti takového pojmu používá komunikační výzkum následující subkritéria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74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/ podob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/ dobrá znalost, obeznámenost s daným komunikátor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/ sympatičnost, obli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/ blízk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/ koope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/ fyzická atraktivit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DOB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ecně platí, že vyhledáváme lidi, kteří jsou nám alespoň v některém rysu podobní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ato podobnost sestává ze dvou kompone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emografick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vyhledáváme lidi s podobnými demografickými charakteristikami jako máme my - věk, vzdělání, příjem, náboženství,  rasa apod. V obecném jazyce se říká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„je to jeden z nás. Je to naše krevní skupina“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ideologické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jde o podobné postoje a míně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ologická podobnost působí silněji než demografická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OBRÁ ZNALOST KOMUNIKÁ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 případě komunikace a masové zvlášť platí, že jsm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itahováni takovými zdroji, které znám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Je těžké přijmout nové komunikační zdroje a porušit tak denní rutinu např. čtenářských zvyk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/ SYMPATIČNOS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 komunikaci jsm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řitahování těmi, které máme rádi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ří jsou nám sympatičtí (známé tváře se neopouštějí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Pravděpodobnost obliby stoupá přímo úměrně ve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ztahu k odměnám, které komunikátor poskytuje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yto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odměn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abývají v zásadě tyto dvě form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edukce úzkosti, stresu, osamocenosti či ohrož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Úzkostní lidé mají tendenc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teragovat se stejným lidmi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likož interakce s druhými přivádí úzkost. Často užíváme druhé jako nástroj informací o vlastních pocitech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levize je jedním z nástrojů umožňujících odklonění úzkosti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Sociální uzn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ympatizujeme s těmi, kteří ná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vyšují sebehodnocen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esp. s těmi, kteří nám ukazují jak být oceňováni druhými. Jinými slovy sociální uznání zajišťuje uspokojení našich potř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BLÍZKOST KONTAK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ndividua, která jsou si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fyzicky blíže jsou vzájemně více přitahován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Běloši, kteří jsou v bližším kontaktu s Afroameričany mají vůči nim méně předsudků a komunikují s nimi lépe. Vyšš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blízkost zvyšuje výměnu informací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ecným zjištěním je, ž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face-to-face komunikace je efektivnější než nepřímá mediovaná komunik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E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OOPE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y, se kterými kooperujeme ty máme rádi, ti kteří nám blokují odměny ty odmítá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F/ FYZICKÁ ATRAKTIVITA</a:t>
            </a:r>
            <a:br>
              <a:rPr sz="24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ětšinou si namlouváme, že jsme  schopni oceňovat druhé na základě jiných charakteristik, než je jejich fyzická přitažlivost. Výzkum však hovoří o něčem jiném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říklady výzkumů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DION (1982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rokázal, ž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fyzicky atraktivnější studentky mají sociálně hodnotnější charakteristik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- jako je sensitivita, morální síla, skromnost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 fyzicky atraktivních lidí se též očekává šťastnější manželství a prestižnější postav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ANDY a SIGAL (1986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prokázali, lepší hodnocení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labých esejů u atraktivních studente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VÝZKUM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 (CHAICKEN, 1979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Téma: jaký má vliv fyzická atraktivita na efektivitu přesvědčování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Vzorek: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110 mužských a ženských komunikátorů, studentů psychologie z MIT, kteří prošli speciálním komunikačním tréninkem. Jejich tréninková praxe byla natočena na video, vyplnili osobnostní test a byli vyfotografováni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Fyzickou atraktivitu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hodnotila pětičlenná porota(hodnotili na 15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bodové škále). Následně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vybrali horní třetinu a dolní třetinu. 34 mužů 34 žen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 Na atraktivitě a neatraktivitě komunikátorů se shodli následně i samotní přesvědčovaní respondenti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Vybraní komunikátoři byli rozmístěni v campusu s cílem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přesvědčit fakultní veřejnost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feec94"/>
                </a:solidFill>
                <a:latin typeface="Times New Roman"/>
              </a:rPr>
              <a:t>že je třeba přestat podávat ve všech universitních jídelnách maso</a:t>
            </a:r>
            <a:r>
              <a:rPr b="1" i="1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Realizace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prezentovali oslovenému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názor proti konzumaci masa a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nechali vyplnit dotazník měřící souhlas s tímto postojem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B/ nakonec požádal komunikátor o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podepsání petice proti podávání mas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492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ZJIŠT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traktivní komunikátoři vykázal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statistick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šší schopnost přesvědčit  o správnosti své argumenta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Byl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úspěšnější i při získání podpisů na petic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dyž ale Chaicken analyzoval hodnocení atrak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závislými soudci ukázalo se, že se obě skupiny neliší jen 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fyzických parametrech“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, kteří byli označeni jak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traktiv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byli vnímáni i jak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átelštější, zajímavější, přesvědčivější, rychlejší  a plynulejší řečníc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líčovou proměnno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ní fyzická dispozice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le fakt, ž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atraktivn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isponují (mají připsány) takovým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chopnostmi a charakteristikam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jež je činí přesvědčivějším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3/ KOMUNIKACE JAKO UŽITÍ MOCI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ocenské zdroje mají tři charakteristik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ercipovaná autorit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je dána tím jak vnímá publikum schopnosti zdro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dministrovat tresty a odměn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Trestající a odměňující moc je stejně efektivní při vytváření poddajn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ercipovaný záje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áje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o to jak a zda se publikum konformizuj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ercipovaný dohled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povědomí, zda bude mocenský zdroj schopen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kontrolova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da se publikum konformizu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ilný zdroj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edy bude schope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administrovat odměny a tresty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bude mít zájem na konformitě publik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bude schopen tento proces konformizace kontrolova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Účinkem tohoto procesu je PODDAJN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ocenské zdroje často užívaj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hrozb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/tedy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odepírají odměnu a realizují trest s cílem vytvořit poddaj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to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oc méně  účinná než „atraktivita“ a „kredibilita“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čkoliv mírný mocenský tlak v některých případech vede k internalizaci poslušnosti silný tlak velmi čast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yvolává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BUMERANGOVÝ EFEKT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při kterém se energie investovaná do přesvědčování vrací jejímu realizátorovi násobenou silou. Místo poslušnosti se objevuje otevřený odp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HEILMAN/GARNER (197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Silný mocenský tlak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je ve srovnání se slibem odměny nutně méně efektivn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jelikož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ohrožuje integritu a svobodu jednání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Jedinec se dostává do situace, kdy si musí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zvolit mezi dvěma zly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nepreferovanou aktivitu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pod pohrůžkou trestu neb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odstoupit trest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který bývá často reprezentován ztrátou odměn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Když se nepostavíme hrozbě trestu hrozí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rozbití jeho sebeobrazu.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odrobení se vyvolává u jedinců pocit, že jsou vnímáni jako slabí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Často tak platí, že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udržování vlastního sebepojetí, tj. sebeobrazu i sociálního obrazu se stává významnějším než vyhnutí se trestu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Důvodem selháván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mocenské persuaze je percipovaná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ztráta svobod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Mocenský tlak může být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stejně efektivn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jako slib odměny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pokud je nabídnuta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určitá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možnost svobodné volby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(např. možnost zvolit si z několika variant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 případě postoje se jedná o vnitřní stav, který lz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ěžko měřit.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stoje nemohou být pozorovány přímo - jsou 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ypotetické konstrukt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 ale mohou být zkoumány pouze ve svém vnějším výrazu.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stoje jso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lementy vnitřní psychické organizac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a vytvářejí systém, pletivo specifických hodnocení, které se vždy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ganizují kolem nějaké centrální hodnot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 (Autoritářská osobnost:postoje organizované kolem ústředních hodnot moci a autority).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4365360"/>
            <a:ext cx="9144000" cy="194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Základní otázka: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Je  postojová změna vždy doprovázena změnou chování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4/ STRACH JAKO MECHANISMUS PŘESVĚDČENÍ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trachová komunikac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fear appeal) se používá standardně jako komunikační strategie např. při situacích, kdy je třeba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rychle akcelerovat obrannou reakci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ychází se zde ze dvou předpokladů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strach vede k postojové změně protože působ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měnu pozornost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tak, že ji zvyšuj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vysoký strach ovšem vede k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istorzi sdělení a ke spontánním defensivním reakcí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(REKLAMA PROTI KOUŘENÍ, Nemyslíš, zaplatíš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Janis a Feshbach: Communication and Persuasion, 195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skytli středoškolským studentů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ři odlišná sdělení na téma dentální hygien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Č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vrtá skupina – kontrolní. Ještě před tím než je vystavili sdělení nechali je vyplnit dotazník zaměřený na dentální hygienu a opakovali dotazování týden po jednotlivých expozicích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ři typy sděl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andardní přednáška o dentální hygieně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yvoláván minimální strach, ukázka dutiny ústní pouze s malými kaz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ukázka již pokročilých kazů a nemoci dás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otografie pokročilého rozkladu zubů a dás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nejsilnější strach) na zesílení efektů opakovaně zdůrazněn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o se může stát i vá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EFEKTIVNĚJŠÍ BYLO POUŽITÍ PRVNÍ VARIANT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gersův ochranně-motivační model strachového působení a postojové změny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ři klíčové faktory strachového přesvědčo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dhadovaná síla škodlivosti zobrazených událos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/ odhadovaná pravděpodobnost, že se taková věc může stá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dhadovaná efektivita ochranné/doporučované reak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měna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de představuje funkci ochranné motiv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Když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oporučení nahlíženo jako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álo efektiv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ak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ehraje roli odhadovaná míra škodlivosti daného jev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kouření, pornografie, násilí, politické prax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Jev je vnímán jako tím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škodlivějš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čím s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oporučení jeví jako efektivnějš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íklad pro teenagery platí, ž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trach ze smrti vnímají jako vzdálený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Proto je efektivnější soustředit se na bezprostřední dopady daného jevu. Např. negativní důsledky pro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kvalitu individuálního či sociálního života (obecně zpochybnění image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ÝZKUM: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IELS/ LEVENTHAL, 196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prezentovali třem skupinám respondentů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různě intenzivní varování před kouřením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. Postoje měřeny před prezentací a po zastrašující prezentaci (metoda pre/post testu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nejsilnějš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astrašení měl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arevnou filmovou podobu vyoperování jedné poloviny pl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méně intenziv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astrašení použilo stejný barevný film o plicní operaci s komentářem o jejím vyoperování ovšem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ez záběru jejího vyoper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nejslabš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uze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omentář bez filmového doprovod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jefektivnější se ukázalo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ejagresivněji koncipované sděle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které způsobilo postojovou změnu směrem ke konzumaci cigaret. (Jde tedy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 opačné zjiště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než u Feshbacha a Janise.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světlení, které nabízí autoři vychází z toho, ž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s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á předpokládat nižší důvěra v to, že by čištění zubů bylo schopno zamezit tak razantnímu poškození jako je na obrázcích prezentovaná silná paradontóza či silně pokažené zub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aopak zastavení kouření se nejspíše zdálo jako dostatečný argument jak se vyhnout rakovině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ESVĚDČOVACÍ TECHNIKY V MASOVÉ KOMUNIKACI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 ero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/ hum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/ opak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AD 1/ ERO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0% reklamy v magazínech - stoupající tendence (v roce 1951 pouze 10%). Eroticky zabarvená reklama dokáže proměňovat percepci a image produktu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MITH-ENGE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960)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 reklamy na model vozu FORD, kde použili dva typy sděl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eklama-plaká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de vedle vlastního produktu automobilu  Ford  byla na kapotu umístěna spoře oděná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odelka s oštěpem v ru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 reklama-plakát 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bez modelk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denti-muži měli hodnotit kvalitu reklamovaného vozu. Rozdíly byly zaznamenány ja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v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ubjektivní rovině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rožívání vozu (byl vnímán jak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itažlivější, mladší, plný život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 tak i v rovině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objektivní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věcné) rovině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muži automobil s modelkou považovali za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ýkonnější, méně bezpečný, dražší o 340 a maximální odhadovaná rychlost byla o 15 km vyšš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iné studie ovšem prokazují, že erotika v reklamě naopak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dpoutává pozornost od propagovaného zbož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potvrdilo se jednoznačně, že si člověk vybaví lépe produkt se sexuálním/erotickým symbolem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Naopak často dochází k vytěsnění/překrytí propagovaného objektu erotickým obsah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líčovým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úkolem je dostatečně asociovat produkt s erotickým vzore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rají zde výraznou roli cílové skupiny. Věk, vzdělání ap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2/ HUMOR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15-20%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levizních reklam obsahuje humorné prvky. Ve většině studií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ebyla prokázána postojová změna na základě působení humor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ecně platí, ž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umor v reklamě ovlivňuje především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nižší úroveň komunika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přitahuj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zornost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vytváří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íjemný kolori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ro diváky spíše než mění postoje a skrze ně chová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 vždy však je humor vnímán jako příjemný. Učitelé užívající humor jsou někdy  odmítáni protože se chovají v protikladu ke studentským očekáváním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ždy je ovšem podstatná adekvátnost použití humoru a cíl použití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or může slouži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dnak k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sílení stávajícího postoj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ebo k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dvrácení pozornost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která odtlumí možné protiargumen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umožní postojovou změn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07280" cy="6193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PERIME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piere, 193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 roce 1930 Richard Lapiere navštívil s čínským manželským párem 251 hotelů a restaurací a pouze v jednom případě byl odmítnut. O šest měsíců později se Lapiere dotázal stejných restauratérů a hoteliérů, zda by obsloužili čínský pár. Drtivá většin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 92 %)  z nich odpověděla zamítavě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3/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PAKOVÁNÍ</a:t>
            </a: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se užívá především z následujících důvodů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ne všichni se stále dívají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znak vysoké kredibility zdroj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učí postoje a významy připisované reklamě - proces podmiňování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lepší znovuvybavení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Krugman uvádí, že stačí tři opakování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první expozice je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kognitivní (co je to)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2/ druhá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hodnotíc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(v čem mi to může pomoci)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,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3/ třetí expozice je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upozornění, výzva nebo počátek nesouhlasu, odmítnutí (stojím/nestojím o to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1/Problém nastává po první expozici, když nenastane zaujetí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B2/ Pak je třeba průměrně 23 opakování než se dopracuje respondent ke II. stádiu „co s tím“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Zároveň každé opakování vede k narůstajícímu množství asociací, úvah irelevantních k  danému  objektu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ORIE KLASICKÉHO PODMIŇOVÁNÍ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atsov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1968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plikoval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orii klasického podmiňování na proces učení emocionálně nabitých jazykových význam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skytli vysvětlení některých nástrojů, které užív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paganda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rámci užíván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zv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leštěných fráz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glittering generality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chodiskem tohoto teoretického předpokladu je zkušenost, 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lova mají jistou emocionální hodnot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pozitivní i negativní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eselý, krásný, smích, jasný, dobrý vs. zlý, krutý, nemocný šílený ap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pojmech teorie klasického podmiňování jsou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emocionální stimuly chápány jako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nepodmíněné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o postu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spojující např. osobu nebo ideu s „pozitivně hodnocenými, příjemně zakoušenými, bezúhonnými slovy“, která vytvářej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pozitivní pocit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 neb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naopak spojuje osoby nebo ideje s negativními nálepkami. Toto postojové podmiňování se týká především reklamy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noho názvů produktů je shlukem slabik či znaků, které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dávají sami o sobě smysl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lanta“ (rostlinný tuk)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a (mýdlo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oke is real thing“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nto slogan se pokouší přenést pozitivní asociace na poje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COK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příklad u značky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prit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produktové označení zvoleno na základě pozitivních asociací, které vyvolává u potenciálních klientů. Při měření „pozitivity“ se často používá tzv. sémantický diferenciá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EXPERIMENT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(Staats/Staats, 195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mítli opakovaně na plátn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hluky slabik či znak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dávaly smysl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laj, wuk, gug)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současně je verbálně spojovali se slovy, která mají jednoznačně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pozitivní/negativní význa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V první skupině byly vžd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labiky bez jasného významu (laj, wuk, gug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árovány se slovy, která měl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soké pozitivní hodnocení (krása, vítězství, dar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 druhé kontrol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kupině bylo užito stejné strategie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le bylo použit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lov s negativním význame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zloděj, hořký, smutný)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lov, která neměla pevný jasný pozitivní/negativní význa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brzy, sníh, voda, oheň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Následně členové obou skupin obdrželi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600" spc="-1" strike="noStrike" u="sng">
                <a:solidFill>
                  <a:srgbClr val="feec94"/>
                </a:solidFill>
                <a:uFillTx/>
                <a:latin typeface="Times New Roman"/>
              </a:rPr>
              <a:t>sémantický diferenciál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, aby ohodnotili potenciál nesmyslných slabi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Pozitivní rating hodnocení obdrželi, slabiky spojované s pozitivními slovy a naopa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eec94"/>
                </a:solidFill>
                <a:latin typeface="Times New Roman"/>
              </a:rPr>
              <a:t>V tomto smyslu se postoj jeví jako forma emocionálního vztahu (významu),  k danému slov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vztah byl vytvořen klasickým podmiňování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říklad TV„ J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 u="sng">
                <a:solidFill>
                  <a:srgbClr val="feec94"/>
                </a:solidFill>
                <a:uFillTx/>
                <a:latin typeface="Times New Roman"/>
              </a:rPr>
              <a:t>SHRNUT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Podle teorie učení můžeme rozlišit tři základní fáze přesvědčování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A/ 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pozornost</a:t>
            </a: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 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B/ 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pochopení či uchopení argumentů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C/ 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vlastní přijetí/nepřijetí argumentu</a:t>
            </a: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Ad A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/ V první fázi je pro </a:t>
            </a:r>
            <a:r>
              <a:rPr b="1" lang="cs-CZ" sz="2700" spc="-1" strike="noStrike" u="sng">
                <a:solidFill>
                  <a:srgbClr val="feec94"/>
                </a:solidFill>
                <a:uFillTx/>
                <a:latin typeface="Times New Roman"/>
              </a:rPr>
              <a:t>zvýšení pozornosti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 nejvýznamnější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700" spc="-1" strike="noStrike" u="sng">
                <a:solidFill>
                  <a:srgbClr val="feec94"/>
                </a:solidFill>
                <a:uFillTx/>
                <a:latin typeface="Times New Roman"/>
              </a:rPr>
              <a:t>atraktivita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 zdroje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. To je nejzřejmější v reklamě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Ad B/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 Ve fázi druhé se ukazuje, že pro </a:t>
            </a:r>
            <a:r>
              <a:rPr b="1" lang="cs-CZ" sz="2700" spc="-1" strike="noStrike" u="sng">
                <a:solidFill>
                  <a:srgbClr val="feec94"/>
                </a:solidFill>
                <a:uFillTx/>
                <a:latin typeface="Times New Roman"/>
              </a:rPr>
              <a:t>„pochopení“ či zpracování</a:t>
            </a: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argumentů hraje 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klíčový význam </a:t>
            </a:r>
            <a:r>
              <a:rPr b="1" lang="cs-CZ" sz="2700" spc="-1" strike="noStrike" u="sng">
                <a:solidFill>
                  <a:srgbClr val="ffffff"/>
                </a:solidFill>
                <a:uFillTx/>
                <a:latin typeface="Times New Roman"/>
              </a:rPr>
              <a:t>kredibilita zdroje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ffffff"/>
                </a:solidFill>
                <a:latin typeface="Times New Roman"/>
              </a:rPr>
              <a:t>Zdá se tedy, že </a:t>
            </a:r>
            <a:r>
              <a:rPr b="1" i="1" lang="cs-CZ" sz="2700" spc="-1" strike="noStrike">
                <a:solidFill>
                  <a:srgbClr val="feec94"/>
                </a:solidFill>
                <a:latin typeface="Times New Roman"/>
              </a:rPr>
              <a:t>převaha tzv. kredibilních zdrojů</a:t>
            </a:r>
            <a:r>
              <a:rPr b="0" i="1" lang="cs-CZ" sz="27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ffffff"/>
                </a:solidFill>
                <a:latin typeface="Times New Roman"/>
              </a:rPr>
              <a:t>je dána též mírou souhlasu s jimi prezentovanými názory. Tedy </a:t>
            </a:r>
            <a:r>
              <a:rPr b="1" i="1" lang="cs-CZ" sz="2700" spc="-1" strike="noStrike">
                <a:solidFill>
                  <a:srgbClr val="ffffff"/>
                </a:solidFill>
                <a:latin typeface="Times New Roman"/>
              </a:rPr>
              <a:t>kontextem a očekáváním</a:t>
            </a:r>
            <a:r>
              <a:rPr b="0" i="1" lang="cs-CZ" sz="2700" spc="-1" strike="noStrike">
                <a:solidFill>
                  <a:srgbClr val="ffffff"/>
                </a:solidFill>
                <a:latin typeface="Times New Roman"/>
              </a:rPr>
              <a:t>, pokud toto není naplněno </a:t>
            </a:r>
            <a:r>
              <a:rPr b="1" i="1" lang="cs-CZ" sz="2700" spc="-1" strike="noStrike">
                <a:solidFill>
                  <a:srgbClr val="ffffff"/>
                </a:solidFill>
                <a:latin typeface="Times New Roman"/>
              </a:rPr>
              <a:t>učíme se i z nízce kredibilních zdrojů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Ad C/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 Vlastní </a:t>
            </a:r>
            <a:r>
              <a:rPr b="1" lang="cs-CZ" sz="2700" spc="-1" strike="noStrike" u="sng">
                <a:solidFill>
                  <a:srgbClr val="feec94"/>
                </a:solidFill>
                <a:uFillTx/>
                <a:latin typeface="Times New Roman"/>
              </a:rPr>
              <a:t>přijetí/nepřijetí 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doporučení je nejsilněji akceptováno u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 kredibilních zdrojů, následují zdroje atraktivní a mocenské působení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ECNĚ PLATÍ Ž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Kredibilnější zdroje jsou významnější, al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asem ztrácejí na vlivu pokud nedojde k jejich připomenu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Kredibilita zdro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eovlivňuje schopnost vybavení informace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redibilní zdroje jsou efektivnějš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proti nekredibilním ne proto, že by se lépe učili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le proto, že jso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hodnoceny příznivěj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bavujeme si totiž stejně zdroje významné i nevýznamné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/ Většina studi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potvrzuje hypotézu „sleeper effec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tom smysl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tj. že by síla nekredibilního zdroje časem stoupa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kredibilní zdroj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ohou mít schopnost bý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ersuasibilnější, pokud se jedná 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droj atraktivní nebo disponující mocí či užívající zastraše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5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atraktivní zdroje jsou méně persuasibilní než atraktiv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kud ovšem poskytuj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eočekávaná stanovisk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jich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rsuasibilita stoupá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6/ Obecně platí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ětší pozornost je věnována neočekávanému stanovisk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teré je i lép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novuvybaviteln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7/ Slib odměn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dnoznačně čin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munikaci efektivnější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než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přesvědčování skrze hrozb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8/ Přesvědčování za použit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hrozby hrozí vyvoláním bumerangového efekt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 produkuje tedy otevřený odpor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ísto přijetí doporuče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9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Hrozba se stává efektivnější, když je zároveň dána možnost volby několika varian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a této podmínky se stává hrozba stejně efektivní jako slib odmě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POSTOJOVÉ KOMPONEN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osenberg-Hovland rozlišují tři základní komponent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fektiv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hodnocení čehosi nebo vztah k čemusi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gnitiv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percepční odpovědi nebo verbální promluvy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ehaviorální/konativní/snahová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vnější jednání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FUNKCE POSTO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e především nutné pochopit jakou funkci ten který postoj zastává, aby bylo možné způsobit či alespoň predikovat jeho změn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například typickou chybo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ůsobit proti předsudkům faktickou informac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tedy předpokládat, že předsudek jako postoj slouží funkci vědění (poznávací funkci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TRUMENTÁLNÍ FUNKCE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ychází z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ximalizace odměn a minimalizace trestů.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ubjekt vytváří takové postoje, které odpovídají jeho představě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dměn a trestů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 Je pozitivní vůči objektům, které odměňují a naopak.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íklad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olební chování se řídí principem maximalizace odměn a minimalizace trestů.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(Příslušníci romské menšiny nevolili ve Vsetíně představitele KDU-ČSL, který řešil jejich bytovou situaci necitlivě)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4076640"/>
            <a:ext cx="91440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 spuštění této funkce postoje je třeba způsobi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ktivaci potř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zpochybnit stávající mechanismy uspokoj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/ 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ytvořit nové potře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zdůraznit nové a přitažlivější zdroje uspokoj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GO DEFENZIVNÍ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funkc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rání jedince před uznáním nepříjemných pravd o sobě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 Nejisté osoby často konstruují striktní předsudky vůči minoritním skupinám, aby se dostali do superiorní polohy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2491920"/>
            <a:ext cx="9144000" cy="403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e spuštění této funkce je třeb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vytvořit pocit ohrož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zvyšovat obecně frustra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c/ využít působení tzv. autoritární suges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/ nabídnout cestu jak zrušit ohrož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e/ a dát prožít katarzi, která umožní vh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HODNOTOVĚ EXPRESIVNÍ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unkce umožňuje získa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uspokojení skrze zaujímání takových postojů, které prezentují vlastní hodnoty-sebekoncepci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 Například formou identifikace s určitým hudebním proudem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9144000" cy="422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e spuštění této funkce postoje je třeb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vyvolat zpochybnění vlastních hodn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které povede k přehodnocení sebeobraz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c/ dojde k nespokojenosti se sebou samý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/ nutně se pak objevuje vhodnost jiného posto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07:55:54Z</dcterms:created>
  <dc:creator>JV</dc:creator>
  <dc:description/>
  <dc:language>en-US</dc:language>
  <cp:lastModifiedBy>JV</cp:lastModifiedBy>
  <dcterms:modified xsi:type="dcterms:W3CDTF">2010-11-11T09:11:39Z</dcterms:modified>
  <cp:revision>8</cp:revision>
  <dc:subject/>
  <dc:title>V. T E O R I E   P Ř E S V Ě D Č O V Á N Í  (PERSVAZE, PERSUAZE) „Skutečnými manipulátory jsou naši vnitřní přisvědčovatelé – naše chutě, naše strachy, marnivost a ješitnost, které zručný manipulátor využívá.“</dc:title>
</cp:coreProperties>
</file>