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A37-25FD-4E93-8403-D476FE66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CAF-B139-4A6A-8934-A6076E98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FF3-D133-462B-9539-3463B274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A66-A6DA-4AB5-B422-532D2979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B0F5-93B8-4397-B6A7-0A050145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6DAC-9C77-47AB-B496-C272EE66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9BD9-AC05-43B5-B9E5-CEECD8EF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29FE-5FEE-454C-9DCC-7B84A46A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EC7B-4D9D-4127-A914-EA812EC4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71C0-574F-47D5-9F17-59090AE4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1AB5-3250-47FF-A8BB-D52DDF8F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147-F2A6-43A0-B0E5-CC5B36FA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1DD2-D8EF-4F6A-9C37-FDDE4D4E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BDD5-D0C9-4C72-9BC2-F8EFC564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BF22-EAE2-4B38-ADFD-B21AC677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D4D7-0718-46AB-94E7-473D75E6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7291-32BC-4A97-8057-E8BD6ECD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098-88FA-42A1-92B4-65C1182C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36B-E4F1-4887-A232-066D2ACA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251-824D-4F97-A013-39C728C9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24C9-077E-4141-B1BD-9ED5C62F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AB31-02AF-4954-A433-5BB69A2A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B62-6BEB-4A38-84B1-CCAEBE47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BF5-740E-4288-92E3-7B0958E0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6AD4-771F-4F0A-BDB9-ABD1D7ADF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F072-5083-4719-AA04-2078D5E40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4:02Z</dcterms:modified>
  <cp:revision>11</cp:revision>
  <dc:subject/>
  <dc:title>III.3. REKLAMY JAKO GESTALT</dc:title>
</cp:coreProperties>
</file>