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72DC-589C-4C0C-B0BC-57C89A49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08DF-689F-4B3D-99C9-350C3844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6879-5C39-4579-B1AA-9EC0EFD0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E13A-FE7D-4307-9C63-47FC62BE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13F1-65EB-433E-A16F-4BDAE738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D97C-E969-47D4-BB13-89E64AC6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00F3-2715-4789-83E1-70F391A3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BEA8-6B06-48E4-A4C9-A32166AC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2C2E-EF1A-4AE4-A912-01260C09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6C80-F3EC-415F-8460-7849DB29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E472-CC8A-4034-9071-F084ECB5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97B8-33E2-4D8A-9BD6-F39BA818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77B5-24EA-44D6-B5B2-F583C078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7471-C895-4C92-B758-9E3131AC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82C6-1F34-4148-B5E0-02FAA8CB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A45E-C29E-4D1D-B0FB-868A448A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B6EF-4E4B-4236-B840-45DF7683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1E9A-F32B-42AC-8943-FEADAB73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A4E8-DDA5-4FB2-89CA-173629C0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9FA4-E1E2-498A-8804-D0C7851E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EF95-84E4-495F-A9DF-786D27E5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1FCD-66EC-4E27-B8C5-68801A04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C17B-E091-4404-B3D3-8E39711E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6D43-F909-40F6-8EE9-B75AF9E3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42DC-4293-4F7E-A5A5-C3020D747A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B078-FD36-4093-8AC8-BDB61659F8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XI. SPIRÁLA MLČENÍ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80928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éma se de facto objevuje již ve výzkumu „People´s Choice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973 Elisabeth Noelle - Neumannová ředitelka centra pro Výzkum veřejného mínění Allennsbachu a profesorka na universitě v Mainzu. (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Zpět k teorii silných účinků, 1972)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jí koncepc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stupuje do etapy silných mediálních účinků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umannová tvrdí, že  pochybnosti o silných mediálních účincích byly dán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todologickým omezení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ětšiny klasických výzkumů zaměřených na vliv masových médi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508640"/>
            <a:ext cx="8137440" cy="20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ncepc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irály mlčen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ychází ze známého, historicky ověřeného zjištění, ž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polečnost trestá své nepřizpůsobivé za jejich neochotu sdílet většinové, dominantní hodnoty, normy a posto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. INTERPRETACE VOLEBNÍCH VÝSLEDK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parlamentní volby  - 196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bízí se zde Lazarsfeldova teorie tzv.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and wagon effect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poslední vagón při volebních kampaních, ve  kterém měla své místo kapela - kam se dalo naskočil ještě za rozjezdu 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č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last minute swing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volba v poslední minutě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 analogiam – jakoby voliči v posledních třech měsících naskočili do onoho vozu s kapelou, který vezl SP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ellová ovšem ve své koncepci  polemizuje s názorem P. F. Lazarsfelda, který tvrd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lidé chtějí být vždy na straně vítěz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jelikož s ním spoju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edstavu určitéh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isku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odmítá tak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incip 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and wagon effect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ellová tvrd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tšina lidí nemá ambice získat úřad či moc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ou může vítěz poskytnout. Říká, že je zde ve hře  jiný fenomén, a to o snah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YHNOUT SE IZOLACI, KTERÁ JE SPOLEČNÁ VŠEM.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. VOLEBNÍ TEST</a:t>
            </a:r>
            <a:br>
              <a:rPr sz="40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ellová se pokusila prokázat svou tezi tím, že  konfrontovala voličské preference zjišťované standardní otázkou  </a:t>
            </a:r>
            <a:br>
              <a:rPr sz="3200"/>
            </a:b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„které politické straně byste dali hlas, kdyby byly zítra volby?“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tázkou 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DO PODLE VAŠEHO NÁZORU VYHRAJE PARLAMENTNÍ VOLBY?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ak ukazuje vývoj očekávání u této druhé otázky objevuje se zde trend naznačující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ěkteří (váhaví) voliči v závěru naskočí do vagónu SP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inci spirály mlčení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Noellové bylo přesvědčivé vítězství dáno právě tímto fenoménem.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Šlo o vládní stranu a přimknutí k ní bylo mnohem snadnějš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inými slovy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sympatizanti obou stran mohou být početně velmi blízko, al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ohou se lišit svou energií, svou hlasitostí projevu - tj. například nošení stranických odznaků, mediálně vděčné perform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(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ituální výzva na souboj inscenovaná před kamerami)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apod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íla obou stran je navíc nerozhodnutými percipována defakto jen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ákladě několika parciálních, vzhledem k síle strany irelevantních většinou mediálních „detailů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éně hlasití“ postupně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éně komunikují svůj názor  a tím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abývají více dojem o vlastním vyloučení a více pochybují o správnosti vlastní percepce problému, o správnosti vlastního soudu a tudíž komunikují ještě mén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zhodujícím důvodem pro toto mlčení j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trach z izol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d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edstava o reálnosti převahy jedněch nad druhým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která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á tvar spirály, jejíž průběh indikuje oslabování názoru jedné st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umanová de facto tvrdí, že o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hota lidí hovořit o nějakém problému je silně  determinována veřejným klimatem či společenskou atmosférou, která se daného tématu dotýká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kud je individuum držitelem názoru, který většina nepodporuje umlká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. HISTORICKÉ ANALOG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říklad mechanismu „spirály“ ilustroval de facto již Tocqueville, když popisoval úpadek církve v polovině 18 s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a hlavní faktor tohoto úpadku bylo podle něho právě postupné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„odmlčování se.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cqueville píše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i, co si podrželi víru v církev začali mít strach, zda by je taková veřejná deklarace nevedla k izolac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oce 1972 Noellová celý výzkum opakovala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dařilo se jí identifikovat skupinu lidí, kteří se cítí relativně izolovaní a prokázala u nich silnou inklinaci podléhat fenoménu poslední minuty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lo o jedi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s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ižším sebevědomí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éně zaujaté politiko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C/ TĚMTO LIDE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ŠLO O TO BÝT U MOCI, ALE O TO BÝT S VĚTŠINO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dyž lidé cítí, že se od nich ostatní odvracejí jsou mnohem manipulovateln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rach z izolace je silou, která dává spirálu mlčení do pohybu. V případě, že náš názor nemá šanci na širokou akceptaci a zároveň se ná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echce jej opustit zbývá druhá možnost - zmlkn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KRITIK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éma, které nechává teorie spirály nezodpovězené se týká otázky „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jak začít znovu“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bízí se možnost, ž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i, kteří  sdílí většinový názor pomalu </a:t>
            </a: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ztrácejí sílu hájit jej neb se již nesetkávají se silným odpor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umanová říká, že pro povahu masové komunikace jsou určující tři následující charakteristik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kumulativn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ytváření jednotlivých sdělení na základě nabalování dílčích událostí podle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představy o jejich potenciálně spojité povaze a vytváření kontinuitního pojetí děj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/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šudypřítomno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ení oblast, které by se dnes média vyhýb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nsonantn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shoda při produkci základních témat či rámců komunikačního sdělení resp. produkcí unifikovaného obrazu daného tématu či události bez ohledu na různé typy médií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nto efekt shody omezuje působení selektivních mechanismů a brání možnosti vybrat si jiné sděl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. PSYCHOLOGICKO - ANTROPOLOGICKÉ KOŘENY TEORIE SPIRÁLY MLČEN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umanová vychází z toho, že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společnost užívá k udržení sociální integrity takové tlaky či sociální mechanismy jako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strakizace, sociální exkluze, zesměšnění či sociální izolace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d s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inec chce vyhnout izolaci musí přijmout způsoby chování, normy, hodnoty, které jsou obecně akceptovány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Lidský život je v tomto smysl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manentním monitorováním situace na tomto pol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umannová hovoří o tom, že každý jedinec disponuje  jakýmsi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vázi-statistickým orgánem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íky kterému je schopen vníma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měny veřejného mínění, aniž by ovšem byl schopen detailněji je kvantifikovat či vysvětli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tav veřejného mínění odhadují jedinci na základě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pozorován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eziosobních interakc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na základě sledován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asových médi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é poskytují informace o distribuci veřejného mínění ve vztahu k jednotlivým problém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Strach z izola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podle Neumannové klíčovou hodnotou. Funguje jako antropologická konstanta výrazně ovlivňující náš životn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cit bezpečí -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ntologickou jistot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mpiricky inspiroval Noellovou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výzku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olomona Ash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: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Solomon Ash, 1952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sh testoval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 budou respondenti ochotni korigovat svůj odhad na základě vlivu ostatních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EXPERIMENTÁLNÍ ÚKO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ždy desetičlenné skupiny měli posuzovat,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která ze tří uvedených čar odpovídá jedné vybran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ALIZ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Členové experimentální skupin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jeden po druhém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řistupovali k uvedeným vzorkům a označovali identické čáry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aždý odhad se opakoval 12 krá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vní dvě kola všichni naprosto správně odhadovali velikost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 dvou kolech začali asistenti, kteří byli členy skupiny označovat za stejně dlouhou evidentně kratší čáru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 deseti řádných členu skupiny postupně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šest opustilo svůj původní správný názor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Times New Roman"/>
              </a:rPr>
              <a:t>Pouze  dva si stáli na svém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správném hodnocení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alší dv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dnou nebo dvakrát zaváhal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ale jinak drželi správný náz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bývajících šest se zcela přizpůsobilo tlaku většiny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ětšina lidí se spojuje s názorem většiny byť by její názor byl mylný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 potvrzuje Tocquevillův názor, že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hrozba z izolace je silnější než hrozba omyl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 cílem vyhnout se možné sociální izolaci vykonáváme podle Noellov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ovky drobných pozorov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zaznamenáváme stovky signálů o tom, zda js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bklopeni sympatií či naopak zda jsme odmítán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oellová odtud vyvozuje, že pr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ormování veřejného míně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íčové rozdělení na 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DO MLUV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 TY, KDO MLČ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šší „hlasitost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dné skupiny, která nemusí být zpočátku výrazně početnější vede k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panování veřejného prostoru jedním názorem a ke spuštění mechanism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unikační či názorové spirály. Hlasitější názor dále posiluje 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éně viditelný či slyšitelný dále ztrá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ě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ntroverzních témat sílí ti, jejichž názor se jeví být dominantně sdíle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zatímco ti, jejichž názor tuto charakteristiku postrádá postupně umlkaj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, co se cítí silnější projevují se hlasitěji a jsou tudíž viditelnější a opticky silnějš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sová média ovlivňují proces spirály třemi způso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formují povědomí o tom,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které názory jsou dominant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formují povědomí,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která témata a názory jsou na vzestup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 informují o tom,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které názory člověk může prezentovat, aniž by se vystavoval hrozbě izo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A. HISTORICKÉ SOUVISLOST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dea „spirály mlčení“ se rodí v ro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1965, kdy na podzim vrcholila volební kampaň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ellová vedla jeden z výzkumných týmů, který v průběhu této kampaně měřil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olební preference politických stran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Celý poslední rok měly obě dominantní strany CDU/CSU a SPD velmi podobné výsledky. Rozdíl mezi nimi byl velmi malý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i vlastních volbách však došlo k tomu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zdíl narostl na více než deset procent ve prospěch SPD (SPD - 49,5,  CDU/CSU - 38,5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ště v srpnu činil rozdíl mezi oběma stranami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2.5%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zi srpnem a říjnem došlo tedy k nárůstu rozdílu o 8%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oellová si položila otázku,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co mohlo vézt k tak razantní změně, takovému nárůstu preferencí pro SP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08:44:38Z</dcterms:created>
  <dc:creator>JV</dc:creator>
  <dc:description/>
  <dc:language>en-US</dc:language>
  <cp:lastModifiedBy>JV</cp:lastModifiedBy>
  <dcterms:modified xsi:type="dcterms:W3CDTF">2010-12-02T08:37:10Z</dcterms:modified>
  <cp:revision>3</cp:revision>
  <dc:subject/>
  <dc:title>XI. SPIRÁLA MLČENÍ </dc:title>
</cp:coreProperties>
</file>