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2A8-566C-4999-9688-2175ABE8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3B0-EE29-4433-B3BC-EE68A31E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8AE0-B791-4E0A-9842-74494C3A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88A-8865-4BBA-82B0-DAD10E26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6F03-BF9D-457A-BB2A-FCC48F04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5FBB-2452-406F-9497-A176B626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3BA-D2F5-4CCC-9DEF-486FDAB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70A-0CAA-4273-AA4A-6B8D369A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764-7A5C-43B6-8A6D-261002D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7C7D-488E-40E1-BDF8-DB5DAD83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17D-DD48-461A-B173-C85ED09B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9B5-A475-4B3B-BC7C-9CAABC35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F876-E9E2-4A6F-8E42-A46B123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CAB-52C7-4BF4-836B-C5F1C74C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B431-32DB-4B4F-9124-A42DFC7B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4101-DD2D-4430-98E3-C38E8F5D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D2EE-F6BC-44FC-8FBA-31D7631F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F0E-FAF2-4EF7-9E67-F3CDEBD2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236-29A6-463F-A329-ED321C4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A06-DECE-4518-9B37-BFDEAB0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C11-325A-4844-BD35-91BBA973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0C6-9326-464E-B4BD-EEBE5A4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C8A-3E68-412F-A6CB-C1D516A3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264-D060-4D2B-BAC3-AF77D68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235D-6A59-4A27-8BA1-3675E3B5F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6E28-EDA7-47B1-91CF-C3D4F51B9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II. Úkol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zvolte libovolné mediální sdělení (nejlépe reklamní povahy) a pokuste se identifikovat v jeho rámci použité konstrukční principy vycházející ze základních percepčních zákonů tvarové (gestalt) psychologi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oto pojetí výrazně podtrhu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ktivní roli příjem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, který v rámci percepčního procesu přináší cosi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lastní informa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Podobnost se sémiotickým přístupem je zřetelná v důrazu na aktivitu a individuálnost zpracování. Samotní sémiotici se ovše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nezabývají vlastními podmínkami či příčinami za nichž k aktivní a de facto vždy individuální percepci docház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 to z pohledu vlastního psychického aparátu či ustrojení člověka. Sémiotici zůstávají většinou pouze u popisu mechanismu jak jsou jednotlivě zpracovávány jednotlivé znaky z pohledu jejich významové výstavby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cesu percepce dochází k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instrumentaci řady bitů informací, které jsou v tomto smyslu defacto rekonstruovány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Když cosi pozorujeme zapojujeme i svou minulou zkušenost (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rozdíl od fungování fotoaparátu, kamery apod)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Tento vztah ke zkušenosti dobře dokládají případy lidí, kteří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ískali opětovně zrak</a:t>
            </a:r>
            <a:r>
              <a:rPr b="1" lang="en-US" sz="3200" spc="-1" strike="noStrike" u="sng">
                <a:solidFill>
                  <a:srgbClr val="feec94"/>
                </a:solidFill>
                <a:uFillTx/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Jsou bombardováni množstvím stimulů, které neznají a které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sou schopni interpretovat jen za pomoci různých smyslových zkušeností, nejčastěji  dotykové.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ýznam zkušenosti dokládá skutečnost, že například vnímání dvou/třídimenzionální informace je  pro od narození slepých jedinců nemožné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platí například i pro lidi, kteří nikdy neviděli fotografii a musí se jí učit číst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. KAZUISTIKA (Gregory, 1986)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řípad pacienta, který byl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epý od dětství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 získal zrak po transplantaci rohovky v 52lete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jeho obraz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postrádal koherenci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-  vše splývá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stává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trach z chůze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, kterou jako slepý běžně zvládal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del jeho vlastního bytu byl dotykový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vět byl dotykový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ajednou s novou vizuální zkušeností byl pro něho prostor extrémně konfúzní,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nedokázal posuzovat velikost a perspektiv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eho původní život, kdy neviděl  byl dán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linearitou a sekvenčností</a:t>
            </a:r>
            <a:r>
              <a:rPr b="0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Taková percepční mapa ovšem neposkytuj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statečné informace o pohybu v 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simultánním prostoru  a hloub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zvyklý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ekvenční a materiální svět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byl schopen vnímat dvoudimenzionální fotografie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iděl jen barevné skvr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klád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mazané skvrny za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tváře jen díky tomu, že znal hlas daných osob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tato vizuální nezralost jej vedla k tomu, ž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nevnímal klasické optické iluz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například týkající záměny figury a pozadí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(Neckarova kostka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bez zralé vizuální zkušenosti skutečně viděl to, co mohl na poprvé pocítit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íklad některé věci, které považoval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na základě hmatové zkušenosti za hezké a měl je rád byly najednou vizuálně odporné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ebyl schopen deficit ve vizuálním učení vykompenzovat či odstranit. Výsledkem byla skutečnost, že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ociálně s tímto novým světem nevyrovnal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stupně u něho narůstá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epresivita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Umírá po dvou letech od tranplant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pad popisuje situaci člověka, který je plně schopný vnímat svět skrze zvuk a dotyk, ale jeh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mysl pro celost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byl na nulové úrovni.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Nerozvinutý vizuální kortex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ak vedl k tomu, že 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mohl vidět, ale n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nímat-percipovat ve vizuálním mó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Jde o důkaz významu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izuálního učení a paměti při vizuální percepci.</a:t>
            </a:r>
            <a:br>
              <a:rPr sz="2800"/>
            </a:b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To co naše oči registrují není obrazem reality. Spíše se dá říci, že náš mozek/ky kombinují informace zprostředkované očima s dalšími smysly a syntetizuje je s naší minulou zkušeností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akový obraz nám pak pomáhá s orientací v sociálním světě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. J. Gibso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rozlišu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mezi obrazem na sítn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pol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ntální aktivito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která vytváří ná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izuální svět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A/ „Vizuální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le“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světla na sítnici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tímc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e výsledkem dopa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D B/ „Vizuální svět“ j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interpretací vzorců světla jako reality.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Vizuální svět je interpretací reality ne realitou samotnou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de o obraz formovaný v mozku prostřednictvím integrace multisenzorických informaci a kulturní zkušenost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o jde spíše o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mentální mapu, ne o teritorium v jeho úpl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Jde defacto o distinkci mezi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percepcí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realitou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, o propast, kterou nelze nikdy uzavřít. To, co označujeme jako realitu je výsledkem procesu, který počíná světelnou refrakcí a končí komplexní dynamikou psyché.</a:t>
            </a: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rávě proto, že  věci vnímáme konzistentně 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věříme tomu, co vidíme.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Nakonec tudíž </a:t>
            </a:r>
            <a:r>
              <a:rPr b="1" lang="cs-CZ" sz="2600" spc="-1" strike="noStrike" u="sng">
                <a:solidFill>
                  <a:srgbClr val="feec94"/>
                </a:solidFill>
                <a:uFillTx/>
                <a:latin typeface="Times New Roman"/>
              </a:rPr>
              <a:t>vidíme více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,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než realitu. Vidíme to co očekáváme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(např. některá výtvarná díla - Magrit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V případě televize vnímáme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ybně okolo třiceti procent obsahu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, který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 u="sng">
                <a:solidFill>
                  <a:srgbClr val="ffffff"/>
                </a:solidFill>
                <a:uFillTx/>
                <a:latin typeface="Times New Roman"/>
              </a:rPr>
              <a:t>ztotožňujeme s teritoriem,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 ne s mapo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Analogie mezi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okem a fotoaprátem je nesprávná,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jelikož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sítnicový obraz je toliko nejelementárnějším stádiem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v komplexním procesu „vidění“. Oko je pouze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biologickým nástrojem pro shromažďování informací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dostupným z vnějšího prostředí. Obraz, který nám oči zprostředkovávají nepracuje na rozdíl od fotoaparátu na základě 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mechanismu zachycování obrazů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, ale jde o komplexní proces zachycující existenci změny, formy a rysů, ve kterém jsou selektivně připravována data pro interpretaci v mozku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Současná vizuální teorie předpokládá, že vizuální paměť u vidících jedinců existuje jak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da reprezentativních tvarů, které obsahují invariantní, stálé, neměnné vlastnosti objektů v jejich různých užitích či situacích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Tyto neměnné vzorce u slepých od narození chybí. Tím jak vizuální zkušenost narůstá stávají se tyto vzorce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chématy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podle, kterých rozlišuje základní tvary a umožňují mezi nimi rozlišovat (viz díle percepční témata (Doris Grabe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3284640"/>
            <a:ext cx="91440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az na sítni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frontován s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zkušenostním schematem drženým v tzv. dlouhodobé pamě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Paměťová reprezentace tak výrazně ovlivňuje povahu percipovaného objekt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tínové divadl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pracující se základními charakteristikami např. zvířat je typickým příkladem existence takových sché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á se ovšem, ž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aměť nedrží tvary jednoznačně ve stejné podob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aměť je v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ermanentní proměně, a to pod vlivem nové zkušenosti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de o otevřený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stém vzájemného ovlivňování vizuální paměťové zkušenosti a nové vizuální zkuše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např.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raumatické zkušenosti jsou ukládány do odlišných částí moz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dyž si lidé vědomě vzpomenou na traumatický zážitek dochází k překrvení amygdaly a dochází k aktivizaci vizuálního kortexu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ýsledkem mohou být intenzivní vizuální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flashbacky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vzpomínkové zábles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uje se tak de facto 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ychoanalytická teorie vytěsně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I.1.TEORIE  PERCEPCE: GESTALTISTICKÉ KOŘENY, HOLISTICKÁ PERCEPČNÍ ŠKOL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ames Gibson (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The Ecological Approach to Visual Perception, 1979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důrazňuje,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že obraz, který vidíme není dán hlavním stimulem, světlem, respektive jeho obsahem,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l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de primárně o diference mezi jednotlivými světelnými skvrnami. Vidíme na prvním místě rozdíly mezi nimi mezi těmito skvrnami, ale ne je samotné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 se přitom opírá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teorii a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důrazňuje, ž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ce má holistickou-celostní povahu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APITOLA II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ERCEPCE V MASOVÉ  KOMUNIKAC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dnou z nejproblematičtějších vlastností komunikačních  modelů v první etapě výzkumu masových médií - tedy v etapě silných účinků, teorie injekční stříkačky, letící střely, (koncepcí které tvrdí, že média mají přímé a silné účinky) 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schopnost modelů silných účinků vyrovnat se záludnostmi percepčního mechanismu.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odely pracují  s představou sdělení jako šípu zasahujícího jeden cíl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pomíjejí ovšem právě vliv percepčního mechanismu jednotlivých příjemců, který zásadním způsobem ovlivňuje interpretaci sděl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GESTALT PSYCHOLOGI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ce teoretiků tzv. gestalt (tvarové) psychologie se zaměřila n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ynamickou percepční organizaci vnější zkušenosti do smysluplných celků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kladatelé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x Wertheim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0-1943),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Wolfgang Köhle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7-1967) 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urt Koff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1886-1941) považují za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líčový organizující percepční princip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jednotu smysl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á vzniká velmi časně. Jsou defacto první, kteř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upozornili na roli principu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jednoty-celost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v rámci procesu vnímán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ajímají 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mechanismy kombinace částí do více méně smysluplných celků.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ycházejí přitom z předpokladu, ž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celek je více než pouhý součet částí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IZOMORFICKÁ TEORIE PERCEPCE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ax Wertheimer došel na základě percepčních experimentů k tomu, že klíčový je v percepci</a:t>
            </a:r>
            <a:r>
              <a:rPr b="1" lang="cs-CZ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vztah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edy cosi odlišného než co je obsaženo v jednotlivých oddělených vjemech. 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ejde tedy o jednotlivá podráždění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odle tohoto pojetí se zdá ž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principy percepce leží mezi jevy, elementy a ne v nich samotných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Například př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transpozici melodie jsou užité noty jiné, ale melodie je stále rozpoznatelná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Melodie je tak funkcí vztahu mezi jednotlivými částmi notace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Podobně uvažují dnešní neurofyziologové, když předpokládají, že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neexistuje centrální dirigent, ale spíše 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forma demokratické symfonie mezi jednotlivými částmi mozku.</a:t>
            </a:r>
            <a:r>
              <a:rPr b="0" lang="cs-CZ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‚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GURA a POZADÍ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´figure' a 'ground')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elá teorie vychází z předpokladu existence univerzálních charakteristik lidské percep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bychom byli schopni identifikovat vizuální obraz musím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děl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ominantní tvar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'figuru' s jejími hraničními konturami)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„pozadí- ground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“ toho co aktuálně odsouváme do pozad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008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princip ilustruje ambivalentní zobrazení dánského psychologa Edgara Rubina.</a:t>
            </a:r>
            <a:br>
              <a:rPr sz="2800"/>
            </a:b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Rozhodující je to, co  v daném případě akcentujeme – bílá váz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černé siluet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 Pokud akcentujeme siluety jde o figuru a zbytek odsouváme do pozadí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537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Percepce či obraz organizován prostřednictvím dvou mechanismů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koheze</a:t>
            </a:r>
            <a:r>
              <a:rPr b="0" lang="en-US" sz="30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zola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Linie umístěné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blízko seb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odobné barv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či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tvary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endují k formování jednotek jako ohraničených celků, jež jsou izolovány od ustupujícího poza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stalt psychologové vytvořili několik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univerzálních principů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někdy se hovoří 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zákonech percepční organizace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a hlavní můžeme považovat následující (terminologie se někdy částečně proměňuje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Zákony percepční organizace podle gestalt teorie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/ princip jednoduchosti, podobnosti (simila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2/ princip blízkosti (proximit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3/ princip dobrého/hladkého průběhu (good continu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4/ princip uzavření (closur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/ princip preference menšího tvaru (smallness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6/ princip ohraničení (surroundedness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7/ princip symetrie (symmetry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1/ / princip jednoduchosti, podobnosti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truktura vyobrazených předmětů (tečky a čtverečky) uspořádané vertikálně a horizontálně tzn. že princip blízkosti není adekvátní. Vidíme ale střídání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loupců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 koleček a čtverečků. Je tomu tak proto, že máme tendenci asociovat podobné rysy. V případě nerozlišených objektů vidíme řádky i sloupce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292720" y="364644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85680" y="3645000"/>
            <a:ext cx="3225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2/ Princip blízkosti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 percepčním procesu se sousední body nemusí dotýkat, aby byly logicky spojovány jako části většího významového, smysluplného vzorce.</a:t>
            </a:r>
            <a:br>
              <a:rPr sz="24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Jeden  čtverec složený z teček v sérii sloupců. Charakteristiky, které jsou k sobě fyzicky blíž jsou snadněji asociovány.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64320" y="2276640"/>
            <a:ext cx="2479680" cy="2592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74800" y="2276640"/>
            <a:ext cx="283356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46400" y="4995720"/>
            <a:ext cx="51339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Princip dobrého/hladkého průběhu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ákon hladkého průběhu vnímání předpokládá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kompletování již dříve vytvořených linií, ať už formálních nebo zkušenostních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okud vnímáme jakýkoliv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ambivalentní stimul -  vnímáme jej jako odraz toho co očekáváme.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Tento princip říká, že kontury vycházející z plynulého průběhu preferujeme před změnou směru. Vidíme zde linie a-b a c-d, ale ne a-d,  c-b, a-c a d-b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61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569080" cy="4581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stupná modifikace tváře muže do postavy ženy </a:t>
            </a:r>
            <a:br>
              <a:rPr sz="28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slední kresba nahoře a první dole je ukázkou ambivalence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 platí pro ilustraci platí obecně i pro percepci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evnímáme to co je, ale to co chceme vidět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PRO STUDIUM PÚSOBENÍ MASOVÝCH MEDIÁLNÍCH OBSAHÚ</a:t>
            </a:r>
            <a:br>
              <a:rPr sz="24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JSOU DÚLEŽITÉ NÁSLEDUJÍCÍ OTÁZKY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/ Jaké mechanismy ovlivňují vnímání masových  méd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Jak je vnímána jejich realita na základě existujícího vědění - držených postojů, schémat, stereotyp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Jak může konzumace masových médií ovlivnit vnitřní prostředí jedince tj. jak může ovlivnit míra konzumace médií postoje, stereotypy a schémata. Tento proces zapadá do kategori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percepce sociální realit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kud je to tak, že percepční vzorce vytvářejí základy pro abstraktní myšlení a argumentování, pak je možné vidět v tomto základním principu nejen kořeny hladkého průběhu percepce, ale též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 stereotypizování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estalt ovšem zdůrazňuje spíš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istenci vnitřních percepčních principů,  než že by mluvil o učení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5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obně je tom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dyž se díváme na oblohu, mraky nebo hvězdy tendujeme k využití vzorců, které byly vytvořeny dříve, jelikož poskytují stabilitu a vytvářejí význ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4/ Princip uzavření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ferujeme uzavřené tvary před otevřenými. Vidíme tři přerušené obdélníky. Princip uzavření přebíjí princip blízkosti.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5/ Princip preference menšího tvaru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nší oblasti máme tendenci vidět jako figury proti většímu pozadí.(</a:t>
            </a:r>
            <a:r>
              <a:rPr b="1" i="1" lang="en-US" sz="2800" spc="-1" strike="noStrike">
                <a:solidFill>
                  <a:srgbClr val="feec94"/>
                </a:solidFill>
                <a:latin typeface="Times New Roman"/>
              </a:rPr>
              <a:t>Vidíme  kříž spíše než bílé pozadí).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5272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39960" y="2276640"/>
            <a:ext cx="3127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6/ Princip symetr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tevřené, nedokončené figury např. série teček jsou vnímány jako jeden trojúhelník, kruh nebo čtverec, když dosadíme chybějící linie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či tečky. Jde o nevědomý proces, ve kterém oko a mozek vytváří nejlepší nejsymetričtější formy. Uvedený princip znali už před gestaltisty pointilisté a impresionisté, kteří užívali vzorce světla na plátně (Cézan, Manet, Monet, Renoir)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43560" y="3647520"/>
            <a:ext cx="2350080" cy="24444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268360" y="3213000"/>
            <a:ext cx="115128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3213000"/>
            <a:ext cx="1439640" cy="36450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6858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3213000"/>
            <a:ext cx="0" cy="3456000"/>
          </a:xfrm>
          <a:prstGeom prst="line">
            <a:avLst/>
          </a:prstGeom>
          <a:ln w="5724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3213000"/>
            <a:ext cx="367200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26920" y="6597720"/>
            <a:ext cx="4105440" cy="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284640"/>
            <a:ext cx="216000" cy="331308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7/ Princip ohraničení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blasti, které vidíme obklopené dalšími máme tendenci vnímat jako  figury 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(davají dané znaky nějaký význam, lze je přečíst?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95280" y="3070080"/>
            <a:ext cx="83534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PRAGNANTZ PRINCIP</a:t>
            </a:r>
            <a:br>
              <a:rPr sz="24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šechny uvedené principy percepční organizace slouží nadřazenému principu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agnänz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který říká, že dáváme přednost nejjednodušším a nejstabilnějších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interpretac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PERCEPČNÍ ZKRESLE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zhledem k tomu, ž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věříme tomu, co vidí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máme tak rádi optické iluze. Typickou ilustrací percepční iluze, které podléháme je existence </a:t>
            </a: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lepé skvrn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j. místo, kde se již nervové receptory nedotýkají sítnice. V této oblasti již nedisponuje sítnicovými receptory a proto neexistuje cesta jak předávat vizuální informace. Uvedená oblast musí být vyplněna percepčně. Této absence, jakési díry ve vidění si nejsme vědomi. Přesto vidíme celistvé obrazy. </a:t>
            </a:r>
            <a:br>
              <a:rPr sz="2800"/>
            </a:b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Tento model doplňování se odehrává obecně v celém procesu 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rvní data, které mozek vnímá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jsou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hraniční kontur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To umožňuje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dlišovat jeden objekt od druhého a de facto nám tak pomáhá nenarážet do věcí okolo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Následuje naplňování či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ování tohoto prázdného prostor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a to i chybějících detailů, a to za užití tzv. zprůměrňování přijímaných senzorických dat, například bare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to percepční doplňování je paralelní s kognitivním zpracováním např. v rovině stereotypů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Obrazy formované vědomě i nevědomě vytvářejí percepční hranice a v jejich rámci pak více méně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utomaticky dosazujeme a zprůměrňujeme obsah vymezený těmito hranicemi.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To co doplňujeme tak defacto reálně neexistu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kud nechceme podlehnout tomuto stereotypnímu a automatickému myšlení musíme jej podrobovat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ustálým kritickým zkoumání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o abstraktní myšlení a percepci hraje klíčovou roli schopnost skládat jednotlivé části do cel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 Při vnímání věcí v našem okolí činíme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extrémně komplexní výkon derivování významů z odlišných  a oddělených elementů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Formování unifikovaného celku - tj. obrazu věcí odráž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holistickou logiku, jež má své základy v evoluci percep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ato holistická schopnost organizovat věci do celků nám pomáhá např. oddělit telefonní přístroj od stolu, na kterém stojí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Někdy se t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nepoved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 ambivalence významů vede ke spojení jevů, které spolu nesouvisí. Příkladem je otázka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řešení ambivalentních významů, které mohou být interpretovány různými způsoby.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Uvedený mechanismus ilustruje Rubinova iluze  „dvě tváře z profilu“, které se alternativně transformují do vázy, a to v závislosti na tom co vidíme jako figuru a co jako pozadí.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áza nebo tvář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Jde o ilustraci </a:t>
            </a:r>
            <a:r>
              <a:rPr b="1" lang="cs-CZ" sz="2400" spc="-1" strike="noStrike" u="sng">
                <a:solidFill>
                  <a:srgbClr val="feec94"/>
                </a:solidFill>
                <a:uFillTx/>
                <a:latin typeface="Times New Roman"/>
              </a:rPr>
              <a:t>vztahu figury a pozadí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, které se alternativně prosazují jako figury.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Když jsou síly izolování a soudržnosti v rovnováze vzniká ambivalence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Váza/ tvář model je ambivalentní protože variuje mezi dvěma interpretacemi, které nelze jednoznačně priorizovat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59280" y="3573360"/>
            <a:ext cx="3600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MÁ MATKA A MÁ TCHYNĚ. Poprvé publikována 1915. Jde 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ernativní portrét mladé ženy, která se proměňuje ve starou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Nos staré ženy je současně spodní čelistí mladé ženy. 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Ať už vidíme jako první mladou nebo starou ženu svou roli zde hraje skutečnost </a:t>
            </a: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očekává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064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D/ 1 PERCEPCE A POHYB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hyb je pro naši percepci zásadn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odobně jako barv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registrován bezprostředně a automaticky percepčním systémem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izuální systém  byl vyvinut s tím cílem, aby nás varoval před nebezpečím. Proto reagujeme na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hyb jako na signál, který je potenciálně pozitivní nebo negativní změnou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álost je pak to, co se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děje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Změny ve vizuálním poli vyžadují naši pozornost kvůli pohybu. Díky pohybu jsme lépe schopni porozumět struktuře objektu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ohyb odhaluje třídimenzionální formu a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odděluje figuru od pozad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o zvířata při ohrožení tzv.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zmrznou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ž je de facto kamufláž pro přežití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k se pohnou odhalují své charakteristiky - tvar, velikost, směř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1/  Mullerova-Lyerova iluze OBR.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2/ Ďáblovy proměnlivé vidle </a:t>
            </a:r>
            <a:br>
              <a:rPr sz="2400"/>
            </a:b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3/ Neckerova kostka  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568980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estaltisté byli první, kdo upozornili v rámci mechanismu percepce na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vědomé a automatické procesy, které organizují podráždění podle zkušenost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důrazňují přitom, že procesy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komprese a redukce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vizuální informac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formují percepční elementy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do jejich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ejjednodušší a nejefektivnější podo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dyž sledujeme film nejsou tzv.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ceptory krátkých záblesků schopny rozlišit mezi zdánlivým a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álným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pohybem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1/V prvním případě jde o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dojem pohybu ze dvou skutečně existujících stimulů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2/ V druhém o identifikac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reálného pohybu, tak jak se normálně odehrává v přírodě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brázky v rychlém sledu na plátně ústí do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iluze kontinuálního pohybu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ochází k tomu, že </a:t>
            </a:r>
            <a:r>
              <a:rPr b="1" lang="en-US" sz="2600" spc="-1" strike="noStrike" u="sng">
                <a:solidFill>
                  <a:srgbClr val="feec94"/>
                </a:solidFill>
                <a:uFillTx/>
                <a:latin typeface="Times New Roman"/>
              </a:rPr>
              <a:t>zdánlivý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pohyb a rychlé sekvence jsou čteny jako další stimuly s podobnými časovými a prostorovými charakteristikami. Pohyby na filmovém plátně identifikujeme podobně jako pohyby reálné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es je rychlost pohybu jednotlivých políček standardizovaná. U prvních filmů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olísala rychlost mezi 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16 až 24 obrázky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za sekundu, takže při nižší rychlosti bylo vidět jejich běh, míhání. Jd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 facto o idiomatické vnímání filmu zmize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nto fakt měl klíčový vliv pro roli médií jako zábavy. Ač považujeme daný film za plytký, stále jej pozorujeme.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levizi sledujeme částečně i proto, že se obrázky pohybují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Akční film je v tomto smyslu dobrou ilustrac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odnocení umělecké úrovně pořadu je tak vlastně až sekundární zkušeností. Dialogy i akce jsou často příliš rychlé na to, aby byly analyzovány.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víc těsně nastřihané události, akce působí na naši percepci a vyvolávají dojem kauzálního vztahu místo vědomí pouhé chronologie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Jde o jakousi ztrátu percepční logiky, která vysvětluje proč akční filmy navzdory absenci pevněji a logicky vystavěné zápletky jsou vnímány jako příběh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ávě pohyb obrázků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„fram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“ je zdrojem speciálních efekt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 Například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filmování miniaturních modelů zvýšenou rychl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 jejich následná projekce ve standardní rychlosti vyvolává dojem jejich „reálné“ očekávatelné velikost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Užívání pojm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EPC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se liší podle vědeckého pole či užité metodologie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7432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A/vjem, percepční pole, percepční plynul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gnitiv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ociální percepce, selektivní percep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sociální psychologi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/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percipovaná realita, percepce sociální realit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komunikační vě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cepce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- je  proc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řijím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pracován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informací prostřednictvím smyslů. Není to ovšem pouze pasivní mechanický proces (jako kamera nebo magnetofon) přijímání informací, ale spíš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ynamický proces zpracování informací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a v jistém smyslu produkování těchto sdělení.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OTO NEJJEDNODUŠŠÍ VYMEZENÍ ZDÚRAZŇU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ATEGORIZAČNÍ FUNK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ERCEPČNÍHO MECHANISMU, KTERÁ ALE SLOUŽÍ FUNKCI OBECNĚJŠÍ –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DAPTAĆNÍ,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(percepční ostražit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Percepce je komplexní proces, při kterém lidé (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(b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a (c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pretují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senzorickou stimulaci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mysluplného a koherentního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obrazu světa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V tomto procesu tedy </a:t>
            </a:r>
            <a:r>
              <a:rPr b="1" lang="cs-CZ" sz="3000" spc="-1" strike="noStrike" u="sng">
                <a:solidFill>
                  <a:srgbClr val="feec94"/>
                </a:solidFill>
                <a:uFillTx/>
                <a:latin typeface="Times New Roman"/>
              </a:rPr>
              <a:t>nemůžeme</a:t>
            </a:r>
            <a:r>
              <a:rPr b="1" lang="cs-CZ" sz="3000" spc="-1" strike="noStrike">
                <a:solidFill>
                  <a:srgbClr val="feec94"/>
                </a:solidFill>
                <a:latin typeface="Times New Roman"/>
              </a:rPr>
              <a:t> hovořit o jednoznačné korespondenci mezi vnější realitou a jejím zpracováním individuem.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Staré mechanistické koncepce naopak předpokládaly, že všichni </a:t>
            </a: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vnímají jevy stejně</a:t>
            </a:r>
            <a:r>
              <a:rPr b="0" lang="cs-CZ" sz="3000" spc="-1" strike="noStrike">
                <a:solidFill>
                  <a:srgbClr val="ffffff"/>
                </a:solidFill>
                <a:latin typeface="Times New Roman"/>
              </a:rPr>
              <a:t> resp., že  v případě vnímání  jednoho konkrétního objektu je tento vnímán  totožně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Jde o posun od pozitivistického ke 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A/ kogntivistickému a B/ konstruktivistickému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Times New Roman"/>
              </a:rPr>
              <a:t>přístup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7:36:08Z</dcterms:created>
  <dc:creator>JV</dc:creator>
  <dc:description/>
  <dc:language>en-US</dc:language>
  <cp:lastModifiedBy>JV</cp:lastModifiedBy>
  <dcterms:modified xsi:type="dcterms:W3CDTF">2010-11-12T07:51:51Z</dcterms:modified>
  <cp:revision>6</cp:revision>
  <dc:subject/>
  <dc:title>KAPITOLA II. PERCEPCE V MASOVÉ  KOMUNIKACI</dc:title>
</cp:coreProperties>
</file>