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C7A1-D6D6-4407-A682-4CDD3154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8B5-341C-4D4F-B371-A0D631FA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653-B408-47A2-8A54-F9B29806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E9A-B758-465A-A761-F9469CB3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2EE-FFD9-47A8-9249-9A254F0B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095-6233-4331-A24D-F0BAF0CB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E09-B132-4C70-A00F-A3633F2E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DB4E-CD7A-4D4E-ACEB-90190BB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C14-3555-4B9E-BD5B-71FA6B1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E5A6-94FB-425C-8ABF-61019EB9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18B6-AF6D-4DC6-A903-DA89E22E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7971-EB35-4FFA-9B8D-1B108C50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4BD-13D4-4016-8CA8-FCEF0AC7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02A8-3AF2-4CF2-94C3-6084EE5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92D8-B01D-4AE0-86FB-96DBF4B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E06-24B6-49A5-8D4B-0B9E0059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AE1B-72E7-477B-9092-F4D8CD1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874-037B-43D2-9C0E-F90338E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6D7-B249-4ABC-AD96-6A55D19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92C-7BA4-4FEF-9817-3CC45D9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22F-5990-4186-AC2C-8A2BA716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87F-30C6-4E38-9C14-1AAEEDA8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8E0-1957-41BD-A832-CE73302B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544-2037-4225-AD44-46FAAA72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095-0987-4F97-A602-9E7329D740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58A-FC76-49ED-9AEC-75CA3C2D4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IV. KAPITOLA: SOCIÁLNÍ PERCEPCE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orie sociální percep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klade na první místo v procesu vnímání sociální zkušenost jedince a obecně sociální fakto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 rozdíl od neurofyziologie, která se soustřeďuje především na stav receptorů individua a na vlastnosti vnímaných objektů).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997360"/>
            <a:ext cx="9144000" cy="386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V důsledku existence sociálních faktorů, sociální zkušenosti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vidíme „věci o sobě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le máme tendenci vnímat to, co konven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ašim potřebám a očekává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Percepce a interpretace skutečnosti je určována aktuálními motivy, respektive zkušeností a formuje se v průběhu sociálního vývoje jedi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B/ SELEKTIVNÍ POZORNOS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e takový proces, při kterém věnuje jedinec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zornost jen těm částem sdělení, které jsou v souladu s jeh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íněním a snaží se vyhnout protichůdným sdělením. Jde o situace, kdy jedinci nejsou schopni dopředu posoudit, zda budou percipovaná sdělení v souladu s jejich  postoj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 rozdíl o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de o parciální proces, při které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dochází k hlubšímu zpracován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 vyhodnocení informací. Vymazávání pozornosti při sledování násilných scén na TV  obrazov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164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PERPCEP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psychický proces, při kterém jedinec „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ypíná“ vědomou pozorno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okud je vystaven situaci, kdy dostává sdělení, která odporují jeho postojům a naopak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zapín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 pozornost v opačném případě. Nejpodstatnější charakteristikou tohoto psychického procesu je skutečnost, že v rámci této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„nepozornosti“ ale aktivně/nevědomě přepracovává sdělení k „obrazu svému“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G. Allport - Postmann L.: The Basic Psychology of Rumor,194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Studie orientovaná na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éma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šíření pomluvy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Pokusili se ilustrovat jak se průběhu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sociálního sdílení a šíření informace proměnilo verbální sdělení tak, aby odpovídalo existujícímu povědomí a postojům.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 byl předveden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obrázek ostré hádky mez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černým a bílým mužem, na kterém drží běloch v ruce břitv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a ohrožuje Afroameričana.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Probandi měli tento obráz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opsat další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skupině respondentů, kteří jej měli popsat další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at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 průběhu následných postupujících komunikačních kontaktů se b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řitva postupně přesunula z ruky bělocha do ruky  Afroameričana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teriál, který neodpovídá percepčním zkušenostem individua musí být přepracován  tak, aby odpovídal jeho osobním potřebám a zájmům.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 co bylo vnější stává se vnitřním, co bylo objektivním  stává se subjektivní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D/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SELEKTIVNÍ RETENC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 tendence individua znovu si vybavit pouze ty informace, které jsou v souladu s jeho potřebami, postoji a dalšími psychologickými charakteristikami.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de  o to udržet v paměti v aktuálním a vyvolatelném stavu ty informace, jež posilují názory individua a vytěsnit ty, jež jsou mu nepříjemné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EXPERIMENT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JONES, KOHLER, 1958)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ě skupin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stoupenci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segregace afroameričan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b/ její odpůr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Dostaly za úkol naučit se výrok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, které byl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jednak ostře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protičernošsk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 a jednak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ti apartheidu, pro rasovou rovno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ásledně byla testována schopnost jak si jednotliví členové obou skupin byli schopni vybavit jednotlivé výrok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„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Segregacionisté“ jednoznačně lépe vybavovali ty výroky,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které konvenovaly s jejich protičernoškými postoj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KULTURNÍ OČEKÁVÁNÍ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cepci formuje předchozí zkušenost a ovlivňuje ji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ciální očekáv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motivace a potřeby, nálady a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41200"/>
            <a:ext cx="9144000" cy="57164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vě skupiny dětí mezi 7-9 le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/ z nejnižších soc. vrstev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/z nejvyšších soc. vrste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staly za úkol nakreslit mince (od dvoucentu až po půldolar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razně větší rozměr připsaly jednotlivým mincí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ti z nejnižších vrstev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Jde o příklad přecenění sociálního faktu.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: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robandi dostali v temné místnosti dva výstřižky  ze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ého materiálu a stejné barvy (zelené):                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list  jabloně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oslíka“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Oba výstřižky nasvíceny červeným kašírovacím světlem, které překrylo původní barv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spondenti byli dotázáni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A/ „Zda jsou oba výstřižky stejně  barevné?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B/„O  jakou intenzitu barvy jde?“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Jako  „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zelenější“ </a:t>
            </a:r>
            <a:r>
              <a:rPr b="0" i="1" lang="cs-CZ" sz="3200" spc="-1" strike="noStrike">
                <a:solidFill>
                  <a:srgbClr val="009900"/>
                </a:solidFill>
                <a:latin typeface="Times New Roman"/>
              </a:rPr>
              <a:t>byl vnímán</a:t>
            </a:r>
            <a:r>
              <a:rPr b="1" i="1" lang="cs-CZ" sz="3200" spc="-1" strike="noStrike">
                <a:solidFill>
                  <a:srgbClr val="009900"/>
                </a:solidFill>
                <a:latin typeface="Times New Roman"/>
              </a:rPr>
              <a:t> „list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U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oslíka“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byl zdůrazňován odstín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 „do šeda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4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Co člověk vnímá a jak to vnímá je dáno jeho základním zacílením. Klíčovou roli zde hraj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očekávání,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ve kterém lze určit čtyři funkce: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fixaci b/ organizaci/ selektivitu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d/ akcentaci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8820000" cy="501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fix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list j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dle pamě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pisován jako zelený, oslík jako šed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organizace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preference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ntu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obou výstřiž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selektivita očekáv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z míry možných očekávání se uplatnilo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n jedno vedoucí k závěru o možných barv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4/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akcentace očekáván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- výsledkem je, že  dominoval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rčitý způsob vním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EXPERIMENT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cClelland a Atkinson, 194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DESIGN VÝZKUM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rámci přijímacího řízení na námořní školu – kurs pro námořníky na ponorce. Jako součást testů  prověřována i </a:t>
            </a:r>
            <a:r>
              <a:rPr b="0" lang="cs-CZ" sz="3200" spc="-1" strike="noStrike">
                <a:solidFill>
                  <a:srgbClr val="feec94"/>
                </a:solidFill>
                <a:latin typeface="Times New Roman"/>
              </a:rPr>
              <a:t>schopnost zvládnout  alimentární depriv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Vytvořili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tři skupiny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- jedna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hladověla 16 hodin, druhá 4 a třetí hodinu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. V průběhu hladovění museli probandi 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identifikovat na plátně objekty, které jim byly údajně promítány.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Dostávali   takové instrukce jako: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cs-CZ" sz="3200" spc="-1" strike="noStrike">
                <a:solidFill>
                  <a:srgbClr val="ffff00"/>
                </a:solidFill>
                <a:latin typeface="Times New Roman"/>
              </a:rPr>
              <a:t>na plátně jsou tři objekty, popište je“.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S narůstající dobou hladovění stoupal i počet „</a:t>
            </a:r>
            <a:r>
              <a:rPr b="1" lang="cs-CZ" sz="3200" spc="-1" strike="noStrike">
                <a:solidFill>
                  <a:srgbClr val="ffff00"/>
                </a:solidFill>
                <a:latin typeface="Times New Roman"/>
              </a:rPr>
              <a:t>viděných  objektů, které souvisely s potravou“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ěříme tomu, co vidím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 tomu tak proto, že rozvíjíme stále stejné percepční dovednosti, které nás vedou k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hodě  na „objektivní realitě“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kální skeptici trvají na tom, ž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ní jasné zda máme nejmenší důvod předpokládat, že druzí mají cokoliv, co můžeme považovat 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lečnou zkušenost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izuální zkušenost může být dána čímsi, co si jiní nedokáží představ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agby, 1957)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 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Dvanáct partnerských amerických párů a 12 mexických pár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jma  jediného žádný nikdy neopustil zemi, kde dlouhodob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žily i jejich rodiny. Každé dvojici promítnuto deset párů diapozitivů, které zobrazovaly 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jednu aktivitu typickou pr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A/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(severo)</a:t>
            </a:r>
            <a:r>
              <a:rPr b="0" i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americkou kulturu (např. basebal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B/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 pro mexickou kulturu ( býčí zápasy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Po 60s  expozici každé dvojice obrázků byli respondenti dotázáni co viděli.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ominance jednotlivých očí byla eliminována randomizac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Při experimentu byly</a:t>
            </a:r>
            <a:r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 použity speciální /prizmatické/ brýle, které umožňují vysílat na každé oko jiný obraz. U většiny lidí je to tak, že v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600" spc="-1" strike="noStrike">
                <a:solidFill>
                  <a:srgbClr val="feec94"/>
                </a:solidFill>
                <a:latin typeface="Times New Roman"/>
              </a:rPr>
              <a:t>případě komunikace dvou obrazů vidí pouze jeden nebo</a:t>
            </a:r>
            <a:r>
              <a:rPr b="0" lang="cs-CZ" sz="2600" spc="-1" strike="noStrike">
                <a:solidFill>
                  <a:srgbClr val="feec94"/>
                </a:solidFill>
                <a:latin typeface="Times New Roman"/>
              </a:rPr>
              <a:t> občas pak jakýsi mix obojího</a:t>
            </a:r>
            <a:r>
              <a:rPr b="0" lang="cs-CZ" sz="2600" spc="-1" strike="noStrike">
                <a:solidFill>
                  <a:srgbClr val="ffffff"/>
                </a:solidFill>
                <a:latin typeface="Times New Roman"/>
              </a:rPr>
              <a:t>. To ovšem až po té co vidí jeden z obrázků samostatně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rojevila s jednoznačně preference obrázků z vlastní kul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(Toch, Schulte, 1961)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0" i="1" lang="cs-CZ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oložili si otázku,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zda ti, kteří se dnes a denně setkávají s násilím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ffff"/>
                </a:solidFill>
                <a:latin typeface="Times New Roman"/>
              </a:rPr>
              <a:t>pracovníci kriminální policie -  </a:t>
            </a:r>
            <a:r>
              <a:rPr b="1" i="1" lang="cs-CZ" sz="3200" spc="-1" strike="noStrike">
                <a:solidFill>
                  <a:srgbClr val="feec94"/>
                </a:solidFill>
                <a:latin typeface="Times New Roman"/>
              </a:rPr>
              <a:t>budou při jeho vnímání citlivější, respektive zda jej budou vidět i v situacích, kde jej ostatní nevid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sledně  je srovnali se studenty prvního ročníku psychologie. Oběma skupinám byl promítnut film kombinující násilné, agresivní i  neutrální scé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olicisté viděli – popisovali „viděli“  dvakrát tolik násilných scé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Lucas, 1945) 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ESIGN VÝZKUMU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Vybraní jedinci byli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hypnózou uvedeni do dobré nálady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 a bylo jim 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promítnuto šest obrázků, které měli popsat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. Pak dostali v hypnóze příkaz na tyto obrázky zapomenout a byli uvedeni do depresivní nálady. Následně  jim byli promítnuty tytéž obrázky a měli je znovu pops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opisy stejných obrázků v odlišných psychických situacích byly výrazně odlišné, a to v závislosti na náladě</a:t>
            </a:r>
            <a:r>
              <a:rPr b="1" i="1" lang="cs-CZ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PERIMENT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Meadowcraft a Zillmann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9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ázali, že výběr televizního žánru koreluje s fází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enstruačního cyklu (v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emenstruační fázi volily ženy z nabídky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y významně častěj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ama a naopak nejméně často komedi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00080"/>
            <a:ext cx="9144000" cy="68580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700" spc="-1" strike="noStrike">
                <a:solidFill>
                  <a:srgbClr val="feec94"/>
                </a:solidFill>
                <a:latin typeface="Times New Roman"/>
              </a:rPr>
              <a:t>Politická karikatura proti předsudkům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Jahoda–Cooper, 1947</a:t>
            </a:r>
            <a:r>
              <a:rPr b="0" lang="cs-CZ" sz="2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Analýza efektivity karikatur zaměřených proti předsudkům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o hlavní hrdina karikatur vystupoval Mr. Biggott, který s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vyskytoval v situacích, kdy se předsudky jevily jako směšné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orek čítal 160 bílých nežidovských dělník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ě třetiny z respondentů sadu karikatur (kampaň) vůbec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nepochopilo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Někteří dokonce tvrdili, že cílem bylo legitimovat předsudek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hápali smysl karikatur tak, že de facto ujišťoval ostatní, aby si klidně drželi své předsudky podle logiky </a:t>
            </a:r>
            <a:r>
              <a:rPr b="0" i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„jiní je mají také“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lépe rozuměli karikaturám ti, kteří předsudeční nebyl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ejhůře naopak ti nejpředsudečněj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JAKO KLÍČOVÝ DÚVOD NEÚSPĚŠNOSTI KAMPANĚ BYL IDENTIFIKOVÁN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TRACH Z NESOUHLASU REFERENČNÍ SOCIÁLNÍ SKUPINY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. PŘESNĚJI </a:t>
            </a:r>
            <a:r>
              <a:rPr b="1" lang="cs-CZ" sz="2300" spc="-1" strike="noStrike">
                <a:solidFill>
                  <a:srgbClr val="ffff00"/>
                </a:solidFill>
                <a:latin typeface="Times New Roman"/>
              </a:rPr>
              <a:t>OČEKÁVÁNÍ </a:t>
            </a:r>
            <a:r>
              <a:rPr b="0" lang="cs-CZ" sz="2300" spc="-1" strike="noStrike">
                <a:solidFill>
                  <a:srgbClr val="ffff00"/>
                </a:solidFill>
                <a:latin typeface="Times New Roman"/>
              </a:rPr>
              <a:t> NESOUHLAS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Zesměšňování předsudků není efektivní. Satirické karikatury jsou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rcipovány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na základě vlastních postojů. Výsledkem pak je, ž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DÉ S PŘEDSUDKEM VNÍMAJÍ V KARIKATURÁCH SVÉ VLASTNÍ POSTOJE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9144000" cy="439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ÁVĚRY JEDNOTLIVÝCH STUDIÍ NAZNAČUJÍ, ŽE 1/5 - 1/3 RESPONDENTŮ JE IMUNNÍ VŮČI UVEDENÝM SELEKTIVNÍM MECHANISMŮ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ým závěrem pak j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omerční charakter masové komunikace si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vynucuje produkci jen těch postojů a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hodnot, proti nimž obecně není námitek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sově komunikační prostředky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íce posilují  status quo než způsobují postojovou změn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PERCEPČNÍHO SCHEMATU (DORIS GRABER, 1988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648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eec94"/>
                </a:solidFill>
                <a:uFillTx/>
                <a:latin typeface="Times New Roman"/>
              </a:rPr>
              <a:t>percepční  sché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sestává z jistého organizovaného vědění, které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ýká   konkrétní/h situace/í a individuí. Toto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abstrakcí jistých původních zkušeností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 Jde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akýsi předem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připravený skelet-matrice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, do kter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jsou vkládány nové inform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berová říká, že lidé jsou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kognitivní lenoši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(„skrblíci“)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cognitive misers/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mentálně pohodlní, a to i pro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to, že mají omezené schopnosti zpracovávat komplexní informace a rychle se uchylují k </a:t>
            </a:r>
            <a:r>
              <a:rPr b="1" lang="cs-CZ" sz="3200" spc="-1" strike="noStrike">
                <a:solidFill>
                  <a:srgbClr val="feec94"/>
                </a:solidFill>
                <a:latin typeface="Times New Roman"/>
              </a:rPr>
              <a:t>vytváření simplifikovaných mentálních modelů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492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Graberová analyzovala percepční zpracování hlavních zpráv v denících a v TV. Objevila různé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rategie jak se lidé vyrovnávají s novými mediálními informacemi.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mechanismus označuje jako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PŘIPODOB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(matching). Nová zpravodajská informace je přizpůsobena  schématu vytvořenému na základě předcházejících zpráv (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i="1" lang="cs-CZ" sz="2800" spc="-1" strike="noStrike">
                <a:solidFill>
                  <a:srgbClr val="ffffff"/>
                </a:solidFill>
                <a:latin typeface="Times New Roman"/>
              </a:rPr>
              <a:t>ten Zeman to je celej Klaus“ apod</a:t>
            </a:r>
            <a:r>
              <a:rPr b="1" i="1" lang="cs-CZ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)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Tento mechanimus funguje jednak jako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ouběh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(interference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stých událostí n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ákladě aktuální věcné podob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říměří v Libanonu nebude mít dlouhého trvání neb v S. Irsku to taky dlouho nefungova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vícenásobná integra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 několika schématy či dimenzemi těchto schémat /zpráva o vstupu d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 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vztahována k tématu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zaměstnanost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ašeho potenciálního ohrožení z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ěmecka, resp. sudetských Němc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ímé spojování zpráv s danými schématy je výrazně ovlivněno mechanismem, který Graberová označuje jako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„cueing“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(dát narážku, podnět k jednání). Tento mechanismus spouštějí média prostřednictvím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itulků, hedlajnů, grafiky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apod.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příklad řazení zpráv realizované tímto způsobem vede k tomu, že po zprávě o našem připravovaném vstupu do EU následuje úvaha o tom, že Němci vykupují pozemky v Čechách (témata jako přemalování šipek na silnici, velikosti včelařských rámečků, nezaměstnanost apod.)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SHRNUTÍ STU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DÉ MAJÍ SKLON PŘI KONZUMACI MEDIÁLNÍ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DĚLENÍ UKLÁDAT V PAMĚTI ZÁVĚRY VYPLÝVA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Z DŮKAZŮ, ALE NE DŮKAZY SAMOTN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d termí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ktivní percep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ůžeme zahrnout percepční mechanismy, které jistým způsobem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ovlivňují, posouvají či zkresluj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ůvodní inform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to mechanismy, ale </a:t>
            </a:r>
            <a:r>
              <a:rPr b="0" lang="en-US" sz="3200" spc="-1" strike="noStrike">
                <a:solidFill>
                  <a:srgbClr val="feec94"/>
                </a:solidFill>
                <a:latin typeface="Times New Roman"/>
              </a:rPr>
              <a:t>nefungují uniformě u každého individ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IV.1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LEKTIVITA</a:t>
            </a:r>
            <a:r>
              <a:rPr b="1" lang="en-US" sz="2600" spc="-1" strike="noStrike">
                <a:solidFill>
                  <a:srgbClr val="feec94"/>
                </a:solidFill>
                <a:latin typeface="Times New Roman"/>
              </a:rPr>
              <a:t> JAKO JEDEN Z KLÍČOVÝCH PERCEPČNÍCH MECHANISMÚ</a:t>
            </a:r>
            <a:br>
              <a:rPr sz="2600"/>
            </a:br>
            <a:br>
              <a:rPr sz="2800"/>
            </a:br>
            <a:endParaRPr b="1" lang="en-US" sz="2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Existují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ři základní teori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vysvětlující percepční mechanismus, respektive selektivitu při vnímání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uče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představy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že jsme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álními živočich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ří svá rozhodnutí či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základě nejlepších informac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které jsou k dosaž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teorie konzist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resp. teorie kognitivní disonance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terá vychází z toho, že jsm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racionalizující a ne racionální živočichov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roto reagujeme většinou na sdělení tak, že se při jeho přijímáni nebo nepřijímán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nažíme vždy ospravedlnit a ochránit naše již existující mínění, postoje a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/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funkcionální teori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ředpokládá, že přijímáme nové postoje v situac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kdy naplňují nějakou naši potřebu, respektive, že udržujeme své postoje do té doby dokud jsou pro nás užitečné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TYTO TEORIE SE NEVYLUČUJÍ, ALE JSOU TŘEMI RŮZNÝMI ZPŮSOBY VYSVĚTLENÍ REAKCÍ V NAŠEM PŘÍPADĚ MEDIÁLNÍHO PUBLIK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Selektivní expozice, B/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pozornost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C/ Selektivní percepce, D/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ektivní retence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 Některé informace, které jsou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ednoznačně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nepřijatelné nepřipustí individuum hned na počát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/ V případě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xu přijatelných a nepřijatelných sdělení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věnuje pozornost pouze přijatelný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/ Pokud projde informace dále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selektivní percepce při vlastním dekódování s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/ Pokud ani v tomto případě není selektivní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ormace zastavena nastupuje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chanismus selektivního vybaven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A/SELEKTIVNÍ EXPOZICE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- je tendence individua vystavit se takové komunikaci, která je v souladu s jeho postoji. Tedy více či méně vědomě unikat sdělením s nimiž nesouhlasí  a naopak.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otikuřáckou kampaň nejvíce sledují nekuřáci.</a:t>
            </a:r>
            <a:br>
              <a:rPr sz="2800"/>
            </a:br>
            <a:br>
              <a:rPr sz="2800"/>
            </a:br>
            <a:r>
              <a:rPr b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TEORIE KOGNITIVNÍ DISONANCE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jem selektivní expozice  je jednou z hlavních derivací Festingerovy teorie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kognitivní disonance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Stav kognitivní disonance nastává tehdy, když je jedinec nucen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astávat současně dva či více názorů, postojů či mínění, které jsou ve vzájemné opozici.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 Teorie kognitivní disonance tvrdí, že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v disonance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lačí individuum k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rychlé změně</a:t>
            </a:r>
            <a:r>
              <a:rPr b="0" lang="cs-CZ" sz="2800" spc="-1" strike="noStrike" u="sng">
                <a:solidFill>
                  <a:srgbClr val="feec94"/>
                </a:solidFill>
                <a:uFillTx/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aby se zbavilo tohoto nepříjemného pocitu. Individuum můž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A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řestat kouřit nebo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B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naopak vytěsnit důvěryhodnost informace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 tom, že kouření vede k rakovině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kud to není možné musí hledat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doplňující ospravedlnění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pro původní postoj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 přesvědčit se, že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isk plynoucí z kouř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pro něho mnohem důležitější než potenciální nebezpečí z rakovin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Vyřešit takovou situaci duševní nepohody znamená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změnit vlastní  postoj tak, že jej konformizujeme s veřejným chováním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tzn., že musíme najít materiál  pro racionalizaci nechtěného postoje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ž se individuum ocitne v situaci, kdy je nuce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ednat veřejně, tak, že je to v rozporu s jeho vnitřními postoji a představami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, zakouší v této situaci stav </a:t>
            </a:r>
            <a:br>
              <a:rPr sz="2800"/>
            </a:b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disonance jak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ické nepohody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.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eorie kognitivní disonance vychází z toho, že individua se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A/ pokoušejí zbavit disonantních pocitů, B/ mají tendenci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ktivně se vyhýbat  takovým informacím, které produkují disonanci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mu slouží mechanismu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ELEKTIVNÍ EXPOZICE 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ypotéza selektivní expozice má dvě komponenty. Předpokládá, ž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/  se budem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aktivně vyhýbat či budeme méně vnímaví k informacím,</a:t>
            </a:r>
            <a:r>
              <a:rPr b="0" lang="cs-CZ" sz="2800" spc="-1" strike="noStrike">
                <a:solidFill>
                  <a:srgbClr val="feec94"/>
                </a:solidFill>
                <a:latin typeface="Times New Roman"/>
              </a:rPr>
              <a:t> jež jsou v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opozic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vůči našim postojům, míněním, ch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/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budeme vyhledávat takové informace, které podporují naše postoje, mínění a chován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kud by tato hypotéza  platila, pak by to znamenalo, ž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jakákoliv persvaze,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jakékoliv mediální působení se setkává s již přijatými a schválenými postoji.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činkem by pak mohlo být pouze </a:t>
            </a:r>
            <a:r>
              <a:rPr b="1" lang="cs-CZ" sz="2800" spc="-1" strike="noStrike">
                <a:solidFill>
                  <a:srgbClr val="feec94"/>
                </a:solidFill>
                <a:latin typeface="Times New Roman"/>
              </a:rPr>
              <a:t>posílení stávajících postojů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J. Klapp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oučasný výzkum se soustřeďuje na analýzu podmínek, 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kdy budou opozitní informace vyhledávány či preferovány před informacemi, které potvrzují námi držené postoje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/ pokud půjde o význačnou </a:t>
            </a:r>
            <a:r>
              <a:rPr b="1" lang="en-US" sz="2800" spc="-1" strike="noStrike" u="sng">
                <a:solidFill>
                  <a:srgbClr val="feec94"/>
                </a:solidFill>
                <a:uFillTx/>
                <a:latin typeface="Times New Roman"/>
              </a:rPr>
              <a:t>novou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informaci jejíž vysoká hodnota je předpokládán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čekávání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Dále hraje roli zábavnost informace a osobní relevance pro publik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/ pokud je informace vnímána jako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užitečná pro řešení problém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/ pokud si je člově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jistý ve svých postojí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neobává se jejich zpochybně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/ lidé se nevyhýbají nepříjemným informací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kud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cházejí v situaci,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ve skupině, kde je</a:t>
            </a: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otevřenost vysoce hodnocenou kvalit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/ naopak vyhýbají se takovým informacím, které j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ednoznačně podporuj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v jejich pozici, a to pokud se v té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zici necítí jis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7:23:55Z</dcterms:created>
  <dc:creator>JV</dc:creator>
  <dc:description/>
  <dc:language>en-US</dc:language>
  <cp:lastModifiedBy>JV</cp:lastModifiedBy>
  <dcterms:modified xsi:type="dcterms:W3CDTF">2010-10-21T08:34:02Z</dcterms:modified>
  <cp:revision>11</cp:revision>
  <dc:subject/>
  <dc:title>III.3. REKLAMY JAKO GESTALT</dc:title>
</cp:coreProperties>
</file>