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1709-93B6-4DF8-A790-8843BCF4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D775-24A0-4ECF-8A02-F3208B59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9112-8E22-43C3-B531-9CC2B51E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07A1-D9E4-4ECF-AEF0-A3A03A07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59DD-88FA-4A29-A2B1-B7B35977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7E2E-A7E4-4C60-9E9B-95D19796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50FD-0E6A-4528-A536-B0F596A0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5807-BD29-4B04-B3FC-FA92A382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1507-F5B8-434B-BD6F-BC9EB0C7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6B02-82A8-4403-95EB-C9597CC6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59EA-273D-44D3-9532-9A399CF4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839C-931A-4ED7-B105-111C15E7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5490-5ABC-4F25-BCF2-C6CEDF01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FEFB-6C3D-4918-8D8E-77193BE3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48A6-CB02-4BB3-AA6D-8DD48BAB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18F0-4902-4990-850E-489B99BED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9357-EA56-4130-8AC5-3608DD885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3F5E-73CD-4839-84BA-E885C4D8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E960-66C2-4BF4-B318-D3BB1B75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7ABD-6526-4A32-80FF-FB9F709D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463B-5C7B-4909-BB4C-AFAB2AA0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2215-7EA7-425B-B8A2-42DC4B5C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9F37-5456-4525-9EB8-2E2165DD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DA85-562A-4ADA-8007-0A89D643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C58A-485C-47AA-A28F-3AE4D35524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8B5E-4DB4-4D95-953E-6B33B41DAA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3. PÚSOBENÍ MÉDIÍ A POLITICKÁ KOMUNIKA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litickou komunikaci ovlivňuje několik dynamicky spolupůsobících vlivů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 povaha sociální struktu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 povaha politické kult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mediální prostřed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vlastnické vztahy a regulace), respektive mediální obsa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ediální účinky na politickou komunikaci jsou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eriodické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volební kampa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ermanent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funkce hlídacího p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85760" indent="-64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ásledně provedli: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bsahovou analýzu těch médií, která na sledované voliče působila v čase dotazování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 zde byla provedena  kategorizace na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hlavní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edlejší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blém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5760" indent="-64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ýsledek pak prokázal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ysokou korelaci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zi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tématy „hlavních zpráv“ v mediální agendě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eznamem „nejvýznamnějších problémů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země deklarovaných nerozhodnutými voliči – korelac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0.96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ještě vyšší korelace byla nalezena v případě témat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vedlejších“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respondenty deklarovaných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vedlejších problémů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0.97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rátký čas po Mc Combsově a Shawově studii se objevuje v Public Opinion Quarterly stať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aye Funkhousera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, která řeší v podstatě stejný úkol, ale navíc se soustřeďuje na specifický význam určitých problémů v realitě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ÝZKUM: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ay Funkhouser, 1972)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STU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Funkhouser využil pravidelných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Galupových měřen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a tém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Jaké jsou nejvýznamnější problémy současných Spojených států“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B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ouběžně s tím provedl obsahovou analýzu ve tří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významnějších magazín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Time, Newsweek, U.S. News and World Report) po dobu deseti let s cílem vysledova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významnější zde publikovaná témata spojená s problémy zem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-181080" y="0"/>
            <a:ext cx="95061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C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hodnotil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íru významnosti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jednotlivých téma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na základě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rozsahu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věnovaného v magazínech danému tématu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místa otištění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společenské závažnos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použil např. Statistical Abstracts of  the U.S., kde bylo uvedeno např. množství vojáků působících ve Vietnamu apod)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-6120">
              <a:lnSpc>
                <a:spcPct val="80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rovná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ztahu mezi veřejným míněním a intenzitou mediálního pokry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vztahu mezi mediálními obsahy (mediálním obrazem) a realito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tvrdil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silnou korespondenci mezi veřejným hodnocením významnosti problému a četností  zpráv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 těchto problémech uvedených v médiích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80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144000" cy="871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200160"/>
            <a:ext cx="9144000" cy="70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nalýza stavu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realit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lastního obsahu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médií již neprokázala silnou korespondenci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ÉMATA, KTERÁ PŘEDEŠLA REALITU: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ietnamská válka, městské nepokoje, studentské bouře (o rok resp. o dva se předběhlo)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ÉMATA, KTERÁ ČASOVĚ KORESPONDOVALA: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rogy a inflac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ávěr této studie naznačuje velkou důvěru v média, ale nepotvrzuje schopnost médií korespondovat zcela s realitou resp. pokrývat vždy témata, která jsou aktuálně nejdůležitější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ýzkum neposkytl jednoznačnou odpověď na otázku odkud témata přicházejí.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cCombs a Shaw  (1977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zkum v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everní Karolíně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době volební kampaně. Pokusili se odpovědět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a otázku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o jaké míry lze chápat vztah mezi mediální agendou a vnímáním vybraných aspektů sociální reality jako výsledek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auzálního vztah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otazovali respondenty v rámci panelového šetření několikrát v průběhu kampaně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ýslede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ení jednoznačně průkazný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ale studie naznačuje, že slabý kauzální vliv mediální agendy existuj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TYPY ZKOUMÁNÍ MEDIÁLNÍ AGENDY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analýza agendotvorných obsahů a mechanismů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jak se daná událost stává součástí mediální agendy (Kdo nastoluje agendu?)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analýza vzájemného vlivu jednotlivých typů agen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1/ JAKÉ MECHANISMY ZESILUJÍ PÚSOBENÍ MEDIÁLNÍ AGENDY - PRIMING, FRAMIN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2/ PROMĚNY AGENDY V Č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-146160"/>
            <a:ext cx="9144000" cy="658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7928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ákladní kategorie ovlivňující mediální obsa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dividuáln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- osobní profesionální background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mediální ruti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- každodenní praxe, rutinní principy výroby zprávy, prostorové a časové mož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rganizační vliv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principy generování publika jako       generování zisk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vlivy vnějších nátlakových skupin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  vládních i nevládní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5/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vliv dominující ideologi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D A1/PRIMING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viditelňování či zdůrazňování témat či jejich atribut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iming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proces, v rámci kterého věnují médi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ozornost jen některým problémům zatímco jiné pomíjejí, a tak definují standardy na základě kterých se pak voliči rozhoduj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Územně správní uspořádání, ombudsman, církevní restituce, morálka, politická kultura, zralost politiků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édia ovlivňují např. volební cho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ím, že určí předvolební agendu tím, že definuj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ritéri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 na základě kterých budou strany či kandidáti posuzován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0764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Čtyři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podmínky, za kterých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stoupá rozsah mediální pozornosti určité události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252720" y="980640"/>
            <a:ext cx="9396360" cy="5877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izpůsobení média hlavnímu toku událost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líčovým událostem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řetrvávání stejného vzorce –„čím stejněji tím lépe“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dměrná pozornost významné, ale neobvyklé zpráv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Přepjatá pozornost zavánějící senza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elektivní zpravodajstv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zdůraznění významných aspektů dané události a potlačení těch nevýznamný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vorba pseudo udál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ezentace ne příliš významné zprávy způsobem definujícím ji jako zásad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ůsobení médií má vždy více či méně politické důsledk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a mikro rovině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– zaměřeny na jednotliv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a makro rovině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– zaměřeny na celý politický systé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formování kognitivních účinků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výzkum nastolování agendy, priming, získávání vědomostí – knowledge gap, fraiming, mediální kultivace)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formování a změna míně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resp. vliv médií na politické chování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People´s Choice, spirála mlče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ZKUM: (Iyengar, 1981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ztah mediálního obrazu J. Cartera a jeho hodnocení ve vztahu k tomu jak (ne) řešil problém inflac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kázal se silný vztah mezi mediální prezentací tématu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fla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 hodnocením, které vystavili respondenti-voliči americkému presidentovi J. Carterovi za (ne)řešení tohoto problém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oliči hodnotili Cartera podle témat, kterými se média momentálně zabýval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VÝZKU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: (Iyengar, Peters, Kinder, 198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genda v simulovaném televizním zpravodajstv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vě skupiny respondentů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rvní sledovala upravené televizní zpravodajství, ve kterém bez vědomí respondentů bylo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zakomponováno jedno téma navíc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–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SLABOST NÁRODNÍ OBRANY SPOJENÝCH STÁTŮ“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Kontrolní skupina sledovala běžné zprávy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1/První den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před promítáním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vyplnily obě skupiny dotazník,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kde seřadili podle důležitosti vybrané společenské problém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Po té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ět dní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sledoval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hlavní zprávy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(upravenou a neupravenou verzi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3/ Šestý den vyplnily opět dotazník a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seřadili opět stejná témata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Jednoznačně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stoupla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ýznamnost obranné problematiky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ve skupině, která obdržela upravené zpravodajství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Zatímco v kontrolní skupině význam tohoto tématu ještě klesl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ZKUM: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Wayne Wanta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98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elikost fotografie jako atribut mediální agendy v tištěných médií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DESIGN VÝZKUM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Wanta se pokusil prokázat vliv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elikosti fotografi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oprovázející text na recepc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mediální agen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užil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ři článk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tištěné n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tulní straně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jich  téma se týkalo problematik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árodní obrany, b/ znečištění životního prostředí c/ krize amerických farmářů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aždý článek měl verzi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s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elkou fotografi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cca 25% tištěné plochy dané strany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alou fotografi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cca 10% tištěné plochy dané stran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ez fotografi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užil metodu pre/post testu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stoval tři skupin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respondentů. Každá měla k dispozici jednu z grafických verzi (velká, malá, žádná fotografi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spondenti na počátku vytvořili vlastn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řadí klíčových problémů země. Bez znalosti uvedených text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Po t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ostali k dispozic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různé grafické verze článků s jednotlivými tématy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Následně byli r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spondenti požádáni, ab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estavili pořadí klíčových problémů země ještě jedno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ýsledkem byl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označné upřednostnění témat s velkou fotografi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Menší fotografie též mírně zvyšovala rating daných závažnosti problému 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xty bez fotografie neměly žádný účinek.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Wantova studie o významu fotografií  doprovázejících text je zařaditelná pod kategorii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isibilit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mediální agend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AKOU PLNÍ MEDIÁLNÍ AGENDA FUNKCI?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ediální agenda nepůsobí na každého jedince stejně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J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inci se odlišují tím, do jaké míry se potřebují v dané oblasti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rientovat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nakonec může rozhodnout o tom zda agenda bude mít vliv či 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řeba orientace je postavena na dvou faktore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relevanci informace pro dané individu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íře nejisto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kterou subjekt zažívá při přijímání zprávy, míře nepochopení či nedůvěře k daným faktů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ucker rozlišuje mezi téma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se, kterým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áme nebo můžeme mít zkuše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např. nezaměstnanost, bezdomovectví, nemoc, které nazývá jako témata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lízká (obtrusiv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a tématy,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kterými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žádnou přímou zkušenost nemám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jen těžko můžeme mít (vědecké experimenty, komplikované ekonomické operace, exkluzivní umělecké zážitky apod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Čím menší je zkušenost s daným tématem, tím vyšší je pak závislost na médiích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DESIGN VÝZKUMU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Zucker, 198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ucker komparoval tři téma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s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sokou mírou přímé zkušenost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zaměstnanost, životní náklady a kriminalit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 tématy nízkou zkušenost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nečištěním životního prostředí, užívání drog, energetická kriz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nožstv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skytu jednotlivých téma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 TV získal z Television News Index za posledních osm let (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indikátory skutečnost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). Hodnocení závažnosti každého tématu získal z pravidelných Galupových měření („co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závažnější problém života v USA“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věr skutečně potvrdil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vliv mediální agendy byl vyšší v případě zpráv s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malou zkušeností.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inými slov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latí, ž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ím je informace relevantnější 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čím je nejistota větš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, tím je potřeba orientace (prostřednictvím médií) silnější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ím větší je tato potřeba orientace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tím větší je i vnímav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ůči mediální  agendě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cCombsovo téma potřeby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orient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atří do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eřejné agendy a kategorie individuální relev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kazuje se možnos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pojení mechanismu agend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terá funguje především v případě méně zažitých zpráv s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odelem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dvoustupňové komunik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terá je významná právě v případě speciálnějších téma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mbinace těchto dvou principů tak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objasňu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existenci přímých účinků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deklarovaných výzkumem druhé výzkumné etap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metodologicky chybné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edpokládat, že účinek mediální agendy funguje pro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šechna témata stejn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1564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ÍCESTUPŇOVÁ TEORIE KONSTRUKCE</a:t>
            </a: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DIÁLNÍ AGENDY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Gladys  Langová, Kurt Lang, 1983)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72836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kusili demonstrovat, že hypotéza mediální agendy je mnohem komplikovanější, a to v tom, že se rozvíjí v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ěkolika krocí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o ilustraci této teze využili obsahovou analýzu mediálního pokrytí aféry Watergate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Langovi rozlišují šest na sebe navazujících eta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tisk označu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událost jako významnou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ddělí ji od ostatních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každá událost vyžaduje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jiný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yp mediálního pokry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dle toho, zda s ní mají čtenáři osobní zkušenost (v případě Watergate šlo o událost/zprávu s minimální možnou zkušeností). Proto bylo v tomto případě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ychlé a velmi intenzivní zpravodajské pokrytí, aby přineslo pozornost veřej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aždá taková zpráva musí bý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arámována tj. musí dostat význam v rámci, kterého jí budou čtenáři rozumět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ato byla od počátku definována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ranický spor. J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jí definice byla od počátku jednoznačná. Posléze bylo proto obtížné j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kódovat jako synonymum rozsáhlé politické korupce v U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GENDA SETTING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/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NASTOLOVÁNÍ MEDIÁLNÍ AGENDY, KONSTRUKCE MEDIÁLNÍ AGEND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/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éma mediální agendy se objevuje v situaci, kdy narůstá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spokojenost s teorií omezených mediálních účink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která hovoří  o posilování již držených postojů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lká část výzkumníků došla k tomu, ž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hledá účinky na špatném místě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zn. že je chybou soustřeďovat s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pouze na postojovou konverzi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ůležité j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užití jazyk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é výrazně ovlivňuje percepci zprávy její přitažlivost. V případě Watergate je objevovalo několik prvních měsíců jazykové označen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aper - krádež, lup, zločin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é postupně sláblo až došlo k překódování celé události n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candal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– skandál, veřejnou ostudu, veřejné pohoršení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é má v americkém slovníku silnější význam a činí zprávu důležitěj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5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Média vždy musí u takovýchto zpráv spojit událos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zv. sekundárními symboly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jsou v daném politickém prostoru či politické kultuře snadněj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dentifikovatelné, pochopitelné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umožnit tak publiku, aby zaujal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hodnotící pozici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případě Watergate šlo o sekundární symboly -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ávo na informace, důvěra ve vlád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6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genda akceleruje, když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sonifikován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dyž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 daném tématu začne hovořit nějaká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namná osobnost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 případě aféry Watergate šlo o vystoupení soudce Johna Sirica, který prohlásil v NYT, že veřejnosti nebyla sdělena pravdivá fakta o celé aféř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D B/ KDO NASTOLUJE AGENDU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o jsou základní zdroje ovlivňující mediální obsa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zkum nedává jasnou odpověď na klíčovou otázku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auzalit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j. zda mediální agenda ovlivňuje názory publika či naopak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nejobecnější rovině platí, že je to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ociální realit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ve které se my i média pohybujeme a současně ji tvoříme i reprodukujeme. Faktem však je, média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nereprezentují realitu zcela věrně,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resp. mediální sdělení čast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korespondují s realito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Funkhouser, Zucke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ÝZKUM: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rosius a Kepplinger (199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kusili se odpovědět na otázku,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do je iniciátorem, nastolovatelem agendy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cházeli přito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z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ýdenních průzkumů veřejného míně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ýkajících 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íry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ávažnosti 16 vybraných společenských  té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bsahové analýzy hlavních zpravodajských relac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sílaných v prime time v 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ěmeckých TV. Sledovali zde frekvenci a výskyt stejných problémů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teré indikovaly výzkumy veřejného míně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eloroční analýza prokázala dva směry působ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1/od médií k veřej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témata: „dodávky energie“, „národní obrana“, „ochrana životního prostředí“, „proevropská politika“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2/ od veřejnosti k médií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– témata: „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ůchody“, „obecná bezpečnost občanů“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ávě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édi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sou schopn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vlivni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eřejné míněn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pokud se jedná o velmi intenzivní pokrytí problému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íce než třicetkrát za měsíc), kter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áhle narůstá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 naopak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eřejná agenda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ovlivňuje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mediální obsahy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hdy, když je problém dlouhotrvající, jeho význam stoupá  pomalu, ale stabiln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-252720" y="0"/>
            <a:ext cx="939636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lnSpc>
                <a:spcPct val="8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VÝZKUM: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(Hans Bernd Brosius, Gabriel Weinmann,199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Nastolování agendy podle dvoustupňového modelu.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dentifikovali v procesu mediální konstrukce existenci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dvoustupňové komunikace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inými slovy,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rokázali, že i někteří členové publika mohou být odpovědni za nastolování mediální agend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ostupovali tak, že mezi léty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1990-93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identifikovali zpravodajské kauzy/ témata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, která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pokrývaly hlavní televizní zpravodajské relace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Současně prováděli každý měsíc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výzkumy veřejného míněn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kde se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dotazovali populace, které problémy považují za nejdůležitější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8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V průběhu dotazování identifikovali tzv.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ANTICIPÁTORY/ ČASNÉ OBJEVITELE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(early recognizer), kteří byli schopn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dhadnout význam určité kauzy dříve než většinová populace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a současně toto odhalení distribuovali dále, a tak de facto ovlivňovali mediální agendu.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EZIDENTSKÁ AGENDA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Speciální případ v tzv. prezidentských systémech např. v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e Spojených státech, kde jedním z klíčových nastolovatelů  agendy president. (Zpráva o stavu unie)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tváření agendy jsou aktivity vyvíjené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samotnými prezident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ři volebních kampaních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edy aktivity směřující k vytváření obrazu, který je požadová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íklad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onald Reagan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e své druhé volební kampani cílil mimo jiné též na otázky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životního prostředí.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aplánoval si spanilou jízdu Spojenými státy, aby demonstroval úspěchy své vlády v tomto období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oviny pak byly plné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fotografií presidenta v různých národních parcích, na farmách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apod. I když ochránci přírody protestovali proti výsledkům Reaganovy politiky životního prostředí, přesto podle výzkumů veřejného mínění zvedla tato kampaň jeho kredit i v této obla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George Bush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dobně manipuloval vlastním obrazem při volební kampani v roce 1988, kdy si vytýčil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ediálně atraktivní plán nabídnou  denně jednu atraktivní reportáž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íklad přijel do bostonského přístavu a jen tak mimochodem upozornil na špínu a nepořádek, který zde panuje s jasnou narážkou na tehdejšího bostonského starostu a Bushova protikandidáta Michaela Dukaki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-324000" y="0"/>
            <a:ext cx="9792000" cy="7245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VÝZKUM: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(McCombs, Gilberg, Nicholas, 198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Obsahová analýza druhé Carterovy zprávy o stavu unie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ostupovali následně tak, ž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A/ Vybrali z této zprávy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sm klíčových témat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B/ Následně provedl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bsahovou analýzu tisku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a to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čtyři týdny před a čtyři po přednesení zpráv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Korelace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mez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rezidentskou agendou a následnou mediální agendou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byly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slabší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než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B/ korelace mezi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prezidentskou a pre mediální agendou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Závěr studie hovoří o tom, že to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nebyl Carter, kdo  tvořil mediální agendu,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ale naopak to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byla  média, která ovlivnila agendu prezidentskou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Stejný výzkum ve vztahu k Nixonově zprávě o stavu unie z roku 1970 naopak potvrdila původní hypotézu o výrazném vlivu prezidentské agendy na médi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>
              <a:lnSpc>
                <a:spcPct val="90000"/>
              </a:lnSpc>
              <a:spcBef>
                <a:spcPts val="64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Vysvětlení rozdílného dopadu presidentské agendy v obou případech spočívá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ednak v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situačních faktorech,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ednak v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individuálním  stylu politické moci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INTERMEDIÁLNÍ AGENDA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do jsou ti, kteří mají vliv na mediální obsah. Jedním z důležitých zdrojů mediální agendy jsou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édia sam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Vzniká tak fenomén, který bychom mohli nazvat jak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intermediální agenda. Speciálním příkladem j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ntermediální agenda spouštěna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hlavními tiskovými agenturam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xistuje zřetelný komunikační zpravodajský to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/ ze severu na jih, z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everního centra na jižní periferi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/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pouze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0% se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dotýká problematik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vojových zem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/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smdesát procent světového zpravodajského toku je produkován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ěti hlavními tiskovými agenturam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Tím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, že poskytují tzv. spot news a vizuální reportáže stávají se nastolovateli agendy ze svě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eciální mechanismus  intermediální agendy představuje působení velkých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TV zpravodajských stani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ROLE CNN V POKRÝVÁNÍ VÁLKY V PERSKÉM ZÁLIV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i pokrytí konfliktu užívala CNN především následující formy prezenta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tiskové k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interview poskytovaná vládními a vojenskými agentura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příběhy konkrétních vojáků či velitel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reportáž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5/ exper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6/ vox p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7/ příběhy samotných reportér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8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ZÁKLADNÍ TEZ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ASOVÁ MÉDIA NEJSOU SCHOPNA VNUTIT SVÉMU PUBLIKU CO SI MÁ O DANÝCH TÉMATECH MYSLET, ALE VNUCUJÍ NÁM TÉMATA, O KTERÝCH MÁME PŘEMÝŠLET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téza o určování mediální agendy předpokládá, že média vytvářej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vědom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řejnosti o daném tématu a strukturují  veřejný zájem. Masová média tedy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určují,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terá témata budou v té které době obzvlášť aktuální a budou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ovlivňovat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elektivní chování publika-veřejnosti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kazuje se, že masová média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vlivňují spíše pohled na svět v tom smyslu, že definují témata hodná zájmu publik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než aby se prvoplánově soustřeďovala na postojovou konverzi. Spíše tak definuj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hranice releva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Mediální konzumenti se ta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mohou považovat za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ktivní hledače informací a řešitele problém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sahová analýza válečné agendy ukazuje, že zd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dominoval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udiová prezentace či dotáčk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mimo vlastní situaci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více než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lovina sdělení byla ze studi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Zbytek byl převážně z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skových konferencí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/ živé pokrytí válk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prezentovaly předevší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áběry na letící rakety Scu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/ pouz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3% pokrytí se týkala skutečné vojenské ak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pouz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o procento pokrývalo vizuálně smrt či zra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/ Celá informační manipulace se tak odehrával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střednictví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iskových konferencí skrze hlasy expertů - vojenských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LÍČOVÉ POSLELSTV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nešlo o osvobození Kuvajtu, ale varování arabských zem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CNN pokryla 100 zemí 24 hod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Laitmotivem jejich vystoupení byla tzv.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chytrá (inteligentní) technologie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íří přesně 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zabíjí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iváci byl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smerizování pohledem na Scudy přesně zasahujícími vojenské skla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HYTRÁ, INTELIGENTNÍ TECHNOLOGIE TAK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OSTALA OZNAČEN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BRA, ROZUMU A MORÁLK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SKUTEČ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pouze 7% bomb bylo chytrých, 10% z nich se minu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Irák byl podroben kobercovému bombardování, jehož tonáž překročila množství bomb svržených za celou II. světovou válk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totální destukce průmysl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milion zraněný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5/ 150 000 mrtvý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Gerbner, Movlana, Schiller: Triumf obrazu: mediální válka v Perském zálivu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ÉLKA TRVÁNÍ MEDIÁLNÍ AGEN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 dlouho trvá než se mediální agenda přesune do veřejn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áleží na témat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c Combs a Ston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přesun z mediální agendy do veřejné agendy od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vou do šesti měsíců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Witer a Eyal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nalyzovaly přesun tématu občanských práv v New York Times po dvacet let. Rychlost varioval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mez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tyřmi a šesti týd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Wanta a Shoemaker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1989)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identifikovali ve vztahu k tématu drog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vě vlny zájm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 dvou měsíců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Druhá vlna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zi 4 a 5 měsíce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anielian a Rees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1989)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rokázali, že nárůst agendy mediální agendy „drogy“ 1985-86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korespondoval s jejich vyšší konzumací, či většími skandály, problémy, ale, že byl nastartován tlakem NYTimes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roveň prokázali, že agendotvornější jsou tištěná méd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ŘI TYPY AGENDY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(Mannheim, 1987)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astolování agendy má dynamický charakter a rodí se z interakce tří odlišných typů agendy: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DIÁLN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B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EŘEJNÁ,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C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LITICKÁ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987640" y="2205000"/>
            <a:ext cx="2448000" cy="100800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ÁLNÍ AGE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74680" y="4870440"/>
            <a:ext cx="2317680" cy="934920"/>
          </a:xfrm>
          <a:prstGeom prst="rect">
            <a:avLst/>
          </a:prstGeom>
          <a:solidFill>
            <a:srgbClr val="000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OLITICK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48360" y="4903920"/>
            <a:ext cx="2232000" cy="104616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EŘEJN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268000" y="3213000"/>
            <a:ext cx="1008360" cy="158436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92360" y="5373720"/>
            <a:ext cx="165600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8360" y="3213000"/>
            <a:ext cx="1008000" cy="16560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39337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DIÁLNÍ, VEŘEJNÁ A POLITICKÁ AGENDA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 (DEARING, ROGERS, 1996 – modifikované schéma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28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EDIÁLNÍ AGENDA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bsah a jeho průnik do agen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EŘEJNÁ AGEND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hierarchie významnosti témat ve společnosti/veřej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LITICKÁ AGEND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výsledek působení mediální a veřejné agendy. Nevyčerpává ale všechny intervenující proměnn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ákladními mechanismy, které se podílejí na konstrukci mediální agend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kvantit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frekvence a pokryt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redakční člen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íra konfliktnosti zpráv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působení zprávy v čas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trvá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HISTORICKÉ SOUVISLOSTI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Často uváděným příkladem významné role mediální agendy ve vztahu k veřejnému mínění je volba amerického presidenta, kdy byl poměr voličských preferencí mezi Carterem a Reaganem velmi těsný. Významná americká média v tuto chvíli  začala referovat o možnosti, že b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Američané držení v Iránu jako rukojmí mohli být propuštěni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Reagan pak následně vyhrává volby s velkým náskoke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ediální analytici  upozornili na to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edializace tématu rukojm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bylo obecně vnímáno jako příkla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hybné strategie zahraniční politiky či přímo neschopnosti Carterovy administrativ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bylo jednou z rozhodujících příčin jeho volební proh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dy média neříkala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volte Cartera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l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mýšlejte o této konkrétní kauze“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VÝZKUM: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Mc Combs a Shaw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97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936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vní výzkum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ovedli v Chapel Hill v severní Karolíně v průběhu volební kampaně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936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svou analýzu zvolili voliče, kteří se deklarovali jako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rozhodnutí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100). Předpoklad, že se budou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ýrazněji zajímat o informace týkající se prezidentských voleb a že se budou snažit reflektovat celé názorové spektrum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9368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yto respondenty pak dotazovali n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ejzávažnější problémy země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jich odpovědi byly následně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ategorizovány na tzv. problémy hlavní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edlejš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93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08:11:46Z</dcterms:created>
  <dc:creator>JV</dc:creator>
  <dc:description/>
  <dc:language>en-US</dc:language>
  <cp:lastModifiedBy>JV</cp:lastModifiedBy>
  <dcterms:modified xsi:type="dcterms:W3CDTF">2010-12-02T08:15:22Z</dcterms:modified>
  <cp:revision>6</cp:revision>
  <dc:subject/>
  <dc:title>3. PÚSOBENÍ MÉDIÍ A POLITICKÁ KOMUNIKACE</dc:title>
</cp:coreProperties>
</file>