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EDD9-A3C0-4D19-B07E-73EDE828D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D3D6-1D6A-4798-BA29-1EEF2E45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B6D8-BD33-4350-B875-B057093A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F9AE-6D17-4F91-91C4-08C9F5B9B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D00D-379F-4ACB-9AB0-8EDC0FD23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5BBB-CE12-44B2-AEF4-8184EDE3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67F9-980C-460E-94A4-E4C29C71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A947-C48E-4135-9C47-D5C0732F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66FB-2EFC-4392-A412-553B2324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D602-0EE7-4D72-BB9B-491C86D0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3668-47A3-4152-947A-8035900A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946D-24CE-46B9-8C87-5066E2EF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DEEC-7010-4CEF-8AAF-2F40AAE4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1C8C-6DC8-4FEA-9AE7-ABF73B8B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ADE4-F2BD-497B-AF5A-8672CCBD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3601-A5D3-4C42-99C1-B1B1787B5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D11E-D487-4C12-BED4-88711AC8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8C9C-242E-4132-8D41-17F5E5F5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5B43-CAEA-435A-809F-68C8DC0D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39D5-A438-4686-AF00-07974C56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8FCF-30FD-4154-8E28-BE4CD6F8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8450-EC70-48A7-81F2-6E1D5267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03EC-6A10-4D26-BAC7-369024EC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D558-2C6F-4AFA-ACF4-6A79AB2F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80AD-B244-42B5-8187-5208796FD3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F738-A3CB-46C1-BF70-CB2CE825AE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IV. KAPITOLA: SOCIÁLNÍ PERCEPCE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eorie sociální percep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klade na první místo v procesu vnímání sociální zkušenost jedince a obecně sociální faktory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rozdíl od neurofyziologie, která se soustřeďuje především na stav receptorů individua a na vlastnosti vnímaných objektů).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2997360"/>
            <a:ext cx="9144000" cy="386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V důsledku existence sociálních faktorů, sociální zkušenosti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vidíme „věci o sobě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le máme tendenci vnímat to, co konven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ašim potřebám a očekávání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Percepce a interpretace skutečnosti je určována aktuálními motivy, respektive zkušeností a formuje se v průběhu sociálního vývoje jedi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B/ SELEKTIVNÍ POZORNOST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 takový proces, při kterém věnuje jedinec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pozornost jen těm částem sdělení, které jsou v souladu s jeh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íněním a snaží se vyhnout protichůdným sdělením. Jde o situace, kdy jedinci nejsou schopni dopředu posoudit, zda budou percipovaná sdělení v souladu s jejich  postoj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 rozdíl o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lektivní percep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jde o parciální proces, při kterém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dochází k hlubšímu zpracován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vyhodnocení informací. Vymazávání pozornosti při sledování násilných scén na TV  obrazov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89164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SELEKTIVNÍ PERPCEPC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 psychický proces, při kterém jedinec „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ypíná“ vědomou pozorno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pokud je vystaven situaci, kdy dostává sdělení, která odporují jeho postojům a naopak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zapíná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 pozornost v opačném případě. Nejpodstatnější charakteristikou tohoto psychického procesu je skutečnost, že v rámci této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nepozornosti“ ale aktivně/nevědomě přepracovává sdělení k „obrazu svému“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EXPERI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G. Allport - Postmann L.: The Basic Psychology of Rumor,194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Studie orientovaná na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téma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šíření pomluv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Pokusili se ilustrovat jak se průběhu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sociálního sdílení a šíření informace proměnilo verbální sdělení tak, aby odpovídalo existujícímu povědomí a postojům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Skupině respondentů byl předveden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obrázek ostré hádky mez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černým a bílým mužem, na kterém drží běloch v ruce břitv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a ohrožuje Afroameričana.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Probandi měli tento obráz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popsat další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skupině respondentů, kteří jej měli popsat další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t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 průběhu následných postupujících komunikačních kontaktů se b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řitva postupně přesunula z ruky bělocha do ruky  Afroameričana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teriál, který neodpovídá percepčním zkušenostem individua musí být přepracován  tak, aby odpovídal jeho osobním potřebám a zájmům.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 co bylo vnější stává se vnitřním, co bylo objektivním  stává se subjektivní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38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SELEKTIVNÍ RETENC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 tendence individua znovu si vybavit pouze ty informace, které jsou v souladu s jeho potřebami, postoji a dalšími psychologickými charakteristikami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de  o to udržet v paměti v aktuálním a vyvolatelném stavu ty informace, jež posilují názory individua a vytěsnit ty, jež jsou mu nepříjemné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EXPERIMENT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JONES, KOHLER, 1958)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Dvě skupin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stoupenci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segregace afroameričan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b/ její odpůrc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Dostaly za úkol naučit se výroky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, které byl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jednak ostře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protičernošsk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b/ a jednak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proti apartheidu, pro rasovou rovn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ásledně byla testována schopnost jak si jednotliví členové obou skupin byli schopni vybavit jednotlivé výrok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„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Segregacionisté“ jednoznačně lépe vybavovali ty výroky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které konvenovaly s jejich protičernoškými postoj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KULTURNÍ OČEKÁVÁNÍ</a:t>
            </a:r>
            <a:br>
              <a:rPr sz="24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cepci formuje předchozí zkušenost a ovlivňuje ji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ociální očekává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motivace a potřeby, nálady a postoje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141200"/>
            <a:ext cx="9144000" cy="57164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vě skupiny dětí mezi 7-9 le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z nejnižších soc. vrstev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z nejvyšších soc. vrste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ostaly za úkol nakreslit mince (od dvoucentu až po půldolar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razně větší rozměr připsaly jednotlivým mincí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ti z nejnižších vrstev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Jde o příklad přecenění sociálního faktu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: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robandi dostali v temné místnosti dva výstřižky  ze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stejného materiálu a stejné barvy (zelené):                 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„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list  jabloně“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 „oslíka“.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Oba výstřižky nasvíceny červeným kašírovacím světlem, které překrylo původní barvu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spondenti byli dotázáni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A/ „Zda jsou oba výstřižky stejně  barevné?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B/„O  jakou intenzitu barvy jde?“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Jako  „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zelenější“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byl vnímán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 „list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     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 „oslíka“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byl zdůrazňován odstín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 „do šeda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4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o člověk vnímá a jak to vnímá je dáno jeho základním zacílením. Klíčovou roli zde hra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čekávání,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ve kterém lze určit čtyři funkce: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fixaci b/ organizaci/ selektivitu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/ akcentac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820000" cy="501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fixace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list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dle pamě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pisován jako zelený, oslík jako šed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organizace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preferenc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ontu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 obou výstřižk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selektivita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z míry možných očekávání se uplatnil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en jedno vedoucí k závěru o možných barvá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4/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akcentace očekává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výsledkem je, že  dominoval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určitý způsob vním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McClelland a Atkinson, 194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ESIGN VÝZKUMU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 rámci přijímacího řízení na námořní školu – kurs pro námořníky na ponorce. Jako součást testů  prověřována i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schopnost zvládnout  alimentární depriva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Vytvořili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tři skupiny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- jedna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hladověla 16 hodin, druhá 4 a třetí hodinu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. V průběhu hladovění museli probandi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identifikovat na plátně objekty, které jim byly údajně promítány.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Dostávali   takové instrukce jako: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na plátně jsou tři objekty, popište je“.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 narůstající dobou hladovění stoupal i počet „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viděných  objektů, které souvisely s potravou“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ěříme tomu, co vidíme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 tomu tak proto, že rozvíjíme stále stejné percepční dovednosti, které nás vedou k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hodě  na „objektivní realitě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kální skeptici trvají na tom, že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není jasné zda máme nejmenší důvod předpokládat, že druzí mají cokoliv, co můžeme považovat z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olečnou zkušenost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izuální zkušenost může být dána čímsi, co si jiní nedokáží představ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agby, 1957)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Dvanáct partnerských amerických párů a 12 mexických pár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Vyjma  jediného žádný nikdy neopustil zemi, kde dlouhodob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žily i jejich rodiny. Každé dvojici promítnuto deset párů diapozitivů, které zobrazovaly 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jednu aktivitu typickou pro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(severo)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americkou kulturu (např. baseball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 pro mexickou kulturu ( býčí zápasy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Po 60s  expozici každé dvojice obrázků byli respondenti dotázáni co viděli.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ominance jednotlivých očí byla eliminována randomizací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ři experimentu byly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použity speciální /prizmatické/ brýle, které umožňují vysílat na každé oko jiný obraz. U většiny lidí je to tak, že v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řípadě komunikace dvou obrazů vidí pouze jeden nebo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občas pak jakýsi mix obojího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 To ovšem až po té co vidí jeden z obrázků samostatně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jevila s jednoznačně preference obrázků z vlastní kultu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(Toch, Schulte, 1961)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oložili si otázku,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zda ti, kteří se dnes a denně setkávají s násilím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pracovníci kriminální policie - 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budou při jeho vnímání citlivější, respektive zda jej budou vidět i v situacích, kde jej ostatní nevid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ásledně  je srovnali se studenty prvního ročníku psychologie. Oběma skupinám byl promítnut film kombinující násilné, agresivní i  neutrální scén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olicisté viděli – popisovali „viděli“  dvakrát tolik násilných scé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Lucas, 1945)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Vybraní jedinci byli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hypnózou uvedeni do dobré nálady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a bylo jim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promítnuto šest obrázků, které měli popsat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. Pak dostali v hypnóze příkaz na tyto obrázky zapomenout a byli uvedeni do depresivní nálady. Následně  jim byli promítnuty tytéž obrázky a měli je znovu pops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Popisy stejných obrázků v odlišných psychických situacích byly výrazně odlišné, a to v závislosti na náladě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Meadowcraft a Zillmann,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98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kázali, že výběr televizního žánru koreluje s fáz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enstruačního cyklu (v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remenstruační fázi volily ženy z nabídky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atisticky významně častěj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rama a naopak nejméně často komedi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10008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Politická karikatura proti předsudkům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ahoda–Cooper, 1947</a:t>
            </a:r>
            <a:r>
              <a:rPr b="0" lang="cs-CZ" sz="2400" spc="-1" strike="noStrike">
                <a:solidFill>
                  <a:srgbClr val="feec9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Analýza efektivity karikatur zaměřených proti předsudkům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o hlavní hrdina karikatur vystupoval Mr. Biggott, který s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skytoval v situacích, kdy se předsudky jevily jako směšné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orek čítal 160 bílých nežidovských dělník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ě třetiny z respondentů sadu karikatur (kampaň) vůbec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pochopilo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ěkteří dokonce tvrdili, že cílem bylo legitimovat předsudek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hápali smysl karikatur tak, že de facto ujišťoval ostatní, aby si klidně drželi své předsudky podle logiky </a:t>
            </a:r>
            <a:r>
              <a:rPr b="0" i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„jiní je mají také“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lépe rozuměli karikaturám ti, kteří předsudeční nebyl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hůře naopak ti nejpředsudečněj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JAKO KLÍČOVÝ DÚVOD NEÚSPĚŠNOSTI KAMPANĚ BYL IDENTIFIKOVÁN </a:t>
            </a: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STRACH Z NESOUHLASU REFERENČNÍ SOCIÁLNÍ SKUPINY</a:t>
            </a: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. PŘESNĚJI </a:t>
            </a:r>
            <a:r>
              <a:rPr b="1" lang="cs-CZ" sz="2300" spc="-1" strike="noStrike">
                <a:solidFill>
                  <a:srgbClr val="ffff00"/>
                </a:solidFill>
                <a:latin typeface="Times New Roman"/>
              </a:rPr>
              <a:t>OČEKÁVÁNÍ </a:t>
            </a: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 NESOUHLASU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Zesměšňování předsudků není efektivní. Satirické karikatury jso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cipován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na základě vlastních postojů. Výsledkem pak je, ž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DÉ S PŘEDSUDKEM VNÍMAJÍ V KARIKATURÁCH SVÉ VLASTNÍ POSTOJE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2465280"/>
            <a:ext cx="9144000" cy="4392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ÁVĚRY JEDNOTLIVÝCH STUDIÍ NAZNAČUJÍ, ŽE 1/5 - 1/3 RESPONDENTŮ JE IMUNNÍ VŮČI UVEDENÝM SELEKTIVNÍM MECHANISMŮ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ecným závěrem pak je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omerční charakter masové komunikace si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vynucuje produkci jen těch postojů a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hodnot, proti nimž obecně není námitek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asově komunikační prostředky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íce posilují  status quo než způsobují postojovou změn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ORIE PERCEPČNÍHO SCHEMATU (DORIS GRABER, 1988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6480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ercepční  sché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estává z jistého organizovaného vědění, které 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ýká   konkrétní/h situace/í a individuí. Toto věd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abstrakcí jistých původních zkušenost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 Jde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akýsi předem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řipravený skelet-matri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do kter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sou vkládány nové inform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raberová říká, že lidé jso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ognitivní lenoš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(„skrblíci“)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/cognitive misers/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sou mentálně pohodlní, a to i pro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o, že mají omezené schopnosti zpracovávat komplexní informace a rychle se uchylují k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ytváření simplifikovaných mentálních modelů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94920" cy="34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Graberová analyzovala percepční zpracování hlavních zpráv v denících a v TV. Objevila různé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rategie jak se lidé vyrovnávají s novými mediálními informacemi.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kladní mechanismus označuje jako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PŘIPODOB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matching). Nová zpravodajská informace je přizpůsobena  schématu vytvořenému na základě předcházejících zpráv (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ten Zeman to je celej Klaus“ apod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).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nto mechanimus funguje jednak jako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3357360"/>
            <a:ext cx="91440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ouběh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(interference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stých událostí n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ákladě aktuální věcné podobno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příměří v Libanonu nebude mít dlouhého trvání neb v S. Irsku to taky dlouho nefungoval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vícenásobná integra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 několika schématy či dimenzemi těchto schémat /zpráva o vstupu d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U j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 vztahována k témat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zaměstnano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našeho potenciálního ohrožení z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ěmecka, resp. sudetských Němc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ímé spojování zpráv s danými schématy je výrazně ovlivněno mechanismem, který Graberová označuje jak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cueing“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(dát narážku, podnět k jednání). Tento mechanismus spouštějí média prostřednictví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tulků, hedlajnů, grafiky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apod.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příklad řazení zpráv realizované tímto způsobem vede k tomu, že po zprávě o našem připravovaném vstupu do EU následuje úvaha o tom, že Němci vykupují pozemky v Čechách (témata jako přemalování šipek na silnici, velikosti včelařských rámečků, nezaměstnanost apod.)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9144000" cy="2133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SHRNUTÍ STUD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DÉ MAJÍ SKLON PŘI KONZUMACI MEDIÁLNÍ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DĚLENÍ UKLÁDAT V PAMĚTI ZÁVĚRY VYPLÝVAJÍC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Z DŮKAZŮ, ALE NE DŮKAZY SAMOTN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d termí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ktivní percep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ůžeme zahrnout percepční mechanismy, které jistým způsobem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vlivňují, posouvají či zkresluj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ůvodní informa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to mechanismy, ale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nefungují uniformě u každého individ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IV.1.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LEKTIVITA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 JAKO JEDEN Z KLÍČOVÝCH PERCEPČNÍCH MECHANISMÚ</a:t>
            </a:r>
            <a:br>
              <a:rPr sz="2600"/>
            </a:br>
            <a:br>
              <a:rPr sz="2800"/>
            </a:br>
            <a:endParaRPr b="1" lang="en-US" sz="2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Existují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ři základní teori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vysvětlující percepční mechanismus, respektive selektivitu při vnímání.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teorie uče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rá vychází z představy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že jsm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acionálními živočich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ří svá rozhodnutí či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základě nejlepších informac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které jsou k dosaž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teorie konzisten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resp. teorie kognitivní disonance)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rá vychází z toho, že jsm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acionalizující a ne racionální živočichov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roto reagujeme většinou na sdělení tak, že se při jeho přijímáni nebo nepřijímá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nažíme vždy ospravedlnit a ochránit naše již existující mínění, postoje a ch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funkcionální teori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ředpokládá, že přijímáme nové postoje v situac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dy naplňují nějakou naši potřebu, respektive, že udržujeme své postoje do té doby dokud jsou pro nás užitečn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TYTO TEORIE SE NEVYLUČUJÍ, ALE JSOU TŘEMI RŮZNÝMI ZPŮSOBY VYSVĚTLENÍ REAKCÍ V NAŠEM PŘÍPADĚ MEDIÁLNÍHO PUBLIK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Selektivní expozice, B/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ktivní pozornos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/ Selektivní percepce, D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ktivní reten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 Některé informace, které jsou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dnoznačně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přijatelné nepřipustí individuum hned na počát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 V případě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xu přijatelných a nepřijatelných sdělení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ěnuje pozornost pouze přijatelný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/ Pokud projde informace dále nastup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elektivní percepce při vlastním dekódování sděl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/ Pokud ani v tomto případě není selektivní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formace zastavena nastup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echanismus selektivního vybav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A/SELEKTIVNÍ EXPOZI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- je tendence individua vystavit se takové komunikaci, která je v souladu s jeho postoji. Tedy více či méně vědomě unikat sdělením s nimiž nesouhlasí  a naopak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tikuřáckou kampaň nejvíce sledují nekuřáci.</a:t>
            </a:r>
            <a:br>
              <a:rPr sz="2800"/>
            </a:br>
            <a:br>
              <a:rPr sz="2800"/>
            </a:br>
            <a:r>
              <a:rPr b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TEORIE KOGNITIVNÍ DISONANCE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jem selektivní expozice  je jednou z hlavních derivací Festingerovy teorie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ognitivní disonance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av kognitivní disonance nastává tehdy, když je jedinec nucen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astávat současně dva či více názorů, postojů či mínění, které jsou ve vzájemné opozici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Teorie kognitivní disonance tvrdí, že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v disonance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lačí individuum k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rychlé změně</a:t>
            </a:r>
            <a:r>
              <a:rPr b="0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by se zbavilo tohoto nepříjemného pocitu. Individuum mů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estat kouřit neb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opak vytěsnit důvěryhodnost inform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 tom, že kouření vede k rakovině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kud to není možné musí hledat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oplňující ospravedl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ro původní postoj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. přesvědčit se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isk plynoucí z kouř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pro něho mnohem důležitější než potenciální nebezpečí z rakovin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řešit takovou situaci duševní nepohody znamená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měnit vlastní  postoj tak, že jej konformizujeme s veřejným chování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tzn., že musíme najít materiál  pro racionalizaci nechtěného postoj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Když se individuum ocitne v situaci, kdy je nuce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dnat veřejně, tak, že je to v rozporu s jeho vnitřními postoji a představami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, zakouší v této situaci stav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disonance jak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sychické nepohody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orie kognitivní disonance vychází z toho, že individua se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 pokoušejí zbavit disonantních pocitů, B/ mají tendenci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ktivně se vyhýbat  takovým informacím, které produkují disonanci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mu slouží mechanismus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ELEKTIVNÍ EXPOZICE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ypotéza selektivní expozice má dvě komponenty. Předpokládá, ž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 se budem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ktivně vyhýbat či budeme méně vnímaví k informacím,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jež jsou v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pozic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ůči našim postojům, míněním, ch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udeme vyhledávat takové informace, které podporují naše postoje, mínění a chová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kud by tato hypotéza  platila, pak by to znamenalo, ž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akákoliv persvaze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akékoliv mediální působení se setkává s již přijatými a schválenými postoji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Účinkem by pak mohlo být pouz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sílení stávajících postoj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J. Klappe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oučasný výzkum se soustřeďuje na analýzu podmínek,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kdy budou opozitní informace vyhledávány či preferovány před informacemi, které potvrzují námi držené postoj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pokud půjde o význačnou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novou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informaci jejíž vysoká hodnota je předpokládán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očekávání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Dále hraje roli zábavnost informace a osobní relevance pro publik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 pokud je informace vnímána jak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užitečná pro řešení problém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/ pokud si je člově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istý ve svých postojíc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neobává se jejich zpochyb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/ lidé se nevyhýbají nepříjemným informací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kud s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acházejí v situaci,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e skupině, kde je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otevřenost vysoce hodnocenou kvalit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/ naopak vyhýbají se takovým informacím, které j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dnoznačně podporuj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v jejich pozici, a to pokud se v té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ozici necítí jis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7:23:55Z</dcterms:created>
  <dc:creator>JV</dc:creator>
  <dc:description/>
  <dc:language>en-US</dc:language>
  <cp:lastModifiedBy>JV</cp:lastModifiedBy>
  <dcterms:modified xsi:type="dcterms:W3CDTF">2010-10-21T08:33:38Z</dcterms:modified>
  <cp:revision>11</cp:revision>
  <dc:subject/>
  <dc:title>III.3. REKLAMY JAKO GESTALT</dc:title>
</cp:coreProperties>
</file>