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E02C-F45A-4A16-8B37-188E0364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815-55BF-4EA7-9442-9BC93DA9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51D-8C61-4D9E-98E5-191B3068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B41-5C07-4638-B27A-A71F0AD4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C0BB-047A-45A3-A378-1FF17C34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ABAB-314A-4496-B78E-6D6FC63F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6B60-1540-4466-B8FA-EFE8E940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4B95-8B69-4486-A34E-AD8446FA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B2DC-56CC-4B24-B5D7-2C577574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5B8C-22AD-4AB8-9EE4-A34ED79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62E2-5DD8-4A47-AE7A-8318AD90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C6C-0D30-4127-AF13-CC22B108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7F81-2634-492F-BFE8-B255CFF3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EE11-3C7E-482B-9347-8B60480F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DFEA-4E1F-4387-9095-A247514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54ED-C3B7-4C9C-AF81-D2F1D318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A920-42A5-439F-81C4-F09DEF50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9C9-7055-4BBD-B397-C755D557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95F-7BDC-4853-981B-0E0DA975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944-F884-4515-8423-4122B570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396-2708-4902-95A7-56B702DF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70C2-53A6-425A-8C02-3276929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622-4C67-4E10-85DD-26AF389F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FBEE-312E-4831-8908-0E088FAD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C768-FC10-46C0-9704-2C686F20D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7C90-FB68-4A26-A1E5-E67AFB8C72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9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. T E O R I E   P Ř E S V Ě D Č O V Á N Í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(PERSVAZE, PERSUAZE)</a:t>
            </a:r>
            <a:br>
              <a:rPr sz="2800"/>
            </a:b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kutečnými manipulátory jsou naši vnitřní přisvědčovatelé – naše chutě, naše strachy, marnivost a ješitnost, které zručný manipulátor využívá.“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vazivní komunikac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představuje pouze jeden z typů masového komunikování. Jde ale o typ vysoce frekventovaný. Jeho cílem 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ormovat postoje, respektive způsobit postojovou změnu (konverzi) u objektů, na které daná komunikace cíl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 persvaze se odlišuje od jiných typů výzkumu mediálního působení především v tom, že analyzuj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mýšlené, intencionální působe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ina typů mediálního působení je ovšem nezáměrná a spouští tzv. nezamýšlené důsledky/působ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GNITIV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možňu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ukturovat zkušenost tak, aby se nám jevila jako smysluplná a srozumitelná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Zkušenost je proto v postojích reorganizována tak, aby byla vnímána jako konzistentní, bezrozporná. Klasickým příkladem jsou náboženské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3112560"/>
            <a:ext cx="9144000" cy="374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ohoto typu postoje je třeb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otevřít nějaký starý problém, který nebyl nikdy dořešen a dotknout se všech souvislostí, které se na něj váž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poskytnout k jeho řešení ambivalentní informace nebo změnit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nabídnout více významných informací o daném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.1. EFEKTIVITA PŘESVĚDČOVACÍHO AKTU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zkumem přesvědčovacího mechanismu se zabývali již v 50. letech Hovland, Janis a Kelley, kteří kategorizovali sílu informačních zdrojů (sociální kredit zdroje informací) u vysokoškolských studentů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9144000" cy="388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ako klíčové označují následujících pět proměnný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povaha mater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prostředí jedi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osobnost (sugestibilita, inteligen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/ mínění většiny (má větší vliv než mínění expertů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/ emocionální argumentace je vlivnější než racion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Á KONVERZ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tává většinou u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utráln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mbivalentní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toj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řídka u vyhraněný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Významný vliv má referenční skupin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kutečněn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tojové změny se musí odehrávat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ě.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jprve spíše navozováním neutrálního postoje a pak protikladnéh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nak nastává tzv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umerangový efek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ŘÍKLAD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diální kampaně zaměřené na změnu postoje vůči Rómům zdůrazňující negativní (rasistické) vlastnosti majoritní populace spouštějí „bumerangový efekt“ i u tzv.slušných občan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HLAVNÍ FAKTORY OVLIVŇUJÍCÍ EFEKTIVITU PŘESVĚDČOVACÍHO 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vland, Janis a Kelley definovali v prác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Communication and Persuasio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4 klíčové atributy ovlivňující efektivitu přesvědčovacího akt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EMA 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/ KREDIBILITA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a zdroje kredibility jsou považovány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polehliv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XPERTN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ychází z jistého odborného školení, zkušeností, inteligence, profesionálních schopností a sociálního statu. Ti, kteří preferují expertní soud a nechají se jím ovlivnit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3212640"/>
            <a:ext cx="8642160" cy="3645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jsou většinou lidé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racionálně řešící problém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de o jedince, kteří se snaží co nejvíc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blížit své postoje vnější realitě či reálnému svě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při takovém ovlivnění většino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internalizují nový postoj, který se pak stává rezistentním vůči změně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SPOLEHLIV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je dána důvěrou publika v to, že komunikátor je motivován k tomu komunikovat své sdělení bez falše. Tedy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olehlivý zdroj nemá záměr manipulovat a nebude tedy mít žádný zisk z toho pokud jeho doporučení bude publikum akceptova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Prodejce automobilů, který jezdí ve své značce je jen zřídka vnímám jako spolehlivý zdroj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tní a spolehlivý zdroj je vnímán jako kredibiln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VLAND a WEIS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ovali za pomoci faktorové analýzy dva klíčové faktory"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upřímnos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trustworthiness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věrohodnost).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„The Influence of Source on Communication Effectivness“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1951)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FAKTORY KREDIBILITY (WHITEHEAD,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1968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65 sémanticky diferentních poj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aktorovou analýzou pak došel ke čtyřem dominantním faktorům, které definují kredibilitu zdro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olehlivos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dobrý/špatný,čestný/nečestný,spolehlivý nespolehlivý, spravedlivý/nespravedliv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fesionalita nebo kompeten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zkušený /nezkušený, má profesionální návyky/nem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ynamič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agresivní/poddajný, aktivní/pasiv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jektiv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otevřený/uzavřen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azuje se ale, že základní charakteristiky kredibilního zdroje jako je jeho status, spolehlivost, expertnos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ůsobí ve smyslu načítání jednotlivých charakteristik do KREDIBIL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ale jde o tzv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ultiplikativní či násobící účinek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dy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a charakteristika násobí účinek druh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ak se rodí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arismatiký typ persuaz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VÝZKUM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HOVLAND/WEIS, 195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IGN VÝZKUMU: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vě skupiny vysokoškoláků měli hodnotit různé názory na základě informací ze dvou typů zdrojů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dna skupina obdržela sdělení od zdrojů s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ízkým kredit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druhá od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oce kredibilních zdr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ubjektivní názor na daná témata byl měřen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na začátku experimentu - „před výzkumem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v druhém kroku respondenti obdrže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články argumentující k danému téma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 jejich přečtení byl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pětně dotazováni na stejná témat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Po měsíci bylo dotazování opaková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Témata, o které při přesvědčování šlo byla následující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ůže TV za úbytek diváků v kinech?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Respondenti obdrželi články argumentující k danému tématu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expertní názor v časopise Fortune b/ proti interwiev s  ženou z lid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Mohou být antihistaminové léky prodávány bez lékařského předpis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New England Journal of Biology and Medicine vs. b/ obrázkový časop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 nedostatek oceli způsoben ocelářským průmyslem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Bulletin of National Resources Planning Board, b/pravicový sloupkař zaměřený militantně protidělnick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sou Američané schopni postavit atomovou ponorku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špičkový fyzik Robert Oppenheimer b/ ruská Prav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ZDROJE S VYSOKOU KREDIBILITOU MĚLY       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RAZNĚJŠÍ VLIV NA ZMĚNU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HRNUT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řesvědčování je efektivní tehdy, kdy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říjemci věnují sdělení pozor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sdělení rozu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akceptují 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.1. POSTOJ A POSTOJOVÁ KONVERZE</a:t>
            </a:r>
            <a:br>
              <a:rPr sz="2800"/>
            </a:br>
            <a:br>
              <a:rPr sz="2800"/>
            </a:b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“ -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homas, Znanieck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(Polish Peasant in Europe and America 1918-20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e jsou to stálejší obecné orientace individua vůči jeho okolí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toj představuje stav pohotovosti pro určitý typ odpovědi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9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Postojem rozumí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individuálního vědomí, které determinuje reálné nebo možné aktivity individua v sociálním světě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oj je tendence odpovídat (reagovat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lad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b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porn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 určité osoby, předměty nebo situ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Postoj odráž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hotovost k aktivaci motiv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"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toj je dispozice jednat vnímat, myslet a cítit ve vztahu k dané věci (Theorore Newcomb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 měsíci se dostavil tzv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imes New Roman"/>
              </a:rPr>
              <a:t>Fenomén spáčského efektu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EMA 2</a:t>
            </a: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HOVLAND, 1942-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Jak jso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efektivní edukační filmy, užívané pro výcvik a především  zvýšení motivace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(Why we fight, Battle of Britai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toda: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rozsáhlé kvantitativní šetření na souboru 2100 respond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Tři hlavní výzkumné otázk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y faktické vědění - informa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formovaly specifické postoje týkající se Bitvy o Angli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ak zvyšovali/měnili postoje akceptace vojenské role,  vůli bojov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Hlavní zjištění výzkumu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ysoká efektivita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šíření informací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faktického charakteru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měrně úspěšný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při formování a proměně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specifických postojů ve vztahu k BITVĚ a Britům obecně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neměl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žádný vli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na motivaci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loužit v armádě či při zvyšování nenávisti k nepřítel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EDNORÁZOVÁ MASOVÁ KOMUNIKACE NEMÁ VLIV             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A SILNĚ DRŽENÉ POSTOJ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 zde se projevil  spáčský efekt (SCHEMA č.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stování postojové změny se uskutečnil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pět dnů po promítání filmu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/opakovaně 9 týdnů po promítá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aradoxně se ukázalo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ýraznější změna nastala po 9 týdnech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uálně po shlédnutí filmu nebylo sdělení tak významné, ale s přibývajícím časem nabývalo na aktuál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 z možných vysvětlení  tohoto fenoménu vychází z možnosti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ám zdroj tedy filmové médium bylo považováno za málo věrohodné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le po několika týdnech byla tat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věrohodnost zapomenu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zůstala pouze vlastní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É NEBO OBOUSTRANNÉ SDĚL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blém psychologie přesvědčování - zda sdělovat informaci pouze jednostrannou nebo zohlednit dva či více různých mnohdy protichůdných pohledů a podtrhnout pohled svůj. </a:t>
            </a:r>
            <a:br>
              <a:rPr sz="2800"/>
            </a:b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aký typ přesvědčovacích strategii/sdělení je efektivnějš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jednostranné (one-sided) nebo oboustranné (two-sided)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obhajována proto, aby nebyly vyvolány velké pochybnosti.</a:t>
            </a: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oustranná informa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ývá preferována z důvodů lepší možnosti připravit příjemce, kteří jsou proti sdělení a odblokovat možné potenciální námitk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(Hovland, 1945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ak motivovat vojáky v boji proti Japoncům v situaci, kdy válka v Evropě už skončil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ÝZKUMNÝ DESIG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ed experimentem vyplnili respondenti dotazník, kde deklarovali  očekávání „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jak dlouho bude ještě válka trvat“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prave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vě verze rozhlasových poselství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obou byla základní informace, že by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měla trvat ještě nejméně dva roky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Bylo ale využito dvou způsobů prezent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vní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j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ednostranné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selství trvalo 15 min.Argument -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álka bude pokračovat nejméně dva rok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Dále následovala charakteristika japonské armády a obyvatelst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Druhé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trvalo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9 minut a obsahovalo  popis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omplikovanosti situac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zdůrazňovalo i výhody existence pouze jednoho nepřítel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Osloveny tři skupiny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  jednostranně (one sided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2/  oboustranným sdělením (two sid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3/ žádné sdělení kontrolní skupin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sledoval opakovaný dotazník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ě testované skupiny korigovaly postoj na rozdíl od skupiny kontrolní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ezi oběma skupinami však nebyl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žádný rozdí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dělili skupinu na ty, kteří  původně předpokládal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krat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jejich odhad byl méně než 1.5 roku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ty, kteří předpokládali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víc než 1.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ERE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na respondenty, kteří původně předpokládal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delší trvání válk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 působilo efektivněji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 sděl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Oboustranné sděle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ůsobilo efektivněji na ty, kteří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čekávali kratší tr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pohled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zdělán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l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ednostranné sdělení efektivnější u respondentů s nižším vzděláním a naopa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7993080" cy="525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ÁVĚR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ersvazivní efektivita sdělení závisí na individuálních psychologických charakteristikách.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 tomto smyslu jsou účinky propagan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íce nahodilé než cílené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IMUNITNÍ TEORI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PAPAGEORGIS/ McGUIRE,1962)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ím z nejfrekventovanějších výzkumných cílů je snaha odhali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echanismus rezistence či imunity vůči přesvědčovacím technikám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to teorie je postavena na analogii s medicínskou koncepcí očkován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36572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ční ohrožení spočívá v tom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isponujeme velkým množstvím postojů, které nikdy nebyly vystaveny tlaku zpochybnění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 jsou náchylnější k postojové změně. Nedisponujeme zde obrannými látkami.Nabízejí se dvě možnosti jak tomuto ohrožení  zabrán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podávat podpůrné látky - posilovat stávající postoj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ednostran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postupně vystavovat individua oslabené formě nákazy - tj. podáv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boustranné vyvážené inform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ýhodnější je vystavovat individua kontraargumentům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MUNITNÍ TEORIE KOMUNIKACE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PAPAGEORGIS/ McGUIRE,196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volili pro testování taková přesvědčení, která se jen obtížně zpochybňují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ulturní truism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1/ každý by se měl dostavit jednou ročně na rentgen zda nemá tuberkuló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2/ účinky penicilinu jsou jednoznačné, až na malé výjimky pozitiv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3/ většina forem duševních nemocí není nakažli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4/ každý by si měl čistit zuby každý 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686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trolní skupina je na škále jednoznačně lživé - jednoznačně pravdivé 1-15 hodnotila (13.26 me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vě skupi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/  první dostával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oboustran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pochybňujíc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druhá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jednostranné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půrné informac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 té byli obě skupiny vystaven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masivnímu zpochybňov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dnotlivých tez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 skupiny s jednostrannými informacemi způsobilo zpochybňování pokles na 6.60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max 15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kupina těch, kteří byli „očkováni“ oboustranně byl pokles menší pouze na 10.30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Efektivnější při vytváření rezistence se projevilo (pasivní) čtení než (aktivní) psa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harakteristika postojů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nciona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yjadřují určitou kvalitu - sympatie/antipat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intenzi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kven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jí polární charak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sou konzistentní nebo nekonzistentní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soudržnost kognitivních, afektivních a konativních složek). Nejkonzistentnější jsou extrémní posto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va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se vytvářejí v procesu sociálního 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dramatickou zkušeno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/ nápodob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ITA - PŘITAŽLIVOST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 obecném pojetí jde o představu spojenou s fyzickou atraktivitou či charismatem. Vzhledem k obtížné operacionalizovatelnosti a měřitelnosti takového pojmu používá komunikační výzkum následující subkritéria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74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podob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dobrá znalost, obeznámenost s daným komunikát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sympatičnost, obli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/ blíz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/ 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/ fyzická atraktivit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DOB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vyhledáváme lidi, kteří jsou nám alespoň v některém rysu podobní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to podobnost sestává ze dvou kompone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mografick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vyhledáváme lidi s podobnými demografickými charakteristikami jako máme my - věk, vzdělání, příjem, náboženství,  rasa apod. V obecném jazyce se říká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„je to jeden z nás. Je to naše krevní skupina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deologick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jde o podobné postoje a míně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ologická podobnost působí silněji než demografick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OBRÁ ZNALOST KOMUNIKÁ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 případě komunikace a masové zvlášť platí,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hováni takovými zdroji, které zná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Je těžké přijmout nové komunikační zdroje a porušit tak denní rutinu např. čtenářských zvyk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/ SYMPATIČNOS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 komunikaci jsm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řitahování těmi, které máme rádi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ří jsou nám sympatičtí (známé tváře se neopouštějí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ravděpodobnost obliby stoupá přímo úměrně v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ztahu k odměnám, které komunikátor poskytuje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yto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abývají v zásadě tyto dvě form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edukce úzkosti, stresu, osamocenosti či ohro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zkostní lidé mají tendenc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interagovat se stejným lidmi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likož interakce s druhými přivádí úzkost. Často užíváme druhé jako nástroj informací o vlastních pocitech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e je jedním z nástrojů umožňujících odklonění úzkost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Sociální uzn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ympatizujeme s těmi, kteří ná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vyšují sebehodnocen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esp. s těmi, kteří nám ukazují jak být oceňováni druhými. Jinými slovy sociální uznání zajišťuje uspokojení našich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KONTAK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, která jsou si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yzicky blíže jsou vzájemně více přitahován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Běloši, kteří jsou v bližším kontaktu s Afroameričany mají vůči nim méně předsudků a komunikují s nimi lépe. Vyšš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lízkost zvyšuje výměnu informací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ecným zjištěním je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ace-to-face komunikace je efektivnější než nepřímá mediovaná komunik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OP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, se kterými kooperujeme ty máme rádi, ti kteří nám blokují odměny ty odmítá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F/ FYZICKÁ ATRAKTIVITA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ětšinou si namlouváme, že jsme  schopni oceňovat druhé na základě jiných charakteristik, než je jejich fyzická přitažlivost. Výzkum však hovoří o něčem jiném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říklady výzkum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DION (198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kázal, ž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fyzicky atraktivnější studentky mají sociálně hodnotnější charakteristik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jako je sensitivita, morální síla, skromnos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 fyzicky atraktivních lidí se též očekává šťastnější manželství a prestižnější post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ANDY a SIGAL (1986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rokázali, lepší hodnoc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labých esejů u atraktivních student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VÝZKU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 (CHAICKEN, 1979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Téma: jaký má vliv fyzická atraktivita na efektivitu přesvědč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Vzorek: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110 mužských a ženských komunikátorů, studentů psychologie z MIT, kteří prošli speciálním komunikačním tréninkem. Jejich tréninková praxe byla natočena na video, vyplnili osobnostní test a byli vyfotografován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Fyzickou atraktivitu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hodnotila pětičlenná porota(hodnotili na 1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bodové škále). Násled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ybrali horní třetinu a dolní třetinu. 34 mužů 34 žen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Na atraktivitě a neatraktivitě komunikátorů se shodli následně i samotní přesvědčovaní respondenti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Vybraní komunikátoři byli rozmístěni v campusu s cílem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přesvědčit fakultní veřejno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cs-CZ" sz="2600" spc="-1" strike="noStrike">
                <a:solidFill>
                  <a:srgbClr val="feec94"/>
                </a:solidFill>
                <a:latin typeface="Times New Roman"/>
              </a:rPr>
              <a:t>že je třeba přestat podávat ve všech universitních jídelnách maso</a:t>
            </a:r>
            <a:r>
              <a:rPr b="1" i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Realizac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/ prezentovali oslovenému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ázor proti konzumaci masa a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chali vyplnit dotazník měřící souhlas s tímto postojem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/ nakonec požádal komunikátor o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podepsání petice proti podávání mas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492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ZJIŠT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traktivní komunikátoři vykázal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tatisticky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šší schopnost přesvědčit  o správnosti své argument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Byl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úspěšnější i při získání podpisů na pet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dyž ale Chaicken analyzoval hodnocení atrak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závislými soudci ukázalo se, že se obě skupiny neliší jen 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fyzických parametrech“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, kteří byli označen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byli vnímáni i jak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átelštější, zajímavější, přesvědčivější, rychlejší  a plynulejší řečníc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líčovou proměnn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ní fyzická dispozic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fakt, ž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traktiv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isponují (mají připsány) takovým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chopnostmi a charakteristikam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jež je činí přesvědčivější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KOMUNIKACE JAKO UŽITÍ MO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censké zdroje mají tři charakteristik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á autori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je dána tím jak vnímá publikum schopnosti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ministrovat tresty a odměn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restající a odměňující moc je stejně efektivní při vytváření poddaj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je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 to jak a zda se publikum konformizu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ercipovaný dohle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povědomí, zda bude mocenský zdroj schopen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da se publikum konformizu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ilný zdroj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edy bude schope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administrovat odměny a tresty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mít zájem na konformitě publi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bude schopen tento proces konformizace kontrolova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tohoto procesu je PODDAJ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censké zdroje často užívaj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rozb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/tedy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odepírají odměnu a realizují trest s cílem vytvořit poddaj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o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oc méně  účinná než „atraktivita“ a „kredibilita“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čkoliv mírný mocenský tlak v některých případech vede k internalizaci poslušnosti silný tlak velmi čast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volává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BUMERANGOVÝ EFEKT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při kterém se energie investovaná do přesvědčování vrací jejímu realizátorovi násobenou silou. Místo poslušnosti se objevuje otevřený odp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EILMAN/GARNER (197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Silný mocenský tlak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je ve srovnání se slibem odměny nutně mé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jelikož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hrožuje integritu a svobodu jedn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dinec se dostává do situace, kdy si musí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volit mezi dvěma zl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preferovanou aktivitu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pod pohrůžkou trestu ne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odstoupit trest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který bývá často reprezentován ztrátou odmě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Když se nepostavíme hrozbě trestu hrozí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rozbití jeho sebeobrazu.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odrobení se vyvolává u jedinců pocit, že jsou vnímáni jako slab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Často tak platí, ž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držování vlastního sebepojetí, tj. sebeobrazu i sociálního obrazu se stává významnějším než vyhnutí se trest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Důvodem selhává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mocenské persuaze je percipovaná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ztráta svobod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Mocenský tlak může být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tejně efektivn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ako slib odměny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pokud je nabídnuta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určitá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možnost svobodné volby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možnost zvolit si z několika varian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 případě postoje se jedná o vnitřní stav, který lz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ěžko měřit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nemohou být pozorovány přímo - jsou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ypotetické konstruk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ale mohou být zkoumány pouze ve svém vnějším výrazu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oje jso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vnitřní psychické organiza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vytvářejí systém, pletivo specifických hodnocení, které se vždy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 kolem nějaké centrální hodnot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(Autoritářská osobnost:postoje organizované kolem ústředních hodnot moci a autority)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19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ní otázka: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Je  postojová změna vždy doprovázena změnou chování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STRACH JAKO MECHANISMUS PŘESVĚDČE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trachová komunikac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fear appeal) se používá standardně jako komunikační strategie např. při situacích, kdy je třeba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rychle akcelerovat obrannou reakc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chází se zde ze dvou předpokladů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strach vede k postojové změně protože působ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měnu pozorn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tak, že ji zvyšu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vysoký strach ovšem vede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istorzi sdělení a ke spontánním defensivním reakcí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REKLAMA PROTI KOUŘENÍ, Nemyslíš, zaplatíš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Janis a Feshbach: Communication and Persuasion, 195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středoškolským studentům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ři odlišná sdělení na téma dentální hygien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vrtá skupina – kontrolní. Ještě před tím než je vystavili sdělení nechali je vyplnit dotazník zaměřený na dentální hygienu a opakovali dotazování týden po jednotlivých expozicích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ři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ndardní přednáška o dentální hygieně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yvoláván minimální strach, ukázka dutiny ústní pouze s malými kaz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ukázka již pokročilých kazů a nemoci dás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tografie pokročilého rozkladu zubů a dás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nejsilnější strach) na zesílení efektů opakovaně zdůrazněn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o se může stát i vá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EFEKTIVNĚJŠÍ BYLO POUŽITÍ PRVNÍ VARIANT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Rogersův ochranně-motivační model strachového působení a postojové změn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ři klíčové faktory strachového přesvědčo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síla škodlivosti zobrazených udál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odhadovaná pravděpodobnost, že se taková věc může stá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odhadovaná efektivita ochranné/doporučované rea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měna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e představuje funkci ochranné motiv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Když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oporučení nahlíženo jak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álo efektiv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a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hraje roli odhadovaná míra škodlivosti daného jev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kouření, pornografie, násilí, politické pra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Jev je vnímán jako tí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škodliv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čím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poručení jeví jako efektivněj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íklad pro teenagery platí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rach ze smrti vnímají jako vzdálený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oto je efektivnější soustředit se na bezprostřední dopady daného jevu. Např. negativní důsledky pro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valitu individuálního či sociálního života (obecně zpochybnění image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ÝZKUM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IELS/ LEVENTHAL, 196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ezentovali třem skupinám respondentů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různě intenzivní varování před kouřen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. Postoje měřeny před prezentací a po zastrašující prezentaci (metoda pre/post testu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ilněj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mě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arevnou filmovou podobu vyoperování jedné poloviny pl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méně intenziv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strašení použilo stejný barevný film o plicní operaci s komentářem o jejím vyoperování ovšem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ez záběru jejího vyoper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nejslabš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uze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entář bez filmového doprovo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jefektivnější se ukázalo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ejagresivněji koncipované sděle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které způsobilo postojovou změnu směrem ke konzumaci cigaret. (Jde ted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 opačné zjišt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ež u Feshbacha a Janise.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větlení, které nabízí autoři vychází z toho, ž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s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á předpokládat nižší důvěra v to, že by čištění zubů bylo schopno zamezit tak razantnímu poškození jako je na obrázcích prezentovaná silná paradontóza či silně pokažené zub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Naopak zastavení kouření se nejspíše zdálo jako dostatečný argument jak se vyhnout rakovin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ESVĚDČOVACÍ TECHNIKY V MASOVÉ KOMUNIKACI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2/ h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/ opak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 1/ ERO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30% reklamy v magazínech - stoupající tendence (v roce 1951 pouze 10%). Eroticky zabarvená reklama dokáže proměňovat percepci a image produkt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ITH-ENG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960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reklamy na model vozu FORD, kde použili dva typy sděl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eklama-plaká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e vedle vlastního produktu automobilu  Ford  byla na kapotu umístěna spoře oděná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modelka s oštěpem v ru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reklama-plakát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bez modelk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denti-muži měli hodnotit kvalitu reklamovaného vozu. Rozdíly byly zaznamenány ja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v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ivní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rožívání vozu (byl vnímán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itažlivější, mladší, plný život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tak i v rovině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bjektivní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věcné) rovin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ži automobil s modelkou považovali za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ýkonnější, méně bezpečný, dražší o 340 a maximální odhadovaná rychlost byla o 15 km vyš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iné studie ovšem prokazují, že erotika v reklamě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dpoutává pozornost od propagovaného zbož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otvrdilo se jednoznačně, že si člověk vybaví lépe produkt se sexuálním/erotickým symbolem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aopak často dochází k vytěsnění/překrytí propagovaného objektu erotickým obsa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líčový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úkolem je dostatečně asociovat produkt s erotickým vzorem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rají zde výraznou roli cílové skupiny. Věk, vzdělání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HUMOR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15-20%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evizních reklam obsahuje humorné prvky. Ve většině studi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nebyla prokázána postojová změna na základě působení hum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ecně platí, ž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umor v reklamě ovlivňuje především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ižší úroveň komunika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přitahuj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zornost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ytváří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jemný kolor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ro diváky spíše než mění postoje a skrze ně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 vždy však je humor vnímán jako příjemný. Učitelé užívající humor jsou někdy  odmítáni protože se chovají v protikladu ke studentským očekáváním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ždy je ovšem podstatná adekvátnost použití humoru a cíl použití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or může slouži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ak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sílení stávajícího postoj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ebo k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dvrácení pozornost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á odtlumí možné protiargumen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umožn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07280" cy="619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PERIM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piere, 193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roce 1930 Richard Lapiere navštívil s čínským manželským párem 251 hotelů a restaurací a pouze v jednom případě byl odmítnut. O šest měsíců později se Lapiere dotázal stejných restauratérů a hoteliérů, zda by obsloužili čínský pár. Drtivá větši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 92 %)  z nich odpověděla zamítavě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3/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PAKOVÁNÍ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se užívá především z následujících důvodů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ne všichni se stále dívaj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nak vysoké kredibility zdroj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čí postoje a významy připisované reklamě - proces podmiňová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lepší znovuvybavení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rugman uvádí, že stačí tři opakován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rvn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kognitivní (co je to)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2/ druhá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hodnotí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(v čem mi to může pomoci)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3/ třetí expozice je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upozornění, výzva nebo počátek nesouhlasu, odmítnutí (stojím/nestojím o t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A1/Problém nastává po první expozici, když nenastane zaujetí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2/ Pak je třeba průměrně 23 opakování než se dopracuje respondent ke II. stádiu „co s tím“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Zároveň každé opakování vede k narůstajícímu množství asociací, úvah irelevantních k  danému  objektu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LASICKÉHO PODMIŇOVÁNÍ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atsov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1968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plikovali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orii klasického podmiňování na proces učení emocionálně nabitých jazykových význam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skytli vysvětlení některých nástrojů, které uží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paganda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rámci užíván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zv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leštěných fráz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glittering generalit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chodiskem tohoto teoretického předpokladu je zkušenost, 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a mají jistou emocionální hodno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pozitivní i negativní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eselý, krásný, smích, jasný, dobrý vs. zlý, krutý, nemocný šílený ap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ojmech teorie klasického podmiňování jsou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emocionální stimuly chápány jak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nepodmíněné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post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spojující např. osobu nebo ideu s „pozitivně hodnocenými, příjemně zakoušenými, bezúhonnými slovy“, která vytvářejí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zitivní pocit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neb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naopak spojuje osoby nebo ideje s negativními nálepkami. Toto postojové podmiňování se týká především reklamy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Mnoho názvů produktů je shlukem slabik či znaků, které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dávají sami o sobě smysl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lanta“ (rostlinný tuk)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a (mýdl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oke is real thing“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ento slogan se pokouší přenést pozitivní asociace na poje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COK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íklad u značky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prit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produktové označení zvoleno na základě pozitivních asociací, které vyvolává u potenciálních klientů. Při měření „pozitivity“ se často používá tzv. sémantický diferenciá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EXPERIMENT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Staats/Staats, 195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mítli opakovaně na plátn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hluky slabik či znak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dávaly smysl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laj, wuk, gug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současně je verbálně spojovali se slovy, která mají jednoznačně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pozitivní/negativní význa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V první skupině byly vždy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abiky bez jasného významu (laj, wuk, gug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árovány se slovy, která měl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soké pozitivní hodnocení (krása, vítězství, dar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druhé kontrol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kupině bylo užito stejné strategie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le bylo použit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 s negativním význam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(zloděj, hořký, smutný)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lov, která neměla pevný jasný pozitivní/negativní význa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brzy, sníh, voda, oheň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ásledně členové obou skupin obdrželi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 u="sng">
                <a:solidFill>
                  <a:srgbClr val="feec94"/>
                </a:solidFill>
                <a:uFillTx/>
                <a:latin typeface="Times New Roman"/>
              </a:rPr>
              <a:t>sémantický diferenciál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, aby ohodnotili potenciál nesmyslných slabi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Pozitivní rating hodnocení obdrželi, slabiky spojované s pozitivními slovy a naopa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eec94"/>
                </a:solidFill>
                <a:latin typeface="Times New Roman"/>
              </a:rPr>
              <a:t>V tomto smyslu se postoj jeví jako forma emocionálního vztahu (významu),  k danému slov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ztah byl vytvořen klasickým podmiňování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říklad TV„ J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Podle teorie učení můžeme rozlišit tři základní fáze přesvědčování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zornost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B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chopení či uchopení argumentů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vlastní přijetí/nepřijetí argumentu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A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/ V první fázi j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zvýšení pozornosti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nejvýznamnější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atraktivita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zdroje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. To je nejzřejmější v reklamě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B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e fázi druhé se ukazuje, že pro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„pochopení“ či zpracování</a:t>
            </a:r>
            <a:r>
              <a:rPr b="0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argumentů hraje 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klíčový význam </a:t>
            </a:r>
            <a:r>
              <a:rPr b="1" lang="cs-CZ" sz="2700" spc="-1" strike="noStrike" u="sng">
                <a:solidFill>
                  <a:srgbClr val="ffffff"/>
                </a:solidFill>
                <a:uFillTx/>
                <a:latin typeface="Times New Roman"/>
              </a:rPr>
              <a:t>kredibilita zdroje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Zdá se tedy, že </a:t>
            </a:r>
            <a:r>
              <a:rPr b="1" i="1" lang="cs-CZ" sz="2700" spc="-1" strike="noStrike">
                <a:solidFill>
                  <a:srgbClr val="feec94"/>
                </a:solidFill>
                <a:latin typeface="Times New Roman"/>
              </a:rPr>
              <a:t>převaha tzv. kredibilních zdrojů</a:t>
            </a:r>
            <a:r>
              <a:rPr b="0" i="1" lang="cs-CZ" sz="27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je dána též mírou souhlasu s jimi prezentovanými názory. Tedy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kontextem a očekáváním</a:t>
            </a:r>
            <a:r>
              <a:rPr b="0" i="1" lang="cs-CZ" sz="2700" spc="-1" strike="noStrike">
                <a:solidFill>
                  <a:srgbClr val="ffffff"/>
                </a:solidFill>
                <a:latin typeface="Times New Roman"/>
              </a:rPr>
              <a:t>, pokud toto není naplněno </a:t>
            </a:r>
            <a:r>
              <a:rPr b="1" i="1" lang="cs-CZ" sz="2700" spc="-1" strike="noStrike">
                <a:solidFill>
                  <a:srgbClr val="ffffff"/>
                </a:solidFill>
                <a:latin typeface="Times New Roman"/>
              </a:rPr>
              <a:t>učíme se i z nízce kredibilních zdrojů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Ad C/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 Vlastní </a:t>
            </a:r>
            <a:r>
              <a:rPr b="1" lang="cs-CZ" sz="2700" spc="-1" strike="noStrike" u="sng">
                <a:solidFill>
                  <a:srgbClr val="feec94"/>
                </a:solidFill>
                <a:uFillTx/>
                <a:latin typeface="Times New Roman"/>
              </a:rPr>
              <a:t>přijetí/nepřijetí </a:t>
            </a:r>
            <a:r>
              <a:rPr b="0" lang="cs-CZ" sz="2700" spc="-1" strike="noStrike">
                <a:solidFill>
                  <a:srgbClr val="ffffff"/>
                </a:solidFill>
                <a:latin typeface="Times New Roman"/>
              </a:rPr>
              <a:t>doporučení je nejsilněji akceptováno u</a:t>
            </a:r>
            <a:r>
              <a:rPr b="1" lang="cs-CZ" sz="2700" spc="-1" strike="noStrike">
                <a:solidFill>
                  <a:srgbClr val="ffffff"/>
                </a:solidFill>
                <a:latin typeface="Times New Roman"/>
              </a:rPr>
              <a:t> kredibilních zdrojů, následují zdroje atraktivní a mocenské působení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ECNĚ PLATÍ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Kredibilnější zdroje jsou významnější, al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časem ztrácejí na vlivu pokud nedojde k jejich připomenu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Kredibilita zdro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vlivňuje schopnost vybavení informace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redibilní zdroje jsou efektivnějš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proti nekredibilním ne proto, že by se lépe učili,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le proto, že js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odnoceny příznivěj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bavujeme si totiž stejně zdroje významné i nevýznamné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/ Většina studi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potvrzuje hypotézu „sleeper effec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tom smysl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j. že by síla nekredibilního zdroje časem stoup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kredibilní zdroj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hou mít schopnost bý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ersuasibilnější, pokud se jedná o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roj atraktivní nebo disponující mocí či užívající zastraš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atraktivní zdroje jsou méně persuasibilní než atraktiv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ovšem poskytují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očekávaná stanovisk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jich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ersuasibilita stoup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/ Obecně platí, ž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ětší pozornost je věnována neočekávanému stanovisk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teré je i lép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novuvybaviteln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7/ Slib odměn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značně či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munikaci efektivnější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ž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řesvědčování skrze hrozb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8/ Přesvědčování za použit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y hrozí vyvoláním bumerangového efekt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 produkuje tedy otevřený odpor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ísto přijetí doporuče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9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Hrozba se stává efektivnější, když je zároveň dána možnost volby několika variant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 této podmínky se stává hrozba stejně efektivní jako slib odmě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POSTOJOVÉ KOMPON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senberg-Hovland rozlišují tři základní komponent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fek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hodnocení čehosi nebo vztah k čemusi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kognitiv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percepční odpovědi nebo verbální promluv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ehaviorální/konativní/snahov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vnější jednání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FUNKCE POSTO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především nutné pochopit jakou funkci ten který postoj zastává, aby bylo možné způsobit či alespoň predikovat jeho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apříklad typickou chybou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ůsobit proti předsudkům faktickou informac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edy předpokládat, že předsudek jako postoj slouží funkci vědění (poznávací funkc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ÁLNÍ FUNKC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chází z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ximalizace odměn a minimalizace trestů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ubjekt vytváří takové postoje, které odpovídají jeho představ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měn a trestů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Je pozitivní vůči objektům, které odměňují a naopak.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říklad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lební chování se řídí principem maximalizace odměn a minimalizace trestů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(Příslušníci romské menšiny nevolili ve Vsetíně představitele KDU-ČSL, který řešil jejich bytovou situaci necitlivě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 spuštění této funkce postoje je třeba způsob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ktivaci potře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pochybnit stávající mechanismy uspokoj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/ 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ytvořit nové potře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/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důraznit nové a přitažlivější zdroje uspokoj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GO DEFENZIVNÍ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unkc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ání jedince před uznáním nepříjemných pravd o sobě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. Nejisté osoby často konstruují striktní předsudky vůči minoritním skupinám, aby se dostali do superiorní polohy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vytvořit poc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zvyšovat obecně frust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využít působení tzv. autoritární suges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abídnout cestu jak zrušit ohrož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e/ a dát prožít katarzi, která umožní vh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HODNOTOVĚ EXPRESIVNÍ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unkce umožňuje získat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uspokojení skrze zaujímání takových postojů, které prezentují vlastní hodnoty-sebekoncepci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 Například formou identifikace s určitým hudebním proudem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e spuštění této funkce postoje je třeb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yvolat zpochybnění vlastních hodn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které povede k přehodnocení sebeobraz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c/ dojde k nespokojenosti se sebou sam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/ nutně se pak objevuje vhodnost jiného posto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7:55:54Z</dcterms:created>
  <dc:creator>JV</dc:creator>
  <dc:description/>
  <dc:language>en-US</dc:language>
  <cp:lastModifiedBy>JV</cp:lastModifiedBy>
  <dcterms:modified xsi:type="dcterms:W3CDTF">2010-11-11T09:11:39Z</dcterms:modified>
  <cp:revision>8</cp:revision>
  <dc:subject/>
  <dc:title>V. T E O R I E   P Ř E S V Ě D Č O V Á N Í  (PERSVAZE, PERSUAZE) „Skutečnými manipulátory jsou naši vnitřní přisvědčovatelé – naše chutě, naše strachy, marnivost a ješitnost, které zručný manipulátor využívá.“</dc:title>
</cp:coreProperties>
</file>