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271B-12D2-442A-9D40-67C72FC4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AF9C-BC87-48A7-81C4-8BA879C7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B2AA-9B05-4B8D-8824-9CE9F07A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E79F-DA5A-4A7B-AD39-17011ECC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74DC-F4D6-4397-BCFD-760B44FE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34A2-CC56-422D-95CC-D24E3EAB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E615-065B-46A1-BAF1-6E59CD34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A266-4454-44C5-856F-12B373B1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BCEA-3155-48B9-95D3-8C75AF8E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6F1A-EA7C-4767-9ABE-FD4472F6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4EF2-4C39-4E27-99A2-BB920B83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C9F-6DCD-439C-90E2-09946558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DC81-8500-49AC-A356-631C57CD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6C62-0E20-47BE-96B2-82BFA135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CF59-D0A6-4C86-87EA-4EB19A9E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7315-CD04-42BC-AE03-E92FA1E8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CB6D-0AA2-4EF5-9F9A-3F949F59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79CE-94B2-4C0C-827C-E0FC09D8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19CF-6506-429F-A446-16386456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626-ED85-45A6-9C0F-F36BE833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86E8-CCD8-46DE-8A9E-07B0F684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2AA-0AB6-4EE1-BF07-2788A896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F84E-D0CE-4205-99BE-50D588A2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E34A-E044-4347-82FD-38B0939F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9225-2F2E-4B4D-8A5B-129DF58B51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01BD-9BA6-42F3-8AEA-0DDEEB985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. PÚSOBENÍ MÉDIÍ A POLITICKÁ KOMUNIK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litickou komunikaci ovlivňuje několik dynamicky spolupůsobících vliv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 povaha sociální struktu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 povaha politické kul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mediální prostřed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vlastnické vztahy a regulace), respektive mediální obsa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diální účinky na politickou komunikaci jsou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iodické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volební kampa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manent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funkce hlídacího p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85760" indent="-64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ásledně provedli: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bsahovou analýzu těch médií, která na sledované voliče působila v čase dotazování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 zde byla provedena  kategorizace n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hla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edlejš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blém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-64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ýsledek pak prokáza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ysokou korelaci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z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tématy „hlavních zpráv“ v mediální agend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znamem „nejvýznamnějších problémů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země deklarovaných nerozhodnutými voliči – korela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.96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ještě vyšší korelace byla nalezena v případě témat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vedlejších“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respondenty deklarovaných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vedlejších problémů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0.97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rátký čas po Mc Combsově a Shawově studii se objevuje v Public Opinion Quarterly stať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aye Funkhousera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která řeší v podstatě stejný úkol, ale navíc se soustřeďuje na specifický význam určitých problémů v realitě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ÝZKUM: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ay Funkhouser, 1972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STU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unkhouser využil pravidelných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Galupových měře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 tém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aké jsou nejvýznamnější problémy současných Spojených států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ouběžně s tím provedl obsahovou analýzu ve tří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významnějších magazín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Time, Newsweek, U.S. News and World Report) po dobu deseti let s cílem vysledov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významnější zde publikovaná témata spojená s problémy zem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181080" y="0"/>
            <a:ext cx="9506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C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hodnotil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íru významnosti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jednotlivých téma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a základě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rozsahu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věnovaného v magazínech danému témat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místa otištění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společenské závaž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použil např. Statistical Abstracts of  the U.S., kde bylo uvedeno např. množství vojáků působících ve Vietnamu apod)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-6120">
              <a:lnSpc>
                <a:spcPct val="8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rovná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ztahu mezi veřejným míněním a intenzitou mediálního pokry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vztahu mezi mediálními obsahy (mediálním obrazem) a realit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dil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ilnou korespondenci mezi veřejným hodnocením významnosti problému a četností  zpráv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 těchto problémech uvedených v médiích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87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200160"/>
            <a:ext cx="9144000" cy="70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nalýza stav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reali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lastního obsah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médií již neprokázala silnou korespondenci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ÉMATA, KTERÁ PŘEDEŠLA REALITU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etnamská válka, městské nepokoje, studentské bouře (o rok resp. o dva se předběhlo)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ÉMATA, KTERÁ ČASOVĚ KORESPONDOVALA: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rogy a inflac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věr této studie naznačuje velkou důvěru v média, ale nepotvrzuje schopnost médií korespondovat zcela s realitou resp. pokrývat vždy témata, která jsou aktuálně nejdůležitější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ýzkum neposkytl jednoznačnou odpověď na otázku odkud témata přicházejí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cCombs a Shaw  (1977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kum v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verní Karolíně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době volební kampaně. Pokusili se odpovědět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a otázk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 jaké míry lze chápat vztah mezi mediální agendou a vnímáním vybraných aspektů sociální reality jako výsledek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uzálního vztah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otazovali respondenty v rámci panelového šetření několikrát v průběhu kampan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ýslede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ní jednoznačně průkazný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ale studie naznačuje, že slabý kauzální vliv mediální agendy existu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TYPY ZKOUMÁNÍ MEDIÁLNÍ AGENDY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analýza agendotvorných obsahů a mechanism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ak se daná událost stává součástí mediální agendy (Kdo nastoluje agendu?)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analýza vzájemného vlivu jednotlivých typů agen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1/ JAKÉ MECHANISMY ZESILUJÍ PÚSOBENÍ MEDIÁLNÍ AGENDY - PRIMING, FRAMIN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2/ PROMĚNY AGENDY V Č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-146160"/>
            <a:ext cx="9144000" cy="65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7928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ladní kategorie ovlivňující mediální obsa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dividuál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- osobní profesionální backgroun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ediální rut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- každodenní praxe, rutinní principy výroby zprávy, prostorové a časové mož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ganizační vliv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principy generování publika jako       generování zisk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livy vnějších nátlakových skup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 vládních i nevládní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liv dominující ideologi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A1/PRIMING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viditelňování či zdůrazňování témat či jejich atribut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iming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proces, v rámci kterého věnují médi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zornost jen některým problémům zatímco jiné pomíjejí, a tak definují standardy na základě kterých se pak voliči rozhoduj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Územně správní uspořádání, ombudsman, církevní restituce, morálka, politická kultura, zralost politiků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édia ovlivňují např. volební cho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ím, že určí předvolební agendu tím, že definuj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ritéri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 na základě kterých budou strany či kandidáti posuzován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76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Čtyři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odmínky, za kterých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stoupá rozsah mediální pozornosti určité události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252720" y="980640"/>
            <a:ext cx="9396360" cy="587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izpůsobení média hlavnímu toku událos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líčovým událost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etrvávání stejného vzorce –„čím stejněji tím lépe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dměrná pozornost významné, ale neobvyklé zpráv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Přepjatá pozornost zavánějící senza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lektivní zpravodajstv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zdůraznění významných aspektů dané události a potlačení těch nevýznamný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orba pseudo udál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ezentace ne příliš významné zprávy způsobem definujícím ji jako zásad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ůsobení médií má vždy více či méně politické důsledk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 mikro rovině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zaměřeny na jednotliv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 makro rovině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zaměřeny na celý politický systé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ormování kognitivních účink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výzkum nastolování agendy, priming, získávání vědomostí – knowledge gap, fraiming, mediální kultivace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ormování a změna míně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resp. vliv médií na politické chová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People´s Choice, spirála mlče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: (Iyengar, 1981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ztah mediálního obrazu J. Cartera a jeho hodnocení ve vztahu k tomu jak (ne) řešil problém infla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kázal se silný vztah mezi mediální prezentací témat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fl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hodnocením, které vystavili respondenti-voliči americkému presidentovi J. Carterovi za (ne)řešení tohoto problém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oliči hodnotili Cartera podle témat, kterými se média momentálně zabýval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 (Iyengar, Peters, Kinder, 198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genda v simulovaném televizním zpravodajstv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skupiny respondent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vní sledovala upravené televizní zpravodajství, ve kterém bez vědomí respondentů bylo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zakomponováno jedno téma navíc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–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SLABOST NÁRODNÍ OBRANY SPOJENÝCH STÁTŮ“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Kontrolní skupina sledovala běžné zprávy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První den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řed promítáním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plnily obě skupiny dotazník,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de seřadili podle důležitosti vybrané společenské problém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Po té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ět dní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sledoval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hlavní zpráv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(upravenou a neupravenou verzi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3/ Šestý den vyplnily opět dotazník a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eřadili opět stejná témata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stoupla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znamnost obranné problematik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ve skupině, která obdržela upravené zpravodajstv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Zatímco v kontrolní skupině význam tohoto tématu ještě kles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: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Wayne Wanta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8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elikost fotografie jako atribut mediální agendy v tištěných médií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DESIGN VÝZKU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Wanta se pokusil prokázat vli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likosti fotografi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provázející text na recep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ediální agen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uži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ři člán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tištěné n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ní straně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jich  téma se týkalo problematik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árodní obrany, b/ znečištění životního prostředí c/ krize amerických farmářů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aždý článek měl verz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elkou fotografi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cca 25% tištěné plochy dané strany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alou fotografi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cca 10% tištěné plochy dané stran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ez fotografi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užil metodu pre/post testu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stoval tři skupin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respondentů. Každá měla k dispozici jednu z grafických verzi (velká, malá, žádná fotografi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ondenti na počátku vytvořili vlast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řadí klíčových problémů země. Bez znalosti uvedených text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Po t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stali k dispozi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různé grafické verze článků s jednotlivými témat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Následně byli r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spondenti požádáni, ab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stavili pořadí klíčových problémů země ještě jedno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sledkem byl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značné upřednostnění témat s velkou fotografi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enší fotografie též mírně zvyšovala rating daných závažnosti problému 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xty bez fotografie neměly žádný účinek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Wantova studie o významu fotografií  doprovázejících text je zařaditelná pod kategorii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isibilit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diální agend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AKOU PLNÍ MEDIÁLNÍ AGENDA FUNKCI?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diální agenda nepůsobí na každého jedince stejně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inci se odlišují tím, do jaké míry se potřebují v dané obla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rientova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nakonec může rozhodnout o tom zda agenda bude mít vliv či 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řeba orientace je postavena na dvou faktore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levanci informace pro dané individu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íře nejisto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kterou subjekt zažívá při přijímání zprávy, míře nepochopení či nedůvěře k daným fakt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ucker rozlišuje mezi téma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se, kterým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áme nebo můžeme mít zkuše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apř. nezaměstnanost, bezdomovectví, nemoc, které nazývá jako témat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lízká (obtrusiv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a tématy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kterým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žádnou přímou zkušenost nemám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jen těžko můžeme mít (vědecké experimenty, komplikované ekonomické operace, exkluzivní umělecké zážitky apo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Čím menší je zkušenost s daným tématem, tím vyšší je pak závislost na médiích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SIGN VÝZKUM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Zucker, 198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ucker komparoval tři tém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okou mírou přímé zkušenost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zaměstnanost, životní náklady a kriminali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 tématy nízkou zkušenos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nečištěním životního prostředí, užívání drog, energetická kri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nožstv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skytu jednotlivých tém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TV získal z Television News Index za posledních osm let (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indikátory skutečnost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). Hodnocení závažnosti každého tématu získal z pravidelných Galupových měření („co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závažnější problém života v USA“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věr skutečně potvrdil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liv mediální agendy byl vyšší v případě zpráv s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alou zkušeností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ými slov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latí, ž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ím je informace relevantnější 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ím je nejistota větš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tím je potřeba orientace (prostřednictvím médií) silnější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ím větší je tato potřeba orientac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ím větší je i vnímav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ůči mediální  agend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cCombsovo téma potřeb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rient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atří do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é agendy a kategorie individuální relev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kazuje se možnos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pojení mechanismu agend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funguje především v případě méně zažitých zpráv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odelem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dvoustupňové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je významná právě v případě speciálnějších téma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binace těchto dvou principů tak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objasňu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existenci přímých účinků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deklarovaných výzkumem druhé výzkumné etap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metodologicky chyb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pokládat, že účinek mediální agendy funguje pro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šechna témata stej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ÍCESTUPŇOVÁ TEORIE KONSTRUKCE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DIÁLNÍ AGENDY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Gladys  Langová, Kurt Lang, 1983)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728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sili demonstrovat, že hypotéza mediální agendy je mnohem komplikovanější, a to v tom, že se rozvíjí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ěkolika kroc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 ilustraci této teze využili obsahovou analýzu mediálního pokrytí aféry Watergate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angovi rozlišují šest na sebe navazujících eta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tisk označu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dálost jako významnou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ddělí ji od ostatn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každá událost vyžaduj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jiný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yp mediálního pokry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dle toho, zda s ní mají čtenáři osobní zkušenost (v případě Watergate šlo o událost/zprávu s minimální možnou zkušeností). Proto bylo v tomto případ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ychlé a velmi intenzivní zpravodajské pokrytí, aby přineslo pozornost veřej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aždá taková zpráva musí bý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arámována tj. musí dostat význam v rámci, kterého jí budou čtenáři rozumě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ato byla od počátku definována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ranický spor. 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jí definice byla od počátku jednoznačná. Posléze bylo proto obtížné 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kódovat jako synonymum rozsáhlé politické korupce v U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NDA SETTING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/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NASTOLOVÁNÍ MEDIÁLNÍ AGENDY, KONSTRUKCE MEDIÁLNÍ AGEND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/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éma mediální agendy se objevuje v situaci, kdy narůstá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spokojenost s teorií omezených mediálních účin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která hovoří  o posilování již držených postojů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lká část výzkumníků došla k tomu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hledá účinky na špatném míst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zn. že je chybou soustřeďovat s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ouze na postojovou konverzi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ůležité 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užití jazy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výrazně ovlivňuje percepci zprávy její přitažlivost. V případě Watergate je objevovalo několik prvních měsíců jazykové označe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aper - krádež, lup, zloči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postupně sláblo až došlo k překódování celé události 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anda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– skandál, veřejnou ostudu, veřejné pohoršen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é má v americkém slovníku silnější význam a činí zprávu důležit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édia vždy musí u takovýchto zpráv spojit událos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zv. sekundárními symboly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jsou v daném politickém prostoru či politické kultuře snadně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dentifikovatelné, pochopitelné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umožnit tak publiku, aby zauja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hodnotící pozici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ě Watergate šlo o sekundární symboly -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ávo na informace, důvěra ve vlád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6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genda akceleruje, když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sonifiková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dyž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daném tématu začne hovořit nějak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ná osobnos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 případě aféry Watergate šlo o vystoupení soudce Johna Sirica, který prohlásil v NYT, že veřejnosti nebyla sdělena pravdivá fakta o celé aféř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B/ KDO NASTOLUJE AGENDU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o jsou základní zdroje ovlivňující mediální obsa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kum nedává jasnou odpověď na klíčovou otázku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uzalit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j. zda mediální agenda ovlivňuje názory publika či naopa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nejobecnější rovině platí, že je t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ciální realit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ve které se my i média pohybujeme a současně ji tvoříme i reprodukujeme. Faktem však je, médi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nereprezentují realitu zcela věrně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esp. mediální sdělení čast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korespondují s realito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Funkhouser, Zuck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rosius a Kepplinger (199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kusili se odpovědět na otázku,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do je iniciátorem, nastolovatelem agendy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cházeli přit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z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ýdenních průzkumů veřejného mín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ajících 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ír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važnosti 16 vybraných společenských  té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sahové analýzy hlavních zpravodajských relac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sílaných v prime time v 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ěmeckých TV. Sledovali zde frekvenci a výskyt stejných problém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é indikovaly výzkumy veřejného míně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eloroční analýza prokázala dva směry působ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od médií k veřej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témata: „dodávky energie“, „národní obrana“, „ochrana životního prostředí“, „proevropská politika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2/ od veřejnosti k médi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 témata: 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ůchody“, „obecná bezpečnost občanů“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vě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édi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sou schop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livni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é míněn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pokud se jedná o velmi intenzivní pokrytí problém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íce než třicetkrát za měsíc), kter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áhle narůstá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 naopak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á agenda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ovlivňuje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diální obsahy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hdy, když je problém dlouhotrvající, jeho význam stoupá  pomalu, ale stabil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-252720" y="0"/>
            <a:ext cx="939636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(Hans Bernd Brosius, Gabriel Weinmann,199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astolování agendy podle dvoustupňového modelu.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dentifikovali v procesu mediální konstrukce existenc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voustupňové komunik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inými slovy,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rokázali, že i někteří členové publika mohou být odpovědni za nastolování mediální agend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ostupovali tak, že mezi lét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1990-93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identifikovali zpravodajské kauzy/ témata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, která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pokrývaly hlavní televizní zpravodajské rel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Současně prováděli každý měsíc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ýzkumy veřejného míně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kde se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otazovali populace, které problémy považují za nejdůležitějš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 průběhu dotazování identifikovali tzv.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ANTICIPÁTORY/ ČASNÉ OBJEVITELE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(early recognizer), kteří byli schopn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dhadnout význam určité kauzy dříve než většinová populace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a současně toto odhalení distribuovali dále, a tak de facto ovlivňovali mediální agendu.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EZIDENTSKÁ AGENDA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peciální případ v tzv. prezidentských systémech např. v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 Spojených státech, kde jedním z klíčových nastolovatelů  agendy president. (Zpráva o stavu unie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tváření agendy jsou aktivity vyvíjené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amotnými prezident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ři volebních kampaní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aktivity směřující k vytváření obrazu, který je požadová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íklad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nald Reaga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e své druhé volební kampani cílil mimo jiné též na otázk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životního prostředí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plánoval si spanilou jízdu Spojenými státy, aby demonstroval úspěchy své vlády v tomto obdob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viny pak byly plné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fotografií presidenta v různých národních parcích, na farmách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apod. I když ochránci přírody protestovali proti výsledkům Reaganovy politiky životního prostředí, přesto podle výzkumů veřejného mínění zvedla tato kampaň jeho kredit i v této obla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orge Bus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dobně manipuloval vlastním obrazem při volební kampani v roce 1988, kdy si vytýčil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diálně atraktivní plán nabídnou  denně jednu atraktivní reportá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íklad přijel do bostonského přístavu a jen tak mimochodem upozornil na špínu a nepořádek, který zde panuje s jasnou narážkou na tehdejšího bostonského starostu a Bushova protikandidáta Michaela Dukaki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792000" cy="7245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(McCombs, Gilberg, Nicholas, 198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Obsahová analýza druhé Carterovy zprávy o stavu unie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stupovali následně tak, ž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Vybrali z této zpráv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sm klíčových témat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 Následně provedl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bsahovou analýzu tisku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a to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čtyři týdny před a čtyři po přednesení zpráv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orelace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mez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rezidentskou agendou a následnou mediální agendou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byl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labší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než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 korelace mez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rezidentskou a pre mediální agendou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Závěr studie hovoří o tom, že to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nebyl Carter, kdo  tvořil mediální agendu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ale naopak to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byla  média, která ovlivnila agendu prezidentsko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tejný výzkum ve vztahu k Nixonově zprávě o stavu unie z roku 1970 naopak potvrdila původní hypotézu o výrazném vlivu prezidentské agendy na médi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světlení rozdílného dopadu presidentské agendy v obou případech spočívá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dnak v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situačních faktorech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dnak v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individuálním  stylu politické moc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NTERMEDIÁLNÍ AGENDA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do jsou ti, kteří mají vliv na mediální obsah. Jedním z důležitých zdrojů mediální agendy jso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édia sam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zniká tak fenomén, který bychom mohli nazvat jak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intermediální agenda. Speciálním příkladem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termediální agenda spouštěna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hlavními tiskovými agentura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xistuje zřetelný komunikační zpravodajský to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ze severu na jih, z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everního centra na jižní periferi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ouz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0% s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dotýká problemati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vojových zem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mdesát procent světového zpravodajského toku je produkován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ěti hlavními tiskovými agenturam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í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že poskytují tzv. spot news a vizuální reportáže stávají se nastolovateli agendy ze svě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eciální mechanismus  intermediální agendy představuje působení velkých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TV zpravodajských stani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OLE CNN V POKRÝVÁNÍ VÁLKY V PERSKÉM ZÁLIV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i pokrytí konfliktu užívala CNN především následující formy prezent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tiskové k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interview poskytovaná vládními a vojenskými agentur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příběhy konkrétních vojáků či velite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reportáž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 exp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6/ vox p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7/ příběhy samotných reportér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TEZ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SOVÁ MÉDIA NEJSOU SCHOPNA VNUTIT SVÉMU PUBLIKU CO SI MÁ O DANÝCH TÉMATECH MYSLET, ALE VNUCUJÍ NÁM TÉMATA, O KTERÝCH MÁME PŘEMÝŠLET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éza o určování mediální agendy předpokládá, že média vytvářej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vědom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řejnosti o daném tématu a strukturují  veřejný zájem. Masová média tedy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určují,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terá témata budou v té které době obzvlášť aktuální a budou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ovlivňovat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chování publika-veřejnost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azuje se, že masová médi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vlivňují spíše pohled na svět v tom smyslu, že definují témata hodná zájmu publik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než aby se prvoplánově soustřeďovala na postojovou konverzi. Spíše tak definuj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hranice releva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Mediální konzumenti se ta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ohou považovat z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ktivní hledače informací a řešitele problém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sahová analýza válečné agendy ukazuje, že z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dominov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udiová prezentace či dotáčk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imo vlastní situaci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více než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lovina sdělení byla ze studi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Zbytek byl převážně z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skových konferenc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živé pokrytí vál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prezentovaly předevší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běry na letící rakety Scu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3% pokrytí se týkala skutečné vojenské ak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 procento pokrývalo vizuálně smrt či zra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/ Celá informační manipulace se tak odehráva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střednictví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iskových konferencí skrze hlasy expertů - vojenský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ÍČOVÉ POSLELSTV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nešlo o osvobození Kuvajtu, ale varování arabských zem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CNN pokryla 100 zemí 24 hod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aitmotivem jejich vystoupení byla tzv.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chytrá (inteligentní) technologi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íří přesně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zabíj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iváci by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smerizování pohledem na Scudy přesně zasahujícími vojenské skla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YTRÁ, INTELIGENTNÍ TECHNOLOGIE TA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OSTALA OZNAČEN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BRA, ROZUMU A MORÁLK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KUTEČ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pouze 7% bomb bylo chytrých, 10% z nich se minu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Irák byl podroben kobercovému bombardování, jehož tonáž překročila množství bomb svržených za celou II. světovou vál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totální destukce průmys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milion zraněný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 150 000 mrtvý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Gerbner, Movlana, Schiller: Triumf obrazu: mediální válka v Perském zálivu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ÉLKA TRVÁNÍ MEDIÁLNÍ AGE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dlouho trvá než se mediální agenda přesune do veřejn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áleží na témat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c Combs a Ston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přesun z mediální agendy do veřejné agendy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vou do šesti měsíc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Witer a Eya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nalyzovaly přesun tématu občanských práv v New York Times po dvacet let. Rychlost varioval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ez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tyřmi a šesti týd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nta a Shoemaker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1989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dentifikovali ve vztahu k tématu drog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vlny zájm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 dvou měsíců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ruhá vl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zi 4 a 5 měsíc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anielian a Ree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1989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kázali, že nárůst agendy mediální agendy „drogy“ 1985-86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korespondoval s jejich vyšší konzumací, či většími skandály, problémy, ale, že byl nastartován tlakem NYTimes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roveň prokázali, že agendotvornější jsou tištěná méd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ŘI TYPY AGENDY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(Mannheim, 1987)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astolování agendy má dynamický charakter a rodí se z interakce tří odlišných typů agendy: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B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ŘEJNÁ,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C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LITICKÁ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987640" y="2205000"/>
            <a:ext cx="2448000" cy="10080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ÁLNÍ AGE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74680" y="4870440"/>
            <a:ext cx="2317680" cy="934920"/>
          </a:xfrm>
          <a:prstGeom prst="rect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OLITICK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48360" y="4903920"/>
            <a:ext cx="2232000" cy="104616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ŘEJN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68000" y="3213000"/>
            <a:ext cx="1008360" cy="1584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92360" y="5373720"/>
            <a:ext cx="16560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3213000"/>
            <a:ext cx="1008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9337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, VEŘEJNÁ A POLITICKÁ AGENDA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(DEARING, ROGERS, 1996 – modifikované schéma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28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EDIÁLNÍ AGENDA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bsah a jeho průnik do age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ŘEJNÁ AGEND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hierarchie významnosti témat ve společnosti/veřej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LITICKÁ AGEND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výsledek působení mediální a veřejné agendy. Nevyčerpává ale všechny intervenující proměnn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ákladními mechanismy, které se podílejí na konstrukci mediální agend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kvantit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frekvence a pokryt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dakční čle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íra konfliktnosti zpráv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ůsobení zprávy v ča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tr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HISTORICKÉ SOUVISLOSTI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Často uváděným příkladem významné role mediální agendy ve vztahu k veřejnému mínění je volba amerického presidenta, kdy byl poměr voličských preferencí mezi Carterem a Reaganem velmi těsný. Významná americká média v tuto chvíli  začala referovat o možnosti, že b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čané držení v Iránu jako rukojmí mohli být propuštěni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Reagan pak následně vyhrává volby s velkým náskok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analytici  upozornili na to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dializace tématu rukojm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bylo obecně vnímáno jako příkla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hybné strategie zahraniční politiky či přímo neschopnosti Carterovy administrativ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bylo jednou z rozhodujících příčin jeho volební proh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dy média neříkala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volte Cartera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l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mýšlejte o této konkrétní kauze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VÝZKUM: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Mc Combs a Shaw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97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vní výzkum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ovedli v Chapel Hill v severní Karolíně v průběhu volební kampan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svou analýzu zvolili voliče, kteří se deklarovali jako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rozhodnutí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100). Předpoklad, že se budo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ýrazněji zajímat o informace týkající se prezidentských voleb a že se budou snažit reflektovat celé názorové spektrum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to respondenty pak dotazovali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jzávažnější problémy země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jich odpovědi byly následně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ategorizovány na tzv. problémy hlav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edlejš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08:11:46Z</dcterms:created>
  <dc:creator>JV</dc:creator>
  <dc:description/>
  <dc:language>en-US</dc:language>
  <cp:lastModifiedBy>JV</cp:lastModifiedBy>
  <dcterms:modified xsi:type="dcterms:W3CDTF">2010-12-02T08:15:22Z</dcterms:modified>
  <cp:revision>6</cp:revision>
  <dc:subject/>
  <dc:title>3. PÚSOBENÍ MÉDIÍ A POLITICKÁ KOMUNIKACE</dc:title>
</cp:coreProperties>
</file>