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EE5A-0668-42F8-A038-0956B022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EC94-5BC1-4631-8CE3-1979015F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5AE0-55A0-4547-A7A0-EAC4AE7F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437B-28E1-4E29-B58D-28DF127E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0855-115D-442F-8EBF-74D37DA3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9626-CAB8-4434-96EA-101D5948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638F-555B-42E8-8756-A3C4D449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E88C-6E8C-4F1E-9A63-1DE46154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A7E3-6760-4A6F-9D18-A14B4D3D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00A7-7D87-4C6F-968B-416CCB36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15D4-5D4B-4B7C-A4EE-2C0A3CEC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2550-A056-478E-AA06-E78611F1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8447-3E65-450D-8147-C2270BD9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746B-E5D5-4835-B03F-545E5712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69BB-1221-44F5-94C0-016DB0D9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707E-E436-4362-9BB7-7579AB38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1CDD-25C4-40EC-805E-D9005B79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724B-8683-41F1-A06A-BEB98C01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4504-4F17-4EB7-AE37-A42A9333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084D-856F-4675-BF64-2A43043C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3085-BC91-483F-B292-CA1400FD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826A-AE80-466B-9E95-FE3BEA9B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D8BD-B3CF-49BC-AEFA-375D7A65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6F21-3926-4C19-96B3-98197D74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74C8-1F9A-4010-A813-A857778B8C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F640-D711-4117-B400-F76FF7013C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. T E O R I E   P Ř E S V Ě D Č O V Á N Í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(PERSVAZE, PERSUAZE)</a:t>
            </a:r>
            <a:br>
              <a:rPr sz="2800"/>
            </a:b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kutečnými manipulátory jsou naši vnitřní přisvědčovatelé – naše chutě, naše strachy, marnivost a ješitnost, které zručný manipulátor využívá.“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2349360"/>
            <a:ext cx="9144000" cy="450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vazivní komunikac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představuje pouze jeden z typů masového komunikování. Jde ale o typ vysoce frekventovaný. Jeho cílem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ormovat postoje, respektive způsobit postojovou změnu (konverzi) u objektů, na které daná komunikace cíl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kum persvaze se odlišuje od jiných typů výzkumu mediálního působení především v tom, že analyzuj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zamýšlené, intencionální působe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tšina typů mediálního působení je ovšem nezáměrná a spouští tzv. nezamýšlené důsledky/působ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GNITIVNÍ FUNKC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umožňu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rukturovat zkušenost tak, aby se nám jevila jako smysluplná a srozumitelná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Zkušenost je proto v postojích reorganizována tak, aby byla vnímána jako konzistentní, bezrozporná. Klasickým příkladem jsou náboženské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3112560"/>
            <a:ext cx="9144000" cy="374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 spuštění tohoto typu postoje je třeb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otevřít nějaký starý problém, který nebyl nikdy dořešen a dotknout se všech souvislostí, které se na něj váž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poskytnout k jeho řešení ambivalentní informace nebo změnit prostřed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/ nabídnout více významných informací o daném problé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.1. EFEKTIVITA PŘESVĚDČOVACÍHO AKTU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kumem přesvědčovacího mechanismu se zabývali již v 50. letech Hovland, Janis a Kelley, kteří kategorizovali sílu informačních zdrojů (sociální kredit zdroje informací) u vysokoškolských studentů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2924280"/>
            <a:ext cx="9144000" cy="388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ako klíčové označují následujících pět proměnnýc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povaha materiá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prostředí jed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osobnost (sugestibilita, inteligen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/ mínění většiny (má větší vliv než mínění expertů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/ emocionální argumentace je vlivnější než racionál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TOJOVÁ KONVERZ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stává většinou u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eutrální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eb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mbivalentníc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stoj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řídka u vyhraněný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Významný vliv má referenční skupin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kutečněn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stojové změny se musí odehrávat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upně.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jprve spíše navozováním neutrálního postoje a pak protikladnéh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nak nastává tzv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umerangový efek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ŘÍKLAD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ediální kampaně zaměřené na změnu postoje vůči Rómům zdůrazňující negativní (rasistické) vlastnosti majoritní populace spouštějí „bumerangový efekt“ i u tzv.slušných občan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       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HLAVNÍ FAKTORY OVLIVŇUJÍCÍ EFEKTIVITU PŘESVĚDČOVACÍHO AK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vland, Janis a Kelley definovali v prác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Communication and Persuasio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4 klíčové atributy ovlivňující efektivitu přesvědčovacího akt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CHEMA 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1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/ KREDIBILITA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a zdroje kredibility jsou považovány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tn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polehliv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EXPERTN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ychází z jistého odborného školení, zkušeností, inteligence, profesionálních schopností a sociálního statu. Ti, kteří preferují expertní soud a nechají se jím ovlivnit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3212640"/>
            <a:ext cx="8642160" cy="3645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90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jsou většinou lidé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racionálně řešící problém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o jedince, kteří se snaží co nejvíc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řiblížit své postoje vnější realitě či reálnému svět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při takovém ovlivnění většino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internalizují nový postoj, který se pak stává rezistentním vůči změně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SPOLEHLIV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je dána důvěrou publika v to, že komunikátor je motivován k tomu komunikovat své sdělení bez falše. Tedy, ž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olehlivý zdroj nemá záměr manipulovat a nebude tedy mít žádný zisk z toho pokud jeho doporučení bude publikum akceptova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Prodejce automobilů, který jezdí ve své značce je jen zřídka vnímám jako spolehlivý zdroj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tní a spolehlivý zdroj je vnímán jako kredibilní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OVLAND a WEIS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lovali za pomoci faktorové analýzy dva klíčové faktory"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upřímnost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rustworthiness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věrohodnost).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„The Influence of Source on Communication Effectivness“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1951)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FAKTORY KREDIBILITY (WHITEHEAD,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1968)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65 sémanticky diferentních pojm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Faktorovou analýzou pak došel ke čtyřem dominantním faktorům, které definují kredibilitu zdro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polehlivos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dobrý/špatný,čestný/nečestný,spolehlivý nespolehlivý, spravedlivý/nespravedliv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fesionalita nebo kompeten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zkušený /nezkušený, má profesionální návyky/nem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ynamično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agresivní/poddajný, aktivní/pasivní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bjektivit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otevřený/uzavřen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kazuje se ale, že základní charakteristiky kredibilního zdroje jako je jeho status, spolehlivost, expertnos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působí ve smyslu načítání jednotlivých charakteristik do KREDIBILI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ale jde o tzv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ultiplikativní či násobící účinek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dy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a charakteristika násobí účinek druhé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ak se rodí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arismatiký typ persuaz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VÝZKUM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HOVLAND/WEIS, 195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SIGN VÝZKUMU: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vě skupiny vysokoškoláků měli hodnotit různé názory na základě informací ze dvou typů zdrojů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dna skupina obdržela sdělení od zdrojů 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ízkým kredit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ruhá o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oce kredibilních zdroj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ubjektivní názor na daná témata byl měřen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na začátku experimentu - „před výzkumem“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 v druhém kroku respondenti obdržel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články argumentující k danému témat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 jejich přečtení byl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pětně dotazováni na stejná témat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Po měsíci bylo dotazování opaková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Témata, o které při přesvědčování šlo byla následující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i="1" lang="cs-CZ" sz="2600" spc="-1" strike="noStrike">
                <a:solidFill>
                  <a:srgbClr val="feec94"/>
                </a:solidFill>
                <a:latin typeface="Times New Roman"/>
              </a:rPr>
              <a:t>Může TV za úbytek diváků v kinech?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Respondenti obdrželi články argumentující k danému tématu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expertní názor v časopise Fortune b/ proti interwiev s  ženou z lidu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i="1" lang="cs-CZ" sz="2600" spc="-1" strike="noStrike">
                <a:solidFill>
                  <a:srgbClr val="feec94"/>
                </a:solidFill>
                <a:latin typeface="Times New Roman"/>
              </a:rPr>
              <a:t>Mohou být antihistaminové léky prodávány bez lékařského předpisu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New England Journal of Biology and Medicine vs. b/ obrázkový časopi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e nedostatek oceli způsoben ocelářským průmyslem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Bulletin of National Resources Planning Board, b/pravicový sloupkař zaměřený militantně protidělnick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4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sou Američané schopni postavit atomovou ponorku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špičkový fyzik Robert Oppenheimer b/ ruská Pravd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       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ZDROJE S VYSOKOU KREDIBILITOU MĚLY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         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ÝRAZNĚJŠÍ VLIV NA ZMĚNU POSTOJ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HRNUTÍ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řesvědčování je efektivní tehdy, kdy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příjemci věnují sdělení pozor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sdělení rozu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akceptují 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.1. POSTOJ A POSTOJOVÁ KONVERZE</a:t>
            </a:r>
            <a:br>
              <a:rPr sz="2800"/>
            </a:br>
            <a:br>
              <a:rPr sz="2800"/>
            </a:b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TOJ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“ -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homas, Znanieck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(Polish Peasant in Europe and America 1918-20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toje jsou to stálejší obecné orientace individua vůči jeho okolí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toj představuje stav pohotovosti pro určitý typ odpovědi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9144000" cy="393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Postojem rozumí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v individuálního vědomí, které determinuje reálné nebo možné aktivity individua v sociálním světě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Postoj je tendence odpovídat (reagovat)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ladn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eb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porn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a určité osoby, předměty nebo situ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Postoj odráž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hotovost k aktivaci motiv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"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toj je dispozice jednat vnímat, myslet a cítit ve vztahu k dané věci (Theorore Newcomb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 měsíci se dostavil tzv.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Fenomén spáčského efektu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CHEMA 2</a:t>
            </a: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(HOVLAND, 1942-45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Jak jsou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efektivní edukační filmy, užívané pro výcvik a především  zvýšení motivace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(Why we fight, Battle of Britai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VÝZKUMNÝ DESIG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Metoda: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rozsáhlé kvantitativní šetření na souboru 2100 respond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Tři hlavní výzkumné otázky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ak zvyšovaly faktické vědění - informa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ak formovaly specifické postoje týkající se Bitvy o Angli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ak zvyšovali/měnili postoje akceptace vojenské role,  vůli bojov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Hlavní zjištění výzkumu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ysoká efektivita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šíření informací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faktického charakteru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oměrně úspěšný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při formování a proměně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pecifických postojů ve vztahu k BITVĚ a Britům obecně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neměl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žádný vliv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na motivaci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sloužit v armádě či při zvyšování nenávisti k nepřítel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EDNORÁZOVÁ MASOVÁ KOMUNIKACE NEMÁ VLIV             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A SILNĚ DRŽENÉ POSTOJ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 zde se projevil  spáčský efekt (SCHEMA č.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stování postojové změny se uskutečnil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pět dnů po promítání filmu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opakovaně 9 týdnů po promít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aradoxně se ukázalo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raznější změna nastala po 9 týdnech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ktuálně po shlédnutí filmu nebylo sdělení tak významné, ale s přibývajícím časem nabývalo na aktuálnost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dno z možných vysvětlení  tohoto fenoménu vychází z možnosti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ám zdroj tedy filmové médium bylo považováno za málo věrohodn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ale po několika týdnech byla tat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věrohodnost zapomenut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zůstala pouze vlastní inform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STRANNÉ NEBO OBOUSTRANNÉ SDĚL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roblém psychologie přesvědčování - zda sdělovat informaci pouze jednostrannou nebo zohlednit dva či více různých mnohdy protichůdných pohledů a podtrhnout pohled svůj. </a:t>
            </a:r>
            <a:br>
              <a:rPr sz="2800"/>
            </a:b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Jaký typ přesvědčovacích strategii/sdělení je efektivnějš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jednostranné (one-sided) nebo oboustranné (two-sided).</a:t>
            </a: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Jednostranná informa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bývá obhajována proto, aby nebyly vyvolány velké pochybnosti.</a:t>
            </a: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oustranná informa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bývá preferována z důvodů lepší možnosti připravit příjemce, kteří jsou proti sdělení a odblokovat možné potenciální námitky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(Hovland, 1945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ak motivovat vojáky v boji proti Japoncům v situaci, kdy válka v Evropě už skončil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ÝZKUMNÝ DESIG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ed experimentem vyplnili respondenti dotazník, kde deklarovali  očekávání „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jak dlouho bude ještě válka trvat“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ipraveny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vě verze rozhlasových poselství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V obou byla základní informace, že b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álka měla trvat ještě nejméně dva roky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Bylo ale využito dvou způsobů prezentac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rvní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j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ednostranné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selství trvalo 15 min.Argument -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álka bude pokračovat nejméně dva roky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Dále následovala charakteristika japonské armády a obyvatelstv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Druhé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oboustranné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trvalo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9 minut a obsahovalo  popis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komplikovanosti situac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ale zdůrazňovalo i výhody existence pouze jednoho nepřítel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Osloveny tři skupiny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1/  jednostranně (one sided)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2/  oboustranným sdělením (two sided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3/ žádné sdělení kontrolní skupin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ásledoval opakovaný dotazník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ě testované skupiny korigovaly postoj na rozdíl od skupiny kontrolní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ezi oběma skupinami však nebyl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žádný rozdí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zdělili skupinu na ty, kteří  původně předpokládali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kratší trvání válk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jejich odhad byl méně než 1.5 roku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/ ty, kteří předpokládali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elší trván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víc než 1.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FEREN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na respondenty, kteří původně předpokládal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elší trvání válk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 působilo efektivněji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ednostranné sděl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Oboustranné sdělení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ůsobilo efektivněji na ty, kteří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očekávali kratší trv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 pohled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zdělán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yl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ednostranné sdělení efektivnější u respondentů s nižším vzděláním a naopa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7993080" cy="525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ÁVĚR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ersvazivní efektivita sdělení závisí na individuálních psychologických charakteristikách. 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 tomto smyslu jsou účinky propagand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íce nahodilé než cílené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IMUNITNÍ TEORIE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PAPAGEORGIS/ McGUIRE,1962)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ím z nejfrekventovanějších výzkumných cílů je snaha odhali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chanismus rezistence či imunity vůči přesvědčovacím technikám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ato teorie je postavena na analogii s medicínskou koncepcí očkování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9144000" cy="43657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unikační ohrožení spočívá v tom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isponujeme velkým množstvím postojů, které nikdy nebyly vystaveny tlaku zpochybněn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 jsou náchylnější k postojové změně. Nedisponujeme zde obrannými látkami.Nabízejí se dvě možnosti jak tomuto ohrožení  zabrán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podávat podpůrné látky - posilovat stávající postoj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stran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postupně vystavovat individua oslabené formě nákazy - tj. podáva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boustranné vyvážené inform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ýhodnější je vystavovat individua kontraargumentům.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MUNITNÍ TEORIE KOMUNIKACE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PAPAGEORGIS/ McGUIRE,196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volili pro testování taková přesvědčení, která se jen obtížně zpochybňují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ulturní truism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1/ každý by se měl dostavit jednou ročně na rentgen zda nemá tuberkulóz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2/ účinky penicilinu jsou jednoznačné, až na malé výjimky pozitiv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3/ většina forem duševních nemocí není nakažli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4/ každý by si měl čistit zuby každý 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686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trolní skupina je na škále jednoznačně lživé - jednoznačně pravdivé 1-15 hodnotila (13.26 me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tvořil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vě skupi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 první dostávala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oboustranné inform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půrn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pochybňujíc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druhá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jednostranné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půrné inform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 té byli obě skupiny vystaven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asivnímu zpochybňov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dnotlivých tez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U skupiny s jednostrannými informacemi způsobilo zpochybňování pokles na 6.60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max 15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kupina těch, kteří byli „očkováni“ oboustranně byl pokles menší pouze na 10.30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Efektivnější při vytváření rezistence se projevilo (pasivní) čtení než (aktivní) psa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harakteristika postojů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ncionali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yjadřují určitou kvalitu - sympatie/antipat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jí intenzi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ekven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jí polární charak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sou konzistentní nebo nekonzistentní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soudržnost kognitivních, afektivních a konativních složek). Nejkonzistentnější jsou extrémní posto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val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oje se vytvářejí v procesu sociálního uč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/ dramatickou zkušeno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/ nápodob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TRAKTIVITA - PŘITAŽLIVOST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 obecném pojetí jde o představu spojenou s fyzickou atraktivitou či charismatem. Vzhledem k obtížné operacionalizovatelnosti a měřitelnosti takového pojmu používá komunikační výzkum následující subkritéria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74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podob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dobrá znalost, obeznámenost s daným komunikáto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sympatičnost, obli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/ blízk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/ koop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/ fyzická atraktivit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DOB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ecně platí, že vyhledáváme lidi, kteří jsou nám alespoň v některém rysu podobní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ato podobnost sestává ze dvou kompon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emografick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vyhledáváme lidi s podobnými demografickými charakteristikami jako máme my - věk, vzdělání, příjem, náboženství,  rasa apod. V obecném jazyce se říká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„je to jeden z nás. Je to naše krevní skupina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deologick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jde o podobné postoje a míně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ologická podobnost působí silněji než demografick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OBRÁ ZNALOST KOMUNIKÁ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případě komunikace a masové zvlášť platí, že jsm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itahováni takovými zdroji, které zná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e těžké přijmout nové komunikační zdroje a porušit tak denní rutinu např. čtenářských zvyk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 SYMPATIČNOS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 komunikaci jsm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itahování těmi, které máme rádi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ří jsou nám sympatičtí (známé tváře se neopouštěj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Pravděpodobnost obliby stoupá přímo úměrně v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ztahu k odměnám, které komunikátor poskytuj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to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dmě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abývají v zásadě tyto dvě form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edukce úzkosti, stresu, osamocenosti či ohrož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zkostní lidé mají tendenc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ragovat se stejným lidmi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likož interakce s druhými přivádí úzkost. Často užíváme druhé jako nástroj informací o vlastních pocitech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e je jedním z nástrojů umožňujících odklonění úzkost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Sociální uzn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ympatizujeme s těmi, kteří ná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vyšují sebehodnocen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sp. s těmi, kteří nám ukazují jak být oceňováni druhými. Jinými slovy sociální uznání zajišťuje uspokojení našich potř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BLÍZKOST KONTAK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dividua, která jsou s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fyzicky blíže jsou vzájemně více přitahován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Běloši, kteří jsou v bližším kontaktu s Afroameričany mají vůči nim méně předsudků a komunikují s nimi lépe. Vyšš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blízkost zvyšuje výměnu informací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ecným zjištěním je, ž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face-to-face komunikace je efektivnější než nepřímá mediovaná komunik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OOP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, se kterými kooperujeme ty máme rádi, ti kteří nám blokují odměny ty odmítá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F/ FYZICKÁ ATRAKTIVITA</a:t>
            </a: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ětšinou si namlouváme, že jsme  schopni oceňovat druhé na základě jiných charakteristik, než je jejich fyzická přitažlivost. Výzkum však hovoří o něčem jiném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říklady výzkum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DION (1982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okázal, ž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fyzicky atraktivnější studentky mají sociálně hodnotnější charakteristik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jako je sensitivita, morální síla, skromnost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 fyzicky atraktivních lidí se též očekává šťastnější manželství a prestižnější postav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ANDY a SIGAL (1986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rokázali, lepší hodnocen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labých esejů u atraktivních student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 (CHAICKEN, 1979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Téma: jaký má vliv fyzická atraktivita na efektivitu přesvědčován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Vzorek: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110 mužských a ženských komunikátorů, studentů psychologie z MIT, kteří prošli speciálním komunikačním tréninkem. Jejich tréninková praxe byla natočena na video, vyplnili osobnostní test a byli vyfotografován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Fyzickou atraktivitu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hodnotila pětičlenná porota(hodnotili na 15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odové škále). Následně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vybrali horní třetinu a dolní třetinu. 34 mužů 34 žen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Na atraktivitě a neatraktivitě komunikátorů se shodli následně i samotní přesvědčovaní respondent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ybraní komunikátoři byli rozmístěni v campusu s cílem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přesvědčit fakultní veřejnost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feec94"/>
                </a:solidFill>
                <a:latin typeface="Times New Roman"/>
              </a:rPr>
              <a:t>že je třeba přestat podávat ve všech universitních jídelnách maso</a:t>
            </a:r>
            <a:r>
              <a:rPr b="1" i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Realizac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prezentovali oslovenému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ázor proti konzumaci masa a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nechali vyplnit dotazník měřící souhlas s tímto postojem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/ nakonec požádal komunikátor o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podepsání petice proti podávání mas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492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ZJIŠT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traktivní komunikátoři vykázal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statistick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šší schopnost přesvědčit  o správnosti své argument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Byl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úspěšnější i při získání podpisů na pet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dyž ale Chaicken analyzoval hodnocení atrak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závislými soudci ukázalo se, že se obě skupiny neliší jen 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fyzických parametrech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, kteří byli označeni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traktiv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byli vnímáni i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átelštější, zajímavější, přesvědčivější, rychlejší  a plynulejší řečníc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íčovou proměnn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ní fyzická dispozice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le fakt, ž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traktiv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isponují (mají připsány) takovým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chopnostmi a charakteristikam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jež je činí přesvědčivějším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3/ KOMUNIKACE JAKO UŽITÍ MOC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ocenské zdroje mají tři charakteristik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cipovaná autorit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je dána tím jak vnímá publikum schopnosti zdro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dministrovat tresty a odmě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Trestající a odměňující moc je stejně efektivní při vytváření poddaj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cipovaný záje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je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o to jak a zda se publikum konformizuj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cipovaný dohle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povědomí, zda bude mocenský zdroj schope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ontrolova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da se publikum konformizu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ilný zdroj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edy bude schope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administrovat odměny a tresty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bude mít zájem na konformitě publi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bude schopen tento proces konformizace kontrolova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em tohoto procesu je PODDAJ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ocenské zdroje často užívaj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rozb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/tedy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odepírají odměnu a realizují trest s cílem vytvořit poddaj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to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oc méně  účinná než „atraktivita“ a „kredibilita“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čkoliv mírný mocenský tlak v některých případech vede k internalizaci poslušnosti silný tlak velmi čast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yvolává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BUMERANGOVÝ EFEKT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při kterém se energie investovaná do přesvědčování vrací jejímu realizátorovi násobenou silou. Místo poslušnosti se objevuje otevřený odp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HEILMAN/GARNER (197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Silný mocenský tlak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e ve srovnání se slibem odměny nutně méně efektiv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jelikož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hrožuje integritu a svobodu jednán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Jedinec se dostává do situace, kdy si musí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zvolit mezi dvěma zly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nepreferovanou aktivitu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pod pohrůžkou trestu neb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odstoupit trest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který bývá často reprezentován ztrátou odměn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Když se nepostavíme hrozbě trestu hrozí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rozbití jeho sebeobrazu.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odrobení se vyvolává u jedinců pocit, že jsou vnímáni jako slabí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Často tak platí, ž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udržování vlastního sebepojetí, tj. sebeobrazu i sociálního obrazu se stává významnějším než vyhnutí se trestu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ůvodem selhává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mocenské persuaze je percipovaná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ztráta svobod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Mocenský tlak může být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stejně efektiv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jako slib odměny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pokud je nabídnuta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určitá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možnost svobodné volby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(např. možnost zvolit si z několika variant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 případě postoje se jedná o vnitřní stav, který lz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ěžko měřit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oje nemohou být pozorovány přímo - jsou 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ypotetické konstrukt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ale mohou být zkoumány pouze ve svém vnějším výrazu.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oje jso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ementy vnitřní psychické organiza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a vytvářejí systém, pletivo specifických hodnocení, které se vždy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ganizují kolem nějaké centrální hodnot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(Autoritářská osobnost:postoje organizované kolem ústředních hodnot moci a autority)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4365360"/>
            <a:ext cx="9144000" cy="194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ní otázka: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Je  postojová změna vždy doprovázena změnou chování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4/ STRACH JAKO MECHANISMUS PŘESVĚDČEN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trachová komunikac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fear appeal) se používá standardně jako komunikační strategie např. při situacích, kdy je třeba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rychle akcelerovat obrannou reakci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chází se zde ze dvou předpokladů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strach vede k postojové změně protože působ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měnu pozornost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tak, že ji zvyšu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vysoký strach ovšem vede 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istorzi sdělení a ke spontánním defensivním reakcí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REKLAMA PROTI KOUŘENÍ, Nemyslíš, zaplatíš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Janis a Feshbach: Communication and Persuasion, 195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skytli středoškolským studentů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ři odlišná sdělení na téma dentální hygien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Č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vrtá skupina – kontrolní. Ještě před tím než je vystavili sdělení nechali je vyplnit dotazník zaměřený na dentální hygienu a opakovali dotazování týden po jednotlivých expozicíc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ři typy sděl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ndardní přednáška o dentální hygie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yvoláván minimální strach, ukázka dutiny ústní pouze s malými kaz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ukázka již pokročilých kazů a nemoci dás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otografie pokročilého rozkladu zubů a dás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nejsilnější strach) na zesílení efektů opakovaně zdůrazněn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o se může stát i vá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EFEKTIVNĚJŠÍ BYLO POUŽITÍ PRVNÍ VARIANT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gersův ochranně-motivační model strachového působení a postojové změny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ři klíčové faktory strachového přesvědčo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dhadovaná síla škodlivosti zobrazených udál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odhadovaná pravděpodobnost, že se taková věc může stá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dhadovaná efektivita ochranné/doporučované reak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měna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de představuje funkci ochranné motiv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Když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oporučení nahlíženo jako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álo efektiv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a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hraje roli odhadovaná míra škodlivosti daného jev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kouření, pornografie, násilí, politické prax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Jev je vnímán jako tí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škodlivějš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čím s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oporučení jeví jako efektivnějš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íklad pro teenagery platí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trach ze smrti vnímají jako vzdálený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Proto je efektivnější soustředit se na bezprostřední dopady daného jevu. Např. negativní důsledky pro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kvalitu individuálního či sociálního života (obecně zpochybnění image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IELS/ LEVENTHAL, 196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prezentovali třem skupinám respondentů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různě intenzivní varování před kouřením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. Postoje měřeny před prezentací a po zastrašující prezentaci (metoda pre/post testu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jsilnějš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strašení měl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arevnou filmovou podobu vyoperování jedné poloviny pl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méně intenziv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strašení použilo stejný barevný film o plicní operaci s komentářem o jejím vyoperování ovšem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ez záběru jejího vyoper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jslabš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uze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mentář bez filmového doprovo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efektivnější se ukázalo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jagresivněji koncipované sděle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které způsobilo postojovou změnu směrem ke konzumaci cigaret. (Jde ted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 opačné zjiště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ež u Feshbacha a Janise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světlení, které nabízí autoři vychází z toho, ž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s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á předpokládat nižší důvěra v to, že by čištění zubů bylo schopno zamezit tak razantnímu poškození jako je na obrázcích prezentovaná silná paradontóza či silně pokažené zub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aopak zastavení kouření se nejspíše zdálo jako dostatečný argument jak se vyhnout rakovině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ESVĚDČOVACÍ TECHNIKY V MASOVÉ KOMUNIKACI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ero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hum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opak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D 1/ ERO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0% reklamy v magazínech - stoupající tendence (v roce 1951 pouze 10%). Eroticky zabarvená reklama dokáže proměňovat percepci a image produkt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MITH-ENG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960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reklamy na model vozu FORD, kde použili dva typy sděl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eklama-plaká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de vedle vlastního produktu automobilu  Ford  byla na kapotu umístěna spoře oděná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odelka s oštěpem v ru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reklama-plakát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ez modelk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denti-muži měli hodnotit kvalitu reklamovaného vozu. Rozdíly byly zaznamenány ja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v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ubjektivní rovin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rožívání vozu (byl vnímán jak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itažlivější, mladší, plný život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tak i v rovině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bjektivní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věcné) rovin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muži automobil s modelkou považovali za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ýkonnější, méně bezpečný, dražší o 340 a maximální odhadovaná rychlost byla o 15 km vyš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iné studie ovšem prokazují, že erotika v reklamě naopak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dpoutává pozornost od propagovaného zbož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potvrdilo se jednoznačně, že si člověk vybaví lépe produkt se sexuálním/erotickým symbolem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Naopak často dochází k vytěsnění/překrytí propagovaného objektu erotickým obsa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líčový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úkolem je dostatečně asociovat produkt s erotickým vzore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ají zde výraznou roli cílové skupiny. Věk, vzdělání ap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2/ HUMOR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15-20%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evizních reklam obsahuje humorné prvky. Ve většině studi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ebyla prokázána postojová změna na základě působení humor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ecně platí, ž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umor v reklamě ovlivňuje především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ižší úroveň komunika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přitahuj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zornost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vytvář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íjemný kolor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ro diváky spíše než mění postoje a skrze ně ch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 vždy však je humor vnímán jako příjemný. Učitelé užívající humor jsou někdy  odmítáni protože se chovají v protikladu ke studentským očekáváním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ždy je ovšem podstatná adekvátnost použití humoru a cíl použití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or může slouži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dnak k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sílení stávajícího postoj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ebo k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dvrácení pozornost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která odtlumí možné protiargumen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umožní postojovou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07280" cy="619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PERIME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piere, 193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 roce 1930 Richard Lapiere navštívil s čínským manželským párem 251 hotelů a restaurací a pouze v jednom případě byl odmítnut. O šest měsíců později se Lapiere dotázal stejných restauratérů a hoteliérů, zda by obsloužili čínský pár. Drtivá většin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 92 %)  z nich odpověděla zamítavě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3/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PAKOVÁNÍ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se užívá především z následujících důvodů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e všichni se stále dívaj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znak vysoké kredibility zdroj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učí postoje a významy připisované reklamě - proces podmiňován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lepší znovuvybaven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rugman uvádí, že stačí tři opakován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rvní expozice j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ognitivní (co je to)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druhá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hodnotíc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(v čem mi to může pomoci)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3/ třetí expozice j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upozornění, výzva nebo počátek nesouhlasu, odmítnutí (stojím/nestojím o to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1/Problém nastává po první expozici, když nenastane zaujetí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2/ Pak je třeba průměrně 23 opakování než se dopracuje respondent ke II. stádiu „co s tím“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Zároveň každé opakování vede k narůstajícímu množství asociací, úvah irelevantních k  danému  objektu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KLASICKÉHO PODMIŇOVÁN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atsov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1968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plikoval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orii klasického podmiňování na proces učení emocionálně nabitých jazykových význam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skytli vysvětlení některých nástrojů, které užív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paganda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ámci užívá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zv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leštěných fráz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glittering generalit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chodiskem tohoto teoretického předpokladu je zkušenost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ova mají jistou emocionální hodnot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pozitivní i negativní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eselý, krásný, smích, jasný, dobrý vs. zlý, krutý, nemocný šílený ap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ojmech teorie klasického podmiňování jsou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emocionální stimuly chápány jako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nepodmíněné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post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spojující např. osobu nebo ideu s „pozitivně hodnocenými, příjemně zakoušenými, bezúhonnými slovy“, která vytváře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zitivní poci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neb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naopak spojuje osoby nebo ideje s negativními nálepkami. Toto postojové podmiňování se týká především reklamy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noho názvů produktů je shlukem slabik či znaků, které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dávají sami o sobě smysl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lanta“ (rostlinný tuk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a (mýdlo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oke is real thing“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nto slogan se pokouší přenést pozitivní asociace na poj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COK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íklad u značky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prit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produktové označení zvoleno na základě pozitivních asociací, které vyvolává u potenciálních klientů. Při měření „pozitivity“ se často používá tzv. sémantický diferenciá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EXPERIMEN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Staats/Staats, 195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mítli opakovaně na plátn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hluky slabik či znak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dávaly smysl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laj, wuk, gug)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současně je verbálně spojovali se slovy, která mají jednoznačně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pozitivní/negativní význa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V první skupině byly vžd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abiky bez jasného významu (laj, wuk, gug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árovány se slovy, která mě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soké pozitivní hodnocení (krása, vítězství, dar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 druhé kontrol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kupině bylo užito stejné strategie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le bylo použit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ov s negativním význame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zloděj, hořký, smutný)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ov, která neměla pevný jasný pozitivní/negativní význa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brzy, sníh, voda, oheň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Následně členové obou skupin obdrželi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600" spc="-1" strike="noStrike" u="sng">
                <a:solidFill>
                  <a:srgbClr val="feec94"/>
                </a:solidFill>
                <a:uFillTx/>
                <a:latin typeface="Times New Roman"/>
              </a:rPr>
              <a:t>sémantický diferenciál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, aby ohodnotili potenciál nesmyslných slabi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Pozitivní rating hodnocení obdrželi, slabiky spojované s pozitivními slovy a naopa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eec94"/>
                </a:solidFill>
                <a:latin typeface="Times New Roman"/>
              </a:rPr>
              <a:t>V tomto smyslu se postoj jeví jako forma emocionálního vztahu (významu),  k danému slov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vztah byl vytvořen klasickým podmiňování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říklad TV„ J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 u="sng">
                <a:solidFill>
                  <a:srgbClr val="feec94"/>
                </a:solidFill>
                <a:uFillTx/>
                <a:latin typeface="Times New Roman"/>
              </a:rPr>
              <a:t>SHRNUT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Podle teorie učení můžeme rozlišit tři základní fáze přesvědčování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zornost</a:t>
            </a: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B/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chopení či uchopení argumentů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vlastní přijetí/nepřijetí argumentu</a:t>
            </a: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Ad A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/ V první fázi je pro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zvýšení pozornosti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nejvýznamnější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atraktivita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 zdroje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. To je nejzřejmější v reklamě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Ad B/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Ve fázi druhé se ukazuje, že pro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„pochopení“ či zpracování</a:t>
            </a: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argumentů hraje 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klíčový význam </a:t>
            </a:r>
            <a:r>
              <a:rPr b="1" lang="cs-CZ" sz="2700" spc="-1" strike="noStrike" u="sng">
                <a:solidFill>
                  <a:srgbClr val="ffffff"/>
                </a:solidFill>
                <a:uFillTx/>
                <a:latin typeface="Times New Roman"/>
              </a:rPr>
              <a:t>kredibilita zdroje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ffffff"/>
                </a:solidFill>
                <a:latin typeface="Times New Roman"/>
              </a:rPr>
              <a:t>Zdá se tedy, že </a:t>
            </a: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převaha tzv. kredibilních zdrojů</a:t>
            </a:r>
            <a:r>
              <a:rPr b="0" i="1" lang="cs-CZ" sz="27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ffffff"/>
                </a:solidFill>
                <a:latin typeface="Times New Roman"/>
              </a:rPr>
              <a:t>je dána též mírou souhlasu s jimi prezentovanými názory. Tedy </a:t>
            </a:r>
            <a:r>
              <a:rPr b="1" i="1" lang="cs-CZ" sz="2700" spc="-1" strike="noStrike">
                <a:solidFill>
                  <a:srgbClr val="ffffff"/>
                </a:solidFill>
                <a:latin typeface="Times New Roman"/>
              </a:rPr>
              <a:t>kontextem a očekáváním</a:t>
            </a:r>
            <a:r>
              <a:rPr b="0" i="1" lang="cs-CZ" sz="2700" spc="-1" strike="noStrike">
                <a:solidFill>
                  <a:srgbClr val="ffffff"/>
                </a:solidFill>
                <a:latin typeface="Times New Roman"/>
              </a:rPr>
              <a:t>, pokud toto není naplněno </a:t>
            </a:r>
            <a:r>
              <a:rPr b="1" i="1" lang="cs-CZ" sz="2700" spc="-1" strike="noStrike">
                <a:solidFill>
                  <a:srgbClr val="ffffff"/>
                </a:solidFill>
                <a:latin typeface="Times New Roman"/>
              </a:rPr>
              <a:t>učíme se i z nízce kredibilních zdrojů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Ad C/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Vlastní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přijetí/nepřijetí 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doporučení je nejsilněji akceptováno u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 kredibilních zdrojů, následují zdroje atraktivní a mocenské působení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ECNĚ PLATÍ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Kredibilnější zdroje jsou významnější, al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asem ztrácejí na vlivu pokud nedojde k jejich připomenu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Kredibilita zdro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ovlivňuje schopnost vybavení informace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redibilní zdroje jsou efektivnějš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proti nekredibilním ne proto, že by se lépe učili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le proto, že js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odnoceny příznivěj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bavujeme si totiž stejně zdroje významné i nevýznamné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Většina studi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potvrzuje hypotézu „sleeper effec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tom smysl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j. že by síla nekredibilního zdroje časem stoup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kredibilní zdro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ohou mít schopnost bý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ersuasibilnější, pokud se jedná 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droj atraktivní nebo disponující mocí či užívající zastraš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atraktivní zdroje jsou méně persuasibilní než atraktiv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kud ovšem poskytu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očekávaná stanovis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jich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uasibilita stoupá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6/ Obecně plat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tší pozornost je věnována neočekávanému stanovisk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é je i lép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novuvybaviteln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7/ Slib odměn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dnoznačně či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unikaci efektivnější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než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řesvědčování skrze hrozb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8/ Přesvědčování za použi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rozby hrozí vyvoláním bumerangového efekt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 produkuje tedy otevřený odpor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ísto přijetí doporuč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9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rozba se stává efektivnější, když je zároveň dána možnost volby několika varian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 této podmínky se stává hrozba stejně efektivní jako slib odmě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TOJOVÉ KOMPONEN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senberg-Hovland rozlišují tři základní komponent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fektiv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hodnocení čehosi nebo vztah k čemusi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gnitiv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percepční odpovědi nebo verbální promluvy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ehaviorální/konativní/snahová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vnější jednání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FUNKCE POSTO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 především nutné pochopit jakou funkci ten který postoj zastává, aby bylo možné způsobit či alespoň predikovat jeho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například typickou chyb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ůsobit proti předsudkům faktickou informac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edy předpokládat, že předsudek jako postoj slouží funkci vědění (poznávací funkci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TRUMENTÁLNÍ FUNKC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ychází z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ximalizace odměn a minimalizace trestů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ubjekt vytváří takové postoje, které odpovídají jeho představě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dměn a trestů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Je pozitivní vůči objektům, které odměňují a naopak.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íklad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olební chování se řídí principem maximalizace odměn a minimalizace trestů.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(Příslušníci romské menšiny nevolili ve Vsetíně představitele KDU-ČSL, který řešil jejich bytovou situaci necitlivě)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4076640"/>
            <a:ext cx="91440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 spuštění této funkce postoje je třeba způsobi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ktivaci potř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pochybnit stávající mechanismy uspokoj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/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ytvořit nové potře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důraznit nové a přitažlivější zdroje uspokoj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GO DEFENZIVNÍ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funkc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rání jedince před uznáním nepříjemných pravd o sobě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Nejisté osoby často konstruují striktní předsudky vůči minoritním skupinám, aby se dostali do superiorní polohy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9144000" cy="403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e spuštění této funkce je třeb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vytvořit pocit ohrož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zvyšovat obecně frustr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využít působení tzv. autoritární suges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 nabídnout cestu jak zrušit ohrož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/ a dát prožít katarzi, která umožní vh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HODNOTOVĚ EXPRESIVNÍ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unkce umožňuje získa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spokojení skrze zaujímání takových postojů, které prezentují vlastní hodnoty-sebekoncepc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 Například formou identifikace s určitým hudebním proudem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e spuštění této funkce postoje je třeb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vyvolat zpochybnění vlastních hodn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které povede k přehodnocení sebeobraz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dojde k nespokojenosti se sebou samý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 nutně se pak objevuje vhodnost jiného posto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7:55:54Z</dcterms:created>
  <dc:creator>JV</dc:creator>
  <dc:description/>
  <dc:language>en-US</dc:language>
  <cp:lastModifiedBy>JV</cp:lastModifiedBy>
  <dcterms:modified xsi:type="dcterms:W3CDTF">2010-11-11T09:11:39Z</dcterms:modified>
  <cp:revision>8</cp:revision>
  <dc:subject/>
  <dc:title>V. T E O R I E   P Ř E S V Ě D Č O V Á N Í  (PERSVAZE, PERSUAZE) „Skutečnými manipulátory jsou naši vnitřní přisvědčovatelé – naše chutě, naše strachy, marnivost a ješitnost, které zručný manipulátor využívá.“</dc:title>
</cp:coreProperties>
</file>