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EF7C-2B1E-46DE-946B-2EF0F454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2D8-6E90-4DB4-8222-7A9AAC4E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564-14F9-43B1-8655-FEE6CC3D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720-B027-4441-8A35-C4C1BD3A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2DF2-F9B0-427A-83B7-A4E58BAE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0C0A-3F59-478F-AAF1-ACFA864F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B6E2-A08E-4A10-BD1F-0F64127F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8535-7A72-4E7A-9B59-1C228887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D846-9EE8-4D82-AA36-26BC8D4D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6A35-80B2-434F-8ADB-B6C9AFC7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572E-DCD0-47D8-9BA4-9DCD79FC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4F4-6B0A-4990-9F8B-21A2BDBF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7050-D0E1-457F-864D-F98FD0AA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2BA6-B685-4230-AFBF-0324C5B8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B69A-EC93-40D2-B169-2BA9ADAF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677E-22C3-4E29-92F6-1B36F027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19DF-BC80-4F85-9145-037D9C86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DAD-31CE-4EE1-9BEC-C20711AC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0A86-EFFF-487C-903A-46F14003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F41C-6250-4530-87EC-402509DA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1B04-CC04-49E2-9957-529E77A9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BDDD-CDF7-4631-9F55-1E2E0053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D1F-BA0C-49EF-BE7C-16306E11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4FD9-5AF9-430A-B612-A2563300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A7F4-1562-4C02-B472-CC2378BA8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222A-4396-4AF1-A14D-82C54B939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XI. SPIRÁLA MLČENÍ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80928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éma se de facto objevuje již ve výzkumu „People´s Choice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73 Elisabeth Noelle - Neumannová ředitelka centra pro Výzkum veřejného mínění Allennsbachu a profesorka na universitě v Mainzu. (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Zpět k teorii silných účinků, 1972)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jí koncepc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stupuje do etapy silných mediálních účink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nová tvrdí, že  pochybnosti o silných mediálních účincích byly dán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todologickým omezení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ětšiny klasických výzkumů zaměřených na vliv masových médi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508640"/>
            <a:ext cx="8137440" cy="20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cepc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irály mlče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ychází ze známého, historicky ověřeného zjištění, ž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polečnost trestá své nepřizpůsobivé za jejich neochotu sdílet většinové, dominantní hodnoty, normy a post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. INTERPRETACE VOLEBNÍCH VÝSLEDK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parlamentní volby  - 196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ízí se zde Lazarsfeldova teorie tzv.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and wagon effect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poslední vagón při volebních kampaních, ve  kterém měla své místo kapela - kam se dalo naskočil ještě za rozjezdu 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last minute swing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volba v poslední minutě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 analogiam – jakoby voliči v posledních třech měsících naskočili do onoho vozu s kapelou, který vezl SP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ovšem ve své koncepci  polemizuje s názorem P. F. Lazarsfelda, který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lidé chtějí být vždy na straně vítěz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jelikož s ním spoju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stavu určité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isku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mítá ta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incip 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nd wagon effect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ina lidí nemá ambice získat úřad či moc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ou může vítěz poskytnout. Říká, že je zde ve hře  jiný fenomén, a to o snah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YHNOUT SE IZOLACI, KTERÁ JE SPOLEČNÁ VŠEM.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. VOLEBNÍ TEST</a:t>
            </a:r>
            <a:br>
              <a:rPr sz="40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ellová se pokusila prokázat svou tezi tím, že  konfrontovala voličské preference zjišťované standardní otázkou  </a:t>
            </a:r>
            <a:br>
              <a:rPr sz="3200"/>
            </a:b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„které politické straně byste dali hlas, kdyby byly zítra volby?“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tázkou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DO PODLE VAŠEHO NÁZORU VYHRAJE PARLAMENTNÍ VOLBY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 ukazuje vývoj očekávání u této druhé otázky objevuje se zde trend naznačující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ěkteří (váhaví) voliči v závěru naskočí do vagónu SP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inci spirály mlčen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Noellové bylo přesvědčivé vítězství dáno právě tímto fenoménem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lo o vládní stranu a přimknutí k ní bylo mnohem snadnějš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inými slovy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sympatizanti obou stran mohou být početně velmi blízko, al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ohou se lišit svou energií, svou hlasitostí projevu - tj. například nošení stranických odznaků, mediálně vděčné perform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(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ituální výzva na souboj inscenovaná před kamerami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pod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íla obou stran je navíc nerozhodnutými percipována defakto jen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ákladě několika parciálních, vzhledem k síle strany irelevantních většinou mediálních „detailů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éně hlasití“ postupně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éně komunikují svůj názor  a tím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abývají více dojem o vlastním vyloučení a více pochybují o správnosti vlastní percepce problému, o správnosti vlastního soudu a tudíž komunikují ještě mé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zhodujícím důvodem pro toto mlčení j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trach z izol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d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edstava o reálnosti převahy jedněch nad druhým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která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á tvar spirály, jejíž průběh indikuje oslabování názoru jedné st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manová de facto tvrdí, že o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hota lidí hovořit o nějakém problému je silně  determinována veřejným klimatem či společenskou atmosférou, která se daného tématu dotýká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kud je individuum držitelem názoru, který většina nepodporuje umlká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. HISTORICKÉ ANALO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říklad mechanismu „spirály“ ilustroval de facto již Tocqueville, když popisoval úpadek církve v polovině 18 s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a hlavní faktor tohoto úpadku bylo podle něho právě postupné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„odmlčování se.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cqueville píše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i, co si podrželi víru v církev začali mít strach, zda by je taková veřejná deklarace nevedla k izolac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oce 1972 Noellová celý výzkum opakovala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dařilo se jí identifikovat skupinu lidí, kteří se cítí relativně izolovaní a prokázala u nich silnou inklinaci podléhat fenoménu poslední minut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lo o jedi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s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ižším sebevědomí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éně zaujaté politiko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/ TĚMTO LID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ŠLO O TO BÝT U MOCI, ALE O TO BÝT S VĚTŠINO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dyž lidé cítí, že se od nich ostatní odvracejí jsou mnohem manipulovatel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rach z izolace je silou, která dává spirálu mlčení do pohybu. V případě, že náš názor nemá šanci na širokou akceptaci a zároveň se ná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echce jej opustit zbývá druhá možnost - zmlkn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KRITIK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éma, které nechává teorie spirály nezodpovězené se týká otázky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jak začít znovu“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bízí se možnost, ž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i, kteří  sdílí většinový názor pomalu 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ztrácejí sílu hájit jej neb se již nesetkávají se silným odpor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manová říká, že pro povahu masové komunikace jsou určující tři následující charakteristik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umulativ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ytváření jednotlivých sdělení na základě nabalování dílčích událostí podle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ředstavy o jejich potenciálně spojité povaze a vytváření kontinuitního pojetí děj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šudypřítomno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ení oblast, které by se dnes média vyhýb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sonant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hoda při produkci základních témat či rámců komunikačního sdělení resp. produkcí unifikovaného obrazu daného tématu či události bez ohledu na různé typy médií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nto efekt shody omezuje působení selektivních mechanismů a brání možnosti vybrat si jiné sděl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. PSYCHOLOGICKO - ANTROPOLOGICKÉ KOŘENY TEORIE SPIRÁLY MLČE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ová vychází z toho, ž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společnost užívá k udržení sociální integrity takové tlaky či sociální mechanismy jako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strakizace, sociální exkluze, zesměšnění či sociální izolace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inec chce vyhnout izolaci musí přijmout způsoby chování, normy, hodnoty, které jsou obecně akceptovány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idský život je v tomto smysl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manentním monitorováním situace na tomto pol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nová hovoří o tom, že každý jedinec disponuje  jakýmsi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vázi-statistickým orgánem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íky kterému je schopen vníma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měny veřejného mínění, aniž by ovšem byl schopen detailněji je kvantifikovat či vysvětli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tav veřejného mínění odhadují jedinci na základě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pozorová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eziosobních interak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na základě sledová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asových médi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é poskytují informace o distribuci veřejného mínění ve vztahu k jednotlivým problém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trach z izol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podle Neumannové klíčovou hodnotou. Funguje jako antropologická konstanta výrazně ovlivňující náš životn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cit bezpečí -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ntologickou jistot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mpiricky inspiroval Noellovou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výzku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lomona Ash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: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Solomon Ash, 1952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sh testoval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 budou respondenti ochotni korigovat svůj odhad na základě vlivu ostatních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PERIMENTÁLNÍ ÚKO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ždy desetičlenné skupiny měli posuzovat,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která ze tří uvedených čar odpovídá jedné vybran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ALIZ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lenové experimentální skupin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eden po druhé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řistupovali k uvedeným vzorkům a označovali identické čár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aždý odhad se opakoval 12 krá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vní dvě kola všichni naprosto správně odhadovali velikost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 dvou kolech začali asistenti, kteří byli členy skupiny označovat za stejně dlouhou evidentně kratší čár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 deseti řádných členu skupiny postupně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est opustilo svůj původní správný názor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imes New Roman"/>
              </a:rPr>
              <a:t>Pouze  dva si stáli na svém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správném hodnocení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alší dv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dnou nebo dvakrát zaváhal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ale jinak drželi správný náz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bývajících šest se zcela přizpůsobilo tlaku většin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tšina lidí se spojuje s názorem většiny byť by její názor byl myln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 potvrzuje Tocquevillův názor, že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hrozba z izolace je silnější než hrozba omyl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 cílem vyhnout se možné sociální izolaci vykonáváme podle Noellov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ovky drobných pozor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zaznamenáváme stovky signálů o tom, zda js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klopeni sympatií či naopak zda jsme odmítán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oellová odtud vyvozuje, že p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ormování veřejného míně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é rozdělení na 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O MLUV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 TY, KDO MLČ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šší „hlasitost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dné skupiny, která nemusí být zpočátku výrazně početnější vede 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panování veřejného prostoru jedním názorem a ke spuštění mechanism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unikační či názorové spirály. Hlasitější názor dále posiluje 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éně viditelný či slyšitelný dále ztrá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ntroverzních témat sílí ti, jejichž názor se jeví být dominantně sdíl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zatímco ti, jejichž názor tuto charakteristiku postrádá postupně umlkaj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, co se cítí silnější projevují se hlasitěji a jsou tudíž viditelnější a opticky silnějš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sová média ovlivňují proces spirály třemi způso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formují povědomí o tom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é názory jsou dominant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formují povědomí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á témata a názory jsou na vzestup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informují o tom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é názory člověk může prezentovat, aniž by se vystavoval hrozbě izo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A. HISTORICKÉ SOUVISLOST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dea „spirály mlčení“ se rodí v ro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1965, kdy na podzim vrcholila volební kampaň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vedla jeden z výzkumných týmů, který v průběhu této kampaně měřil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olební preference politických stran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Celý poslední rok měly obě dominantní strany CDU/CSU a SPD velmi podobné výsledky. Rozdíl mezi nimi byl velmi mal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 vlastních volbách však došlo k tomu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zdíl narostl na více než deset procent ve prospěch SPD (SPD - 49,5,  CDU/CSU - 38,5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ště v srpnu činil rozdíl mezi oběma stranami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2.5%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zi srpnem a říjnem došlo tedy k nárůstu rozdílu o 8%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oellová si položila otázku,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o mohlo vézt k tak razantní změně, takovému nárůstu preferencí pro SP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8:44:38Z</dcterms:created>
  <dc:creator>JV</dc:creator>
  <dc:description/>
  <dc:language>en-US</dc:language>
  <cp:lastModifiedBy>JV</cp:lastModifiedBy>
  <dcterms:modified xsi:type="dcterms:W3CDTF">2010-12-02T08:37:10Z</dcterms:modified>
  <cp:revision>3</cp:revision>
  <dc:subject/>
  <dc:title>XI. SPIRÁLA MLČENÍ </dc:title>
</cp:coreProperties>
</file>