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6A19-82E1-4FBD-A69A-9C718CA90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783B-FAC6-4D91-A1EA-CF8A3A5F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8C4A-5804-4102-AB8B-FF63760D7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1962-EABB-4981-B0AA-1B3995162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B6C1-39BD-44D7-8586-54BDB4FF4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4ABD-E5F8-4E9A-B594-6BA36383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364F-EDF8-449F-BD54-CDDF2E2E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F5C45-58F6-4818-B456-1C198334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BB1C9-FD68-4781-BF61-62E7C112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2DC3-C66F-4140-B04F-315DBB1C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3A72-104B-4790-86D8-690336C6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903F-340B-4D57-9610-94DD9C8A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7C8EE-4B9F-4A97-BC32-DD3CE41C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FF69-AD68-48D2-8986-95CB083E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49CB-B619-4C39-A5C3-B6B98795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4E12-01A9-4677-808F-698C14C31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DC71-477A-4CD3-8AF0-87F242736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1F28-3126-47E9-9624-3A7F9F27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5395-675C-498F-9B12-E22B88E2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B8AE-810F-4EBE-8764-894A45BC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BD10-A494-44C9-BABE-A49B7255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4EC9-2CCC-453C-B216-F8290345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3673-5743-4308-A467-9C7949AE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F93F-8BDA-4103-8279-FEB9A55D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A14E-F52E-489A-870A-9D62450AB2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85EC-6CEC-4F6A-A959-CD6B19AC84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67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II. PÚSOBENÍ MASOVÝCH MÉDIÍ A ROLE INTERPERSONÁLNÍ KOMUNIKAC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/ Dvoustupňová komunika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Difůze inovací S -křiv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C/ J- Křiv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Vedle psychologických výzkumů zaměřených na mechanismy přesvědčování j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ruhá  etapa výzkumu mediálních účinků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charakterizována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sociologickou snahou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ddémonizovat pozici masových médií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, respektive korigovat představu o jejich všemocném a přímém působe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číná zde etapa tzv.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mezených mediálních účinků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VÝZKUM DECATUR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 E. Katz /P.F. Lazarsfeld, 1954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kum byl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oncipován tak, aby odpověděl otázku pro National  news magazine týkající s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ákupních vzorců, vkusu při oblékání a užívání kosmetiky, návštěvě kina a formování mínění v lokálních politických událostech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udie identifikoval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ázorové vůdc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dle jejich pozice, kterou zastávají v životním cyklu a podle sociálního stat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líčovými otázkami, které si v této době výzkumníci položili se zaměřili na to zda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e tvůrci mínění shodují ve věku, pohlaví, sociálním statu apod.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da jsou tvůrci mínění více vystaveni médiím?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či jsou tvůrci mínění více zaujati daným problémem?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HLAVNÍ ZJIŠTĚ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42% postojových změn v jednotlivých tématech bylo způsobeno osobním vlive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ruhé osob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Jako rozhodující se ukázal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íra integrace do skupin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ostatní sociodemografické charakteristiky jak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ěk, pohlaví, vzdělání byly až sekundární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Studie potvrdil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ředpoklad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vůrci mínění se vyskytují  na všech statusových rovinách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Vyvstává tak otázka čím se liší od svých souběžců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ersonifikací hodnot dané skupiny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co je zač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 to tedy osoba jíž se souběžci snaží napodob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Kompetencí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(co zná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c/ Strategickou sociální pozicí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(koho zná)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rategická pozice je jednak dána tím koho zná uvnitř skupiny, (leader musí mít souběžce) které dominuje a zároveň koho zná mimo skupinu v relevanci k danému tématu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SOCI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4/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udie dále prokázala, že se tvůrci míně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íce vystavují mediálnímu působení než jejich souběžci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Více četli noviny a politické rubriky v případě volebního vůdcovstv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5/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Názorové vůdcovství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definováno výrazně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tématem, předmětem sdělení.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vůrci mínění mají někdy kosmopolitní charakter někdy charakter lokál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6/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vliv „opinion leaderů“ je dán nejen tím, čím jsou - tedy sociálním  statem, věkem nebo pohlavím, ale též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rukturou a hodnotami skupiny jíž jsou členy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vůrci mínění defacto fungují tak, že posilují skupinové normy a individuální míněn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Interpersonální působení zvyšuje názorovou homogenitu skupiny. Ti, kteří původně deklarovali  jiný postoj jej změnili v tom směru, že se konformizoval s jejich primární skupinou, přáteli a známým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ako charakteristický rys vztahu souběžců k tvůrcům mínění se ukázala jejich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chota podpořit je i v případě, že pochybovali o správnosti jejich názor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(podobné zjištění potvrzují studie zabývající se diseminací tzv. inovací - v případě šíření a doporučení nových léků se projevila ochota souběžců podržet své názorové vůdce i v situaci, že jimi doporučené léky selhaly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7/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sobní vliv se ukázal silnější a častější nejen v politice, ale i  módě,  umě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t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Například p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ři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postojových změnách ve vztahu k filmové produkci byl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personální kontakt pět a půlkrát silnější než druhé nejvýraznější médium -  noviny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. (J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e ale třeba předpokládat jak časovou dynamiku, tak i odlišnou kulturní pozici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FENOMENISTICKÝ PŘÍSTUP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elou etapu omezených účinků (jak psychologické tak i sociologické studie) shrnuje a završuje  prác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osepha Klappera Effects of Mass Communication (1960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lapper zde činí několik základních  generalizací postavených n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téměř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300 empirických studiích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především laboratorní povahy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lapper koncipoval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tzv.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fenomenistický přístup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terý odmítá dlouho dominantní model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hypodermického účinku“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Místo toho preferuj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ituační“ či „funkční“ optik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lapper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pouští teorii, která  považuje masovou komunikaci za jedinou a dostačující podmínku sociálního účink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FENOMENISTICKÝ PŘÍSTU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CHÁZÍ Z PŘEDPOKLADU, ŽE MÉDIA PŮSOBÍ SPOLEČNĚ S OSTATNÍMI VLIVY V KOMPLEXNÍ SITUACI, KTEROU NELZE REDUKOVAT NA PÚSOBENÍ JEDINÉ PROMÉNNÉ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sová komunikace obyčejně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ní nutnou a postačující příčinou sociálních účinků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ale působí spíše společně s řadou zprostředkujících faktor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y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prostředkující faktory obvykle proměňují masovou komunikaci v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dílčí sílu tj. nikoliv v jedinou příčinu posilování postojů veřejnosti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Spíše tak postoj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siluj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ž mě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/ Tam, kde vyvolává masová komunikace čistou postojovou konverzi bu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a/ zprostředkující faktory jsou neúčinné a působení je přím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zprostředkující faktory, které posilují postoj, působí ve smyslu změ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zbývají zde ještě další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reziduální situace,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e kterých skutečně působí masová komunikace přímo a slouží tak jistým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psychofyzickým funkcím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ko hlavní determinanty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echanismu posílení a tzv. malé změny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idí Klapp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echanismus dvoustupňové komunikace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, resp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individuální psychickou výbav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ovlivňujíc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elektivní mechanism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merční povahu masových médií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která jsou nucena zastávat pouze ta hlediska a hodnoty proti nimž není námitek a tak pouze  posiluje dosavadní názo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lapper tvrdí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líčový je okamžik, kdy si vytvoříme zábranu proti cizím názorů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yto zábrany ale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působí v případech zrodu mínění o otázkách zcela nových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rávě zde vidí prostor pro přesvědčovací působen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lapper zde připomíná Goebelsovu parolu 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dokoli řekne první slovo světu má vždy pravdu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RITIKA DVOUSTUPŇOVÉHO MODELU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1/ větší část studií potvrzuje, že zpráva se šíří ve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ětší míře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přímo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ne zprostředkovaně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2/ je otázka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zda jde o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přímé ovlivňování či pouhé sdílení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mínění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. Odlišnost O.L. a souběžců je někdy sporná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3/ ukazuje se, že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op. leadři mohou být jak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aktivní tak i pasivní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 -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dvoustupňový model předpokládá pouze jejich aktivitu a pasivitu masy, je třeba uvažovat možnou záměnu rolí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4/ tento model zcela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ignoruje existenci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třetího typu a to individua, které není ani leadrem a souběžcem,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individua, která zprávy nevyhledávají ani se nenechávají ovlivnit v diskusi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, jde o 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izoláty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či neparticipanty, kterých ovšem může být poměrně vysoký počet ve vztahu k různým tématům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ff"/>
                </a:solidFill>
                <a:latin typeface="Times New Roman"/>
              </a:rPr>
              <a:t>5/ další výzkumy potvrzuje existenc</a:t>
            </a:r>
            <a:r>
              <a:rPr b="1" lang="cs-CZ" sz="31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cs-CZ" sz="3100" spc="-1" strike="noStrike">
                <a:solidFill>
                  <a:srgbClr val="feec94"/>
                </a:solidFill>
                <a:latin typeface="Times New Roman"/>
              </a:rPr>
              <a:t>více kroků či stupň</a:t>
            </a:r>
            <a:r>
              <a:rPr b="0" lang="cs-CZ" sz="3100" spc="-1" strike="noStrike">
                <a:solidFill>
                  <a:srgbClr val="feec94"/>
                </a:solidFill>
                <a:latin typeface="Times New Roman"/>
              </a:rPr>
              <a:t>ů</a:t>
            </a:r>
            <a:r>
              <a:rPr b="0" lang="cs-CZ" sz="3100" spc="-1" strike="noStrike">
                <a:solidFill>
                  <a:srgbClr val="ffffff"/>
                </a:solidFill>
                <a:latin typeface="Times New Roman"/>
              </a:rPr>
              <a:t> (Trohldahl - Dvoucyklový model)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ff"/>
                </a:solidFill>
                <a:latin typeface="Times New Roman"/>
              </a:rPr>
              <a:t>6/</a:t>
            </a:r>
            <a:r>
              <a:rPr b="1" lang="cs-CZ" sz="3100" spc="-1" strike="noStrike">
                <a:solidFill>
                  <a:srgbClr val="ffffff"/>
                </a:solidFill>
                <a:latin typeface="Times New Roman"/>
              </a:rPr>
              <a:t> předpoklad, že O.L. </a:t>
            </a:r>
            <a:r>
              <a:rPr b="1" lang="cs-CZ" sz="3100" spc="-1" strike="noStrike">
                <a:solidFill>
                  <a:srgbClr val="feec94"/>
                </a:solidFill>
                <a:latin typeface="Times New Roman"/>
              </a:rPr>
              <a:t>používají pouze mediální kanály selhává v rozvojových zemích, ale i v krizových situacích, kdy se dá spíše předpokládat </a:t>
            </a:r>
            <a:r>
              <a:rPr b="1" lang="cs-CZ" sz="3100" spc="-1" strike="noStrike" u="sng">
                <a:solidFill>
                  <a:srgbClr val="feec94"/>
                </a:solidFill>
                <a:uFillTx/>
                <a:latin typeface="Times New Roman"/>
              </a:rPr>
              <a:t>řetězová komunikace než klastrová - tedy přes názorového vůdce</a:t>
            </a:r>
            <a:r>
              <a:rPr b="0" lang="cs-CZ" sz="31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ff"/>
                </a:solidFill>
                <a:latin typeface="Times New Roman"/>
              </a:rPr>
              <a:t>7/ je třeba zdůraznit  </a:t>
            </a:r>
            <a:r>
              <a:rPr b="1" lang="cs-CZ" sz="3100" spc="-1" strike="noStrike">
                <a:solidFill>
                  <a:srgbClr val="feec94"/>
                </a:solidFill>
                <a:latin typeface="Times New Roman"/>
              </a:rPr>
              <a:t>rozdíl mezi tím jak pracují se sdělením jeho první nositelé a jeho druzí uživatelé</a:t>
            </a:r>
            <a:r>
              <a:rPr b="0" lang="cs-CZ" sz="3100" spc="-1" strike="noStrike">
                <a:solidFill>
                  <a:srgbClr val="ffffff"/>
                </a:solidFill>
                <a:latin typeface="Times New Roman"/>
              </a:rPr>
              <a:t> (souběžci), kteří </a:t>
            </a:r>
            <a:r>
              <a:rPr b="1" lang="cs-CZ" sz="3100" spc="-1" strike="noStrike">
                <a:solidFill>
                  <a:srgbClr val="ffffff"/>
                </a:solidFill>
                <a:latin typeface="Times New Roman"/>
              </a:rPr>
              <a:t>více lpí na na osobnostních zdrojích, zatímco tvůrci mínění dají více na média.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III. MECHANISMY DISTRIBUCE INFORMACÍ A ÚČINKY ZPRAVODAJSKÝCH OBSAHŮ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ůžeme zde rozlišovat tři základní sub-témat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/ distribuce zpráv z pohledu typu události a typu médi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uvedená problematika zahrnuje i otázky týkající se mechanismů distribuce zpravodajských obsahů, například v krizových situacích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J-křivk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/ distribuce informací ve společnosti a její nerovnováh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o této oblasti patří otázky spojené s tzv. informační chudobou nebo s dnes módním pojme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„digital devide“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 širších smyslu zahrnuje toto téma i problematika distribuce vědění /např. inovací/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S-křivk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/ nastolování témat a forma selektivního výběru událos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de především o mechanismy konstrukce tzv. mediální agendy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agenda sett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eoples´ Choice (1948)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Paul Felix Lazarsfeld, Hazel Gaudetová a Bernard Berelson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vní výzkum (1940), který se pokusil měřit účinky volební kampaně ve vztahu k potenciálním voličům.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nalýza mediální  persuaze v reálné situa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ýzkum byl postaven na technice opakovaných interview se skupino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600 respondentů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 Erie County v Ohiu. Úkolem bylo odhalit jak masová média ovlivnila postoje v presidentské kampani. V pravidelných měsíčních intervalech byl po sedm měsíců dotazován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anel potenciálních volič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kopírující v základní sociodemografických charakteristikách strukturu populace Erie County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kumný projekt byl designován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z pohledu teorie sílných masových médií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ýsledek šetření byl překvapujíc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D A/ MODEL DISTRIBUCE INFORMACÍ V ZÁVISLOSTI NA TYPU UDÁLOSTI A TYPU MÉDI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/J-KŘIVKA/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vedená problematika zahrnuje i otázky týkající se mechanismů distribuce zpravodajských obsahů, například v krizových situacíc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edle studií o šíření inovací se v šedesátých letech začíná věnovat pozornost podmínkám, za kterých 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při distribuci sdělení dána přednost face to face komunikaci před informacemi z masových médií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ezprostředním impulsem k výzkumu byl atentát na Kennedyho  v roce 1963. Cílem těchto studií byla speciální potřeba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kontrolovat veřejnou reakci a pokus o to vyhnout se panice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 roce 1964 se objevuje první studie od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icharda Hilla a Charlese Bonjean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která přinesla překvapivé zjištění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 atentátu na presidenta v Dallasu s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íce než polovina Američanů dozvěděla prostřednictvím interpersonální komunik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od známých či přátel, čtvrtina z televize, šestina z rozhlas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etailnější analýza ukazuje v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cesu šíření informací čtyři hlavní proměnné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ozsah znalostí o dané kauze, kterými populace disponu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znam dané udál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nožství přenášených informac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íra v níž znalost o dané události pochází prvotně z médií, respektive z osobních kontaktů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Greenberg rozdělil události ve zpravodajství do tří typů podle toh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 jaké míře jsou šířeny prostřednictvím interpersonální komunik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I. Typ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jde 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události, které mají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ízkou obecnou významnost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le jsou velm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znamné pro malou skupin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lid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Takové zprávy nejsou prominentním cílem médií, ale protože informace je důležitá pr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istou cílovou skupinu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sou zprávy selektivně zmiňovány a předávány těm, kteří se k nim nedostali v prvním kole prostřednictvím osobního sdělení. Příkladem 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hlášení vítěze v soutěži mladých houslistů  pořádané při hudebním festivalu Pražské jar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II. Typ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de o události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obecně sdíleného význam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 hlavní zprávy dne, které dostaly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raznou podporu ve zpravodajství a jsou sdělovány většině popul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akové události se nepředávají dominantně personálním stykem, i když mohou být poté diskutovány. Jde např. o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ukončení stávky nebo zprávu o plánovaném zvýšení jízdného na dráze nebo velká bankovní loupe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III. Typ</a:t>
            </a: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jde o zprávy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extrémní důležitosti, vysoké dramatické kvality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Dá se zde předpokládat, že budou významné skor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 všechny a také dostanou téměř stoprocentní mediální pozornos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V Greenbergově studii je příklade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tentát na Kennedyh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Mohl by to být útok na Twins v NY nebo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report z listopadová demonstrace na národní třídě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Výzkum ukazuje, že paradoxně </a:t>
            </a:r>
            <a:r>
              <a:rPr b="1" lang="cs-CZ" sz="3600" spc="-1" strike="noStrike">
                <a:solidFill>
                  <a:srgbClr val="feec94"/>
                </a:solidFill>
                <a:latin typeface="Times New Roman"/>
              </a:rPr>
              <a:t>přes extrémní mediální pozornost stoupá zde význam interpersonální komunikace.</a:t>
            </a:r>
            <a:r>
              <a:rPr b="0" lang="cs-CZ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Extrémní význam zprávy mobilizuje nejen zájem </a:t>
            </a:r>
            <a:r>
              <a:rPr b="1" lang="cs-CZ" sz="3600" spc="-1" strike="noStrike">
                <a:solidFill>
                  <a:srgbClr val="feec94"/>
                </a:solidFill>
                <a:latin typeface="Times New Roman"/>
              </a:rPr>
              <a:t>médii</a:t>
            </a: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, ale i interpersonální komunikaci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ZKUM: J-KŘIVKA (B.S. Greenberg, 1965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ýzku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zjišťoval zdroje informací o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18 různýc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dálostech - od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4% do 100% znalosti. Vzniká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ologie na základě porovnání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olik procent znalo jednotlivé informace z medi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olik procent je zná, ale zdrojem nebyla masová médi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YPOLOGIE (viz gra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 - 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 - B, C, 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 - 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-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nízká obecná známost události - relativně nízký vliv osobního sděle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-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B, C, D/ událost obecného významu - osobní sdělení má nejslabší vliv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-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E/ s narůstající dramatičností zprávy progresivně roste význam interpersonálního přenosu inform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569080" cy="5975280"/>
          </a:xfrm>
          <a:prstGeom prst="rect">
            <a:avLst/>
          </a:prstGeom>
          <a:solidFill>
            <a:srgbClr val="000000"/>
          </a:solidFill>
          <a:ln w="38160">
            <a:solidFill>
              <a:srgbClr val="c0c0c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Ukazuje se, že když „jde do tuhého“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édia nejsou  nejrychlejším ani nejkredibilnějším tamtam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Lidé se automaticky vrací k interpersonální komunikaci jako k jakési antropologické konstantě, jistotě, která vytěsňuje umělý svět médi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AD B/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ISTRIBUCE INOVACÍ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JAKO TYP DVOUSTUPŃOVÉ KOMUNIKACE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 zásadě je situace šíření inovací postavena n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voustupňovém komunikačním model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 Model šíření inovací se soustřeďuje především na finální stádium procesu tj. přivlastnění resp. odmítnutí sdělení.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de tedy o analýzu sociálního procesu popisující jak jsou nové ideje, praxe či konkrétní objekty šířeny v rámci sociálního systém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Everett Rogers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 práci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Diffusion of Innovations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1983) popisuje proces přijetí 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ovace v následujících  pěti krocíc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elativní výhodno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stupeň ve kterém je daná inovace vnímána jak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epší než stav, který jí předcház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ompatibilit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stupeň, ve kterém je inovace vnímána v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uladu s existujícími hodnotami, minulou zkušeností a potřebam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jejích potenciálních příjemc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/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omplexit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tupeň ve kterém je inovace vnímána jak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ložitá k pochopení a následnému uži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odifikovatelnos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tupeň ve kterém se dá s inovací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perimentovat na při modifikaci jejích některých funkc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/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ransparentno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stupeň ve kterém jsou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ýsledky inovace viditelné pro ostat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Čím vyšší hodnota jednotlivých kategorií, tím větší pravděpodobnost přijetí dané inov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amotný proces rozhodování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zděluje Rogers do pěti stádi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znalost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ystavení se působení inovace a pochopení jak fungu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persuaz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formování postoje vůči inova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rozhodnut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roces ústící v rozhodnutí zda přijmout či nepřijmout danou inova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realizac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lastní využití inovac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5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potvrzen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sílení nebo naopak popření daného rozhodnu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ogers vytvořil typologii potenciálních příjemců inovac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novátoř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ilně motivovan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ktiv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hledači nových ideí, kteří mají kosmopolitnější vztahy než ostat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vní osvojitelé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espektova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druzí, často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tvůrci míně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ke kterým se informace stává brzo protože mají velké množství komunikačních a vztahových sí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aná většin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patrní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nejdříve se obracejí na své blízké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či tvůrce mín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zdní většin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keptičtí, často si přivlastňují inovaci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a základě okolního tlaku např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 pracovní či ekonomické nevyhnuteln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5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pozdilc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radiční, často lidé v izolaci, obrácení do minul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ABUL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1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53%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členů panelu /obyvatel v Erie County/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posílil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své dlouhodoběji držené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volební preference,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2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26%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přešlo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d příklonu k jedné politické straně /kandidátovi/ k postoj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„nejsem rozhodnut“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b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d „nejsem rozhodnut“ k nějaké politické straně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okázaný vliv masových médií na uskutečnění čisté postojové konverze byl velmi nízký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uze 5%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espondentů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měnil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v průběhu prezidentské kampaně svůj postoj, své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olební prefer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Klíčovým zjištěním ale bylo, ž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sobní kontakt je mnohem častější a efektivnější než kontakt s médii, a to z pohledu jejich volebního chování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espondenti potvrdili, že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ýraznější vliv na jejich rozhodování o tom koho volit měly vlastní politické diskuse se známými a blízkým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liv tisku a rozhlasu byl v tomto smyslu sekundární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ogersova S křivka (1983, 1995) „Distribuce inovací“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TANDARDNÍ PRÚBĚH PENETRACE INOVACÍ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LASTNICTVÍ ČERNOBÍLÉHO/BAREVNÉHO TV USA1946-196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-324000" y="549360"/>
          <a:ext cx="9468000" cy="63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00" y="549360"/>
                    <a:ext cx="9468000" cy="63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X. 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HYPOTÉZA VĚDOMOSTNÍ PROPASTI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(Knowledge gap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96720" y="476280"/>
            <a:ext cx="9540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1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WO-STEP-FLOW MODEL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(Model dvoustupňové komunikace)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2/ hypotéza o existenci „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PINION LEADERS“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58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de o  komunikační model, který předpokládá, že informace jdou nejdříve k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VŮRCŮM MÍNĚ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 od nich k ostatním tzv. souběžcům (follower)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kum odhalil, ž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interpersonální vztahy (KOMUNIKACE) byly mnohem vlivnější, a to především pro ty, kteř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měnili svůj postoj v průběhu kampaně či učinili své rozhodnutí až v závěru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oto zjištění bylo překvapující protože celý výzkum byl koncipován na základě - TEORI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tomizovaného masového publika a nepředpokládal tedy vůbec roli další zprostředkující osob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Média nepůsobí v sociálním vakuu, ale vstupují do velmi komplexní sítě sociálních vztahů a soupeří s dalšími zdroji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dybychom užili jiné terminologie - dvoustupňový komunikační model popisu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pecifický typ  selektivní expozi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vedená zjištění změnila východiska následujících výzkumů v tom smyslu, ž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respondenti-publikum musí být vždy zkoumáni v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ontextu skupiny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či skupin k nimž náleží nebo které mají na mysli. To znamená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ěch které je mohou ovlivňovat při formulaci mínění postojů či rozhodnutí. Došlo k znovuobjevení role malé skupin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ákladní zjištění z této studie lze shrnout do následujících bodů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individua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nejsou sociálně izolovanými atomy,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le členy sociálních skupin v nichž dynamicky interaguj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reakce na mediální sdělení není přímá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, ale zprostředkovaná a ovlivněná sociálními vztahy individu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individua v rámci komunikačního procesu nejsou rovná,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ale zastávají různé role, které lze rozdělit na aktivní individua, která informace vyhledávají a pasivní, která jsou závislá na sděleních aktivní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4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tvůrci mínění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 jsou charakterizováni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/ vyšší konzumací médií, častěji se vystavují jejich působení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jsou společenštější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c/ mají vyšší vědomím vlastního vlivu na druhé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/disponují připsanou rolí zdroje a průvodce v rámci daných informac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e/ vyskytují se v každé statusové skupině a sdílejí některé charakteristiky s ovlivňovaným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Čtyři nejvýznamnější výzkumy v dané oblasti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Merton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1949) -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Patterns of Influence“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Intepersonální vliv komunikace v Rovere Rover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stát New Jerse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:- 86 respondentů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žádáno, aby uvedl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jména těch, na které se obracejí o radu v nejrůznějších záležitostech. Ti kteří  byli zmíněni alespoň 4x byli  speciálně dotazováni. Rozlišují dva typy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„Cosmopolitans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“  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„Locals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2/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Berelson, Lazarsfeld a McPhe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(Voting: A Study of Opinion Formation in a Presidential Campaig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nalýza volební kampaně (1948) v městečku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lmira (stát New York)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de se navíc ukázalo, že k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stojové konverzi docházelo méně u těch, kteří byli vystavování intenzivnější mu působení a měli tendenci více trvat na své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3/ Katz, E., Mantzel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„Social Relations and Innovation in Medical Profession“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kum zaměřený na mechanismus akceptaci  nového léku mezi lékaři.I zde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ilný vliv interpersonální komunika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4/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Katzův a Lazarsfeldův výzkum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v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„Decatur“ (Illinois),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nalýz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ozhodování v takových situacích jako je nakupování, móda, návštěva kina, veřejné záležito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E.Katz a P. Lazarsfeld: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ERSONAL INFLUENCE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(1955)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éma: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liv tzv. tvůrců mínění v každodenním životě 800 žen z Decaturu.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teoretické části práce se již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hovoří o nutnosti, aby  klasický model persuaze  počítal s rolí individua jako intervenujícího faktoru mezi stimulem média a výsledným míněním, rozhodnutím a jednání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8:02:27Z</dcterms:created>
  <dc:creator>JV</dc:creator>
  <dc:description/>
  <dc:language>en-US</dc:language>
  <cp:lastModifiedBy>JV</cp:lastModifiedBy>
  <dcterms:modified xsi:type="dcterms:W3CDTF">2010-11-18T09:07:55Z</dcterms:modified>
  <cp:revision>5</cp:revision>
  <dc:subject/>
  <dc:title>VII. PÚSOBENÍ MASOVÝCH MÉDIÍ A ROLE INTERPERSONÁLNÍ KOMUNIKACE</dc:title>
</cp:coreProperties>
</file>