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95A88-6C63-4849-BDD8-FCEBA3B81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3BF07-84C4-478E-8195-856CE710E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CD6F8-9695-41BA-A216-171CA0987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D9ED7-A2B9-4729-94B6-6FB1268CB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CF4D9-F833-4AB3-9D44-57D8A9306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46A99-7514-45D8-887B-4C2486682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5A663-EE6B-40ED-9786-C0055BD7B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6260B-E908-4B59-8130-BAAD173E1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148F0-BC98-4778-A846-FA30A8453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3211D-BE2B-4FE5-8C81-6241966B9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2D020-C5B6-48C1-B3FB-8F23EFBAA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E2108-1C1F-4297-8130-DE99CFB07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0551F-C516-4BF9-A7D6-57275E0DC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C1E42-B2FE-43ED-BB81-59B9A48C8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5F3CC-65FA-455F-8A0C-B5D1E6066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E04C2-E4B0-49D4-9CF1-C5A4D51A4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CF8C5-B19B-4DD7-B848-20BE3F07E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5E643-37EC-44ED-A624-D779B67B2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D1331-EDB3-4B29-8117-50F0DEFD6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32118-578E-4D68-B92B-2CB54F75D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DC4A1-9B42-4386-8658-B17C2F36C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0868E-4EB2-4600-AF4A-2625537F9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6B0CC-BD45-4705-AB5D-00121EB62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CF3DD-4C97-44F9-AD1C-0609CE4DC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A7194-EBED-42B3-BB73-4D82BCA4204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BB626-D309-49D9-898E-BE772E66884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000" y="404640"/>
            <a:ext cx="821844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IV. KAPITOLA: SOCIÁLNÍ PERCEPCE</a:t>
            </a:r>
            <a:br>
              <a:rPr sz="2800"/>
            </a:b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eorie sociální percepce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klade na první místo v procesu vnímání sociální zkušenost jedince a obecně sociální faktory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a rozdíl od neurofyziologie, která se soustřeďuje především na stav receptorů individua a na vlastnosti vnímaných objektů). </a:t>
            </a:r>
            <a:br>
              <a:rPr sz="2800"/>
            </a:b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0" y="2997360"/>
            <a:ext cx="9144000" cy="3860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- V důsledku existence sociálních faktorů, sociální zkušenosti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nevidíme „věci o sobě“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, ale máme tendenci vnímat to, co konvenuje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našim potřebám a očekávání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- Percepce a interpretace skutečnosti je určována aktuálními motivy, respektive zkušeností a formuje se v průběhu sociálního vývoje jedinc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eec94"/>
                </a:solidFill>
                <a:uFillTx/>
                <a:latin typeface="Times New Roman"/>
              </a:rPr>
              <a:t>B/ SELEKTIVNÍ POZORNOST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0" y="836640"/>
            <a:ext cx="9144000" cy="60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e takový proces, při kterém věnuje jedinec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pozornost jen těm částem sdělení, které jsou v souladu s jeho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íněním a snaží se vyhnout protichůdným sdělením. Jde o situace, kdy jedinci nejsou schopni dopředu posoudit, zda budou percipovaná sdělení v souladu s jejich  postoji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a rozdíl od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elektivní percepc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jde o parciální proces, při kterém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nedochází k hlubšímu zpracování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a vyhodnocení informací. Vymazávání pozornosti při sledování násilných scén na TV  obrazovc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891640" cy="43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C/ </a:t>
            </a:r>
            <a:r>
              <a:rPr b="1" lang="en-US" sz="2800" spc="-1" strike="noStrike" u="sng">
                <a:solidFill>
                  <a:srgbClr val="feec94"/>
                </a:solidFill>
                <a:uFillTx/>
                <a:latin typeface="Times New Roman"/>
              </a:rPr>
              <a:t>SELEKTIVNÍ PERPCEPCE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br>
              <a:rPr sz="2800"/>
            </a:br>
            <a:br>
              <a:rPr sz="28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je psychický proces, při kterém jedinec „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vypíná“ vědomou pozornost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pokud je vystaven situaci, kdy dostává sdělení, která odporují jeho postojům a naopak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„zapíná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“ pozornost v opačném případě. Nejpodstatnější charakteristikou tohoto psychického procesu je skutečnost, že v rámci této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„nepozornosti“ ale aktivně/nevědomě přepracovává sdělení k „obrazu svému“.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EXPERIMENT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(G. Allport - Postmann L.: The Basic Psychology of Rumor,1945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Studie orientovaná na </a:t>
            </a: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téma </a:t>
            </a:r>
            <a:r>
              <a:rPr b="1" i="1" lang="cs-CZ" sz="2800" spc="-1" strike="noStrike">
                <a:solidFill>
                  <a:srgbClr val="ffff00"/>
                </a:solidFill>
                <a:latin typeface="Times New Roman"/>
              </a:rPr>
              <a:t>šíření pomluvy</a:t>
            </a: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 Pokusili se ilustrovat jak se průběhu </a:t>
            </a: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sociálního sdílení a šíření informace proměnilo verbální sdělení tak, aby odpovídalo existujícímu povědomí a postojům.</a:t>
            </a: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DESIGN VÝZKUM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Skupině respondentů byl předveden </a:t>
            </a:r>
            <a:r>
              <a:rPr b="1" i="1" lang="cs-CZ" sz="2800" spc="-1" strike="noStrike">
                <a:solidFill>
                  <a:srgbClr val="ffff00"/>
                </a:solidFill>
                <a:latin typeface="Times New Roman"/>
              </a:rPr>
              <a:t>obrázek ostré hádky mez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ff00"/>
                </a:solidFill>
                <a:latin typeface="Times New Roman"/>
              </a:rPr>
              <a:t>černým a bílým mužem, na kterém drží běloch v ruce břitv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ff00"/>
                </a:solidFill>
                <a:latin typeface="Times New Roman"/>
              </a:rPr>
              <a:t>a ohrožuje Afroameričana.</a:t>
            </a: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 Probandi měli tento obráze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popsat další</a:t>
            </a:r>
            <a:r>
              <a:rPr b="1" i="1" lang="cs-CZ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skupině respondentů, kteří jej měli popsat další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at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V průběhu následných postupujících komunikačních kontaktů se b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řitva postupně přesunula z ruky bělocha do ruky  Afroameričana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Materiál, který neodpovídá percepčním zkušenostem individua musí být přepracován  tak, aby odpovídal jeho osobním potřebám a zájmům.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ec94"/>
                </a:solidFill>
                <a:latin typeface="Times New Roman"/>
              </a:rPr>
              <a:t>T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o co bylo vnější stává se vnitřním, co bylo objektivním  stává se subjektivní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620280"/>
            <a:ext cx="9144000" cy="38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D/ </a:t>
            </a:r>
            <a:r>
              <a:rPr b="1" lang="en-US" sz="2800" spc="-1" strike="noStrike" u="sng">
                <a:solidFill>
                  <a:srgbClr val="feec94"/>
                </a:solidFill>
                <a:uFillTx/>
                <a:latin typeface="Times New Roman"/>
              </a:rPr>
              <a:t>SELEKTIVNÍ RETENCE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je tendence individua znovu si vybavit pouze ty informace, které jsou v souladu s jeho potřebami, postoji a dalšími psychologickými charakteristikami.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Jde  o to udržet v paměti v aktuálním a vyvolatelném stavu ty informace, jež posilují názory individua a vytěsnit ty, jež jsou mu nepříjemné.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914400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eec94"/>
                </a:solidFill>
                <a:uFillTx/>
                <a:latin typeface="Times New Roman"/>
              </a:rPr>
              <a:t>EXPERIMENT</a:t>
            </a:r>
            <a:r>
              <a:rPr b="0" lang="en-US" sz="2800" spc="-1" strike="noStrike">
                <a:solidFill>
                  <a:srgbClr val="feec94"/>
                </a:solidFill>
                <a:latin typeface="Times New Roman"/>
              </a:rPr>
              <a:t>: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(JONES, KOHLER, 1958)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  </a:t>
            </a:r>
            <a:br>
              <a:rPr sz="2800"/>
            </a:b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0" y="764640"/>
            <a:ext cx="9144000" cy="6093000"/>
          </a:xfrm>
          <a:prstGeom prst="rect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DESIGN VÝZKUM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Dvě skupiny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eec94"/>
                </a:solidFill>
                <a:latin typeface="Times New Roman"/>
              </a:rPr>
              <a:t>a/ stoupenci </a:t>
            </a:r>
            <a:r>
              <a:rPr b="1" i="1" lang="cs-CZ" sz="2800" spc="-1" strike="noStrike">
                <a:solidFill>
                  <a:srgbClr val="feec94"/>
                </a:solidFill>
                <a:latin typeface="Times New Roman"/>
              </a:rPr>
              <a:t>segregace afroameričanů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b/ její odpůrci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Dostaly za úkol naučit se výroky</a:t>
            </a: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, které byly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cs-CZ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feec94"/>
                </a:solidFill>
                <a:latin typeface="Times New Roman"/>
              </a:rPr>
              <a:t>a/ jednak ostře </a:t>
            </a:r>
            <a:r>
              <a:rPr b="1" i="1" lang="cs-CZ" sz="2800" spc="-1" strike="noStrike">
                <a:solidFill>
                  <a:srgbClr val="feec94"/>
                </a:solidFill>
                <a:latin typeface="Times New Roman"/>
              </a:rPr>
              <a:t>protičernošské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b/ a jednak </a:t>
            </a: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proti apartheidu, pro rasovou rovnos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Následně byla testována schopnost jak si jednotliví členové obou skupin byli schopni vybavit jednotlivé výroky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eec94"/>
                </a:solidFill>
                <a:latin typeface="Times New Roman"/>
              </a:rPr>
              <a:t> „</a:t>
            </a:r>
            <a:r>
              <a:rPr b="1" i="1" lang="cs-CZ" sz="2800" spc="-1" strike="noStrike">
                <a:solidFill>
                  <a:srgbClr val="ffff00"/>
                </a:solidFill>
                <a:latin typeface="Times New Roman"/>
              </a:rPr>
              <a:t>Segregacionisté“ jednoznačně lépe vybavovali ty výroky, </a:t>
            </a: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ffff00"/>
                </a:solidFill>
                <a:latin typeface="Times New Roman"/>
              </a:rPr>
              <a:t>které konvenovaly s jejich protičernoškými postoj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ec94"/>
                </a:solidFill>
                <a:latin typeface="Times New Roman"/>
              </a:rPr>
              <a:t>KULTURNÍ OČEKÁVÁNÍ</a:t>
            </a:r>
            <a:br>
              <a:rPr sz="24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ercepci formuje předchozí zkušenost a ovlivňuje ji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sociální očekávání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, motivace a potřeby, nálady a postoje.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0" y="1141200"/>
            <a:ext cx="9144000" cy="5716440"/>
          </a:xfrm>
          <a:prstGeom prst="rect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EXPERIMENT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Dvě skupiny dětí mezi 7-9 lety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a/ z nejnižších soc. vrstev/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b/z nejvyšších soc. vrste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Dostaly za úkol nakreslit mince (od dvoucentu až po půldolar)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Výrazně větší rozměr připsaly jednotlivým mincí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děti z nejnižších vrstev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Jde o příklad přecenění sociálního faktu.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txBody>
          <a:bodyPr anchor="t">
            <a:normAutofit fontScale="95000"/>
          </a:bodyPr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EXPERIMENT: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Probandi dostali v temné místnosti dva výstřižky  ze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stejného materiálu a stejné barvy (zelené):                  </a:t>
            </a:r>
            <a:r>
              <a:rPr b="0" i="1" lang="cs-CZ" sz="3200" spc="-1" strike="noStrike">
                <a:solidFill>
                  <a:srgbClr val="009900"/>
                </a:solidFill>
                <a:latin typeface="Times New Roman"/>
              </a:rPr>
              <a:t>„</a:t>
            </a:r>
            <a:r>
              <a:rPr b="1" i="1" lang="cs-CZ" sz="3200" spc="-1" strike="noStrike">
                <a:solidFill>
                  <a:srgbClr val="009900"/>
                </a:solidFill>
                <a:latin typeface="Times New Roman"/>
              </a:rPr>
              <a:t>list  jabloně“ </a:t>
            </a:r>
            <a:r>
              <a:rPr b="0" i="1" lang="cs-CZ" sz="3200" spc="-1" strike="noStrike">
                <a:solidFill>
                  <a:srgbClr val="009900"/>
                </a:solidFill>
                <a:latin typeface="Times New Roman"/>
              </a:rPr>
              <a:t>a</a:t>
            </a:r>
            <a:r>
              <a:rPr b="1" i="1" lang="cs-CZ" sz="3200" spc="-1" strike="noStrike">
                <a:solidFill>
                  <a:srgbClr val="009900"/>
                </a:solidFill>
                <a:latin typeface="Times New Roman"/>
              </a:rPr>
              <a:t> „oslíka“.</a:t>
            </a: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Oba výstřižky nasvíceny červeným kašírovacím světlem, které překrylo původní barvu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Respondenti byli dotázáni</a:t>
            </a: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A/ „Zda jsou oba výstřižky stejně  barevné?“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B/„O  jakou intenzitu barvy jde?“.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i="1" lang="cs-CZ" sz="3200" spc="-1" strike="noStrike">
                <a:solidFill>
                  <a:srgbClr val="feec94"/>
                </a:solidFill>
                <a:latin typeface="Times New Roman"/>
              </a:rPr>
              <a:t>  </a:t>
            </a:r>
            <a:r>
              <a:rPr b="0" i="1" lang="cs-CZ" sz="3200" spc="-1" strike="noStrike">
                <a:solidFill>
                  <a:srgbClr val="009900"/>
                </a:solidFill>
                <a:latin typeface="Times New Roman"/>
              </a:rPr>
              <a:t>Jako  „</a:t>
            </a:r>
            <a:r>
              <a:rPr b="1" i="1" lang="cs-CZ" sz="3200" spc="-1" strike="noStrike">
                <a:solidFill>
                  <a:srgbClr val="009900"/>
                </a:solidFill>
                <a:latin typeface="Times New Roman"/>
              </a:rPr>
              <a:t>zelenější“ </a:t>
            </a:r>
            <a:r>
              <a:rPr b="0" i="1" lang="cs-CZ" sz="3200" spc="-1" strike="noStrike">
                <a:solidFill>
                  <a:srgbClr val="009900"/>
                </a:solidFill>
                <a:latin typeface="Times New Roman"/>
              </a:rPr>
              <a:t>byl vnímán</a:t>
            </a:r>
            <a:r>
              <a:rPr b="1" i="1" lang="cs-CZ" sz="3200" spc="-1" strike="noStrike">
                <a:solidFill>
                  <a:srgbClr val="009900"/>
                </a:solidFill>
                <a:latin typeface="Times New Roman"/>
              </a:rPr>
              <a:t> „list“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eec94"/>
                </a:solidFill>
                <a:latin typeface="Times New Roman"/>
              </a:rPr>
              <a:t>       </a:t>
            </a:r>
            <a:r>
              <a:rPr b="0" i="1" lang="cs-CZ" sz="3200" spc="-1" strike="noStrike">
                <a:solidFill>
                  <a:srgbClr val="feec94"/>
                </a:solidFill>
                <a:latin typeface="Times New Roman"/>
              </a:rPr>
              <a:t>U</a:t>
            </a:r>
            <a:r>
              <a:rPr b="1" i="1" lang="cs-CZ" sz="3200" spc="-1" strike="noStrike">
                <a:solidFill>
                  <a:srgbClr val="feec94"/>
                </a:solidFill>
                <a:latin typeface="Times New Roman"/>
              </a:rPr>
              <a:t> „oslíka“ </a:t>
            </a:r>
            <a:r>
              <a:rPr b="0" i="1" lang="cs-CZ" sz="3200" spc="-1" strike="noStrike">
                <a:solidFill>
                  <a:srgbClr val="feec94"/>
                </a:solidFill>
                <a:latin typeface="Times New Roman"/>
              </a:rPr>
              <a:t> byl zdůrazňován odstín</a:t>
            </a:r>
            <a:r>
              <a:rPr b="1" i="1" lang="cs-CZ" sz="3200" spc="-1" strike="noStrike">
                <a:solidFill>
                  <a:srgbClr val="feec94"/>
                </a:solidFill>
                <a:latin typeface="Times New Roman"/>
              </a:rPr>
              <a:t> „do šeda“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14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Co člověk vnímá a jak to vnímá je dáno jeho základním zacílením. Klíčovou roli zde hraje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očekávání,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 ve kterém lze určit čtyři funkce: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a/ fixaci b/ organizaci/ selektivitu </a:t>
            </a:r>
            <a:br>
              <a:rPr sz="2800"/>
            </a:b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d/ akcentaci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0" y="1844640"/>
            <a:ext cx="8820000" cy="5013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1/ </a:t>
            </a:r>
            <a:r>
              <a:rPr b="1" lang="cs-CZ" sz="3200" spc="-1" strike="noStrike" u="sng">
                <a:solidFill>
                  <a:srgbClr val="feec94"/>
                </a:solidFill>
                <a:uFillTx/>
                <a:latin typeface="Times New Roman"/>
              </a:rPr>
              <a:t>fixace očekávání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- list je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podle paměti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popisován jako zelený, oslík jako šedý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2/ </a:t>
            </a:r>
            <a:r>
              <a:rPr b="1" lang="cs-CZ" sz="3200" spc="-1" strike="noStrike" u="sng">
                <a:solidFill>
                  <a:srgbClr val="feec94"/>
                </a:solidFill>
                <a:uFillTx/>
                <a:latin typeface="Times New Roman"/>
              </a:rPr>
              <a:t>organizace očekávání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- preference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kontur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u obou výstřižků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3/ </a:t>
            </a:r>
            <a:r>
              <a:rPr b="1" lang="cs-CZ" sz="3200" spc="-1" strike="noStrike" u="sng">
                <a:solidFill>
                  <a:srgbClr val="feec94"/>
                </a:solidFill>
                <a:uFillTx/>
                <a:latin typeface="Times New Roman"/>
              </a:rPr>
              <a:t>selektivita očekávání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- z míry možných očekávání se uplatnilo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jen jedno vedoucí k závěru o možných barvá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4/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3200" spc="-1" strike="noStrike" u="sng">
                <a:solidFill>
                  <a:srgbClr val="feec94"/>
                </a:solidFill>
                <a:uFillTx/>
                <a:latin typeface="Times New Roman"/>
              </a:rPr>
              <a:t>akcentace očekávání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- výsledkem je, že  dominoval 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určitý způsob vnímán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txBody>
          <a:bodyPr anchor="t">
            <a:normAutofit fontScale="94000"/>
          </a:bodyPr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EXPERIMENT </a:t>
            </a:r>
            <a:r>
              <a:rPr b="0" lang="cs-CZ" sz="3200" spc="-1" strike="noStrike">
                <a:solidFill>
                  <a:srgbClr val="feec94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McClelland a Atkinson, 1948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DESIGN VÝZKUMU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V rámci přijímacího řízení na námořní školu – kurs pro námořníky na ponorce. Jako součást testů  prověřována i </a:t>
            </a:r>
            <a:r>
              <a:rPr b="0" lang="cs-CZ" sz="3200" spc="-1" strike="noStrike">
                <a:solidFill>
                  <a:srgbClr val="feec94"/>
                </a:solidFill>
                <a:latin typeface="Times New Roman"/>
              </a:rPr>
              <a:t>schopnost zvládnout  alimentární deprivaci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Vytvořili </a:t>
            </a:r>
            <a:r>
              <a:rPr b="1" i="1" lang="cs-CZ" sz="3200" spc="-1" strike="noStrike">
                <a:solidFill>
                  <a:srgbClr val="ffffff"/>
                </a:solidFill>
                <a:latin typeface="Times New Roman"/>
              </a:rPr>
              <a:t>tři skupiny</a:t>
            </a: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 - jedna </a:t>
            </a:r>
            <a:r>
              <a:rPr b="1" i="1" lang="cs-CZ" sz="3200" spc="-1" strike="noStrike">
                <a:solidFill>
                  <a:srgbClr val="ffffff"/>
                </a:solidFill>
                <a:latin typeface="Times New Roman"/>
              </a:rPr>
              <a:t>hladověla 16 hodin, druhá 4 a třetí hodinu</a:t>
            </a: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. V průběhu hladovění museli probandi </a:t>
            </a:r>
            <a:r>
              <a:rPr b="0" i="1" lang="cs-CZ" sz="3200" spc="-1" strike="noStrike">
                <a:solidFill>
                  <a:srgbClr val="feec94"/>
                </a:solidFill>
                <a:latin typeface="Times New Roman"/>
              </a:rPr>
              <a:t>identifikovat na plátně objekty, které jim byly údajně promítány.</a:t>
            </a: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 Dostávali   takové instrukce jako:</a:t>
            </a:r>
            <a:r>
              <a:rPr b="0" i="1" lang="cs-CZ" sz="3200" spc="-1" strike="noStrike">
                <a:solidFill>
                  <a:srgbClr val="ffff00"/>
                </a:solidFill>
                <a:latin typeface="Times New Roman"/>
              </a:rPr>
              <a:t>“</a:t>
            </a:r>
            <a:r>
              <a:rPr b="1" i="1" lang="cs-CZ" sz="3200" spc="-1" strike="noStrike">
                <a:solidFill>
                  <a:srgbClr val="ffff00"/>
                </a:solidFill>
                <a:latin typeface="Times New Roman"/>
              </a:rPr>
              <a:t>na plátně jsou tři objekty, popište je“.</a:t>
            </a:r>
            <a:r>
              <a:rPr b="1" i="1" lang="cs-CZ" sz="3200" spc="-1" strike="noStrike">
                <a:solidFill>
                  <a:srgbClr val="ffffff"/>
                </a:solidFill>
                <a:latin typeface="Times New Roman"/>
              </a:rPr>
              <a:t>                       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S narůstající dobou hladovění stoupal i počet „</a:t>
            </a:r>
            <a:r>
              <a:rPr b="1" lang="cs-CZ" sz="3200" spc="-1" strike="noStrike">
                <a:solidFill>
                  <a:srgbClr val="ffff00"/>
                </a:solidFill>
                <a:latin typeface="Times New Roman"/>
              </a:rPr>
              <a:t>viděných  objektů, které souvisely s potravou“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179280" y="404640"/>
            <a:ext cx="878544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Věříme tomu, co vidíme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Je tomu tak proto, že rozvíjíme stále stejné percepční dovednosti, které nás vedou ke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shodě  na „objektivní realitě“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adikální skeptici trvají na tom, že </a:t>
            </a:r>
            <a:r>
              <a:rPr b="0" lang="en-US" sz="3200" spc="-1" strike="noStrike">
                <a:solidFill>
                  <a:srgbClr val="feec94"/>
                </a:solidFill>
                <a:latin typeface="Times New Roman"/>
              </a:rPr>
              <a:t>není jasné zda máme nejmenší důvod předpokládat, že druzí mají cokoliv, co můžeme považovat za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polečnou zkušenost</a:t>
            </a:r>
            <a:r>
              <a:rPr b="0" lang="en-US" sz="3200" spc="-1" strike="noStrike">
                <a:solidFill>
                  <a:srgbClr val="feec94"/>
                </a:solidFill>
                <a:latin typeface="Times New Roman"/>
              </a:rPr>
              <a:t>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Vizuální zkušenost může být dána čímsi, co si jiní nedokáží představi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txBody>
          <a:bodyPr anchor="t">
            <a:normAutofit fontScale="97000"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EXPERIMENT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Bagby, 1957)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DESIGN VÝZKUMU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  </a:t>
            </a: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Dvanáct partnerských amerických párů a 12 mexických párů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Vyjma  jediného žádný nikdy neopustil zemi, kde dlouhodobě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žily i jejich rodiny. Každé dvojici promítnuto deset párů diapozitivů, které zobrazovaly  </a:t>
            </a: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jednu aktivitu typickou pro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eec94"/>
                </a:solidFill>
                <a:latin typeface="Times New Roman"/>
              </a:rPr>
              <a:t>A/ </a:t>
            </a:r>
            <a:r>
              <a:rPr b="1" i="1" lang="cs-CZ" sz="2800" spc="-1" strike="noStrike">
                <a:solidFill>
                  <a:srgbClr val="feec94"/>
                </a:solidFill>
                <a:latin typeface="Times New Roman"/>
              </a:rPr>
              <a:t>(severo)</a:t>
            </a:r>
            <a:r>
              <a:rPr b="0" i="1" lang="cs-CZ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feec94"/>
                </a:solidFill>
                <a:latin typeface="Times New Roman"/>
              </a:rPr>
              <a:t>americkou kulturu (např. baseball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B/</a:t>
            </a: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  pro mexickou kulturu ( býčí zápasy)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Po 60s  expozici každé dvojice obrázků byli respondenti dotázáni co viděli.</a:t>
            </a: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Dominance jednotlivých očí byla eliminována randomizací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Při experimentu byly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 použity speciální /prizmatické/ brýle, které umožňují vysílat na každé oko jiný obraz. U většiny lidí je to tak, že v</a:t>
            </a:r>
            <a:r>
              <a:rPr b="0" lang="cs-CZ" sz="26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případě komunikace dvou obrazů vidí pouze jeden nebo</a:t>
            </a:r>
            <a:r>
              <a:rPr b="0" lang="cs-CZ" sz="2600" spc="-1" strike="noStrike">
                <a:solidFill>
                  <a:srgbClr val="feec94"/>
                </a:solidFill>
                <a:latin typeface="Times New Roman"/>
              </a:rPr>
              <a:t> občas pak jakýsi mix obojího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. To ovšem až po té co vidí jeden z obrázků samostatně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Projevila s jednoznačně preference obrázků z vlastní kultur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imes New Roman"/>
              </a:rPr>
              <a:t>              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EXPERIMENT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(Toch, Schulte, 1961)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DESIGN VÝZKUMU</a:t>
            </a:r>
            <a:r>
              <a:rPr b="0" i="1" lang="cs-CZ" sz="32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Položili si otázku, </a:t>
            </a:r>
            <a:r>
              <a:rPr b="1" i="1" lang="cs-CZ" sz="3200" spc="-1" strike="noStrike">
                <a:solidFill>
                  <a:srgbClr val="feec94"/>
                </a:solidFill>
                <a:latin typeface="Times New Roman"/>
              </a:rPr>
              <a:t>zda ti, kteří se dnes a denně setkávají s násilím</a:t>
            </a:r>
            <a:r>
              <a:rPr b="1" i="1" lang="cs-CZ" sz="3200" spc="-1" strike="noStrike">
                <a:solidFill>
                  <a:srgbClr val="ffffff"/>
                </a:solidFill>
                <a:latin typeface="Times New Roman"/>
              </a:rPr>
              <a:t> - </a:t>
            </a: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ffff"/>
                </a:solidFill>
                <a:latin typeface="Times New Roman"/>
              </a:rPr>
              <a:t>pracovníci kriminální policie -  </a:t>
            </a:r>
            <a:r>
              <a:rPr b="1" i="1" lang="cs-CZ" sz="3200" spc="-1" strike="noStrike">
                <a:solidFill>
                  <a:srgbClr val="feec94"/>
                </a:solidFill>
                <a:latin typeface="Times New Roman"/>
              </a:rPr>
              <a:t>budou při jeho vnímání citlivější, respektive zda jej budou vidět i v situacích, kde jej ostatní nevidí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Následně  je srovnali se studenty prvního ročníku psychologie. Oběma skupinám byl promítnut film kombinující násilné, agresivní i  neutrální scén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Policisté viděli – popisovali „viděli“  dvakrát tolik násilných scé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EXPERIMENT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(Lucas, 1945) 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DESIGN VÝZKUMU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Vybraní jedinci byli </a:t>
            </a: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hypnózou uvedeni do dobré nálady</a:t>
            </a: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 a bylo jim </a:t>
            </a: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promítnuto šest obrázků, které měli popsat</a:t>
            </a: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. Pak dostali v hypnóze příkaz na tyto obrázky zapomenout a byli uvedeni do depresivní nálady. Následně  jim byli promítnuty tytéž obrázky a měli je znovu popsa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00"/>
                </a:solidFill>
                <a:latin typeface="Times New Roman"/>
              </a:rPr>
              <a:t>Popisy stejných obrázků v odlišných psychických situacích byly výrazně odlišné, a to v závislosti na náladě</a:t>
            </a:r>
            <a:r>
              <a:rPr b="1" i="1" lang="cs-CZ" sz="2800" spc="-1" strike="noStrike">
                <a:solidFill>
                  <a:srgbClr val="ffff00"/>
                </a:solidFill>
                <a:latin typeface="Times New Roman"/>
              </a:rPr>
              <a:t>.</a:t>
            </a:r>
            <a:r>
              <a:rPr b="1" lang="cs-CZ" sz="28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EXPERIMENT</a:t>
            </a: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Meadowcraft a Zillmann,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1987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rokázali, že výběr televizního žánru koreluje s fází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menstruačního cyklu (v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premenstruační fázi volily ženy z nabídky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statisticky významně častěji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drama a naopak nejméně často komedie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0" y="100080"/>
            <a:ext cx="9144000" cy="6858000"/>
          </a:xfrm>
          <a:prstGeom prst="rect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700" spc="-1" strike="noStrike">
                <a:solidFill>
                  <a:srgbClr val="feec94"/>
                </a:solidFill>
                <a:latin typeface="Times New Roman"/>
              </a:rPr>
              <a:t>Politická karikatura proti předsudkům</a:t>
            </a:r>
            <a:r>
              <a:rPr b="1" lang="cs-CZ" sz="24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Jahoda–Cooper, 1947</a:t>
            </a:r>
            <a:r>
              <a:rPr b="0" lang="cs-CZ" sz="2400" spc="-1" strike="noStrike">
                <a:solidFill>
                  <a:srgbClr val="feec94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feec94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00"/>
                </a:solidFill>
                <a:latin typeface="Times New Roman"/>
              </a:rPr>
              <a:t>Analýza efektivity karikatur zaměřených proti předsudkům.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Jako hlavní hrdina karikatur vystupoval Mr. Biggott, který se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vyskytoval v situacích, kdy se předsudky jevily jako směšné.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zorek čítal 160 bílých nežidovských dělníků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vě třetiny z respondentů sadu karikatur (kampaň) vůbec 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nepochopilo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.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Někteří dokonce tvrdili, že cílem bylo legitimovat předsudek.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Chápali smysl karikatur tak, že de facto ujišťoval ostatní, aby si klidně drželi své předsudky podle logiky </a:t>
            </a:r>
            <a:r>
              <a:rPr b="0" i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„jiní je mají také“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Nejlépe rozuměli karikaturám ti, kteří předsudeční nebyli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nejhůře naopak ti nejpředsudečnější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ffff00"/>
                </a:solidFill>
                <a:latin typeface="Times New Roman"/>
              </a:rPr>
              <a:t>JAKO KLÍČOVÝ DÚVOD NEÚSPĚŠNOSTI KAMPANĚ BYL IDENTIFIKOVÁN </a:t>
            </a:r>
            <a:r>
              <a:rPr b="0" lang="cs-CZ" sz="2300" spc="-1" strike="noStrike">
                <a:solidFill>
                  <a:srgbClr val="ffffff"/>
                </a:solidFill>
                <a:latin typeface="Times New Roman"/>
              </a:rPr>
              <a:t>STRACH Z NESOUHLASU REFERENČNÍ SOCIÁLNÍ SKUPINY</a:t>
            </a:r>
            <a:r>
              <a:rPr b="0" lang="cs-CZ" sz="2300" spc="-1" strike="noStrike">
                <a:solidFill>
                  <a:srgbClr val="ffff00"/>
                </a:solidFill>
                <a:latin typeface="Times New Roman"/>
              </a:rPr>
              <a:t>. PŘESNĚJI </a:t>
            </a:r>
            <a:r>
              <a:rPr b="1" lang="cs-CZ" sz="2300" spc="-1" strike="noStrike">
                <a:solidFill>
                  <a:srgbClr val="ffff00"/>
                </a:solidFill>
                <a:latin typeface="Times New Roman"/>
              </a:rPr>
              <a:t>OČEKÁVÁNÍ </a:t>
            </a:r>
            <a:r>
              <a:rPr b="0" lang="cs-CZ" sz="2300" spc="-1" strike="noStrike">
                <a:solidFill>
                  <a:srgbClr val="ffff00"/>
                </a:solidFill>
                <a:latin typeface="Times New Roman"/>
              </a:rPr>
              <a:t> NESOUHLASU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686800" cy="14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Zesměšňování předsudků není efektivní. Satirické karikatury jsou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percipovány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 na základě vlastních postojů. Výsledkem pak je, ž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LIDÉ S PŘEDSUDKEM VNÍMAJÍ V KARIKATURÁCH SVÉ VLASTNÍ POSTOJE.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0" y="2465280"/>
            <a:ext cx="9144000" cy="4392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ZÁVĚRY JEDNOTLIVÝCH STUDIÍ NAZNAČUJÍ, ŽE 1/5 - 1/3 RESPONDENTŮ JE IMUNNÍ VŮČI UVEDENÝM SELEKTIVNÍM MECHANISMŮM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Obecným závěrem pak je, že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komerční charakter masové komunikace si </a:t>
            </a:r>
            <a:r>
              <a:rPr b="1" lang="cs-CZ" sz="2800" spc="-1" strike="noStrike">
                <a:solidFill>
                  <a:srgbClr val="ffff00"/>
                </a:solidFill>
                <a:latin typeface="Times New Roman"/>
              </a:rPr>
              <a:t>vynucuje produkci jen těch postojů a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 hodnot, proti nimž obecně není námitek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Masově komunikační prostředky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více posilují  status quo než způsobují postojovou změnu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TEORIE PERCEPČNÍHO SCHEMATU (DORIS GRABER, 1988)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9144000" cy="6480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feec94"/>
                </a:solidFill>
                <a:uFillTx/>
                <a:latin typeface="Times New Roman"/>
              </a:rPr>
              <a:t>percepční  schém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sestává z jistého organizovaného vědění, které 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týká   konkrétní/h situace/í a individuí. Toto věděn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je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abstrakcí jistých původních zkušeností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. Jde 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jakýsi předem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připravený skelet-matrice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, do které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jsou vkládány nové informac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Graberová říká, že lidé jsou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kognitivní lenoši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(„skrblíci“)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/cognitive misers/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Jsou mentálně pohodlní, a to i pro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to, že mají omezené schopnosti zpracovávat komplexní informace a rychle se uchylují k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vytváření simplifikovaných mentálních modelů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394920" cy="344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Graberová analyzovala percepční zpracování hlavních zpráv v denících a v TV. Objevila různé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strategie jak se lidé vyrovnávají s novými mediálními informacemi. </a:t>
            </a:r>
            <a:br>
              <a:rPr sz="2800"/>
            </a:b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Základní mechanismus označuje jako </a:t>
            </a:r>
            <a:r>
              <a:rPr b="1" lang="cs-CZ" sz="2800" spc="-1" strike="noStrike">
                <a:solidFill>
                  <a:srgbClr val="ffff00"/>
                </a:solidFill>
                <a:latin typeface="Times New Roman"/>
              </a:rPr>
              <a:t>PŘIPODOBNĚNÍ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(matching). Nová zpravodajská informace je přizpůsobena  schématu vytvořenému na základě předcházejících zpráv (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„</a:t>
            </a: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ten Zeman to je celej Klaus“ apod</a:t>
            </a:r>
            <a:r>
              <a:rPr b="1" i="1" lang="cs-CZ" sz="2800" spc="-1" strike="noStrike">
                <a:solidFill>
                  <a:srgbClr val="feec94"/>
                </a:solidFill>
                <a:latin typeface="Times New Roman"/>
              </a:rPr>
              <a:t>.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). </a:t>
            </a:r>
            <a:br>
              <a:rPr sz="2800"/>
            </a:b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Tento mechanimus funguje jednak jako: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0" y="3357360"/>
            <a:ext cx="9144000" cy="35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/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souběh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 (interference)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istých událostí na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základě aktuální věcné podobnosti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(příměří v Libanonu nebude mít dlouhého trvání neb v S. Irsku to taky dlouho nefungovalo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/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 vícenásobná integrac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s několika schématy či dimenzemi těchto schémat /zpráva o vstupu do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U j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 vztahována k tématu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nezaměstnanosti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a našeho potenciálního ohrožení z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Německa, resp. sudetských Němců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443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Přímé spojování zpráv s danými schématy je výrazně ovlivněno mechanismem, který Graberová označuje jako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„cueing“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 (dát narážku, podnět k jednání). Tento mechanismus spouštějí média prostřednictvím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titulků, hedlajnů, grafiky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 apod. </a:t>
            </a:r>
            <a:br>
              <a:rPr sz="2800"/>
            </a:b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Například řazení zpráv realizované tímto způsobem vede k tomu, že po zprávě o našem připravovaném vstupu do EU následuje úvaha o tom, že Němci vykupují pozemky v Čechách (témata jako přemalování šipek na silnici, velikosti včelařských rámečků, nezaměstnanost apod.).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0" y="4723920"/>
            <a:ext cx="9144000" cy="2133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eec94"/>
                </a:solidFill>
                <a:uFillTx/>
                <a:latin typeface="Times New Roman"/>
              </a:rPr>
              <a:t>SHRNUTÍ STUDI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L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IDÉ MAJÍ SKLON PŘI KONZUMACI MEDIÁLNÍC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SDĚLENÍ UKLÁDAT V PAMĚTI ZÁVĚRY VYPLÝVAJÍCÍ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Z DŮKAZŮ, ALE NE DŮKAZY SAMOTNÉ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0" y="1915920"/>
            <a:ext cx="9144000" cy="494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d termín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lektivní percepc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můžeme zahrnout percepční mechanismy, které jistým způsobem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ovlivňují, posouvají či zkreslují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původní informace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yto mechanismy, ale </a:t>
            </a:r>
            <a:r>
              <a:rPr b="0" lang="en-US" sz="3200" spc="-1" strike="noStrike">
                <a:solidFill>
                  <a:srgbClr val="feec94"/>
                </a:solidFill>
                <a:latin typeface="Times New Roman"/>
              </a:rPr>
              <a:t>nefungují uniformě u každého individu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title"/>
          </p:nvPr>
        </p:nvSpPr>
        <p:spPr>
          <a:xfrm>
            <a:off x="0" y="476280"/>
            <a:ext cx="914400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eec94"/>
                </a:solidFill>
                <a:latin typeface="Times New Roman"/>
              </a:rPr>
              <a:t>IV.1. 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SELEKTIVITA</a:t>
            </a:r>
            <a:r>
              <a:rPr b="1" lang="en-US" sz="2600" spc="-1" strike="noStrike">
                <a:solidFill>
                  <a:srgbClr val="feec94"/>
                </a:solidFill>
                <a:latin typeface="Times New Roman"/>
              </a:rPr>
              <a:t> JAKO JEDEN Z KLÍČOVÝCH PERCEPČNÍCH MECHANISMÚ</a:t>
            </a:r>
            <a:br>
              <a:rPr sz="2600"/>
            </a:br>
            <a:br>
              <a:rPr sz="2800"/>
            </a:br>
            <a:endParaRPr b="1" lang="en-US" sz="26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Existují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ři základní teorie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 vysvětlující percepční mechanismus, respektive selektivitu při vnímání.</a:t>
            </a:r>
            <a:br>
              <a:rPr sz="2800"/>
            </a:b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5950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/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teorie učení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-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terá vychází z představy,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že jsme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racionálními živočichy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teří svá rozhodnutí činí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na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základě nejlepších informací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, které jsou k dosažen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/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 teorie konzistence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resp. teorie kognitivní disonance),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terá vychází z toho, že jsme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racionalizující a ne racionální živočichové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proto reagujeme většinou na sdělení tak, že se při jeho přijímáni nebo nepřijímání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snažíme vždy ospravedlnit a ochránit naše již existující mínění, postoje a chován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3/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funkcionální teorie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-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ředpokládá, že přijímáme nové postoje v situaci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kdy naplňují nějakou naši potřebu, respektive, že udržujeme své postoje do té doby dokud jsou pro nás užitečné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TYTO TEORIE SE NEVYLUČUJÍ, ALE JSOU TŘEMI RŮZNÝMI ZPŮSOBY VYSVĚTLENÍ REAKCÍ V NAŠEM PŘÍPADĚ MEDIÁLNÍHO PUBLIKA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A/Selektivní expozice, B/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elektivní pozornost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, </a:t>
            </a:r>
            <a:br>
              <a:rPr sz="2800"/>
            </a:b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C/ Selektivní percepce, D/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elektivní retence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/ Některé informace, které jsou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jednoznačně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nepřijatelné nepřipustí individuum hned na počátk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/ V případě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mixu přijatelných a nepřijatelných sdělení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věnuje pozornost pouze přijatelný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/ Pokud projde informace dále nastupuje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selektivní percepce při vlastním dekódování sdělen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4/ Pokud ani v tomto případě není selektivní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nformace zastavena nastupuje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mechanismus selektivního vybavení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A/SELEKTIVNÍ EXPOZICE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 - je tendence individua vystavit se takové komunikaci, která je v souladu s jeho postoji. Tedy více či méně vědomě unikat sdělením s nimiž nesouhlasí  a naopak.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Protikuřáckou kampaň nejvíce sledují nekuřáci.</a:t>
            </a:r>
            <a:br>
              <a:rPr sz="2800"/>
            </a:br>
            <a:br>
              <a:rPr sz="2800"/>
            </a:br>
            <a:r>
              <a:rPr b="1" lang="cs-CZ" sz="2800" spc="-1" strike="noStrike" u="sng">
                <a:solidFill>
                  <a:srgbClr val="ffff00"/>
                </a:solidFill>
                <a:uFillTx/>
                <a:latin typeface="Times New Roman"/>
              </a:rPr>
              <a:t>TEORIE KOGNITIVNÍ DISONANCE</a:t>
            </a:r>
            <a:br>
              <a:rPr sz="2800"/>
            </a:b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Pojem selektivní expozice  je jednou z hlavních derivací Festingerovy teorie 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kognitivní disonance.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br>
              <a:rPr sz="2800"/>
            </a:b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Stav kognitivní disonance nastává tehdy, když je jedinec nucen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zastávat současně dva či více názorů, postojů či mínění, které jsou ve vzájemné opozici.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 Teorie kognitivní disonance tvrdí, že: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0" y="1915920"/>
            <a:ext cx="9144000" cy="494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Stav disonance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tlačí individuum k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rychlé změně</a:t>
            </a:r>
            <a:r>
              <a:rPr b="0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aby se zbavilo tohoto nepříjemného pocitu. Individuum může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A/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přestat kouřit nebo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B/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naopak vytěsnit důvěryhodnost informace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o tom, že kouření vede k rakovině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okud to není možné musí hledat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doplňující ospravedlnění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pro původní postoj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např. přesvědčit se, že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zisk plynoucí z kouření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je pro něho mnohem důležitější než potenciální nebezpečí z rakoviny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Vyřešit takovou situaci duševní nepohody znamená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změnit vlastní  postoj tak, že jej konformizujeme s veřejným chováním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, tzn., že musíme najít materiál  pro racionalizaci nechtěného postoje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844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feec94"/>
                </a:solidFill>
                <a:latin typeface="Times New Roman"/>
              </a:rPr>
              <a:t>Když se individuum ocitne v situaci, kdy je nuceno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ednat veřejně, tak, že je to v rozporu s jeho vnitřními postoji a představami</a:t>
            </a:r>
            <a:r>
              <a:rPr b="0" lang="en-US" sz="2800" spc="-1" strike="noStrike">
                <a:solidFill>
                  <a:srgbClr val="feec94"/>
                </a:solidFill>
                <a:latin typeface="Times New Roman"/>
              </a:rPr>
              <a:t>, zakouší v této situaci stav </a:t>
            </a:r>
            <a:br>
              <a:rPr sz="2800"/>
            </a:br>
            <a:r>
              <a:rPr b="0" lang="en-US" sz="2800" spc="-1" strike="noStrike">
                <a:solidFill>
                  <a:srgbClr val="feec94"/>
                </a:solidFill>
                <a:latin typeface="Times New Roman"/>
              </a:rPr>
              <a:t>disonance jako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sychické nepohody</a:t>
            </a:r>
            <a:r>
              <a:rPr b="0" lang="en-US" sz="2800" spc="-1" strike="noStrike">
                <a:solidFill>
                  <a:srgbClr val="feec94"/>
                </a:solidFill>
                <a:latin typeface="Times New Roman"/>
              </a:rPr>
              <a:t>.</a:t>
            </a:r>
            <a:br>
              <a:rPr sz="2800"/>
            </a:b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2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Teorie kognitivní disonance vychází z toho, že individua se</a:t>
            </a:r>
            <a:br>
              <a:rPr sz="2800"/>
            </a:b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A/ pokoušejí zbavit disonantních pocitů, B/ mají tendenci</a:t>
            </a:r>
            <a:r>
              <a:rPr b="1" lang="en-US" sz="2800" spc="-1" strike="noStrike" u="sng">
                <a:solidFill>
                  <a:srgbClr val="feec94"/>
                </a:solidFill>
                <a:uFillTx/>
                <a:latin typeface="Times New Roman"/>
              </a:rPr>
              <a:t>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aktivně se vyhýbat  takovým informacím, které produkují disonanci.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Tomu slouží mechanismus </a:t>
            </a:r>
            <a:br>
              <a:rPr sz="2800"/>
            </a:b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SELEKTIVNÍ EXPOZICE 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0" y="2204640"/>
            <a:ext cx="9144000" cy="46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Hypotéza selektivní expozice má dvě komponenty. Předpokládá, ž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1/  se budeme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aktivně vyhýbat či budeme méně vnímaví k informacím,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 jež jsou v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opozici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vůči našim postojům, míněním, chován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2/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budeme vyhledávat takové informace, které podporují naše postoje, mínění a chování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Pokud by tato hypotéza  platila, pak by to znamenalo, ž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jakákoliv persvaze,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jakékoliv mediální působení se setkává s již přijatými a schválenými postoji.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Účinkem by pak mohlo být pouze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posílení stávajících postojů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(J. Klapper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Současný výzkum se soustřeďuje na analýzu podmínek, </a:t>
            </a:r>
            <a:r>
              <a:rPr b="0" lang="en-US" sz="2800" spc="-1" strike="noStrike">
                <a:solidFill>
                  <a:srgbClr val="feec94"/>
                </a:solidFill>
                <a:latin typeface="Times New Roman"/>
              </a:rPr>
              <a:t>kdy budou opozitní informace vyhledávány či preferovány před informacemi, které potvrzují námi držené postoje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:</a:t>
            </a:r>
            <a:br>
              <a:rPr sz="2800"/>
            </a:b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91440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/ pokud půjde o význačnou </a:t>
            </a:r>
            <a:r>
              <a:rPr b="1" lang="en-US" sz="2800" spc="-1" strike="noStrike" u="sng">
                <a:solidFill>
                  <a:srgbClr val="feec94"/>
                </a:solidFill>
                <a:uFillTx/>
                <a:latin typeface="Times New Roman"/>
              </a:rPr>
              <a:t>novou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 informaci jejíž vysoká hodnota je předpokládána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(očekávání)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 Dále hraje roli zábavnost informace a osobní relevance pro publik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/ pokud je informace vnímána jako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užitečná pro řešení problémů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/ pokud si je člověk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jistý ve svých postojích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a neobává se jejich zpochybněn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4/ lidé se nevyhýbají nepříjemným informacím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kud se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nacházejí v situaci,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ve skupině, kde je</a:t>
            </a:r>
            <a:r>
              <a:rPr b="0" lang="en-US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otevřenost vysoce hodnocenou kvalito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5/ naopak vyhýbají se takovým informacím, které je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jednoznačně podporují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v jejich pozici, a to pokud se v této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pozici necítí jist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5T07:23:55Z</dcterms:created>
  <dc:creator>JV</dc:creator>
  <dc:description/>
  <dc:language>en-US</dc:language>
  <cp:lastModifiedBy>JV</cp:lastModifiedBy>
  <dcterms:modified xsi:type="dcterms:W3CDTF">2010-10-21T08:33:38Z</dcterms:modified>
  <cp:revision>11</cp:revision>
  <dc:subject/>
  <dc:title>III.3. REKLAMY JAKO GESTALT</dc:title>
</cp:coreProperties>
</file>