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16F-F141-4E0B-8436-C8A23572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D23-C63F-4A11-8E23-9A8D584D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05A-5209-4B58-9378-BF2B676B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182-49F1-41C6-9189-B605D41F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0D24-61D9-4578-8723-54C550FC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1EFB-40DF-4003-8308-7B7F93B2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7FB6-9D9E-47B4-B9E1-74547A9C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7237-B2E8-4C06-8680-9CE86B69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CD74-293E-4A36-AE50-DE797676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3EDA-1961-4471-B30C-C89C5585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632D-B240-48B2-8251-AF7B2F0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D8A-2007-483D-B97B-F638162C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343D-B2AD-4CB7-951E-D18FA3E5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9F3A-041D-4B6E-8BCD-8BE5E260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69D7-7FC6-4740-BF2B-79B0B12E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1CDD-662A-417A-96BD-89E758A7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8E82-2717-4AA5-8A23-CB22014D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A86-2E04-4A20-84FB-9BC53D98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E2F-9B28-4ECF-BA43-C269D782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C5E-28B1-4603-A40A-A8D6AB82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B21-E7AF-4229-958A-C18ECD39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7FB-E286-42AC-93EE-E5E3CC3D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2CA-98F8-4353-908A-4BA79137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15D-2E2D-4A08-8995-47F6E529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D6E5-D49C-46E5-B05C-86FE2FB3F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79E3-F71F-476D-92C1-0F0866B53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4:02Z</dcterms:modified>
  <cp:revision>11</cp:revision>
  <dc:subject/>
  <dc:title>III.3. REKLAMY JAKO GESTALT</dc:title>
</cp:coreProperties>
</file>