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6B1E-5F62-4F7B-8F3C-ADDBF011B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065F-0F4F-4E3C-AAE9-02B3E17F7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1214-02B5-4187-BFCF-78D290534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9E1A-076D-4784-94EE-ACF828153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7E94A-5A52-40B1-8DA4-5C17D8FBC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8B823-27B9-484C-AA9D-F5B241324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1AC95-EDBC-4D29-A018-B7876311F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1ECEC-82DA-453E-AC35-5216E429D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3DFD0-FFAF-4A6C-90FA-111F83DE1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5FCFC-597B-4265-94DF-7FEBBBCCD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82DE1-EDA5-4F23-9AC5-661C0CD57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626C-A291-4DEB-AF19-D3EEC9AAB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9F8C7-4114-4CDD-999F-398FC2312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83F46-C72D-4CE1-A506-6D521E810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6841C-48DD-4DB2-98CC-F618CB956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B9AED-A50D-4B55-8E73-A9E1FFA07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69A50-5441-44CC-BD2C-A56749DF0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C3BC-ACA7-4CD6-9E2D-6B4AE63B7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47A6-2FBD-4BDC-9A1A-7DC3DE042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639A-8619-4D0E-AC0F-6287E7281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59B6-5166-48B1-AAB6-590D179B4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6B9F-132D-4DCB-8F5A-D87DFB4AA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471A-31FA-44E8-A1C1-274124D1F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53C4-51BE-477A-BBA5-3A1E2C75C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92767-E4AC-4D3A-BE3E-03B42A3EFE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3A42D-89B7-4A5A-ADDB-B6AA60F6EF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II. Úkol: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zvolte libovolné mediální sdělení (nejlépe reklamní povahy) a pokuste se identifikovat v jeho rámci použité konstrukční principy vycházející ze základních percepčních zákonů tvarové (gestalt) psychologi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oto pojetí výrazně podtrhuj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ktivní roli příjemce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, který v rámci percepčního procesu přináší cosi jako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lastní informace.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Podobnost se sémiotickým přístupem je zřetelná v důrazu na aktivitu a individuálnost zpracování. Samotní sémiotici se ovšem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nezabývají vlastními podmínkami či příčinami za nichž k aktivní a de facto vždy individuální percepci dochází,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a to z pohledu vlastního psychického aparátu či ustrojení člověka. Sémiotici zůstávají většinou pouze u popisu mechanismu jak jsou jednotlivě zpracovávány jednotlivé znaky z pohledu jejich významové výstavby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4941360"/>
            <a:ext cx="9144000" cy="1916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ocesu percepce dochází k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instrumentaci řady bitů informací, které jsou v tomto smyslu defacto rekonstruovány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Když cosi pozorujeme zapojujeme i svou minulou zkušenost (n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 rozdíl od fungování fotoaparátu, kamery apod)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404280"/>
            <a:ext cx="843588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Tento vztah ke zkušenosti dobře dokládají případy lidí, kteří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získali opětovně zrak</a:t>
            </a:r>
            <a:r>
              <a:rPr b="1" lang="en-US" sz="3200" spc="-1" strike="noStrike" u="sng">
                <a:solidFill>
                  <a:srgbClr val="feec94"/>
                </a:solidFill>
                <a:uFillTx/>
                <a:latin typeface="Times New Roman"/>
              </a:rPr>
              <a:t>.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 Jsou bombardováni množstvím stimulů, které neznají a které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jsou schopni interpretovat jen za pomoci různých smyslových zkušeností, nejčastěji  dotykové.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Význam zkušenosti dokládá skutečnost, že například vnímání dvou/třídimenzionální informace je  pro od narození slepých jedinců nemožné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o platí například i pro lidi, kteří nikdy neviděli fotografii a musí se jí učit číst.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I. KAZUISTIKA (Gregory, 1986)</a:t>
            </a:r>
            <a:br>
              <a:rPr sz="24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Případ pacienta, který byl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lepý od dětství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a získal zrak po transplantaci rohovky v 52letech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jeho obraz </a:t>
            </a:r>
            <a:r>
              <a:rPr b="1" i="1" lang="en-US" sz="2800" spc="-1" strike="noStrike">
                <a:solidFill>
                  <a:srgbClr val="feec94"/>
                </a:solidFill>
                <a:latin typeface="Times New Roman"/>
              </a:rPr>
              <a:t>postrádal koherenci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-  vše splývá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ostává </a:t>
            </a:r>
            <a:r>
              <a:rPr b="1" i="1" lang="en-US" sz="2800" spc="-1" strike="noStrike">
                <a:solidFill>
                  <a:srgbClr val="feec94"/>
                </a:solidFill>
                <a:latin typeface="Times New Roman"/>
              </a:rPr>
              <a:t>strach z chůze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, kterou jako slepý běžně zvládal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odel jeho vlastního bytu byl dotykový,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vět byl dotykový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Najednou s novou vizuální zkušeností byl pro něho prostor extrémně konfúzní, </a:t>
            </a:r>
            <a:r>
              <a:rPr b="1" i="1" lang="en-US" sz="2800" spc="-1" strike="noStrike">
                <a:solidFill>
                  <a:srgbClr val="feec94"/>
                </a:solidFill>
                <a:latin typeface="Times New Roman"/>
              </a:rPr>
              <a:t>nedokázal posuzovat velikost a perspektivu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jeho původní život, kdy neviděl  byl dán </a:t>
            </a:r>
            <a:r>
              <a:rPr b="1" i="1" lang="en-US" sz="2800" spc="-1" strike="noStrike">
                <a:solidFill>
                  <a:srgbClr val="feec94"/>
                </a:solidFill>
                <a:latin typeface="Times New Roman"/>
              </a:rPr>
              <a:t>linearitou a sekvenčností</a:t>
            </a:r>
            <a:r>
              <a:rPr b="0" i="1" lang="en-US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Taková percepční mapa ovšem neposkytuje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dostatečné informace o pohybu v </a:t>
            </a:r>
            <a:r>
              <a:rPr b="1" i="1" lang="en-US" sz="2800" spc="-1" strike="noStrike">
                <a:solidFill>
                  <a:srgbClr val="feec94"/>
                </a:solidFill>
                <a:latin typeface="Times New Roman"/>
              </a:rPr>
              <a:t>simultánním prostoru  a hloub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zvyklý na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sekvenční a materiální svět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nebyl schopen vnímat dvoudimenzionální fotografie </a:t>
            </a:r>
            <a:r>
              <a:rPr b="0" i="1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viděl jen barevné skvrny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pokládal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rozmazané skvrny za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tváře jen díky tomu, že znal hlas daných osob</a:t>
            </a:r>
            <a:r>
              <a:rPr b="0" i="1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tato vizuální nezralost jej vedla k tomu, že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nevnímal klasické optické iluze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 například týkající záměny figury a pozadí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(Neckarova kostka apod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bez zralé vizuální zkušenosti skutečně viděl to, co mohl na poprvé pocítit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Například některé věci, které považoval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na základě hmatové zkušenosti za hezké a měl je rád byly najednou vizuálně odporné.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Nebyl schopen deficit ve vizuálním učení vykompenzovat či odstranit. Výsledkem byla skutečnost, že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 se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sociálně s tímto novým světem nevyrovnal.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Postupně u něho narůstá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depresivita.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Umírá po dvou letech od tranplanta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řípad popisuje situaci člověka, který je plně schopný vnímat svět skrze zvuk a dotyk, ale jeho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mysl pro celost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byl na nulové úrovni.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Nerozvinutý vizuální kortex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tak vedl k tomu, že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mohl vidět, ale ne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vnímat-percipovat ve vizuálním módu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br>
              <a:rPr sz="2800"/>
            </a:b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Jde o důkaz významu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izuálního učení a paměti při vizuální percepci.</a:t>
            </a:r>
            <a:br>
              <a:rPr sz="2800"/>
            </a:b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To co naše oči registrují není obrazem reality. Spíše se dá říci, že náš mozek/ky kombinují informace zprostředkované očima s dalšími smysly a syntetizuje je s naší minulou zkušeností.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akový obraz nám pak pomáhá s orientací v sociálním světě.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. J. Gibson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rozlišuj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mezi obrazem na sítnici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izuální pol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mentální aktivitou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která vytváří náš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izuální svět“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d A/ „Vizuální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le“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světla na sítnici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zatímco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e výsledkem dopad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D B/ „Vizuální svět“ je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interpretací vzorců světla jako reality.</a:t>
            </a:r>
            <a:r>
              <a:rPr b="0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Vizuální svět je interpretací reality ne realitou samotnou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de o obraz formovaný v mozku prostřednictvím integrace multisenzorických informaci a kulturní zkušenosti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oto jde spíše o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mentální mapu, ne o teritorium v jeho úplnost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Jde defacto o distinkci mezi </a:t>
            </a:r>
            <a:r>
              <a:rPr b="1" lang="cs-CZ" sz="2600" spc="-1" strike="noStrike" u="sng">
                <a:solidFill>
                  <a:srgbClr val="ffffff"/>
                </a:solidFill>
                <a:uFillTx/>
                <a:latin typeface="Times New Roman"/>
              </a:rPr>
              <a:t>percepcí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 a </a:t>
            </a:r>
            <a:r>
              <a:rPr b="1" lang="cs-CZ" sz="2600" spc="-1" strike="noStrike" u="sng">
                <a:solidFill>
                  <a:srgbClr val="ffffff"/>
                </a:solidFill>
                <a:uFillTx/>
                <a:latin typeface="Times New Roman"/>
              </a:rPr>
              <a:t>realitou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, o propast, kterou nelze nikdy uzavřít. To, co označujeme jako realitu je výsledkem procesu, který počíná světelnou refrakcí a končí komplexní dynamikou psyché.</a:t>
            </a:r>
            <a:endParaRPr b="1" lang="en-US" sz="2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91440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Právě proto, že  věci vnímáme konzistentně 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věříme tomu, co vidíme.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Nakonec tudíž </a:t>
            </a:r>
            <a:r>
              <a:rPr b="1" lang="cs-CZ" sz="2600" spc="-1" strike="noStrike" u="sng">
                <a:solidFill>
                  <a:srgbClr val="feec94"/>
                </a:solidFill>
                <a:uFillTx/>
                <a:latin typeface="Times New Roman"/>
              </a:rPr>
              <a:t>vidíme více</a:t>
            </a:r>
            <a:r>
              <a:rPr b="1" lang="cs-CZ" sz="2600" spc="-1" strike="noStrike" u="sng">
                <a:solidFill>
                  <a:srgbClr val="ffffff"/>
                </a:solidFill>
                <a:uFillTx/>
                <a:latin typeface="Times New Roman"/>
              </a:rPr>
              <a:t>,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 než realitu. Vidíme to co očekáváme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(např. některá výtvarná díla - Magrit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V případě televize vnímáme </a:t>
            </a:r>
            <a:r>
              <a:rPr b="1" lang="cs-CZ" sz="2600" spc="-1" strike="noStrike" u="sng">
                <a:solidFill>
                  <a:srgbClr val="ffffff"/>
                </a:solidFill>
                <a:uFillTx/>
                <a:latin typeface="Times New Roman"/>
              </a:rPr>
              <a:t>chybně okolo třiceti procent obsahu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, který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600" spc="-1" strike="noStrike" u="sng">
                <a:solidFill>
                  <a:srgbClr val="ffffff"/>
                </a:solidFill>
                <a:uFillTx/>
                <a:latin typeface="Times New Roman"/>
              </a:rPr>
              <a:t>ztotožňujeme s teritoriem,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 ne s mapou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Analogie mezi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okem a fotoaprátem je nesprávná,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jelikož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sítnicový obraz je toliko nejelementárnějším stádiem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v komplexním procesu „vidění“. Oko je pouze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biologickým nástrojem pro shromažďování informací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dostupným z vnějšího prostředí. Obraz, který nám oči zprostředkovávají nepracuje na rozdíl od fotoaparátu na základě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mechanismu zachycování obrazů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, ale jde o komplexní proces zachycující existenci změny, formy a rysů, ve kterém jsou selektivně připravována data pro interpretaci v mozku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90792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Současná vizuální teorie předpokládá, že vizuální paměť u vidících jedinců existuje jako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sada reprezentativních tvarů, které obsahují invariantní, stálé, neměnné vlastnosti objektů v jejich různých užitích či situacích.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Tyto neměnné vzorce u slepých od narození chybí. Tím jak vizuální zkušenost narůstá stávají se tyto vzorce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schématy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 podle, kterých rozlišuje základní tvary a umožňují mezi nimi rozlišovat (viz díle percepční témata (Doris Graber) 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3284640"/>
            <a:ext cx="9144000" cy="35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Obraz na sítnic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je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konfrontován s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zkušenostním schematem drženým v tzv. dlouhodobé paměti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. Paměťová reprezentace tak výrazně ovlivňuje povahu percipovaného objektu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Stínové divadlo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pracující se základními charakteristikami např. zvířat je typickým příkladem existence takových schéma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dá se ovšem, že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aměť nedrží tvary jednoznačně ve stejné podobě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. Paměť je v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ermanentní proměně, a to pod vlivem nové zkušenosti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Jde o otevřený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systém vzájemného ovlivňování vizuální paměťové zkušenosti a nové vizuální zkušenost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např.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traumatické zkušenosti jsou ukládány do odlišných částí mozku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Když si lidé vědomě vzpomenou na traumatický zážitek dochází k překrvení amygdaly a dochází k aktivizaci vizuálního kortexu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Výsledkem mohou být intenzivní vizuální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flashbacky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- vzpomínkové záblesky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tvrzuje se tak de facto p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sychoanalytická teorie vytěsněn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II.1.TEORIE  PERCEPCE: GESTALTISTICKÉ KOŘENY, HOLISTICKÁ PERCEPČNÍ ŠKOLA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ames Gibson ( 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The Ecological Approach to Visual Perception, 1979)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zdůrazňuje,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že obraz, který vidíme není dán hlavním stimulem, světlem, respektive jeho obsahem,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ale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jde primárně o diference mezi jednotlivými světelnými skvrnami. Vidíme na prvním místě rozdíly mezi nimi mezi těmito skvrnami, ale ne je samotné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Gibson se přitom opírá o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Gestalt teorii a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zdůrazňuje, že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percepce má holistickou-celostní povahu.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KAPITOLA II.</a:t>
            </a:r>
            <a:br>
              <a:rPr sz="2400"/>
            </a:b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PERCEPCE V MASOVÉ  KOMUNIKACI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0" y="836280"/>
            <a:ext cx="9144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ednou z nejproblematičtějších vlastností komunikačních  modelů v první etapě výzkumu masových médií - tedy v etapě silných účinků, teorie injekční stříkačky, letící střely, (koncepcí které tvrdí, že média mají přímé a silné účinky) je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neschopnost modelů silných účinků vyrovnat se záludnostmi percepčního mechanismu.</a:t>
            </a: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to modely pracují  s představou sdělení jako šípu zasahujícího jeden cíl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Opomíjejí ovšem právě vliv percepčního mechanismu jednotlivých příjemců, který zásadním způsobem ovlivňuje interpretaci sdělen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GESTALT PSYCHOLOGIE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áce teoretiků tzv. gestalt (tvarové) psychologie se zaměřila na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dynamickou percepční organizaci vnější zkušenosti do smysluplných celků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Zakladatelé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Max Wertheimer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1880-1943),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Wolfgang Köhler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1887-1967) a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Kurt Koffka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1886-1941) považují za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klíčový organizující percepční princip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 jednotu smyslů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terá vzniká velmi časně. Jsou defacto první, kteří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upozornili na roli principu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jednoty-celosti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v rámci procesu vnímání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Zajímají j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mechanismy kombinace částí do více méně smysluplných celků.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Vycházejí přitom z předpokladu, ž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celek je více než pouhý součet částí.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IZOMORFICKÁ TEORIE PERCEPCE 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Times New Roman"/>
              </a:rPr>
              <a:t>Max Wertheimer došel na základě percepčních experimentů k tomu, že klíčový je v percepci</a:t>
            </a:r>
            <a:r>
              <a:rPr b="1" lang="cs-CZ" sz="30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cs-CZ" sz="3000" spc="-1" strike="noStrike" u="sng">
                <a:solidFill>
                  <a:srgbClr val="feec94"/>
                </a:solidFill>
                <a:uFillTx/>
                <a:latin typeface="Times New Roman"/>
              </a:rPr>
              <a:t>vztah </a:t>
            </a:r>
            <a:r>
              <a:rPr b="1" lang="cs-CZ" sz="3000" spc="-1" strike="noStrike">
                <a:solidFill>
                  <a:srgbClr val="ffffff"/>
                </a:solidFill>
                <a:latin typeface="Times New Roman"/>
              </a:rPr>
              <a:t>tedy cosi odlišného než co je obsaženo v jednotlivých oddělených vjemech. </a:t>
            </a: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Nejde tedy o jednotlivá podráždění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Times New Roman"/>
              </a:rPr>
              <a:t>Podle tohoto pojetí se zdá že </a:t>
            </a:r>
            <a:r>
              <a:rPr b="1" lang="cs-CZ" sz="3000" spc="-1" strike="noStrike">
                <a:solidFill>
                  <a:srgbClr val="feec94"/>
                </a:solidFill>
                <a:latin typeface="Times New Roman"/>
              </a:rPr>
              <a:t>principy percepce leží mezi jevy, elementy a ne v nich samotných.</a:t>
            </a: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Například při </a:t>
            </a:r>
            <a:r>
              <a:rPr b="1" lang="cs-CZ" sz="3000" spc="-1" strike="noStrike">
                <a:solidFill>
                  <a:srgbClr val="ffffff"/>
                </a:solidFill>
                <a:latin typeface="Times New Roman"/>
              </a:rPr>
              <a:t>transpozici melodie jsou užité noty jiné, ale melodie je stále rozpoznatelná</a:t>
            </a: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Times New Roman"/>
              </a:rPr>
              <a:t>Melodie je tak funkcí vztahu mezi jednotlivými částmi notace.</a:t>
            </a: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Podobně uvažují dnešní neurofyziologové, když předpokládají, že </a:t>
            </a:r>
            <a:r>
              <a:rPr b="1" lang="cs-CZ" sz="3000" spc="-1" strike="noStrike">
                <a:solidFill>
                  <a:srgbClr val="ffffff"/>
                </a:solidFill>
                <a:latin typeface="Times New Roman"/>
              </a:rPr>
              <a:t>neexistuje centrální dirigent, ale spíše </a:t>
            </a:r>
            <a:r>
              <a:rPr b="1" lang="cs-CZ" sz="3000" spc="-1" strike="noStrike">
                <a:solidFill>
                  <a:srgbClr val="feec94"/>
                </a:solidFill>
                <a:latin typeface="Times New Roman"/>
              </a:rPr>
              <a:t>forma demokratické symfonie mezi jednotlivými částmi mozku.</a:t>
            </a:r>
            <a:r>
              <a:rPr b="0" lang="cs-CZ" sz="3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‚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FIGURA a POZADÍ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(´figure' a 'ground').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Celá teorie vychází z předpokladu existence univerzálních charakteristik lidské percepc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bychom byli schopni identifikovat vizuální obraz musíme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odděli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dominantní tvar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'figuru' s jejími hraničními konturami)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o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„pozadí- ground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“ toho co aktuálně odsouváme do pozad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30088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ento princip ilustruje ambivalentní zobrazení dánského psychologa Edgara Rubina.</a:t>
            </a:r>
            <a:br>
              <a:rPr sz="2800"/>
            </a:b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Rozhodující je to, co  v daném případě akcentujeme – bílá váza/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černé siluety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. Pokud akcentujeme siluety jde o figuru a zbytek odsouváme do pozadí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268360" y="2637000"/>
            <a:ext cx="453708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eec94"/>
                </a:solidFill>
                <a:latin typeface="Times New Roman"/>
              </a:rPr>
              <a:t>Percepce či obraz organizován prostřednictvím dvou mechanismů: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Times New Roman"/>
              </a:rPr>
              <a:t>koheze</a:t>
            </a:r>
            <a:r>
              <a:rPr b="0" lang="en-US" sz="3000" spc="-1" strike="noStrike">
                <a:solidFill>
                  <a:srgbClr val="feec94"/>
                </a:solidFill>
                <a:latin typeface="Times New Roman"/>
              </a:rPr>
              <a:t> a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Times New Roman"/>
              </a:rPr>
              <a:t>izolace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en-US" sz="30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3000"/>
            </a:br>
            <a:endParaRPr b="1" lang="en-US" sz="3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Linie umístěné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blízko sebe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či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podobné barvy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či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tvary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tendují k formování jednotek jako ohraničených celků, jež jsou izolovány od ustupujícího pozad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Gestalt psychologové vytvořili několik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univerzálních principů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, někdy se hovoří o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zákonech percepční organizace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Za hlavní můžeme považovat následující (terminologie se někdy částečně proměňuje)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Zákony percepční organizace podle gestalt teorie</a:t>
            </a:r>
            <a:br>
              <a:rPr sz="3200"/>
            </a:b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1/ princip jednoduchosti, podobnosti (similarity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2/ princip blízkosti (proximity 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3/ princip dobrého/hladkého průběhu (good continuation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4/ princip uzavření (closure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5/ princip preference menšího tvaru (smallness)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6/ princip ohraničení (surroundedness 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7/ princip symetrie (symmetry 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1/ / princip jednoduchosti, podobnosti</a:t>
            </a:r>
            <a:br>
              <a:rPr sz="2800"/>
            </a:b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truktura vyobrazených předmětů (tečky a čtverečky) uspořádané vertikálně a horizontálně tzn. že princip blízkosti není adekvátní. Vidíme ale střídání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loupců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z koleček a čtverečků. Je tomu tak proto, že máme tendenci asociovat podobné rysy. V případě nerozlišených objektů vidíme řádky i sloupce</a:t>
            </a:r>
            <a:r>
              <a:rPr b="1" i="1" lang="en-US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292720" y="3646440"/>
            <a:ext cx="3095640" cy="25192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985680" y="3645000"/>
            <a:ext cx="32259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2/ Princip blízkosti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 percepčním procesu se sousední body nemusí dotýkat, aby byly logicky spojovány jako části většího významového, smysluplného vzorce.</a:t>
            </a:r>
            <a:br>
              <a:rPr sz="2400"/>
            </a:br>
            <a:r>
              <a:rPr b="1" i="1" lang="en-US" sz="2400" spc="-1" strike="noStrike">
                <a:solidFill>
                  <a:srgbClr val="feec94"/>
                </a:solidFill>
                <a:latin typeface="Times New Roman"/>
              </a:rPr>
              <a:t>Jeden  čtverec složený z teček v sérii sloupců. Charakteristiky, které jsou k sobě fyzicky blíž jsou snadněji asociovány. </a:t>
            </a:r>
            <a:br>
              <a:rPr sz="24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764320" y="2276640"/>
            <a:ext cx="2479680" cy="25923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874800" y="2276640"/>
            <a:ext cx="2833560" cy="25923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2246400" y="4995720"/>
            <a:ext cx="5133960" cy="19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1128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3/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Princip dobrého/hladkého průběhu</a:t>
            </a:r>
            <a:br>
              <a:rPr sz="28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Zákon hladkého průběhu vnímání předpokládá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kompletování již dříve vytvořených linií, ať už formálních nebo zkušenostních.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Pokud vnímáme jakýkoliv </a:t>
            </a:r>
            <a:r>
              <a:rPr b="1" lang="en-US" sz="2400" spc="-1" strike="noStrike" u="sng">
                <a:solidFill>
                  <a:srgbClr val="feec94"/>
                </a:solidFill>
                <a:uFillTx/>
                <a:latin typeface="Times New Roman"/>
              </a:rPr>
              <a:t>ambivalentní stimul -  vnímáme jej jako odraz toho co očekáváme.</a:t>
            </a:r>
            <a:br>
              <a:rPr sz="2400"/>
            </a:b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Tento princip říká, že kontury vycházející z plynulého průběhu preferujeme před změnou směru. Vidíme zde linie a-b a c-d, ale ne a-d,  c-b, a-c a d-b. 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763640" y="3573360"/>
            <a:ext cx="57610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50920" y="2276640"/>
            <a:ext cx="8569080" cy="458136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ostupná modifikace tváře muže do postavy ženy </a:t>
            </a:r>
            <a:br>
              <a:rPr sz="2800"/>
            </a:b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Poslední kresba nahoře a první dole je ukázkou ambivalence.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To co platí pro ilustraci platí obecně i pro percepci.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Nevnímáme to co je, ale to co chceme vidět.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2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PRO STUDIUM PÚSOBENÍ MASOVÝCH MEDIÁLNÍCH OBSAHÚ</a:t>
            </a:r>
            <a:br>
              <a:rPr sz="2400"/>
            </a:b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JSOU DÚLEŽITÉ NÁSLEDUJÍCÍ OTÁZKY: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/ Jaké mechanismy ovlivňují vnímání masových  médi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/ Jak je vnímána jejich realita na základě existujícího vědění - držených postojů, schémat, stereotyp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/ Jak může konzumace masových médií ovlivnit vnitřní prostředí jedince tj. jak může ovlivnit míra konzumace médií postoje, stereotypy a schémata. Tento proces zapadá do kategorie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„percepce sociální realit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43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okud je to tak, že percepční vzorce vytvářejí základy pro abstraktní myšlení a argumentování, pak je možné vidět v tomto základním principu nejen kořeny hladkého průběhu percepce, ale též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 stereotypizování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. </a:t>
            </a:r>
            <a:br>
              <a:rPr sz="3200"/>
            </a:b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Gestalt ovšem zdůrazňuje spíš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existenci vnitřních percepčních principů,  než že by mluvil o učení 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4581360"/>
            <a:ext cx="8229600" cy="15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dobně je tomu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když se díváme na oblohu, mraky nebo hvězdy tendujeme k využití vzorců, které byly vytvořeny dříve, jelikož poskytují stabilitu a vytvářejí význa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4/ Princip uzavření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eferujeme uzavřené tvary před otevřenými. Vidíme tři přerušené obdélníky. Princip uzavření přebíjí princip blízkosti.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68360" y="2133720"/>
            <a:ext cx="835164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5/ Princip preference menšího tvaru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enší oblasti máme tendenci vidět jako figury proti většímu pozadí.(</a:t>
            </a:r>
            <a:r>
              <a:rPr b="1" i="1" lang="en-US" sz="2800" spc="-1" strike="noStrike">
                <a:solidFill>
                  <a:srgbClr val="feec94"/>
                </a:solidFill>
                <a:latin typeface="Times New Roman"/>
              </a:rPr>
              <a:t>Vidíme  kříž spíše než bílé pozadí).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148360" y="2421000"/>
            <a:ext cx="3527280" cy="28083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939960" y="2276640"/>
            <a:ext cx="312732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6/ Princip symetrie</a:t>
            </a:r>
            <a:br>
              <a:rPr sz="2400"/>
            </a:b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Otevřené, nedokončené figury např. série teček jsou vnímány jako jeden trojúhelník, kruh nebo čtverec, když dosadíme chybějící linie</a:t>
            </a:r>
            <a:br>
              <a:rPr sz="2400"/>
            </a:b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či tečky. Jde o nevědomý proces, ve kterém oko a mozek vytváří nejlepší nejsymetričtější formy. Uvedený princip znali už před gestaltisty pointilisté a impresionisté, kteří užívali vzorce světla na plátně (Cézan, Manet, Monet, Renoir) 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943560" y="3647520"/>
            <a:ext cx="2350080" cy="244440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00"/>
            </a:solidFill>
            <a:prstDash val="sysDot"/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2268360" y="3213000"/>
            <a:ext cx="1151280" cy="3645000"/>
          </a:xfrm>
          <a:prstGeom prst="line">
            <a:avLst/>
          </a:prstGeom>
          <a:ln w="57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419640" y="3213000"/>
            <a:ext cx="1439640" cy="3645000"/>
          </a:xfrm>
          <a:prstGeom prst="line">
            <a:avLst/>
          </a:prstGeom>
          <a:ln w="57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340000" y="6858000"/>
            <a:ext cx="2519280" cy="0"/>
          </a:xfrm>
          <a:prstGeom prst="line">
            <a:avLst/>
          </a:prstGeom>
          <a:ln w="57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26920" y="3213000"/>
            <a:ext cx="0" cy="3456000"/>
          </a:xfrm>
          <a:prstGeom prst="line">
            <a:avLst/>
          </a:prstGeom>
          <a:ln w="5724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00000" y="3213000"/>
            <a:ext cx="3672000" cy="0"/>
          </a:xfrm>
          <a:prstGeom prst="line">
            <a:avLst/>
          </a:prstGeom>
          <a:ln w="57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26920" y="6597720"/>
            <a:ext cx="4105440" cy="0"/>
          </a:xfrm>
          <a:prstGeom prst="line">
            <a:avLst/>
          </a:prstGeom>
          <a:ln w="57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0" y="3284640"/>
            <a:ext cx="216000" cy="3313080"/>
          </a:xfrm>
          <a:prstGeom prst="line">
            <a:avLst/>
          </a:prstGeom>
          <a:ln w="57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7/ Princip ohraničení</a:t>
            </a:r>
            <a:br>
              <a:rPr sz="2800"/>
            </a:b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Oblasti, které vidíme obklopené dalšími máme tendenci vnímat jako  figury 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 (davají dané znaky nějaký význam, lze je přečíst?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395280" y="3070080"/>
            <a:ext cx="835344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PRAGNANTZ PRINCIP</a:t>
            </a:r>
            <a:br>
              <a:rPr sz="2400"/>
            </a:b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šechny uvedené principy percepční organizace slouží nadřazenému principu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pragnänz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který říká, že dáváme přednost nejjednodušším a nejstabilnějších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interpretacím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br>
              <a:rPr sz="2800"/>
            </a:br>
            <a:br>
              <a:rPr sz="24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PERCEPČNÍ ZKRESLENÍ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zhledem k tomu, že </a:t>
            </a:r>
            <a:r>
              <a:rPr b="0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věříme tomu, co vidím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máme tak rádi optické iluze. Typickou ilustrací percepční iluze, které podléháme je existence </a:t>
            </a:r>
            <a:r>
              <a:rPr b="0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slepé skvrn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j. místo, kde se již nervové receptory nedotýkají sítnice. V této oblasti již nedisponuje sítnicovými receptory a proto neexistuje cesta jak předávat vizuální informace. Uvedená oblast musí být vyplněna percepčně. Této absence, jakési díry ve vidění si nejsme vědomi. Přesto vidíme celistvé obrazy. </a:t>
            </a:r>
            <a:br>
              <a:rPr sz="2800"/>
            </a:br>
            <a:r>
              <a:rPr b="0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Tento model doplňování se odehrává obecně v celém procesu percepce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. </a:t>
            </a:r>
            <a:br>
              <a:rPr sz="2800"/>
            </a:b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rvní data, které mozek vnímá: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/ jsou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hraniční kontur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To umožňuje 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odlišovat jeden objekt od druhého a de facto nám tak pomáhá nenarážet do věcí okolo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2/ Následuje naplňování či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oplňování tohoto prázdného prostoru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a to i chybějících detailů, a to za užití tzv. zprůměrňování přijímaných senzorických dat, například barev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Toto percepční doplňování je paralelní s kognitivním zpracováním např. v rovině stereotypů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Obrazy formované vědomě i nevědomě vytvářejí percepční hranice a v jejich rámci pak více méně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utomaticky dosazujeme a zprůměrňujeme obsah vymezený těmito hranicemi.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To co doplňujeme tak defacto reálně neexistuje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okud nechceme podlehnout tomuto stereotypnímu a automatickému myšlení musíme jej podrobovat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neustálým kritickým zkoumání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ro abstraktní myšlení a percepci hraje klíčovou roli schopnost skládat jednotlivé části do celku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. Při vnímání věcí v našem okolí činíme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extrémně komplexní výkon derivování významů z odlišných  a oddělených elementů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Formování unifikovaného celku - tj. obrazu věcí odráží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holistickou logiku, jež má své základy v evoluci percep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Tato holistická schopnost organizovat věci do celků nám pomáhá např. oddělit telefonní přístroj od stolu, na kterém stojí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Někdy se to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nepovede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 ambivalence významů vede ke spojení jevů, které spolu nesouvisí. Příkladem je otázka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řešení ambivalentních významů, které mohou být interpretovány různými způsoby.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1196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Uvedený mechanismus ilustruje Rubinova iluze  „dvě tváře z profilu“, které se alternativně transformují do vázy, a to v závislosti na tom co vidíme jako figuru a co jako pozadí. </a:t>
            </a:r>
            <a:r>
              <a:rPr b="1" lang="cs-CZ" sz="2400" spc="-1" strike="noStrike" u="sng">
                <a:solidFill>
                  <a:srgbClr val="feec94"/>
                </a:solidFill>
                <a:uFillTx/>
                <a:latin typeface="Times New Roman"/>
              </a:rPr>
              <a:t>Váza nebo tvář.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 Jde o ilustraci </a:t>
            </a:r>
            <a:r>
              <a:rPr b="1" lang="cs-CZ" sz="2400" spc="-1" strike="noStrike" u="sng">
                <a:solidFill>
                  <a:srgbClr val="feec94"/>
                </a:solidFill>
                <a:uFillTx/>
                <a:latin typeface="Times New Roman"/>
              </a:rPr>
              <a:t>vztahu figury a pozadí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, které se alternativně prosazují jako figury.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Když jsou síly izolování a soudržnosti v rovnováze vzniká ambivalence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 Váza/ tvář model je ambivalentní protože variuje mezi dvěma interpretacemi, které nelze jednoznačně priorizovat. 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3059280" y="3573360"/>
            <a:ext cx="36003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MÁ MATKA A MÁ TCHYNĚ. Poprvé publikována 1915. Jde o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lternativní portrét mladé ženy, která se proměňuje ve starou.</a:t>
            </a: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feec94"/>
                </a:solidFill>
                <a:uFillTx/>
                <a:latin typeface="Times New Roman"/>
              </a:rPr>
              <a:t>Nos staré ženy je současně spodní čelistí mladé ženy. </a:t>
            </a: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Ať už vidíme jako první mladou nebo starou ženu svou roli zde hraje skutečnost </a:t>
            </a:r>
            <a:r>
              <a:rPr b="1" lang="en-US" sz="2400" spc="-1" strike="noStrike" u="sng">
                <a:solidFill>
                  <a:srgbClr val="feec94"/>
                </a:solidFill>
                <a:uFillTx/>
                <a:latin typeface="Times New Roman"/>
              </a:rPr>
              <a:t>očekávání.</a:t>
            </a: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468360" y="2349360"/>
            <a:ext cx="806436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AD/ 1 PERCEPCE A POHYB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ohyb je pro naši percepci zásadní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Podobně jako barva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je registrován bezprostředně a automaticky percepčním systémem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Vizuální systém  byl vyvinut s tím cílem, aby nás varoval před nebezpečím. Proto reagujeme na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ohyb jako na signál, který je potenciálně pozitivní nebo negativní změnou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dálost je pak to, co se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„děje“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Změny ve vizuálním poli vyžadují naši pozornost kvůli pohybu. Díky pohybu jsme lépe schopni porozumět struktuře objektu.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ohyb odhaluje třídimenzionální formu a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odděluje figuru od pozad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oto zvířata při ohrožení tzv.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zmrznou,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což je de facto kamufláž pro přežití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Jak se pohnou odhalují své charakteristiky - tvar, velikost, směřován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1/  Mullerova-Lyerova iluze OBR. </a:t>
            </a:r>
            <a:br>
              <a:rPr sz="2400"/>
            </a:b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2/ Ďáblovy proměnlivé vidle </a:t>
            </a:r>
            <a:br>
              <a:rPr sz="2400"/>
            </a:b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3/ Neckerova kostka  </a:t>
            </a:r>
            <a:br>
              <a:rPr sz="24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403280" y="1600200"/>
            <a:ext cx="5689800" cy="49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Gestaltisté byli první, kdo upozornili v rámci mechanismu percepce na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nevědomé a automatické procesy, které organizují podráždění podle zkušenost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Zdůrazňují přitom, že procesy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komprese a redukce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 vizuální informac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formují percepční elementy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 do jejich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nejjednodušší a nejefektivnější podob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Když sledujeme film nejsou tzv. </a:t>
            </a:r>
            <a:r>
              <a:rPr b="1" lang="en-US" sz="2600" spc="-1" strike="noStrike">
                <a:solidFill>
                  <a:srgbClr val="feec94"/>
                </a:solidFill>
                <a:latin typeface="Times New Roman"/>
              </a:rPr>
              <a:t>receptory krátkých záblesků schopny rozlišit mezi zdánlivým a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reálným</a:t>
            </a:r>
            <a:r>
              <a:rPr b="1" lang="en-US" sz="2600" spc="-1" strike="noStrike">
                <a:solidFill>
                  <a:srgbClr val="feec94"/>
                </a:solidFill>
                <a:latin typeface="Times New Roman"/>
              </a:rPr>
              <a:t> pohybem.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1/V prvním případě jde o </a:t>
            </a:r>
            <a:r>
              <a:rPr b="1" lang="en-US" sz="2600" spc="-1" strike="noStrike">
                <a:solidFill>
                  <a:srgbClr val="feec94"/>
                </a:solidFill>
                <a:latin typeface="Times New Roman"/>
              </a:rPr>
              <a:t>dojem pohybu ze dvou skutečně existujících stimulů.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2/ V druhém o identifikaci </a:t>
            </a:r>
            <a:r>
              <a:rPr b="1" lang="en-US" sz="2600" spc="-1" strike="noStrike">
                <a:solidFill>
                  <a:srgbClr val="feec94"/>
                </a:solidFill>
                <a:latin typeface="Times New Roman"/>
              </a:rPr>
              <a:t>reálného pohybu, tak jak se normálně odehrává v přírodě.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Obrázky v rychlém sledu na plátně ústí do </a:t>
            </a:r>
            <a:r>
              <a:rPr b="1" lang="en-US" sz="2600" spc="-1" strike="noStrike" u="sng">
                <a:solidFill>
                  <a:srgbClr val="feec94"/>
                </a:solidFill>
                <a:uFillTx/>
                <a:latin typeface="Times New Roman"/>
              </a:rPr>
              <a:t>iluze kontinuálního pohybu.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Dochází k tomu, že </a:t>
            </a:r>
            <a:r>
              <a:rPr b="1" lang="en-US" sz="2600" spc="-1" strike="noStrike" u="sng">
                <a:solidFill>
                  <a:srgbClr val="feec94"/>
                </a:solidFill>
                <a:uFillTx/>
                <a:latin typeface="Times New Roman"/>
              </a:rPr>
              <a:t>zdánlivý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pohyb a rychlé sekvence jsou čteny jako další stimuly s podobnými časovými a prostorovými charakteristikami. Pohyby na filmovém plátně identifikujeme podobně jako pohyby reálné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Dnes je rychlost pohybu jednotlivých políček standardizovaná. U prvních filmů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kolísala rychlost mezi </a:t>
            </a:r>
            <a:r>
              <a:rPr b="1" lang="en-US" sz="2600" spc="-1" strike="noStrike">
                <a:solidFill>
                  <a:srgbClr val="feec94"/>
                </a:solidFill>
                <a:latin typeface="Times New Roman"/>
              </a:rPr>
              <a:t>16 až 24 obrázky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za sekundu, takže při nižší rychlosti bylo vidět jejich běh, míhání. Jde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de facto o idiomatické vnímání filmu zmizel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ento fakt měl klíčový vliv pro roli médií jako zábavy. Ač považujeme daný film za plytký, stále jej pozorujeme.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elevizi sledujeme částečně i proto, že se obrázky pohybují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Akční film je v tomto smyslu dobrou ilustrac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Hodnocení umělecké úrovně pořadu je tak vlastně až sekundární zkušeností. Dialogy i akce jsou často příliš rychlé na to, aby byly analyzovány.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avíc těsně nastřihané události, akce působí na naši percepci a vyvolávají dojem kauzálního vztahu místo vědomí pouhé chronologie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Jde o jakousi ztrátu percepční logiky, která vysvětluje proč akční filmy navzdory absenci pevněji a logicky vystavěné zápletky jsou vnímány jako příběh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ávě pohyb obrázků,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„framů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“ je zdrojem speciálních efektů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Například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filmování miniaturních modelů zvýšenou rychlost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a jejich následná projekce ve standardní rychlosti vyvolává dojem jejich „reálné“ očekávatelné velikosti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Užívání pojm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ERCEPCE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 se liší podle vědeckého pole či užité metodologie: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9144000" cy="374328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A/vjem, percepční pole, percepční plynulos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(kognitivní psychologi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sociální percepce, selektivní percepc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(sociální psychologi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/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percipovaná realita, percepce sociální reality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(komunikační věd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3577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ercepce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 - je  proces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řijímání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 a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zpracování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 informací prostřednictvím smyslů. Není to ovšem pouze pasivní mechanický proces (jako kamera nebo magnetofon) přijímání informací, ale spíš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ynamický proces zpracování informací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 a v jistém smyslu produkování těchto sdělení.</a:t>
            </a: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342864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OTO NEJJEDNODUŠŠÍ VYMEZENÍ ZDÚRAZŇUJ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KATEGORIZAČNÍ FUNKC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PERCEPČNÍHO MECHANISMU, KTERÁ ALE SLOUŽÍ FUNKCI OBECNĚJŠÍ –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ADAPTAĆNÍ,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(percepční ostražitos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ercepce je komplexní proces, při kterém lidé (a)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lektují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, (b)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rganizují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a (c)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terpretují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senzorickou stimulaci do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mysluplného a koherentního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obrazu světa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V tomto procesu tedy </a:t>
            </a:r>
            <a:r>
              <a:rPr b="1" lang="cs-CZ" sz="3000" spc="-1" strike="noStrike" u="sng">
                <a:solidFill>
                  <a:srgbClr val="feec94"/>
                </a:solidFill>
                <a:uFillTx/>
                <a:latin typeface="Times New Roman"/>
              </a:rPr>
              <a:t>nemůžeme</a:t>
            </a:r>
            <a:r>
              <a:rPr b="1" lang="cs-CZ" sz="3000" spc="-1" strike="noStrike">
                <a:solidFill>
                  <a:srgbClr val="feec94"/>
                </a:solidFill>
                <a:latin typeface="Times New Roman"/>
              </a:rPr>
              <a:t> hovořit o jednoznačné korespondenci mezi vnější realitou a jejím zpracováním individuem.</a:t>
            </a: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Staré mechanistické koncepce naopak předpokládaly, že všichni </a:t>
            </a:r>
            <a:r>
              <a:rPr b="1" lang="cs-CZ" sz="3000" spc="-1" strike="noStrike">
                <a:solidFill>
                  <a:srgbClr val="ffffff"/>
                </a:solidFill>
                <a:latin typeface="Times New Roman"/>
              </a:rPr>
              <a:t>vnímají jevy stejně</a:t>
            </a: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 resp., že  v případě vnímání  jednoho konkrétního objektu je tento vnímán  totožně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Times New Roman"/>
              </a:rPr>
              <a:t>Jde o posun od pozitivistického ke  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Times New Roman"/>
              </a:rPr>
              <a:t>A/ kogntivistickému a B/ konstruktivistickému   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Times New Roman"/>
              </a:rPr>
              <a:t>přístupu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8T07:36:08Z</dcterms:created>
  <dc:creator>JV</dc:creator>
  <dc:description/>
  <dc:language>en-US</dc:language>
  <cp:lastModifiedBy>JV</cp:lastModifiedBy>
  <dcterms:modified xsi:type="dcterms:W3CDTF">2010-11-12T07:51:51Z</dcterms:modified>
  <cp:revision>6</cp:revision>
  <dc:subject/>
  <dc:title>KAPITOLA II. PERCEPCE V MASOVÉ  KOMUNIKACI</dc:title>
</cp:coreProperties>
</file>