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08E-6997-4D48-B472-A55FF4F1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212-0BCA-4451-93F1-F7C9C23A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7C2-CD47-42EB-8F0B-03679F94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EE3-8281-4489-B07A-8A6BD536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8C7B-7355-4158-A708-A1A937B2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272F-ED6C-47ED-A796-9581B0F1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48BC-A757-4278-A02A-D8240711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EA50-BDF7-4B20-B187-9D20CE8B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7D90-3B4F-4E50-AA97-727FF7E3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02EB-CE5C-4BBE-A96B-C0C00E96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0D56-71BB-4417-B67F-3133D9C6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EAA-5218-42E6-86BC-818A0A29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7ABA-FE4A-4D46-A8C6-1A8A1804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F19B-F6C3-42B2-9842-26FC09FA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535A-CA00-499B-8674-D6B1DE1D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39DF-DDFF-484C-8DF6-F9DCBEC6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A247-5C57-4FC9-BDD6-D8B694BC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947-2292-4EB4-811C-29B59816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DEB-6C29-4403-88AC-CF5B90B2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CDD-D49A-47C3-B042-81F17487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324-8D82-46C0-BCBE-FDBB9D2C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B2F-1EA4-44C5-A063-31CB6943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750-4FE6-4B7D-85AC-F196007E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08D-112D-41B3-A958-D94A4E31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03A5-E92A-4827-91CD-A7B89814E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F880-5CF6-4D38-B9F8-2308DC6956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3:38Z</dcterms:modified>
  <cp:revision>11</cp:revision>
  <dc:subject/>
  <dc:title>III.3. REKLAMY JAKO GESTALT</dc:title>
</cp:coreProperties>
</file>