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D3C-BC63-4091-BF95-9AB13F5C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9F3-9F30-41D6-A669-497B3C45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CF5-778E-4FA5-8382-18D0092D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157-FD88-49E4-A6D1-E02DA77E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F6C0-AEA5-449C-A47E-20B40FBB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47E8-F220-4EC4-9B39-6E461950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232B-F8E2-46CC-8CE0-F6CD6A45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8046-85A2-4FA1-8472-481C69A9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743C-6020-4E5D-B670-8A1A6F8F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DCB3-1E95-4B9E-96DA-EF5FCA54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94A8-09CB-46B4-807E-D4B6639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F99-A181-4AE4-913E-5C3854BB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2F4E-9C60-4C19-AF3B-D4BEA05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6BB3-0B15-4938-ADF7-3024ED4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CB4F-DEA7-4069-A5C1-A8D39E74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4B56-5AB1-413D-9717-A4B4781B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51DB-B295-4D92-9DDD-8A2300C4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180-23D5-42D5-BE61-82B2E58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DE6-CD0F-40D5-86AD-A5A88E13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DC8-4E78-4DB8-B4DB-539CA0D8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076-4362-4108-A983-6D98D105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C16-535C-4959-81B8-CE686AC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108-E102-4A36-BD6D-AD52A519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D7E-2C13-429B-A602-2B44678D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8C9C-969B-4222-887D-93017E2C5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7CF2-91C8-4C4F-A027-D1401659B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. T E O R I E   P Ř E S V Ě D Č O V Á N Í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PERSVAZE, PERSUAZE)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kutečnými manipulátory jsou naši vnitřní přisvědčovatelé – naše chutě, naše strachy, marnivost a ješitnost, které zručný manipulátor využívá.“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vazivní komunikac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ředstavuje pouze jeden z typů masového komunikování. Jde ale o typ vysoce frekventovaný. Jeho cíl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at postoje, respektive způsobit postojovou změnu (konverzi) u objektů, na které daná komunikace cíl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 persvaze se odlišuje od jiných typů výzkumu mediálního působení především v tom, že analyzuj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mýšlené, intencionální působ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typů mediálního působení je ovšem nezáměrná a spouští tzv. nezamýšlené důsledky/působ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GNITIV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možň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kturovat zkušenost tak, aby se nám jevila jako smysluplná a srozumitelná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Zkušenost je proto v postojích reorganizována tak, aby byla vnímána jako konzistentní, bezrozporná. Klasickým příkladem jsou náboženské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112560"/>
            <a:ext cx="914400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ohoto typu postoje je třeb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otevřít nějaký starý problém, který nebyl nikdy dořešen a dotknout se všech souvislostí, které se na něj váž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poskytnout k jeho řešení ambivalentní informace nebo změnit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nabídnout více významných informací o daném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.1. EFEKTIVITA PŘESVĚDČOVACÍHO AKTU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em přesvědčovacího mechanismu se zabývali již v 50. letech Hovland, Janis a Kelley, kteří kategorizovali sílu informačních zdrojů (sociální kredit zdroje informací) u vysokoškolských studentů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88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 klíčové označují následujících pět proměnný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povaha mater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prostředí jed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osobnost (sugestibilita, inteli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mínění většiny (má větší vliv než mínění expertů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 emocionální argumentace je vlivnější než rac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Á KONVERZ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ává většinou u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utráln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mbivalentní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toj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řídka u vyhraněný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Významný vliv má referenční skup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kutečněn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ojové změny se musí odehrá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ě.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prve spíše navozováním neutrálního postoje a pak protikladnéh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nak nastává tzv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umerangový efek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ÍKL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diální kampaně zaměřené na změnu postoje vůči Rómům zdůrazňující negativní (rasistické) vlastnosti majoritní populace spouštějí „bumerangový efekt“ i u tzv.slušných občan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LAVNÍ FAKTORY OVLIVŇUJÍCÍ EFEKTIVITU PŘESVĚDČOVACÍHO 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vland, Janis a Kelley definovali v prác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ommunication and Persuasi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 klíčové atributy ovlivňující efektivitu přesvědčovacího ak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EMA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/ KREDIBILIT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 zdroje kredibility jsou považovány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olehli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ychází z jistého odborného školení, zkušeností, inteligence, profesionálních schopností a sociálního statu. Ti, kteří preferují expertní soud a nechají se jím ovlivni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42160" cy="364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jsou většinou lid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racionálně řešící problé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jedince, kteří se snaží co nej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blížit své postoje vnější realitě či reálnému svě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ři takovém ovlivnění většin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internalizují nový postoj, který se pak stává rezistentním vůči změně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SPOLEHLIV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je dána důvěrou publika v to, že komunikátor je motivován k tomu komunikovat své sdělení bez falše. Tedy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olehlivý zdroj nemá záměr manipulovat a nebude tedy mít žádný zisk z toho pokud jeho doporučení bude publikum akceptova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Prodejce automobilů, který jezdí ve své značce je jen zřídka vnímám jako spolehlivý zdroj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tní a spolehlivý zdroj je vnímán jako kredibiln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LAND a WEI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ovali za pomoci faktorové analýzy dva klíčové faktory"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upřímn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rustworthines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věrohodnost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The Influence of Source on Communication Effectivness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1951)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AKTORY KREDIBILITY (WHITEHEAD,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968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5 sémanticky diferentních poj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aktorovou analýzou pak došel ke čtyřem dominantním faktorům, které definují kredibilitu zdro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olehliv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obrý/špatný,čestný/nečestný,spolehlivý nespolehlivý, spravedlivý/nespravedliv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fesionalita nebo kompeten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zkušený /nezkušený, má profesionální návyky/nem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ynamič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agresivní/poddajný, aktivní/pasiv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jektiv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otevřený/uzavřen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ale, že základní charakteristiky kredibilního zdroje jako je jeho status, spolehlivost, expert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ůsobí ve smyslu načítání jednotlivých charakteristik do KREDIBIL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ale jde o tzv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ultiplikativní či násobící účine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a charakteristika násobí účinek druh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k se ro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rismatiký typ persuaz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HOVLAND/WEIS, 195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 skupiny vysokoškoláků měli hodnotit různé názory na základě informací ze dvou typů zdrojů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a skupina obdržela sdělení od zdrojů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ízkým kredit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ce kredibilních zdr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ubjektivní názor na daná témata byl měře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na začátku experimentu - „před výzkumem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v druhém kroku respondenti obdrže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lánky argumentující k danému téma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 jejich přečtení by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pětně dotazováni na stejná téma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Po měsíci bylo dotazování opakov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émata, o které při přesvědčování šlo byla následující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ůže TV za úbytek diváků v kinech?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Respondenti obdrželi články argumentující k danému témat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expertní názor v časopise Fortune b/ proti interwiev s  ženou z lid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ohou být antihistaminové léky prodávány bez lékařského předpis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New England Journal of Biology and Medicine vs. b/ obrázkový časop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 nedostatek oceli způsoben ocelářským průmyslem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Bulletin of National Resources Planning Board, b/pravicový sloupkař zaměřený militantně protidělnick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sou Američané schopni postavit atomovou ponork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špičkový fyzik Robert Oppenheimer b/ ruská Prav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DROJE S VYSOKOU KREDIBILITOU MĚLY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RAZNĚJŠÍ VLIV NA ZMĚNU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RNUT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svědčování je efektivní tehdy, kdy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říjemci věnují sdělení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sdělení rozu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akceptují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.1. POSTOJ A POSTOJOVÁ KONVERZE</a:t>
            </a:r>
            <a:br>
              <a:rPr sz="2800"/>
            </a:br>
            <a:br>
              <a:rPr sz="2800"/>
            </a:b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“ -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homas, Znanieck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lish Peasant in Europe and America 1918-20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e jsou to stálejší obecné orientace individua vůči jeho okolí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 představuje stav pohotovosti pro určitý typ odpovědi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Postojem rozumí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individuálního vědomí, které determinuje reálné nebo možné aktivity individua v sociálním světě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oj je tendence odpovídat (reagovat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ad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por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 určité osoby, předměty nebo situ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Postoj odráž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otovost k aktivaci moti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oj je dispozice jednat vnímat, myslet a cítit ve vztahu k dané věci (Theorore Newcomb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měsíci se dostavil tzv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nomén spáčského efekt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EMA 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HOVLAND, 1942-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Jak jso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efektivní edukační filmy, užívané pro výcvik a především  zvýšení motiv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(Why we fight, Battle of Brit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toda: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rozsáhlé kvantitativní šetření na souboru 2100 respon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Tři hlavní výzkumné otázk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y faktické vědění - inform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formovaly specifické postoje týkající se Bitvy o Angl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i/měnili postoje akceptace vojenské role,  vůli bojo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Hlavní zjištění výzkumu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soká efektivi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šíření informac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faktického charakter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měrně úspěšný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při formování a proměně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pecifických postojů ve vztahu k BITVĚ a Britům obecně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měl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žádný vli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na motiva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loužit v armádě či při zvyšování nenávisti k nepřítel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DNORÁZOVÁ MASOVÁ KOMUNIKACE NEMÁ VLIV   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 SILNĚ DRŽENÉ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 zde se projevil  spáčský efekt (SCHEMA č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stování postojové změny se uskutečni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pět dnů po promítání film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opakovaně 9 týdnů po promít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radoxně se ukázalo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ější změna nastala po 9 týdnech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uálně po shlédnutí filmu nebylo sdělení tak významné, ale s přibývajícím časem nabývalo na aktuál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 z možných vysvětlení  tohoto fenoménu vychází z možnosti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ám zdroj tedy filmové médium bylo považováno za málo věrohodn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le po několika týdnech byla ta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ěrohodnost zapomenu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zůstala pouze vlastní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É NEBO OBOUSTRANNÉ SDĚL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blém psychologie přesvědčování - zda sdělovat informaci pouze jednostrannou nebo zohlednit dva či více různých mnohdy protichůdných pohledů a podtrhnout pohled svůj. 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aký typ přesvědčovacích strategii/sdělení je efektivněj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dnostranné (one-sided) nebo oboustranné (two-sided)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obhajována proto, aby nebyly vyvolány velké pochybnosti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ou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preferována z důvodů lepší možnosti připravit příjemce, kteří jsou proti sdělení a odblokovat možné potenciální námitk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(Hovland, 19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ak motivovat vojáky v boji proti Japoncům v situaci, kdy válka v Evropě už skončil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ed experimentem vyplnili respondenti dotazník, kde deklarovali  očekávání „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jak dlouho bude ještě válka trvat“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prave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ě verze rozhlasových posel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obou byla základní informace, že b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měla trvat ještě nejméně dva ro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Bylo ale využito dvou způsobů prezent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j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ednostranné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elství trvalo 15 min.Argument -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bude pokračovat nejméně dva rok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Dále následovala charakteristika japonské armády a obyvatelst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ruhé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trvalo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9 minut a obsahovalo  popis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omplikovanosti situ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zdůrazňovalo i výhody existence pouze jednoho nepříte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Osloveny tři skupiny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  jednostranně (one sided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2/  oboustranným sdělením (two sid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žádné sdělení kontrolní skup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sledoval opakovaný dotazní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ě testované skupiny korigovaly postoj na rozdíl od skupiny kontroln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zi oběma skupinami však nebyl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ádný rozdí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dělili skupinu na ty, kteří  původně předpokládal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rat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jich odhad byl méně než 1.5 rok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ty, kteří předpokládali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íc než 1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ERE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na respondenty, kteří původně předpokládal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 působilo efektivněj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Oboustranné sděle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ůsobilo efektivněji na ty, kteří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čekávali kratší tr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pohled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zděl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l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ednostranné sdělení efektivnější u respondentů s nižším vzděláním a naop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993080" cy="525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VĚR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svazivní efektivita sdělení závisí na individuálních psychologických charakteristikách.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tomto smyslu jsou účinky propagan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íce nahodilé než cílené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UNITNÍ TEORI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PAPAGEORGIS/ McGUIRE,1962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ím z nejfrekventovanějších výzkumných cílů je snaha odhali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rezistence či imunity vůči přesvědčovacím technikám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to teorie je postavena na analogii s medicínskou koncepcí očkován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36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ční ohrožení spočívá v tom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isponujeme velkým množstvím postojů, které nikdy nebyly vystaveny tlaku zpochybně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 jsou náchylnější k postojové změně. Nedisponujeme zde obrannými látkami.Nabízejí se dvě možnosti jak tomuto ohrožení  zabrán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podávat podpůrné látky - posilovat stávající postoj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upně vystavovat individua oslabené formě nákazy - tj. podáv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oustranné vyvážené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hodnější je vystavovat individua kontraargumentům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MUNITNÍ TEORIE KOMUNIKAC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PAGEORGIS/ McGUIRE,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pro testování taková přesvědčení, která se jen obtížně zpochybňují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urní truis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1/ každý by se měl dostavit jednou ročně na rentgen zda nemá tuberkuló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2/ účinky penicilinu jsou jednoznačné, až na malé výjimky pozi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3/ většina forem duševních nemocí není nakažli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4/ každý by si měl čistit zuby každý 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ní skupina je na škále jednoznačně lživé - jednoznačně pravdivé 1-15 hodnotila (13.26 me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 první dostával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pochybňu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druhá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nostranné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 té byli obě skupiny vystaven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sivnímu zpochybň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otlivých tez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 skupiny s jednostrannými informacemi způsobilo zpochybňování pokles na 6.60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max 1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kupina těch, kteří byli „očkováni“ oboustranně byl pokles menší pouze na 10.3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fektivnější při vytváření rezistence se projevilo (pasivní) čtení než (aktivní) psa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arakteristika postojů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nciona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yjadřují určitou kvalitu - sympatie/antip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intenzi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kven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polární charak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sou konzistentní nebo nekonzistent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držnost kognitivních, afektivních a konativních složek). Nejkonzistentnější jsou extrémní post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va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se vytvářejí v procesu sociálního 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dramatickou zkuše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nápodob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ITA - PŘITAŽLIVOST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obecném pojetí jde o představu spojenou s fyzickou atraktivitou či charismatem. Vzhledem k obtížné operacionalizovatelnosti a měřitelnosti takového pojmu používá komunikační výzkum následující subkritéri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odob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dobrá znalost, obeznámenost s daným komunikát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sympatičnost, obl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/ blíz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/ 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/ fyzická atraktivi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DOB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vyhledáváme lidi, kteří jsou nám alespoň v některém rysu podobní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to podobnost sestává ze dvou kompon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mografick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yhledáváme lidi s podobnými demografickými charakteristikami jako máme my - věk, vzdělání, příjem, náboženství,  rasa apod. V obecném jazyce se říká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„je to jeden z nás. Je to naše krevní skupina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deologick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jde o podobné postoje a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ologická podobnost působí silněji než demografic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OBRÁ ZNALOST KOMUNIKÁ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komunikace a masové zvlášť platí,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hováni takovými zdroji, které zná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těžké přijmout nové komunikační zdroje a porušit tak denní rutinu např. čtenářských zvy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SYMPATIČ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komunikaci jsm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tahování těmi, které máme rádi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jsou nám sympatičtí (známé tváře se neopouště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ravděpodobnost obliby stoupá přímo úměrně v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ztahu k odměnám, které komunikátor poskytuj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bývají v zásadě tyto dvě for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dukce úzkosti, stresu, osamocenosti či ohro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kostní lidé mají tenden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agovat se stejným lidm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likož interakce s druhými přivádí úzkost. Často užíváme druhé jako nástroj informací o vlastních pocitech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e je jedním z nástrojů umožňujících odklonění úzkost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ociální uzn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ympatizujeme s těmi, kteří ná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vyšují sebehodnoc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. s těmi, kteří nám ukazují jak být oceňováni druhými. Jinými slovy sociální uznání zajišťuje uspokojení našich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KONT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, která jsou s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yzicky blíže jsou vzájemně více přitahová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Běloši, kteří jsou v bližším kontaktu s Afroameričany mají vůči nim méně předsudků a komunikují s nimi lépe. Vyšš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zvyšuje výměnu informací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ým zjištěním je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ace-to-face komunikace je efektivnější než nepřímá mediovaná komunik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, se kterými kooperujeme ty máme rádi, ti kteří nám blokují odměny ty odmítá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F/ FYZICKÁ ATRAKTIVITA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ětšinou si namlouváme, že jsme  schopni oceňovat druhé na základě jiných charakteristik, než je jejich fyzická přitažlivost. Výzkum však hovoří o něčem jiném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výzkum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DION (198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kázal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fyzicky atraktivnější studentky mají sociálně hodnotnější charakteristik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jako je sensitivita, morální síla, skromnos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fyzicky atraktivních lidí se též očekává šťastnější manželství a prestižnější post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Y a SIGAL (1986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rokázali, lepší hodnoc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labých esejů u atraktivních studen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(CHAICKEN, 197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Téma: jaký má vliv fyzická atraktivita na efektivitu přesvědč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zorek: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110 mužských a ženských komunikátorů, studentů psychologie z MIT, kteří prošli speciálním komunikačním tréninkem. Jejich tréninková praxe byla natočena na video, vyplnili osobnostní test a byli vyfotografován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Fyzickou atraktivitu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hodnotila pětičlenná porota(hodnotili na 1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odové škále). Násled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ybrali horní třetinu a dolní třetinu. 34 mužů 34 žen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Na atraktivitě a neatraktivitě komunikátorů se shodli následně i samotní přesvědčovaní responden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braní komunikátoři byli rozmístěni v campusu s cíle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přesvědčit fakultní veřejno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že je třeba přestat podávat ve všech universitních jídelnách maso</a:t>
            </a: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Realiz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prezentovali osloveném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ázor proti konzumaci masa 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chali vyplnit dotazník měřící souhlas s tímto postoje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nakonec požádal komunikátor 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podepsání petice proti podávání ma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Z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ní komunikátoři vykáz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tatistick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schopnost přesvědčit  o správnosti své argument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Byl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úspěšnější i při získání podpisů na pet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yž ale Chaicken analyzoval hodnocení atrak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ávislými soudci ukázalo se, že se obě skupiny neliší jen 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yzických parametrech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kteří byli označen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i vnímáni 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átelštější, zajímavější, přesvědčivější, rychlejší  a plynulejší řeční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ou proměn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ní fyzická dispozi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fakt, ž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traktiv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ponují (mají připsány) takový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opnostmi a charakteristikam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jež je činí přesvědčivější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KOMUNIKACE JAKO UŽITÍ MO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censké zdroje mají tři charakteristik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á autor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e dána tím jak vnímá publikum schopnosti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ministrovat tresty a 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restající a odměňující moc je stejně efektivní při vytváření podda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 to jak a zda se publikum konformizu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dohle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vědomí, zda bude mocenský zdroj schop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da se publikum konformiz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lný zdr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bude schop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administrovat odměny a tresty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mít zájem na konformitě publ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schopen tento proces konformizace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tohoto procesu je PODDAJ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censké zdroje často užívaj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roz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/tedy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odepírají odměnu a realizují trest s cílem vytvořit poddaj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c méně  účinná než „atraktivita“ a „kredibilita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čkoliv mírný mocenský tlak v některých případech vede k internalizaci poslušnosti silný tlak velmi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vol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UMERANGOVÝ EFEK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při kterém se energie investovaná do přesvědčování vrací jejímu realizátorovi násobenou silou. Místo poslušnosti se objevuje otevřený odp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EILMAN/GARNER (197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ilný mocenský tlak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 ve srovnání se slibem odměny nutně mé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jelikož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hrožuje integritu a svobodu jedn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dinec se dostává do situace, kdy si musí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volit mezi dvěma zl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preferovanou aktivitu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pod pohrůžkou trestu ne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dstoupit tre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terý bývá často reprezentován ztrátou odmě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dyž se nepostavíme hrozbě trestu hrozí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rozbití jeho sebeobrazu.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drobení se vyvolává u jedinců pocit, že jsou vnímáni jako slab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Často tak platí, ž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držování vlastního sebepojetí, tj. sebeobrazu i sociálního obrazu se stává významnějším než vyhnutí se trest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ůvodem selhává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mocenské persuaze je percipovaná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ztráta svobo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Mocenský tlak může být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tej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ako slib odmě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okud je nabídnut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určitá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možnost svobodné volb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možnost zvolit si z několika varia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 případě postoje se jedná o vnitřní stav, který lz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ěžko měřit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nemohou být pozorovány přímo - jsou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otetické konstruk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ale mohou být zkoumány pouze ve svém vnějším výrazu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vnitřní psychické organiza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vytvářejí systém, pletivo specifických hodnocení, které se vžd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 kolem nějaké centrální hodno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(Autoritářská osobnost:postoje organizované kolem ústředních hodnot moci a autority)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19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otázka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Je  postojová změna vždy doprovázena změnou chová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STRACH JAKO MECHANISMUS PŘESVĚD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rachová komunikac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fear appeal) se používá standardně jako komunikační strategie např. při situacích, kdy je třeba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rychle akcelerovat obrannou reakc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í se zde ze dvou předpokladů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strach vede k postojové změně protože působ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měnu pozorn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tak, že ji zvyš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vysoký strach ovšem vede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istorzi sdělení a ke spontánním defensivním reakcí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REKLAMA PROTI KOUŘENÍ, Nemyslíš, zaplatí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Janis a Feshbach: Communication and Persuasion, 195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středoškolským studentů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odlišná sdělení na téma dentální hygie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rtá skupina – kontrolní. Ještě před tím než je vystavili sdělení nechali je vyplnit dotazník zaměřený na dentální hygienu a opakovali dotazování týden po jednotlivých expozicí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i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ndardní přednáška o dentální hygie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voláván minimální strach, ukázka dutiny ústní pouze s malými kaz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kázka již pokročilých kazů a nemoci dás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tografie pokročilého rozkladu zubů a dás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ejsilnější strach) na zesílení efektů opakovaně zdůrazně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o se může stát i vá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EFEKTIVNĚJŠÍ BYLO POUŽITÍ PRVNÍ VARIA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ův ochranně-motivační model strachového působení a postojové změn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klíčové faktory strachového přesvědč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síla škodlivosti zobrazených udál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odhadovaná pravděpodobnost, že se taková věc může s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efektivita ochranné/doporučované rea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mě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e představuje funkci ochranné motiv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Když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poručení nahlíženo jak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lo efektiv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hraje roli odhadovaná míra škodlivosti daného jev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kouření, pornografie, násilí, politické pra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Jev je vnímán jako tí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kodliv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ím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poručení jeví jako efektivněj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ro teenagery plat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rach ze smrti vnímají jako vzdálený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oto je efektivnější soustředit se na bezprostřední dopady daného jevu. Např. negativní důsledky pr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valitu individuálního či sociálního života (obecně zpochybnění imag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IELS/ LEVENTHAL, 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ezentovali třem skupinám respondentů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ůzně intenzivní varování před kouřen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. Postoje měřeny před prezentací a po zastrašující prezentaci (metoda pre/post testu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iln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mě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arevnou filmovou podobu vyoperování jedné poloviny p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méně intenziv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použilo stejný barevný film o plicní operaci s komentářem o jejím vyoperování ovše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ez záběru jejího vyoper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lab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uze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entář bez filmového doprovo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efektivnější se ukázal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agresivněji koncipované sděl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teré způsobilo postojovou změnu směrem ke konzumaci cigaret. (Jde te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 opačné z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ež u Feshbacha a Janise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větlení, které nabízí autoři vychází z toho, ž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á předpokládat nižší důvěra v to, že by čištění zubů bylo schopno zamezit tak razantnímu poškození jako je na obrázcích prezentovaná silná paradontóza či silně pokažené zu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opak zastavení kouření se nejspíše zdálo jako dostatečný argument jak se vyhnout rakovi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SVĚDČOVACÍ TECHNIKY V MASOVÉ KOMUNIKACI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h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opak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 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0% reklamy v magazínech - stoupající tendence (v roce 1951 pouze 10%). Eroticky zabarvená reklama dokáže proměňovat percepci a image produk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TH-ENG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960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reklamy na model vozu FORD, kde použili dva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klama-plaká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e vedle vlastního produktu automobilu  Ford  byla na kapotu umístěna spoře oděná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elka s oštěpem v 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reklama-plakát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ez modelk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enti-muži měli hodnotit kvalitu reklamovaného vozu. Rozdíly byly zaznamenány ja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v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ivní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žívání vozu (byl vnímán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žlivější, mladší, plný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tak i v rovině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bjektivn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věcné)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ži automobil s modelkou považovali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konnější, méně bezpečný, dražší o 340 a maximální odhadovaná rychlost byla o 15 km vyš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né studie ovšem prokazují, že erotika v reklamě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dpoutává pozornost od propagovaného zbož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otvrdilo se jednoznačně, že si člověk vybaví lépe produkt se sexuálním/erotickým symbol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opak často dochází k vytěsnění/překrytí propagovaného objektu erotickým obsa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íčový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úkolem je dostatečně asociovat produkt s erotickým vzor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ají zde výraznou roli cílové skupiny. Věk, vzdělán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HUMOR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15-20%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zních reklam obsahuje humorné prvky. Ve většině studi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byla prokázána postojová změna na základě působení hum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or v reklamě ovlivňuje předevší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ižší úroveň komunik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přitahu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zornos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ytvář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jemný kolor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ro diváky spíše než mění postoje a skrze ně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vždy však je humor vnímán jako příjemný. Učitelé užívající humor jsou někdy  odmítáni protože se chovají v protikladu ke studentským očekáváním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ždy je ovšem podstatná adekvátnost použití humoru a cíl použit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 může slouži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ak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ílení stávajícího postoj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bo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vrácení pozornost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á odtlumí možné protiargumen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umožn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07280" cy="619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piere, 19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roce 1930 Richard Lapiere navštívil s čínským manželským párem 251 hotelů a restaurací a pouze v jednom případě byl odmítnut. O šest měsíců později se Lapiere dotázal stejných restauratérů a hoteliérů, zda by obsloužili čínský pár. Drtivá větši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 92 %)  z nich odpověděla zamítav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3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PAKOVÁNÍ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e užívá především z následujících důvodů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e všichni se stále dívaj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nak vysoké kredibility zdro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čí postoje a významy připisované reklamě - proces podmiň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lepší znovuvybave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rugman uvádí, že stačí tři opakov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vn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gnitivní (co je to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druh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hodnotí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(v čem mi to může pomoci)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třet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pozornění, výzva nebo počátek nesouhlasu, odmítnutí (stojím/nestojím o 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1/Problém nastává po první expozici, když nenastane zaujet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2/ Pak je třeba průměrně 23 opakování než se dopracuje respondent ke II. stádiu „co s tím“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ároveň každé opakování vede k narůstajícímu množství asociací, úvah irelevantních k  danému  objekt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LASICKÉHO PODMIŇOVÁ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atsov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196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ova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orii klasického podmiňování na proces učení emocionálně nabitých jazykových význam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vysvětlení některých nástrojů, které uží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pagand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užívá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leštěných fráz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glittering gener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chodiskem tohoto teoretického předpokladu je zkušenost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a mají jistou emocionální hodno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ozitivní i negativní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selý, krásný, smích, jasný, dobrý vs. zlý, krutý, nemocný šílený ap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ojmech teorie klasického podmiňování jsou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emocionální stimuly chápány jak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nepodmíněné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po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pojující např. osobu nebo ideu s „pozitivně hodnocenými, příjemně zakoušenými, bezúhonnými slovy“, která vytvář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zitivní poc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ne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naopak spojuje osoby nebo ideje s negativními nálepkami. Toto postojové podmiňování se týká především reklamy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ho názvů produktů je shlukem slabik či znaků, kter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dávají sami o sobě smysl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anta“ (rostlinný tuk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a (mýdl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oke is real thing“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slogan se pokouší přenést pozitivní asociace na poj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COK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u značk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rit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duktové označení zvoleno na základě pozitivních asociací, které vyvolává u potenciálních klientů. Při měření „pozitivity“ se často používá tzv. sémantický diferenciá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taats/Staats, 19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ítli opakovaně na plátn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hluky slabik či znak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dávaly smys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laj, wuk, gug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současně je verbálně spojovali se slovy, která mají jednoznačně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zitivní/negativní význa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 první skupině byly vž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iky bez jasného významu (laj, wuk, gug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árovány se slovy, která mě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soké pozitivní hodnocení (krása, vítězství, da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druhé kontrol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kupině bylo užito stejné strategi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 bylo použit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 s negativním význam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zloděj, hořký, smutný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, která neměla pevný jasný pozitivní/negativní význa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brzy, sníh, voda, oheň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sledně členové obou skupin obdržel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 u="sng">
                <a:solidFill>
                  <a:srgbClr val="feec94"/>
                </a:solidFill>
                <a:uFillTx/>
                <a:latin typeface="Times New Roman"/>
              </a:rPr>
              <a:t>sémantický diferenciál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by ohodnotili potenciál nesmyslných slabi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ozitivní rating hodnocení obdrželi, slabiky spojované s pozitivními slovy a naop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V tomto smyslu se postoj jeví jako forma emocionálního vztahu (významu),  k danému slov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ztah byl vytvořen klasickým podmiňování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TV„ J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le teorie učení můžeme rozlišit tři základní fáze přesvědčován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zornost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chopení či uchopení argumentů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vlastní přijetí/nepřijetí argumentu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A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/ V první fázi j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zvýšení pozornosti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nejvýznamnější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atraktivita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zdroje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. To je nejzřejmější v reklamě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B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e fázi druhé se ukazuje, ž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„pochopení“ či zpracování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argumentů hraje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klíčový význam </a:t>
            </a:r>
            <a:r>
              <a:rPr b="1" lang="cs-CZ" sz="2700" spc="-1" strike="noStrike" u="sng">
                <a:solidFill>
                  <a:srgbClr val="ffffff"/>
                </a:solidFill>
                <a:uFillTx/>
                <a:latin typeface="Times New Roman"/>
              </a:rPr>
              <a:t>kredibilita zdroj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Zdá se tedy, že 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řevaha tzv. kredibilních zdrojů</a:t>
            </a:r>
            <a:r>
              <a:rPr b="0" i="1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je dána též mírou souhlasu s jimi prezentovanými názory. Tedy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kontextem a očekáváním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, pokud toto není naplněno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učíme se i z nízce kredibilních zdrojů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C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lastní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přijetí/nepřijetí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doporučení je nejsilněji akceptováno u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kredibilních zdrojů, následují zdroje atraktivní a mocenské působení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CNĚ PLATÍ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Kredibilnější zdroje jsou významnější, al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asem ztrácejí na vlivu pokud nedojde k jejich připome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redibilita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vlivňuje schopnost vybavení informace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redibilní zdroje jsou efektivnějš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oti nekredibilním ne proto, že by se lépe učili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proto, že js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ceny příznivěj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bavujeme si totiž stejně zdroje významné i nevýznam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Většina studi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otvrzuje hypotézu „sleeper effec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tom smysl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j. že by síla nekredibilního zdroje časem stou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redibilní zdro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hou mít schopnost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ersuasibilnější, pokud se jedná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roj atraktivní nebo disponující mocí či užívající zastraš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atraktivní zdroje jsou méně persuasibilní než 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ovšem poskyt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čekávaná stanovis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jich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uasibilita stoup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/ Obecně plat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í pozornost je věnována neočekávanému stanovis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je i lép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novuvybavitel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Slib od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značně či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ci efektivnější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esvědčování skrze hrozb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8/ Přesvědčování za použi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y hrozí vyvoláním bumerangového efek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produkuje tedy otevřený odpor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ísto přijetí dopor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9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a se stává efektivnější, když je zároveň dána možnost volby několika varia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této podmínky se stává hrozba stejně efektivní jako slib odmě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É KOMPON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senberg-Hovland rozlišují tři základní kompon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fe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hodnocení čehosi nebo vztah k čemusi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gni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percepční odpovědi nebo verbální promluv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haviorální/konativní/snahov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vnější jednání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KCE POST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především nutné pochopit jakou funkci ten který postoj zastává, aby bylo možné způsobit či alespoň predikovat jeho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apříklad typickou chyb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ůsobit proti předsudkům faktickou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edy předpokládat, že předsudek jako postoj slouží funkci vědění (poznávací funk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ÁL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chází 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imalizace odměn a minimalizace trestů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 vytváří takové postoje, které odpovídají jeho představ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měn a trest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Je pozitivní vůči objektům, které odměňují a naopak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kla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ební chování se řídí principem maximalizace odměn a minimalizace trestů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(Příslušníci romské menšiny nevolili ve Vsetíně představitele KDU-ČSL, který řešil jejich bytovou situaci necitlivě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éto funkce postoje je třeba způsob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aci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pochybnit stávající mechanismy uspokoj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tvořit nové potře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důraznit nové a přitažlivější zdroje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GO DEFENZIVNÍ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unk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ání jedince před uznáním nepříjemných pravd o sobě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Nejisté osoby často konstruují striktní předsudky vůči minoritním skupinám, aby se dostali do superiorní poloh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tvořit poc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zvyšovat obecně frust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využít působení tzv. autoritární suge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abídnout cestu jak zruš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a dát prožít katarzi, která umožní vh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DNOTOVĚ EXPRESIVNÍ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umožňuje získ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spokojení skrze zaujímání takových postojů, které prezentují vlastní hodnoty-sebekoncep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 Například formou identifikace s určitým hudebním proudem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postoj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yvolat zpochybnění vlastních hod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které povede k přehodnocení sebeobr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dojde k nespokojenosti se sebou sam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utně se pak objevuje vhodnost jin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55:54Z</dcterms:created>
  <dc:creator>JV</dc:creator>
  <dc:description/>
  <dc:language>en-US</dc:language>
  <cp:lastModifiedBy>JV</cp:lastModifiedBy>
  <dcterms:modified xsi:type="dcterms:W3CDTF">2010-11-11T09:11:39Z</dcterms:modified>
  <cp:revision>8</cp:revision>
  <dc:subject/>
  <dc:title>V. T E O R I E   P Ř E S V Ě D Č O V Á N Í  (PERSVAZE, PERSUAZE) „Skutečnými manipulátory jsou naši vnitřní přisvědčovatelé – naše chutě, naše strachy, marnivost a ješitnost, které zručný manipulátor využívá.“</dc:title>
</cp:coreProperties>
</file>