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B82-A34F-4021-B18A-C85EC7B9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ECC-2A37-4751-8119-D66EC595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8E4-FCB0-438F-A04B-20C97125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B35-C035-4B63-B056-AC34A258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28BF-A2E3-4CE2-9A8A-F01502CA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7A59-3295-4704-ADC9-7B4C5BAC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913C-21D7-458D-871D-F78909D3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F8B8-6961-4E76-A096-2920D070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F434-979E-49D9-9F67-B207748C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13FB-0D43-40B7-9657-F39C3958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234E-A6FD-45D4-B176-C0A3EB8F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448-8BAD-4E94-9B64-413B1720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F48F-600D-4A33-BDA6-95193D58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1732-F95D-4341-A562-D81FBF54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B567-8227-4D0C-8578-BD59E861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9F79-3276-41B9-B476-D8B81CFB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C085-B3CD-4025-96FD-8088A5EE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5F4-72F8-4C36-852F-4F4313CD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226-EA6B-41BD-9EC1-55174FEC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09F-BD82-406D-AEC7-552C4640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9DA-B3AC-4C1D-BB9E-78CE7B8C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743-B4CC-4515-AC24-7D06F578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FC7-610A-4C5B-9B31-CDA36294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965-2DA4-4578-96BE-10774C65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D743-F488-4CE7-9388-A3E102E00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4081-F85E-48F1-BAF0-329CB5795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. PÚSOBENÍ MÉDIÍ A POLITICKÁ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litickou komunikaci ovlivňuje několik dynamicky spolupůsobících vliv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 povaha sociální struktu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 povaha politické kul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mediální prostře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vlastnické vztahy a regulace), respektive mediální obs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í účinky na politickou komunikaci jsou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iodické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volební kampa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manent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funkce hlídacího p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ásledně provedli: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bsahovou analýzu těch médií, která na sledované voliče působila v čase dotazování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zde byla provedena  kategorizace n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a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edlejš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ém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sledek pak prokáza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ysokou korelaci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z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ématy „hlavních zpráv“ v mediální agend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znamem „nejvýznamně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země deklarovaných nerozhodnutými voliči – korel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.9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eště vyšší korelace byla nalezena v případě témat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“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respondenty deklarovaných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0.97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rátký čas po Mc Combsově a Shawově studii se objevuje v Public Opinion Quarterly stať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aye Funkhouser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á řeší v podstatě stejný úkol, ale navíc se soustřeďuje na specifický význam určitých problémů v realitě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ZKUM: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y Funkhouser, 1972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STU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unkhouser využil pravidelných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Galupových měře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tém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aké jsou nejvýznamnější problémy současných Spojených států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uběžně s tím provedl obsahovou analýzu ve tří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ch magazín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Time, Newsweek, U.S. News and World Report) po dobu deseti let s cílem vysledov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 zde publikovaná témata spojená s problémy zem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9506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hodnotil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ru významnosti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jednotlivých téma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ozsahu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věnovaného v magazínech danému témat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místa otištění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společenské závaž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použil např. Statistical Abstracts of  the U.S., kde bylo uvedeno např. množství vojáků působících ve Vietnamu apod)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-6120">
              <a:lnSpc>
                <a:spcPct val="8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rovn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ztahu mezi veřejným míněním a intenzitou mediálního pokry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vztahu mezi mediálními obsahy (mediálním obrazem) a realit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dil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ilnou korespondenci mezi veřejným hodnocením významnosti problému a četností  zpráv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 těchto problémech uvedených v médiích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87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200160"/>
            <a:ext cx="91440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nalýza stav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ali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lastního obsah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médií již neprokázala silnou korespondenci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PŘEDEŠLA REALITU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etnamská válka, městské nepokoje, studentské bouře (o rok resp. o dva se předběhlo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ČASOVĚ KORESPONDOVALA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rogy a infla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 této studie naznačuje velkou důvěru v média, ale nepotvrzuje schopnost médií korespondovat zcela s realitou resp. pokrývat vždy témata, která jsou aktuálně nejdůležitější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zkum neposkytl jednoznačnou odpověď na otázku odkud témata přicházejí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 a Shaw  (1977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verní Karolí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době volební kampaně. Pokusili se odpovědět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a otázk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 jaké míry lze chápat vztah mezi mediální agendou a vnímáním vybraných aspektů sociální reality jako výsledek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álního vztah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tazovali respondenty v rámci panelového šetření několikrát v průběhu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slede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ní jednoznačně průkazný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studie naznačuje, že slabý kauzální vliv mediální agendy exist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YPY ZKOUMÁNÍ MEDIÁLNÍ AGENDY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agendotvorných obsahů a mechanis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ak se daná událost stává součástí mediální agendy (Kdo nastoluje agendu?)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vzájemného vlivu jednotlivých typů agen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1/ JAKÉ MECHANISMY ZESILUJÍ PÚSOBENÍ MEDIÁLNÍ AGENDY - PRIMING, FRAMIN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2/ PROMĚNY AGENDY V Č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-146160"/>
            <a:ext cx="9144000" cy="65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7928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kategorie ovlivňující mediální obs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dividuál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osobní profesionální backgroun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ediální rut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každodenní praxe, rutinní principy výroby zprávy, prostorové a časové mož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ganizační vli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rincipy generování publika jako       generování zisk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y vnějších nátlakových skup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 vládních i nevládn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 dominující ideologi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1/PRIMING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viditelňování či zdůrazňování témat či jejich atribut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m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roces, v rámci kterého věnují médi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zornost jen některým problémům zatímco jiné pomíjejí, a tak definují standardy na základě kterých se pak voliči rozhoduj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Územně správní uspořádání, ombudsman, církevní restituce, morálka, politická kultura, zralost politiků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édia ovlivňují např. volební ch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ím, že určí předvolební agendu tím, že definuj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ritéri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 na základě kterých budou strany či kandidáti posuzován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7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tyři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odmínky, za kterých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stoupá rozsah mediální pozornosti určité události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252720" y="980640"/>
            <a:ext cx="9396360" cy="58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izpůsobení média hlavnímu toku udál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líčovým událos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trvávání stejného vzorce –„čím stejněji tím lép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dměrná pozornost významné, ale neobvyklé zpráv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řepjatá pozornost zavánějící senz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zpravodajstv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zdůraznění významných aspektů dané události a potlačení těch nevýznamný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orba pseudo udá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ezentace ne příliš významné zprávy způsobem definujícím ji jako zásad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ůsobení médií má vždy více či méně politické důsled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i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jednotliv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a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celý politický systé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kognitiv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výzkum nastolování agendy, priming, získávání vědomostí – knowledge gap, fraiming, mediální kultivace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a změna míně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resp. vliv médií na politické ch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People´s Choice, spirála ml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 (Iyengar, 198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diálního obrazu J. Cartera a jeho hodnocení ve vztahu k tomu jak (ne) řešil problém infla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kázal se silný vztah mezi mediální prezentací témat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fl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hodnocením, které vystavili respondenti-voliči americkému presidentovi J. Carterovi za (ne)řešení tohoto problé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oliči hodnotili Cartera podle témat, kterými se média momentálně zabýva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 (Iyengar, Peters, Kinder, 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genda v simulovaném televizním zpravodaj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 respondent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sledovala upravené televizní zpravodajství, ve kterém bez vědomí respondentů byl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akomponováno jedno téma navíc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–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SLABOST NÁRODNÍ OBRANY SPOJENÝCH STÁTŮ“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Kontrolní skupina sledovala běžné zprávy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První den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řed promítáním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plnily obě skupiny dotazník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de seřadili podle důležitosti vybrané společenské problém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Po té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ět dn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ledova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hlavní zpráv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(upravenou a neupravenou verzi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Šestý den vyplnily opět dotazník 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eřadili opět stejná témata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toupl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namnost obranné problemati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ve skupině, která obdržela upravené zpravodaj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Zatímco v kontrolní skupině význam tohoto tématu ještě kles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Wayne Wanta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likost fotografie jako atribut mediální agendy v tištěných médií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anta se pokusil prokázat vli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likosti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provázející text na recep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diální agen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uži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ři člán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tištěné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ní straně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ich  téma se týkalo problema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rodní obrany, b/ znečištění životního prostředí c/ krize amerických farmář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aždý článek měl verz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elk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25% tištěné plochy dané strany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l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10% tištěné plochy dané stra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z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užil metodu pre/post testu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stoval tři skupi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espondentů. Každá měla k dispozici jednu z grafických verzi (velká, malá, žádná fotografi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na počátku vytvořili vlast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řadí klíčových problémů země. Bez znalosti uvedených text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Po t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stali k dispoz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ůzné grafické verze článků s jednotlivými téma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Následně byli 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spondenti požádáni, a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stavili pořadí klíčových problémů země ještě jedno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byl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značné upřednostnění témat s velkou fotograf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enší fotografie též mírně zvyšovala rating daných závažnosti problému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xty bez fotografie neměly žádný účinek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Wantova studie o významu fotografií  doprovázejících text je zařaditelná pod kategorii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sibilit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agend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U PLNÍ MEDIÁLNÍ AGENDA FUNKCI?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diální agenda nepůsobí na každého jedince stejně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nci se odlišují tím, do jaké míry se potřebují v dané obla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rientova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nakonec může rozhodnout o tom zda agenda bude mít vliv či 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řeba orientace je postavena na dvou faktore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levanci informace pro dané individ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ře nejisto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ou subjekt zažívá při přijímání zprávy, míře nepochopení či nedůvěře k daným fakt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ucker rozlišuje mezi téma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, kterým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me nebo můžeme mít zkuše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př. nezaměstnanost, bezdomovectví, nemoc, které nazývá jako témat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lízká (obtrusiv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a témat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kterým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žádnou přímou zkušenost nemám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jen těžko můžeme mít (vědecké experimenty, komplikované ekonomické operace, exkluzivní umělecké zážitky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Čím menší je zkušenost s daným tématem, tím vyšší je pak závislost na médiích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SIGN VÝZKU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Zucker, 198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ucker komparoval tři 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kou mírou přímé zkuše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aměstnanost, životní náklady a kriminali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 tématy nízkou zkušen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nečištěním životního prostředí, užívání drog, energetická kr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nožst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skytu jednotlivých tém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TV získal z Television News Index za posledních osm let (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ndikátory skut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. Hodnocení závažnosti každého tématu získal z pravidelných Galupových měření („co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závažnější problém života v USA“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věr skutečně potvrdil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mediální agendy byl vyšší v případě zpráv s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alou zkušenost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latí, ž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je informace relevantnější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ím je nejistota vět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tím je potřeba orientace (prostřednictvím médií) silnějš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větší je tato potřeba orienta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ím větší je i vníma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ůči mediální  agend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ovo téma potřeb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rient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atří d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agendy a kategorie individuální relev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mož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pojení mechanismu agen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funguje především v případě méně zažitých zpráv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odelem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voustupňové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je významná právě v případě speciálnějších tém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binace těchto dvou principů tak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objasň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existenci přímých účinků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deklarovaných výzkumem druhé výzkumné eta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metodologicky chyb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ádat, že účinek mediální agendy funguje pr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echna témata stej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ÍCESTUPŇOVÁ TEORIE KONSTRUKCE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LNÍ AGENDY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ladys  Langová, Kurt Lang, 1983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28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sili demonstrovat, že hypotéza mediální agendy je mnohem komplikovanější, a to v tom, že se rozvíjí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ěkolika kroc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 ilustraci této teze využili obsahovou analýzu mediálního pokrytí aféry Watergat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angovi rozlišují šest na sebe navazujících eta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tisk označ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 jako významnou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dělí ji od ostatn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aždá událost vyžaduj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iný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yp mediálního pokry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toho, zda s ní mají čtenáři osobní zkušenost (v případě Watergate šlo o událost/zprávu s minimální možnou zkušeností). Proto bylo v tomto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ychlé a velmi intenzivní zpravodajské pokrytí, aby přineslo pozornost veře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aždá taková zpráva musí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rámována tj. musí dostat význam v rámci, kterého jí budou čtenáři rozumě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to byla od počátku definována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anický spor. 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jí definice byla od počátku jednoznačná. Posléze bylo proto obtížné 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kódovat jako synonymum rozsáhlé politické korupce v U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 SETTING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NASTOLOVÁNÍ MEDIÁLNÍ AGENDY, KONSTRUKCE MEDIÁLNÍ AGEND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éma mediální agendy se objevuje v situaci, kdy narůstá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pokojenost s teorií omezených mediálních účin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á hovoří  o posilování již držených postoj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lká část výzkumníků došla k tom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edá účinky na špatném míst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zn. že je chybou soustřeďovat s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ouze na postojovou konverzi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ležité 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žití jazy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ýrazně ovlivňuje percepci zprávy její přitažlivost. V případě Watergate je objevovalo několik prvních měsíců jazykové označe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aper - krádež, lup, zloči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postupně sláblo až došlo k překódování celé události 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anda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– skandál, veřejnou ostudu, veřejné pohoršen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má v americkém slovníku silnější význam a činí zprávu důležit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édia vždy musí u takovýchto zpráv spojit událos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zv. sekundárními symbol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jsou v daném politickém prostoru či politické kultuře snadně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dentifikovatelné, pochopitelné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umožnit tak publiku, aby zauja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hodnotící pozi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Watergate šlo o sekundární symboly -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ávo na informace, důvěra ve vlád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genda akceleruje, když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sonifik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dyž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daném tématu začne hovořit nějak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á osob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případě aféry Watergate šlo o vystoupení soudce Johna Sirica, který prohlásil v NYT, že veřejnosti nebyla sdělena pravdivá fakta o celé aféř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B/ KDO NASTOLUJE AGENDU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o jsou základní zdroje ovlivňující mediální obsa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edává jasnou odpověď na klíčovou otázku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alit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j. zda mediální agenda ovlivňuje názory publika či naopa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nejobecnější rovině platí, že je t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ální reali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ve které se my i média pohybujeme a současně ji tvoříme i reprodukujeme. Faktem však je, médi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reprezentují realitu zcela věrně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. mediální sdělení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korespondují s realit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Funkhouser, Zuck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rosius a Kepplinger (199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sili se odpovědět na otázku,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do je iniciátorem, nastolovatelem agendy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eli přit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z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ýdenních průzkumů veřejného mín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ajících 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važnosti 16 vybraných společenských  té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sahové analýzy hlavních zpravodajských relac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ílaných v prime time v 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ěmeckých TV. Sledovali zde frekvenci a výskyt stejných problé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indikovaly výzkumy veřejného mí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loroční analýza prokázala dva směry působ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od médií k veřej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émata: „dodávky energie“, „národní obrana“, „ochrana životního prostředí“, „proevropská politika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od veřejnosti k médi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témata: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ůchody“, „obecná bezpečnost občanů“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édi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sou schop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livni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míně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pokud se jedná o velmi intenzivní pokrytí problém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íce než třicetkrát za měsíc), kter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áhle narůst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 naopak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vlivňuj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obsahy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hdy, když je problém dlouhotrvající, jeho význam stoupá  pomalu, ale stabil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252720" y="0"/>
            <a:ext cx="939636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(Hans Bernd Brosius, Gabriel Weinmann,19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stolování agendy podle dvoustupňového modelu.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entifikovali v procesu mediální konstrukce existen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oustupňové komunik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inými slovy,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okázali, že i někteří členové publika mohou být odpovědni za nastolování mediální agen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stupovali tak, že mezi lét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1990-93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identifikovali zpravodajské kauzy/ téma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která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pokrývaly hlavní televizní zpravodajské rel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oučasně prováděli každý měsíc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y veřejného míně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de s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otazovali populace, které problémy považují za nejdůležitějš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 průběhu dotazování identifikovali tzv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ANTICIPÁTORY/ ČASNÉ OBJEVITELE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(early recognizer), kteří byli schopn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dhadnout význam určité kauzy dříve než většinová populac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a současně toto odhalení distribuovali dále, a tak de facto ovlivňovali mediální agendu.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ZIDENTSKÁ AGEND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peciální případ v tzv. prezidentských systémech např. v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 Spojených státech, kde jedním z klíčových nastolovatelů  agendy president. (Zpráva o stavu unie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tváření agendy jsou aktivity vyvíjen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amotnými prezide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ři volebních kampaní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aktivity směřující k vytváření obrazu, který je požadová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nald Reag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e své druhé volební kampani cílil mimo jiné též na otázk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ivotního prostřed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lánoval si spanilou jízdu Spojenými státy, aby demonstroval úspěchy své vlády v tomto obdob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iny pak byly plné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fotografií presidenta v různých národních parcích, na farmác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apod. I když ochránci přírody protestovali proti výsledkům Reaganovy politiky životního prostředí, přesto podle výzkumů veřejného mínění zvedla tato kampaň jeho kredit i v této obla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orge Bus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obně manipuloval vlastním obrazem při volební kampani v roce 1988, kdy si vytýči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ě atraktivní plán nabídnou  denně jednu atraktivní reportá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řijel do bostonského přístavu a jen tak mimochodem upozornil na špínu a nepořádek, který zde panuje s jasnou narážkou na tehdejšího bostonského starostu a Bushova protikandidáta Michaela Dukaki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792000" cy="7245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(McCombs, Gilberg, Nicholas, 198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Obsahová analýza druhé Carterovy zprávy o stavu uni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tupovali následně tak, ž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Vybrali z této zpráv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sm klíčových témat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Následně proved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bsahovou analýzu tisku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a t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čtyři týdny před a čtyři po přednesení zpráv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rel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ezidentskou agendou a následnou mediální agendou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byl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labš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korelace mez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rezidentskou a pre mediální agendo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Závěr studie hovoří o tom, že to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nebyl Carter, kdo  tvořil mediální agendu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ale naopak t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byla  média, která ovlivnila agendu prezidentsk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tejný výzkum ve vztahu k Nixonově zprávě o stavu unie z roku 1970 naopak potvrdila původní hypotézu o výrazném vlivu prezidentské agendy na médi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světlení rozdílného dopadu presidentské agendy v obou případech spočív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situačních faktorech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individuálním  stylu politické moc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NTERMEDIÁLNÍ AGEND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o jsou ti, kteří mají vliv na mediální obsah. Jedním z důležitých zdrojů mediální agendy jso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dia sa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zniká tak fenomén, který bychom mohli nazvat jak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rmediální agenda. Speciálním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termediální agenda spouštěna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hlavními tiskovými agentura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xistuje zřetelný komunikační zpravodajský to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ze severu na jih, z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everního centra na jižní perifer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uz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% s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dotýká problemati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ových zem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mdesát procent světového zpravodajského toku je produková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ěti hlavními tiskovými agenturam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í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že poskytují tzv. spot news a vizuální reportáže stávají se nastolovateli agendy ze svě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eciální mechanismus  intermediální agendy představuje působení velký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 zpravodajských stani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OLE CNN V POKRÝVÁNÍ VÁLKY V PERSKÉM ZÁLIV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 pokrytí konfliktu užívala CNN především následující formy prezent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tiskové k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nterview poskytovaná vládními a vojenskými agentur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příběhy konkrétních vojáků či vel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reportá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ex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 vox 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příběhy samotných reportér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TEZ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SOVÁ MÉDIA NEJSOU SCHOPNA VNUTIT SVÉMU PUBLIKU CO SI MÁ O DANÝCH TÉMATECH MYSLET, ALE VNUCUJÍ NÁM TÉMATA, O KTERÝCH MÁME PŘEMÝŠLE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éza o určování mediální agendy předpokládá, že média vytváře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vědom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řejnosti o daném tématu a strukturují  veřejný zájem. Masová média tedy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rčují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terá témata budou v té které době obzvlášť aktuální a budou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ovlivňo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chování publika-veřejnost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azuje se, že masová médi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vlivňují spíše pohled na svět v tom smyslu, že definují témata hodná zájmu publ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ež aby se prvoplánově soustřeďovala na postojovou konverzi. Spíše tak definu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ranice relev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Mediální konzumenti se t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ohou považovat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ní hledače informací a řešitele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sahová analýza válečné agendy ukazuje, že z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dominov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udiová prezentace či dotáčk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imo vlastní situac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více ne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ovina sdělení byla ze stu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Zbytek byl převážně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skových konferenc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živé pokrytí vál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prezentovaly předevš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běry na letící rakety Scu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% pokrytí se týkala skutečné vojenské ak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 procento pokrývalo vizuálně smrt či zra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/ Celá informační manipulace se tak odehrá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iskových konferencí skrze hlasy expertů - vojensk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É POSLELSTV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nešlo o osvobození Kuvajtu, ale varování arabských 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CNN pokryla 100 zemí 24 ho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aitmotivem jejich vystoupení byla tzv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hytrá (inteligentní) technologi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íří přesně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zabí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váci by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smerizování pohledem na Scudy přesně zasahujícími vojenské skl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YTRÁ, INTELIGENTNÍ TECHNOLOGIE TA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OSTALA OZNAČEN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BRA, ROZUMU A MORÁLK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KUT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pouze 7% bomb bylo chytrých, 10% z nich se min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rák byl podroben kobercovému bombardování, jehož tonáž překročila množství bomb svržených za celou II. světovou vá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totální destukce průmys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milion zraněn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150 000 mrtv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erbner, Movlana, Schiller: Triumf obrazu: mediální válka v Perském zálivu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ÉLKA TRVÁNÍ MEDIÁLNÍ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dlouho trvá než se mediální agenda přesune do veřej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leží na téma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c Combs a Ston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přesun z mediální agendy do veřejné agendy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vou do šesti měsíc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ter a Ey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nalyzovaly přesun tématu občanských práv v New York Times po dvacet let. Rychlost varioval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z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mi a šesti týd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nta a Shoemaker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dentifikovali ve vztahu k tématu drog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vlny záj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 dvou měsíc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vl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zi 4 a 5 měsíc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anielian a Ree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kázali, že nárůst agendy mediální agendy „drogy“ 1985-86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orespondoval s jejich vyšší konzumací, či většími skandály, problémy, ale, že byl nastartován tlakem NYTim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roveň prokázali, že agendotvornější jsou tištěná mé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ŘI TYPY AGENDY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(Mannheim, 1987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stolování agendy má dynamický charakter a rodí se z interakce tří odlišných typů agendy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B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C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TICKÁ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7640" y="2205000"/>
            <a:ext cx="2448000" cy="10080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ÁLNÍ AG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4680" y="4870440"/>
            <a:ext cx="2317680" cy="934920"/>
          </a:xfrm>
          <a:prstGeom prst="rect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ITICK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4903920"/>
            <a:ext cx="2232000" cy="10461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68000" y="3213000"/>
            <a:ext cx="100836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5373720"/>
            <a:ext cx="1656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3213000"/>
            <a:ext cx="1008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9337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, VEŘEJNÁ A POLITICKÁ AGENDA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(DEARING, ROGERS, 1996 – modifikované schéma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DIÁLNÍ AGENDA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bsah a jeho průnik do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hierarchie významnosti témat ve společnosti/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LITICK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výsledek působení mediální a veřejné agendy. Nevyčerpává ale všechny intervenující proměn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ákladními mechanismy, které se podílejí na konstrukci mediální agen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kvantit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frekvence a pokry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dakční čle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ra konfliktnosti zpráv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ůsobení zprávy v č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tr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ISTORICKÉ SOUVISLOSTI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Často uváděným příkladem významné role mediální agendy ve vztahu k veřejnému mínění je volba amerického presidenta, kdy byl poměr voličských preferencí mezi Carterem a Reaganem velmi těsný. Významná americká média v tuto chvíli  začala referovat o možnosti, že b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čané držení v Iránu jako rukojmí mohli být propuštěni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Reagan pak následně vyhrává volby s velkým náskok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analytici  upozornili na to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alizace tématu rukojm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bylo obecně vnímáno jako příkla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hybné strategie zahraniční politiky či přímo neschopnosti Carterovy administrati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o jednou z rozhodujících příčin jeho volební proh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 média neříkala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olte Cartera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mýšlejte o této konkrétní kauze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Mc Combs a Shaw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97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vní výzku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vedli v Chapel Hill v severní Karolíně v průběhu volební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svou analýzu zvolili voliče, kteří se deklarovali jako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rozhodnut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100). Předpoklad, že se bud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ýrazněji zajímat o informace týkající se prezidentských voleb a že se budou snažit reflektovat celé názorové spektrum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to respondenty pak dotazovali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závažnější problémy země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odpovědi byly násled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ategorizovány na tzv. problémy hlav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dle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08:11:46Z</dcterms:created>
  <dc:creator>JV</dc:creator>
  <dc:description/>
  <dc:language>en-US</dc:language>
  <cp:lastModifiedBy>JV</cp:lastModifiedBy>
  <dcterms:modified xsi:type="dcterms:W3CDTF">2010-12-02T08:15:22Z</dcterms:modified>
  <cp:revision>6</cp:revision>
  <dc:subject/>
  <dc:title>3. PÚSOBENÍ MÉDIÍ A POLITICKÁ KOMUNIKACE</dc:title>
</cp:coreProperties>
</file>