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2D8C-3948-492C-97A0-BEACF177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0A6A-9CF2-4858-A928-A7B55B60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3016-02FC-44D3-BE58-38732A7A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EAA5-607F-42E1-BD23-5FEF9D17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F856-F1F1-41E2-9AAB-AEA0DEFA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6E6D-7BC3-4699-B0CA-5F48A303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07DE-4077-41A6-8B4D-B6A6A794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B38F-DAD5-4EB5-B41D-5DBB4054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3772-FE0F-4569-9DE3-749005C3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D530-7E42-4EED-B8D9-94BEBEC4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48BF-7827-4529-8B63-60DE57FA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77EA-11EA-4B31-AE6E-E84FDBD2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D727-7B66-4EDE-8977-D616AF96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D542-85E6-4550-A3C0-A07B7746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C315-6C2E-475A-A5CB-98C9102A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D220-3407-4E81-882B-92A75C38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282A-FB03-4FFB-A119-FE568DDD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2D70-94AD-47AE-98D1-AEE9179A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0D5F-C794-4CA0-BFCD-904DFF2A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692-479F-40FE-9BE4-5626B5E6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D506-344B-4B2D-88F2-3E453CF1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BF69-FED4-47CC-B20A-D329B988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FF56-DEC8-4DA5-BCB3-8CB54534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6AE6-3446-4BA3-90F0-B2C73F1F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CEA7-8EEF-49A3-8919-CE14461F9F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B3AE-C8B2-40D0-90E1-8DB2EB3833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GRESE A NÁSILÍ V MÉDIÍCH</a:t>
            </a:r>
            <a:br>
              <a:rPr sz="3600"/>
            </a:br>
            <a:r>
              <a:rPr b="1" lang="en-US" sz="3600" spc="-1" strike="noStrike">
                <a:solidFill>
                  <a:srgbClr val="1cee0c"/>
                </a:solidFill>
                <a:latin typeface="Times New Roman"/>
              </a:rPr>
              <a:t>Vybrané teorie a výzkumy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Dr. Jaromír Volek, Ph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kulta sociálních studi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arykova univerzita B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CO JE TO „TELEVIZNÍ NÁSILÍ“ (násilí na televizní obrazovce)?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šedesátých letech např. americk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árodní asociace pro vzdělávací pořa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ytvořila poměrně širokou definici televizního násilí,  kter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ej cháp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jak ve fyzickém smyslu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- tedy jako zranění či zabití způsobené živému tvoru,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tak i jako způsobení psychického traumatu</a:t>
            </a:r>
            <a:r>
              <a:rPr b="1" i="1" lang="cs-CZ" sz="2800" spc="-1" strike="noStrike">
                <a:solidFill>
                  <a:srgbClr val="1cee0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né definice přidávají ješte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verbální násil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náhodné násil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autonehod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ěkteré definice rozlišu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ntex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e kterém  se násilí odehrává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ith uvád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35 subkategorií prezentace násil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lišuje například mezi tzv.</a:t>
            </a: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 čistým a špinavým násilí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ec94"/>
                </a:solidFill>
                <a:latin typeface="Times New Roman"/>
              </a:rPr>
              <a:t>Nejdiskutovanější definice - Gerbner a Gross 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936720"/>
          </a:xfrm>
          <a:prstGeom prst="rect">
            <a:avLst/>
          </a:prstGeom>
          <a:solidFill>
            <a:srgbClr val="660033"/>
          </a:solidFill>
          <a:ln w="57240">
            <a:solidFill>
              <a:srgbClr val="1cee0c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325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Zjevné uplatnění fyzické síly vůči sobě nebo druhým. Nemilosrdné uplatnění vlastní vůle vůči druhému za cenu jeho zranění nebo zabití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1872000"/>
            <a:ext cx="8207280" cy="1283040"/>
          </a:xfrm>
          <a:prstGeom prst="rect">
            <a:avLst/>
          </a:prstGeom>
          <a:solidFill>
            <a:srgbClr val="feec94"/>
          </a:solidFill>
          <a:ln w="57240">
            <a:solidFill>
              <a:srgbClr val="fa3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Tato Gerbnerova definice ovšem </a:t>
            </a:r>
            <a:r>
              <a:rPr b="1" lang="cs-CZ" sz="2000" spc="-1" strike="noStrike">
                <a:solidFill>
                  <a:srgbClr val="1d0106"/>
                </a:solidFill>
                <a:latin typeface="Times New Roman"/>
              </a:rPr>
              <a:t>nezahrnuje</a:t>
            </a: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a/ </a:t>
            </a:r>
            <a:r>
              <a:rPr b="1" lang="cs-CZ" sz="2000" spc="-1" strike="noStrike">
                <a:solidFill>
                  <a:srgbClr val="1d0106"/>
                </a:solidFill>
                <a:latin typeface="Times New Roman"/>
              </a:rPr>
              <a:t>zpravodajské a dokumentární pořady ani  sport</a:t>
            </a: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b/ </a:t>
            </a:r>
            <a:r>
              <a:rPr b="1" lang="cs-CZ" sz="2000" spc="-1" strike="noStrike">
                <a:solidFill>
                  <a:srgbClr val="1d0106"/>
                </a:solidFill>
                <a:latin typeface="Times New Roman"/>
              </a:rPr>
              <a:t>násilí verbální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303000"/>
            <a:ext cx="8280360" cy="916920"/>
          </a:xfrm>
          <a:prstGeom prst="rect">
            <a:avLst/>
          </a:prstGeom>
          <a:solidFill>
            <a:srgbClr val="1cee0c"/>
          </a:solidFill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1/ </a:t>
            </a:r>
            <a:r>
              <a:rPr b="1" lang="en-US" sz="1800" spc="-1" strike="noStrike">
                <a:solidFill>
                  <a:srgbClr val="1d0106"/>
                </a:solidFill>
                <a:latin typeface="Times New Roman"/>
              </a:rPr>
              <a:t>vliv televizního násilí na konstrukci světa není dán výlučně množstvím hodin sledování, ale i programovou specifikou, tedy tím jak je dané téma informačně relevantní</a:t>
            </a: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4384080"/>
            <a:ext cx="8280360" cy="642600"/>
          </a:xfrm>
          <a:prstGeom prst="rect">
            <a:avLst/>
          </a:prstGeom>
          <a:solidFill>
            <a:srgbClr val="1cee0c"/>
          </a:solidFill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2/ nezáleží jen na tom, co je</a:t>
            </a:r>
            <a:r>
              <a:rPr b="1" lang="en-US" sz="1800" spc="-1" strike="noStrike">
                <a:solidFill>
                  <a:srgbClr val="1d0106"/>
                </a:solidFill>
                <a:latin typeface="Times New Roman"/>
              </a:rPr>
              <a:t> sledováno z pohledu obsahu, ale na tom, jak diváci  interpretují daný obsah</a:t>
            </a: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 (např. pokud nejsou vnímány jako pravdivé reflexe situace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5176080"/>
            <a:ext cx="8280360" cy="368280"/>
          </a:xfrm>
          <a:prstGeom prst="rect">
            <a:avLst/>
          </a:prstGeom>
          <a:solidFill>
            <a:srgbClr val="1cee0c"/>
          </a:solidFill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3/ celou </a:t>
            </a:r>
            <a:r>
              <a:rPr b="1" lang="en-US" sz="1800" spc="-1" strike="noStrike">
                <a:solidFill>
                  <a:srgbClr val="1d0106"/>
                </a:solidFill>
                <a:latin typeface="Times New Roman"/>
              </a:rPr>
              <a:t>percepci násilných obsahů musíme chápat jako situačně podmíněnou</a:t>
            </a: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833440"/>
            <a:ext cx="8280360" cy="642600"/>
          </a:xfrm>
          <a:prstGeom prst="rect">
            <a:avLst/>
          </a:prstGeom>
          <a:solidFill>
            <a:srgbClr val="5a0211"/>
          </a:solidFill>
          <a:ln w="57240">
            <a:solidFill>
              <a:srgbClr val="fa3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NÁSILÍ SE ALE UČÍME BEZ OHLEDU NA SITUACI, KDE SE ODEHRÁVÁ I BEZ OHLEDU NA FORMÁT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VIOLENCE INDEX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solidFill>
            <a:srgbClr val="1d010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cs-CZ" sz="2800" spc="-1" strike="noStrike">
                <a:solidFill>
                  <a:srgbClr val="fa3253"/>
                </a:solidFill>
                <a:latin typeface="Times New Roman"/>
              </a:rPr>
              <a:t>VI (violence index)= %P+2RP+2RH+%C+%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% P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= procentní zastoupení pořadů s prvky násil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RP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četnost násilných aktů v daném pořad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R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četnost násilných aktů za hodinu vysl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%C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procentní zastoupení postav účastnících se násilných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cé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%K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procentní zastoupení postav účastnících se zabíj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ariuje od 115-185 (160)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KVANTITATIVNÍ OBRAZ KONZUMACE NÁSILNÝCH TV OBSAHÚ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439272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 50. letech bylo v prime time věnováno násilí 16% vysílacího čas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 90. letech  tento podíl stoupl na 7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 USA v hlavních televizních sítích ročně 10.000 vražd a 60.000 pokusů o vraždu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ůměrné americké dítě vidí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 svých  12 let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101 tisíc násilných scé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včetně 13 400 násilných úmr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ec94"/>
                </a:solidFill>
                <a:latin typeface="Times New Roman"/>
              </a:rPr>
              <a:t>ZÁKLADNÍ TEORIE VYSVĚTLUJÍCÍ ÚČINKY TELEVIZNÍHO NÁSILÍ </a:t>
            </a:r>
            <a:br>
              <a:rPr sz="2000"/>
            </a:b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I. POZITIVNÍ HODNOCENÍ ÚĆINKÚ</a:t>
            </a:r>
            <a:r>
              <a:rPr b="1" lang="cs-CZ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TEORIE KATARZ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dpokládá, že akumulované agresivní impulsy, které v sobě individuum nese mohou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vybít pokud je individuum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realizuje imaginativně v násilí a agresivitě zobrazené v TV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žívání násilných činů pozorovaných u fiktivních, simulovaných situací, vede k oslabení tenze a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odhodlání diváka projevit vlastní agresivní chov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nto postoj vychází z teorií agresivního pudu (např. psychoanalýza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potvrzení této teorie hovoří především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Feshbachovy výzkum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 padesátých a šedesátých let, kde dokazuj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dividua mohou kanalizovat vlastní agresivitu prostřednictvím fantazií produkovaného násilí nebo prostřednictvím sledování fiktivního násilí na televizní obrazovc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Obecně je dnes teorie katarze přijímána velmi málo.</a:t>
            </a:r>
            <a:r>
              <a:rPr b="0" lang="cs-CZ" sz="28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ZÁKLADNÍ TEORIE VYSVĚTLUJÍCÍ ÚČINKY NÁSILÍ </a:t>
            </a:r>
            <a:br>
              <a:rPr sz="2400"/>
            </a:b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I. POZITIVNÍ HODNOCENÍ ÚĆINKÚ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INHIBICE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zorování násilného chování může vyvola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rach z agrese, který s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íží odhodlání k vlastnímu agresivnímu chov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vláště realistické zobrazení agresivního aktu a jeho důsledků vyvol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uze silný stra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NEÚČINNOST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tato teorie vychází z předpokladu, že mediálně distribuované násilí není pro genezi skutečného násilí významné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 tuto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zi hovoří následující argument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o přirozenosti násilného chování panují ve společnosti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jasně uspořádané normativní představ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předvedené násilí má pouze schopnost způsobit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krátkodobé emoční vzrušen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násilné akty v televizi nejsou recipienty chápány a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vnímány jako násilí, nýbrž jako zábavné fik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např. McGuire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ZÁKLADNÍ TEORIE VYSVĚTLUJÍCÍ ÚČINKY NÁSILÍ </a:t>
            </a:r>
            <a:br>
              <a:rPr sz="2400"/>
            </a:b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II. NEGATIVNÍ HODNOCENÍ ÚĆINKÚ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TEORIE NABUZENÍ, SPUŠTĚNÍ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(arousal)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chází z toho, že sledování násilných pořadů více méně přím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excituje jedince a spouští u něj agres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mocionální nabuzení je zde chápáno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especifická fyziologická reakce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jevuje se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zvýšená srdeční frekvence, zrychlené dýchání, zvýšené pocení, svalová tenze, zvýšená mozková činnos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le této hypotézy vede sledování násilného obsahu k následnému nabuzení  resp. k rostoucí agresivitě. Je zde ovšem předpoklad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ot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abuzení se velmi rychle rozplyne tedy, že zbývá velmi krátký čas mezi původním emocionálním nabuzením a možností reagovat agresivně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defacto o protiklad katarzní teze: sledováním násilných obsahů stoupá odhodlanost k agres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např. Berkowitz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144360"/>
            <a:ext cx="9144000" cy="6669360"/>
          </a:xfrm>
          <a:prstGeom prst="rect">
            <a:avLst/>
          </a:prstGeom>
          <a:solidFill>
            <a:srgbClr val="1d0106"/>
          </a:solidFill>
          <a:ln w="5724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EXPERIMET</a:t>
            </a: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Feshbach, 198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éma: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liv násilí ve zpravodajství a publicistic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a3253"/>
                </a:solidFill>
                <a:uFillTx/>
                <a:latin typeface="Times New Roman"/>
              </a:rPr>
              <a:t>HYPOTÉZA:</a:t>
            </a:r>
            <a:r>
              <a:rPr b="0" i="1" lang="cs-CZ" sz="2800" spc="-1" strike="noStrike">
                <a:solidFill>
                  <a:srgbClr val="fa3253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a3253"/>
                </a:solidFill>
                <a:latin typeface="Times New Roman"/>
              </a:rPr>
              <a:t>televizní násilí percipované jako reálné spouští s mnohem vyšší pravděpodobností  vlastní agresivitu než násilí vnímané jako fikce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ESIGN VÝZKUMU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věma skupinám studentů byl promítnut televizní záznam z násilného střetu mezi policisty a studen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a/ v prvním případě byl záznam prezentován jako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reportáž - tedy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reálná událost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 v druhém případě jako </a:t>
            </a:r>
            <a:r>
              <a:rPr b="1" i="1" lang="cs-CZ" sz="2800" spc="-1" strike="noStrike">
                <a:solidFill>
                  <a:srgbClr val="fa3253"/>
                </a:solidFill>
                <a:latin typeface="Times New Roman"/>
              </a:rPr>
              <a:t>fiktivní drama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1cee0c"/>
                </a:solidFill>
                <a:latin typeface="Times New Roman"/>
              </a:rPr>
              <a:t>Prokázala se zřetelně </a:t>
            </a:r>
            <a:r>
              <a:rPr b="1" i="1" lang="cs-CZ" sz="2800" spc="-1" strike="noStrike">
                <a:solidFill>
                  <a:srgbClr val="1cee0c"/>
                </a:solidFill>
                <a:latin typeface="Times New Roman"/>
              </a:rPr>
              <a:t>výraznější tendence k agresivní reakci u skupiny, která viděla klip jako </a:t>
            </a: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reálnou událost</a:t>
            </a:r>
            <a:r>
              <a:rPr b="1" i="1" lang="cs-CZ" sz="2800" spc="-1" strike="noStrike">
                <a:solidFill>
                  <a:srgbClr val="1cee0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95808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TEORIE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UTLUMENÍ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le této hypotézy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násilí v televizi legitimuje jeho použití v reálném životě tím, že de facto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zpochybňuje/utlumuje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sociální sankce, normy, strach z trestu které normálně inhibují násilné chování.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 normálních podmínek tak máme malou motivaci chovat se násilně. V případě, kdy se tyto zábrany zpochybní máme pak tendenci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realizovat naučené agresivní chová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Odtlumení naučených zábran tak zároveň posiluje naučenou agresi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Posílení agrese se tak může odehrát ve chvíli, kdy je agresivní násilné jednání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 televizi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odměněno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Laboratorní výzkum potvrdil, že se s vysokou pravděpodobností chováme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po shlédnutí násilných obsahů agresivněji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To platí především pro případy, kdy individuum bylo již v podrážděném stavu před sledováním násilného obsah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Řada studií potvrzuje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pouštěcí účinky televizního násilí, speciálně pornografických pořadů, na postoje vůči ženám, bez ohledu na situační kontex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 obsahových analýz, které provedl Larsen vyplývá, že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ětšina násilí zobrazovaného v televizi je právě ve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formě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posilujícího násilí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roveň se ukazuje, že 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sociálně desaprobované způsoby chování, včetně násilí, jsou častěji zobrazovány jako úspěšnější než sociálně aprobované formy chová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d0106"/>
          </a:solidFill>
          <a:ln w="38160">
            <a:solidFill>
              <a:srgbClr val="1d0106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EXPERIMENT</a:t>
            </a:r>
            <a:r>
              <a:rPr b="0" lang="cs-CZ" sz="2000" spc="-1" strike="noStrike">
                <a:solidFill>
                  <a:srgbClr val="fa3253"/>
                </a:solidFill>
                <a:latin typeface="Times New Roman"/>
              </a:rPr>
              <a:t>: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Berkowitz, 196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cee0c"/>
                </a:solidFill>
                <a:uFillTx/>
                <a:latin typeface="Times New Roman"/>
              </a:rPr>
              <a:t>CÍL STUDIE: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Otestovat zda televize plní zástupnou funkci při posílení vlastní agresivit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. Experimentoval s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dvěma modely agres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Times New Roman"/>
              </a:rPr>
              <a:t>a/ pomsty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Times New Roman"/>
              </a:rPr>
              <a:t>b/ sebeobran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DESIGN VÝZKUMU: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tudenti shlédli dvě verze boxerského zápas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A/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  V první byl jeden z boxerů drtivě poražen a studenti se dozvěděli, že poražený je osobnostně problematický člověk, který vítěznému boxerovi rozvrátil rodinu - </a:t>
            </a:r>
            <a:r>
              <a:rPr b="1" i="1" lang="cs-CZ" sz="2000" spc="-1" strike="noStrike">
                <a:solidFill>
                  <a:srgbClr val="ffff00"/>
                </a:solidFill>
                <a:latin typeface="Times New Roman"/>
              </a:rPr>
              <a:t>forma pomsty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B/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 V druhé verzi byl poražený boxer představen jako bývalý šampión, který se dostal do obtížné osobní situace a pokouší se opět dostat na vrchol, ale prohrává - tedy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cs-CZ" sz="2000" spc="-1" strike="noStrike">
                <a:solidFill>
                  <a:srgbClr val="ffff00"/>
                </a:solidFill>
                <a:latin typeface="Times New Roman"/>
              </a:rPr>
              <a:t>orma sebe obrany.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 shlédnutí filmu obě skupiny mohly realizovat vlastní agresivitu formou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udělení elektrošoků fiktivní osobě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ýznamně </a:t>
            </a: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více agresivní byli studenti, kteří shlédli film, který v podtextu de facto legitimizoval pomstu</a:t>
            </a:r>
            <a:r>
              <a:rPr b="0" lang="cs-CZ" sz="2400" spc="-1" strike="noStrike">
                <a:solidFill>
                  <a:srgbClr val="fa3253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a zároveň sebou nesl odměnu vítězstv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typický model o nespravedlivém osudu šlechetného  hrdiny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Televizní násilí, které je vnímáno jako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ospravedlnitelné posiluje agresivitu konzumentů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Naopak agresivita, která není legitimována odkazem na nespravedlnost je slabš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000" spc="-1" strike="noStrike">
                <a:solidFill>
                  <a:srgbClr val="feec94"/>
                </a:solidFill>
                <a:latin typeface="Times New Roman"/>
              </a:rPr>
              <a:t>        </a:t>
            </a:r>
            <a:r>
              <a:rPr b="0" lang="cs-CZ" sz="1800" spc="-1" strike="noStrike">
                <a:solidFill>
                  <a:srgbClr val="feec94"/>
                </a:solidFill>
                <a:latin typeface="Times New Roman"/>
              </a:rPr>
              <a:t>NÁSILÍ A AGRESIVITA V MÉDIĆH: PRVNÍ VÝZKUM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cee0c"/>
                </a:solidFill>
                <a:latin typeface="Times New Roman"/>
              </a:rPr>
              <a:t>20. léta min. st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 USA,  kdy se filmový průmysl stává prioritním zdrojem masové zábavy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líčovou výzkumnou otázkou bylo - 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zda film eroduje morální standardy a má vliv na lidské chování.</a:t>
            </a:r>
            <a:r>
              <a:rPr b="0" lang="cs-CZ" sz="24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jevují se zde první závěry o tom, že filmová produkce výrazně ovlivňuje mladistvé a působí přímo na rozvoj jejich delikventní, kriminální kariéry (Blumer, Hauser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cee0c"/>
                </a:solidFill>
                <a:latin typeface="Times New Roman"/>
              </a:rPr>
              <a:t>1954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- 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áce Franka Werthama „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The Seduction of Innocent“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zaměřená na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komiks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Wertham upozorňoval na to,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že svádějí mladistvé k delikventnímu jednání, prezentují deformovaný obraz světa a že jejich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výraznou obsahovou komponentou je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násilí, erotika a zločin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Již v této době se objevuje obava, že komiksy (ikonické komunikáty) 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způsobují 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problémy se  čtení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Werthamova kniha ve své době  na čas skutečně snížila čtenost tohoto žánr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vní televizní analýzy násilí se zabývající se de facto stejnými obavam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 zde však výrazný rozdíl v tom, že 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porce televizního násilí je zřetelně  větší a nárůst je zde stále patrný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1cee0c"/>
                </a:solidFill>
                <a:uFillTx/>
                <a:latin typeface="Times New Roman"/>
              </a:rPr>
              <a:t>TEORIE UČENÍ</a:t>
            </a:r>
            <a:r>
              <a:rPr b="1" lang="cs-CZ" sz="3200" spc="-1" strike="noStrike">
                <a:solidFill>
                  <a:srgbClr val="1cee0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Imitace-nápodoba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ato hypotéza předpokládá, že diváci a zvláště mladí mají tendenc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čit se jednání postav vystupujících v násilných pořadec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takové jednání kopírovat. Zde hraje důležitou roli proces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identifikace s hrdino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andura potvrdil v řadě výzkumů tento vztah platí, jak pro  nápodobu reálného násilí, tak i filmového televizního i v případě karikatur. Experiment (Bobo Doll)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ěti napodobovaly zacházení s hračkou předtím exponované v televizi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d0106"/>
          </a:solidFill>
          <a:ln w="38160">
            <a:solidFill>
              <a:srgbClr val="6600cc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EXPERIMEN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: Bobo Doll (Bandura, 197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HYPOTÉZA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děti se učí asociálnímu chování z televize.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ESIGN VÝZKUM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Dvěma skupinám dětí promítnuty dvě verze filmu. V bylo užito velmi </a:t>
            </a:r>
            <a:r>
              <a:rPr b="1" i="1" lang="cs-CZ" sz="2400" spc="-1" strike="noStrike">
                <a:solidFill>
                  <a:srgbClr val="ffff00"/>
                </a:solidFill>
                <a:latin typeface="Times New Roman"/>
              </a:rPr>
              <a:t>agresivní chování titulní postavy filmu k plastikové panence jménem Bobo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V druhé agresivní motivy chování chyběly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Po projekci si šli děti z obou skupin hrát do místnosti, kde bylo množství hraček včetně panenky Bob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ři pozorování této hry pak Bandura zaznamenal jednoznačně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vyšší stupeň imitovaného agresivního chování vůči panence u skupiny, která shlédla film s agresivním obsa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 dalším výzkumu (1982) prokázal Bandura, že děti, které sledují v </a:t>
            </a:r>
            <a:r>
              <a:rPr b="1" lang="cs-CZ" sz="2800" spc="-1" strike="noStrike">
                <a:solidFill>
                  <a:srgbClr val="fa3253"/>
                </a:solidFill>
                <a:latin typeface="Times New Roman"/>
              </a:rPr>
              <a:t>televizi násilí, které je odměněno, mají tendenci k vyšší míře jeho nápodoby - k imitativní agres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tímco násilí, které se nevyplatilo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(potrestané násilí)  bylo významně méně napodobová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 u="sng">
                <a:solidFill>
                  <a:srgbClr val="1cee0c"/>
                </a:solidFill>
                <a:uFillTx/>
                <a:latin typeface="Times New Roman"/>
              </a:rPr>
              <a:t>TEORIE OSPRAVEDLŇOVÁNÍ </a:t>
            </a:r>
            <a:r>
              <a:rPr b="1" lang="cs-CZ" sz="1800" spc="-1" strike="noStrike">
                <a:solidFill>
                  <a:srgbClr val="ffffff"/>
                </a:solidFill>
                <a:latin typeface="Times New Roman"/>
              </a:rPr>
              <a:t>(racionalizace)</a:t>
            </a: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násilí či diskuse o něm může vést k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spravedlňování vlastních násilných čin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ex ante nebo ex post facto). Agresora (z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ločince) může vést ke konzumaci násilných programů, potřeba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chápat vlastní chování jako normální nebo si vytvořit iluzi, že je jako populární tv hrdina; tj. potřeba racionalizace chování neslučitelného s původním sebeobrazem</a:t>
            </a:r>
            <a:r>
              <a:rPr b="1" lang="cs-CZ" sz="2800" spc="-1" strike="noStrike">
                <a:solidFill>
                  <a:srgbClr val="1d0106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před činem uvolní prostor chování, po činu se uchrání před pocity viny)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 přenesení odpovědnosti na vnějšího činitel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extrapunitivit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EXPERIMEN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- Chafee a McLeod (1987) prokázali, že děti, jejichž rodiče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sankcionovali formy násilí se vystavovali televiznímu násilí mé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5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ZNECITLIVĚNÍ-DESENZITIVIZ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habitualizac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ypotéza předpokládá, že opakované sledování následných scén vede ke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snížení emocionální citlivosti na násilí a následně i k znecitlivění k násilí v reálném život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prokázáno, že pokud sledujem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ásilí páchané na druhém pak v běžné situaci pociťujeme nelib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ětšina studií se shoduje na tom, že příslušníci naší kultury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epřijímají agresi jako něco příjemného, a to jak agresi pozorovanou tak i agresi vlastn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 obou případech pociťujeme silné úzkostné stav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íčovou otázkou této výzkumné cesty je,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da opakované sledování úzkost provokujících aktivit </a:t>
            </a: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může omezit původní úzkost s těmito aktivitami spojovanou.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y ukazují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ěti - silní konzumenti (přes 25 hodin týdně) byly mnohem, méně citliví k televiznímu násilí ve smyslu fyziologických reakc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edy míry fyziologického nabuzení než slabí konzumenti (do 4 hodin týdně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d0106"/>
          </a:solidFill>
          <a:ln w="381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EXPERIMEN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(Drabman, Thomas,198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HYPOTÉZA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Děti, které běžně sledují více násilí na televizní obrazovce budou vykazovat při jeho sledování nízkou nebo žádnou psycho-fyziologickou reakc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ESIGN VÝZKUM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vě skupiny dětí sledující rvačku mezi dvou spolužáků z nichž jeden byl poraněn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ff00"/>
                </a:solidFill>
                <a:latin typeface="Times New Roman"/>
              </a:rPr>
              <a:t>Skupina těch, kteří konzumovali větší porci násilí významně méně často tendovala k tomu zavolat pomoc dospěléh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- Při promítnutí některých scén ze Stoneovy Čety byly zaznamenány významné  rozdíly v pulzu, tlaku, srdeční frekvenci, kožním elektrickém potenciálu u skupina slabých konzumentů na rozdíl od silnýc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Vyšší vzrušení vykazovali slabí konzumenti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ZÁKLADNÍ TEORIE VYSVĚTLUJÍCÍ ÚČINKY TELEVIZNÍHO NÁSILÍ </a:t>
            </a:r>
            <a:br>
              <a:rPr sz="2400"/>
            </a:b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II. NEGATIVNÍ HODNOCENÍ ÚĆINKÚ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229600" cy="22608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ýsledky studií v reálném prostředí naznačuj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že 1 - 4% pozdějšího agresivního chování l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ysvětlit předcházející konzumací televizní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ásil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solidFill>
            <a:srgbClr val="1d0106"/>
          </a:solidFill>
          <a:ln w="9360">
            <a:solidFill>
              <a:srgbClr val="1cee0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20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rtivá většina české populace (92%) se domnívá, že sledování násilných a pornografických pořadů může narušit zdravý duševní vývoj dítě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1916280"/>
          <a:ext cx="9144000" cy="48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16280"/>
                    <a:ext cx="9144000" cy="48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18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avy podle očekávání deklarují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více ženy než muži (53% v. 47%)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řesvědčení o škodlivosti tohoto typu televizního vysílání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roste s věke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96%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čanů starších šedesáti let je přesvědčeno, že tyto pořady znamenají ohrožení pro dětskou psychiku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Obavy sdílejí nejvíc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lidé vzdělanějš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mezi  středoškoláky a vysokoškoláky je 90% přesvědčeno o nebezpečnosti těchto televizního zobrazování uvedených obsahů pro dětskou a mládež.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 pohledu jednotlivých regionů vidí v násilných a pornografických pořadech největší nebezpečí  občané žijící na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jižní Moravě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18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íce než dvě třetiny respondentů (87%) se domnívá, že je nezbytně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utné omezit televizní prezentaci těchto mediálních obsah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24000" y="1844640"/>
          <a:ext cx="84247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44640"/>
                    <a:ext cx="842472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JAK  ŠÍŘENÍ NÁSILNÝCH POŘADŮ OMEZOVAT?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tvrdi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 zd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ápadoevropský trend zdůrazňující jedna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/ potřebu  mít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dostatek informací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daných pořadech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/ zároveň též </a:t>
            </a:r>
            <a:r>
              <a:rPr b="1" lang="en-US" sz="2400" spc="-1" strike="noStrike" u="sng">
                <a:solidFill>
                  <a:srgbClr val="1cee0c"/>
                </a:solidFill>
                <a:uFillTx/>
                <a:latin typeface="Times New Roman"/>
              </a:rPr>
              <a:t>důraz na  svobodu  volby a zodpovědnosti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a vlastní výběr programů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755640" y="2565360"/>
          <a:ext cx="806436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565360"/>
                    <a:ext cx="806436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VÝZKUM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 Evropě byl pak první výzkum uskutečněn v roce 1958 ve Velké Británii. Hilda Himmelweitová, Oppenheim a Vince -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Television and the Child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ýzkum pak výrazně akceleroval v USA v souvislosti se vzrůstající kriminalitou ve vnitřních městech, studentskými nepokoji. Nejsilněji zapůsobily obavy americké společnosti po  atentátech na J.F. Kenedyho, M.L. Kinga a R. Kenedyho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 roce 1968 zakládá Lyndon Johnson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National  Commision on the Causes and Prevention of Violence.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Následovalo zřízení iž speciální komise soustřeďující se na účinky televizního násilí -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The Surgeon General Scientific Advisory Committee on Television and Social Behaviour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ýsledkem celého projektu je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pětisvazková závěrečná práce,  jejíž závěry lze shrnout následovně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televizní obsahy jsou silně saturovány násilným obsahe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2/ děti i dospělí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tráví stále více času při sledování těchto televizních obsahů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3/ je zde základní shoda na tom, že </a:t>
            </a:r>
            <a:r>
              <a:rPr b="1" lang="cs-CZ" sz="2200" spc="-1" strike="noStrike">
                <a:solidFill>
                  <a:srgbClr val="1cee0c"/>
                </a:solidFill>
                <a:latin typeface="Times New Roman"/>
              </a:rPr>
              <a:t>televizní násilí skutečně zvyšuje pravděpodobnost agresivního chování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Ze zhruba  5500 základních studií provedených na toto téma se okolo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sedmdesáti procent shoduje na tom, že vliv televizí prezentovaného násilí působí negativně na dětskou psychiku.</a:t>
            </a:r>
            <a:r>
              <a:rPr b="0" lang="cs-CZ" sz="22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20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gula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respektive omezení násilných programů vyžadují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více ženy než muži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56% v. 44%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Kritičnost obecně  roste s věkem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lativně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méně by omezovali násilí na obrazovce občané ve věku 18 - 24 let  (71%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 Naopak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více by regulovali občané starší šedesáti let (96%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více jsou nakloněni  omezení tohoto typu programů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jihomoravané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94%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ee0c"/>
                </a:solidFill>
                <a:latin typeface="Times New Roman"/>
              </a:rPr>
              <a:t>CO JE TO PODLE ČESKÝCH DIVÁKŮ NEJMÉNĚ PŔIJATELNÉ NA TV OBRAZOVCE?</a:t>
            </a:r>
            <a:r>
              <a:rPr b="1" lang="en-US" sz="20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18440" cy="1512720"/>
          </a:xfrm>
          <a:prstGeom prst="rect">
            <a:avLst/>
          </a:prstGeom>
          <a:solidFill>
            <a:srgbClr val="feec94"/>
          </a:solidFill>
          <a:ln w="57240">
            <a:solidFill>
              <a:srgbClr val="1cee0c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Obecně nejvíce vadí: </a:t>
            </a:r>
            <a:r>
              <a:rPr b="1" lang="cs-CZ" sz="2800" spc="-1" strike="noStrike">
                <a:solidFill>
                  <a:srgbClr val="1d0106"/>
                </a:solidFill>
                <a:latin typeface="Times New Roman"/>
              </a:rPr>
              <a:t>1/</a:t>
            </a:r>
            <a:r>
              <a:rPr b="0" lang="cs-CZ" sz="2800" spc="-1" strike="noStrike">
                <a:solidFill>
                  <a:srgbClr val="1d0106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1d0106"/>
                </a:solidFill>
                <a:latin typeface="Times New Roman"/>
              </a:rPr>
              <a:t>vulgární vyjadřování (76%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2/ násilné scény (71%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a s</a:t>
            </a: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výrazným odstupem </a:t>
            </a: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pornofgraficé scény (40%).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9640" y="2708280"/>
          <a:ext cx="813600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708280"/>
                    <a:ext cx="813600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unkce připisované násilí prezentovanému na televizní obrazovce z pohledu jejich vlivu na děti mladší 15 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11280" y="907920"/>
          <a:ext cx="7920000" cy="59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907920"/>
                    <a:ext cx="792000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72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nímání škodlivosti televizního násilí  podle žánrového zařazení pořad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24000" y="1052640"/>
          <a:ext cx="835164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52640"/>
                    <a:ext cx="835164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ZÁKLADNÍ POJMY-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1cee0c"/>
                </a:solidFill>
                <a:uFillTx/>
                <a:latin typeface="Times New Roman"/>
              </a:rPr>
              <a:t>AGRESE</a:t>
            </a:r>
            <a:br>
              <a:rPr sz="24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400" spc="-1" strike="noStrike" u="sng">
                <a:solidFill>
                  <a:srgbClr val="fa3253"/>
                </a:solidFill>
                <a:uFillTx/>
                <a:latin typeface="Times New Roman"/>
              </a:rPr>
              <a:t>konstruktivní agrese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„nepravá agrese“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edstavuje násilné chování, zahrnující především prvky loveckého a agonistického chování - 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nezahrnuje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tedy podstatnou podmínku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„pravé agrese“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 - cíl zranit nebo ublížit.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onstruktivní, nepravá agrese vystihuje právě ten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ruh násilného jednání, který máme do jisté míry se zvířaty společný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ásilné jednání, které řadíme do této kategorie 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je fyziologicky podmíněnou reakcí na aktuální reálný podně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ůžeme zde diferencovat dva druhy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otivem je fyziologická potřeba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např. hlad)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b/ motivem je určitá sociální potřeba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respek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400" spc="-1" strike="noStrike" u="sng">
                <a:solidFill>
                  <a:srgbClr val="fa3253"/>
                </a:solidFill>
                <a:uFillTx/>
                <a:latin typeface="Times New Roman"/>
              </a:rPr>
              <a:t>ryzí - destruktivní agrese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 opakem agrese konstruktivní.  Mohli bychom ji jednoduše definovat jako 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„nepřirozené“ útočné a násilné chování.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Agresivní chování v tomto případě není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„biologicky účinné“,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nevzniká na základě reálného ohrožení a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bývá doprovázeno přirozenými změnami vnitřního prostředí jedi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yzí destruktivní agrese je jevem častým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u lidského druhu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u zvířat se vyskytuje jen zřídk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- a to buď u zvířat „psychicky“ narušených, nebo v situacích, které jsou zcela nepřirozené a obecně ohrožujíc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PŘÍČINY SPECIFICKY LIDSKÉHO FENOMÉNU DESTRUKTIVNÍ AGRESE?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1cee0c"/>
                </a:solidFill>
                <a:latin typeface="Times New Roman"/>
              </a:rPr>
              <a:t>A/ Člověk nemá </a:t>
            </a:r>
            <a:r>
              <a:rPr b="1" i="1" lang="en-US" sz="2300" spc="-1" strike="noStrike" u="sng">
                <a:solidFill>
                  <a:srgbClr val="1cee0c"/>
                </a:solidFill>
                <a:uFillTx/>
                <a:latin typeface="Times New Roman"/>
              </a:rPr>
              <a:t>vrozenou</a:t>
            </a:r>
            <a:r>
              <a:rPr b="1" i="1" lang="en-US" sz="2300" spc="-1" strike="noStrike">
                <a:solidFill>
                  <a:srgbClr val="1cee0c"/>
                </a:solidFill>
                <a:latin typeface="Times New Roman"/>
              </a:rPr>
              <a:t> zábranu proti zabíjení</a:t>
            </a:r>
            <a:r>
              <a:rPr b="0" lang="en-US" sz="2300" spc="-1" strike="noStrike">
                <a:solidFill>
                  <a:srgbClr val="1cee0c"/>
                </a:solidFill>
                <a:latin typeface="Times New Roman"/>
              </a:rPr>
              <a:t>.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ím dokonalejší zbraně zvíře má, tím efektivnější jsou zábrany, které znemožňují těchto zbraní použít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. Navíc při vnitrodruhovém boji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nepoužívají zvířata těch zbraní, kterými se brání proti svým nepřátelům, nebo které používají při lovu kořisti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Konrád Lorenz tvrdí, že „vrozená agresivita /v našem pojetí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konstruktivní, nepravá agres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lang="en-US" sz="2300" spc="-1" strike="noStrike" u="sng">
                <a:solidFill>
                  <a:srgbClr val="feec94"/>
                </a:solidFill>
                <a:uFillTx/>
                <a:latin typeface="Times New Roman"/>
              </a:rPr>
              <a:t>nemá u </a:t>
            </a:r>
            <a:r>
              <a:rPr b="0" lang="en-US" sz="2300" spc="-1" strike="noStrike" u="sng">
                <a:solidFill>
                  <a:srgbClr val="feec94"/>
                </a:solidFill>
                <a:uFillTx/>
                <a:latin typeface="Times New Roman"/>
              </a:rPr>
              <a:t>člověka</a:t>
            </a:r>
            <a:r>
              <a:rPr b="1" lang="en-US" sz="2300" spc="-1" strike="noStrike" u="sng">
                <a:solidFill>
                  <a:srgbClr val="feec94"/>
                </a:solidFill>
                <a:uFillTx/>
                <a:latin typeface="Times New Roman"/>
              </a:rPr>
              <a:t> protipól v zábraně vůči zabíjení</a:t>
            </a:r>
            <a:r>
              <a:rPr b="1" lang="en-US" sz="23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neboť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člověk původně nebyl vybaven přirozenými zbraněmi, jimiž mohl zraňovat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(tedy chrupem, drápy a pod.)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300" spc="-1" strike="noStrike" u="sng">
                <a:solidFill>
                  <a:srgbClr val="ffffff"/>
                </a:solidFill>
                <a:uFillTx/>
                <a:latin typeface="Times New Roman"/>
              </a:rPr>
              <a:t>nepotřeboval tedy ani vrozenou zábranu vůči zabíjení jako alternativní chování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1cee0c"/>
                </a:solidFill>
                <a:latin typeface="Times New Roman"/>
              </a:rPr>
              <a:t>B/ Volné sepětí pudu s objektem</a:t>
            </a:r>
            <a:r>
              <a:rPr b="0" lang="en-US" sz="2300" spc="-1" strike="noStrike">
                <a:solidFill>
                  <a:srgbClr val="1cee0c"/>
                </a:solidFill>
                <a:latin typeface="Times New Roman"/>
              </a:rPr>
              <a:t>.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Zvířecí „agresivní“ chování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je regulováno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vrozenými spouštěcími mechanismy,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avšak lidské pudy se od tohoto modelu zásadně odlišují.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U lidí existuje 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volné sepětí pudu s objektem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Jde o zdroj specificky lidské formy ryzí destruktivní agrese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Konrád Lorenz používal výraz 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FULGURACE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,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která jako evoluční skok přinesla s sebou schopnost 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symbolizace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a současně možnost 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destrukce ve službách grandiózních fantazií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“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Člověk díky schopnosti </a:t>
            </a:r>
            <a:r>
              <a:rPr b="1" lang="en-US" sz="2300" spc="-1" strike="noStrike" u="sng">
                <a:solidFill>
                  <a:srgbClr val="1cee0c"/>
                </a:solidFill>
                <a:uFillTx/>
                <a:latin typeface="Times New Roman"/>
              </a:rPr>
              <a:t>symbolizace může volně propojovat pudové potřeby s objektem uspokojení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a tak přenáší své „přirozené“ agresivní sklony na jakýkoli objekt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TYPOLOGIE AGRESIVNÍCH PROJEVÚ PODLE SMĚRU A MOTIVU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680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cee0c"/>
                </a:solidFill>
                <a:latin typeface="Times New Roman"/>
              </a:rPr>
              <a:t>a/</a:t>
            </a: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brachiální x verbální agres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b/přímá x nepřímá agrese,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c/ hostilní x obranná x užitková agres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d/ osobnostní x sexuální x sociální x psychicky motivovaná agr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e/ heteroagrese x autoagrese x destrukce</a:t>
            </a:r>
            <a:r>
              <a:rPr b="0" lang="cs-CZ" sz="28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I. </a:t>
            </a:r>
            <a:r>
              <a:rPr b="1" lang="en-US" sz="2000" spc="-1" strike="noStrike" u="sng">
                <a:solidFill>
                  <a:srgbClr val="feec94"/>
                </a:solidFill>
                <a:uFillTx/>
                <a:latin typeface="Times New Roman"/>
              </a:rPr>
              <a:t>FORMA A SMĚR AGRESE</a:t>
            </a:r>
            <a:br>
              <a:rPr sz="20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915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Brachiální (fyzická) agrese vůči jiné osob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/ zaujetí bojového postoje, namíření zbran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/ napadení druhého (beze zbraně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/ napadení druhé osoby, působení krvavých zraně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/ usmrcení osoby (rychlé, nekrvavé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/ brutální, krvavé vražd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Verbální agrese vůči jiné osob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/ ironie, sarkasmus, nadávky  v nepřítomnosti ob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/ ironie, sarkasmus, nadávky vůči přítomné osob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/ vyhrožování, zastrašování vůči nepřítomnému ob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/ vyhrožování, zastrašování a verbální napadení přítomné oso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Autoagrese (násilí vědomě páchané na sobě samé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/verbální snižování sebe s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/ fyzické, nekrvavé ubližování sobě samé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/ fyzické krvavé ubližová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/ sebevražda „jemnou“ form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/ sebevražda brutální form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MOTIV AGRESE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Osobnostně motivovaná agr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motivace násilného činu plyne z osobnostních charakteristik agres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Agrese motivovaná sexuáln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gresivní jednání je prostředkem k dosažení sexuálního objektu nebo sexuálního uspokoj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Agrese motivovaná teritoriálně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ásilí je směřováno na obranu nebo získání prostoru, územ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Ideově motivovaná agr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ásilí vychází z různosti názorů a postojů k politickým, rasovým a jiným světonázorovým otázk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Obranně motivovaná agre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ásilí je motivováno obranným postojem, na obranu sebe či jiné oso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MÍRA NÁSILNÉHO AKTU PODLE INTENZITY AGRESE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ironie, sarkasmus; zaujetí bojového posto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přímé verbální napadení (urážení, osoče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fyzický kontakt proti vůli objektu zájmu (např. vytlačová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/ napadení jiné osoby beze zbraně nebo nekrvavě (facka, rána pěstí apod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/ ozbrojené napad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/ způsobení krvavých zranění, brutalita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/ znásilnění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/ brutální likvidace doprovázená nefunkční destrukcí objekt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07:43:51Z</dcterms:created>
  <dc:creator>volek</dc:creator>
  <dc:description/>
  <dc:language>en-US</dc:language>
  <cp:lastModifiedBy>JV</cp:lastModifiedBy>
  <dcterms:modified xsi:type="dcterms:W3CDTF">2009-12-17T09:33:39Z</dcterms:modified>
  <cp:revision>6</cp:revision>
  <dc:subject/>
  <dc:title>AGRESE A NÁSILÍ V MÉDIÍCH Vybrané teorie a výzkumy </dc:title>
</cp:coreProperties>
</file>