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6C65-0074-440A-8457-CFA466AAF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CA7D-C98E-43D2-A3AA-341B1A689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35ED-BB7C-4E2C-8786-0BE284E98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F2D-3112-4744-AA9D-359E5EAFB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609F-F015-4B72-9540-B77FE227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5910-0D21-475E-A50F-75DAE7A81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A29E-9A6B-4157-B28A-64EE62AB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96BA-511E-4907-A469-1304378BD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B286-17EB-41D9-BEA0-24778735E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9884-1ADB-4565-8FC6-04BABB7F6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96A46-0972-4164-8EF9-C0289DFA8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ED17-A26C-4F5E-A55B-CE078EED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9b90"/>
            </a:gs>
            <a:gs pos="100000">
              <a:srgbClr val="c9e9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F20D-FB02-4542-845A-17587DAD159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45"/>
          <p:cNvSpPr/>
          <p:nvPr/>
        </p:nvSpPr>
        <p:spPr>
          <a:xfrm>
            <a:off x="0" y="981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ectangle 2"/>
          <p:cNvSpPr/>
          <p:nvPr/>
        </p:nvSpPr>
        <p:spPr>
          <a:xfrm>
            <a:off x="324000" y="1197000"/>
            <a:ext cx="77724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astroenterologi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linivka bři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Žlučový cysté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ana Nechutová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I Interní klinika, Fakultní nemocnice U svaté Anny, Brno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Lékařská fakulta, Masarykova univerzita, Brno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408040" cy="71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Hankanech\Desktop\FNUSA.png"/>
          <p:cNvPicPr/>
          <p:nvPr/>
        </p:nvPicPr>
        <p:blipFill>
          <a:blip r:embed="rId2"/>
          <a:stretch/>
        </p:blipFill>
        <p:spPr>
          <a:xfrm>
            <a:off x="684360" y="1844640"/>
            <a:ext cx="1514160" cy="693720"/>
          </a:xfrm>
          <a:prstGeom prst="rect">
            <a:avLst/>
          </a:prstGeom>
          <a:ln w="0">
            <a:noFill/>
          </a:ln>
        </p:spPr>
      </p:pic>
      <p:pic>
        <p:nvPicPr>
          <p:cNvPr id="46" name="pancreas a žlučový systé437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755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ánětlivý, irreverzibilní, postupně progredující proces, postupující fibroza destruující a nahrazující vlastní exo- i endo-krinní funkční parenchym, vedoucí event. k exo a endo krinní pankreatické insuficin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gredující zánětlivé onemocnění, které může vzniknout následkem akutní, rekurentní pankretitidy, event. vzniká přímo jako chronické, progredující, irreversibilní zánětlivé onemocněn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hronická pankreatit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50"/>
          <p:cNvSpPr/>
          <p:nvPr/>
        </p:nvSpPr>
        <p:spPr>
          <a:xfrm>
            <a:off x="0" y="1557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0"/>
          <p:cNvSpPr/>
          <p:nvPr/>
        </p:nvSpPr>
        <p:spPr>
          <a:xfrm>
            <a:off x="0" y="3645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pancreas a žlučový systé451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755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Kalcifikující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– opak AP,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intraduktální kameny. Steatorhoea a DM 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u většin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bstrukč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bstrukce vývodu z různé příčiny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Postižení proximálně od obstrukce. Většinou bez kamenů. Po recidivách AP při parciální striktuře. Pozánětlivé stenozy po traumatické pankreatitidě. IPMN. PanCa. Symptomatické – resekce je preferován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Autoimun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 – přítomen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obstrukční ikterus, lymfoplasmocytární infiltrát parenchymu, hvězdicovitá fibroza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Dramaticky reagující na steroidní léčbu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. Typ I – IgG4 related. Starší muži. Multiorgánový fibroinflammatorní syndrom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Také žlučovod, slinné žlázy, retroperitoneum, lymf. uzliny. Většinou obstrukční ikterus nebolestivý – obava z PanCa. Po vysazení steroidů relabující. Většinou k dlouhodobé imunosupresi a malé dávce steroidů.  </a:t>
            </a:r>
            <a:r>
              <a:rPr b="1" lang="cs-CZ" sz="1800" spc="-1" strike="noStrike">
                <a:solidFill>
                  <a:srgbClr val="000000"/>
                </a:solidFill>
                <a:latin typeface="Times New Roman"/>
              </a:rPr>
              <a:t>Typ II mladí. Pancreas specifické onemocnění. IBD. IgG4 negativní</a:t>
            </a: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. Neutrofilní infiltrát duktálních epitelií – obstrukce duktu. Dobře reagující na steroidy, nerelabující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50"/>
          <p:cNvSpPr/>
          <p:nvPr/>
        </p:nvSpPr>
        <p:spPr>
          <a:xfrm>
            <a:off x="0" y="1557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ancreas a žlučový systé452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75564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iagn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iopsie - hist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Pozdní stadia – kalcifikace, steatorhoe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CT 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kalcifikace intraduktální, parenchymové, změny ductu, atrofie pancreatu, peripankreatické tekutinové kolek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Kalcifikace nejsou diagnozou 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ERCP –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pokročilé fáze. Změny ductu a jeho větv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EU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MRCP – kombinace MRCP/MRI dostačující info o pankreatu a okolí pro d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0"/>
          <p:cNvSpPr/>
          <p:nvPr/>
        </p:nvSpPr>
        <p:spPr>
          <a:xfrm>
            <a:off x="0" y="981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Výsledek obrázku pro endoscopic ultrasound"/>
          <p:cNvPicPr/>
          <p:nvPr/>
        </p:nvPicPr>
        <p:blipFill>
          <a:blip r:embed="rId1"/>
          <a:stretch/>
        </p:blipFill>
        <p:spPr>
          <a:xfrm>
            <a:off x="4572000" y="4869000"/>
            <a:ext cx="4138560" cy="1512720"/>
          </a:xfrm>
          <a:prstGeom prst="rect">
            <a:avLst/>
          </a:prstGeom>
          <a:ln w="0">
            <a:noFill/>
          </a:ln>
        </p:spPr>
      </p:pic>
      <p:pic>
        <p:nvPicPr>
          <p:cNvPr id="121" name="pancreas a žlučový systé453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755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unkční tes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90% pancreatu musí být zdestruováno, aby byla přítimna steatorhoe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F- elastáz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, malá senzitivita pro časná sta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Klinik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bdominalgi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(občas „burn out“ late stage - bez bolest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Diabetes mellitus, steatorhoea – pozdní stad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ladí – hereditární, tropická CP. Starší – idiopatická C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Tropická – smrt z komplikací DM a Pan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0"/>
          <p:cNvSpPr/>
          <p:nvPr/>
        </p:nvSpPr>
        <p:spPr>
          <a:xfrm>
            <a:off x="0" y="1628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ancreas a žlučový systé454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Nádory slinivky břišn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611280" y="112536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uktální adenokarcin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zdn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diagnoza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elmi špatná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ognóza; chirurgie, CHT + 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45"/>
          <p:cNvSpPr/>
          <p:nvPr/>
        </p:nvSpPr>
        <p:spPr>
          <a:xfrm>
            <a:off x="0" y="1268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0"/>
          <p:cNvSpPr/>
          <p:nvPr/>
        </p:nvSpPr>
        <p:spPr>
          <a:xfrm>
            <a:off x="0" y="4797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8" descr="G:\Optometry\pics\dt_140626_pancreas_cancer_800x600.jpg"/>
          <p:cNvPicPr/>
          <p:nvPr/>
        </p:nvPicPr>
        <p:blipFill>
          <a:blip r:embed="rId1"/>
          <a:stretch/>
        </p:blipFill>
        <p:spPr>
          <a:xfrm>
            <a:off x="826920" y="1700280"/>
            <a:ext cx="3714840" cy="27860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G:\Optometry\pics\pancreatic-cancer-duodenum.jpg"/>
          <p:cNvPicPr/>
          <p:nvPr/>
        </p:nvPicPr>
        <p:blipFill>
          <a:blip r:embed="rId2"/>
          <a:stretch/>
        </p:blipFill>
        <p:spPr>
          <a:xfrm>
            <a:off x="4932360" y="1700280"/>
            <a:ext cx="3673440" cy="2808360"/>
          </a:xfrm>
          <a:prstGeom prst="rect">
            <a:avLst/>
          </a:prstGeom>
          <a:ln w="0">
            <a:noFill/>
          </a:ln>
        </p:spPr>
      </p:pic>
      <p:pic>
        <p:nvPicPr>
          <p:cNvPr id="134" name="pancreas a žlučový systé430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Pa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50"/>
          <p:cNvSpPr/>
          <p:nvPr/>
        </p:nvSpPr>
        <p:spPr>
          <a:xfrm>
            <a:off x="0" y="1557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Picture 4" descr="Související obrázek"/>
          <p:cNvPicPr/>
          <p:nvPr/>
        </p:nvPicPr>
        <p:blipFill>
          <a:blip r:embed="rId1"/>
          <a:stretch/>
        </p:blipFill>
        <p:spPr>
          <a:xfrm>
            <a:off x="2124000" y="1484280"/>
            <a:ext cx="4753080" cy="3610080"/>
          </a:xfrm>
          <a:prstGeom prst="rect">
            <a:avLst/>
          </a:prstGeom>
          <a:ln w="0">
            <a:noFill/>
          </a:ln>
        </p:spPr>
      </p:pic>
      <p:pic>
        <p:nvPicPr>
          <p:cNvPr id="139" name="pancreas a žlučový systé440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75564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5% 5ti leté přezit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10-15% kurativní resekce (stadium I a II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Více jak 50% při dg. vzdálené M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Rizikové faktory prostředí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Vysoké riziko -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kuřáctví cigaret, aromatické aminy 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(chemický průmys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Střední riziko – </a:t>
            </a: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alkohol, tuk ve stravě, dlouhodobě DM, kofein, (aspirin?</a:t>
            </a: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ereditární pankreatit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SS1, délka trvání HP – v 70ti letech 70-100x vyšší relativní r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Chronická pankreatit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Ne příliš častou příčinou Pan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PM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Times New Roman"/>
              </a:rPr>
              <a:t>Premalignita, resekce je metodou vol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Neoplazie pankreat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50"/>
          <p:cNvSpPr/>
          <p:nvPr/>
        </p:nvSpPr>
        <p:spPr>
          <a:xfrm>
            <a:off x="-9360" y="15145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4" name="pancreas a žlučový systé441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50"/>
          <p:cNvSpPr/>
          <p:nvPr/>
        </p:nvSpPr>
        <p:spPr>
          <a:xfrm>
            <a:off x="0" y="1628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85800" y="18572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iabetes melli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Více jak 50% pacientů s PanCa má DM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 IDDM+NIDDM. Dg DM často v časové souvislosti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 let do Pan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Dědičn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6-8% PanCa pacientů má příbuzného 1. stupně s PanC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. Pacient s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2 a více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PanCa příbuznými 1. stupně má zvýšené relativní riziko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18-57krá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Syndromy asociované s PanCa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– Peutz Jeghers, HNCC, mnohočetný melanom, BRCA2. Screening - v kolika letech ?, co ? (CT, EUS, CA 19-9, KR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ancreas a žlučový systé442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cs-CZ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50"/>
          <p:cNvSpPr/>
          <p:nvPr/>
        </p:nvSpPr>
        <p:spPr>
          <a:xfrm>
            <a:off x="0" y="1628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70% duktálních adenoCa – cap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TS – játra, plíce, nadledviny, ledviny, kosti, CNS, kůž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g.-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ikterus(50%, nebolestivý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bolest(80%, do zad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), váhový úbytek, pocit časné sytos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Markery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– CA 19-9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(sens 70%, spec 87%), 70U/ml, i biliopathie. 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KRAS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– také u C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1" lang="cs-CZ" sz="2000" spc="-1" strike="noStrike">
                <a:solidFill>
                  <a:srgbClr val="000000"/>
                </a:solidFill>
                <a:latin typeface="Times New Roman"/>
              </a:rPr>
              <a:t>pancreas protocol CT“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sensitivita 85%, EUS sensitivita 97%; EUS FNAB/CT perkutánní biops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ancreas a žlučový systé443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75564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RCA1, BRCA2, CDKN2A, PALB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Frequencies of BRCA1 BRCA2 CDKN2A and PALB2 Germline Mutations in Familial Pancreatic Cancer (FPC): A PA CGENE Stu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Zhen DB, Rabe KG, Gallinger S, Syngal S, Schwartz A G, Goggins MG, Hruban RH, Cote ML, Moyes K*, Wenstrup RJ*, Hartman A-R*, Seminara D, Klein A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lang="cs-CZ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Petersen GM. (*Myriad Genetics). American Society of Human Genetics Annual Meeting P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Společné testování mutací/polymorphismů genů pro Pan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50"/>
          <p:cNvSpPr/>
          <p:nvPr/>
        </p:nvSpPr>
        <p:spPr>
          <a:xfrm>
            <a:off x="0" y="2637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7" descr="G:\Olomouc XII2015 přednáška\Neuromodulation and other Ts of advanced PD\pics\avvalimento.jpg"/>
          <p:cNvPicPr/>
          <p:nvPr/>
        </p:nvPicPr>
        <p:blipFill>
          <a:blip r:embed="rId1"/>
          <a:stretch/>
        </p:blipFill>
        <p:spPr>
          <a:xfrm>
            <a:off x="6227640" y="1773360"/>
            <a:ext cx="1152720" cy="8636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G:\Olomouc XII2015 přednáška\Neuromodulation and other Ts of advanced PD\pics\imagescart.jpg"/>
          <p:cNvPicPr/>
          <p:nvPr/>
        </p:nvPicPr>
        <p:blipFill>
          <a:blip r:embed="rId2"/>
          <a:stretch/>
        </p:blipFill>
        <p:spPr>
          <a:xfrm>
            <a:off x="6227640" y="4149720"/>
            <a:ext cx="1376640" cy="1366920"/>
          </a:xfrm>
          <a:prstGeom prst="rect">
            <a:avLst/>
          </a:prstGeom>
          <a:ln w="0">
            <a:noFill/>
          </a:ln>
        </p:spPr>
      </p:pic>
      <p:pic>
        <p:nvPicPr>
          <p:cNvPr id="161" name="pancreas a žlučový systé445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1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Cholecystolithiasis. Žlučník a nemoci extrahepatálního žlučového strom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5"/>
          <p:cNvSpPr/>
          <p:nvPr/>
        </p:nvSpPr>
        <p:spPr>
          <a:xfrm>
            <a:off x="0" y="1773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0"/>
          <p:cNvSpPr/>
          <p:nvPr/>
        </p:nvSpPr>
        <p:spPr>
          <a:xfrm>
            <a:off x="0" y="4365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2" descr="G:\Optometry\pics\200711131434_46780_000.jpg"/>
          <p:cNvPicPr/>
          <p:nvPr/>
        </p:nvPicPr>
        <p:blipFill>
          <a:blip r:embed="rId1"/>
          <a:stretch/>
        </p:blipFill>
        <p:spPr>
          <a:xfrm>
            <a:off x="1763640" y="4221000"/>
            <a:ext cx="2959200" cy="2303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G:\Optometry\pics\HPB.jpg"/>
          <p:cNvPicPr/>
          <p:nvPr/>
        </p:nvPicPr>
        <p:blipFill>
          <a:blip r:embed="rId2"/>
          <a:stretch/>
        </p:blipFill>
        <p:spPr>
          <a:xfrm>
            <a:off x="3419640" y="2060640"/>
            <a:ext cx="2581200" cy="1771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" descr="G:\Optometry\pics\gallstones.jpg"/>
          <p:cNvPicPr/>
          <p:nvPr/>
        </p:nvPicPr>
        <p:blipFill>
          <a:blip r:embed="rId3"/>
          <a:stretch/>
        </p:blipFill>
        <p:spPr>
          <a:xfrm>
            <a:off x="1042920" y="2421000"/>
            <a:ext cx="2035080" cy="13651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G:\Optometry\pics\ERCP-1.jpg"/>
          <p:cNvPicPr/>
          <p:nvPr/>
        </p:nvPicPr>
        <p:blipFill>
          <a:blip r:embed="rId4"/>
          <a:stretch/>
        </p:blipFill>
        <p:spPr>
          <a:xfrm>
            <a:off x="6443640" y="1700280"/>
            <a:ext cx="1428840" cy="2114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G:\Optometry\pics\761739-fig1.jpg"/>
          <p:cNvPicPr/>
          <p:nvPr/>
        </p:nvPicPr>
        <p:blipFill>
          <a:blip r:embed="rId5"/>
          <a:stretch/>
        </p:blipFill>
        <p:spPr>
          <a:xfrm>
            <a:off x="5508720" y="4581360"/>
            <a:ext cx="2255760" cy="159408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684000" y="162864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Žlučové kam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S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ancreas a žlučový systé438.wav" descr=""/>
          <p:cNvPicPr/>
          <p:nvPr/>
        </p:nvPicPr>
        <p:blipFill>
          <a:blip r:embed="rId6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Zástupný symbol pro obsah 8" descr="think positive.jpg"/>
          <p:cNvPicPr/>
          <p:nvPr/>
        </p:nvPicPr>
        <p:blipFill>
          <a:blip r:embed="rId1"/>
          <a:stretch/>
        </p:blipFill>
        <p:spPr>
          <a:xfrm>
            <a:off x="3276720" y="2637000"/>
            <a:ext cx="2619360" cy="1752480"/>
          </a:xfrm>
          <a:prstGeom prst="rect">
            <a:avLst/>
          </a:prstGeom>
          <a:ln w="0">
            <a:noFill/>
          </a:ln>
        </p:spPr>
      </p:pic>
      <p:sp>
        <p:nvSpPr>
          <p:cNvPr id="163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utoShape 45"/>
          <p:cNvSpPr/>
          <p:nvPr/>
        </p:nvSpPr>
        <p:spPr>
          <a:xfrm>
            <a:off x="0" y="2133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50"/>
          <p:cNvSpPr/>
          <p:nvPr/>
        </p:nvSpPr>
        <p:spPr>
          <a:xfrm>
            <a:off x="0" y="4941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54"/>
          <p:cNvSpPr/>
          <p:nvPr/>
        </p:nvSpPr>
        <p:spPr>
          <a:xfrm>
            <a:off x="0" y="3645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ancreas a žlučový systé41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Nádory jater a žlučových c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611280" y="126828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epatocelulární karcinom (HC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BV, HCV, alkohol, hemochromatoza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 antritrypsin deficience, léčba androgeny a estrog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sekce, Ci- transplantace (1 do 5cm, 3 do 3cm každý), chemoembolizace, kryoterapie, RFA, CHT – multikinase inhibitor sorafen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olangiocarci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C (muž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x PBC že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45"/>
          <p:cNvSpPr/>
          <p:nvPr/>
        </p:nvSpPr>
        <p:spPr>
          <a:xfrm>
            <a:off x="0" y="1844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54"/>
          <p:cNvSpPr/>
          <p:nvPr/>
        </p:nvSpPr>
        <p:spPr>
          <a:xfrm>
            <a:off x="0" y="4221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7" descr="G:\Optometry\pics\200710291022_14392_000.jpg"/>
          <p:cNvPicPr/>
          <p:nvPr/>
        </p:nvPicPr>
        <p:blipFill>
          <a:blip r:embed="rId1"/>
          <a:stretch/>
        </p:blipFill>
        <p:spPr>
          <a:xfrm>
            <a:off x="6875640" y="981000"/>
            <a:ext cx="1736640" cy="1152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G:\Optometry\pics\200803061149_00324_000.jpg"/>
          <p:cNvPicPr/>
          <p:nvPr/>
        </p:nvPicPr>
        <p:blipFill>
          <a:blip r:embed="rId2"/>
          <a:stretch/>
        </p:blipFill>
        <p:spPr>
          <a:xfrm>
            <a:off x="2556000" y="4653000"/>
            <a:ext cx="2950920" cy="1657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G:\Optometry\pics\ncpgasthep0389-f1.jpg"/>
          <p:cNvPicPr/>
          <p:nvPr/>
        </p:nvPicPr>
        <p:blipFill>
          <a:blip r:embed="rId3"/>
          <a:stretch/>
        </p:blipFill>
        <p:spPr>
          <a:xfrm>
            <a:off x="6084720" y="3860640"/>
            <a:ext cx="2206800" cy="2448000"/>
          </a:xfrm>
          <a:prstGeom prst="rect">
            <a:avLst/>
          </a:prstGeom>
          <a:ln w="0">
            <a:noFill/>
          </a:ln>
        </p:spPr>
      </p:pic>
      <p:pic>
        <p:nvPicPr>
          <p:cNvPr id="66" name="pancreas a žlučový systé439.wav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6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kutní a chronická pankreatiti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126828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kutn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ronick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V tekutiny, ATB                                  pancreatické enzym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4"/>
          <p:cNvSpPr/>
          <p:nvPr/>
        </p:nvSpPr>
        <p:spPr>
          <a:xfrm>
            <a:off x="0" y="1484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8" descr="G:\Optometry\pics\Pancreas Anatomy.png"/>
          <p:cNvPicPr/>
          <p:nvPr/>
        </p:nvPicPr>
        <p:blipFill>
          <a:blip r:embed="rId1"/>
          <a:stretch/>
        </p:blipFill>
        <p:spPr>
          <a:xfrm>
            <a:off x="2700360" y="1989000"/>
            <a:ext cx="3200400" cy="2675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G:\Optometry\pics\app02-slides-ch5_slide_04.jpg"/>
          <p:cNvPicPr/>
          <p:nvPr/>
        </p:nvPicPr>
        <p:blipFill>
          <a:blip r:embed="rId2"/>
          <a:stretch/>
        </p:blipFill>
        <p:spPr>
          <a:xfrm>
            <a:off x="468360" y="3429000"/>
            <a:ext cx="1706400" cy="9604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1" descr="G:\Optometry\pics\AP.jpg"/>
          <p:cNvPicPr/>
          <p:nvPr/>
        </p:nvPicPr>
        <p:blipFill>
          <a:blip r:embed="rId3"/>
          <a:stretch/>
        </p:blipFill>
        <p:spPr>
          <a:xfrm>
            <a:off x="250920" y="1844640"/>
            <a:ext cx="2201760" cy="12970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2" descr="G:\Optometry\pics\17953tn.jpg"/>
          <p:cNvPicPr/>
          <p:nvPr/>
        </p:nvPicPr>
        <p:blipFill>
          <a:blip r:embed="rId4"/>
          <a:stretch/>
        </p:blipFill>
        <p:spPr>
          <a:xfrm>
            <a:off x="6588000" y="3645000"/>
            <a:ext cx="1633680" cy="11523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3" descr="G:\Optometry\pics\fig1_5.jpg"/>
          <p:cNvPicPr/>
          <p:nvPr/>
        </p:nvPicPr>
        <p:blipFill>
          <a:blip r:embed="rId5"/>
          <a:stretch/>
        </p:blipFill>
        <p:spPr>
          <a:xfrm>
            <a:off x="6156360" y="2060640"/>
            <a:ext cx="2652840" cy="13795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54"/>
          <p:cNvSpPr/>
          <p:nvPr/>
        </p:nvSpPr>
        <p:spPr>
          <a:xfrm>
            <a:off x="0" y="4941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ancreas a žlučový systé431.wav" descr=""/>
          <p:cNvPicPr/>
          <p:nvPr/>
        </p:nvPicPr>
        <p:blipFill>
          <a:blip r:embed="rId6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Akutní pankreatit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50"/>
          <p:cNvSpPr/>
          <p:nvPr/>
        </p:nvSpPr>
        <p:spPr>
          <a:xfrm>
            <a:off x="0" y="2276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2" descr="Související obrázek"/>
          <p:cNvPicPr/>
          <p:nvPr/>
        </p:nvPicPr>
        <p:blipFill>
          <a:blip r:embed="rId1"/>
          <a:stretch/>
        </p:blipFill>
        <p:spPr>
          <a:xfrm>
            <a:off x="1187280" y="1916280"/>
            <a:ext cx="6562800" cy="2409480"/>
          </a:xfrm>
          <a:prstGeom prst="rect">
            <a:avLst/>
          </a:prstGeom>
          <a:ln w="0">
            <a:noFill/>
          </a:ln>
        </p:spPr>
      </p:pic>
      <p:pic>
        <p:nvPicPr>
          <p:cNvPr id="82" name="pancreas a žlučový systé446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Zánětlivé onemocně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ilná bolest bři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ystemové a lokoregionální zánětlivé komplik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ná diagno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ná intenzivní léčba těžké pankreatiti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dhalení příčiny – prevence reku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Akutní pankreatit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50"/>
          <p:cNvSpPr/>
          <p:nvPr/>
        </p:nvSpPr>
        <p:spPr>
          <a:xfrm>
            <a:off x="0" y="1628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0" descr="G:\Neuromodulation and other Ts of advanced PD\15117910-3d-people-man-person-running-out-of-time-A-clock-Stock-Photo.jpg"/>
          <p:cNvPicPr/>
          <p:nvPr/>
        </p:nvPicPr>
        <p:blipFill>
          <a:blip r:embed="rId1"/>
          <a:stretch/>
        </p:blipFill>
        <p:spPr>
          <a:xfrm>
            <a:off x="6732720" y="3500280"/>
            <a:ext cx="1325520" cy="1368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G:\Neuromodulation and other Ts of advanced PD\3dw_barella.jpeg"/>
          <p:cNvPicPr/>
          <p:nvPr/>
        </p:nvPicPr>
        <p:blipFill>
          <a:blip r:embed="rId2"/>
          <a:stretch/>
        </p:blipFill>
        <p:spPr>
          <a:xfrm>
            <a:off x="6732720" y="1341360"/>
            <a:ext cx="1527120" cy="954000"/>
          </a:xfrm>
          <a:prstGeom prst="rect">
            <a:avLst/>
          </a:prstGeom>
          <a:ln w="0">
            <a:noFill/>
          </a:ln>
        </p:spPr>
      </p:pic>
      <p:pic>
        <p:nvPicPr>
          <p:cNvPr id="89" name="pancreas a žlučový systé447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adekvátní aktivace trypsinu – aktivace trávicích enzymů- intracelulární poškoz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0 % těžká pankreatitida…časná fáze = SIRS, orgánové selhání (hypotenze, selhání ledvin, ARDS), nekroza pancrea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orbidita, mortalita: časná…SIRS, po 10-14 dnech – nekroza a infek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50"/>
          <p:cNvSpPr/>
          <p:nvPr/>
        </p:nvSpPr>
        <p:spPr>
          <a:xfrm>
            <a:off x="0" y="1628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4" descr="G:\Neuromodulation and other Ts of advanced PD\k5642522.jpg"/>
          <p:cNvPicPr/>
          <p:nvPr/>
        </p:nvPicPr>
        <p:blipFill>
          <a:blip r:embed="rId1"/>
          <a:stretch/>
        </p:blipFill>
        <p:spPr>
          <a:xfrm>
            <a:off x="6227640" y="4221000"/>
            <a:ext cx="1497240" cy="1224000"/>
          </a:xfrm>
          <a:prstGeom prst="rect">
            <a:avLst/>
          </a:prstGeom>
          <a:ln w="0">
            <a:noFill/>
          </a:ln>
        </p:spPr>
      </p:pic>
      <p:pic>
        <p:nvPicPr>
          <p:cNvPr id="95" name="pancreas a žlučový systé44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75564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iff. dg AP – mesenterická ischemie a infarkt, perforovaný peptický vřed, symptomatická cholecystolithiasa, dissekující AA, obstrukce střeva, AIM spodní stě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Diagnoza AP (2 ze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Bolest břicha odpovídající akutní pankreatitid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S- AMS/S-LPS 3x horní hranice normy (AMS&gt;5, LPS&gt;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AP na CT, UZ, M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…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čili dg lze bez zobraz. metod, bez anamnezy (amnezi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50"/>
          <p:cNvSpPr/>
          <p:nvPr/>
        </p:nvSpPr>
        <p:spPr>
          <a:xfrm>
            <a:off x="0" y="1628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10" descr="G:\Neuromodulation and other Ts of advanced PD\imagescart.jpg"/>
          <p:cNvPicPr/>
          <p:nvPr/>
        </p:nvPicPr>
        <p:blipFill>
          <a:blip r:embed="rId1"/>
          <a:stretch/>
        </p:blipFill>
        <p:spPr>
          <a:xfrm>
            <a:off x="6156360" y="5013360"/>
            <a:ext cx="1230120" cy="1224000"/>
          </a:xfrm>
          <a:prstGeom prst="rect">
            <a:avLst/>
          </a:prstGeom>
          <a:ln w="0">
            <a:noFill/>
          </a:ln>
        </p:spPr>
      </p:pic>
      <p:pic>
        <p:nvPicPr>
          <p:cNvPr id="101" name="pancreas a žlučový systé449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Chronická pankreatit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50"/>
          <p:cNvSpPr/>
          <p:nvPr/>
        </p:nvSpPr>
        <p:spPr>
          <a:xfrm>
            <a:off x="0" y="2637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9" descr="Výsledek obrázku pro chronická pankreatitida"/>
          <p:cNvPicPr/>
          <p:nvPr/>
        </p:nvPicPr>
        <p:blipFill>
          <a:blip r:embed="rId1"/>
          <a:stretch/>
        </p:blipFill>
        <p:spPr>
          <a:xfrm>
            <a:off x="2124000" y="2637000"/>
            <a:ext cx="4629240" cy="2160360"/>
          </a:xfrm>
          <a:prstGeom prst="rect">
            <a:avLst/>
          </a:prstGeom>
          <a:ln w="0">
            <a:noFill/>
          </a:ln>
        </p:spPr>
      </p:pic>
      <p:pic>
        <p:nvPicPr>
          <p:cNvPr id="106" name="pancreas a žlučový systé450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9:19:25Z</dcterms:created>
  <dc:creator>x</dc:creator>
  <dc:description/>
  <dc:language>en-US</dc:language>
  <cp:lastModifiedBy>Uživatel</cp:lastModifiedBy>
  <dcterms:modified xsi:type="dcterms:W3CDTF">2021-05-09T10:28:37Z</dcterms:modified>
  <cp:revision>448</cp:revision>
  <dc:subject/>
  <dc:title>Prezentace aplikace PowerPoint</dc:title>
</cp:coreProperties>
</file>