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9D97-0A90-4401-B96A-935BEBE71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2228-C567-4C2B-861A-19C6ABD5C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CD43-2C99-465A-9DEC-ECFAECC6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FE2E-4BE0-408D-A791-7D2FF82B2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455C-D399-41D3-A04F-8D478B7B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6789-6173-4813-AACF-F4E8CB2E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29AB-783C-44DB-B477-C23C19864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C1A4-2471-492A-B628-47DE72A75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95E2-CB02-4F86-8E4A-C6A423A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A5B7-DB8B-4EFF-A9CF-A0B7B0F61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BF85-8515-486D-8342-6B6E9C1A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FBF1-5BE4-4E7C-9098-D8577BA60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19b90"/>
            </a:gs>
            <a:gs pos="100000">
              <a:srgbClr val="c9e9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41D4C-9C88-43EC-8FD6-6A428761DE8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5280" y="98064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Gastroenterologie</a:t>
            </a:r>
            <a:br>
              <a:rPr sz="3200"/>
            </a:b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Játra</a:t>
            </a:r>
            <a:br>
              <a:rPr sz="3200"/>
            </a:br>
            <a:br>
              <a:rPr sz="40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Hana Nechutová</a:t>
            </a:r>
            <a:br>
              <a:rPr sz="1600"/>
            </a:b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II Interní klinika, Fakultní nemocnice U svaté Anny, Brno</a:t>
            </a:r>
            <a:br>
              <a:rPr sz="1600"/>
            </a:b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Lékařská fakulta, Masarykova univerzita, Brno</a:t>
            </a:r>
            <a:br>
              <a:rPr sz="24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Picture 6" descr="C:\Users\Hankanech\Desktop\FNUSA.png"/>
          <p:cNvPicPr/>
          <p:nvPr/>
        </p:nvPicPr>
        <p:blipFill>
          <a:blip r:embed="rId1"/>
          <a:stretch/>
        </p:blipFill>
        <p:spPr>
          <a:xfrm>
            <a:off x="826920" y="1268280"/>
            <a:ext cx="1514520" cy="693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6300720" y="1268280"/>
            <a:ext cx="2408400" cy="7128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Výsledek obrázku pro kantorek játra"/>
          <p:cNvPicPr/>
          <p:nvPr/>
        </p:nvPicPr>
        <p:blipFill>
          <a:blip r:embed="rId3"/>
          <a:stretch/>
        </p:blipFill>
        <p:spPr>
          <a:xfrm>
            <a:off x="2627280" y="3860640"/>
            <a:ext cx="3809880" cy="2590920"/>
          </a:xfrm>
          <a:prstGeom prst="rect">
            <a:avLst/>
          </a:prstGeom>
          <a:ln w="0">
            <a:noFill/>
          </a:ln>
        </p:spPr>
      </p:pic>
      <p:pic>
        <p:nvPicPr>
          <p:cNvPr id="46" name="játra2021 [Režim kompati437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Virová hepat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AV, HE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fecal-oral, akutní (ne chronická) hepatit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cestovatelé, endemická (Asia, Africa, Mexico), těžší, především v těhotenství (mortalita…20%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hřipce podobné příznaky, nevolnost, malátnost, zvýšená teplota, únava, RUQ bolest, žloutenka, svědě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ádná specifická léčba, pouze podpůrn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AV vakcinac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cestovatelé), v současnosti HEV není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AV immunoglobuli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postexpoziční profyla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45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50"/>
          <p:cNvSpPr/>
          <p:nvPr/>
        </p:nvSpPr>
        <p:spPr>
          <a:xfrm>
            <a:off x="12600" y="479268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54"/>
          <p:cNvSpPr/>
          <p:nvPr/>
        </p:nvSpPr>
        <p:spPr>
          <a:xfrm>
            <a:off x="-11160" y="38736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játra2021 [Režim kompati42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Virová hepat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79320" y="105264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BV, HD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řenos- perinatální ( nejčastěji), pohlavní, kož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 HBV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17% cirrhosis, 12% H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DV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vyžaduje HBV koinfek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BV Ag a Ab serologie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s.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tivita nemo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: expozice/jehla injekční stříkačky- profylaxe – HBIG hepatitis B immune globulin během 24 hodin společně s vakcíno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: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ucleosidová analoga, pegylovaný IFN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BV cirrhosis – dekompenzovaná – transplantace j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45"/>
          <p:cNvSpPr/>
          <p:nvPr/>
        </p:nvSpPr>
        <p:spPr>
          <a:xfrm>
            <a:off x="7920" y="16160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50"/>
          <p:cNvSpPr/>
          <p:nvPr/>
        </p:nvSpPr>
        <p:spPr>
          <a:xfrm>
            <a:off x="0" y="3357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54"/>
          <p:cNvSpPr/>
          <p:nvPr/>
        </p:nvSpPr>
        <p:spPr>
          <a:xfrm>
            <a:off x="0" y="4508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2" descr="G:\Optometry\pics\200710291246_23189_000.jpg"/>
          <p:cNvPicPr/>
          <p:nvPr/>
        </p:nvPicPr>
        <p:blipFill>
          <a:blip r:embed="rId1"/>
          <a:stretch/>
        </p:blipFill>
        <p:spPr>
          <a:xfrm>
            <a:off x="7108920" y="641520"/>
            <a:ext cx="1766880" cy="2282760"/>
          </a:xfrm>
          <a:prstGeom prst="rect">
            <a:avLst/>
          </a:prstGeom>
          <a:ln w="0">
            <a:noFill/>
          </a:ln>
        </p:spPr>
      </p:pic>
      <p:pic>
        <p:nvPicPr>
          <p:cNvPr id="61" name="játra2021 [Režim kompati43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2" descr="G:\Optometry\pics\hepatitis-B-1.jpg"/>
          <p:cNvPicPr/>
          <p:nvPr/>
        </p:nvPicPr>
        <p:blipFill>
          <a:blip r:embed="rId1"/>
          <a:stretch/>
        </p:blipFill>
        <p:spPr>
          <a:xfrm>
            <a:off x="539640" y="1341360"/>
            <a:ext cx="3240360" cy="43196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G:\Optometry\pics\needle-stick-injury-be-aware-6-638.jpg"/>
          <p:cNvPicPr/>
          <p:nvPr/>
        </p:nvPicPr>
        <p:blipFill>
          <a:blip r:embed="rId2"/>
          <a:stretch/>
        </p:blipFill>
        <p:spPr>
          <a:xfrm>
            <a:off x="4140360" y="1773360"/>
            <a:ext cx="4506840" cy="3384360"/>
          </a:xfrm>
          <a:prstGeom prst="rect">
            <a:avLst/>
          </a:prstGeom>
          <a:ln w="0">
            <a:noFill/>
          </a:ln>
        </p:spPr>
      </p:pic>
      <p:pic>
        <p:nvPicPr>
          <p:cNvPr id="65" name="játra2021 [Režim kompati433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5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Virová hepatiti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685800" y="90792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C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Perkutánní a slizniční expozice kr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Krevní transfuze před 1992, IV užívání drog, náhodná expozice (injekční jeh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pontánní odeznění 15-45%, 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ita – zbývající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 Cirrhosis 20-30%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CC u 1-4% cirhotik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éč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/injekční jehla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– vyšetřit HCV protilátky, HCV PCR, ALT, AST. Pegylovaný IFN za 12 týdnů, pokud spontánně neodezní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ronická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– ribavirin, pegylovaný IFN, telaprevir, boceprev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0"/>
          <p:cNvSpPr/>
          <p:nvPr/>
        </p:nvSpPr>
        <p:spPr>
          <a:xfrm>
            <a:off x="0" y="35528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54"/>
          <p:cNvSpPr/>
          <p:nvPr/>
        </p:nvSpPr>
        <p:spPr>
          <a:xfrm>
            <a:off x="0" y="19242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játra2021 [Režim kompati436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1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Alkoholové poškození j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4000" y="1268280"/>
            <a:ext cx="79959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ritical intake treshold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80g/den m…8 dcl vína, 20g/den ž…2 dcl ví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ženy, AfroAmeričané, špatný nutriční stav, infekce HBV nebo HCV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Ztukovatělá játra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steatosi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,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kutní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koholická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 hepatiti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alcoholic (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Laënnec´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irrhosis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+ polyarthr., osteop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pato- splenomegalie, kachexie, žloutenka,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avoučkové teleangiektazie, Dupuytrenovy kontroaktury…gynekomastie, testiculární atrofi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lkoholová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abstinenc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zlepšení </a:t>
            </a: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nut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patitis – GCS, dlouhodobě – antioxidanty, silymarin, A,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45"/>
          <p:cNvSpPr/>
          <p:nvPr/>
        </p:nvSpPr>
        <p:spPr>
          <a:xfrm>
            <a:off x="0" y="1413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50"/>
          <p:cNvSpPr/>
          <p:nvPr/>
        </p:nvSpPr>
        <p:spPr>
          <a:xfrm>
            <a:off x="0" y="256536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54"/>
          <p:cNvSpPr/>
          <p:nvPr/>
        </p:nvSpPr>
        <p:spPr>
          <a:xfrm>
            <a:off x="0" y="335772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icture 2" descr="G:\Optometry\pics\alcoholic.png"/>
          <p:cNvPicPr/>
          <p:nvPr/>
        </p:nvPicPr>
        <p:blipFill>
          <a:blip r:embed="rId1"/>
          <a:stretch/>
        </p:blipFill>
        <p:spPr>
          <a:xfrm>
            <a:off x="7380360" y="260280"/>
            <a:ext cx="1361880" cy="9860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G:\Optometry\pics\liverfactory.jpg"/>
          <p:cNvPicPr/>
          <p:nvPr/>
        </p:nvPicPr>
        <p:blipFill>
          <a:blip r:embed="rId2"/>
          <a:stretch/>
        </p:blipFill>
        <p:spPr>
          <a:xfrm>
            <a:off x="6372360" y="5445000"/>
            <a:ext cx="1407960" cy="10083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G:\Optometry\pics\silymarin_vizualizace_final02.png"/>
          <p:cNvPicPr/>
          <p:nvPr/>
        </p:nvPicPr>
        <p:blipFill>
          <a:blip r:embed="rId3"/>
          <a:stretch/>
        </p:blipFill>
        <p:spPr>
          <a:xfrm>
            <a:off x="4500720" y="5300640"/>
            <a:ext cx="1042920" cy="1252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G:\Optometry\pics\7390181.jpg"/>
          <p:cNvPicPr/>
          <p:nvPr/>
        </p:nvPicPr>
        <p:blipFill>
          <a:blip r:embed="rId4"/>
          <a:stretch/>
        </p:blipFill>
        <p:spPr>
          <a:xfrm>
            <a:off x="3276720" y="5516640"/>
            <a:ext cx="761760" cy="7952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G:\Optometry\pics\LiverDamage.jpg"/>
          <p:cNvPicPr/>
          <p:nvPr/>
        </p:nvPicPr>
        <p:blipFill>
          <a:blip r:embed="rId5"/>
          <a:stretch/>
        </p:blipFill>
        <p:spPr>
          <a:xfrm>
            <a:off x="1116000" y="5445000"/>
            <a:ext cx="1574640" cy="952560"/>
          </a:xfrm>
          <a:prstGeom prst="rect">
            <a:avLst/>
          </a:prstGeom>
          <a:ln w="0">
            <a:noFill/>
          </a:ln>
        </p:spPr>
      </p:pic>
      <p:pic>
        <p:nvPicPr>
          <p:cNvPr id="84" name="játra2021 [Režim kompati434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1" fill="hold"/>
                                        <p:tgtEl>
                                          <p:spTgt spid="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Cirhoza j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2" descr="G:\Optometry\pics\Alcohol-Stages.jpg"/>
          <p:cNvPicPr/>
          <p:nvPr/>
        </p:nvPicPr>
        <p:blipFill>
          <a:blip r:embed="rId1"/>
          <a:stretch/>
        </p:blipFill>
        <p:spPr>
          <a:xfrm>
            <a:off x="539640" y="3429000"/>
            <a:ext cx="3548160" cy="29541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3" descr="G:\Optometry\pics\508612.jpg"/>
          <p:cNvPicPr/>
          <p:nvPr/>
        </p:nvPicPr>
        <p:blipFill>
          <a:blip r:embed="rId2"/>
          <a:stretch/>
        </p:blipFill>
        <p:spPr>
          <a:xfrm>
            <a:off x="1332000" y="1557360"/>
            <a:ext cx="2052720" cy="1366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G:\Optometry\pics\index.jpg"/>
          <p:cNvPicPr/>
          <p:nvPr/>
        </p:nvPicPr>
        <p:blipFill>
          <a:blip r:embed="rId3"/>
          <a:stretch/>
        </p:blipFill>
        <p:spPr>
          <a:xfrm>
            <a:off x="5219640" y="5300640"/>
            <a:ext cx="2062080" cy="10080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G:\Optometry\pics\cirrhosis-weight-loss-jaundice-300x194.jpg"/>
          <p:cNvPicPr/>
          <p:nvPr/>
        </p:nvPicPr>
        <p:blipFill>
          <a:blip r:embed="rId4"/>
          <a:stretch/>
        </p:blipFill>
        <p:spPr>
          <a:xfrm>
            <a:off x="6948360" y="404640"/>
            <a:ext cx="1165320" cy="754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G:\Optometry\pics\cirrhosis_5.jpg"/>
          <p:cNvPicPr/>
          <p:nvPr/>
        </p:nvPicPr>
        <p:blipFill>
          <a:blip r:embed="rId5"/>
          <a:stretch/>
        </p:blipFill>
        <p:spPr>
          <a:xfrm>
            <a:off x="4500720" y="1484280"/>
            <a:ext cx="3333600" cy="3448080"/>
          </a:xfrm>
          <a:prstGeom prst="rect">
            <a:avLst/>
          </a:prstGeom>
          <a:ln w="0">
            <a:noFill/>
          </a:ln>
        </p:spPr>
      </p:pic>
      <p:pic>
        <p:nvPicPr>
          <p:cNvPr id="92" name="játra2021 [Režim kompati427.wav" descr=""/>
          <p:cNvPicPr/>
          <p:nvPr/>
        </p:nvPicPr>
        <p:blipFill>
          <a:blip r:embed="rId6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Times New Roman"/>
              </a:rPr>
              <a:t>Nádory jater a žlučových ce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11280" y="1268280"/>
            <a:ext cx="7996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Hepatocelulární karcinom (HC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BV, HCV, alkohol, hemochromatoza, </a:t>
            </a:r>
            <a:r>
              <a:rPr b="0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1 antritrypsin deficience, léčba androgeny a estroge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Resekce, Ci- transplantace (1 do 5cm, 3 do 3cm každý), chemoembolizace, kryoterapie, RFA, CHT – multikinase inhibitor sorafen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Times New Roman"/>
              </a:rPr>
              <a:t>Cholangiocarcino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SC (muž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x PBC žen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45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4"/>
          <p:cNvSpPr/>
          <p:nvPr/>
        </p:nvSpPr>
        <p:spPr>
          <a:xfrm>
            <a:off x="0" y="422100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7" descr="G:\Optometry\pics\200710291022_14392_000.jpg"/>
          <p:cNvPicPr/>
          <p:nvPr/>
        </p:nvPicPr>
        <p:blipFill>
          <a:blip r:embed="rId1"/>
          <a:stretch/>
        </p:blipFill>
        <p:spPr>
          <a:xfrm>
            <a:off x="6875640" y="981000"/>
            <a:ext cx="1736640" cy="11527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G:\Optometry\pics\200803061149_00324_000.jpg"/>
          <p:cNvPicPr/>
          <p:nvPr/>
        </p:nvPicPr>
        <p:blipFill>
          <a:blip r:embed="rId2"/>
          <a:stretch/>
        </p:blipFill>
        <p:spPr>
          <a:xfrm>
            <a:off x="2556000" y="4653000"/>
            <a:ext cx="2950920" cy="1657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9" descr="G:\Optometry\pics\ncpgasthep0389-f1.jpg"/>
          <p:cNvPicPr/>
          <p:nvPr/>
        </p:nvPicPr>
        <p:blipFill>
          <a:blip r:embed="rId3"/>
          <a:stretch/>
        </p:blipFill>
        <p:spPr>
          <a:xfrm>
            <a:off x="6084720" y="3860640"/>
            <a:ext cx="2206800" cy="2448000"/>
          </a:xfrm>
          <a:prstGeom prst="rect">
            <a:avLst/>
          </a:prstGeom>
          <a:ln w="0">
            <a:noFill/>
          </a:ln>
        </p:spPr>
      </p:pic>
      <p:pic>
        <p:nvPicPr>
          <p:cNvPr id="101" name="játra2021 [Režim kompati424.wav" descr=""/>
          <p:cNvPicPr/>
          <p:nvPr/>
        </p:nvPicPr>
        <p:blipFill>
          <a:blip r:embed="rId4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44"/>
          <p:cNvSpPr/>
          <p:nvPr/>
        </p:nvSpPr>
        <p:spPr>
          <a:xfrm>
            <a:off x="0" y="5334120"/>
            <a:ext cx="9144000" cy="2178000"/>
          </a:xfrm>
          <a:custGeom>
            <a:avLst/>
            <a:gdLst>
              <a:gd name="textAreaLeft" fmla="*/ 0 w 9144000"/>
              <a:gd name="textAreaRight" fmla="*/ 9144360 w 9144000"/>
              <a:gd name="textAreaTop" fmla="*/ 282240 h 2178000"/>
              <a:gd name="textAreaBottom" fmla="*/ 1895760 h 21780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58ae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45"/>
          <p:cNvSpPr/>
          <p:nvPr/>
        </p:nvSpPr>
        <p:spPr>
          <a:xfrm>
            <a:off x="0" y="1844640"/>
            <a:ext cx="685800" cy="228600"/>
          </a:xfrm>
          <a:custGeom>
            <a:avLst/>
            <a:gdLst>
              <a:gd name="textAreaLeft" fmla="*/ 0 w 685800"/>
              <a:gd name="textAreaRight" fmla="*/ 686160 w 685800"/>
              <a:gd name="textAreaTop" fmla="*/ 29520 h 228600"/>
              <a:gd name="textAreaBottom" fmla="*/ 1990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436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9" descr="Výsledek obrázku pro kantorek krávy"/>
          <p:cNvPicPr/>
          <p:nvPr/>
        </p:nvPicPr>
        <p:blipFill>
          <a:blip r:embed="rId1"/>
          <a:stretch/>
        </p:blipFill>
        <p:spPr>
          <a:xfrm>
            <a:off x="2340000" y="1916280"/>
            <a:ext cx="4286160" cy="3190680"/>
          </a:xfrm>
          <a:prstGeom prst="rect">
            <a:avLst/>
          </a:prstGeom>
          <a:ln w="0">
            <a:noFill/>
          </a:ln>
        </p:spPr>
      </p:pic>
      <p:pic>
        <p:nvPicPr>
          <p:cNvPr id="106" name="játra2021 [Režim kompati41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0T09:19:25Z</dcterms:created>
  <dc:creator>x</dc:creator>
  <dc:description/>
  <dc:language>en-US</dc:language>
  <cp:lastModifiedBy>Uživatel</cp:lastModifiedBy>
  <cp:lastPrinted>2019-05-07T08:01:56Z</cp:lastPrinted>
  <dcterms:modified xsi:type="dcterms:W3CDTF">2021-05-11T18:12:00Z</dcterms:modified>
  <cp:revision>483</cp:revision>
  <dc:subject/>
  <dc:title>Prezentace aplikace PowerPoint</dc:title>
</cp:coreProperties>
</file>