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261-468D-4C4B-9708-3BDCC7D8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DE9-56C2-4178-9053-C2B19DAD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025-5440-42B2-BA3D-04A086B1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778-1302-438E-B2E0-5A2518E4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D6E9-303E-4CB3-AFBA-9E4EFE96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2DB-FD3F-461D-AF7B-A14E45BE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D3E0-F7DA-403A-BBA3-6955C892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15B6-90E4-4011-93D3-FB270293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582-94A8-451B-8F55-B616DA5E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2DDE-023F-423B-A61A-84D92433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8AF-1B79-45E5-B5F8-328353CF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664-0D1E-4F4C-8DC0-B4529CAC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9b90"/>
            </a:gs>
            <a:gs pos="100000">
              <a:srgbClr val="c9e9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213A-FFB7-4F4C-9E34-9EB78FCBDD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45"/>
          <p:cNvSpPr/>
          <p:nvPr/>
        </p:nvSpPr>
        <p:spPr>
          <a:xfrm>
            <a:off x="0" y="981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24000" y="119700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astroenter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linivka bři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Žlučový cysté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ana Nechutová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I Interní klinika, Fakultní nemocnice U svaté Anny, Brno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Lékařská fakulta, Masarykova univerzita, Brno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408040" cy="71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Hankanech\Desktop\FNUSA.png"/>
          <p:cNvPicPr/>
          <p:nvPr/>
        </p:nvPicPr>
        <p:blipFill>
          <a:blip r:embed="rId2"/>
          <a:stretch/>
        </p:blipFill>
        <p:spPr>
          <a:xfrm>
            <a:off x="684360" y="1844640"/>
            <a:ext cx="1514160" cy="693720"/>
          </a:xfrm>
          <a:prstGeom prst="rect">
            <a:avLst/>
          </a:prstGeom>
          <a:ln w="0">
            <a:noFill/>
          </a:ln>
        </p:spPr>
      </p:pic>
      <p:pic>
        <p:nvPicPr>
          <p:cNvPr id="46" name="pancreas a žlučový systé437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5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nětlivý, irreverzibilní, postupně progredující proces, postupující fibroza destruující a nahrazující vlastní exo- i endo-krinní funkční parenchym, vedoucí event. k exo a endo krinní pankreatické insuficin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gredující zánětlivé onemocnění, které může vzniknout následkem akutní, rekurentní pankretitidy, event. vzniká přímo jako chronické, progredující, irreversibilní zánětlivé onemocněn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hronická pankreatit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50"/>
          <p:cNvSpPr/>
          <p:nvPr/>
        </p:nvSpPr>
        <p:spPr>
          <a:xfrm>
            <a:off x="0" y="1557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0"/>
          <p:cNvSpPr/>
          <p:nvPr/>
        </p:nvSpPr>
        <p:spPr>
          <a:xfrm>
            <a:off x="0" y="3645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ancreas a žlučový systé451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55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alcifikující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– opak AP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traduktální kameny. Steatorhoea a DM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 většin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bstrukč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bstrukce vývodu z různé příčin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Postižení proximálně od obstrukce. Většinou bez kamenů. Po recidivách AP při parciální striktuře. Pozánětlivé stenozy po traumatické pankreatitidě. IPMN. PanCa. Symptomatické – resekce je preferován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utoimun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přítomen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bstrukční ikterus, lymfoplasmocytární infiltrát parenchymu, hvězdicovitá fibroz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Dramaticky reagující na steroidní léčbu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. Typ I – IgG4 related. Starší muži. Multiorgánový fibroinflammatorní syndrom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Také žlučovod, slinné žlázy, retroperitoneum, lymf. uzliny. Většinou obstrukční ikterus nebolestivý – obava z PanCa. Po vysazení steroidů relabující. Většinou k dlouhodobé imunosupresi a malé dávce steroidů.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yp II mladí. Pancreas specifické onemocnění. IBD. IgG4 negativ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Neutrofilní infiltrát duktálních epitelií – obstrukce duktu. Dobře reagující na steroidy, nerelabující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50"/>
          <p:cNvSpPr/>
          <p:nvPr/>
        </p:nvSpPr>
        <p:spPr>
          <a:xfrm>
            <a:off x="0" y="1557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ancreas a žlučový systé452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iagn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iopsie - hist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Pozdní stadia – kalcifikace, steatorho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CT 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kalcifikace intraduktální, parenchymové, změny ductu, atrofie pancreatu, peripankreatické tekutinové kolek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Kalcifikace nejsou diagnozou 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ERCP 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pokročilé fáze. Změny ductu a jeho větv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E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MRCP – kombinace MRCP/MRI dostačující info o pankreatu a okolí pro 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0"/>
          <p:cNvSpPr/>
          <p:nvPr/>
        </p:nvSpPr>
        <p:spPr>
          <a:xfrm>
            <a:off x="0" y="981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Výsledek obrázku pro endoscopic ultrasound"/>
          <p:cNvPicPr/>
          <p:nvPr/>
        </p:nvPicPr>
        <p:blipFill>
          <a:blip r:embed="rId1"/>
          <a:stretch/>
        </p:blipFill>
        <p:spPr>
          <a:xfrm>
            <a:off x="4572000" y="4869000"/>
            <a:ext cx="4138560" cy="1512720"/>
          </a:xfrm>
          <a:prstGeom prst="rect">
            <a:avLst/>
          </a:prstGeom>
          <a:ln w="0">
            <a:noFill/>
          </a:ln>
        </p:spPr>
      </p:pic>
      <p:pic>
        <p:nvPicPr>
          <p:cNvPr id="121" name="pancreas a žlučový systé453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unkční tes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90% pancreatu musí být zdestruováno, aby byla přítimna steatorhoe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- elastáz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malá senzitivita pro časná sta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Kli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bdominalgi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občas „burn out“ late stage - bez boles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Diabetes mellitus, steatorhoea – pozdní sta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ladí – hereditární, tropická CP. Starší – idiopatická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ropická – smrt z komplikací DM a Pa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0"/>
          <p:cNvSpPr/>
          <p:nvPr/>
        </p:nvSpPr>
        <p:spPr>
          <a:xfrm>
            <a:off x="0" y="1628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ancreas a žlučový systé454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Nádory slinivky břišn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11280" y="112536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uktální adenokarci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zd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diagnoza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elmi špatná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gnóza; chirurgie, CHT + 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45"/>
          <p:cNvSpPr/>
          <p:nvPr/>
        </p:nvSpPr>
        <p:spPr>
          <a:xfrm>
            <a:off x="0" y="1268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0"/>
          <p:cNvSpPr/>
          <p:nvPr/>
        </p:nvSpPr>
        <p:spPr>
          <a:xfrm>
            <a:off x="0" y="4797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8" descr="G:\Optometry\pics\dt_140626_pancreas_cancer_800x600.jpg"/>
          <p:cNvPicPr/>
          <p:nvPr/>
        </p:nvPicPr>
        <p:blipFill>
          <a:blip r:embed="rId1"/>
          <a:stretch/>
        </p:blipFill>
        <p:spPr>
          <a:xfrm>
            <a:off x="826920" y="170028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G:\Optometry\pics\pancreatic-cancer-duodenum.jpg"/>
          <p:cNvPicPr/>
          <p:nvPr/>
        </p:nvPicPr>
        <p:blipFill>
          <a:blip r:embed="rId2"/>
          <a:stretch/>
        </p:blipFill>
        <p:spPr>
          <a:xfrm>
            <a:off x="4932360" y="1700280"/>
            <a:ext cx="3673440" cy="2808360"/>
          </a:xfrm>
          <a:prstGeom prst="rect">
            <a:avLst/>
          </a:prstGeom>
          <a:ln w="0">
            <a:noFill/>
          </a:ln>
        </p:spPr>
      </p:pic>
      <p:pic>
        <p:nvPicPr>
          <p:cNvPr id="134" name="pancreas a žlučový systé430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50"/>
          <p:cNvSpPr/>
          <p:nvPr/>
        </p:nvSpPr>
        <p:spPr>
          <a:xfrm>
            <a:off x="0" y="1557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Související obrázek"/>
          <p:cNvPicPr/>
          <p:nvPr/>
        </p:nvPicPr>
        <p:blipFill>
          <a:blip r:embed="rId1"/>
          <a:stretch/>
        </p:blipFill>
        <p:spPr>
          <a:xfrm>
            <a:off x="2124000" y="1484280"/>
            <a:ext cx="4753080" cy="3610080"/>
          </a:xfrm>
          <a:prstGeom prst="rect">
            <a:avLst/>
          </a:prstGeom>
          <a:ln w="0">
            <a:noFill/>
          </a:ln>
        </p:spPr>
      </p:pic>
      <p:pic>
        <p:nvPicPr>
          <p:cNvPr id="139" name="pancreas a žlučový systé440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55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5% 5ti leté přezit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10-15% kurativní resekce (stadium I a 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Více jak 50% při dg. vzdálené 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izikové faktory prostřed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ysoké riziko -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uřáctví cigaret, aromatické aminy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chemický průmy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třední riziko –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lkohol, tuk ve stravě, dlouhodobě DM, kofein, (aspirin?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ereditární pankreatit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SS1, délka trvání HP – v 70ti letech 70-100x vyšší relativní 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hronická pankreatit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 příliš častou příčinou Pan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P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emalignita, resekce je metodou vol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oplazie pankreat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50"/>
          <p:cNvSpPr/>
          <p:nvPr/>
        </p:nvSpPr>
        <p:spPr>
          <a:xfrm>
            <a:off x="-9360" y="15145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ancreas a žlučový systé441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50"/>
          <p:cNvSpPr/>
          <p:nvPr/>
        </p:nvSpPr>
        <p:spPr>
          <a:xfrm>
            <a:off x="0" y="1628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iabetes melli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íce jak 50% pacientů s PanCa má D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 IDDM+NIDDM. Dg DM často v časové souvislosti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 let do Pan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ědič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6-8% PanCa pacientů má příbuzného 1. stupně s PanC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 Pacient s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 a víc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nCa příbuznými 1. stupně má zvýšené relativní riziko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8-57krá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yndromy asociované s PanCa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Peutz Jeghers, HNCC, mnohočetný melanom, BRCA2. Screening - v kolika letech ?, co ? (CT, EUS, CA 19-9, K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ancreas a žlučový systé442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50"/>
          <p:cNvSpPr/>
          <p:nvPr/>
        </p:nvSpPr>
        <p:spPr>
          <a:xfrm>
            <a:off x="0" y="1628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70% duktálních adenoCa – ca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TS – játra, plíce, nadledviny, ledviny, kosti, CNS, kůž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g.-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ikterus(50%, nebolestivý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olest(80%, do za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, váhový úbytek, pocit časné syt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rkery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– CA 19-9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sens 70%, spec 87%), 70U/ml, i biliopathie.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RA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také u C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ancreas protocol CT“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nsitivita 85%, EUS sensitivita 97%; EUS FNAB/CT perkutánní biop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ancreas a žlučový systé443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CA1, BRCA2, CDKN2A, PALB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Frequencies of BRCA1 BRCA2 CDKN2A and PALB2 Germline Mutations in Familial Pancreatic Cancer (FPC): A PA CGENE Stu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Zhen DB, Rabe KG, Gallinger S, Syngal S, Schwartz A G, Goggins MG, Hruban RH, Cote ML, Moyes K*, Wenstrup RJ*, Hartman A-R*, Seminara D, Klein 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Petersen GM. (*Myriad Genetics). American Society of Human Genetics Annual Meeting 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polečné testování mutací/polymorphismů genů pro Pa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50"/>
          <p:cNvSpPr/>
          <p:nvPr/>
        </p:nvSpPr>
        <p:spPr>
          <a:xfrm>
            <a:off x="0" y="2637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G:\Olomouc XII2015 přednáška\Neuromodulation and other Ts of advanced PD\pics\avvalimento.jpg"/>
          <p:cNvPicPr/>
          <p:nvPr/>
        </p:nvPicPr>
        <p:blipFill>
          <a:blip r:embed="rId1"/>
          <a:stretch/>
        </p:blipFill>
        <p:spPr>
          <a:xfrm>
            <a:off x="6227640" y="1773360"/>
            <a:ext cx="1152720" cy="86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G:\Olomouc XII2015 přednáška\Neuromodulation and other Ts of advanced PD\pics\imagescart.jpg"/>
          <p:cNvPicPr/>
          <p:nvPr/>
        </p:nvPicPr>
        <p:blipFill>
          <a:blip r:embed="rId2"/>
          <a:stretch/>
        </p:blipFill>
        <p:spPr>
          <a:xfrm>
            <a:off x="6227640" y="4149720"/>
            <a:ext cx="1376640" cy="1366920"/>
          </a:xfrm>
          <a:prstGeom prst="rect">
            <a:avLst/>
          </a:prstGeom>
          <a:ln w="0">
            <a:noFill/>
          </a:ln>
        </p:spPr>
      </p:pic>
      <p:pic>
        <p:nvPicPr>
          <p:cNvPr id="161" name="pancreas a žlučový systé445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Cholecystolithiasis. Žlučník a nemoci extrahepatálního žlučového strom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5"/>
          <p:cNvSpPr/>
          <p:nvPr/>
        </p:nvSpPr>
        <p:spPr>
          <a:xfrm>
            <a:off x="0" y="1773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0"/>
          <p:cNvSpPr/>
          <p:nvPr/>
        </p:nvSpPr>
        <p:spPr>
          <a:xfrm>
            <a:off x="0" y="4365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G:\Optometry\pics\200711131434_46780_000.jpg"/>
          <p:cNvPicPr/>
          <p:nvPr/>
        </p:nvPicPr>
        <p:blipFill>
          <a:blip r:embed="rId1"/>
          <a:stretch/>
        </p:blipFill>
        <p:spPr>
          <a:xfrm>
            <a:off x="1763640" y="4221000"/>
            <a:ext cx="2959200" cy="230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G:\Optometry\pics\HPB.jpg"/>
          <p:cNvPicPr/>
          <p:nvPr/>
        </p:nvPicPr>
        <p:blipFill>
          <a:blip r:embed="rId2"/>
          <a:stretch/>
        </p:blipFill>
        <p:spPr>
          <a:xfrm>
            <a:off x="3419640" y="206064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G:\Optometry\pics\gallstones.jpg"/>
          <p:cNvPicPr/>
          <p:nvPr/>
        </p:nvPicPr>
        <p:blipFill>
          <a:blip r:embed="rId3"/>
          <a:stretch/>
        </p:blipFill>
        <p:spPr>
          <a:xfrm>
            <a:off x="1042920" y="2421000"/>
            <a:ext cx="2035080" cy="136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G:\Optometry\pics\ERCP-1.jpg"/>
          <p:cNvPicPr/>
          <p:nvPr/>
        </p:nvPicPr>
        <p:blipFill>
          <a:blip r:embed="rId4"/>
          <a:stretch/>
        </p:blipFill>
        <p:spPr>
          <a:xfrm>
            <a:off x="6443640" y="1700280"/>
            <a:ext cx="1428840" cy="211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G:\Optometry\pics\761739-fig1.jpg"/>
          <p:cNvPicPr/>
          <p:nvPr/>
        </p:nvPicPr>
        <p:blipFill>
          <a:blip r:embed="rId5"/>
          <a:stretch/>
        </p:blipFill>
        <p:spPr>
          <a:xfrm>
            <a:off x="5508720" y="4581360"/>
            <a:ext cx="2255760" cy="159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684000" y="162864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lučové kam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ancreas a žlučový systé438.wav" descr=""/>
          <p:cNvPicPr/>
          <p:nvPr/>
        </p:nvPicPr>
        <p:blipFill>
          <a:blip r:embed="rId6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Zástupný symbol pro obsah 8" descr="think positive.jpg"/>
          <p:cNvPicPr/>
          <p:nvPr/>
        </p:nvPicPr>
        <p:blipFill>
          <a:blip r:embed="rId1"/>
          <a:stretch/>
        </p:blipFill>
        <p:spPr>
          <a:xfrm>
            <a:off x="3276720" y="2637000"/>
            <a:ext cx="2619360" cy="17524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5"/>
          <p:cNvSpPr/>
          <p:nvPr/>
        </p:nvSpPr>
        <p:spPr>
          <a:xfrm>
            <a:off x="0" y="2133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50"/>
          <p:cNvSpPr/>
          <p:nvPr/>
        </p:nvSpPr>
        <p:spPr>
          <a:xfrm>
            <a:off x="0" y="4941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54"/>
          <p:cNvSpPr/>
          <p:nvPr/>
        </p:nvSpPr>
        <p:spPr>
          <a:xfrm>
            <a:off x="0" y="3645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ancreas a žlučový systé41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Nádory jater a žlučových c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280" y="126828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epatocelulární karcinom (HC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BV, HCV, alkohol, hemochromatoza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 antritrypsin deficience, léčba androgeny a estrog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sekce, Ci- transplantace (1 do 5cm, 3 do 3cm každý), chemoembolizace, kryoterapie, RFA, CHT – multikinase inhibitor sorafen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olangiocarci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C (muž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x PBC že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5"/>
          <p:cNvSpPr/>
          <p:nvPr/>
        </p:nvSpPr>
        <p:spPr>
          <a:xfrm>
            <a:off x="0" y="1844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54"/>
          <p:cNvSpPr/>
          <p:nvPr/>
        </p:nvSpPr>
        <p:spPr>
          <a:xfrm>
            <a:off x="0" y="4221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G:\Optometry\pics\200710291022_14392_000.jpg"/>
          <p:cNvPicPr/>
          <p:nvPr/>
        </p:nvPicPr>
        <p:blipFill>
          <a:blip r:embed="rId1"/>
          <a:stretch/>
        </p:blipFill>
        <p:spPr>
          <a:xfrm>
            <a:off x="6875640" y="981000"/>
            <a:ext cx="1736640" cy="1152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G:\Optometry\pics\200803061149_00324_000.jpg"/>
          <p:cNvPicPr/>
          <p:nvPr/>
        </p:nvPicPr>
        <p:blipFill>
          <a:blip r:embed="rId2"/>
          <a:stretch/>
        </p:blipFill>
        <p:spPr>
          <a:xfrm>
            <a:off x="2556000" y="4653000"/>
            <a:ext cx="2950920" cy="165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G:\Optometry\pics\ncpgasthep0389-f1.jpg"/>
          <p:cNvPicPr/>
          <p:nvPr/>
        </p:nvPicPr>
        <p:blipFill>
          <a:blip r:embed="rId3"/>
          <a:stretch/>
        </p:blipFill>
        <p:spPr>
          <a:xfrm>
            <a:off x="6084720" y="3860640"/>
            <a:ext cx="2206800" cy="2448000"/>
          </a:xfrm>
          <a:prstGeom prst="rect">
            <a:avLst/>
          </a:prstGeom>
          <a:ln w="0">
            <a:noFill/>
          </a:ln>
        </p:spPr>
      </p:pic>
      <p:pic>
        <p:nvPicPr>
          <p:cNvPr id="66" name="pancreas a žlučový systé439.wav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kutní a chronická pankreatiti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26828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kutn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ronick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V tekutiny, ATB                                  pancreatické enzy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4"/>
          <p:cNvSpPr/>
          <p:nvPr/>
        </p:nvSpPr>
        <p:spPr>
          <a:xfrm>
            <a:off x="0" y="1484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8" descr="G:\Optometry\pics\Pancreas Anatomy.png"/>
          <p:cNvPicPr/>
          <p:nvPr/>
        </p:nvPicPr>
        <p:blipFill>
          <a:blip r:embed="rId1"/>
          <a:stretch/>
        </p:blipFill>
        <p:spPr>
          <a:xfrm>
            <a:off x="2700360" y="1989000"/>
            <a:ext cx="3200400" cy="2675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G:\Optometry\pics\app02-slides-ch5_slide_04.jpg"/>
          <p:cNvPicPr/>
          <p:nvPr/>
        </p:nvPicPr>
        <p:blipFill>
          <a:blip r:embed="rId2"/>
          <a:stretch/>
        </p:blipFill>
        <p:spPr>
          <a:xfrm>
            <a:off x="468360" y="3429000"/>
            <a:ext cx="1706400" cy="960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G:\Optometry\pics\AP.jpg"/>
          <p:cNvPicPr/>
          <p:nvPr/>
        </p:nvPicPr>
        <p:blipFill>
          <a:blip r:embed="rId3"/>
          <a:stretch/>
        </p:blipFill>
        <p:spPr>
          <a:xfrm>
            <a:off x="250920" y="1844640"/>
            <a:ext cx="2201760" cy="1297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G:\Optometry\pics\17953tn.jpg"/>
          <p:cNvPicPr/>
          <p:nvPr/>
        </p:nvPicPr>
        <p:blipFill>
          <a:blip r:embed="rId4"/>
          <a:stretch/>
        </p:blipFill>
        <p:spPr>
          <a:xfrm>
            <a:off x="6588000" y="3645000"/>
            <a:ext cx="1633680" cy="1152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G:\Optometry\pics\fig1_5.jpg"/>
          <p:cNvPicPr/>
          <p:nvPr/>
        </p:nvPicPr>
        <p:blipFill>
          <a:blip r:embed="rId5"/>
          <a:stretch/>
        </p:blipFill>
        <p:spPr>
          <a:xfrm>
            <a:off x="6156360" y="2060640"/>
            <a:ext cx="2652840" cy="13795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54"/>
          <p:cNvSpPr/>
          <p:nvPr/>
        </p:nvSpPr>
        <p:spPr>
          <a:xfrm>
            <a:off x="0" y="4941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ancreas a žlučový systé431.wav" descr=""/>
          <p:cNvPicPr/>
          <p:nvPr/>
        </p:nvPicPr>
        <p:blipFill>
          <a:blip r:embed="rId6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kutní pankreatit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0"/>
          <p:cNvSpPr/>
          <p:nvPr/>
        </p:nvSpPr>
        <p:spPr>
          <a:xfrm>
            <a:off x="0" y="2276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Související obrázek"/>
          <p:cNvPicPr/>
          <p:nvPr/>
        </p:nvPicPr>
        <p:blipFill>
          <a:blip r:embed="rId1"/>
          <a:stretch/>
        </p:blipFill>
        <p:spPr>
          <a:xfrm>
            <a:off x="1187280" y="1916280"/>
            <a:ext cx="6562800" cy="2409480"/>
          </a:xfrm>
          <a:prstGeom prst="rect">
            <a:avLst/>
          </a:prstGeom>
          <a:ln w="0">
            <a:noFill/>
          </a:ln>
        </p:spPr>
      </p:pic>
      <p:pic>
        <p:nvPicPr>
          <p:cNvPr id="82" name="pancreas a žlučový systé446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Zánětlivé onemocně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lná bolest bři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ystemové a lokoregionální zánětlivé komplik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ná diagn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ná intenzivní léčba těžké pankreatiti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halení příčiny – prevence reku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kutní pankreatit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0"/>
          <p:cNvSpPr/>
          <p:nvPr/>
        </p:nvSpPr>
        <p:spPr>
          <a:xfrm>
            <a:off x="0" y="1628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0" descr="G:\Neuromodulation and other Ts of advanced PD\15117910-3d-people-man-person-running-out-of-time-A-clock-Stock-Photo.jpg"/>
          <p:cNvPicPr/>
          <p:nvPr/>
        </p:nvPicPr>
        <p:blipFill>
          <a:blip r:embed="rId1"/>
          <a:stretch/>
        </p:blipFill>
        <p:spPr>
          <a:xfrm>
            <a:off x="6732720" y="3500280"/>
            <a:ext cx="1325520" cy="136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G:\Neuromodulation and other Ts of advanced PD\3dw_barella.jpeg"/>
          <p:cNvPicPr/>
          <p:nvPr/>
        </p:nvPicPr>
        <p:blipFill>
          <a:blip r:embed="rId2"/>
          <a:stretch/>
        </p:blipFill>
        <p:spPr>
          <a:xfrm>
            <a:off x="6732720" y="1341360"/>
            <a:ext cx="1527120" cy="954000"/>
          </a:xfrm>
          <a:prstGeom prst="rect">
            <a:avLst/>
          </a:prstGeom>
          <a:ln w="0">
            <a:noFill/>
          </a:ln>
        </p:spPr>
      </p:pic>
      <p:pic>
        <p:nvPicPr>
          <p:cNvPr id="89" name="pancreas a žlučový systé447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adekvátní aktivace trypsinu – aktivace trávicích enzymů- intracelulární poškoz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 % těžká pankreatitida…časná fáze = SIRS, orgánové selhání (hypotenze, selhání ledvin, ARDS), nekroza pancrea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rbidita, mortalita: časná…SIRS, po 10-14 dnech – nekroza a infe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0"/>
          <p:cNvSpPr/>
          <p:nvPr/>
        </p:nvSpPr>
        <p:spPr>
          <a:xfrm>
            <a:off x="0" y="1628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G:\Neuromodulation and other Ts of advanced PD\k5642522.jpg"/>
          <p:cNvPicPr/>
          <p:nvPr/>
        </p:nvPicPr>
        <p:blipFill>
          <a:blip r:embed="rId1"/>
          <a:stretch/>
        </p:blipFill>
        <p:spPr>
          <a:xfrm>
            <a:off x="6227640" y="4221000"/>
            <a:ext cx="1497240" cy="1224000"/>
          </a:xfrm>
          <a:prstGeom prst="rect">
            <a:avLst/>
          </a:prstGeom>
          <a:ln w="0">
            <a:noFill/>
          </a:ln>
        </p:spPr>
      </p:pic>
      <p:pic>
        <p:nvPicPr>
          <p:cNvPr id="95" name="pancreas a žlučový systé44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iff. dg AP – mesenterická ischemie a infarkt, perforovaný peptický vřed, symptomatická cholecystolithiasa, dissekující AA, obstrukce střeva, AIM spodní stě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iagnoza AP (2 ze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olest břicha odpovídající akutní pankreatitid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S- AMS/S-LPS 3x horní hranice normy (AMS&gt;5, LPS&gt;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P na CT, UZ, M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…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čili dg lze bez zobraz. metod, bez anamnezy (amnez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50"/>
          <p:cNvSpPr/>
          <p:nvPr/>
        </p:nvSpPr>
        <p:spPr>
          <a:xfrm>
            <a:off x="0" y="1628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" descr="G:\Neuromodulation and other Ts of advanced PD\imagescart.jpg"/>
          <p:cNvPicPr/>
          <p:nvPr/>
        </p:nvPicPr>
        <p:blipFill>
          <a:blip r:embed="rId1"/>
          <a:stretch/>
        </p:blipFill>
        <p:spPr>
          <a:xfrm>
            <a:off x="6156360" y="5013360"/>
            <a:ext cx="1230120" cy="1224000"/>
          </a:xfrm>
          <a:prstGeom prst="rect">
            <a:avLst/>
          </a:prstGeom>
          <a:ln w="0">
            <a:noFill/>
          </a:ln>
        </p:spPr>
      </p:pic>
      <p:pic>
        <p:nvPicPr>
          <p:cNvPr id="101" name="pancreas a žlučový systé449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hronická pankreatit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50"/>
          <p:cNvSpPr/>
          <p:nvPr/>
        </p:nvSpPr>
        <p:spPr>
          <a:xfrm>
            <a:off x="0" y="2637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9" descr="Výsledek obrázku pro chronická pankreatitida"/>
          <p:cNvPicPr/>
          <p:nvPr/>
        </p:nvPicPr>
        <p:blipFill>
          <a:blip r:embed="rId1"/>
          <a:stretch/>
        </p:blipFill>
        <p:spPr>
          <a:xfrm>
            <a:off x="2124000" y="2637000"/>
            <a:ext cx="4629240" cy="2160360"/>
          </a:xfrm>
          <a:prstGeom prst="rect">
            <a:avLst/>
          </a:prstGeom>
          <a:ln w="0">
            <a:noFill/>
          </a:ln>
        </p:spPr>
      </p:pic>
      <p:pic>
        <p:nvPicPr>
          <p:cNvPr id="106" name="pancreas a žlučový systé450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9:19:25Z</dcterms:created>
  <dc:creator>x</dc:creator>
  <dc:description/>
  <dc:language>en-US</dc:language>
  <cp:lastModifiedBy>Uživatel</cp:lastModifiedBy>
  <dcterms:modified xsi:type="dcterms:W3CDTF">2021-05-09T10:28:37Z</dcterms:modified>
  <cp:revision>448</cp:revision>
  <dc:subject/>
  <dc:title>Prezentace aplikace PowerPoint</dc:title>
</cp:coreProperties>
</file>