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F02-331B-4C17-A624-9016CE5B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944-7E68-4CBF-B035-FAAFC7ED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F8C-C74E-44AB-A547-9341C403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49B-D1BE-4D3C-88B2-9A4E78EA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BE7-BB05-47DF-9184-B5BF0332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F05-4C63-401B-8C9B-39638C1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C19-A83A-49D2-9D7F-744D274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E14-A06B-4898-A252-B7CD4E4B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F66-E6B4-49FC-AFF2-179592A8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261-4D1E-4FFC-86F6-C939C457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BF4-D5CF-4BFC-8478-200B710F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E8C-145E-4B34-AF1F-B24EA39F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A8F9-A8EB-45D6-9E5C-349EC53D8A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átra</a:t>
            </a:r>
            <a:br>
              <a:rPr sz="3200"/>
            </a:b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C:\Users\Hankanech\Desktop\FNUSA.png"/>
          <p:cNvPicPr/>
          <p:nvPr/>
        </p:nvPicPr>
        <p:blipFill>
          <a:blip r:embed="rId1"/>
          <a:stretch/>
        </p:blipFill>
        <p:spPr>
          <a:xfrm>
            <a:off x="826920" y="1268280"/>
            <a:ext cx="1514520" cy="69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40840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Výsledek obrázku pro kantorek játra"/>
          <p:cNvPicPr/>
          <p:nvPr/>
        </p:nvPicPr>
        <p:blipFill>
          <a:blip r:embed="rId3"/>
          <a:stretch/>
        </p:blipFill>
        <p:spPr>
          <a:xfrm>
            <a:off x="2627280" y="386064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játra2021 [Režim kompati437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Virová hepat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AV, HE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ecal-oral, akutní (ne chronická) hepat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cestovatelé, endemická (Asia, Africa, Mexico), těžší, především v těhotenství (mortalita…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řipce podobné příznaky, nevolnost, malátnost, zvýšená teplota, únava, RUQ bolest, žloutenka, svěd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ádná specifická léčba, pouze podpůr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AV vakcina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estovatelé), v současnosti HEV n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AV immunoglobuli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postexpoziční profyl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5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0"/>
          <p:cNvSpPr/>
          <p:nvPr/>
        </p:nvSpPr>
        <p:spPr>
          <a:xfrm>
            <a:off x="12600" y="47926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4"/>
          <p:cNvSpPr/>
          <p:nvPr/>
        </p:nvSpPr>
        <p:spPr>
          <a:xfrm>
            <a:off x="-11160" y="38736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átra2021 [Režim kompati42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Virová hepat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9320" y="105264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BV, H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nos- perinatální ( nejčastěji), pohlavní, kož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 HBV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17% cirrhosis, 12% H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D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yžaduje HBV koinfek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BV Ag a Ab serologi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tivita nem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: expozice/jehla injekční stříkačky- profylaxe – HBIG hepatitis B immune globulin během 24 hodin společně s vakcín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ucleosidová analoga, pegylovaný IFN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BV cirrhosis – dekompenzovaná – transplantace j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45"/>
          <p:cNvSpPr/>
          <p:nvPr/>
        </p:nvSpPr>
        <p:spPr>
          <a:xfrm>
            <a:off x="7920" y="16160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0"/>
          <p:cNvSpPr/>
          <p:nvPr/>
        </p:nvSpPr>
        <p:spPr>
          <a:xfrm>
            <a:off x="0" y="3357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0" y="450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G:\Optometry\pics\200710291246_23189_000.jpg"/>
          <p:cNvPicPr/>
          <p:nvPr/>
        </p:nvPicPr>
        <p:blipFill>
          <a:blip r:embed="rId1"/>
          <a:stretch/>
        </p:blipFill>
        <p:spPr>
          <a:xfrm>
            <a:off x="7108920" y="641520"/>
            <a:ext cx="1766880" cy="2282760"/>
          </a:xfrm>
          <a:prstGeom prst="rect">
            <a:avLst/>
          </a:prstGeom>
          <a:ln w="0">
            <a:noFill/>
          </a:ln>
        </p:spPr>
      </p:pic>
      <p:pic>
        <p:nvPicPr>
          <p:cNvPr id="61" name="játra2021 [Režim kompati43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G:\Optometry\pics\hepatitis-B-1.jpg"/>
          <p:cNvPicPr/>
          <p:nvPr/>
        </p:nvPicPr>
        <p:blipFill>
          <a:blip r:embed="rId1"/>
          <a:stretch/>
        </p:blipFill>
        <p:spPr>
          <a:xfrm>
            <a:off x="539640" y="1341360"/>
            <a:ext cx="3240360" cy="43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G:\Optometry\pics\needle-stick-injury-be-aware-6-638.jpg"/>
          <p:cNvPicPr/>
          <p:nvPr/>
        </p:nvPicPr>
        <p:blipFill>
          <a:blip r:embed="rId2"/>
          <a:stretch/>
        </p:blipFill>
        <p:spPr>
          <a:xfrm>
            <a:off x="4140360" y="1773360"/>
            <a:ext cx="4506840" cy="3384360"/>
          </a:xfrm>
          <a:prstGeom prst="rect">
            <a:avLst/>
          </a:prstGeom>
          <a:ln w="0">
            <a:noFill/>
          </a:ln>
        </p:spPr>
      </p:pic>
      <p:pic>
        <p:nvPicPr>
          <p:cNvPr id="65" name="játra2021 [Režim kompati433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Virová hepat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90792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erkutánní a slizniční expozice kr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revní transfuze před 1992, IV užívání drog, náhodná expozice (injekční jeh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ntánní odeznění 15-45%,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ita – zbývajíc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Cirrhosis 20-30%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CC u 1-4% cirhot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éč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/injekční jehl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vyšetřit HCV protilátky, HCV PCR, ALT, AST. Pegylovaný IFN za 12 týdnů, pokud spontánně neodez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ribavirin, pegylovaný IFN, telaprevir, bocepre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0"/>
          <p:cNvSpPr/>
          <p:nvPr/>
        </p:nvSpPr>
        <p:spPr>
          <a:xfrm>
            <a:off x="0" y="35528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4"/>
          <p:cNvSpPr/>
          <p:nvPr/>
        </p:nvSpPr>
        <p:spPr>
          <a:xfrm>
            <a:off x="0" y="19242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játra2021 [Režim kompati436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koholové poškození j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itical intake treshold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80g/den m…8 dcl vína, 20g/den ž…2 dcl ví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ženy, AfroAmeričané, špatný nutriční stav, infekce HBV nebo HC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tukovatělá játra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eatosi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koholická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hepatiti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alcoholic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aënnec´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irrhosi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+ polyarthr., osteo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pato- splenomegalie, kachexie, žloutenka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voučkové teleangiektazie, Dupuytrenovy kontroaktury…gynekomastie, testiculární atrof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koholová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bstinen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zlepše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u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patitis – GCS, dlouhodobě – antioxidanty, silymarin, A,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0"/>
          <p:cNvSpPr/>
          <p:nvPr/>
        </p:nvSpPr>
        <p:spPr>
          <a:xfrm>
            <a:off x="0" y="2565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4"/>
          <p:cNvSpPr/>
          <p:nvPr/>
        </p:nvSpPr>
        <p:spPr>
          <a:xfrm>
            <a:off x="0" y="3357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G:\Optometry\pics\alcoholic.png"/>
          <p:cNvPicPr/>
          <p:nvPr/>
        </p:nvPicPr>
        <p:blipFill>
          <a:blip r:embed="rId1"/>
          <a:stretch/>
        </p:blipFill>
        <p:spPr>
          <a:xfrm>
            <a:off x="7380360" y="260280"/>
            <a:ext cx="1361880" cy="98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G:\Optometry\pics\liverfactory.jpg"/>
          <p:cNvPicPr/>
          <p:nvPr/>
        </p:nvPicPr>
        <p:blipFill>
          <a:blip r:embed="rId2"/>
          <a:stretch/>
        </p:blipFill>
        <p:spPr>
          <a:xfrm>
            <a:off x="6372360" y="5445000"/>
            <a:ext cx="1407960" cy="100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:\Optometry\pics\silymarin_vizualizace_final02.png"/>
          <p:cNvPicPr/>
          <p:nvPr/>
        </p:nvPicPr>
        <p:blipFill>
          <a:blip r:embed="rId3"/>
          <a:stretch/>
        </p:blipFill>
        <p:spPr>
          <a:xfrm>
            <a:off x="4500720" y="530064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G:\Optometry\pics\7390181.jpg"/>
          <p:cNvPicPr/>
          <p:nvPr/>
        </p:nvPicPr>
        <p:blipFill>
          <a:blip r:embed="rId4"/>
          <a:stretch/>
        </p:blipFill>
        <p:spPr>
          <a:xfrm>
            <a:off x="3276720" y="5516640"/>
            <a:ext cx="761760" cy="79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G:\Optometry\pics\LiverDamage.jpg"/>
          <p:cNvPicPr/>
          <p:nvPr/>
        </p:nvPicPr>
        <p:blipFill>
          <a:blip r:embed="rId5"/>
          <a:stretch/>
        </p:blipFill>
        <p:spPr>
          <a:xfrm>
            <a:off x="1116000" y="5445000"/>
            <a:ext cx="157464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játra2021 [Režim kompati434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Cirhoza j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G:\Optometry\pics\Alcohol-Stages.jpg"/>
          <p:cNvPicPr/>
          <p:nvPr/>
        </p:nvPicPr>
        <p:blipFill>
          <a:blip r:embed="rId1"/>
          <a:stretch/>
        </p:blipFill>
        <p:spPr>
          <a:xfrm>
            <a:off x="539640" y="3429000"/>
            <a:ext cx="3548160" cy="295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G:\Optometry\pics\508612.jpg"/>
          <p:cNvPicPr/>
          <p:nvPr/>
        </p:nvPicPr>
        <p:blipFill>
          <a:blip r:embed="rId2"/>
          <a:stretch/>
        </p:blipFill>
        <p:spPr>
          <a:xfrm>
            <a:off x="1332000" y="1557360"/>
            <a:ext cx="205272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G:\Optometry\pics\index.jpg"/>
          <p:cNvPicPr/>
          <p:nvPr/>
        </p:nvPicPr>
        <p:blipFill>
          <a:blip r:embed="rId3"/>
          <a:stretch/>
        </p:blipFill>
        <p:spPr>
          <a:xfrm>
            <a:off x="5219640" y="5300640"/>
            <a:ext cx="206208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G:\Optometry\pics\cirrhosis-weight-loss-jaundice-300x194.jpg"/>
          <p:cNvPicPr/>
          <p:nvPr/>
        </p:nvPicPr>
        <p:blipFill>
          <a:blip r:embed="rId4"/>
          <a:stretch/>
        </p:blipFill>
        <p:spPr>
          <a:xfrm>
            <a:off x="6948360" y="404640"/>
            <a:ext cx="1165320" cy="75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G:\Optometry\pics\cirrhosis_5.jpg"/>
          <p:cNvPicPr/>
          <p:nvPr/>
        </p:nvPicPr>
        <p:blipFill>
          <a:blip r:embed="rId5"/>
          <a:stretch/>
        </p:blipFill>
        <p:spPr>
          <a:xfrm>
            <a:off x="4500720" y="1484280"/>
            <a:ext cx="333360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játra2021 [Režim kompati427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ádory jater a žlučových c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patocelulární karcinom (H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BV, HCV, alkohol, hemochromatoza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antritrypsin deficience, léčba androgeny a estr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sekce, Ci- transplantace (1 do 5cm, 3 do 3cm každý), chemoembolizace, kryoterapie, RFA, CHT – multikinase inhibitor sorafen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olangiocarci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C (muž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x PBC že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5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4"/>
          <p:cNvSpPr/>
          <p:nvPr/>
        </p:nvSpPr>
        <p:spPr>
          <a:xfrm>
            <a:off x="0" y="4221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G:\Optometry\pics\200710291022_14392_000.jpg"/>
          <p:cNvPicPr/>
          <p:nvPr/>
        </p:nvPicPr>
        <p:blipFill>
          <a:blip r:embed="rId1"/>
          <a:stretch/>
        </p:blipFill>
        <p:spPr>
          <a:xfrm>
            <a:off x="6875640" y="981000"/>
            <a:ext cx="1736640" cy="115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:\Optometry\pics\200803061149_00324_000.jpg"/>
          <p:cNvPicPr/>
          <p:nvPr/>
        </p:nvPicPr>
        <p:blipFill>
          <a:blip r:embed="rId2"/>
          <a:stretch/>
        </p:blipFill>
        <p:spPr>
          <a:xfrm>
            <a:off x="2556000" y="4653000"/>
            <a:ext cx="2950920" cy="165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G:\Optometry\pics\ncpgasthep0389-f1.jpg"/>
          <p:cNvPicPr/>
          <p:nvPr/>
        </p:nvPicPr>
        <p:blipFill>
          <a:blip r:embed="rId3"/>
          <a:stretch/>
        </p:blipFill>
        <p:spPr>
          <a:xfrm>
            <a:off x="6084720" y="3860640"/>
            <a:ext cx="220680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játra2021 [Režim kompati424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5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Výsledek obrázku pro kantorek krávy"/>
          <p:cNvPicPr/>
          <p:nvPr/>
        </p:nvPicPr>
        <p:blipFill>
          <a:blip r:embed="rId1"/>
          <a:stretch/>
        </p:blipFill>
        <p:spPr>
          <a:xfrm>
            <a:off x="2340000" y="1916280"/>
            <a:ext cx="4286160" cy="3190680"/>
          </a:xfrm>
          <a:prstGeom prst="rect">
            <a:avLst/>
          </a:prstGeom>
          <a:ln w="0">
            <a:noFill/>
          </a:ln>
        </p:spPr>
      </p:pic>
      <p:pic>
        <p:nvPicPr>
          <p:cNvPr id="106" name="játra2021 [Režim kompati4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cp:lastPrinted>2019-05-07T08:01:56Z</cp:lastPrinted>
  <dcterms:modified xsi:type="dcterms:W3CDTF">2021-05-11T18:12:00Z</dcterms:modified>
  <cp:revision>483</cp:revision>
  <dc:subject/>
  <dc:title>Prezentace aplikace PowerPoint</dc:title>
</cp:coreProperties>
</file>