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283-AC41-45B7-97FF-0F472176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B58-F98A-448F-A347-B3B332CF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E1C-7BC4-4A56-A7A0-6ED16533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D29-030C-41AF-A1A7-349DECFF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D7A2-3596-4731-A617-73D53519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1ED4-260C-4D97-A6C3-CE05AB99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1EEB-002D-4911-B231-BCDD7E25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DBF8-B021-47DF-A6BF-44C3DC8E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6CC1-8087-40D5-AF46-362912D5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A698-6A57-4E10-B616-6106BC32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2A26-47A2-48C2-B40A-C79DFE2A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9E6-A7B4-4E15-873C-E88CEB1C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CCAD-A0A4-4F98-B9C3-DE0EDF8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980C-465D-495E-A829-5B9EECBC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AD3E-FB57-478C-9D2F-4F7F6F10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FE7D-B3AE-46F6-8D5C-C7059FC9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9210-A8B0-41F9-856B-BE0A1D06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D66-7393-4D1A-B23F-2CA0EC7D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E3F-8134-47B0-88F9-939BA5A5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7C0-4A4B-4DCD-A2CB-5A47C738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0C9-307F-4F1B-9A85-AF35E9C7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54A-27CB-4C26-BAF5-F94923A0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79D-6B06-4405-BA52-0416E65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118-D6A1-4497-9452-17F49CD1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F7C8-DDBC-4C15-AAF2-3842D95810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2DB5-A966-436D-9562-41B255CEA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SMOKING 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MOKING IS THE MOST IMPORTANT SINGLE PREVENTABLE RISK FACTOR OF PREMATURE DEA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IGARETTE CONSUMP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 1881 –  first cigarette-rolling machine  (James Bonsack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w, tobacco companies are producing 5,6 trillion cigarettes per year =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early 900 cigarettes for every man, woman and child on the plan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Widespread use of chewing tobacco and bidis are also escalating (South Asia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OST OF TOBACC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 …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flecting 5.23 years of life lost for the average smoker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direct possitive effects (are that) public finance benefits from smoking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ia savings on the healthcare costs – in pensions, and public housing costs savings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 Narrow"/>
              </a:rPr>
              <a:t>Report on the Czech Rep., commissioned by Philip Morris, 2001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TOBACCO Cos´ ARGUMENTS: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TOBACCO CONTRO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DUCES TAX REVENUES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CREASE UNEMPLOY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N-SMOKERS LIVE LONGER AND ARE HARDSHIPS FOR ECONOM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WHAT IS TRUE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MOKING INCREASES HEALTHCARE COS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GOWING TOBACCO OCCUPIES AGRICULTURAL LAN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LARGE DEFORESTATION, USING OF PESTICIDES AND FERTILIZ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COST OF FIRE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EMPLOEE ABSENTEEIS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DECREASED WORKER PRODUCTIV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OSTS OF CIGARETT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 pack of Marlboro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5 and more USD: Western EU, Scandinavia, Canada, Austral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4-5 USD: Italy, U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-4 USD: Spain, Portugal,Hungaria, Gree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-3 USD: Poland, Czech Re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1-2 USD: Russian federation, China, Afr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OSTS TO THE SMOKER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mount  of money for the tobacco may be used for food, education, clothes, free-time activ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ignificant loss of money due to illn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moking may produce of extreme poverty of famil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creased wear and tear on smokers´hom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TYPES OF TOBACCO US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ANUFACTURED CIGARET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OLL-YOUR-OWN CIGARET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IP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OIST SNUFF, DRY SNUFF, CHEWING TOB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CIGARS, BIDIS, KRETEKS, STICK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WATER PIP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IMPORTANT WARN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THERE IS NO SAFE WAY OF USING TOBACCO –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WHETHER IT IS INHALED, SNIFFED, SUCKED, CHEW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OR MIXED WITH OTHER INGREDI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Yes, we agree that smoking cigarettes causes lung cancer and other serious diseases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hilip Morris, Australia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ALMOST 1 BILLION MEN SMOKE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35% IN DEVELOPED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50% IN DEVELOPING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ABOUT 250 MILLION WOMEN SMOK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22% IN DEVELOPED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9% IN  DEVELOPING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In Sweeden and some parts of South Asia women smoke more than m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MALE 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BELOW 20%: Australia, Sweeden, Saudi Arab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USA, Canada, Skandinavia,Switzerl., UK, Brazil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0%-40%: former EU + Czech Rep. + Roman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40%-50%: new EU (former socialist countrie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60% and above: Russian federation, China, Yem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FEMALE 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BELOW 20%: Russian federatin, Australia, Finland, Sweeden, Italy, Portugal, Romania, USA, Canada, Asia, Africa, South Amer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E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0%-40%: Serbia, Chi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HEALTH PROFESSIONA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BELOW 10%: Scandinavia, UK,Austria, Switzerl., USA, Austral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10%-20%: Poland, Hungary,  Canad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Germany, France, Italy, Czech Re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BOVE 40%: Croatia, Albania, Romania, Bulgaria, Greece, Turke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HILDREN 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0% AND ABOVE: Germany, Czech Rep., Slovakia, Austria, Bulgaria, Greenland, Spai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EU, Russian federation, USA, Austral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 parts of Europe and South America girls are smoking more than boy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WHOSE BENEFIT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mong younger adult smokers in particular, female smokers are now as large a smoker share opportunity as are male smokers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Arial Narrow"/>
              </a:rPr>
              <a:t>RJ Reynolds Tobacco Co, 1986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3:58Z</dcterms:created>
  <dc:creator>Jindřich Fiala</dc:creator>
  <dc:description/>
  <dc:language>en-US</dc:language>
  <cp:lastModifiedBy>Jindřich Fiala</cp:lastModifiedBy>
  <dcterms:modified xsi:type="dcterms:W3CDTF">2007-02-16T09:15:21Z</dcterms:modified>
  <cp:revision>2</cp:revision>
  <dc:subject/>
  <dc:title>SMOKING  EPIDEMY</dc:title>
</cp:coreProperties>
</file>