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858-202B-4328-96FD-990D4D16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118-3CE3-48B6-AB2F-001F3DEF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8D8-BD0E-45F1-94B9-4CF2CD2B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B7C-C51D-40BF-B5DF-73914DD9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BDD2-A8FF-4C08-9E90-48756B0F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E8A3-D29E-4D25-893D-5D027ABA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0F79-3FA6-4F68-A8CB-BD992093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7691-4E42-445E-82C3-724ADE77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BE84-B071-4EC1-B1A7-F48EC6F4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BC3D-D5A0-462B-8DD5-98AB2D99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3D9A-90FC-42F3-B7EA-126F8D6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B0C-14CD-482B-8546-0C7420F8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F419-660E-4422-B4A2-5FA26D1D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25B0-4233-467B-AF0D-932741F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7851-B8A2-4146-B249-E3AFB714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5663-D196-4F3A-ABD7-7810F14E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52E7-9B20-4485-B901-5444279C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F26-CE5A-41D0-A735-80A480C8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3DD-B71E-4018-9642-64DF3E79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4E9-A0B7-4388-9290-B613E3D4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41F-D723-4E70-B4A7-235D99D9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91B-2EBC-4E0D-A050-B4945B45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3DC-D9E1-40A8-A539-36233AB3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ABA-507A-4890-9959-C4F71245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889C-C54B-44ED-99E4-4675623A9A37}" type="slidenum">
              <a:rPr b="0" lang="cs-CZ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A703-274B-4964-8974-000868950997}" type="slidenum">
              <a:rPr b="0" lang="cs-CZ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MOKING AND HEAL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LL FORMS OF TOBACCO ARE ADDICTIVE AND LETH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ALTERED DOPAMINERGIC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EMATURAL ACTIVATION OF FETAL  RECEP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CREASED AMOUNT OF NEURAL CELLS  IN THE BR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UDDEN INFANT DEATH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NEURO-PSYCHOLOGICAL DEVELOP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HAVIORAL PROBL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ALTERED SEROTONERGIC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JOR PSYCHIATRIC DISORDERS (SCHIZOPHRENIA, DEPRESS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FREQUENCY OF SUIC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ARDIOVASCULAR CHANG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ASOCONSTRICTION:  SKIN, CORONARY, BRAIN, ABDOMINAL, VERTEBRAL, PLACENTAL AR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BLOOD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HEART 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HEART VOLUME/M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CREASED SKIN 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MECHANISMS OF A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TIVATION OF SYMPATIC NERVOUS SYSTÉ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LEASE OF SUPRARENAL HORMONES (ADRENALINE, NORADRENALI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Y QUICK ADMINISTRATION OF NICOT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HYPOXEM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DECREASED AMOUNT OF BLOOD DUE TO VASOCONSTRICTION   (caused by nicotin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DECREASED AMOUNT OF OXYGEN IN BLOOD (caused by carbon monoxide – COHb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DECREASED BLOOD-TISSUE TRANSPORT ON OXYGEN (caused by hydrogen cyanid HC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N PREGNANC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OCAL  PLACENTAL  NECROSIS (caused byl cadmium C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WERFULL AFFINITY OF FETAL HEMOGLOBIN TO CARBON MONOXIDE ENHANCES COHb CONCENTRATIONS BY 25% (fetal  x maternal bloo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ONSEQUENCES OF HYPOXEM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ETAL GROWTH RETARDATION = FETAL TOBACCO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LTERATION OF FETAL LUNG DEVELOP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ISK OF PRE-TERM BI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ISK OF INTRAUTERINE DE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HYPOXEMIA IN ADUL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EART ATTACK (I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REBROVASCULAR ATTACK (STROK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WRINKLING, PREMATURE AGE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WOUND HEA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EG AND HAND PAIN, GANGRENE – PERIPHERAL VASCULAR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RRI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YES:excessive tearing, blinking, sting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SE: bad smell, stinging, phleg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SOPHARYNX: cough, cold in the ch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TRESS  DUE TO  DYSCOMF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HORT/MILD-TERM EFFECT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IMMUN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RMONAL DYSBAL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 BLOOD LIPI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HEMOCOAG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HRONIC INFLAM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ACCUTE 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TIVATION OF BRAIN RECEP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DIOVASCULAR   CHAN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YPOX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RRI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MMUNE 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RESISTANCE TO INF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ONTRIBUTION TO ALLER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FANTS AND CHILDREN ARE THE MOST VULNERABLE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MALE REPRO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O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SPERMIOGENESIS: deformity, loss of motility, reduced number, aneuploid sperm cel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ETAL MALFORM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FEMALE  REPRO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AINFUL  MENSTR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ARLIER MENOPA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CTOPIC PREGNA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LACENTA PRAEV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EMATURE BI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NTANEOUS ABOR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OTH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RMONAL DYSBALANCE CONTRIBUTES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IABETES MELLITUS and COMPL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STEOPOROSIS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P FRAC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BLOOD LIPI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CREASED LEVELS O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TOTAL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 LDL –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LDL –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CREASED LEVELS O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 HDL-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HEMOCOAGUL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NHANCED ACTIVITY OF THROMBOCY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RTERIAL/CORONARY THROMB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 IS RESPONSI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25% OF ISCHEMIC HEART 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25% OF VASCULAR DISEASES (stroke, Burger d., aneurysma, macular degeneration, cataract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EARLIER ATHEROSCLER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75% OF CHRONIC OBSTRUCTIVE  PULMONAL DISEASE (chr. Bronchitis, emphysem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CONTRIBUTES T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TOMACH AND DUODENAL ULC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OOSE TEE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GUM DISEASES – GINGIVITIS, PARADENT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EARING LO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SORIA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LONG-TERM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BACCO SMOKE  CONTAINS OVER 5.000 CHEMICALS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60 OF WHICH ARE KNOWN OR SUSPECTED  HUMAN CARCINOGE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ARCINOGENS IN SMOK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LYCYCLIC AROMATIC H. (benzo/a/pyre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EAVY METALS (Cd, A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ADIOACTIVE  POLONIUM 2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DUSTRIAL CARCINOGENS:beta-naphthylamine, 4-aminobiphenyle, benzene, formaldehy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NICOTINE IN BR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OTINE  REACHES THE BRAIN WITHIN 10-20 SECONDS AFTER THE PUF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OTINE OCCUPIES THE SPECIFIC  CHOLINERGIC  RECEPTORS AND INDUCES THEIR ACTI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IS RESPONSI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90-95% OF ALL LUNG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40-60% OF HEAD/NECK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40-60% OF KIDNEY/BLADDER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30% OF CERVICAL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30% OF GASTRIC/PANCRETIC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COLON, LIVER, BREAST 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ALF OF ALL LIFETIME US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ALF OF THOSE DIED BETWEE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30-69 YEARS OF 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 THE 20th CENTURY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00 MILLION 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IED FROM TOBACCO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 2000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4,8 MIL ANNUAL PREMATURE DE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3,8 MILLION M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,0 MILLION WOM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Y 2020 TOBACCO WILL KILL ABO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0 MILLION PEOPLE EVERY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BACCO WILL KI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 BILLION = 1 000 000 000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 THE 21st CENTU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 NON-SMOK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AIN STRE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800-900</a:t>
            </a:r>
            <a:r>
              <a:rPr b="0" lang="cs-CZ" sz="28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6%  O</a:t>
            </a:r>
            <a:r>
              <a:rPr b="0" lang="cs-CZ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,0-6,7 p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SIDE STRE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00</a:t>
            </a:r>
            <a:r>
              <a:rPr b="0" lang="cs-CZ" sz="28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2%  O</a:t>
            </a:r>
            <a:r>
              <a:rPr b="0" lang="cs-CZ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,7-7,5 p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S :  MS - IRRITA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ROLEIN                    8 – 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MALDEHYDE      10 – 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MONIUM                        7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TROGEN OXIDES     4 – 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MAMIC ACID           1,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FTALENE                    1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S  :  MS - TOXI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BON MONOXIDE           2 – 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LUENE                                6 – 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OTINE                               2,6-3,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KEL                                   13 – 3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LONIUM 210                       1 – 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CDD, PCDF                                2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S : MS - CARCINOGE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NZENE                       5 – 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TROSAMINES          20 – 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2-NAFTYLAMINE            3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4-AMINOBIFENYLE        3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NZO/A/PYRENE      2,5 – 3,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AR                                     1,7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NDOOR  CONCENTRATIONS OF NICOT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WORK-PLACES               20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ONFERENCE HALL      40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STAURANTS             26-28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S                                  40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MES                             7-11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SPITALS                 0,01- 4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NDOOR CONCENTRATIONS OF NITROSAMINE NN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ARS                             10 – 24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STAURANTS             1 – 3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RAINS                               5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S                                  29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FFICES                             26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MES                                2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RELEASE OF NEUROTRANSMITTERS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PAM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ROTON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ETYLCHO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PINEPFRINE, NOREPINEPHRIN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TA-ENDORPF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EXPOSURE TO ETS- CHILDR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UNPLEASANT  DYSCOMF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RRI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MENT IMMUN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SPIRATORY INF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I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EUK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EXPOSURE TO ETS -ADUL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UNPLEASANT DYSCOMF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RRI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HRONIC OBSTRUCTIVE PULMONARY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UNG CANC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. CORONARY ISCHA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ONCLUS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CIGARETTE IS UNIQUE ARM KILLING BY ITS  BOTH E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GLOBAL TOBACCO EPIDEMY IS WORSE TODAY THAN 50 YEARS AGO AND MAY BE WORSE IN ANOTHER 50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SMOKING IS THE MOST IMPORTANT PREVENTABLE RISK FAC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EFFECTS  OF NICOTINE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WELL BEEING (DOPAMI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OPING THE STRESS (ACT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TTER SHORT-TERM PERFORMANCE (ACETYLCHOLINE, ADRENALI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WHAT IS TRU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NICOTINE IS THE ADDICTING AGENT IN CIGARETTES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rivate statement, Brown &amp;Williamson official in 198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I BELIEVE THAT NICOTINE IS NOT ADDICTIVE“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worn testimory before the US Congres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CEOs of the seven leading tobacco companies in 199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OFFICIAL STAT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g. F 1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SYCHOLOGICAL AND BEHAVIO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ISORDERS CAUSED 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BACCO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ternational statistic classification of diseases, 10th revision, 199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ADDI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80 – 85% OF CURRENT SMOKERS WILL BE DEPENDENT, SIMILARLY LIKE CURRENT  USERS OF HEROINE OR COCCA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BOUT ONE THIRD OF OCCASSIONAL SMOKERS WILL BE DEPEND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IS A DISEA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PENDENCE ON SMOKING IS NOT A LACK OF WILLING OR „BAD HABIT“ B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HRONICAL, PROGRESSIVE AND RELAPSING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OTH  PHARMACOLOGICAL AND  BEHAVIORAL  ADD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07:11:59Z</dcterms:created>
  <dc:creator>Jindřich Fiala</dc:creator>
  <dc:description/>
  <dc:language>en-US</dc:language>
  <cp:lastModifiedBy>Jindřich Fiala</cp:lastModifiedBy>
  <dcterms:modified xsi:type="dcterms:W3CDTF">2007-02-16T10:34:54Z</dcterms:modified>
  <cp:revision>3</cp:revision>
  <dc:subject/>
  <dc:title>SMOKING AND HEALTH</dc:title>
</cp:coreProperties>
</file>