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570-72B5-4180-ACC5-F3E579F6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B37-F723-4052-BCB9-8606C2C0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A62-AFD4-4F12-8481-8A421BEB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C51-5341-40E2-98F4-5DB786A9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7FA1-B495-4D91-B10B-7B107675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5B27-9E8C-40E5-8607-AA18DBFE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65FE-17FE-4694-8984-A2049996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612E-C660-43F4-81F5-BC8E9BD5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3EA1-1A21-4DF9-9F51-0382AD07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A4CF-0271-4C0F-9325-081F3F7F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46C9-C908-4209-A0C9-C0AD58A2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1FD-BAD0-4932-B7AE-25ED2701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4C37-8FBB-4158-86C3-F95FA6D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475E-D857-4BD6-905F-0D7C2D8E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953A-6320-4696-B066-FA934840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DC7A-6E04-40EE-810A-FAA060E6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50CF-68D0-4C2F-A36E-7DF1A5B6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2D7-DBBB-4E85-B30C-15501665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409-88A1-4C03-B1FB-086BAA8F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42A-1901-48B6-9D1D-A5B96F7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4EC-74D9-43B2-B574-50A874EA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FAD-853C-4892-8EAC-0A7B87E9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073-EE90-4800-9736-B827A19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F40-880B-48FD-B280-2AF27213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92CF-23EF-458C-896C-31A3E7C468A9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EB98-2452-4866-AD56-A14795C57252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OBACCO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AKING 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OF YOUR COUNT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OF YOUR FAMIL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OF YOURSELF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THE KEY IS IN YOUR HANDS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OBACCO INDUSTRIES IDE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WHAT ARE WE TRYING TO ACCOMPANISH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EVENT FURTHER DETERIORATION OF OVERALL SOCIAL, LEGISLATIVE AND REGULATORY CLIMAT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CTUALLY IMPROVE THE CLIMATE FOR THE MARKETING AND USE OF TOBACCO PRODU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Philip Morrise, 19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CTION - RESEAR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MERICAN CANCER SOC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OXFORD HEALTH ALLE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FOGARTY INTERNATIONAL 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TOBACCO RES. NE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OCKEFELLER FOUND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UNITED NATIONS FOUND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OBACCO Co STRATE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O IMPROVE THEIR PUBLIC IMAGE, TOBACCO COMPANIES OFFER RESEARCH FU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RY TO SUPPRESS UNFAVOURABLE FIND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CCEPTING DONATIONS IS CONTROVERS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APACITY BUIL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FRAMEWORK CONVENION ALIANCE for TOBACCO CONTROL (WHO) – an UMBRELLA ORGANIZATION OF 200 TOBACCO CONTROL ORGAN. – 200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ink – an INTERNET BASED NETWORK AROUND THE WOR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WORLD CONFERENCES „TOBACCO OR HEALTH“ (3-year period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WHO FCT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EGULATION: packing, labeling tobacco products, sales to minors, illicit trade, smoking at public pl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EDUCTION IN CONSUMER DEMAND: price and tax, ban of advertising, education trai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TECTION OF ENVIRONMENT AND TOBACCO WORKERS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WHO FCT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SUPPORT FOR ALTERNATIV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ESEARCH SURVEILLANCE, EXCHANGE OF INFORM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SUPPORT FOR LEGISLATIVE 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SIGNATION / RATIF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HE FUTURE – TO 2050:         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ESENT TREND CONTINUE ……………………...520 MILL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PORTION OF YOUNG SMOKERS HALVES …………..500 MILL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DULT CONSUMPTION HALVES ……………………..340 MILL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HE FUTURE – TO 2050: ECONOM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ECONOMIC COSTS – 2010 ……..500 000 000 USD/YEA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ECONOMIC COSTS – 2040 …….1 000 000 000 USD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ECONOMIC COSTS – 2050: HEALTH COSTS FOR TREATING  OF SMOKERS &amp; FORMER SMOKERS SURPASS ALL OTHER  HEALTHCARE EXPENDI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9:16:10Z</dcterms:created>
  <dc:creator>Jindřich Fiala</dc:creator>
  <dc:description/>
  <dc:language>en-US</dc:language>
  <cp:lastModifiedBy>Jindřich Fiala</cp:lastModifiedBy>
  <dcterms:modified xsi:type="dcterms:W3CDTF">2007-02-16T10:29:59Z</dcterms:modified>
  <cp:revision>1</cp:revision>
  <dc:subject/>
  <dc:title>TOBACCO CONTROL</dc:title>
</cp:coreProperties>
</file>