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188-D86B-4AC3-95EC-86F5355B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0F2-2627-4E96-A4D9-0DF8084A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08D-BA57-447C-B81A-48D05FA7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13D-436F-4D0C-891D-59A317A7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FEBB-3AE0-41B0-B4EF-17DFE8F7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3732-388A-424E-9DAD-3CCA261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3451-28FC-4B4F-AE53-ECACCDD8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1F8F-3854-48B0-BE2F-5886B33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7BF4-8102-4255-A13F-92325E6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F9D5-BCC0-4132-8529-EF3F30A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1BB6-A464-45CF-9AD0-8DA4A98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316-1482-4205-8704-6D6BD9F0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132C-7430-4756-9E7F-0AB5BF5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FB66-2085-4D69-8D24-5420CC7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6367-301A-4001-9F41-4C332E20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A099-0AFD-4DAB-A37E-8485A656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856A-F83C-4252-B7E0-C12FBFE4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FB6-805D-45E6-B030-51FB3FA9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AFC-E101-4794-BA90-F704892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A07-7C84-460A-81A7-2D9FE477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753-0569-498D-B93B-BFB8F80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169-C70C-46C2-9D33-DE4F446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8C3-D7C9-43F0-982D-C3E2BB7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9E4-9EC2-4D19-ABE6-17FD914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EF1-1178-4047-A78A-FB137B363A18}" type="slidenum">
              <a:rPr b="0" lang="cs-CZ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C85-1B4A-4C11-B2C0-3CE098096617}" type="slidenum">
              <a:rPr b="0" lang="cs-CZ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MOKING AND HEAL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LL FORMS OF TOBACCO ARE ADDICTIVE AND LETH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LTERED DOPAMINERGIC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MATURAL ACTIVATION OF FETAL  RECEP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AMOUNT OF NEURAL CELLS  IN THE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UDDEN INFANT DEATH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NEURO-PSYCHOLOGICAL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HAVIORAL PROBL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LTERED SEROTONERGIC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JOR PSYCHIATRIC DISORDERS (SCHIZOPHRENIA, DEPRESS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FREQUENCY OF SUIC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ARDIOVASCULAR CHAN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ASOCONSTRICTION:  SKIN, CORONARY, BRAIN, ABDOMINAL, VERTEBRAL, PLACENTAL AR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BLOOD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HEART 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HEART VOLUME/M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SKIN 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MECHANISMS OF A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IVATION OF SYMPATIC NERVOUS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LEASE OF SUPRARENAL HORMONES (ADRENALINE, NORADRENAL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Y QUICK ADMINISTRATION OF NICOT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YPOXE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AMOUNT OF BLOOD DUE TO VASOCONSTRICTION   (caused by nicotin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AMOUNT OF OXYGEN IN BLOOD (caused by carbon monoxide – COH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BLOOD-TISSUE TRANSPORT ON OXYGEN (caused by hydrogen cyanid HC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 PREGNA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CAL  PLACENTAL  NECROSIS (caused byl cadmium C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WERFULL AFFINITY OF FETAL HEMOGLOBIN TO CARBON MONOXIDE ENHANCES COHb CONCENTRATIONS BY 25% (fetal  x maternal bloo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ONSEQUENCES OF HYPOXE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ETAL GROWTH RETARDATION = FETAL TOBACCO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LTERATION OF FETAL LUNG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ISK OF PRE-TERM BI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ISK OF INTRAUTERINE DE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YPOXEMIA IN AD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RT ATTACK (I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REBROVASCULAR ATTACK (STROK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RINKLING, PREMATURE AGE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WOUND HEA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G AND HAND PAIN, GANGRENE – PERIPHERAL VASCULA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RRI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YES:excessive tearing, blinking, sting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SE: bad smell, stinging, phleg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SOPHARYNX: cough, cold in the c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TRESS  DUE TO 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HORT/MILD-TERM EFFE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I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RMONAL DYSBAL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 BLOOD LIPI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HEMOCOAG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 INFLAM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CCUTE 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IVATION OF BRAIN RECEP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DIOVASCULAR   CHAN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YPOX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MMUNE 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RESISTANCE TO INF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NTRIBUTION TO ALLER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ANTS AND CHILDREN ARE THE MOST VULNERABLE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MALE REP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O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SPERMIOGENESIS: deformity, loss of motility, reduced number, aneuploid sperm cel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ETAL MALFORM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FEMALE  REP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AINFUL  MENSTR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ARLIER MENOPA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ACENTA PRA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MATURE BI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OTH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RMONAL DYSBALANCE CONTRIBUTES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ABETES MELLITUS and COM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STEOPOROSIS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P FRA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BLOOD LIPI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CREASED LEVELS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TOTAL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 LDL –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LDL –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LEVELS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 HDL-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EMOCOAGUL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NHANCED ACTIVITY OF THROMBOCY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RTERIAL/CORONARY THROMB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 IS RESPONSI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25% OF ISCHEMIC HEART 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25% OF VASCULAR DISEASES (stroke, Burger d., aneurysma, macular degeneration, catarac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EARLIER ATHEROSCLER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75% OF CHRONIC OBSTRUCTIVE  PULMONAL DISEASE (chr. Bronchitis, emphysem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CONTRIBUTES 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TOMACH AND DUODENAL ULC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OSE TEE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GUM DISEASES – GINGIVITIS, PARADENT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RING 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SORIA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LONG-TERM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SMOKE  CONTAINS OVER 5.000 CHEMICAL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0 OF WHICH ARE KNOWN OR SUSPECTED  HUMAN CARCINOGE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ARCINOGENS IN SMOK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YCYCLIC AROMATIC H. (benzo/a/pyre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VY METALS (Cd, 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ADIOACTIVE  POLONIUM 2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USTRIAL CARCINOGENS:beta-naphthylamine, 4-aminobiphenyle, benzene, formaldehy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NICOTINE IN BR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 REACHES THE BRAIN WITHIN 10-20 SECONDS AFTER THE PUF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OCCUPIES THE SPECIFIC  CHOLINERGIC  RECEPTORS AND INDUCES THEIR ACTI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IS RESPONSI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90-95% OF ALL LUNG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40-60% OF HEAD/NECK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40-60% OF KIDNEY/BLADDER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30% OF CERVICAL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30% OF GASTRIC/PANCRETIC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COLON, LIVER, BREAST 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ALF OF ALL LIFETIME 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ALF OF THOSE DIED BETWE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30-69 YEARS OF 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THE 20th CENTURY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00 MILLION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ED FROM TOBACCO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20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4,8 MIL ANNUAL PREMATURE DE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3,8 MILLION 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,0 MILLION WO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Y 2020 TOBACCO WILL KILL ABO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0 MILLION PEOPLE EVERY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WILL KI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 BILLION = 1 000 000 0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THE 21st CENT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 NON-SMOK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IN STRE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800-900</a:t>
            </a:r>
            <a:r>
              <a:rPr b="0" lang="cs-CZ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%  O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,0-6,7 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SIDE STRE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00</a:t>
            </a:r>
            <a:r>
              <a:rPr b="0" lang="cs-CZ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2%  O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,7-7,5 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:  MS - IRRITA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ROLEIN                    8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LDEHYDE      10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MONIUM                        7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TROGEN OXIDES     4 –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MIC ACID           1,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FTALENE                    1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 :  MS - TOXI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BON MONOXIDE           2 –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LUENE                                6 –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                              2,6-3,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KEL                                   13 –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ONIUM 210                       1 –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CDD, PCDF                                2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: MS - CARCINOGE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NZENE                       5 –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TROSAMINES          20 – 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-NAFTYLAMINE           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4-AMINOBIFENYLE       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NZO/A/PYRENE      2,5 – 3,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AR                                     1,7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DOOR  CONCENTRATIONS OF NICOT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ORK-PLACES               2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NFERENCE HALL      4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TAURANTS             26-28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S                                  4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MES                             7-11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SPITALS                 0,01- 4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DOOR CONCENTRATIONS OF NITROSAMINE NN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ARS                             10 – 24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TAURANTS             1 – 3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RAINS                               5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S                                  29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FFICES                             26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MES                                2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RELEASE OF NEUROTRANSMITTERS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PAM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ROTON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ETYLCHO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PINEPFRINE, NOREPINEPHRIN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TA-ENDORPF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XPOSURE TO ETS- CHILDR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NPLEASANT 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MENT I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PIRATORY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I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UK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XPOSURE TO ETS -AD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NPLEASANT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 OBSTRUCTIVE PULMONARY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UNG CANC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. CORONARY ISCHA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ONCLU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IGARETTE IS UNIQUE ARM KILLING BY ITS  BOTH E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GLOBAL TOBACCO EPIDEMY IS WORSE TODAY THAN 50 YEARS AGO AND MAY BE WORSE IN ANOTHER 5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SMOKING IS THE MOST IMPORTANT PREVENTABLE RISK FAC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FFECTS  OF NICOTINE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ELL BEEING (DOPAM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PING THE STRESS (ACT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TTER SHORT-TERM PERFORMANCE (ACETYLCHOLINE, ADRENAL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WHAT IS TRU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ICOTINE IS THE ADDICTING AGENT IN CIGARETTES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ivate statement, Brown &amp;Williamson official in 198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I BELIEVE THAT NICOTINE IS NOT ADDICTIVE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worn testimory before the US Congres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CEOs of the seven leading tobacco companies in 199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OFFICIAL STAT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g. F 1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SYCHOLOGICAL AND BEHAVIO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SORDERS CAUSED 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ternational statistic classification of diseases, 10th revision, 199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ADDI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80 – 85% OF CURRENT SMOKERS WILL BE DEPENDENT, SIMILARLY LIKE CURRENT  USERS OF HEROINE OR COCCA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BOUT ONE THIRD OF OCCASSIONAL SMOKERS WILL BE DEPEND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IS A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PENDENCE ON SMOKING IS NOT A LACK OF WILLING OR „BAD HABIT“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AL, PROGRESSIVE AND RELAPSING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OTH  PHARMACOLOGICAL AND  BEHAVIORAL  ADD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7:11:59Z</dcterms:created>
  <dc:creator>Jindřich Fiala</dc:creator>
  <dc:description/>
  <dc:language>en-US</dc:language>
  <cp:lastModifiedBy>Jindřich Fiala</cp:lastModifiedBy>
  <dcterms:modified xsi:type="dcterms:W3CDTF">2007-02-16T10:34:54Z</dcterms:modified>
  <cp:revision>3</cp:revision>
  <dc:subject/>
  <dc:title>SMOKING AND HEALTH</dc:title>
</cp:coreProperties>
</file>