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A35-4DDE-405B-A8CB-4E5FEDB0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3FF-7F6E-4D84-A393-287FF3E5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4AA-2C24-4804-B8CB-DF5C1DAB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366-0DA1-4578-B5A1-6AA8E101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A539-33CE-402C-852D-1A956FCE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3507-0F43-4001-B71E-5675FF45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64F9-1B35-43CE-87BD-4055DF3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7D2D-BDA1-4007-A3E7-08DFD27A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64BF-992F-4D92-89E8-02762109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8A45-46C0-4ED7-AD43-2FB984A0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3E15-80F2-48A2-8AC2-4E20C16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21B-E7FA-4AD2-82C8-FD5F7989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63AC-5BF2-4E73-9180-82217DC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7E3B-0FF9-478D-8FBC-72BF7643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76D1-964B-45AB-9832-EEEC3700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BE38-0527-41D3-B5A7-11243C44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1CA0-C782-4647-85A3-D63C84A5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8E3-6370-4929-90FE-4A193D75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478-CB13-410D-B208-3D1363EE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A6B-310C-4639-8459-274A107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780-A287-4FBD-A702-B52CD025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20C-1C4E-41E5-8274-9BEEFB78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084-6406-4DF0-9FD0-5036CBAF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8B5-7C6C-4138-B904-AB903B0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768B-A3B3-4B72-B054-CF17DA53E1AC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E43-FD8C-41DC-A54F-C948AD6CC2CF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OBACCO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AKING 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OF YOUR COUNT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OF YOUR FAMIL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OF YOURSELF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THE KEY IS IN YOUR HANDS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OBACCO INDUSTRIES IDE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WHAT ARE WE TRYING TO ACCOMPANISH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EVENT FURTHER DETERIORATION OF OVERALL SOCIAL, LEGISLATIVE AND REGULATORY CLIMAT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CTUALLY IMPROVE THE CLIMATE FOR THE MARKETING AND USE OF TOBACCO PRODU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Philip Morrise, 19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CTION - RESEAR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MERICAN CANCER SOC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OXFORD HEALTH ALLE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FOGARTY INTERNATIONAL 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TOBACCO RES. NE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OCKEFELLER FOUND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UNITED NATIONS FOUND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OBACCO Co STRATE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O IMPROVE THEIR PUBLIC IMAGE, TOBACCO COMPANIES OFFER RESEARCH FU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RY TO SUPPRESS UNFAVOURABLE FIND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CCEPTING DONATIONS IS CONTROVERS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APACITY BUIL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FRAMEWORK CONVENION ALIANCE for TOBACCO CONTROL (WHO) – an UMBRELLA ORGANIZATION OF 200 TOBACCO CONTROL ORGAN. – 200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ink – an INTERNET BASED NETWORK AROUND THE WOR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WORLD CONFERENCES „TOBACCO OR HEALTH“ (3-year period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WHO FCT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EGULATION: packing, labeling tobacco products, sales to minors, illicit trade, smoking at public pl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EDUCTION IN CONSUMER DEMAND: price and tax, ban of advertising, education trai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TECTION OF ENVIRONMENT AND TOBACCO WORKERS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WHO FCT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SUPPORT FOR ALTERNATIV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ESEARCH SURVEILLANCE, EXCHANGE OF INFORM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SUPPORT FOR LEGISLATIVE 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SIGNATION / RATIF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HE FUTURE – TO 2050:         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ESENT TREND CONTINUE ……………………...520 MILL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PORTION OF YOUNG SMOKERS HALVES …………..500 MILL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DULT CONSUMPTION HALVES ……………………..340 MILL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HE FUTURE – TO 2050: ECONOM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ECONOMIC COSTS – 2010 ……..500 000 000 USD/YEA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ECONOMIC COSTS – 2040 …….1 000 000 000 USD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ECONOMIC COSTS – 2050: HEALTH COSTS FOR TREATING  OF SMOKERS &amp; FORMER SMOKERS SURPASS ALL OTHER  HEALTHCARE EXPENDI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9:16:10Z</dcterms:created>
  <dc:creator>Jindřich Fiala</dc:creator>
  <dc:description/>
  <dc:language>en-US</dc:language>
  <cp:lastModifiedBy>Jindřich Fiala</cp:lastModifiedBy>
  <dcterms:modified xsi:type="dcterms:W3CDTF">2007-02-16T10:29:59Z</dcterms:modified>
  <cp:revision>1</cp:revision>
  <dc:subject/>
  <dc:title>TOBACCO CONTROL</dc:title>
</cp:coreProperties>
</file>