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5609-2344-46EF-936A-2E8B88D6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AF66-59D8-4891-9B21-54CB281F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A010-F3AA-4A1D-B755-99D5277D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E74B-61B2-440F-BA89-13A45054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7AA2-02A8-4A94-8FE8-85B961ED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21B7-6825-46F9-A0D9-FEF566D4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27DA-A288-47EC-BBFD-8D14CF29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2265-0239-40E7-AA8E-1971B58B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1AC8-1420-4125-A1A4-047C07CC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16E5-1660-408C-9640-E508FD4C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6DE3-ADA2-4A2B-B76D-A212F6BD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AF9D-8FE8-4A68-8FAE-6CEC5D13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7D1D-A1BA-44E8-81FF-3D35AC24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0714-30D9-48C2-A066-9EB39769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EE93-8A9A-40C5-968D-8508D40E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841B-725F-4C7E-B972-27584917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8A76-0169-49C1-BEC5-FF77409C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8B26-8060-4A5A-9151-7DC50FD1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1E35-1EA6-40BA-9B5D-0B289BE0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1FB4-A510-43D4-B9C5-0994D94A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2D33-D90B-4ADA-B6DD-062D11D2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BA86-1E22-4993-9ABA-D79A5DA6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3131-E611-455B-8F06-60AC362A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B507-B218-41B9-9482-F0A817EE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C7BA-9009-452B-AAB4-3F927B85BB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59CA-93AC-439C-83DF-B458DE179E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SMOKING  EPIDEM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SMOKING IS THE MOST IMPORTANT SINGLE PREVENTABLE RISK FACTOR OF PREMATURE DEAT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CIGARETTE CONSUMP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In 1881 –  first cigarette-rolling machine  (James Bonsack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Now, tobacco companies are producing 5,6 trillion cigarettes per year =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Nearly 900 cigarettes for every man, woman and child on the plane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Widespread use of chewing tobacco and bidis are also escalating (South Asia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COST OF TOBACCO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„ …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reflecting 5.23 years of life lost for the average smoker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Indirect possitive effects (are that) public finance benefits from smoking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via savings on the healthcare costs – in pensions, and public housing costs savings“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 Narrow"/>
              </a:rPr>
              <a:t>Report on the Czech Rep., commissioned by Philip Morris, 2001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TOBACCO Cos´ ARGUMENTS: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TOBACCO CONTROL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REDUCES TAX REVENUES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INCREASE UNEMPLOYMEN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NON-SMOKERS LIVE LONGER AND ARE HARDSHIPS FOR ECONOM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WHAT IS TRUE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SMOKING INCREASES HEALTHCARE COS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RGOWING TOBACCO OCCUPIES AGRICULTURAL LAN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LARGE DEFORESTATION, USING OF PESTICIDES AND FERTILIZE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COST OF FIRES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EMPLOEE ABSENTEEIS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DECREASED WORKER PRODUCTIVIT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COSTS OF CIGARETT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A pack of Marlboro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5 and more USD: Western EU, Scandinavia, Canada, Australi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4-5 USD: Italy, US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3-4 USD: Spain, Portugal,Hungaria, Gree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2-3 USD: Poland, Czech Rep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1-2 USD: Russian federation, China, Afric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COSTS TO THE SMOKER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Amount  of money for the tobacco may be used for food, education, clothes, free-time activiti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Significant loss of money due to illnes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Smoking may produce of extreme poverty of famil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Increased wear and tear on smokers´hom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TYPES OF TOBACCO US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MANUFACTURED CIGARETT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ROLL-YOUR-OWN CIGARETT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IP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MOIST SNUFF, DRY SNUFF, CHEWING TOB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CIGARS, BIDIS, KRETEKS, STICK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WATER PIP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IMPORTANT WARN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THERE IS NO SAFE WAY OF USING TOBACCO –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WHETHER IT IS INHALED, SNIFFED, SUCKED, CHEW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OR MIXED WITH OTHER INGREDIEN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Yes, we agree that smoking cigarettes causes lung cancer and other serious diseases“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hilip Morris, Australia, 2002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SMOKING EPIDEM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ALMOST 1 BILLION MEN SMOKE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35% IN DEVELOPED COUNTR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50% IN DEVELOPING COUNTR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ABOUT 250 MILLION WOMEN SMOKE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22% IN DEVELOPED COUNTR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9% IN  DEVELOPING COUNTR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In Sweeden and some parts of South Asia women smoke more than me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MALE SMOKING EPIDEM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BELOW 20%: Australia, Sweeden, Saudi Arabi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20%-30%: USA, Canada, Skandinavia,Switzerl., UK, Brazil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30%-40%: former EU + Czech Rep. + Romani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40%-50%: new EU (former socialist countries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60% and above: Russian federation, China, Yem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FEMALE SMOKING EPIDEM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BELOW 20%: Russian federatin, Australia, Finland, Sweeden, Italy, Portugal, Romania, USA, Canada, Asia, Africa, South Americ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20%-30%: E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30%-40%: Serbia, Chi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HEALTH PROFESSIONAL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BELOW 10%: Scandinavia, UK,Austria, Switzerl., USA, Australi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10%-20%: Poland, Hungary,  Canad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20%-30%: Germany, France, Italy, Czech Rep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ABOVE 40%: Croatia, Albania, Romania, Bulgaria, Greece, Turke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CHILDREN SMOKING EPIDEM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30% AND ABOVE: Germany, Czech Rep., Slovakia, Austria, Bulgaria, Greenland, Spai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20%-30%: EU, Russian federation, USA, Australi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In parts of Europe and South America girls are smoking more than boy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WHOSE BENEFIT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„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Among younger adult smokers in particular, female smokers are now as large a smoker share opportunity as are male smokers“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Arial Narrow"/>
              </a:rPr>
              <a:t>RJ Reynolds Tobacco Co, 1986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1:33:58Z</dcterms:created>
  <dc:creator>Jindřich Fiala</dc:creator>
  <dc:description/>
  <dc:language>en-US</dc:language>
  <cp:lastModifiedBy>Jindřich Fiala</cp:lastModifiedBy>
  <dcterms:modified xsi:type="dcterms:W3CDTF">2007-02-16T09:15:21Z</dcterms:modified>
  <cp:revision>2</cp:revision>
  <dc:subject/>
  <dc:title>SMOKING  EPIDEMY</dc:title>
</cp:coreProperties>
</file>