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4A4-5D3B-4865-B4C9-D1C44169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9BA-4740-4945-8142-4D7550D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F86-B3E0-47F1-A8E5-9C77A34E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32F-CD1D-48AF-AE8C-8ECEEFB4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001-2992-42C7-AF25-35CFA2F6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6E9-764F-40F2-9672-550E8352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F72-583E-433D-8806-74D4BBD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1E3-EA41-492A-AF29-9B9AF55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842-95D1-4A95-8B43-A70D7E7B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073-F0AF-4153-AC98-2C160BF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52F-9945-4CFB-B232-AA8C4BF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282-EA1D-4DB2-88B2-A7D18BCB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B24D-499E-4755-8A80-380E6DB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834-4B0A-406C-B13B-9E452CE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C717-51E7-435E-9FBD-D00B436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10B5-A62C-439F-A9E4-8F27B3E9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7AFA-DED5-40F0-A73C-D7B4A68F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974-0937-4A29-89EA-D7B3C6C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F24-B2FD-4D51-A20D-A6097920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9EA-9878-4E79-B77C-5BF2B39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56A-06A5-4944-BD48-BB851EC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996-FE93-4167-9DBC-C77585ED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09D-AE94-498E-B781-1937352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00D-47F4-4F9E-9BC9-47B774F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7554-7E8F-4B3A-9B08-D5DF4C60DBC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F70-C9F8-497A-846A-B40B37B62254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AKING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COUNT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 FAMIL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OF YOURSELF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THE KEY IS IN YOUR HANDS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INDUSTRIES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HAT ARE WE TRYING TO ACCOMPANIS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VENT FURTHER DETERIORATION OF OVERALL SOCIAL, LEGISLATIVE AND REGULATORY CLIMAT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TUALLY IMPROVE THE CLIMATE FOR THE MARKETING AND USE OF TOBACCO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Philip Morrise, 19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CTION - RE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MERICAN CANCER SOC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OXFORD HEALTH ALLE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OGARTY INTERNATIONAL 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TOBACCO RES.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OCKEFELLER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UNITED NATIONS FOUN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OBACCO Co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O IMPROVE THEIR PUBLIC IMAGE, TOBACCO COMPANIES OFFER RESEARCH FU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RY TO SUPPRESS UNFAVOURABLE FIND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CCEPTING DONATIONS IS CONTROVERS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APACITY BUIL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FRAMEWORK CONVENION ALIANCE for TOBACCO CONTROL (WHO) – an UMBRELLA ORGANIZATION OF 200 TOBACCO CONTROL ORGAN. – 200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ink – an INTERNET BASED NETWORK AROUND THE WOR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WORLD CONFERENCES „TOBACCO OR HEALTH“ (3-year perio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GULATION: packing, labeling tobacco products, sales to minors, illicit trade, smoking at public pl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DUCTION IN CONSUMER DEMAND: price and tax, ban of advertising, education trai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TECTION OF ENVIRONMENT AND TOBACCO WORKERS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WHO FCT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ALTERNATIV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RESEARCH SURVEILLANCE, EXCHANGE OF INFORM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UPPORT FOR LEGISLATIVE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SIGNATION / RAT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        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ESENT TREND CONTINUE ……………………...52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PORTION OF YOUNG SMOKERS HALVES …………..500 MILL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DULT CONSUMPTION HALVES ……………………..340 MILL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HE FUTURE – TO 2050: ECONOM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10 ……..500 000 000 USD/YE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40 …….1 000 000 000 USD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GLOBAL ECONOMIC COSTS – 2050: HEALTH COSTS FOR TREATING  OF SMOKERS &amp; FORMER SMOKERS SURPASS ALL OTHER  HEALTHCARE EXPENDI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16:10Z</dcterms:created>
  <dc:creator>Jindřich Fiala</dc:creator>
  <dc:description/>
  <dc:language>en-US</dc:language>
  <cp:lastModifiedBy>Jindřich Fiala</cp:lastModifiedBy>
  <dcterms:modified xsi:type="dcterms:W3CDTF">2007-02-16T10:29:59Z</dcterms:modified>
  <cp:revision>1</cp:revision>
  <dc:subject/>
  <dc:title>TOBACCO CONTROL</dc:title>
</cp:coreProperties>
</file>