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480-94DC-4D7B-B51E-EB975865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8CB-E01D-427E-992A-52D4FFC2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17F-C0A3-440F-8EC3-74C38A34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F34-44FE-47F3-9351-220DFFB1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4961-29C8-4EFC-BE0A-A394AB54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F9F7-E822-4035-8417-4FF5FB14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C983-49F4-48CE-BE85-7FDA0270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A934-61C3-444B-984C-498E7E21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6630-C881-4449-951E-BC8FE914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6F21-F700-4745-9E02-730525E8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2C7A-2AC4-484C-8DC9-A6B74216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BD5-617E-4B14-A133-111BE8D3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B4E-CE82-4CDF-8190-B9CE99C4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AE54-256C-4CA0-9DEA-77A2EA7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A567-4CC3-4625-8A23-649A15C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CCC0-E614-4814-8E2F-A4F711D7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C744-C722-4265-9C04-CC7694FF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A4E-4108-41D9-A153-1237C955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D73-E633-4919-A9A0-BC4B14A0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50B-AA97-44DF-A1CF-8CE9E86E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0AF-FBA8-4628-B04D-E0518CE3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D61-9C2A-4547-85FC-A87580D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207-A1B3-457A-9A00-93B8A4F0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9CA-DF80-4258-B34F-CDE929C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BF42-546A-44B7-9B40-27CFCF168F94}" type="slidenum">
              <a:rPr b="0" lang="cs-CZ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27B2-303E-49A1-BB2A-04563A2B6CC0}" type="slidenum">
              <a:rPr b="0" lang="cs-CZ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MOKING AND HEAL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LL FORMS OF TOBACCO ARE ADDICTIVE AND LETH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ALTERED DOPAMINERGIC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EMATURAL ACTIVATION OF FETAL  RECEP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CREASED AMOUNT OF NEURAL CELLS  IN THE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UDDEN INFANT DEATH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NEURO-PSYCHOLOGICAL DEVELOP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HAVIORAL PROBL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ALTERED SEROTONERGIC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JOR PSYCHIATRIC DISORDERS (SCHIZOPHRENIA, DEPRESS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FREQUENCY OF SUIC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ARDIOVASCULAR CHANG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ASOCONSTRICTION:  SKIN, CORONARY, BRAIN, ABDOMINAL, VERTEBRAL, PLACENTAL AR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BLOOD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HEART 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GHER HEART VOLUME/M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CREASED SKIN 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MECHANISMS OF A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TIVATION OF SYMPATIC NERVOUS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LEASE OF SUPRARENAL HORMONES (ADRENALINE, NORADRENALI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Y QUICK ADMINISTRATION OF NICOT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HYPOXEM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DECREASED AMOUNT OF BLOOD DUE TO VASOCONSTRICTION   (caused by nicotin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DECREASED AMOUNT OF OXYGEN IN BLOOD (caused by carbon monoxide – COHb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DECREASED BLOOD-TISSUE TRANSPORT ON OXYGEN (caused by hydrogen cyanid HC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N PREGNANC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OCAL  PLACENTAL  NECROSIS (caused byl cadmium C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WERFULL AFFINITY OF FETAL HEMOGLOBIN TO CARBON MONOXIDE ENHANCES COHb CONCENTRATIONS BY 25% (fetal  x maternal bloo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ONSEQUENCES OF HYPOXEM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ETAL GROWTH RETARDATION = FETAL TOBACCO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LTERATION OF FETAL LUNG DEVELOP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ISK OF PRE-TERM BI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ISK OF INTRAUTERINE DE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HYPOXEMIA IN ADUL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EART ATTACK (I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REBROVASCULAR ATTACK (STROK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WRINKLING, PREMATURE AGE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WOUND HEA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EG AND HAND PAIN, GANGRENE – PERIPHERAL VASCULAR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RRI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YES:excessive tearing, blinking, sting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SE: bad smell, stinging, phleg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SOPHARYNX: cough, cold in the ch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TRESS  DUE TO  DYSCOM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HORT/MILD-TERM EFFECT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IMMUN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RMONAL DYSBAL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 BLOOD LIPI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HEMOCOAG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NIC INFLAM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ACCUTE 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TIVATION OF BRAIN RECEP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DIOVASCULAR   CHAN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YPOX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RRI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MMUNE 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RESISTANCE TO INF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NTRIBUTION TO ALLER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FANTS AND CHILDREN ARE THE MOST VULNERABLE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MALE REP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O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ED SPERMIOGENESIS: deformity, loss of motility, reduced number, aneuploid sperm cel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ETAL MALFORM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FEMALE  REP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AINFUL  MENSTR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ARLIER MENOPA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CTOPIC PREGNA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ACENTA PRAEV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EMATURE BI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NTANEOUS ABOR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OTH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RMONAL DYSBALANCE CONTRIBUTES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ABETES MELLITUS and COMPL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STEOPOROSIS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IP FRA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BLOOD LIPI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CREASED LEVELS O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TOTAL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 LDL –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LDL –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CREASED LEVELS O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 HDL- CHOLESTE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HEMOCOAGUL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NHANCED ACTIVITY OF THROMBOCY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RTERIAL/CORONARY THROMB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 IS RESPONSI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25% OF ISCHEMIC HEART 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25% OF VASCULAR DISEASES (stroke, Burger d., aneurysma, macular degeneration, catarac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EARLIER ATHEROSCLER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75% OF CHRONIC OBSTRUCTIVE  PULMONAL DISEASE (chr. Bronchitis, emphysem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CONTRIBUTES 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TOMACH AND DUODENAL ULC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OOSE TEE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GUM DISEASES – GINGIVITIS, PARADENT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EARING LO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SORIA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LONG-TERM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BACCO SMOKE  CONTAINS OVER 5.000 CHEMICALS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0 OF WHICH ARE KNOWN OR SUSPECTED  HUMAN CARCINOGE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ARCINOGENS IN SMOK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LYCYCLIC AROMATIC H. (benzo/a/pyre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EAVY METALS (Cd, A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ADIOACTIVE  POLONIUM 2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DUSTRIAL CARCINOGENS:beta-naphthylamine, 4-aminobiphenyle, benzene, formaldehy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NICOTINE IN BR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OTINE  REACHES THE BRAIN WITHIN 10-20 SECONDS AFTER THE PUF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OTINE OCCUPIES THE SPECIFIC  CHOLINERGIC  RECEPTORS AND INDUCES THEIR ACTI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IS RESPONSI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90-95% OF ALL LUNG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40-60% OF HEAD/NECK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40-60% OF KIDNEY/BLADDER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30% OF CERVICAL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30% OF GASTRIC/PANCRETIC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 COLON, LIVER, BREAST  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ALF OF ALL LIFETIME US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ALF OF THOSE DIED BETWEE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30-69 YEARS OF 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THE 20th CENTURY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00 MILLION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ED FROM TOBACCO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200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4,8 MIL ANNUAL PREMATURE DE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3,8 MILLION M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,0 MILLION WOM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Y 2020 TOBACCO WILL KILL ABO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0 MILLION PEOPLE EVERY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BACCO WILL KI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 BILLION = 1 000 000 00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THE 21st CENTU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KILLS NON-SMOK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AIN STRE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800-900</a:t>
            </a:r>
            <a:r>
              <a:rPr b="0" lang="cs-CZ" sz="28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6%  O</a:t>
            </a:r>
            <a:r>
              <a:rPr b="0" lang="cs-CZ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,0-6,7 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SIDE STRE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00</a:t>
            </a:r>
            <a:r>
              <a:rPr b="0" lang="cs-CZ" sz="28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2%  O</a:t>
            </a:r>
            <a:r>
              <a:rPr b="0" lang="cs-CZ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,7-7,5 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S :  MS - IRRITA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ROLEIN                    8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MALDEHYDE      10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MONIUM                        7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TROGEN OXIDES     4 –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MAMIC ACID           1,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FTALENE                    1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S  :  MS - TOXI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BON MONOXIDE           2 – 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LUENE                                6 –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OTINE                               2,6-3,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CKEL                                   13 – 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LONIUM 210                       1 –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CDD, PCDF                                2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S : MS - CARCINOGE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NZENE                       5 –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ITROSAMINES          20 – 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-NAFTYLAMINE            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4-AMINOBIFENYLE        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NZO/A/PYRENE      2,5 – 3,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AR                                     1,7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NDOOR  CONCENTRATIONS OF NICOT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WORK-PLACES               20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NFERENCE HALL      40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STAURANTS             26-28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S                                  40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MES                             7-11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SPITALS                 0,01- 4 m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INDOOR CONCENTRATIONS OF NITROSAMINE NN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ARS                             10 – 24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STAURANTS             1 – 3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RAINS                               5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ARS                                  29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FFICES                             26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OMES                                2 ug/m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RELEASE OF NEUROTRANSMITTERS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PAM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ROTON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ETYLCHO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PINEPFRINE, NOREPINEPHRIN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TA-ENDORPF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EXPOSURE TO ETS- CHILDR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NPLEASANT  DYSCOM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RRI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MPAIRMENT IMMUN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ESPIRATORY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I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EUK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EXPOSURE TO ETS -ADUL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NPLEASANT DYSCOM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RRI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NIC OBSTRUCTIVE PULMONARY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UNG CANC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C. CORONARY ISCHA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CONCLUS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IGARETTE IS UNIQUE ARM KILLING BY ITS  BOTH E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GLOBAL TOBACCO EPIDEMY IS WORSE TODAY THAN 50 YEARS AGO AND MAY BE WORSE IN ANOTHER 50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SMOKING IS THE MOST IMPORTANT PREVENTABLE RISK FAC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EFFECTS  OF NICOTINE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WELL BEEING (DOPAMI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PING THE STRESS (ACT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TTER SHORT-TERM PERFORMANCE (ACETYLCHOLINE, ADRENALI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WHAT IS TRU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ICOTINE IS THE ADDICTING AGENT IN CIGARETTES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rivate statement, Brown &amp;Williamson official in 198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I BELIEVE THAT NICOTINE IS NOT ADDICTIVE“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worn testimory before the US Congres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CEOs of the seven leading tobacco companies in 199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OFFICIAL STAT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g. F 1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SYCHOLOGICAL AND BEHAVIO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SORDERS CAUSED 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OBACCO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ternational statistic classification of diseases, 10th revision, 199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ADDI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80 – 85% OF CURRENT SMOKERS WILL BE DEPENDENT, SIMILARLY LIKE CURRENT  USERS OF HEROINE OR COCCA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BOUT ONE THIRD OF OCCASSIONAL SMOKERS WILL BE DEPEND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cc66"/>
                </a:solidFill>
                <a:latin typeface="Times New Roman"/>
              </a:rPr>
              <a:t>SMOKING IS A DISEA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PENDENCE ON SMOKING IS NOT A LACK OF WILLING OR „BAD HABIT“ B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NICAL, PROGRESSIVE AND RELAPSING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OTH  PHARMACOLOGICAL AND  BEHAVIORAL  ADD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7:11:59Z</dcterms:created>
  <dc:creator>Jindřich Fiala</dc:creator>
  <dc:description/>
  <dc:language>en-US</dc:language>
  <cp:lastModifiedBy>Jindřich Fiala</cp:lastModifiedBy>
  <dcterms:modified xsi:type="dcterms:W3CDTF">2007-02-16T10:34:54Z</dcterms:modified>
  <cp:revision>3</cp:revision>
  <dc:subject/>
  <dc:title>SMOKING AND HEALTH</dc:title>
</cp:coreProperties>
</file>