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3529-987D-4793-86FD-61BCF296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F5F-D97F-4096-BC69-F1D4FFAE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B20C-F7E0-4CA2-B166-0E72E54E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0888-D5EE-42CA-9383-C0385886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EB11-E074-4569-91FC-10204035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B0BD-562D-4C0B-8E00-93FB3320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736B-0315-4F63-B460-1F78075D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957F-3F85-4344-BE5A-B84C612C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F62D-438E-435C-8964-3AA4A54A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2548-C392-47A0-A6C2-78483EBC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02B5-7C48-4B2A-A82B-55FEDF6C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A02-FE59-4366-A66B-9352CB48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12F5-BAA9-49F1-AA1F-1D97EF6C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1A83-6E3D-46C6-B3E3-E8D447E4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0B89-C225-45FE-839E-57944400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642B-52CD-4DBD-B2C7-9FB8B00B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C31A-29E6-4D18-A00D-15E9DD8A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848-8055-4582-9C20-6D63F879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976-3FFB-4EB8-AAEE-F919BA68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4311-7684-49A1-96B2-BEA74D17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751-28DD-4E01-9923-C66AC684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776-90FD-4A60-8DEE-CB23F43A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FB7-785B-43E6-9F18-9BCB0B5E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649-27FA-425C-A16F-7AAA20B4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99B7-3FB5-495A-905C-9ED4FD09A0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6180-13A8-444C-ADC6-B4C15202E4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SMOKING  EPIDEM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SMOKING IS THE MOST IMPORTANT SINGLE PREVENTABLE RISK FACTOR OF PREMATURE DEAT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CIGARETTE CONSUMP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 1881 –  first cigarette-rolling machine  (James Bonsack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Now, tobacco companies are producing 5,6 trillion cigarettes per year =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Nearly 900 cigarettes for every man, woman and child on the plane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Widespread use of chewing tobacco and bidis are also escalating (South Asia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COST OF TOBACCO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„ …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reflecting 5.23 years of life lost for the average smoker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direct possitive effects (are that) public finance benefits from smoking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via savings on the healthcare costs – in pensions, and public housing costs savings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 Narrow"/>
              </a:rPr>
              <a:t>Report on the Czech Rep., commissioned by Philip Morris, 2001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TOBACCO Cos´ ARGUMENTS: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TOBACCO CONTRO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REDUCES TAX REVENUES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CREASE UNEMPLOYME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NON-SMOKERS LIVE LONGER AND ARE HARDSHIPS FOR ECONOM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WHAT IS TRUE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SMOKING INCREASES HEALTHCARE COS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RGOWING TOBACCO OCCUPIES AGRICULTURAL LAN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LARGE DEFORESTATION, USING OF PESTICIDES AND FERTILIZE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COST OF FIRE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EMPLOEE ABSENTEEIS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DECREASED WORKER PRODUCTIVI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COSTS OF CIGARETT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A pack of Marlboro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5 and more USD: Western EU, Scandinavia, Canada, Austral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4-5 USD: Italy, US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3-4 USD: Spain, Portugal,Hungaria, Gree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-3 USD: Poland, Czech Rep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1-2 USD: Russian federation, China, Afric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COSTS TO THE SMOKER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Amount  of money for the tobacco may be used for food, education, clothes, free-time activit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Significant loss of money due to illn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Smoking may produce of extreme poverty of famil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creased wear and tear on smokers´hom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TYPES OF TOBACCO US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MANUFACTURED CIGARETT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ROLL-YOUR-OWN CIGARETT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IP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MOIST SNUFF, DRY SNUFF, CHEWING TOB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CIGARS, BIDIS, KRETEKS, STICK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WATER PIP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IMPORTANT WARN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THERE IS NO SAFE WAY OF USING TOBACCO –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WHETHER IT IS INHALED, SNIFFED, SUCKED, CHEW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OR MIXED WITH OTHER INGREDIEN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Yes, we agree that smoking cigarettes causes lung cancer and other serious diseases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hilip Morris, Australia, 200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SMOKING EPIDEM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ALMOST 1 BILLION MEN SMOKE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35% IN DEVELOPED COUNTR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50% IN DEVELOPING COUNTR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ABOUT 250 MILLION WOMEN SMOKE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22% IN DEVELOPED COUNTR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9% IN  DEVELOPING COUNTR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In Sweeden and some parts of South Asia women smoke more than m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MALE SMOKING EPIDEM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BELOW 20%: Australia, Sweeden, Saudi Arab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0%-30%: USA, Canada, Skandinavia,Switzerl., UK, Brazil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30%-40%: former EU + Czech Rep. + Roman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40%-50%: new EU (former socialist countrie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60% and above: Russian federation, China, Yem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FEMALE SMOKING EPIDEM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BELOW 20%: Russian federatin, Australia, Finland, Sweeden, Italy, Portugal, Romania, USA, Canada, Asia, Africa, South Americ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0%-30%: E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30%-40%: Serbia, Chi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HEALTH PROFESSIONAL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BELOW 10%: Scandinavia, UK,Austria, Switzerl., USA, Austral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10%-20%: Poland, Hungary,  Canad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0%-30%: Germany, France, Italy, Czech Rep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ABOVE 40%: Croatia, Albania, Romania, Bulgaria, Greece, Turke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CHILDREN SMOKING EPIDEM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30% AND ABOVE: Germany, Czech Rep., Slovakia, Austria, Bulgaria, Greenland, Spai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0%-30%: EU, Russian federation, USA, Austral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 parts of Europe and South America girls are smoking more than boy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Narrow"/>
              </a:rPr>
              <a:t>WHOSE BENEFIT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„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Among younger adult smokers in particular, female smokers are now as large a smoker share opportunity as are male smokers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Arial Narrow"/>
              </a:rPr>
              <a:t>RJ Reynolds Tobacco Co, 1986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1:33:58Z</dcterms:created>
  <dc:creator>Jindřich Fiala</dc:creator>
  <dc:description/>
  <dc:language>en-US</dc:language>
  <cp:lastModifiedBy>Jindřich Fiala</cp:lastModifiedBy>
  <dcterms:modified xsi:type="dcterms:W3CDTF">2007-02-16T09:15:21Z</dcterms:modified>
  <cp:revision>2</cp:revision>
  <dc:subject/>
  <dc:title>SMOKING  EPIDEMY</dc:title>
</cp:coreProperties>
</file>