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81D8C-5581-4AF5-89CC-4ABB2E81EC2E}"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kl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982E38-6E83-4DFC-BCED-BBCECBD88D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5F1C8-37FF-43EB-9CBC-8CFA5FD271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14A071-7FD5-4950-95A7-1F9B17F6E1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2DBD08-BC8F-424B-9702-26ADEBFDA3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CCE3FA-777B-45A9-96FF-0F890BD643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2DB8ED-6E31-418C-A02B-837DABB2EB1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8B565F-E38F-40AF-A67E-12FAD925DB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14C28E-3FDD-4A47-8DAA-C13999F435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8C23F37-5285-49C1-A8D0-C27EB22522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24A39F-3964-4F05-96B7-206091BA5E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36433B-8D1B-41E8-90F8-A963147F6E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E1B35-60DE-4543-9059-B90CEFD4CC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72040-DDE2-4AB7-AB19-BA9F06BCEB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C3F8B0D-BA18-4F08-99E3-D49BB484D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DD6D31-15B6-4C4B-BC75-E65F22A379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A15E8B-2B83-40E5-AEE3-C2FB0E26D33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F94C5E-CFAB-413A-A261-BCFBBA0021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25671-714B-4C06-9323-DF7CE5701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6686BE-84CB-4802-A61D-0EA4C9CC2C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77ACF5-CBCA-4FAA-900E-A6CE190A1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A83129-DE46-4C1F-8C4F-72194E6420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79ED7-6ACB-44E0-9B8B-216B098423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B09EDB-EE36-44B9-A0D5-6703EEECE5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641D5-A6C1-479F-9ED8-01E5EC85DE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FC252-4C12-4753-B1D9-958FA788D976}"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E15B0-2FCD-4329-9F0E-384E52E4455F}"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dpovědnost zdravotnických pracovníků</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Jana Konečná</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oda</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jmu způsobenou náhodou nahradí ten, kdo dal ze své viny k náhodě podnět, zejména tím, že poruší příkaz nebo poškodí zařízení, které má nahodilé újmě zabrán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ěkdo chybně označí léky a někdo jiný si je pak svévolně vezme a užije v domnění, že jde o jiný lék.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tná obrana</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bezprostředně hrozící nebo trvající protiprávní útok a způsobí přitom útočníkovi újmu, není povinen k její náhradě.</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je-li zjevné, že napadenému hrozí vzhledem k jeho poměrům újma jen nepatrná nebo obrana je zcela zjevně nepřiměřená, zejména vzhledem k závažnosti újmy útočníka způsobené odvracením útok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dravotnický pracovník je napadán agresivním pacientem a při odvracení útoku způsobí pacientovi škodu (poškození zdraví, oděvu, aj.)</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dnocení přiměřenosti/nepřiměřenosti – okolnosti případu, tj. tělesná konstituce útočníka, zbraň, nebezpečnost útoku,omluvitelné vzrušení mysli toho, kdo odvracel útok nebo jiné nebezpečí</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zor ! odlišit agresivitu vyvolanou zdravotním stavem pacien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malizace rizik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rajní nouze</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přímo hrozící nebezpečí újmy, není povinen k náhradě újmy tím způsobené, nebylo-li za daných okolností možné odvrátit nebezpečí jinak nebo nezpůsobí-li následek zjevně stejně závažný nebo ještě závažnější než újma, která hrozila, ledaže by majetek i bez jednání v nouzi podlehl zkáz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vyvolal-li nebezpečí vlastní vinou sám jednající.</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akutním poskytování zdravotní péče se zničí oděv pacientovi, aby bylo možné zachránit jeho zdraví nebo živ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vinnost nahradit škodu</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dobrých mravů</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poškozenému způsobí škodu úmyslným porušením dobrých mravů, je povinen ji nahradit; vykonával-li však své právo, je škůdce povinen škodu nahradit, jen sledoval-li jako hlavní účel poškození jinéh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Dobré mravy- rozh. ÚS ČR II.ÚS 249/97</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bré mravy“ jsou souhrnem etických, obecně zachovávaných a uznávaných zásad, jejichž dodržování je mnohdy zajišťováno i právními normami tak, aby každé jednání bylo v souladu s obecnými morálními zásadami demokratické společnosti. Tento obecný horizont, který vývojem společnosti rozvíjí i svůj morální obsah v prostoru a čase, musí být posuzován z hlediska konkrétního případu také v daném čase, na daném místě a ve vzájemném jednání účastníků právního vztah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zákona</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vlastním zaviněním poruší povinnost stanovenou zákonem a zasáhne tak do absolutního práva poškozeného, nahradí poškozenému, co tím způsobi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 k náhradě vznikne i škůdci, který zasáhne do jiného práva poškozeného zaviněným porušením zákonné povinnosti stanovené na ochranu takového práv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ovinné mlčenliv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sahy do práva být informován o povaze a účelu zákrok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odpovědností</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čansko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ovně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iplinár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uv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mněnka nedbalosti</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ůdce poškozenému škodu porušením zákonné povinnosti, má se za to, že škodu zavinil z nedbal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poskytování zdravotních služeb, kde se u zdravotnických pracovníků z podstaty věci předpokládají zvláštní dovednosti a znalosti a tito je také dávají najevo. Je pak na nich, aby prokázali, že k neuplatnění zvláštních znalostí nedošlo z nedbalosti, ale že tak se stalo např. z objektivních důvodů, kterými může být třeba to, že byl přetížen nebo neměl k dispozici technické vybav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smluvní povinnosti</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uší-li strana povinnost ze smlouvy, nahradí škodu z toho vzniklou druhé straně nebo i osobě, jejímuž zájmu mělo splnění ujednané povinnosti zjevně slouži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vinnosti k náhradě se škůdce zprostí, prokáže-li, že mu ve splnění povinnosti ze smlouvy dočasně nebo trvale zabránila mimořádná nepředvídatelná a nepřekonatelná překážka vzniklá nezávisle na jeho vůli.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ekážka vzniklá ze škůdcových osobních poměrů nebo vzniklá až v době, kdy byl škůdce s plněním smluvené povinnosti v prodlení, ani překážka, kterou byl škůdce podle smlouvy povinen překonat, ho však povinnosti k náhradě nezprost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ouva sjednaná rodiči ve prospěch dě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dokončená stavba z důvodu nepředvídatelného počas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ři poskytování zdravotních služeb půjde zase o situace, kdy za mimořádnou nepředvídatelnou a nepřekonatelnou překážku nebude moci být pokládán příchod více pacientů najednou.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 druhou stranu by ale jistě mimořádnou nepředvídatelnou a nepřekonatelnou překážkou hromadné neštěstí, které by znamenalo, že je třeba v jeden okamžik ošetřit násobně vyšší počet pacientů než lze rozumně očeká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několika osobami</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li k náhradě zavázáno několik škůdců, nahradí škodu společně a nerozdílně; je-li některý ze škůdců povinen podle jiného zákona k náhradě jen do určité výše, je zavázán s ostatními škůdci společně a nerozdílně v tomto rozsah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sou-li pro to důvody zvláštního zřetele hodné, může soud rozhodnout, že škůdce nahradí škodu podle své účasti na škodlivém následku; nelze-li účast přesně určit, přihlédne se k míře pravděpodobnosti.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kto nelze rozhodnout, pokud se některý škůdce vědomě účastnil na způsobení škody jiným škůdcem nebo je podněcoval či podporoval nebo pokud lze připsat celou škodu každému škůdci, byť jednali nezávisle, nebo má-li škůdce hradit škodu způsobenou pomocníkem a vznikla-li povinnost k náhradě také pomocníkov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Řetězec –zdravotnická záchranná služba – poskytovatel akutní péče –zařízení sociální péč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říklad – snížení povinnosti škůdce k náhradě škody</a:t>
            </a:r>
            <a:endParaRPr b="1" lang="en-US" sz="32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de např. o poškození zdraví při autonehodách, kdy byla nehoda způsobena řidičem, který nedal přednost v jízdě, ale rozsah poškozeného byl větší, protože nebyl připoután bezpečnostním pás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jně tak při poskytování zdravotní péče je brán v potaz spoluzavinění pacienta na poškození jeho zdraví, tím, že se o své zdraví nestaral či dokonce si jej úmyslně poškoz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cient se intoxikuje, a ví, že je vždy agresivní, následně skutečně agresivní je a při zvládání agrese jej zdravotnickým pracovníkem poraně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tím, kdo nemůže posoudit následky svého jednání</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zletilý, který nenabyl plné svéprávnosti, nebo ten, kdo je stižen duševní poruchou, nahradí způsobenou škodu, pokud byl způsobilý ovládnout své jednání a posoudit jeho následky; poškozenému náleží náhrada škody i tehdy, nebránil-li se škůdci ze šetrnosti k němu.</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byl-li nezletilý, který nenabyl plné svéprávnosti, nebo ten, kdo je stižen duševní poruchou, způsobilý ovládnout své jednání a posoudit jeho následky, má poškozený právo na náhradu, je-li to spravedlivé se zřetelem k majetkovým poměrům škůdce a poškoze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do se uvede vlastní vinou do takového stavu, že není s to ovládnout své jednání nebo posoudit jeho následky, nahradí škodu v tomto stavu způsobenou. Společně a nerozdílně s ním nahradí škodu ti, kteří jej vlastní vinou do tohoto stavu přivedl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Odpovědnost - pojem</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má odpovědnost“, „odpovídá“ = má povinnost, je povinen (splnit úkol)</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nese odpovědnost“ (za něco, co udělal) = je povinen snášet důsledky </a:t>
            </a:r>
            <a:r>
              <a:rPr b="0" lang="en-US" sz="1600" spc="-1" strike="noStrike">
                <a:solidFill>
                  <a:srgbClr val="003366"/>
                </a:solidFill>
                <a:latin typeface="Arial"/>
              </a:rPr>
              <a:t>	</a:t>
            </a:r>
            <a:r>
              <a:rPr b="0" lang="en-US" sz="1600" spc="-1" strike="noStrike">
                <a:solidFill>
                  <a:srgbClr val="003366"/>
                </a:solidFill>
                <a:latin typeface="Arial"/>
              </a:rPr>
              <a:t>   svého jednání</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ávní odpovědnost</a:t>
            </a:r>
            <a:r>
              <a:rPr b="0" lang="en-US" sz="1600" spc="-1" strike="noStrike">
                <a:solidFill>
                  <a:srgbClr val="003366"/>
                </a:solidFill>
                <a:latin typeface="Arial"/>
              </a:rPr>
              <a:t>:</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utnost nést sankční následky svého jednání či opomenutí </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yla-li  povinnost jednat) </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zvláštní druh právního vztahu, sekundární právní vztah, který vzniká, je-li</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orušen primární právní vztah, resp. primární právní povinnost.</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66"/>
                </a:solidFill>
                <a:uFillTx/>
                <a:latin typeface="Arial"/>
              </a:rPr>
              <a:t>Právní vztah </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polečenský vztah mezi subjekty upravený právními normami</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i sice osoba schopna ovládnout své jednání, ale není schopna posoudit následky (malé dítě, které přiloží zapálenou zápalku do stohu slá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soba sice schopna posoudit následky svého jednání, ale pro svůj věk nebo duševní poruchu není schopna je ovládnout (pyroman ví, přiložením zápalky ke stohu slámy způsobí požár, ale není schopen své jednání ovládn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Člověk v poúrazovém stavu napadne jiného nebo poškodí nějakou věc a zpětně  se bude zjišťovat, zda byl nebo nebyl schopen ovládnout své jednání a posoudit následky jeho škodlivého jedná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byl zcela mimo“,  a neuvědomoval si co děl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postačuje nedbalostní zavinění třetí osob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Kdo způsobil škodu v opilosti, odpovídá za ni podle ust. OZ, jestliže se vlastní vinou uvede do stavu opilosti, a to i když u něho nastal těžší stav opilosti než ten, který odpovídá běžným reakcím lidského organismu na alkoh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osobou s nebezpečnými vlastnostmi</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vědomě ujme osoby nebezpečných vlastností tak, že jí bez její nutné potřeby poskytne útulek nebo jí svěří určitou činnost, ať již v domácnosti, provozovně či na jiném podobném místě, nahradí společně a nerozdílně s ní škodu způsobenou v takovém místě nebo při této činnosti někomu jinému nebezpečnou povahou takov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stliže psychiatrická nemocnice pečuje o osobu nebezpečných vlastností (uloženo ochranné léčení), nelze takovou situaci pokládat za poskytnutí útulku bez nutné potřeby nebezpečn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 provozní činnosti</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provozuje závod nebo jiné zařízení sloužící k výdělečné činnosti, nahradí škodu vzniklou z provozu, ať již byla způsobena vlastní provozní činností, věcí při ní použitou nebo vlivem činnosti na okolí.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i se zprostí, prokáže-li, že vynaložil veškerou péči, kterou lze rozumně požadovat, aby ke škodě ne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ozní povah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ěc použitá při činnost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yzikální, chemické, biologické vlivy provozu na okolí</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yžaduje se vyšší stupeň opatrnosti a obezřetnosti provozovate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žnost zprostit se odpovědnosti (neodvratitelná událost nemající původ v provozu – vichřice, povodn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 provozu dopravního prostředku</a:t>
            </a:r>
            <a:endParaRPr b="1" lang="en-US" sz="32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provozuje dopravu, nahradí škodu vyvolanou zvláštní povahou tohoto provozu. Stejnou povinnost má i jiný provozovatel vozidla, plavidla nebo letadla, ledaže je takový dopravní prostředek poháněn lidskou silo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vinnosti nahradit škodu se nemůže provozovatel zprostit, byla-li škoda způsobena okolnostmi, které mají původ v provozu. Jinak se zprostí, prokáže-li, že škodě nemohl zabránit ani při vynaložení veškerého úsilí, které lze požado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provozovatele vozidla je třeba považovat toho, kdo má právní a současně faktickou možnost jej užívat, tedy sám organizovat jeho provoz k plnění jeho funkcí a účelu. V případě, že dojde ke škodě na automobilu jako předmětu leasingu, je třeba považovat leasingového dlužníka (nájemce) za provozovate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působená věcí</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je povinen někomu něco plnit a použije při tom vadnou věc, nahradí škodu způsobenou vadou věci.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tí i v případě poskytnutí zdravotnických, sociálních, veterinárních a jiných biologických služeb.</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ila-li škodu věc pádem nebo vyhozením z místnosti nebo podobného místa, nahradí škodu společně a nerozdílně s tím, kdo je povinen k náhradě podle odstavce 1, i osoba, která takové místo užívá, a nelze-li ji určit, vlastník nemovité věc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 právní odpovědnosti</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rávní pov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vinění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dné použití přístroje, zdravotnického prostředku, nesterilní jeh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Alergická reakce na aplikovaný léčivý přípravek, i když byly provedeny  všechny testy, kterých je třeba pro vyloučení alergie u pacienta, provedené testy byly negativní, a přesto po aplikaci přípravku k alergické reakci 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je povinen někomu něco plnit a použije při tom </a:t>
            </a:r>
            <a:r>
              <a:rPr b="0" lang="en-US" sz="2800" spc="-1" strike="noStrike" u="sng">
                <a:solidFill>
                  <a:srgbClr val="003366"/>
                </a:solidFill>
                <a:uFillTx/>
                <a:latin typeface="Arial"/>
              </a:rPr>
              <a:t>vadnou věc</a:t>
            </a:r>
            <a:r>
              <a:rPr b="0" lang="en-US" sz="2800" spc="-1" strike="noStrike">
                <a:solidFill>
                  <a:srgbClr val="003366"/>
                </a:solidFill>
                <a:latin typeface="Arial"/>
              </a:rPr>
              <a:t>, nahradí škodu způsobenou vadou věci. To platí i v případě poskytnutí zdravotnických, sociálních, veterinárních a jiných biologických služeb.</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dravotnické prostředk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str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ék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převzaté věci</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aždý, kdo od jiného převzal věc, která má být předmětem jeho závazku, nahradí její poškození, ztrátu nebo zničení, neprokáže-li, že by ke škodě došlo i jina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pravách a úpravách ortopedických pomůc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ravy a úpravy brýl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odložené věci</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e-li s provozováním nějaké činnosti zpravidla spojeno odkládání věcí a byla-li věc odložena na místě k tomu určeném nebo na místě, kam se takové věci obvykle ukládají, nahradí provozovatel poškození, ztrátu nebo zničení věci tomu, kdo ji odložil, popřípadě vlastníku věc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jně nahradí škodu provozovatel hlídaných garáží nebo zařízení podobného druhu, jedná-li se o dopravní prostředky v nich umístěné a o jejich příslušenství.</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uplatní-li se právo na náhradu škody u provozovatele bez zbytečného odkladu, soud je nepřizná, pokud provozovatel namítne, že právo nebylo uplatněno vča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jpozději lze právo na náhradu škody uplatnit do patnácti dnů po dni, kdy se poškozený o škodě musel dozvědě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yla-li škoda způsobena na věci odložené v dopravním prostředku hromadné dopravy, nahradí se jen podle ustanovení o náhradě škody způsobené provozem dopravního prostředku.</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pis, cedule</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odložené věci neručí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vnesené věci</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provozuje pravidelně ubytovací služby, nahradí škodu na věci, kterou ubytovaný vnesl do prostor vyhrazených k ubytování nebo k uložení věcí, popřípadě na věci, která tam byla pro ubytovaného vnesena. To platí i tehdy, byla-li věc za tím účelem ubytovatelem převzat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káže-li ubytovatel, že by ke škodě došlo i jinak, nebo že škodu způsobil ubytovaný nebo osoba, která ubytovaného z jeho vůle provází, povinnosti k náhradě škody se zprostí. K ujednáním o jiných důvodech zproštění se nepřihlíž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iprávnos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Porušení povinnosti stanovené právními předpisy nebo smlouvou</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V oblasti poskytování zdravotních služeb (ZS) porušení </a:t>
            </a:r>
            <a:r>
              <a:rPr b="0" lang="cs-CZ" sz="1800" spc="-1" strike="noStrike" u="sng">
                <a:solidFill>
                  <a:srgbClr val="003366"/>
                </a:solidFill>
                <a:uFillTx/>
                <a:latin typeface="Calibri"/>
              </a:rPr>
              <a:t>např.</a:t>
            </a:r>
            <a:r>
              <a:rPr b="0" lang="cs-CZ" sz="1800" spc="-1" strike="noStrike">
                <a:solidFill>
                  <a:srgbClr val="003366"/>
                </a:solidFill>
                <a:latin typeface="Calibri"/>
              </a:rPr>
              <a:t>:</a:t>
            </a:r>
            <a:endParaRPr b="0" lang="en-US" sz="18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lege artis</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pouze se svobodným informovaným souhlasem</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é mlčenlivosti</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vést řádně zdravotnickou dokumentaci</a:t>
            </a:r>
            <a:endParaRPr b="0" lang="en-US" sz="17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protiprávní jednání (delikt</a:t>
            </a:r>
            <a:r>
              <a:rPr b="0" lang="cs-CZ" sz="1800" spc="-1" strike="noStrike">
                <a:solidFill>
                  <a:srgbClr val="003366"/>
                </a:solidFill>
                <a:latin typeface="Calibri"/>
              </a:rPr>
              <a:t>) – </a:t>
            </a:r>
            <a:r>
              <a:rPr b="1" lang="cs-CZ" sz="1800" spc="-1" strike="noStrike" u="sng">
                <a:solidFill>
                  <a:srgbClr val="003366"/>
                </a:solidFill>
                <a:uFillTx/>
                <a:latin typeface="Calibri"/>
              </a:rPr>
              <a:t>odpovědnost za protiprávnost</a:t>
            </a:r>
            <a:r>
              <a:rPr b="0" lang="cs-CZ" sz="1800" spc="-1" strike="noStrike">
                <a:solidFill>
                  <a:srgbClr val="003366"/>
                </a:solidFill>
                <a:latin typeface="Calibri"/>
              </a:rPr>
              <a:t>, AVŠAK:</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vznik škodlivého (protiprávního) stavu</a:t>
            </a:r>
            <a:r>
              <a:rPr b="0" lang="cs-CZ" sz="1800" spc="-1" strike="noStrike">
                <a:solidFill>
                  <a:srgbClr val="003366"/>
                </a:solidFill>
                <a:latin typeface="Calibri"/>
              </a:rPr>
              <a:t> – odpovědnost bez protiprávního</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a:solidFill>
                  <a:srgbClr val="003366"/>
                </a:solidFill>
                <a:latin typeface="Calibri"/>
              </a:rPr>
              <a:t>jednání (např. vznik nemoci z povolání) </a:t>
            </a:r>
            <a:r>
              <a:rPr b="1" lang="cs-CZ" sz="1800" spc="-1" strike="noStrike">
                <a:solidFill>
                  <a:srgbClr val="003366"/>
                </a:solidFill>
                <a:latin typeface="Calibri"/>
              </a:rPr>
              <a:t>- </a:t>
            </a:r>
            <a:r>
              <a:rPr b="1" lang="cs-CZ" sz="1800" spc="-1" strike="noStrike" u="sng">
                <a:solidFill>
                  <a:srgbClr val="003366"/>
                </a:solidFill>
                <a:uFillTx/>
                <a:latin typeface="Calibri"/>
              </a:rPr>
              <a:t>odpovědnost za výslede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imální výše náhrady škody, odvíjí se od ceny ubytování a hradí se maximálně do výše stonásobku ceny ubytování za jeden 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ká částka ? Lůžko/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scho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it včas/ lhů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radou nebo informací</a:t>
            </a:r>
            <a:endParaRPr b="1" lang="en-US" sz="32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hlásí jako příslušník určitého stavu nebo povolání k odbornému výkonu nebo jinak vystupuje jako odborník, nahradí škodu, způsobí-li ji neúplnou nebo nesprávnou informací nebo škodlivou radou danou za odměnu v záležitosti svého vědění nebo dovednosti.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inak se hradí jen škoda, kterou někdo informací nebo radou způsobil vědom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působ a rozsah náhrady škody</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Škoda se nahrazuje uvedením do předešlého stavu. Není-li to dobře možné, anebo žádá-li to poškozený, hradí se škoda v penězíc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majetková újma se odčiní přiměřeným zadostiučiněním. Zadostiučinění musí být poskytnuto v penězích, nezajistí-li jeho jiný způsob skutečné a dostatečně účinné odčinění způsobené újm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áhrada při ublížení na zdraví a při usmrcení</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blížení na zdraví odčiní škůdce újmu poškozeného peněžitou náhradou, vyvažující plně vytrpěné bolesti a další nemajetkové újmy; vznikla-li poškozením zdraví překážka lepší budoucnosti poškozeného, nahradí mu škůdce i ztížení společenského uplatně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smrcení nebo zvlášť závažném ublížení na zdraví odčiní škůdce duševní útrapy manželu, rodiči, dítěti nebo jiné osobě blízké peněžitou náhradou vyvažující plně jejich utrpe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spojené s péči o zdraví</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hradí též účelně vynaložené náklady spojené s péčí o zdraví poškozeného, s péčí o jeho osobu nebo jeho domácnost tomu, kdo je vynaloži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ožádá-li o to, složí mu škůdce na tyto náklady přiměřenou záloh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na pohřeb</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nahradí tomu, kdo je vynaložil, přiměřené náklady spojené s pohřbem v rozsahu, v jakém nebyly uhrazeny veřejnou dávkou podle jiného právního předpis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tom se přihlédne k zvyklostem i k okolnostem jednotlivého případ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rada při poškození věci</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vyklá ce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a zvláštní obli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olibost, svévů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ásah do práva na ochranu osobnosti</a:t>
            </a:r>
            <a:endParaRPr b="1" lang="en-US" sz="32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tiprávní zásah do práv chráněných stanoveními na ochranu osobnosti (život, zdraví, svoboda, lidská důstojnost, rodinný život, apo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 v podobě újmy na právech chráněných ustanoveními na ochranu osobnosti.</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 mezi protiprávním zásahem a újmou na práve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mlčení</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lčecí lhůta trvá tři rok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jetkové právo se promlčí nejpozději uplynutím deseti let ode dne, kdy dospělo, ledaže zákon zvlášť stanoví jinou promlčecí lhů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ovněprávní odpovědnost</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tj. odpovědnost mezi subjekty pracovněprávního vztahu</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 </a:t>
            </a:r>
            <a:r>
              <a:rPr b="1" lang="en-US" sz="1300" spc="-1" strike="noStrike" u="sng">
                <a:solidFill>
                  <a:srgbClr val="003366"/>
                </a:solidFill>
                <a:uFillTx/>
                <a:latin typeface="Calibri"/>
              </a:rPr>
              <a:t>zák. č. 262/2006 Sb., zákoník práce</a:t>
            </a:r>
            <a:r>
              <a:rPr b="0" lang="en-US" sz="1300" spc="-1" strike="noStrike">
                <a:solidFill>
                  <a:srgbClr val="003366"/>
                </a:solidFill>
                <a:latin typeface="Calibri"/>
              </a:rPr>
              <a:t>, ve znění pozdějších předpisů</a:t>
            </a:r>
            <a:r>
              <a:rPr b="1" lang="en-US" sz="1300" spc="-1" strike="noStrike" u="sng">
                <a:solidFill>
                  <a:srgbClr val="003366"/>
                </a:solidFill>
                <a:uFillTx/>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alibri"/>
              </a:rPr>
              <a:t>Odpovědnost zaměstnance za škodu</a:t>
            </a:r>
            <a:r>
              <a:rPr b="0" lang="en-US" sz="1400" spc="-1" strike="noStrike">
                <a:solidFill>
                  <a:srgbClr val="003366"/>
                </a:solidFill>
                <a:latin typeface="Calibri"/>
              </a:rPr>
              <a:t> </a:t>
            </a:r>
            <a:r>
              <a:rPr b="1" lang="en-US" sz="1300" spc="-1" strike="noStrike">
                <a:solidFill>
                  <a:srgbClr val="003366"/>
                </a:solidFill>
                <a:latin typeface="Calibri"/>
              </a:rPr>
              <a:t>→ </a:t>
            </a:r>
            <a:r>
              <a:rPr b="1" lang="en-US" sz="1400" spc="-1" strike="noStrike" u="sng">
                <a:solidFill>
                  <a:srgbClr val="003366"/>
                </a:solidFill>
                <a:uFillTx/>
                <a:latin typeface="Calibri"/>
              </a:rPr>
              <a:t>odpovědnost subjektivní</a:t>
            </a:r>
            <a:endParaRPr b="0" lang="en-US" sz="14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3366"/>
                </a:solidFill>
                <a:uFillTx/>
                <a:latin typeface="Calibri"/>
              </a:rPr>
              <a:t>Předpoklady</a:t>
            </a:r>
            <a:r>
              <a:rPr b="0" lang="en-US" sz="1300" spc="-1" strike="noStrike">
                <a:solidFill>
                  <a:srgbClr val="003366"/>
                </a:solidFill>
                <a:latin typeface="Calibri"/>
              </a:rPr>
              <a:t> vzniku obecné odpověd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orušení právní povin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škoda</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říčinná souvislost</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zavinění</a:t>
            </a:r>
            <a:r>
              <a:rPr b="0" lang="en-US" sz="1300" spc="-1" strike="noStrike">
                <a:solidFill>
                  <a:srgbClr val="003366"/>
                </a:solidFill>
                <a:latin typeface="Calibri"/>
              </a:rPr>
              <a:t>  (</a:t>
            </a:r>
            <a:r>
              <a:rPr b="0" lang="en-US" sz="1300" spc="-1" strike="noStrike" u="sng">
                <a:solidFill>
                  <a:srgbClr val="003366"/>
                </a:solidFill>
                <a:uFillTx/>
                <a:latin typeface="Calibri"/>
              </a:rPr>
              <a:t>prokazované</a:t>
            </a:r>
            <a:r>
              <a:rPr b="0" lang="en-US" sz="1300" spc="-1" strike="noStrike">
                <a:solidFill>
                  <a:srgbClr val="003366"/>
                </a:solidFill>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a:t>
            </a:r>
            <a:r>
              <a:rPr b="0" lang="en-US" sz="1300" spc="-1" strike="noStrike">
                <a:solidFill>
                  <a:srgbClr val="003366"/>
                </a:solidFill>
                <a:latin typeface="Calibri"/>
              </a:rPr>
              <a:t>Zavinění je </a:t>
            </a:r>
            <a:r>
              <a:rPr b="0" lang="en-US" sz="1300" spc="-1" strike="noStrike" u="sng">
                <a:solidFill>
                  <a:srgbClr val="003366"/>
                </a:solidFill>
                <a:uFillTx/>
                <a:latin typeface="Calibri"/>
              </a:rPr>
              <a:t>presumované</a:t>
            </a:r>
            <a:r>
              <a:rPr b="0" lang="en-US" sz="1300" spc="-1" strike="noStrike">
                <a:solidFill>
                  <a:srgbClr val="003366"/>
                </a:solidFill>
                <a:latin typeface="Calibri"/>
              </a:rPr>
              <a:t> (předpokládané) – tzn., že zaměstnavatel zavi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	</a:t>
            </a:r>
            <a:r>
              <a:rPr b="0" lang="en-US" sz="1300" spc="-1" strike="noStrike">
                <a:solidFill>
                  <a:srgbClr val="003366"/>
                </a:solidFill>
                <a:latin typeface="Calibri"/>
              </a:rPr>
              <a:t>neprokazuje jen </a:t>
            </a:r>
            <a:r>
              <a:rPr b="0" lang="en-US" sz="1300" spc="-1" strike="noStrike" u="sng">
                <a:solidFill>
                  <a:srgbClr val="003366"/>
                </a:solidFill>
                <a:uFillTx/>
                <a:latin typeface="Calibri"/>
              </a:rPr>
              <a:t>ve zvláštních případech odpovědnosti</a:t>
            </a:r>
            <a:r>
              <a:rPr b="0" lang="en-US" sz="1300" spc="-1" strike="noStrike">
                <a:solidFill>
                  <a:srgbClr val="003366"/>
                </a:solidFill>
                <a:latin typeface="Calibri"/>
              </a:rPr>
              <a:t>, a to u odpovědnosti:</a:t>
            </a:r>
            <a:endParaRPr b="0" lang="en-US" sz="1300" spc="-1" strike="noStrike">
              <a:solidFill>
                <a:srgbClr val="003366"/>
              </a:solidFill>
              <a:latin typeface="Arial"/>
            </a:endParaRPr>
          </a:p>
          <a:p>
            <a:pPr lvl="1" marL="743040" indent="-285840">
              <a:lnSpc>
                <a:spcPct val="90000"/>
              </a:lnSpc>
              <a:spcBef>
                <a:spcPts val="275"/>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za schodek na hodnotách svěřených k vyúčtování</a:t>
            </a:r>
            <a:endParaRPr b="0" lang="en-US" sz="1100" spc="-1" strike="noStrike">
              <a:solidFill>
                <a:srgbClr val="003366"/>
              </a:solidFill>
              <a:latin typeface="Arial"/>
            </a:endParaRPr>
          </a:p>
          <a:p>
            <a:pPr lvl="1" marL="743040" indent="-285840">
              <a:lnSpc>
                <a:spcPct val="9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za ztrátu svěřených předmětů</a:t>
            </a:r>
            <a:endParaRPr b="0" lang="en-US" sz="12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zaměstnanec se může vyvinit (prokázat, že škodu nezavinil)</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příčinná souvislost, zavinění</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škoda</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hmotná škoda (tj. skutečná škoda a ušlý zisk)</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emateriální škoda (např. újma na osobnostních právech)</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příčinná souvisl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utno zjistit skutkový stav - škoda vznikla v důsledku protiprávního jednání či</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opomenutí (či nežádoucího stavu)</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1" lang="en-US" sz="1500" spc="-1" strike="noStrike">
                <a:solidFill>
                  <a:srgbClr val="003366"/>
                </a:solidFill>
                <a:latin typeface="Calibri"/>
              </a:rPr>
              <a:t>zavině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nitřní psychický vztah subjektu k vlastnímu protiprávnímu jednání a jeho</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ýsledku (prokazování zavinění obtížné)</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spojení 2 psychických prvků:</a:t>
            </a:r>
            <a:endParaRPr b="0" lang="en-US" sz="15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rozumového (subjekt - vědomost a předvídání určitých výsledků)</a:t>
            </a:r>
            <a:endParaRPr b="0" lang="en-US" sz="12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volního (subjekt něco chce nebo je s něčím srozuměn)</a:t>
            </a:r>
            <a:endParaRPr b="0" lang="en-US" sz="1200" spc="-1" strike="noStrike">
              <a:solidFill>
                <a:srgbClr val="003366"/>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alibri"/>
              </a:rPr>
              <a:t>Kombinace těchto prvků a jejich intenzity – formy a stupně zavinění </a:t>
            </a:r>
            <a:endParaRPr b="0" lang="en-US" sz="14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definuje </a:t>
            </a:r>
            <a:r>
              <a:rPr b="0" lang="en-US" sz="1500" spc="-1" strike="noStrike" u="sng">
                <a:solidFill>
                  <a:srgbClr val="003366"/>
                </a:solidFill>
                <a:uFillTx/>
                <a:latin typeface="Calibri"/>
              </a:rPr>
              <a:t>zák. č. 40/2009 Sb</a:t>
            </a:r>
            <a:r>
              <a:rPr b="0" lang="en-US" sz="1500" spc="-1" strike="noStrike">
                <a:solidFill>
                  <a:srgbClr val="003366"/>
                </a:solidFill>
                <a:latin typeface="Calibri"/>
              </a:rPr>
              <a:t>., </a:t>
            </a:r>
            <a:r>
              <a:rPr b="0" lang="en-US" sz="1500" spc="-1" strike="noStrike" u="sng">
                <a:solidFill>
                  <a:srgbClr val="003366"/>
                </a:solidFill>
                <a:uFillTx/>
                <a:latin typeface="Calibri"/>
              </a:rPr>
              <a:t>trestní zákoník</a:t>
            </a:r>
            <a:r>
              <a:rPr b="0" lang="en-US" sz="1500" spc="-1" strike="noStrike">
                <a:solidFill>
                  <a:srgbClr val="003366"/>
                </a:solidFill>
                <a:latin typeface="Calibri"/>
              </a:rPr>
              <a:t>, v platném znění (§ 15 a 16)</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zaměstnance</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Ochrana zaměstnance</a:t>
            </a:r>
            <a:r>
              <a:rPr b="0" lang="cs-CZ" sz="1500" spc="-1" strike="noStrike">
                <a:solidFill>
                  <a:srgbClr val="003366"/>
                </a:solidFill>
                <a:latin typeface="Calibri"/>
              </a:rPr>
              <a:t>:</a:t>
            </a:r>
            <a:endParaRPr b="0" lang="en-US" sz="15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Zaměstnavatel musí prokazovat</a:t>
            </a:r>
            <a:r>
              <a:rPr b="0" lang="cs-CZ" sz="1500" spc="-1" strike="noStrike">
                <a:solidFill>
                  <a:srgbClr val="003366"/>
                </a:solidFill>
                <a:latin typeface="Calibri"/>
              </a:rPr>
              <a:t> splnění předpokladů odpovědnosti: </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všechny předpoklady u obecné odpovědnosti, tedy i zavinění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odpovědností s presumovaným zaviněním zaměstnavatel </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prokazuje zavinění, avšak zaměstnanec může prokázat, že škodu</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zavinil (může se vyvinit – exculpovat)</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Limitace náhrady škody</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u obecné odpovědnosti (z nedbalosti) – max. do 4,5x průměrného výdělku (hradí se jen skutečná škoda, ne ušlý zisk) </a:t>
            </a:r>
            <a:endParaRPr b="0" lang="en-US" sz="1400" spc="-1" strike="noStrike">
              <a:solidFill>
                <a:srgbClr val="003366"/>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endParaRPr b="0" lang="en-US" sz="10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r>
              <a:rPr b="0" lang="cs-CZ" sz="1200" spc="-1" strike="noStrike">
                <a:solidFill>
                  <a:srgbClr val="003366"/>
                </a:solidFill>
                <a:latin typeface="Calibri"/>
              </a:rPr>
              <a:t>Limitace neplatí (tzn. </a:t>
            </a:r>
            <a:r>
              <a:rPr b="0" lang="cs-CZ" sz="1200" spc="-1" strike="noStrike" u="sng">
                <a:solidFill>
                  <a:srgbClr val="003366"/>
                </a:solidFill>
                <a:uFillTx/>
                <a:latin typeface="Calibri"/>
              </a:rPr>
              <a:t>hradí se škoda</a:t>
            </a:r>
            <a:r>
              <a:rPr b="0" lang="cs-CZ" sz="1200" spc="-1" strike="noStrike">
                <a:solidFill>
                  <a:srgbClr val="003366"/>
                </a:solidFill>
                <a:latin typeface="Calibri"/>
              </a:rPr>
              <a:t> </a:t>
            </a:r>
            <a:r>
              <a:rPr b="0" lang="cs-CZ" sz="1200" spc="-1" strike="noStrike" u="sng">
                <a:solidFill>
                  <a:srgbClr val="003366"/>
                </a:solidFill>
                <a:uFillTx/>
                <a:latin typeface="Calibri"/>
              </a:rPr>
              <a:t>v plné výši</a:t>
            </a:r>
            <a:r>
              <a:rPr b="0" lang="cs-CZ" sz="1200" spc="-1" strike="noStrike">
                <a:solidFill>
                  <a:srgbClr val="003366"/>
                </a:solidFill>
                <a:latin typeface="Calibri"/>
              </a:rPr>
              <a:t>) byla-li škoda způsobena:</a:t>
            </a:r>
            <a:endParaRPr b="0" lang="en-US" sz="12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úmyslně (zaměstnavatel může požadovat i náhradu ušlého </a:t>
            </a:r>
            <a:r>
              <a:rPr b="0" lang="cs-CZ" sz="1100" spc="-1" strike="noStrike">
                <a:solidFill>
                  <a:srgbClr val="003366"/>
                </a:solidFill>
                <a:latin typeface="Calibri"/>
              </a:rPr>
              <a:t>	</a:t>
            </a:r>
            <a:r>
              <a:rPr b="0" lang="cs-CZ" sz="1100" spc="-1" strike="noStrike">
                <a:solidFill>
                  <a:srgbClr val="003366"/>
                </a:solidFill>
                <a:latin typeface="Calibri"/>
              </a:rPr>
              <a:t>zisku)</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opilosti, nebo po zneužití jiných návykových látek </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případech zvláštní odpovědnosti za:</a:t>
            </a:r>
            <a:endParaRPr b="0" lang="en-US" sz="11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schodek na hodnotách svěřených k vyúčtování</a:t>
            </a:r>
            <a:endParaRPr b="0" lang="en-US" sz="10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ztrátu svěřených předmětů</a:t>
            </a:r>
            <a:endParaRPr b="0" lang="en-US" sz="1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66"/>
                </a:solidFill>
                <a:uFillTx/>
                <a:latin typeface="Calibri"/>
              </a:rPr>
              <a:t>Pojmy pracovní úraz a nemoc z povolání</a:t>
            </a:r>
            <a:endParaRPr b="1" lang="en-US" sz="30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Calibri"/>
              </a:rPr>
              <a:t>Pojmy pracovní úraz a 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pracovní úraz</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oškození zdraví nebo smrt zaměstnance, došlo-li k nim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závisle na jeho vůli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krátkodobým, náhlým a násilným působením zevních vlivů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ři plnění pracovních úkolů nebo v přímé souvislosti s ním.</a:t>
            </a:r>
            <a:endParaRPr b="0" lang="en-US" sz="2200" spc="-1" strike="noStrike">
              <a:solidFill>
                <a:srgbClr val="003366"/>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moci uvedené ve zvláštním právním předpisu</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schodek na svěřených hodnotách</a:t>
            </a:r>
            <a:endParaRPr b="1" lang="en-US" sz="32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ohoda o odpovědnosti k ochraně hodnot svěřených zaměstnanci k vyúčtování "dohoda o odpovědnosti„, za které se považují hotovost, ceniny, zboží, zásoby materiálu nebo jiné hodnoty, které jsou předmětem obratu nebo oběhu, s nimiž má zaměstnanec možnost osobně disponovat po celou dobu, po kterou mu byly svěřeny, odpovídá za schodek vzniklý na těchto hodnotách.</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véprávnost zaměstnance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cela nebo zčásti, jestliže prokáže, že schodek vznikl zcela nebo zčásti bez jeho zavinění, zejména, že mu bylo zanedbáním povinnosti zaměstnavatele znemožněno se svěřenými hodnotami nakládat.</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trátu svěřených věcí</a:t>
            </a:r>
            <a:endParaRPr b="1" lang="en-US" sz="32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odpovídá za ztrátu nástrojů, ochranných pracovních prostředků a jiných podobných věcí, které mu zaměstnavatel svěřil na písemné potvrzen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ena přesahuje 50 000 Kč, smí být zaměstnanci svěřena jen na základě dohody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yla-li svéprávnost zaměstnance omezena, nesmí za něj zástupce uzavřít dohodu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a ztrátu svěřených věcí zcela nebo zčásti, jestliže prokáže, že ztráta vznikla zcela nebo zčásti bez jeho zaviněn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městnavatele za škodu</a:t>
            </a:r>
            <a:endParaRPr b="1" lang="en-US" sz="32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za škodu, která mu vznikla při plnění pracovních úkolů nebo v přímé souvislosti s ním porušením právních povinností nebo úmyslným jednáním proti dobrým mravů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též za škodu, kterou mu způsobili porušením právních povinností v rámci plnění pracovních úkolů zaměstnavatele zaměstnanci jednající jeho jmén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neodpovídá zaměstnanci za škodu na dopravním prostředku, kterého použil při plnění pracovních úkolů nebo v přímé souvislosti s ním bez jeho souhlasu. Rovněž neodpovídá za škodu, která vznikne na nářadí, zařízeních a předmětech zaměstnance potřebných pro výkon práce, které použil bez jeho souhlasu.</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na odložených věcech</a:t>
            </a:r>
            <a:endParaRPr b="1" lang="en-US" sz="32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aměstnavatel odpovídá zaměstnanci za škodu na věcech, které se obvykle nosí do práce a které si zaměstnanec odložil při plnění pracovních úkolů nebo v přímé souvislosti s ním na místě k tomu určeném nebo obvyklém.</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zsah náhrady škody</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je povinen uhradit zaměstnanci skutečnou škod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Jde-li o škodu způsobenou úmyslně, může zaměstnanec požadovat náhradu i jiné škod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 věci, které zaměstnanec obvykle do práce nenosí a které zaměstnavatel nepřevzal do zvláštní úschovy, odpovídá zaměstnavatel do částky 10 000 Kč. Jestliže se zjistí, že škodu na těchto věcech způsobil jiný zaměstnanec nebo došlo-li ke škodě na věci, kterou zaměstnavatel převzal do zvláštní úschovy, je zaměstnavatel povinen uhradit zaměstnanci škodu v plné výši.</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Zabezpečení pro pracovních úrazech a nemocech z povolání</a:t>
            </a:r>
            <a:endParaRPr b="1" lang="en-US" sz="32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pracovním úrazem, jestliže škoda vznikla při plnění pracovních úkolů nebo v přímé souvislosti s ním.</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nemocí z povolání, jestliže zaměstnanec naposledy před jejím zjištěním pracoval u zaměstnavatele za podmínek, za nichž vzniká nemoc z povolání, kterou byl postižen.</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ko nemoc z povolání se odškodňuje i nemoc vzniklá před jejím zařazením do seznamu nemocí z povolání, a to od jejího zařazení do seznamu a za dobu nejvýše 3 let před jejím zařazením do seznamu.</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je povinen nahradit škodu, i když dodržel povinnosti vyplývající z právních a ostatních předpisů k zajištění bezpečnosti a ochrany zdraví při práci, pokud se odpovědnosti zcela nebo zčásti nezprostí.</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náhrad</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tráta na výdělk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lest a ztížení společenského uplatně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čelně vynaložené náklady spojené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ěcná ško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ruhy náhrad při úmrtí zaměstnance</a:t>
            </a:r>
            <a:endParaRPr b="1" lang="en-US" sz="32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účelně vynaložených nákladů spojených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ákladů s pohřb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a výživu pozůstalý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dnorázové odškodnění pozůstalý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věcné ško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vinění </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avinění – formy a intenzity:</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úmysl</a:t>
            </a:r>
            <a:r>
              <a:rPr b="0" lang="en-US" sz="1400" spc="-1" strike="noStrike">
                <a:solidFill>
                  <a:srgbClr val="003366"/>
                </a:solidFill>
                <a:latin typeface="Arial"/>
              </a:rPr>
              <a:t> </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přímý</a:t>
            </a:r>
            <a:r>
              <a:rPr b="0" lang="en-US" sz="1400" spc="-1" strike="noStrike">
                <a:solidFill>
                  <a:srgbClr val="003366"/>
                </a:solidFill>
                <a:latin typeface="Arial"/>
              </a:rPr>
              <a:t> – subjekt věděl a chtěl porušit nebo ohrozit zájem chráněný</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zákonem</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nepřímý</a:t>
            </a:r>
            <a:r>
              <a:rPr b="0" lang="en-US" sz="1400" spc="-1" strike="noStrike">
                <a:solidFill>
                  <a:srgbClr val="003366"/>
                </a:solidFill>
                <a:latin typeface="Arial"/>
              </a:rPr>
              <a:t> – subjekt věděl, že svým jednáním může takové porušení nebo</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ohrožení způsobit, a pro případ, že je způsobí, byl s tím srozuměn</a:t>
            </a: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dbalost</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vědomá</a:t>
            </a:r>
            <a:r>
              <a:rPr b="0" lang="en-US" sz="1400" spc="-1" strike="noStrike">
                <a:solidFill>
                  <a:srgbClr val="003366"/>
                </a:solidFill>
                <a:latin typeface="Arial"/>
              </a:rPr>
              <a:t> – subjekt věděl, že může způsobem uvedeným v zákoně</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it nebo ohrozit zájem chráněný takovým zákonem,</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le bez přiměřených důvodů spoléhal, že takové porušení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nebo ohrožení nezpůsobí</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nevědomá</a:t>
            </a:r>
            <a:r>
              <a:rPr b="0" lang="en-US" sz="1400" spc="-1" strike="noStrike">
                <a:solidFill>
                  <a:srgbClr val="003366"/>
                </a:solidFill>
                <a:latin typeface="Arial"/>
              </a:rPr>
              <a:t> – subjekt nevěděl, že svým jednáním může takové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ení nebo ohrožení způsobit, ač o tom vzhledem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k okolnostem a k svým osobním poměrům vědět měl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 mohl</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e-li zavinění předpokladem vzniku odpovědnosti – </a:t>
            </a:r>
            <a:r>
              <a:rPr b="1" lang="en-US" sz="1400" spc="-1" strike="noStrike" u="sng">
                <a:solidFill>
                  <a:srgbClr val="003366"/>
                </a:solidFill>
                <a:uFillTx/>
                <a:latin typeface="Arial"/>
              </a:rPr>
              <a:t>odpovědnost subjektivní</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ení-li zavinění předpokladem vzniku odpovědnosti – </a:t>
            </a:r>
            <a:r>
              <a:rPr b="1" lang="en-US" sz="1400" spc="-1" strike="noStrike" u="sng">
                <a:solidFill>
                  <a:srgbClr val="003366"/>
                </a:solidFill>
                <a:uFillTx/>
                <a:latin typeface="Arial"/>
              </a:rPr>
              <a:t>odpovědnost objektivní</a:t>
            </a:r>
            <a:endParaRPr b="0" lang="en-US" sz="1400" spc="-1" strike="noStrike">
              <a:solidFill>
                <a:srgbClr val="003366"/>
              </a:solidFill>
              <a:latin typeface="Arial"/>
            </a:endParaRPr>
          </a:p>
          <a:p>
            <a:pPr marL="294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39" name="PlaceHolder 1"/>
          <p:cNvSpPr>
            <a:spLocks noGrp="1"/>
          </p:cNvSpPr>
          <p:nvPr>
            <p:ph/>
          </p:nvPr>
        </p:nvSpPr>
        <p:spPr>
          <a:xfrm>
            <a:off x="1042920" y="278100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40" name="Group 2"/>
          <p:cNvGrpSpPr/>
          <p:nvPr/>
        </p:nvGrpSpPr>
        <p:grpSpPr>
          <a:xfrm>
            <a:off x="1619280" y="2133720"/>
            <a:ext cx="5760720" cy="3887280"/>
            <a:chOff x="1619280" y="2133720"/>
            <a:chExt cx="5760720" cy="3887280"/>
          </a:xfrm>
        </p:grpSpPr>
        <p:sp>
          <p:nvSpPr>
            <p:cNvPr id="241" name="Puzzle3"/>
            <p:cNvSpPr/>
            <p:nvPr/>
          </p:nvSpPr>
          <p:spPr>
            <a:xfrm>
              <a:off x="4424760" y="2133720"/>
              <a:ext cx="2264040" cy="2066040"/>
            </a:xfrm>
            <a:custGeom>
              <a:avLst/>
              <a:gdLst>
                <a:gd name="textAreaLeft" fmla="*/ 237600 w 2264040"/>
                <a:gd name="textAreaRight" fmla="*/ 2008080 w 2264040"/>
                <a:gd name="textAreaTop" fmla="*/ 738000 h 2066040"/>
                <a:gd name="textAreaBottom" fmla="*/ 1935000 h 2066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Puzzle2"/>
            <p:cNvSpPr/>
            <p:nvPr/>
          </p:nvSpPr>
          <p:spPr>
            <a:xfrm>
              <a:off x="3765960" y="3638520"/>
              <a:ext cx="3614040" cy="1883160"/>
            </a:xfrm>
            <a:custGeom>
              <a:avLst/>
              <a:gdLst>
                <a:gd name="textAreaLeft" fmla="*/ 902520 w 3614040"/>
                <a:gd name="textAreaRight" fmla="*/ 2707560 w 3614040"/>
                <a:gd name="textAreaTop" fmla="*/ 588240 h 1883160"/>
                <a:gd name="textAreaBottom" fmla="*/ 1782360 h 18831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99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Puzzle4"/>
            <p:cNvSpPr/>
            <p:nvPr/>
          </p:nvSpPr>
          <p:spPr>
            <a:xfrm>
              <a:off x="2367360" y="3615480"/>
              <a:ext cx="2179080" cy="2405520"/>
            </a:xfrm>
            <a:custGeom>
              <a:avLst/>
              <a:gdLst>
                <a:gd name="textAreaLeft" fmla="*/ 209160 w 2179080"/>
                <a:gd name="textAreaRight" fmla="*/ 2039040 w 2179080"/>
                <a:gd name="textAreaTop" fmla="*/ 630360 h 2405520"/>
                <a:gd name="textAreaBottom" fmla="*/ 1779120 h 2405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92d05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Puzzle1"/>
            <p:cNvSpPr/>
            <p:nvPr/>
          </p:nvSpPr>
          <p:spPr>
            <a:xfrm>
              <a:off x="1619280" y="2758680"/>
              <a:ext cx="3659040" cy="1433880"/>
            </a:xfrm>
            <a:custGeom>
              <a:avLst/>
              <a:gdLst>
                <a:gd name="textAreaLeft" fmla="*/ 1030680 w 3659040"/>
                <a:gd name="textAreaRight" fmla="*/ 2732040 w 3659040"/>
                <a:gd name="textAreaTop" fmla="*/ 170280 h 1433880"/>
                <a:gd name="textAreaBottom" fmla="*/ 1297440 h 14338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5" name=""/>
          <p:cNvSpPr/>
          <p:nvPr/>
        </p:nvSpPr>
        <p:spPr>
          <a:xfrm>
            <a:off x="2556000" y="33577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SUBJEKT</a:t>
            </a:r>
            <a:endParaRPr b="0" lang="en-US" sz="1800" spc="-1" strike="noStrike">
              <a:solidFill>
                <a:srgbClr val="003366"/>
              </a:solidFill>
              <a:latin typeface="Arial"/>
            </a:endParaRPr>
          </a:p>
        </p:txBody>
      </p:sp>
      <p:sp>
        <p:nvSpPr>
          <p:cNvPr id="246" name=""/>
          <p:cNvSpPr/>
          <p:nvPr/>
        </p:nvSpPr>
        <p:spPr>
          <a:xfrm flipH="1">
            <a:off x="4642560" y="2781360"/>
            <a:ext cx="173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BJEKTIVNÍ</a:t>
            </a:r>
            <a:r>
              <a:rPr b="0" lang="en-US" sz="1800" spc="-1" strike="noStrike">
                <a:solidFill>
                  <a:srgbClr val="003366"/>
                </a:solidFill>
                <a:latin typeface="Arial"/>
              </a:rPr>
              <a:t> </a:t>
            </a:r>
            <a:r>
              <a:rPr b="1" lang="en-US" sz="1800" spc="-1" strike="noStrike">
                <a:solidFill>
                  <a:srgbClr val="003366"/>
                </a:solidFill>
                <a:latin typeface="Arial"/>
              </a:rPr>
              <a:t>STRÁNKA</a:t>
            </a:r>
            <a:endParaRPr b="0" lang="en-US" sz="1800" spc="-1" strike="noStrike">
              <a:solidFill>
                <a:srgbClr val="003366"/>
              </a:solidFill>
              <a:latin typeface="Arial"/>
            </a:endParaRPr>
          </a:p>
        </p:txBody>
      </p:sp>
      <p:sp>
        <p:nvSpPr>
          <p:cNvPr id="247" name=""/>
          <p:cNvSpPr/>
          <p:nvPr/>
        </p:nvSpPr>
        <p:spPr>
          <a:xfrm>
            <a:off x="2845080" y="4292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a:t>
            </a:r>
            <a:endParaRPr b="0" lang="en-US" sz="1800" spc="-1" strike="noStrike">
              <a:solidFill>
                <a:srgbClr val="003366"/>
              </a:solidFill>
              <a:latin typeface="Arial"/>
            </a:endParaRPr>
          </a:p>
        </p:txBody>
      </p:sp>
      <p:sp>
        <p:nvSpPr>
          <p:cNvPr id="248" name=""/>
          <p:cNvSpPr/>
          <p:nvPr/>
        </p:nvSpPr>
        <p:spPr>
          <a:xfrm>
            <a:off x="4500720" y="4221000"/>
            <a:ext cx="244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IVNÍ STRÁNK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924"/>
              </a:spcBef>
              <a:buClr>
                <a:srgbClr val="f9f4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99"/>
                </a:solidFill>
                <a:latin typeface="Arial"/>
              </a:rPr>
              <a:t>Zavinění</a:t>
            </a:r>
            <a:endParaRPr b="0" lang="en-US" sz="37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přímý</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eventuální</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   </a:t>
            </a:r>
            <a:r>
              <a:rPr b="1" lang="en-US" sz="3000" spc="-1" strike="noStrike">
                <a:solidFill>
                  <a:srgbClr val="666699"/>
                </a:solidFill>
                <a:latin typeface="Arial"/>
              </a:rPr>
              <a:t>Nedbalost vědomá</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99"/>
                </a:solidFill>
                <a:latin typeface="Arial"/>
              </a:rPr>
              <a:t>   </a:t>
            </a:r>
            <a:r>
              <a:rPr b="1" lang="en-US" sz="3000" spc="-1" strike="noStrike">
                <a:solidFill>
                  <a:srgbClr val="666699"/>
                </a:solidFill>
                <a:latin typeface="Arial"/>
              </a:rPr>
              <a:t>Nedbalost nevědomá</a:t>
            </a:r>
            <a:endParaRPr b="0" lang="en-US" sz="30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ff"/>
                </a:solidFill>
                <a:latin typeface="Arial"/>
              </a:rPr>
              <a:t>    </a:t>
            </a:r>
            <a:r>
              <a:rPr b="1" i="1" lang="en-US" sz="2200" spc="-1" strike="noStrike">
                <a:solidFill>
                  <a:srgbClr val="006666"/>
                </a:solidFill>
                <a:latin typeface="Arial"/>
              </a:rPr>
              <a:t>Nedbalost hrubá</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jčastější trestné činy při výkonu zdravotnického povolání</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Usmrcení z nedbalosti nebo ublížení na zdraví z nedbalost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poskytnutí pomoc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právněné nakládání s osobními údaj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známení a nepřekažení trestného čin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proti těhotenství žen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související s neoprávněným nakládáním s lidskými  orgány a tkáněmi, lidským embryem a genome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hrožení pod vlivem návykové látk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mezení a zbavení osobní svobo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škození cizích práv</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Vystavování nepravdivých lékařských zpráv, posudků a nález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dvo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trestních sankcí</a:t>
            </a:r>
            <a:endParaRPr b="1" lang="en-US" sz="36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3366"/>
                </a:solidFill>
                <a:uFillTx/>
                <a:latin typeface="Calibri"/>
              </a:rPr>
              <a:t>Druhy trestních sankcí</a:t>
            </a:r>
            <a:r>
              <a:rPr b="0" lang="en-US" sz="1100" spc="-1" strike="noStrike">
                <a:solidFill>
                  <a:srgbClr val="003366"/>
                </a:solidFill>
                <a:latin typeface="Calibri"/>
              </a:rPr>
              <a:t> (§ 36)</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Trestními sankcemi jsou </a:t>
            </a:r>
            <a:r>
              <a:rPr b="0" lang="en-US" sz="1100" spc="-1" strike="noStrike" u="sng">
                <a:solidFill>
                  <a:srgbClr val="003366"/>
                </a:solidFill>
                <a:uFillTx/>
                <a:latin typeface="Calibri"/>
              </a:rPr>
              <a:t>tresty</a:t>
            </a:r>
            <a:r>
              <a:rPr b="0" lang="en-US" sz="1100" spc="-1" strike="noStrike">
                <a:solidFill>
                  <a:srgbClr val="003366"/>
                </a:solidFill>
                <a:latin typeface="Calibri"/>
              </a:rPr>
              <a:t> a </a:t>
            </a:r>
            <a:r>
              <a:rPr b="0" i="1" lang="en-US" sz="1100" spc="-1" strike="noStrike">
                <a:solidFill>
                  <a:srgbClr val="003366"/>
                </a:solidFill>
                <a:latin typeface="Calibri"/>
              </a:rPr>
              <a:t>ochranná opatř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Calibri"/>
              </a:rPr>
              <a:t>Druhy trestů</a:t>
            </a:r>
            <a:r>
              <a:rPr b="0" lang="en-US" sz="1100" spc="-1" strike="noStrike">
                <a:solidFill>
                  <a:srgbClr val="003366"/>
                </a:solidFill>
                <a:latin typeface="Calibri"/>
              </a:rPr>
              <a:t> (§ 52)</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a) odnětí svobod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b) domácí věz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c) obecně prospěšné prá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d) propadnutí majetk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e) peněžitý trest,</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f) propadnutí věci nebo jiné majetkové hodnot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g) zákaz čin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h) zákaz pobyt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i) zákaz vstupu na sportovní, kulturní a jiné společenské ak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j) ztrátu čestných titulů nebo vyznamená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k) ztrátu vojenské hod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l) vyhoště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3366"/>
                </a:solidFill>
                <a:latin typeface="Calibri"/>
              </a:rPr>
              <a:t>Druhy ochranných opatření </a:t>
            </a:r>
            <a:r>
              <a:rPr b="0" i="1" lang="en-US" sz="1100" spc="-1" strike="noStrike">
                <a:solidFill>
                  <a:srgbClr val="003366"/>
                </a:solidFill>
                <a:latin typeface="Calibri"/>
              </a:rPr>
              <a:t>(§ 98)</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Ochrannými opatřeními jsou ochranné léčení, zabezpečovací detence, </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zabrání věci nebo jiné majetkové hodnoty a ochranná výchova.</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ávní odpovědnost</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 vině a trestu rozhodují </a:t>
            </a:r>
            <a:r>
              <a:rPr b="1" lang="en-US" sz="1800" spc="-1" strike="noStrike">
                <a:solidFill>
                  <a:srgbClr val="003366"/>
                </a:solidFill>
                <a:latin typeface="Calibri"/>
              </a:rPr>
              <a:t>správní orgány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lze přezkoumat soudem – správní soudnictví)</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právní delikt </a:t>
            </a:r>
            <a:r>
              <a:rPr b="0" lang="en-US" sz="1800" spc="-1" strike="noStrike">
                <a:solidFill>
                  <a:srgbClr val="003366"/>
                </a:solidFill>
                <a:latin typeface="Calibri"/>
              </a:rPr>
              <a:t>→ trestné jednání podle správní odpovědnos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řestupk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iné správní delikt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právní disciplinární delikt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dpovědná </a:t>
            </a:r>
            <a:r>
              <a:rPr b="0" lang="en-US" sz="1800" spc="-1" strike="noStrike" u="sng">
                <a:solidFill>
                  <a:srgbClr val="003366"/>
                </a:solidFill>
                <a:uFillTx/>
                <a:latin typeface="Calibri"/>
              </a:rPr>
              <a:t>pouze fyzická osoba</a:t>
            </a:r>
            <a:r>
              <a:rPr b="0" lang="en-US" sz="1800" spc="-1" strike="noStrike">
                <a:solidFill>
                  <a:srgbClr val="003366"/>
                </a:solidFill>
                <a:latin typeface="Calibri"/>
              </a:rPr>
              <a:t>, a to i za porušení povinností uložených právnické osobě</a:t>
            </a:r>
            <a:endParaRPr b="0" lang="en-US" sz="18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t>
            </a:r>
            <a:r>
              <a:rPr b="0" lang="en-US" sz="1700" spc="-1" strike="noStrike">
                <a:solidFill>
                  <a:srgbClr val="003366"/>
                </a:solidFill>
                <a:latin typeface="Calibri"/>
              </a:rPr>
              <a:t>Za porušení povinnosti uložené právnické osobě odpovídá podle tohoto zákona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za právnickou osobu jednal nebo měl jednat, a jde-li o jednání na příkaz,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dal k jednání příkaz.“ (§ 6 zákona o přestupcích)</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ek</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alibri"/>
              </a:rPr>
              <a:t>Zák. č. 200/1990 Sb</a:t>
            </a:r>
            <a:r>
              <a:rPr b="0" lang="en-US" sz="1800" spc="-1" strike="noStrike">
                <a:solidFill>
                  <a:srgbClr val="003366"/>
                </a:solidFill>
                <a:latin typeface="Calibri"/>
              </a:rPr>
              <a:t>., </a:t>
            </a:r>
            <a:r>
              <a:rPr b="1" lang="en-US" sz="1800" spc="-1" strike="noStrike" u="sng">
                <a:solidFill>
                  <a:srgbClr val="003366"/>
                </a:solidFill>
                <a:uFillTx/>
                <a:latin typeface="Calibri"/>
              </a:rPr>
              <a:t>o přestupcích</a:t>
            </a:r>
            <a:r>
              <a:rPr b="0" lang="en-US" sz="1800" spc="-1" strike="noStrike">
                <a:solidFill>
                  <a:srgbClr val="003366"/>
                </a:solidFill>
                <a:latin typeface="Calibri"/>
              </a:rPr>
              <a:t>, ve znění pozdějš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Přestupek</a:t>
            </a:r>
            <a:r>
              <a:rPr b="0" lang="en-US" sz="1800" spc="-1" strike="noStrike">
                <a:solidFill>
                  <a:srgbClr val="003366"/>
                </a:solidFill>
                <a:latin typeface="Calibri"/>
              </a:rPr>
              <a:t> (§ 2 odst. 1)</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zaviněné jednání, které porušuje nebo ohrožuje zájem společnost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je </a:t>
            </a:r>
            <a:r>
              <a:rPr b="0" lang="en-US" sz="1800" spc="-1" strike="noStrike" u="sng">
                <a:solidFill>
                  <a:srgbClr val="003366"/>
                </a:solidFill>
                <a:uFillTx/>
                <a:latin typeface="Calibri"/>
              </a:rPr>
              <a:t>za přestupek</a:t>
            </a:r>
            <a:r>
              <a:rPr b="0" lang="en-US" sz="1800" spc="-1" strike="noStrike">
                <a:solidFill>
                  <a:srgbClr val="003366"/>
                </a:solidFill>
                <a:latin typeface="Calibri"/>
              </a:rPr>
              <a:t> </a:t>
            </a:r>
            <a:r>
              <a:rPr b="0" lang="en-US" sz="1800" spc="-1" strike="noStrike" u="sng">
                <a:solidFill>
                  <a:srgbClr val="003366"/>
                </a:solidFill>
                <a:uFillTx/>
                <a:latin typeface="Calibri"/>
              </a:rPr>
              <a:t>výslovně označeno</a:t>
            </a:r>
            <a:r>
              <a:rPr b="0" lang="en-US" sz="1800" spc="-1" strike="noStrike">
                <a:solidFill>
                  <a:srgbClr val="003366"/>
                </a:solidFill>
                <a:latin typeface="Calibri"/>
              </a:rPr>
              <a:t> v přestupkovém nebo jiném zákoně,</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ejde-li o jiný správní delikt postižitelný podle zvláštních právn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nebo o trestný či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Zavinění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e předpokladem odpovědnosti za přestupek (nelze spáchat nezaviněně)</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k odpovědnosti za přestupek postačí </a:t>
            </a:r>
            <a:r>
              <a:rPr b="1" lang="en-US" sz="1800" spc="-1" strike="noStrike">
                <a:solidFill>
                  <a:srgbClr val="003366"/>
                </a:solidFill>
                <a:latin typeface="Calibri"/>
              </a:rPr>
              <a:t>zavinění z nedbalosti</a:t>
            </a:r>
            <a:r>
              <a:rPr b="0" lang="en-US" sz="1800" spc="-1" strike="noStrike">
                <a:solidFill>
                  <a:srgbClr val="003366"/>
                </a:solidFill>
                <a:latin typeface="Calibri"/>
              </a:rPr>
              <a:t>, </a:t>
            </a:r>
            <a:r>
              <a:rPr b="0" lang="en-US" sz="1800" spc="-1" strike="noStrike" u="sng">
                <a:solidFill>
                  <a:srgbClr val="003366"/>
                </a:solidFill>
                <a:uFillTx/>
                <a:latin typeface="Calibri"/>
              </a:rPr>
              <a:t>nestanoví-l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zákon </a:t>
            </a:r>
            <a:r>
              <a:rPr b="0" lang="en-US" sz="1800" spc="-1" strike="noStrike" u="sng">
                <a:solidFill>
                  <a:srgbClr val="003366"/>
                </a:solidFill>
                <a:uFillTx/>
                <a:latin typeface="Calibri"/>
              </a:rPr>
              <a:t>výslovně</a:t>
            </a:r>
            <a:r>
              <a:rPr b="0" lang="en-US" sz="1800" spc="-1" strike="noStrike">
                <a:solidFill>
                  <a:srgbClr val="003366"/>
                </a:solidFill>
                <a:latin typeface="Calibri"/>
              </a:rPr>
              <a:t>, že je třeba </a:t>
            </a:r>
            <a:r>
              <a:rPr b="0" lang="en-US" sz="1800" spc="-1" strike="noStrike" u="sng">
                <a:solidFill>
                  <a:srgbClr val="003366"/>
                </a:solidFill>
                <a:uFillTx/>
                <a:latin typeface="Calibri"/>
              </a:rPr>
              <a:t>úmyslného zavinění</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ky</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menu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ku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č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adnutí vě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poby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dnání přestupku</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3366"/>
                </a:solidFill>
                <a:uFillTx/>
                <a:latin typeface="Calibri"/>
              </a:rPr>
              <a:t>Přestupky projednávají</a:t>
            </a:r>
            <a:r>
              <a:rPr b="0" lang="en-US" sz="1500" spc="-1" strike="noStrike">
                <a:solidFill>
                  <a:srgbClr val="003366"/>
                </a:solidFill>
                <a:latin typeface="Calibri"/>
              </a:rPr>
              <a:t> (§ 52):</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obecní úřady nebo zvláštní orgány obcí (tzv. přestupkové komise - § 52/3)</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jiné správní orgány, stanoví-li tak zvláštní zákon</a:t>
            </a:r>
            <a:endParaRPr b="0" lang="en-US" sz="15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53</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1) </a:t>
            </a:r>
            <a:r>
              <a:rPr b="0" i="1" lang="en-US" sz="1000" spc="-1" strike="noStrike" u="sng">
                <a:solidFill>
                  <a:srgbClr val="003366"/>
                </a:solidFill>
                <a:uFillTx/>
                <a:latin typeface="Calibri"/>
              </a:rPr>
              <a:t>Obce</a:t>
            </a:r>
            <a:r>
              <a:rPr b="0" i="1" lang="en-US" sz="1000" spc="-1" strike="noStrike">
                <a:solidFill>
                  <a:srgbClr val="003366"/>
                </a:solidFill>
                <a:latin typeface="Calibri"/>
              </a:rPr>
              <a:t> projednávají přestupky proti pořádku ve státní správě ve věcech, které jsou jim svěřeny, přestupky proti pořádku v územní samosprávě, přestupky proti veřejnému pořádku, přestupky proti majetku, jakož i přestupky proti občanskému soužití, pokud nebyly spáchány porušením zvláštních právních předpisů o provozu na pozemních komunikacích, a přestupky na úseku vyhledávání, ochrany, využívání a dalšího rozvoje přírodních léčivých zdrojů, zdrojů přírodních minerálních vod a lázeňských míst.</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a:t>
            </a:r>
            <a:r>
              <a:rPr b="0" i="1" lang="en-US" sz="1000" spc="-1" strike="noStrike">
                <a:solidFill>
                  <a:srgbClr val="003366"/>
                </a:solidFill>
                <a:latin typeface="Calibri"/>
              </a:rPr>
              <a:t>(2) </a:t>
            </a:r>
            <a:r>
              <a:rPr b="0" i="1" lang="en-US" sz="1000" spc="-1" strike="noStrike" u="sng">
                <a:solidFill>
                  <a:srgbClr val="003366"/>
                </a:solidFill>
                <a:uFillTx/>
                <a:latin typeface="Calibri"/>
              </a:rPr>
              <a:t>Obecní úřady obcí s rozšířenou působností</a:t>
            </a:r>
            <a:r>
              <a:rPr b="0" i="1" lang="en-US" sz="1000" spc="-1" strike="noStrike">
                <a:solidFill>
                  <a:srgbClr val="003366"/>
                </a:solidFill>
                <a:latin typeface="Calibri"/>
              </a:rPr>
              <a:t> projednávají přestupky ve věcech, které spravují, a ostatní přestupky, pokud k jejich projednání nejsou příslušné </a:t>
            </a:r>
            <a:r>
              <a:rPr b="0" i="1" lang="en-US" sz="1000" spc="-1" strike="noStrike" u="sng">
                <a:solidFill>
                  <a:srgbClr val="003366"/>
                </a:solidFill>
                <a:uFillTx/>
                <a:latin typeface="Calibri"/>
              </a:rPr>
              <a:t>jiné správní orgány</a:t>
            </a:r>
            <a:r>
              <a:rPr b="0" i="1" lang="en-US" sz="1000" spc="-1" strike="noStrike">
                <a:solidFill>
                  <a:srgbClr val="003366"/>
                </a:solidFill>
                <a:latin typeface="Calibri"/>
              </a:rPr>
              <a:t>.</a:t>
            </a:r>
            <a:endParaRPr b="0" lang="en-US" sz="10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Říze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ení-li v tomto nebo jiném zákoně stanoveno jinak, vztahují se </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a řízení o přestupcích obecné předpisy o správním řízení ( § 51)</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tzn. zák. č. 500/2004 Sb., správní řád, ve znění pozdějších předpisů)</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Místní příslušn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projedná správní orgán, v jehož územním obvodu byl přestupek spáchán.</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jiný správní delik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j. </a:t>
            </a:r>
            <a:r>
              <a:rPr b="1" lang="en-US" sz="1800" spc="-1" strike="noStrike">
                <a:solidFill>
                  <a:srgbClr val="003366"/>
                </a:solidFill>
                <a:latin typeface="Calibri"/>
              </a:rPr>
              <a:t>správní delikt, který není přestupkem, </a:t>
            </a:r>
            <a:r>
              <a:rPr b="0" lang="en-US" sz="1800" spc="-1" strike="noStrike">
                <a:solidFill>
                  <a:srgbClr val="003366"/>
                </a:solidFill>
                <a:latin typeface="Calibri"/>
              </a:rPr>
              <a:t>spáchaný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fyzickou osobou – podnikatele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právnickou osobou</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nevyžaduje se zavinění</a:t>
            </a:r>
            <a:r>
              <a:rPr b="0" lang="en-US" sz="1800" spc="-1" strike="noStrike">
                <a:solidFill>
                  <a:srgbClr val="003366"/>
                </a:solidFill>
                <a:latin typeface="Calibri"/>
              </a:rPr>
              <a:t> → </a:t>
            </a:r>
            <a:r>
              <a:rPr b="1" lang="en-US" sz="1800" spc="-1" strike="noStrike" u="sng">
                <a:solidFill>
                  <a:srgbClr val="003366"/>
                </a:solidFill>
                <a:uFillTx/>
                <a:latin typeface="Calibri"/>
              </a:rPr>
              <a:t>objektivní</a:t>
            </a:r>
            <a:r>
              <a:rPr b="0" lang="en-US" sz="1800" spc="-1" strike="noStrike">
                <a:solidFill>
                  <a:srgbClr val="003366"/>
                </a:solidFill>
                <a:latin typeface="Calibri"/>
              </a:rPr>
              <a:t> odpovědnost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rojednávají </a:t>
            </a:r>
            <a:r>
              <a:rPr b="1" lang="en-US" sz="1800" spc="-1" strike="noStrike">
                <a:solidFill>
                  <a:srgbClr val="003366"/>
                </a:solidFill>
                <a:latin typeface="Calibri"/>
              </a:rPr>
              <a:t>příslušné správní orgány</a:t>
            </a:r>
            <a:r>
              <a:rPr b="0" lang="en-US" sz="1800" spc="-1" strike="noStrike">
                <a:solidFill>
                  <a:srgbClr val="003366"/>
                </a:solidFill>
                <a:latin typeface="Calibri"/>
              </a:rPr>
              <a:t>, např.:</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ři porušení povinnosti podle zákona o ochraně osobních údajů</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a:t>
            </a:r>
            <a:r>
              <a:rPr b="0" lang="en-US" sz="1600" spc="-1" strike="noStrike" u="sng">
                <a:solidFill>
                  <a:srgbClr val="003366"/>
                </a:solidFill>
                <a:uFillTx/>
                <a:latin typeface="Calibri"/>
              </a:rPr>
              <a:t>za přestupek </a:t>
            </a:r>
            <a:r>
              <a:rPr b="0" lang="en-US" sz="1600" spc="-1" strike="noStrike">
                <a:solidFill>
                  <a:srgbClr val="003366"/>
                </a:solidFill>
                <a:latin typeface="Calibri"/>
              </a:rPr>
              <a:t>fyzické osobě</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fyzické osobě - podnikateli či právnické osobě </a:t>
            </a:r>
            <a:r>
              <a:rPr b="0" lang="en-US" sz="1600" spc="-1" strike="noStrike" u="sng">
                <a:solidFill>
                  <a:srgbClr val="003366"/>
                </a:solidFill>
                <a:uFillTx/>
                <a:latin typeface="Calibri"/>
              </a:rPr>
              <a:t>za správní delikt</a:t>
            </a:r>
            <a:r>
              <a:rPr b="0" lang="en-US" sz="1600" spc="-1" strike="noStrike">
                <a:solidFill>
                  <a:srgbClr val="003366"/>
                </a:solidFill>
                <a:latin typeface="Calibri"/>
              </a:rPr>
              <a:t> podle </a:t>
            </a:r>
            <a:endParaRPr b="0" lang="en-US" sz="1600" spc="-1" strike="noStrike">
              <a:solidFill>
                <a:srgbClr val="003366"/>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	</a:t>
            </a:r>
            <a:r>
              <a:rPr b="0" lang="en-US" sz="1600" spc="-1" strike="noStrike">
                <a:solidFill>
                  <a:srgbClr val="003366"/>
                </a:solidFill>
                <a:latin typeface="Calibri"/>
              </a:rPr>
              <a:t>zákona na ochranu osobních údajů</a:t>
            </a:r>
            <a:endParaRPr b="0" lang="en-US" sz="16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Úřad pro ochranu osobních údajů</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iplinární odpovědnos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tj. delikt fyzické osoby, která je ve zvláštních právních vztazích k určité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instituci, se zvláštními právy a povinnostmi vyplývajícími z tohoto vztahu.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003366"/>
                </a:solidFill>
                <a:latin typeface="Calibri"/>
              </a:rPr>
              <a:t>Profesní komory </a:t>
            </a:r>
            <a:r>
              <a:rPr b="0" lang="cs-CZ" sz="1300" spc="-1" strike="noStrike">
                <a:solidFill>
                  <a:srgbClr val="003366"/>
                </a:solidFill>
                <a:latin typeface="Calibri"/>
              </a:rPr>
              <a:t>– odpovědnost členů profesních komor za </a:t>
            </a:r>
            <a:r>
              <a:rPr b="1" lang="cs-CZ" sz="1300" spc="-1" strike="noStrike">
                <a:solidFill>
                  <a:srgbClr val="003366"/>
                </a:solidFill>
                <a:latin typeface="Calibri"/>
              </a:rPr>
              <a:t>disciplinární delikty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odle zák. č. 220/1991 Sb., v platném z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ředpokladem odpovědnosti – </a:t>
            </a:r>
            <a:r>
              <a:rPr b="1" lang="cs-CZ" sz="1300" spc="-1" strike="noStrike" u="sng">
                <a:solidFill>
                  <a:srgbClr val="003366"/>
                </a:solidFill>
                <a:uFillTx/>
                <a:latin typeface="Calibri"/>
              </a:rPr>
              <a:t>zavinění</a:t>
            </a:r>
            <a:r>
              <a:rPr b="0" lang="cs-CZ" sz="1300" spc="-1" strike="noStrike">
                <a:solidFill>
                  <a:srgbClr val="003366"/>
                </a:solidFill>
                <a:latin typeface="Calibri"/>
              </a:rPr>
              <a:t> (alespoň nedbalost), to sice není v zákoně</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uvedeno, avšak vyplývá z právní teorie a z ustanovení disciplinárních řádů:</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Disciplinární řád ČLK </a:t>
            </a:r>
            <a:r>
              <a:rPr b="0" lang="cs-CZ" sz="1300" spc="-1" strike="noStrike">
                <a:solidFill>
                  <a:srgbClr val="003366"/>
                </a:solidFill>
                <a:latin typeface="Calibri"/>
              </a:rPr>
              <a:t>	</a:t>
            </a:r>
            <a:r>
              <a:rPr b="0" lang="cs-CZ" sz="1300" spc="-1" strike="noStrike">
                <a:solidFill>
                  <a:srgbClr val="003366"/>
                </a:solidFill>
                <a:latin typeface="Calibri"/>
              </a:rPr>
              <a:t>- § 10 odst. 3 písm. d)</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3366"/>
                </a:solidFill>
                <a:uFillTx/>
                <a:latin typeface="Calibri"/>
              </a:rPr>
              <a:t>Disciplinární řád ČLnK</a:t>
            </a:r>
            <a:r>
              <a:rPr b="0" lang="cs-CZ" sz="1300" spc="-1" strike="noStrike">
                <a:solidFill>
                  <a:srgbClr val="003366"/>
                </a:solidFill>
                <a:latin typeface="Calibri"/>
              </a:rPr>
              <a:t>	</a:t>
            </a:r>
            <a:r>
              <a:rPr b="0" lang="cs-CZ" sz="1300" spc="-1" strike="noStrike">
                <a:solidFill>
                  <a:srgbClr val="003366"/>
                </a:solidFill>
                <a:latin typeface="Calibri"/>
              </a:rPr>
              <a:t>- </a:t>
            </a:r>
            <a:r>
              <a:rPr b="0" lang="cs-CZ" sz="1300" spc="-1" strike="noStrike" u="sng">
                <a:solidFill>
                  <a:srgbClr val="003366"/>
                </a:solidFill>
                <a:uFillTx/>
                <a:latin typeface="Calibri"/>
              </a:rPr>
              <a:t>§ 18</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u="sng">
                <a:solidFill>
                  <a:srgbClr val="003366"/>
                </a:solidFill>
                <a:uFillTx/>
                <a:latin typeface="Calibri"/>
              </a:rPr>
              <a:t>Sankce</a:t>
            </a:r>
            <a:r>
              <a:rPr b="0" lang="cs-CZ" sz="1300" spc="-1" strike="noStrike">
                <a:solidFill>
                  <a:srgbClr val="003366"/>
                </a:solidFill>
                <a:latin typeface="Calibri"/>
              </a:rPr>
              <a:t> – disciplinární opatření, a to: </a:t>
            </a:r>
            <a:endParaRPr b="0" lang="en-US" sz="13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důtk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kut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dmíněné vyloučení z komory</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yloučení z komory</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enc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Ust. § 2900 a § 2902 NOZ</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Generální prevenční klauzu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Vyžadují-li to okolnosti případu nebo zvyklosti soukromého života, je každý povinen počínat si při svém konání tak, aby nedošlo k nedůvodné újmě na svobodě, životě, zdraví nebo na vlastnictví ji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Kdo porušil právní povinnost, nebo kdo může a má vědět, že ji poruší, oznámí to bez zbytečného odkladu osobě, které z toho může újma vzniknout, a upozorní ji na možné následk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Splní-li oznamovací povinnost, nemá poškozený právo na náhradu té újmy, které mohl po oznámení zabráni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fesní č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brá pově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ění práv podle mediálních zákon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osob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dobré pově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 oznámení pro trestný čin pomlu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podle mediálních zákonů</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odpově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dodatečné sděl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osobnosti</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řejná omlu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dobré pověsti</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ální  satisfak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í oznámení pro omluvu</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yzická osob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važné poškození při výkonu povolání, v zaměstnání, v rodině, nebo ve svém společenském postave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známení  (PČR, státní zastupitelstv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ecné pravidlo</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dvrácení škody by nemělo dojít ke vzniku větší nebo závažnější újmy než ta, která původně hrozi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1T19:03:04Z</dcterms:created>
  <dc:creator>Jana Konečná</dc:creator>
  <dc:description/>
  <dc:language>en-US</dc:language>
  <cp:lastModifiedBy>Jana Konečná</cp:lastModifiedBy>
  <dcterms:modified xsi:type="dcterms:W3CDTF">2014-11-09T16:37:17Z</dcterms:modified>
  <cp:revision>17</cp:revision>
  <dc:subject/>
  <dc:title>Odpovědnost zdravotnických pracovníků</dc:title>
</cp:coreProperties>
</file>