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EDDFE1-AB79-4830-9802-8F614A98D9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A779A-4388-4E0A-877A-8DEF2EFE6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0C1F81-7A9D-4B5B-A7D1-DA91F69FD7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84727E-D65B-42E4-AD70-540EC177AA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0F57E0-8A62-456D-AC30-45FA612557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FE5737-9182-4829-A956-D109056724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D54C5A-4399-4F95-8E4A-C7FEEDEC8B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95D906-9A3D-43E1-8B97-F9BAD4FBD9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29129C-7D5B-4BAC-8650-B3686CC43B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B37F7A-BECE-419A-BBAC-5BDC2F956C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FA381-90D5-4AA3-9E5D-0FA7449D1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7A6C1-B40F-4C5A-AE2C-A6DCD719F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6A3D71-01FC-407D-9A41-800116E385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606F7F-6A80-4AE0-A8AD-1B7DBCDA8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0EEC7F-404F-4BBE-854C-90768510A3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AA666F-69A5-49FD-BE77-9D7BBC0CFD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099B68-1708-4022-B23E-5435EAF95D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51FBF-6C5F-4B57-BD6B-71EB73788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EB4C2-8F74-4F30-B291-288904863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A7CFA-6C2C-43C9-8747-FE58C7A90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AF1B2-7212-46B5-90E0-9ABBADB9B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227A0-1ED9-476D-84FE-2B18EEDE1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0AA4D-7407-4334-ACB5-94AA016A8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98CC2-675E-4CB9-85F0-8F278CA4F9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11415-953B-4121-83EA-0F29CAB7E09E}"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1" name="Group 2"/>
          <p:cNvGrpSpPr/>
          <p:nvPr/>
        </p:nvGrpSpPr>
        <p:grpSpPr>
          <a:xfrm>
            <a:off x="0" y="0"/>
            <a:ext cx="8458200" cy="5943600"/>
            <a:chOff x="0" y="0"/>
            <a:chExt cx="8458200" cy="5943600"/>
          </a:xfrm>
        </p:grpSpPr>
        <p:sp>
          <p:nvSpPr>
            <p:cNvPr id="42"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F8319-3D9B-4AB6-9FC8-8A125A3272F6}"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hyperlink" Target="http://www.zlate-mince.cz/CRO_50_h.htm" TargetMode="External"/><Relationship Id="rId4" Type="http://schemas.openxmlformats.org/officeDocument/2006/relationships/image" Target="../media/image9.jpeg"/><Relationship Id="rId5" Type="http://schemas.openxmlformats.org/officeDocument/2006/relationships/hyperlink" Target="http://www.zlate-mince.cz/CRO_1_Kc.htm" TargetMode="External"/><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7.jpeg"/><Relationship Id="rId11" Type="http://schemas.openxmlformats.org/officeDocument/2006/relationships/image" Target="../media/image14.jpeg"/><Relationship Id="rId1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hyperlink" Target="http://www.vzp.cz/platci/informace/povinnosti-platcu-metodika/stat/vymerovaci-zaklad-stat" TargetMode="External"/><Relationship Id="rId2" Type="http://schemas.openxmlformats.org/officeDocument/2006/relationships/hyperlink" Target="http://www.vzp.cz/platci/informace/stat" TargetMode="External"/><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portal.gov.cz/app/zakony/zakon?q=48/1997" TargetMode="External"/><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hyperlink" Target="http://ekonomika.idnes.cz/foto.aspx?foto1=SPI34ec71_Lic_10_Kc_1993.jpg" TargetMode="External"/><Relationship Id="rId2" Type="http://schemas.openxmlformats.org/officeDocument/2006/relationships/image" Target="../media/image5.jpeg"/><Relationship Id="rId3" Type="http://schemas.openxmlformats.org/officeDocument/2006/relationships/hyperlink" Target="http://ekonomika.idnes.cz/foto.aspx?foto1=SPI34ec71_Lic_10_Kc_1993.jpg" TargetMode="External"/><Relationship Id="rId4" Type="http://schemas.openxmlformats.org/officeDocument/2006/relationships/image" Target="../media/image5.jpeg"/><Relationship Id="rId5" Type="http://schemas.openxmlformats.org/officeDocument/2006/relationships/hyperlink" Target="http://ekonomika.idnes.cz/foto.aspx?foto1=SPI34ec71_Lic_10_Kc_1993.jpg" TargetMode="External"/><Relationship Id="rId6" Type="http://schemas.openxmlformats.org/officeDocument/2006/relationships/image" Target="../media/image5.jpeg"/><Relationship Id="rId7"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hyperlink" Target="http://www.zlate-mince.cz/semafor.asp?obr=/m/50_1999_2B.jpg"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000" y="907920"/>
            <a:ext cx="7846920" cy="1873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cc"/>
                </a:solidFill>
                <a:latin typeface="Arial"/>
                <a:ea typeface="Arial"/>
              </a:rPr>
              <a:t>Financování péče v ČR</a:t>
            </a:r>
            <a:endParaRPr b="0" lang="en-US" sz="5400" spc="-1" strike="noStrike">
              <a:solidFill>
                <a:srgbClr val="ffffcc"/>
              </a:solidFill>
              <a:latin typeface="Arial"/>
            </a:endParaRPr>
          </a:p>
        </p:txBody>
      </p:sp>
      <p:pic>
        <p:nvPicPr>
          <p:cNvPr id="86" name="Picture 11" descr="Bankovky"/>
          <p:cNvPicPr/>
          <p:nvPr/>
        </p:nvPicPr>
        <p:blipFill>
          <a:blip r:embed="rId1"/>
          <a:stretch/>
        </p:blipFill>
        <p:spPr>
          <a:xfrm>
            <a:off x="2627280" y="2997360"/>
            <a:ext cx="4032360" cy="2952720"/>
          </a:xfrm>
          <a:prstGeom prst="rect">
            <a:avLst/>
          </a:prstGeom>
          <a:ln w="0">
            <a:noFill/>
          </a:ln>
        </p:spPr>
      </p:pic>
      <p:pic>
        <p:nvPicPr>
          <p:cNvPr id="87" name="Picture 13" descr="10_Hal_1999_1s"/>
          <p:cNvPicPr/>
          <p:nvPr/>
        </p:nvPicPr>
        <p:blipFill>
          <a:blip r:embed="rId2"/>
          <a:stretch/>
        </p:blipFill>
        <p:spPr>
          <a:xfrm>
            <a:off x="4048200" y="2905200"/>
            <a:ext cx="1047600" cy="104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Plátci pojistného zdravotního pojištění</a:t>
            </a:r>
            <a:endParaRPr b="0" lang="en-US" sz="4000" spc="-1" strike="noStrike">
              <a:solidFill>
                <a:srgbClr val="ffffcc"/>
              </a:solidFill>
              <a:latin typeface="Arial"/>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pojištěn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městnavatelé</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stá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šetřující lékař</a:t>
            </a:r>
            <a:endParaRPr b="0" lang="en-US" sz="4400" spc="-1" strike="noStrike">
              <a:solidFill>
                <a:srgbClr val="ffffcc"/>
              </a:solidFill>
              <a:latin typeface="Arial"/>
            </a:endParaRPr>
          </a:p>
        </p:txBody>
      </p:sp>
      <p:sp>
        <p:nvSpPr>
          <p:cNvPr id="2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šetřujícím lékařem se pro účely zdravotního pojištění rozum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lékař registrujícího poskytovatel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lékař poskytovatele specializované ambulantní péč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lékař poskytovatele jednodenní péče, nebo</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lékař se specializovanou způsobilostí poskytovatele lůžkové péč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ybavení pojištěnce po ukončení hospitalizace</a:t>
            </a:r>
            <a:endParaRPr b="0" lang="en-US" sz="4000" spc="-1" strike="noStrike">
              <a:solidFill>
                <a:srgbClr val="ffffcc"/>
              </a:solidFill>
              <a:latin typeface="Arial"/>
            </a:endParaRPr>
          </a:p>
        </p:txBody>
      </p:sp>
      <p:sp>
        <p:nvSpPr>
          <p:cNvPr id="2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1) Hrazenými službami je i vybavení pojištěnce léčivými přípravky, potravinami pro zvláštní lékařské účely a zdravotnickými prostředky po ukončení hospitalizace na 3 dny nebo v odůvodněných případech i na další, nezbytně nutnou dobu.</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2) Pokud je pojištěnec propuštěn do domácího ošetření na propustku, není poskytovatel po dobu trvání propustky oprávněn účtovat zdravotní pojišťovně náklady za lůžkovou péči, s výjimkou léčivých přípravků a zdravotnických prostředků, kterými pojištěnce na dobu trvání propustky vybaví.</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Stanovení maximálních cen léčivých přípravků a potravin pro zvláštní lékařské účely</a:t>
            </a:r>
            <a:endParaRPr b="0" lang="en-US" sz="2800" spc="-1" strike="noStrike">
              <a:solidFill>
                <a:srgbClr val="ffffcc"/>
              </a:solidFill>
              <a:latin typeface="Arial"/>
            </a:endParaRPr>
          </a:p>
        </p:txBody>
      </p:sp>
      <p:sp>
        <p:nvSpPr>
          <p:cNvPr id="2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maximálních cenách hromadně vyráběných léčivých přípravků a potravin pro zvláštní lékařské účely, o nichž je podle cenového předpisu stanoven tento způsob regulace cen, rozhoduje Ústav.</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ffffcc"/>
                </a:solidFill>
                <a:latin typeface="Arial"/>
                <a:ea typeface="Arial"/>
              </a:rPr>
              <a:t> </a:t>
            </a:r>
            <a:r>
              <a:rPr b="0" lang="cs-CZ" sz="4000" spc="-1" strike="noStrike">
                <a:solidFill>
                  <a:srgbClr val="ffffcc"/>
                </a:solidFill>
                <a:latin typeface="Arial"/>
                <a:ea typeface="Arial"/>
              </a:rPr>
              <a:t>Zdravotní pojišťovny</a:t>
            </a:r>
            <a:endParaRPr b="0" lang="en-US" sz="4000" spc="-1" strike="noStrike">
              <a:solidFill>
                <a:srgbClr val="ffffcc"/>
              </a:solidFill>
              <a:latin typeface="Arial"/>
            </a:endParaRPr>
          </a:p>
        </p:txBody>
      </p:sp>
      <p:sp>
        <p:nvSpPr>
          <p:cNvPr id="2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dravotní pojištění provádějí tyto zdravotn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Všeobecná zdravotní pojišťovna České republik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resortní, oborové, podnikové, popřípadě dalš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Děkuji za pozornost </a:t>
            </a:r>
            <a:endParaRPr b="0" lang="en-US" sz="5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Jana konečná</a:t>
            </a:r>
            <a:endParaRPr b="0" lang="en-US" sz="2800" spc="-1" strike="noStrike">
              <a:solidFill>
                <a:srgbClr val="ffffff"/>
              </a:solidFill>
              <a:latin typeface="Arial"/>
            </a:endParaRPr>
          </a:p>
        </p:txBody>
      </p:sp>
      <p:pic>
        <p:nvPicPr>
          <p:cNvPr id="291" name="Picture 9" descr="10_Hal_1999_1s"/>
          <p:cNvPicPr/>
          <p:nvPr/>
        </p:nvPicPr>
        <p:blipFill>
          <a:blip r:embed="rId1"/>
          <a:stretch/>
        </p:blipFill>
        <p:spPr>
          <a:xfrm>
            <a:off x="179280" y="2708280"/>
            <a:ext cx="1047960" cy="1047600"/>
          </a:xfrm>
          <a:prstGeom prst="rect">
            <a:avLst/>
          </a:prstGeom>
          <a:ln w="0">
            <a:noFill/>
          </a:ln>
        </p:spPr>
      </p:pic>
      <p:pic>
        <p:nvPicPr>
          <p:cNvPr id="292" name="Picture 11" descr="20_Hal_1999_1s"/>
          <p:cNvPicPr/>
          <p:nvPr/>
        </p:nvPicPr>
        <p:blipFill>
          <a:blip r:embed="rId2"/>
          <a:stretch/>
        </p:blipFill>
        <p:spPr>
          <a:xfrm>
            <a:off x="684360" y="404640"/>
            <a:ext cx="1047600" cy="1047960"/>
          </a:xfrm>
          <a:prstGeom prst="rect">
            <a:avLst/>
          </a:prstGeom>
          <a:ln w="0">
            <a:noFill/>
          </a:ln>
        </p:spPr>
      </p:pic>
      <p:pic>
        <p:nvPicPr>
          <p:cNvPr id="293" name="Picture 13" descr="50_Hal_1999_1s">
            <a:hlinkClick r:id="rId3"/>
          </p:cNvPr>
          <p:cNvPicPr/>
          <p:nvPr/>
        </p:nvPicPr>
        <p:blipFill>
          <a:blip r:embed="rId4"/>
          <a:stretch/>
        </p:blipFill>
        <p:spPr>
          <a:xfrm>
            <a:off x="2771640" y="1197000"/>
            <a:ext cx="1047960" cy="1047600"/>
          </a:xfrm>
          <a:prstGeom prst="rect">
            <a:avLst/>
          </a:prstGeom>
          <a:ln w="0">
            <a:noFill/>
          </a:ln>
        </p:spPr>
      </p:pic>
      <p:pic>
        <p:nvPicPr>
          <p:cNvPr id="294" name="Picture 15" descr="1_2004_1s">
            <a:hlinkClick r:id="rId5"/>
          </p:cNvPr>
          <p:cNvPicPr/>
          <p:nvPr/>
        </p:nvPicPr>
        <p:blipFill>
          <a:blip r:embed="rId6"/>
          <a:stretch/>
        </p:blipFill>
        <p:spPr>
          <a:xfrm>
            <a:off x="5292720" y="0"/>
            <a:ext cx="1047600" cy="1047600"/>
          </a:xfrm>
          <a:prstGeom prst="rect">
            <a:avLst/>
          </a:prstGeom>
          <a:ln w="0">
            <a:noFill/>
          </a:ln>
        </p:spPr>
      </p:pic>
      <p:pic>
        <p:nvPicPr>
          <p:cNvPr id="295" name="Picture 17" descr="2_1999_1s"/>
          <p:cNvPicPr/>
          <p:nvPr/>
        </p:nvPicPr>
        <p:blipFill>
          <a:blip r:embed="rId7"/>
          <a:stretch/>
        </p:blipFill>
        <p:spPr>
          <a:xfrm>
            <a:off x="6588000" y="1268280"/>
            <a:ext cx="1047960" cy="1047960"/>
          </a:xfrm>
          <a:prstGeom prst="rect">
            <a:avLst/>
          </a:prstGeom>
          <a:ln w="0">
            <a:noFill/>
          </a:ln>
        </p:spPr>
      </p:pic>
      <p:pic>
        <p:nvPicPr>
          <p:cNvPr id="296" name="Picture 19" descr="5_1999_1s"/>
          <p:cNvPicPr/>
          <p:nvPr/>
        </p:nvPicPr>
        <p:blipFill>
          <a:blip r:embed="rId8"/>
          <a:stretch/>
        </p:blipFill>
        <p:spPr>
          <a:xfrm>
            <a:off x="7812000" y="2349360"/>
            <a:ext cx="1047960" cy="1047960"/>
          </a:xfrm>
          <a:prstGeom prst="rect">
            <a:avLst/>
          </a:prstGeom>
          <a:ln w="0">
            <a:noFill/>
          </a:ln>
        </p:spPr>
      </p:pic>
      <p:pic>
        <p:nvPicPr>
          <p:cNvPr id="297" name="Picture 21" descr="10_1999_1s"/>
          <p:cNvPicPr/>
          <p:nvPr/>
        </p:nvPicPr>
        <p:blipFill>
          <a:blip r:embed="rId9"/>
          <a:stretch/>
        </p:blipFill>
        <p:spPr>
          <a:xfrm>
            <a:off x="971640" y="5084640"/>
            <a:ext cx="1047600" cy="1047960"/>
          </a:xfrm>
          <a:prstGeom prst="rect">
            <a:avLst/>
          </a:prstGeom>
          <a:ln w="0">
            <a:noFill/>
          </a:ln>
        </p:spPr>
      </p:pic>
      <p:pic>
        <p:nvPicPr>
          <p:cNvPr id="298" name="Picture 23" descr="20_2004_3s"/>
          <p:cNvPicPr/>
          <p:nvPr/>
        </p:nvPicPr>
        <p:blipFill>
          <a:blip r:embed="rId10"/>
          <a:stretch/>
        </p:blipFill>
        <p:spPr>
          <a:xfrm>
            <a:off x="7380360" y="4941720"/>
            <a:ext cx="1047600" cy="1047960"/>
          </a:xfrm>
          <a:prstGeom prst="rect">
            <a:avLst/>
          </a:prstGeom>
          <a:ln w="0">
            <a:noFill/>
          </a:ln>
        </p:spPr>
      </p:pic>
      <p:pic>
        <p:nvPicPr>
          <p:cNvPr id="299" name="Picture 25" descr="50_1999_1s"/>
          <p:cNvPicPr/>
          <p:nvPr/>
        </p:nvPicPr>
        <p:blipFill>
          <a:blip r:embed="rId11"/>
          <a:stretch/>
        </p:blipFill>
        <p:spPr>
          <a:xfrm>
            <a:off x="4067280" y="3860640"/>
            <a:ext cx="1047600" cy="104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látcem pojistného</a:t>
            </a:r>
            <a:endParaRPr b="0" lang="en-US" sz="4400" spc="-1" strike="noStrike">
              <a:solidFill>
                <a:srgbClr val="ffffcc"/>
              </a:solidFill>
              <a:latin typeface="Arial"/>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a:t>
            </a:r>
            <a:r>
              <a:rPr b="1" lang="cs-CZ" sz="2000" spc="-1" strike="noStrike" u="sng">
                <a:solidFill>
                  <a:srgbClr val="ffffff"/>
                </a:solidFill>
                <a:uFillTx/>
                <a:latin typeface="Arial"/>
                <a:ea typeface="Arial"/>
              </a:rPr>
              <a:t>je zaměstnancem</a:t>
            </a:r>
            <a:r>
              <a:rPr b="0" lang="cs-CZ" sz="2000" spc="-1" strike="noStrike">
                <a:solidFill>
                  <a:srgbClr val="ffffff"/>
                </a:solidFill>
                <a:latin typeface="Arial"/>
                <a:ea typeface="Arial"/>
              </a:rPr>
              <a:t>; za zaměstnance se pro účely zdravotního pojištění považuje fyzická osoba, které plynou nebo by měly plynout příjmy ze závislé činnosti nebo funkčních požitků podle zvláštního právního předpisu 1a), </a:t>
            </a:r>
            <a:r>
              <a:rPr b="1" lang="cs-CZ" sz="2000" spc="-1" strike="noStrike" u="sng">
                <a:solidFill>
                  <a:srgbClr val="ffffff"/>
                </a:solidFill>
                <a:uFillTx/>
                <a:latin typeface="Arial"/>
                <a:ea typeface="Arial"/>
              </a:rPr>
              <a:t>s výjimko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1. osoby, která má pouze příjmy ze závislé činnosti a funkčních požitků, které nejsou předmětem daně nebo jsou od daně osvoboze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žáka nebo studenta, který má pouze příjmy ze závislé činnosti a funkčních požitků za práci z praktického výcvik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osoby činné na základě dohody o provedení práce, která v kalendářním měsíci nedosáhla příjmu ve výši částky, jež je podmínkou pro účast takové osoby na nemocenském pojištění podle zákona upravujícího nemocenské pojištění (dále jen "započitatelný příjem"),</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4. člena družstva, který není v pracovněprávním vztahu k družstvu, ale vykonává pro družstvo práci, za kterou je jím odměňován, a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5. osoby činné na základě dohody o pracovní činnosti, která v kalendářním měsíci nedosáhla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6. dobrovolného pracovníka pečovatelské služby,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7. člena okrskové volební komise při volbách do Evropského parlamentu, Senátu a zastupitelstev územních samosprávných celků a člena okrskové volební komise a zvláštní okrskové volební komise při volbách do Poslanecké sněmovny a při volbě prezidenta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b) je osobou samostatně výdělečně činnou.</a:t>
            </a: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Za osoby samostatně výdělečně činné se pro účely zdravotního pojištění považ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1. osoby podnikající v zeměděl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2. osoby provozující živn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3. osoby provozující podnikání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4. osoby vykonávající uměleckou nebo jinou tvůrčí činnost na základě autorskoprávních vztahů,  s výjimkou činnosti, z níž jsou příjmy podle zvláštního právního předpisu samostatným základem daně z příjmů fyzických osob pro zdanění zvláštní sazbou daně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5. společníci veřejných obchodních společností a komplementáři komanditních společnost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6. osoby vykonávající nezávislé povolání, které není živností ani podnikáním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7. osoby vykonávající činnost mandatáře na základě mandátní smlouvy uzavřené podle obchodního zákoníku,pokud tato činnost není považována za zaměstnání podle písmene a) a mandátní smlouva nebyla uzavřena v rámci jiné samostatné výdělečné činnosti,</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8. spolupracující osoby osob samostatně výdělečně činných, pokud podle zákona o daních z příjmů lze na ně rozdělovat příjmy dosažené výkonem spolupráce a výdaje vynaložené na jejich dosažení, zajištění a udrž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a:t>
            </a:r>
            <a:r>
              <a:rPr b="0" lang="cs-CZ" sz="3200" spc="-1" strike="noStrike" u="sng">
                <a:solidFill>
                  <a:srgbClr val="ffffff"/>
                </a:solidFill>
                <a:uFillTx/>
                <a:latin typeface="Arial"/>
                <a:ea typeface="Arial"/>
              </a:rPr>
              <a:t>má na území České republiky trvalý pobyt</a:t>
            </a:r>
            <a:r>
              <a:rPr b="0" lang="cs-CZ" sz="3200" spc="-1" strike="noStrike">
                <a:solidFill>
                  <a:srgbClr val="ffffff"/>
                </a:solidFill>
                <a:latin typeface="Arial"/>
                <a:ea typeface="Arial"/>
              </a:rPr>
              <a:t>, avšak není uveden pod předchozími písmeny a není za něj plátcem pojistného stát, pokud uvedené skutečnosti trvají po celý kalendářní měsí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Zaměstnavatel je plátcem části pojistného za své zaměstnance </a:t>
            </a:r>
            <a:endParaRPr b="0" lang="en-US" sz="3200" spc="-1" strike="noStrike">
              <a:solidFill>
                <a:srgbClr val="ffffcc"/>
              </a:solidFill>
              <a:latin typeface="Arial"/>
            </a:endParaRPr>
          </a:p>
        </p:txBody>
      </p:sp>
      <p:sp>
        <p:nvSpPr>
          <p:cNvPr id="1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aměstnavatel je plátcem části pojistného z příjmů ze závislé činnosti a funkčních požitků zúčtovaných bývalému zaměstnanci po skončení zaměstnání.</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lužební úřad, v němž je státní zaměstnanec podle služebního zákona zařazen k výkonu státní služby, je plátcem pojistného za tohoto státního zaměstnance. Není-li v tomto zákoně stanoveno jinak, má služební úřad postavení zaměstnavatel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 </a:t>
            </a:r>
            <a:r>
              <a:rPr b="0" lang="cs-CZ" sz="2800" spc="-1" strike="noStrike">
                <a:solidFill>
                  <a:srgbClr val="ffffcc"/>
                </a:solidFill>
                <a:latin typeface="Arial"/>
                <a:ea typeface="Arial"/>
              </a:rPr>
              <a:t>Stát je plátcem pojistného prostřednictvím státního rozpočtu za tyto pojištěnce</a:t>
            </a:r>
            <a:endParaRPr b="0" lang="en-US" sz="2800" spc="-1" strike="noStrike">
              <a:solidFill>
                <a:srgbClr val="ffffcc"/>
              </a:solidFill>
              <a:latin typeface="Arial"/>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a) </a:t>
            </a:r>
            <a:r>
              <a:rPr b="1" lang="cs-CZ" sz="3200" spc="-1" strike="noStrike" u="sng">
                <a:solidFill>
                  <a:srgbClr val="ffffff"/>
                </a:solidFill>
                <a:uFillTx/>
                <a:latin typeface="Arial"/>
                <a:ea typeface="Arial"/>
              </a:rPr>
              <a:t>nezaopatřené děti;</a:t>
            </a:r>
            <a:r>
              <a:rPr b="0" lang="cs-CZ" sz="3200" spc="-1" strike="noStrike">
                <a:solidFill>
                  <a:srgbClr val="ffffff"/>
                </a:solidFill>
                <a:latin typeface="Arial"/>
                <a:ea typeface="Arial"/>
              </a:rPr>
              <a:t> nezaopatřenost dítěte se posuzuje podle zákona o státní sociální podpoře,</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b) poživatele důchodů z důchodového pojištění,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příjemce rodičovského příspěv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 ženy na mateřské a osoby na rodičovské dovolené a osoby pobírající peněžitou pomoc v mateřství podle předpisů o nemocenském pojištění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uchazeče o zaměstnání včetně uchazečů o zaměstnání, kteří přijali krátkodobé zaměstnání</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osoby pobírající dávku pomoci v hmotné nouzi a osoby s nimi společně posuzované 10), a to za podmínky, že nejsou podle potvrzení plátce dávky pomoci v hmotné nouzi v pracovním ani obdobném vztahu ani nevykonávají samostatnou výdělečnou činnost, nejsou v evidenci uchazečů o zaměstnání a nejde o poživatele starobního důchodu, invalidního důchodu pro invaliditu třetího stupně, vdovského nebo vdoveckého důchodu, ani o poživatele rodičovského příspěvku nebo o nezaopatřené dítě,</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g) osoby, které jsou závislé na péči jiné osoby ve stupni II (středně těžká závislost) nebo stupni III (těžká závislost) anebo stupni IV (úplná závislost)  a osoby pečující o tyto osoby, a osoby pečující o osoby mladší 10 let, které jsou závislé na péči jiné osoby ve stupni I (lehká závislos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h) osoby konající službu v ozbrojených silách, s výjimkou vojáků z povolání, a osoby povolané k vojenskému cvičen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i) osoby ve výkonu zabezpečovací detence nebo vazby nebo osoby ve výkonu trestu odnětí svobo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j) osoby uvedené v § 5 písm. c), které jsou příjemci dávek nemocenského pojištění;14)</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k) osoby, které jsou invalidní ve třetím stupni nebo které dosáhly věku potřebného pro nárok na starobní důchod, avšak nesplňují další podmínky pro přiznání invalidního důchodu pro invaliditu třetího stupně nebo starobního důchodu a nemají příjmy ze zaměstnání, ze samostatné výdělečné činnosti a nepožívají žádný důchod z ciziny, nebo tento důchod nepřesahuje měsíčně částku ve výši minimální mzd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osoby celodenně osobně a řádně pečující alespoň o jedno dítě do sedmi let věku nebo nejméně o dvě děti do 15 let věku, nejde-li o osoby uvedené v písmenu c) nebo d). Podmínka celodenní péče se považuje za splněnou i tehdy, je-li dítě předškolního věku umístěno v jeslích (mateřské škole), popřípadě v obdobném zařízení na dobu, která nepřevyšuje čtyři hodiny denně, a jde-li o dítě plnící povinnou školní docházku, po dobu návštěvy školy, s výjimkou umístění v zařízení s týdenním či celoročním pobyte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a takové osoby se považuje vždy pouze jedna osoba, a to buď otec nebo matka dítěte, nebo osoba, která převzala dítě do trvalé péče nahrazující péči rodičů,16)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Čl. 31 Listiny základních práv a svobod (dále též „Listiny“)</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i="1" lang="cs-CZ" sz="3200" spc="-1" strike="noStrike">
                <a:solidFill>
                  <a:srgbClr val="ffffff"/>
                </a:solidFill>
                <a:latin typeface="Tahoma"/>
                <a:ea typeface="Arial"/>
              </a:rPr>
              <a:t>Každý má právo na ochranu zdraví. Občané mají na základě veřejného pojištění právo na bezplatnou zdravotní péči a na zdravotní pomůcky za podmínek, které stanoví zák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m) mladistvé umístěné ve školských zařízeních pro výkon ústavní výchovy a ochranné výchov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n) osoby vykonávající dlouhodobou dobrovolnickou službu na základě smlouvy s vysílající organizací, které byla udělena akreditace Ministerstvem vnitra, v rozsahu překračujícím v průměru alespoň 20 hodin v kalendářním týdnu, pokud není dobrovolník plátcem pojistného podle § 5 nebo za něj není plátcem pojistného stát podle předchozích písmen a) až m),</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 cizince, kterým bylo uděleno oprávnění k pobytu na území České republiky za účelem poskytnutí dočasné ochrany podle zvláštního právního předpisu, 16a) pokud nemají příjmy ze zaměstnání nebo ze samostatné výdělečné činnosti,</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 žadatele o udělení mezinárodní ochrany a jeho dítě narozené na území, cizince, jemuž bylo uděleno vízum k pobytu nad 90 dnů za účelem strpění pobytu, a jeho dítě narozené na území 16b),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q) příjemci starobní penze na určenou dobu, doživotní penze nebo penze na přesně stanovenou dobu s přesně stanovenou výší důchodu podle zákona upravujícího doplňkové penzijní spoření do dosažení věku potřebného pro vznik nároku na starobní důchod podle § 32 zákona o důchodovém pojištění, pokud jsou splněny podmínky stanovené v § 22 odst. 4 nebo § 23 odst. 6 zákona č. 427/2011 Sb., o doplňkovém penzijním spoření; při stanovení tohoto věku u žen se postupuje stejně jako u mužů stejného data narozen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1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Od 1. 7. 2014 se na základě této novelizace zvýšil </a:t>
            </a:r>
            <a:r>
              <a:rPr b="0" lang="cs-CZ" sz="3200" spc="-1" strike="noStrike" u="sng">
                <a:solidFill>
                  <a:srgbClr val="ffcc66"/>
                </a:solidFill>
                <a:uFillTx/>
                <a:latin typeface="Arial"/>
                <a:ea typeface="Arial"/>
                <a:hlinkClick r:id="rId1"/>
              </a:rPr>
              <a:t>vyměřovací základ</a:t>
            </a:r>
            <a:r>
              <a:rPr b="1" lang="cs-CZ" sz="3200" spc="-1" strike="noStrike">
                <a:solidFill>
                  <a:srgbClr val="ffffff"/>
                </a:solidFill>
                <a:latin typeface="Arial"/>
                <a:ea typeface="Arial"/>
              </a:rPr>
              <a:t> pro platbu pojistného státem o 430 Kč na částku 6 259 Kč.</a:t>
            </a:r>
            <a:r>
              <a:rPr b="0" lang="cs-CZ" sz="3200" spc="-1" strike="noStrike">
                <a:solidFill>
                  <a:srgbClr val="ffffff"/>
                </a:solidFill>
                <a:latin typeface="Arial"/>
                <a:ea typeface="Arial"/>
              </a:rPr>
              <a:t> Z tohoto vyměřovacího základu bude stát platit </a:t>
            </a:r>
            <a:r>
              <a:rPr b="0" lang="cs-CZ" sz="3200" spc="-1" strike="noStrike" u="sng">
                <a:solidFill>
                  <a:srgbClr val="ffcc66"/>
                </a:solidFill>
                <a:uFillTx/>
                <a:latin typeface="Arial"/>
                <a:ea typeface="Arial"/>
                <a:hlinkClick r:id="rId2"/>
              </a:rPr>
              <a:t>za osoby, za které je plátcem pojistného stát</a:t>
            </a:r>
            <a:r>
              <a:rPr b="0" lang="cs-CZ" sz="3200" spc="-1" strike="noStrike">
                <a:solidFill>
                  <a:srgbClr val="ffffff"/>
                </a:solidFill>
                <a:latin typeface="Arial"/>
                <a:ea typeface="Arial"/>
              </a:rPr>
              <a:t>, měsíčně </a:t>
            </a:r>
            <a:r>
              <a:rPr b="1" lang="cs-CZ" sz="3200" spc="-1" strike="noStrike">
                <a:solidFill>
                  <a:srgbClr val="ffffff"/>
                </a:solidFill>
                <a:latin typeface="Arial"/>
                <a:ea typeface="Arial"/>
              </a:rPr>
              <a:t>pojistné</a:t>
            </a:r>
            <a:r>
              <a:rPr b="0" lang="cs-CZ" sz="3200" spc="-1" strike="noStrike">
                <a:solidFill>
                  <a:srgbClr val="ffffff"/>
                </a:solidFill>
                <a:latin typeface="Arial"/>
                <a:ea typeface="Arial"/>
              </a:rPr>
              <a:t> </a:t>
            </a:r>
            <a:r>
              <a:rPr b="1" lang="cs-CZ" sz="3200" spc="-1" strike="noStrike">
                <a:solidFill>
                  <a:srgbClr val="ffffff"/>
                </a:solidFill>
                <a:latin typeface="Arial"/>
                <a:ea typeface="Arial"/>
              </a:rPr>
              <a:t>ve výši 845 Kč.</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ouběh příjmů</a:t>
            </a:r>
            <a:endParaRPr b="0" lang="en-US" sz="4400" spc="-1" strike="noStrike">
              <a:solidFill>
                <a:srgbClr val="ffffcc"/>
              </a:solidFill>
              <a:latin typeface="Arial"/>
            </a:endParaRPr>
          </a:p>
        </p:txBody>
      </p:sp>
      <p:sp>
        <p:nvSpPr>
          <p:cNvPr id="1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ají-li osoby uvedené v odstavce 1 písm. a) až i) a q) příjmy ze zaměstnání nebo ze samostatné výdělečné činnosti, je plátcem pojistného stát i tyto osob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1) Pojistné se platí zdravotní pojišťovně, u které je pojištěnec pojištěn, (dále jen "příslušná zdravotní pojišťovn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	</a:t>
            </a:r>
            <a:r>
              <a:rPr b="1" lang="cs-CZ" sz="3200" spc="-1" strike="noStrike">
                <a:solidFill>
                  <a:srgbClr val="ffffff"/>
                </a:solidFill>
                <a:latin typeface="Arial"/>
                <a:ea typeface="Arial"/>
              </a:rPr>
              <a:t>Povinnost platit pojistné vzniká pojištěnci dnem:</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nástupu zaměstnance do zaměstnání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hájení samostatné výdělečné činnosti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kdy se stal pojištěncem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ke kterému se po návratu do České republiky pojištěnec přihlásil u příslušné zdravotní pojišťovny</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návratu do České republiky po nepřetržitém pobytu v cizině, který započal již před 1. lednem 1993, pokud den návratu připadne na období po 30. dubnu 1995; uvedené skutečnosti je pojištěnec povinen příslušné zdravotní pojišťovně doložit;</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návratu do České republiky po nepřetržitém pobytu v cizině, který započal mezi 1. lednem 1993 a 1. červencem 1993, pokud den návratu připadne na období po 30. dubnu 1995, jestliže pojištěnec</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byl v cizině zdravotně pojištěn,</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v uvedeném období mu nebyly poskytnuty hrazené služby,</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požádal zpětně příslušnou zdravotní pojišťovnu o postup podle odstavce 4.</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Tím není dotčena povinnost platit pojistné za dobu předcházející pobytu v cizině.</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zaměstnavatele platit část pojistného za své zaměstnance vzniká dnem nástupu zaměstnance do zaměstnání a zaniká dnem skončení zaměstnán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u pracovního poměru včetně pracovního poměru sjednaného podle cizích právních předpisů den, ve kterém zaměstnanec nastoupil do práce, a za den ukončení zaměstnání se považuje den skončení pracov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u služebního poměru den, ve kterém zaměstnanec nastoupil k výkonu služby, jde-li o státního zaměstnance den nástupu služby, a za den ukončení zaměstnání se považuje den skončení služeb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u členů družstva v družstvech, kde podmínkou členství je jejich pracovní vztah k družstvu, jestliže mimo pracovněprávní vztah vykonávají pro družstvo práci, za kterou jsou jím odměňováni, den započetí práce pro družstvo, a za den ukončení zaměstnání se považuje den skončení členství v družstv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u zaměstnanců činných na základě dohody o pracovní činnosti den, ve kterém poprvé po uzavření dohody o pracovní činnosti zaměstnanec začal vykonávat sjednanou práci, a za den ukončení zaměstnání se považuje den, jímž uplynula doba, na kterou byla tato dohoda sjednána, u zaměstnanců činných na základě dohody o provedení práce se postupuje obdob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u soudců den nástupu soudce do funkce, a za den ukončení zaměstnání se považuje den skončení výkonu funkce soud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Čl. 41 Listiny, tzv. výhrada zákona, práva uvedeného v čl. 31 se lze dovolávat pouze v mezích zákonů, které jej provádí. </a:t>
            </a:r>
            <a:endParaRPr b="0" lang="en-US" sz="3200" spc="-1" strike="noStrike">
              <a:solidFill>
                <a:srgbClr val="ffffff"/>
              </a:solidFill>
              <a:latin typeface="Arial"/>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Právo na zdravotní péči se dle dikce Listiny nevztahuje na cizince, neboť Listina hovoří „občanech“, tedy občanech České republiky.</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u členů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den, od něhož členu náleží odměna za výkon funkce vyplácená členům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a za den ukončení zaměstnání se považuje den, od něhož tato odměna nenáleží. Plní-li dosavadní starosta nebo primátor úkoly po uplynutí volebního období až do dne konání ustavujícího zasedání nově zvoleného zastupitelstva a je mu vyplácena odměna uvedená ve větě první, považuje se za zaměstnance ještě po dobu, po kterou mu náleží tato odměna; to platí obdobně pro hejtmana kraje a primátora hlavního města Prah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g) u poslanců Poslanecké sněmovny a senátorů Senátu Parlamentu České republiky a poslanců Evropského parlamentu zvolených na území České republiky den zvolení, a za den ukončení zaměstnání se považuje den uplynutí volebního období, popřípadě den zániku mandátu,</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h) u členů vlády, prezidenta, viceprezidenta a členů Nejvyššího kontrolního úřadu, členů Rady pro rozhlasové a televizní vysílání, členů Rady Českého telekomunikačního úřadu, finančního arbitra, zástupce finančního arbitra, Veřejného ochránce práv a zástupce Veřejného ochránce práv den nástupu do funkce, a za den ukončení zaměstnání se považuje den skončení výkonu funkc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i) u fyzických osob, které nejsou uvedeny v písmenech e) až h), které byly jmenovány nebo zvoleny do funkce a jejich jmenováním nevznikl pracovní nebo služební poměr, den nástupu do funkce, a za den ukončení zaměstnání se považuje den skončení výkonu funkc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u dobrovolných pracovníků pečovatelské služby den, ve kterém začal dobrovolný pracovník poskytovat pečovatelskou službu, a za den ukončení zaměstnání se považuje den, kdy přestal být dobrovolným pracovníkem pečovatelské služb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u osoby pečující o dítě a osoby, která je vedena v evidenci osob, které mohou vykonávat pěstounskou péči na přechodnou dobu, je-li těmto osobám vyplácena odměna pěstouna podle zákona o sociálně-právní ochraně dětí 16c), den, od něhož jim tato odměna náleží, a za den ukončení zaměstnání se považuje den, od něhož tato odměna nenáleží z jiných důvodů, než je dočasná pracovní neschopnos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l) u odsouzených ve výkonu ochranného opatření zabezpečovací detence a trestu odnětí svobody zařazených do práce den zařazení do práce, a za den ukončení zaměstnání se považuje den odvolání z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m) u osob činných v poměru, který má obsah pracovního poměru, avšak pracovní poměr nevznikl, neboť nebyly splněny podmínky stanovené pracovněprávními předpisy pro jeho vznik, den započetí výkonu práce,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 u zaměstnanců neuvedených pod písmeny a) až n) den, kdy začal zaměstnanec vykonávat práci, na jejímž základě mu plynou příjmy ze závislé činnosti a funkčních požitků,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státu platit pojistné</a:t>
            </a:r>
            <a:endParaRPr b="0" lang="en-US" sz="4400" spc="-1" strike="noStrike">
              <a:solidFill>
                <a:srgbClr val="ffffcc"/>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státu platit pojistné za pojištěnce vzniká dnem, kdy se stát stává plátcem pojistného.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Tato povinnost zaniká dnem, ke kterému stát přestal plátcem pojistnéh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jištěnec v cizině</a:t>
            </a:r>
            <a:endParaRPr b="0" lang="en-US" sz="4400" spc="-1" strike="noStrike">
              <a:solidFill>
                <a:srgbClr val="ffffcc"/>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jištěnec </a:t>
            </a:r>
            <a:r>
              <a:rPr b="1" lang="cs-CZ" sz="1600" spc="-1" strike="noStrike">
                <a:solidFill>
                  <a:srgbClr val="ffffff"/>
                </a:solidFill>
                <a:latin typeface="Arial"/>
                <a:ea typeface="Arial"/>
              </a:rPr>
              <a:t>není povinen</a:t>
            </a:r>
            <a:r>
              <a:rPr b="0" lang="cs-CZ" sz="1600" spc="-1" strike="noStrike">
                <a:solidFill>
                  <a:srgbClr val="ffffff"/>
                </a:solidFill>
                <a:latin typeface="Arial"/>
                <a:ea typeface="Arial"/>
              </a:rPr>
              <a:t> platit pojistné po dobu, kdy je dlouhodobě v cizině, pokud je v cizině zdravotně pojištěn a učinil o této skutečnosti u příslušné zdravotní pojišťovny písemné prohlášen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vinnost platit pojistné však zaniká až dnem, který pojištěnec v prohlášení podle věty prvé uvedl, ne však dříve než dnem následujícím po dni, kdy toto prohlášení bylo doručeno příslušné zdravotní pojišťovně.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Od stejného dne až do dne, kdy se pojištěnec u příslušné zdravotní pojišťovny opět přihlásil, nemá pojištěnec nárok na poskytování hrazených služeb. Současně s opětovným přihlášením u příslušné zdravotní pojišťovny je pojištěnec povinen této pojišťovně dodatečně předložit doklad o uzavřeném zdravotním pojištění v cizině a jeho dél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kud pojištěnec takový doklad nepředloží, je povinen příslušné zdravotní pojišťovně doplatit zpětně pojistné tak, jako by podle tohoto ustanovení nepostupoval. Za dlouhodobý pobyt v cizině se považuje nepřetržitý pobyt delší šesti měsíců.</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Nezaplatí-li plátce pojistného pojistné ve stanovené výši a včas, je příslušná zdravotní pojišťovna povinna vymáhat na dlužníkovi jeho zaplacení včetně pená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ýše a způsob placení pojistného a penále</a:t>
            </a:r>
            <a:endParaRPr b="0" lang="en-US" sz="4000" spc="-1" strike="noStrike">
              <a:solidFill>
                <a:srgbClr val="ffffcc"/>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ýši pojistného, penále a způsob jejich placení stanoví zvláštní záko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stné za zaměstnance hradí z jedné třetiny zaměstnanec, ze dvou třetin zaměstnavatel. Pojistné za státního zaměstnance podle služebního zákona hradí služební úřad v plné výš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ísemnou smlouvou mezi zaměstnancem a zaměstnavatelem může se zaměstnanec zavázat zaplatit zaměstnavateli zcela nebo zčásti částku odpovídající pojistnému, které za zaměstnance má zaměstnavatel povinnost hradit v době, kdy zaměstnanci poskytl </a:t>
            </a:r>
            <a:r>
              <a:rPr b="0" lang="cs-CZ" sz="2000" spc="-1" strike="noStrike" u="sng">
                <a:solidFill>
                  <a:srgbClr val="ffffff"/>
                </a:solidFill>
                <a:uFillTx/>
                <a:latin typeface="Arial"/>
                <a:ea typeface="Arial"/>
              </a:rPr>
              <a:t>pracovní volno bez náhrady příjmu</a:t>
            </a:r>
            <a:r>
              <a:rPr b="0" lang="cs-CZ" sz="2000" spc="-1" strike="noStrike">
                <a:solidFill>
                  <a:srgbClr val="ffffff"/>
                </a:solidFill>
                <a:latin typeface="Arial"/>
                <a:ea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neomluvené nepřítomnosti zaměstnance v práci je zaměstnanec povinen zaplatit zaměstnavateli částku odpovídající pojistnému, které zaměstnavatel za zaměstnance za tuto dobu uhradi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ea typeface="Arial"/>
              </a:rPr>
              <a:t>Oznamovací povinnost</a:t>
            </a:r>
            <a:r>
              <a:rPr b="0" lang="cs-CZ" sz="2000" spc="-1" strike="noStrike">
                <a:solidFill>
                  <a:srgbClr val="ffffff"/>
                </a:solidFill>
                <a:latin typeface="Arial"/>
                <a:ea typeface="Arial"/>
              </a:rPr>
              <a:t>  plátců pojistnéh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vatel je povinen nejpozději </a:t>
            </a:r>
            <a:r>
              <a:rPr b="1" lang="cs-CZ" sz="2000" spc="-1" strike="noStrike">
                <a:solidFill>
                  <a:srgbClr val="ffffff"/>
                </a:solidFill>
                <a:latin typeface="Arial"/>
                <a:ea typeface="Arial"/>
              </a:rPr>
              <a:t>do osmi dnů</a:t>
            </a:r>
            <a:r>
              <a:rPr b="0" lang="cs-CZ" sz="2000" spc="-1" strike="noStrike">
                <a:solidFill>
                  <a:srgbClr val="ffffff"/>
                </a:solidFill>
                <a:latin typeface="Arial"/>
                <a:ea typeface="Arial"/>
              </a:rPr>
              <a:t> od vzniku skutečnosti, která se oznamuje, provést u příslušné zdravotní pojišťovny oznámení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nástupu zaměstnance do zaměstnání a jeho ukonč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změně zdravotní pojišťovny zaměstnancem, pokud mu toto skutečnost sdělil; oznámení se provede odhlášením od placení pojistného u původní zdravotní pojišťovny a přihlášením k placení pojistného u zdravotní pojišťovny, kterou si zaměstnanec zvolil,</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kutečnostech rozhodných pro povinnost státu platit za zaměstnance pojistné, a to i v těch případech, kdy povinnost státu vznikla v době, kdy zaměstnanci poskytl pracovní volno bez náhrady příjmu, jsou-li mu tyto skutečnosti znám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oznamovacích skutečnostech je zaměstnavatel povinen vést evidenci a dokumenta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ři plnění oznamovací povinnosti sděluje zaměstnavatel jméno, příjmení, trvalý pobyt a rodné číslo zaměstnance, případně jiné číslo pojištěnc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nec je povinen oznámit příslušné zdravotní pojišťovně skutečnosti neprodleně, zjistí-li, že jeho zaměstnavatel tuto povinnost nesplnil, nebo pokud údaje uvedené svému zaměstnavateli nesděli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štěnec, který je osobou samostatně výdělečně činnou, je povinen oznámit příslušné zdravotní pojišťovně zahájení a ukončení samostatné výdělečné činnosti nejpozději do osmi dnů ode dne, kdy tuto činnost zahájil nebo ukončil.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podnikající na základě živnostenského oprávnění, splní tuto povinnost i tehdy, učiní-li oznámení příslušnému živnostenskému úřa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je povinen do osmi dnů ode dne, kdy se stal pojištěncem oznámit tuto skutečnost příslušné zdravotní pojišťov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985680" y="1380960"/>
            <a:ext cx="7172640" cy="4096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ojištěnec je povinen oznámit příslušné zdravotní pojišťovně nejpozději do osmi dnů skutečnosti rozhodné pro vznik nebo zánik povinnost státu platit za něj pojistné.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a osoby zaměstnané plní tuto povinnost zaměstnavatel, pokud jsou mu tyto skutečnosti známy. Za osoby nezletilé nebo osoby bez způsobilosti k právním úkonům plní tuto povinnost jejich zákonný zástup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rození pojištěnce je jeho zákonný zástupce povinen oznámit do osmi dnů ode dne narození zdravotní pojišťovně, u které je pojištěna matka dítěte v den jeho narozen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říslušný obecní úřad pověřený vedením matriky oznámí narození pojištěnce Centrálnímu registru pojištěnců bezprostředně po přidělení rodného čísl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Úmrtí pojištěnce nebo jeho prohlášení za mrtvého je povinen oznámit Centrálnímu registru pojištěnců do osmi dnů od zápisu do matriky příslušný obecní úřad pověřený vedením matr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Živnostenské úřady</a:t>
            </a:r>
            <a:br>
              <a:rPr sz="4000"/>
            </a:br>
            <a:endParaRPr b="0" lang="en-US" sz="4000" spc="-1" strike="noStrike">
              <a:solidFill>
                <a:srgbClr val="ffffcc"/>
              </a:solidFill>
              <a:latin typeface="Arial"/>
            </a:endParaRPr>
          </a:p>
        </p:txBody>
      </p:sp>
      <p:sp>
        <p:nvSpPr>
          <p:cNvPr id="158" name="PlaceHolder 2"/>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které přijaly oznámení, předají tyto údaje ve stanovené lhůtě   zdravotní pojišťovně, kterou ve svém oznámení pojištěnec uvedl (dále jen "příslušná pojišťov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sdělují nejpozději do 5 pracovních dnů příslušné pojišťovně vznik prvního nebo zánik posledního oprávnění provozovat živnost a pozastavení výkonu živnosti, a to s uvedením dne, ke kterému tyto skutečnosti nastal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Živnostenské úřady předají na vyžádání zdravotní pojišťovně kopie dokladů, které pojištěnec připojil ke svému oznámení podle odstavce 1.</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a zdravotní pojišťovny si v mezích své působnosti vzájemně předávají údaje potřebné k provádění veřejného zdravotního pojištění osob samostatně výdělečně činných, které podnikají na základě živnostenského oprávně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1" lang="cs-CZ" sz="2000" spc="-1" strike="noStrike" u="sng">
                <a:solidFill>
                  <a:srgbClr val="ffffff"/>
                </a:solidFill>
                <a:uFillTx/>
                <a:latin typeface="Arial"/>
                <a:ea typeface="Arial"/>
              </a:rPr>
              <a:t>Pojištěnec má práv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a výběr zdravotní pojišťovny, nestanoví-li tento zákon jinak,</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výběr poskytovatele zdravotních služeb na území České republiky (dále jen "poskytovatel"), který je ve smluvním vztahu k příslušné zdravotní pojišťovně, a na výběr zdravotnického zařízení tohoto poskytovatele;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případě registrujícího poskytovatele může toto právo uplatnit jednou za 3 měsí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časovou a místní dostupnost hrazených služeb poskytovaných smluvními poskytovateli příslušné zdravotní pojišťovn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poskytnutí hrazených služeb v rozsahu a za podmínek stanovených tímto zákonem, přičemž poskytovatel nesmí za tyto hrazené služby přijmout od pojištěnce žádnou úhradu,</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na léčivé přípravky a potraviny pro zvláštní lékařské účely bez přímé úhrady, jde-li o léčivé přípravky a potraviny pro zvláštní lékařské účely hrazené ze zdravotního pojištění a předepsané v souladu s tímto zákonem;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to platí i v případech, kdy poskytovatel lékárenské péče nemá se zdravotní pojišťovnou pojištěnce dosud uzavřenou smlouvu,</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na poskytnutí informací od zdravotní pojišťovny o jemu poskytnutých hrazených službách,</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dílet se na kontrole poskytnuté zdravotní péče hrazené zdravotním pojištěním,</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poskytovatel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a o zaplacení doplatku za vydání částečně hrazeného léčivého přípravku nebo potraviny pro zvláštní lékařské účely poskytovatelem lékárenské péče; </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lékárenské péče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uhrazení částky přesahující limit pro regulační poplatky a doplatky za předepsané částečně hrazené léčivé přípravky nebo potraviny pro zvláštní lékařské účely zdravotní pojišťovn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neodkladnou zdravotní péči čerpanou v cizině, a to pouze do výše stanovené pro úhradu takové péče, pokud by byla poskytnuta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zdravotní služby čerpané v jiném členském státě Evropské unie, pokud jde o zdravotní služby, které by byly při poskytnutí na území České republiky hrazeny ze zdravotního pojištění (dále jen "hrazené přeshraniční služby"), a to pouze do výše stanovené pro úhradu takových služeb, pokud by byly poskytnuty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informace týkající se možností čerpat zdravotní služby v jiných členských státech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á-li pojištěnec za to, že mu nejsou poskytovány hrazené služby v souladu s tímto zákonem, může podat stížnost podle zákona o zdravotních službác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ff"/>
                </a:solidFill>
                <a:uFillTx/>
                <a:latin typeface="Arial"/>
                <a:ea typeface="Arial"/>
              </a:rPr>
              <a:t>Plnit oznamovací povinnost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dělit v den nástupu do zaměstnání svému zaměstnavateli, u které zdravotní pojišťovny je pojištěn. Stejnou povinnost má i tehdy, stane-li se pojištěncem jiné zdravotní pojišťovny v době trvání zaměstnání; tuto povinnost splní do osmi dnů ode dne změny zdravotní pojišťovn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jetí sdělení podle předchozích vět je zaměstnavatel povinen pojištěnci písemně potvrdit. Zaměstnavatel má právo požadovat na zaměstnanci nebo bývalém zaměstnanci úhradu penále, které zaplatil v souvislosti s neoznámením nebo opožděným oznámením změny zdravotní pojišťovny pojištěncem,</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nout součinnost při poskytování zdravotních služeb a kontrole průběhu individuálního léčebného postupu a dodržovat poskytovatelem stanovený léčebný režim,</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drobit se na vyzvání preventivním prohlídkám, pokud tak stanoví tento zákon nebo obecně závazné právní předpis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držovat opatření směřující k odvrácení nemoc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yvarovat se jednání, jehož cílem je vědomé poškození vlastního zdrav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u="sng">
                <a:solidFill>
                  <a:srgbClr val="ffcc66"/>
                </a:solidFill>
                <a:uFillTx/>
                <a:latin typeface="Tahoma"/>
                <a:ea typeface="Arial"/>
                <a:hlinkClick r:id="rId1"/>
              </a:rPr>
              <a:t>č. 48/1997 Sb.</a:t>
            </a:r>
            <a:endParaRPr b="0" lang="en-US" sz="4400" spc="-1" strike="noStrike">
              <a:solidFill>
                <a:srgbClr val="ffffcc"/>
              </a:solidFill>
              <a:latin typeface="Arial"/>
            </a:endParaRPr>
          </a:p>
        </p:txBody>
      </p:sp>
      <p:sp>
        <p:nvSpPr>
          <p:cNvPr id="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Zákon o veřejném zdravotním pojištění a o změně a doplnění některých souvisejících zákon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rokazovat se při poskytování zdravotních služeb, s výjimkou poskytování léčivých přípravků, potravin pro zvláštní lékařské účely a zdravotnických prostředků, platným průkazem pojištěnce nebo náhradním dokladem vydaným příslušnou zdravotní pojišťovno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oznámit do osmi dnů příslušné zdravotní pojišťovně ztrátu nebo poškození průkazu pojištěn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rátit do osmi dnů příslušné zdravotní pojišťovně průkaz pojištěnce př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zániku zdravotního pojištění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2. změně zdravotní pojišťov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3. dlouhodobém pobytu v zahranič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známit příslušné zdravotní pojišťovně změny jména, příjmení, trvalého pobytu nebo rodného čísla, a to do 30 dnů ode dne, kdy ke změně došlo; pokud se pojištěnec v místě trvalého pobytu nezdržuje, je povinen příslušné zdravotní pojišťovně oznámit také adresu místa pobytu na území České republiky, kde se převážně zdržuje (dále jen "bydliště"),</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 změně zdravotní pojišťovny předložit nově zvolené zdravotní pojišťovně doklad o výši záloh na pojistné vypočtených z vyměřovacího základu, jde-li o osobu samostatně výdělečně činnou,</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hradit poskytovateli regulační poplatky.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Ze zdravotního pojištění se hradí zdravotní služby poskytnuté pojištěnci </a:t>
            </a:r>
            <a:r>
              <a:rPr b="1" lang="cs-CZ" sz="2800" spc="-1" strike="noStrike">
                <a:solidFill>
                  <a:srgbClr val="ffffff"/>
                </a:solidFill>
                <a:latin typeface="Arial"/>
                <a:ea typeface="Arial"/>
              </a:rPr>
              <a:t>s cílem</a:t>
            </a:r>
            <a:r>
              <a:rPr b="0" lang="cs-CZ" sz="2800" spc="-1" strike="noStrike">
                <a:solidFill>
                  <a:srgbClr val="ffffff"/>
                </a:solidFill>
                <a:latin typeface="Arial"/>
                <a:ea typeface="Arial"/>
              </a:rPr>
              <a:t> zlepšit nebo zachovat jeho zdravotní stav nebo zmírnit jeho utrpení, pokud</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odpovídají zdravotnímu stavu pojištěnce a účelu, jehož má být jejich poskytnutím dosaženo, a jsou pro pojištěnce přiměřeně bezpečné,</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jsou v souladu se současnými dostupnými poznatky lékařské vě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existují důkazy o jejich účinnosti vzhledem k účelu jejich poskytování.</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razenými službami jsou v rozsahu a za podmínek stanovených tímto zákonem</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a) zdravotní péče preventivní, dispenzární, diagnostická, léčebná, léčebně rehabilitační, lázeňská léčebně rehabilitační, posudková, ošetřovatelská, paliativní a zdravotní péče o dárce krve, tkání a buněk nebo orgánů související s jejich odběrem, a to ve všech formách jejího poskytování podle zákona o zdravotních službách,</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poskytování léčivých přípravků, potravin pro zvláštní lékařské účely, zdravotnických prostředků a stomatologických výrobk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přeprava pojištěnců a náhrada cestovních náklad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odběr krve a odběr tkání, buněk a orgánů určených k transplantaci a nezbytné nakládání s nimi (uchovávání, skladování, zpracování a vyšetř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řeprava žijícího dárce do místa odběru a z tohoto místa do místa poskytnutí zdravotní péče související s odběrem a z tohoto místa a náhradu cestovních náklad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přeprava zemřelého dárce do místa odběru a z tohoto místa,</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přeprava odebraných tkání, buněk a orgán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prohlídka zemřelého pojištěnce a pitva včetně přeprav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pobyt průvodce pojištěnce ve zdravotnickém zařízení lůžkové péč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zdravotní péče související s těhotenstvím a porodem dítěte, jehož matka požádala o utajení své osoby v souvislosti s porodem; tuto péči hradí zdravotní pojišťovna, kterou na základě identifikačních údajů pojištěnce o úhradu požádá příslušný poskytovate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hradí zdravotní služby poskytnuté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e zdravotního pojištění se pojištěnci na základě jeho žádosti poskytne náhrada nákladů vynaložených na neodkladnou zdravotní péči, jejíž potřeba nastala během jeho pobytu v cizině, a to pouze do výše stanovené pro úhradu takových služeb, pokud by byly poskytnuty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pojištěnci na základě jeho žádosti poskytne náhrada nákladů vynaložených na hrazené přeshraniční služby, a to pouze do výše stanovené pro úhradu takových hrazených služeb, pokud by byly poskytnuty na území České republiky. Jestliže je náhrada nákladů na hrazené přeshraniční služby podmíněna udělením předchozího souhlasu podle § 14b, poskytne se mu náhrada nákladů pouze tehdy, byl-li předchozí souhlas uděle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při poskytnutí hrazených přeshraničních služeb o nezbytnou péči hrazenou podle koordinačních nařízení a náklady spojené s jejím čerpáním jsou podle koordinačních nařízení hrazeny pouze zčásti, použije se pro náhradu nákladů vynaložených pojištěncem a nehrazených podle koordinačních naříze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takovém případě se pojištěnci poskytne náhrada jím vynaložených nákladů ve výši částky vypočtené jako rozdíl mezi celkovou výší úhrady takové zdravotní služby, která by při poskytnutí na území České republiky byla hrazena ze zdravotního pojištění, a celkovou výší částky, která je za takovou zdravotní službu hrazena podle koordinačních nařízení. Je-li vypočtená částka vyšší než částka, kterou pojištěnec vynaložil, poskytne se mu náhrada pouze ve výši částky vynaložené.</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sou-li tímto zákonem nebo rozhodnutím Státního ústavu pro kontrolu léčiv (dále jen "Ústav") vydaným podle části šesté stanoveny podmínky pro úhradu hrazených služeb, musí být tyto podmínky splněny i pro náhradu na hrazené přeshraniční služby; za takovou podmínku se nepovažuje uzavření smlouvy o poskytování a úhradě hrazený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ýše náhrady nákladů</a:t>
            </a:r>
            <a:endParaRPr b="0" lang="en-US" sz="4400" spc="-1" strike="noStrike">
              <a:solidFill>
                <a:srgbClr val="ffffcc"/>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 základě tohoto zákona</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yhlášk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enového předpisu</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patření obecné povah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hodnutí Ústavu ke dni vyhotovení účetního dokladu, na jehož základě se náhrada provád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ředchozí souhlas</a:t>
            </a:r>
            <a:endParaRPr b="0" lang="en-US" sz="4400" spc="-1" strike="noStrike">
              <a:solidFill>
                <a:srgbClr val="ffffcc"/>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Vláda může nařízením vymezit hrazené přeshraniční služby, u nichž je poskytnutí náhrady nákladů podmíněno udělením předchozího souhlas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Jako hrazené přeshraniční služby, u nichž je poskytnutí náhrady nákladů podmíněno předchozím souhlasem, lze vymezit pouze</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a) plánované hrazené služby, pro které jsou nařízením vlády o místní a časové dostupnosti zdravotních služeb stanoveny lhůty časové dostupnosti a které současně vyžadují hospitalizaci nebo vysoce specializované přístrojové nebo zdravotnické vybavení, nebo</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b) hrazené služby, které zahrnují léčbu, která představuje zvláštní riziko pro pacienta nebo obyvatelstv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Žádost</a:t>
            </a:r>
            <a:endParaRPr b="0" lang="en-US" sz="4400" spc="-1" strike="noStrike">
              <a:solidFill>
                <a:srgbClr val="ffffcc"/>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Ministerstvo zdravotnictví oznámí Evropské komisi, u kterých hrazených služeb je náhrada nákladů podmíněna předchozím souhlas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O udělení předchozího souhlasu rozhoduje příslušná zdravotní pojišťovna na žádost pojištěnce. Žádost je nutné podat nejpozději před začátkem čerpání hrazených přeshraničních služe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kladní ustanovení</a:t>
            </a:r>
            <a:endParaRPr b="0" lang="en-US" sz="4400" spc="-1" strike="noStrike">
              <a:solidFill>
                <a:srgbClr val="ffffcc"/>
              </a:solidFill>
              <a:latin typeface="Arial"/>
            </a:endParaRPr>
          </a:p>
        </p:txBody>
      </p:sp>
      <p:sp>
        <p:nvSpPr>
          <p:cNvPr id="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eřejné zdravotní pojištění (dále jen "zdravotní pojištěn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sah a podmínky, za nichž jsou na základě tohoto zákona ze zdravotního pojištění hrazeny zdravotní služby (dále jen "hrazené služb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působ stanovení cen a úhrad léčivých přípravků a potravin pro zvláštní lékařské účely hrazených ze zdravotního pojištěn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dmítnutí předchozího souhlasu</a:t>
            </a:r>
            <a:endParaRPr b="0" lang="en-US" sz="4400" spc="-1" strike="noStrike">
              <a:solidFill>
                <a:srgbClr val="ffffcc"/>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dravotní pojišťovna může odmítnout udělit předchozí souhlas pouze, jestliž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by byl pojištěnec vzhledem ke svému zdravotnímu stavu při čerpání hrazených přeshraničních služeb </a:t>
            </a:r>
            <a:r>
              <a:rPr b="0" lang="cs-CZ" sz="2000" spc="-1" strike="noStrike" u="sng">
                <a:solidFill>
                  <a:srgbClr val="ffffff"/>
                </a:solidFill>
                <a:uFillTx/>
                <a:latin typeface="Arial"/>
                <a:ea typeface="Arial"/>
              </a:rPr>
              <a:t>vystaven riziku</a:t>
            </a:r>
            <a:r>
              <a:rPr b="0" lang="cs-CZ" sz="2000" spc="-1" strike="noStrike">
                <a:solidFill>
                  <a:srgbClr val="ffffff"/>
                </a:solidFill>
                <a:latin typeface="Arial"/>
                <a:ea typeface="Arial"/>
              </a:rPr>
              <a:t>, které nelze považovat za přijatelné, při zohlednění možného přínosu čerpání těchto hrazených přeshraničních služe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je důvodná obava, že by čerpání hrazených přeshraničních služeb mohlo mít za následek </a:t>
            </a:r>
            <a:r>
              <a:rPr b="0" lang="cs-CZ" sz="2000" spc="-1" strike="noStrike" u="sng">
                <a:solidFill>
                  <a:srgbClr val="ffffff"/>
                </a:solidFill>
                <a:uFillTx/>
                <a:latin typeface="Arial"/>
                <a:ea typeface="Arial"/>
              </a:rPr>
              <a:t>podstatné ohrožení veřejného zdraví</a:t>
            </a:r>
            <a:r>
              <a:rPr b="0" lang="cs-CZ" sz="2000" spc="-1" strike="noStrike">
                <a:solidFill>
                  <a:srgbClr val="ffffff"/>
                </a:solidFill>
                <a:latin typeface="Arial"/>
                <a:ea typeface="Arial"/>
              </a:rPr>
              <a: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ohledně toho, kdo má hrazené přeshraniční služby poskytnout, </a:t>
            </a:r>
            <a:r>
              <a:rPr b="0" lang="cs-CZ" sz="2000" spc="-1" strike="noStrike" u="sng">
                <a:solidFill>
                  <a:srgbClr val="ffffff"/>
                </a:solidFill>
                <a:uFillTx/>
                <a:latin typeface="Arial"/>
                <a:ea typeface="Arial"/>
              </a:rPr>
              <a:t>existuje důvodná obava</a:t>
            </a:r>
            <a:r>
              <a:rPr b="0" lang="cs-CZ" sz="2000" spc="-1" strike="noStrike">
                <a:solidFill>
                  <a:srgbClr val="ffffff"/>
                </a:solidFill>
                <a:latin typeface="Arial"/>
                <a:ea typeface="Arial"/>
              </a:rPr>
              <a:t>, pokud jde o dodržování standardů a pokynů týkajících se kvality zdravotních služeb jím poskytovaných a o bezpečí pojištěnce,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lze požadované zdravotní služby pojištěnci poskytnout na území České republiky ve lhůtě časové dostupnosti stanovené nařízením vlády o místní a časové dostupnosti zdravotních služeb.</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 </a:t>
            </a:r>
            <a:r>
              <a:rPr b="1" lang="cs-CZ" sz="1800" spc="-1" strike="noStrike" u="sng">
                <a:solidFill>
                  <a:srgbClr val="ffffff"/>
                </a:solidFill>
                <a:uFillTx/>
                <a:latin typeface="Arial"/>
                <a:ea typeface="Arial"/>
              </a:rPr>
              <a:t>Kontaktní místo poskytuje zejména informace o</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a) možnostech čerpání zdravotních služeb v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b) poskytovatelích,</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c) kontaktních údajích vnitrostátních kontaktních míst v jiných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d) právních předpisech České republiky upravujících standardy a pokyny o kvalitě a bezpečnosti poskytování zdravotních služeb, včetně ustanovení o dozoru a hodnocení poskytovatelů, a o poskytovatelích, na které se tyto standardy a pokyny vztah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e) právech pacientů, postupech pro podávání stížností a mechanizmech pro zjednání nápravy a o možnostech řešení sporů v České republic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náležitostech, které mají být podle právních předpisů České republiky uvedeny na lékařských předpisech, které jsou vystavovány na žádost pacienta, který je hodlá použít v jiném členském státě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Arial"/>
                <a:ea typeface="Arial"/>
              </a:rPr>
              <a:t>Kontaktní místo dále na žádost poskytuje informace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oprávnění konkrétního poskytovatele poskytovat zdravotní služby nebo o případných omezeních jeho oprávně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řístupnosti konkrétních zdravotnických zařízení v České republice pro osoby se zdravotním postižen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možnosti čerpat zdravotní služby podle koordinačních naříz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právech pojištěnce v souvislosti s čerpáním zdravotních služeb v jiných členských státech Evropské unie, a to zejména o pravidlech a podmínkách náhrady nákladů a postupech pro jejich uplatňová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rávech pacienta z jiného členského státu Evropské unie na území České republiky v souvislosti s čerpáním zdravotních služeb, zejména o možnostech odvolání a nápravy, má-li pacient za to, že byl poškozen na svých právech, včetně případů, kdy dojde k újmě v důsledku čerpání zdravotních služe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Ze zdravotního pojištění se nehradí, nebo se hradí jen za určitých podmínek, zdravotní výkony uvedené v příloze č. 1  zákon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dále nehradí výkony akupunktu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Hrazené služby</a:t>
            </a:r>
            <a:endParaRPr b="0" lang="en-US" sz="4400" spc="-1" strike="noStrike">
              <a:solidFill>
                <a:srgbClr val="ffffcc"/>
              </a:solidFill>
              <a:latin typeface="Arial"/>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Hrazené služby zahrnují zdravotní péči poskytnutou na základě doporučení registrujícího poskytovatele v oboru gynekologie a porodnictví v souvislosti s umělým oplodněním, a to nejvíce třikrát za život, nebo bylo-li v prvních dvou případech přeneseno do pohlavních orgánů ženy pouze 1 lidské embryo vzniklé oplodněním vajíčka spermií mimo tělo ženy, čtyřikrát za živo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ženám s oboustrannou neprůchodností vejcovodů ve věku od 18 do 39 le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ostatním ženám ve věku od 22 do 39 l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Arial"/>
                <a:ea typeface="Arial"/>
              </a:rPr>
              <a:t>Ze zdravotního pojištění se vždy plně hradí v provedení nejméně ekonomicky náročném léčivé přípravky obsahující tyto léčivé látky:</a:t>
            </a:r>
            <a:br>
              <a:rPr sz="1800"/>
            </a:br>
            <a:endParaRPr b="0" lang="en-US" sz="1800" spc="-1" strike="noStrike">
              <a:solidFill>
                <a:srgbClr val="ffffcc"/>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sérum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b) sérum proti záškrt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érum proti hadímu je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sérum proti botulism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sérum proti plynaté sněti,</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sérum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imunoglobulin proti tetan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imunoglobulin proti hepatitidě 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tetanový toxoid,</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vakcína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vakcína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antidota (užívaná při léčbě otrav organofosfáty, těžkými kovy a kyanid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hradí při poskytování ambulantní zdravotní péče léčivé přípravky a potraviny pro zvláštní lékařské účely, pokud pro ně Ústav rozhodl o výši úhrad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 každé skupině léčivých látek uvedených v příloze č. 2 se ze zdravotního pojištění vždy plně hradí nejméně jeden léčivý přípravek nebo potravina pro zvláštní lékařské úče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Dále se ze zdravotního pojištění hradí individuálně připravované léčivé přípravky, radiofarmaka, transfúzní přípravky, léčivé přípravky pro moderní terapii a tkáně a buňky ve výši stanovené Ústavem opatřením obecné povah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při poskytování lůžkové péče plně hradí léčivé přípravky a potraviny pro zvláštní lékařské účely, individuálně připravované léčivé přípravky, radiofarmaka, transfúzní přípravky, zdravotnické prostředky, léčivé přípravky pro moderní terapii a tkáně a buňky, v provedení nejméně ekonomicky náročném, v závislosti na míře a závažnosti onemocnění, a pojištěnec se na jejich úhradě nepodíl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Osobní rozsah zdravotního pojištění</a:t>
            </a:r>
            <a:endParaRPr b="0" lang="en-US" sz="4000" spc="-1" strike="noStrike">
              <a:solidFill>
                <a:srgbClr val="ffffcc"/>
              </a:solidFill>
              <a:latin typeface="Arial"/>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mají trvalý pobyt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na území České republiky nemají trvalý pobyt, pokud jsou zaměstnanci zaměstnavatele, který má sídlo nebo trvalý pobyt na území České republiky, (dále jen "pojištěnc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6) Ze zdravotního pojištění </a:t>
            </a:r>
            <a:r>
              <a:rPr b="1" lang="cs-CZ" sz="2400" spc="-1" strike="noStrike" u="sng">
                <a:solidFill>
                  <a:srgbClr val="ffffff"/>
                </a:solidFill>
                <a:uFillTx/>
                <a:latin typeface="Arial"/>
                <a:ea typeface="Arial"/>
              </a:rPr>
              <a:t>se nehradí</a:t>
            </a:r>
            <a:r>
              <a:rPr b="0" lang="cs-CZ" sz="2400" spc="-1" strike="noStrike">
                <a:solidFill>
                  <a:srgbClr val="ffffff"/>
                </a:solidFill>
                <a:latin typeface="Arial"/>
                <a:ea typeface="Arial"/>
              </a:rPr>
              <a:t> léčivé přípravky a potraviny pro zvláštní lékařské účely uvedené v odstavci 5 větě první, pokud Ústav rozhodnutím úhradu nepřiznal. Ústav nepřizná úhradu, jde-li o léčivé přípravky a potraviny pro zvláštní lékařské účel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a) podpůrné a doplňkov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b) jejichž používání je z odborného hlediska nevhodn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c) nemají dostatečné důkazy o terapeutické účinnosti, </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d) nesplňují podmínky účelné terapeutické intervence, neb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Ze zdravotního pojištění </a:t>
            </a:r>
            <a:r>
              <a:rPr b="1" lang="cs-CZ" sz="4000" spc="-1" strike="noStrike" u="sng">
                <a:solidFill>
                  <a:srgbClr val="ffffcc"/>
                </a:solidFill>
                <a:uFillTx/>
                <a:latin typeface="Arial"/>
                <a:ea typeface="Arial"/>
              </a:rPr>
              <a:t>se nehradí</a:t>
            </a:r>
            <a:r>
              <a:rPr b="0" lang="cs-CZ" sz="4000" spc="-1" strike="noStrike">
                <a:solidFill>
                  <a:srgbClr val="ffffcc"/>
                </a:solidFill>
                <a:latin typeface="Arial"/>
                <a:ea typeface="Arial"/>
              </a:rPr>
              <a:t> léčivé přípravky</a:t>
            </a:r>
            <a:endParaRPr b="0" lang="en-US" sz="4000" spc="-1" strike="noStrike">
              <a:solidFill>
                <a:srgbClr val="ffffcc"/>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které jsou prvním podobným přípravkem v referenční skupině, který byl podle zákona o léčivech registrován jako biologický léčivý přípravek nebo generikum, a držitel registrace se písemně spolu s žádostí o stanovení výše a podmínek úhrady nezavázal dodávat léčivý přípravek nebo potravinu pro zvláštní lékařské účely na český trh po dobu 12 měsíců ode dne účinnosti stanovené výše a podmínek úhrad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které mohou být vydávány i bez lékařského předpisu s výjimkou potravin pro zvláštní lékařské účely a takových léčivých přípravků, u kterých v průběhu řízení o stanovení výše a podmínek úhrady s přiznáním úhrady vyjádří na základě veřejného zájmu souhlas všechny zdravotní pojišťovny.</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ické prostředky uvedené v oddílu B přílohy č. 3  zákona se ze zdravotního pojištění nehradí. Zdravotnické prostředky uvedené v oddílu C přílohy č. 3  zákona se ze zdravotního pojištění hradí ve výši a za podmínek stanovených v této příloz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ické prostředky neuvedené se ze zdravotního pojištění hradí ve výši 75 % ceny zdravotnického prostředku v provedení nejméně ekonomicky náročném, v závislosti na míře a závažnosti zdravotního postiž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enu nejméně ekonomicky náročného provedení zdravotnického prostředku zjišťuje zdravotní pojišťovna průzkumem trhu.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podle tohoto odstavce se hradí zdravotnické prostředky předepsané za účele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pokračovat v léčebném proces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odpořit stabilizaci zdravotního stavu pojištěnce nebo jej výrazně zlepšit anebo vyloučit jeho zhoršení,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kompenzovat nebo zmírnit následky zdravotní vady včetně náhrady nebo modifikace anatomické struktury nebo fyziologického procesu.</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tomatologické výrobky</a:t>
            </a:r>
            <a:endParaRPr b="0" lang="en-US" sz="4400" spc="-1" strike="noStrike">
              <a:solidFill>
                <a:srgbClr val="ffffcc"/>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hradí stomatologické výrobky v rozsahu a za podmínek uvedených v příloze č. 4 tohoto záko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dí se</a:t>
            </a:r>
            <a:endParaRPr b="0" lang="en-US" sz="4400" spc="-1" strike="noStrike">
              <a:solidFill>
                <a:srgbClr val="ffffcc"/>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ffffff"/>
                </a:solidFill>
                <a:uFillTx/>
                <a:latin typeface="Arial"/>
                <a:ea typeface="Arial"/>
              </a:rPr>
              <a:t>Ze zdravotního pojištění se nehrad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vyšetření, prohlídky, léčivé přípravky, potraviny pro zvláštní lékařské účely a zdravotnické prostředky a jiné výkony provedené v osobním zájmu a na žádost fyzických osob nebo v zájmu a na žádost právnických osob, jejichž cílem není zachovat nebo zlepšit zdravotní stav pojištěn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Hrazené služby dále nezahrnují vyšetření, prohlídky, léčivé přípravky, potraviny pro zvláštní lékařské účely a zdravotnické prostředky a jiné zdravotní výkony provedené na dožádání soudu, státního zastupitelství, orgánů státní správy a orgánů Policie České republiky.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Úhradu zdravotních služeb podle předchozí věty poskytne zdravotnickému zařízení orgán, pro který se zdravotní služby provádějí, ve výši stanovené seznamem zdravotních výkonů s bodovými hodnotami v souladu s rozhodnutím Ministerstva zdravotnictví; jde-li o úhradu na dožádání orgánů Policie České republiky, zašle poskytovatel vyúčtování Ministerstvu vnitra, a to nejpozději do 15. dne kalendářního měsíce následujícího po kalendářním měsíci, v němž byly zdravotní služby poskytnut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í služby poskytované v dětských domovech pro děti do 3 let vě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 rozpočtu zřizovatele se hradí též zdravotnická záchranná služb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Příslušná zdravotní pojišťovna hradí ve výjimečných případech zdravotní služby jinak zdravotní pojišťovnou nehrazené, je-li poskytnutí takových zdravotních služeb jedinou možností z hlediska zdravotního stavu pojištěnc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S výjimkou případů, kdy hrozí nebezpečí z prodlení, je poskytování zdravotních služeb podle předchozího odstavce vázáno na předchozí souhlas revizního lékař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ea typeface="Arial"/>
              </a:rPr>
              <a:t>30 Kč z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1. návštěvu, při které bylo provedeno klinické vyšetření 27a) (dále jen "návštěva") u lékaře poskytovatele v oboru všeobecné praktické lékařství, praktické lékařství pro děti a dorost, gynekologie a porodnictví, nebo za návštěvu, při které bylo provedeno vyšetření u lékaře poskytovatele v oboru zubní lékař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2. návštěvu u lékaře poskytovatele specializované ambulantní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3. návštěvní službu poskytnutou lékařem poskytovatele v oboru všeobecné praktické lékařství a praktické lékařství pro děti a dor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30 Kč za návštěvu u klinického psycholog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30 Kč za návštěvu u klinického logoped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30 Kč za recept, na jehož základě došlo k výdeji prvního z balení předepsaných hrazených léčivých přípravků nebo potravin pro zvláštní lékařské účely, bez ohledu na počet hrazených léčivých přípravků nebo potravin pro zvláštní lékařské účely a počet předepsaných balen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e) 90 Kč za využití lékařské pohotovostní služby nebo pohotovostní služby v oboru zubní lékařství (dále jen "pohotovostní služba") v pracovní dny v době od 17 do 7 hodin a v sobotu, neděli a ve svátek, není-li tato doba pravidelnou ordinační dobou poskytovatele zajišťujícího pohotovostní službu; regulační poplatek za využití pohotovostní služby se neplatí, pokud dojde k následnému přijetí pojištěnce do lůžkové péč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znik zdravotního pojištění</a:t>
            </a:r>
            <a:endParaRPr b="0" lang="en-US" sz="4400" spc="-1" strike="noStrike">
              <a:solidFill>
                <a:srgbClr val="ffffcc"/>
              </a:solidFill>
              <a:latin typeface="Arial"/>
            </a:endParaRPr>
          </a:p>
        </p:txBody>
      </p:sp>
      <p:sp>
        <p:nvSpPr>
          <p:cNvPr id="1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rození, jde-li o osobu s trvalým pobytem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stala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íská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2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d 1.1.2014  </a:t>
            </a:r>
            <a:endParaRPr b="0" lang="en-US" sz="3200" spc="-1" strike="noStrike">
              <a:solidFill>
                <a:srgbClr val="ffffff"/>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600200" indent="0">
              <a:lnSpc>
                <a:spcPct val="100000"/>
              </a:lnSpc>
              <a:spcBef>
                <a:spcPts val="24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endParaRPr b="0" lang="en-US" sz="9600" spc="-1" strike="noStrike">
              <a:solidFill>
                <a:srgbClr val="ffffff"/>
              </a:solidFill>
              <a:latin typeface="Arial"/>
            </a:endParaRPr>
          </a:p>
        </p:txBody>
      </p:sp>
      <p:pic>
        <p:nvPicPr>
          <p:cNvPr id="237" name="Picture 14" descr="Sto korun"/>
          <p:cNvPicPr/>
          <p:nvPr/>
        </p:nvPicPr>
        <p:blipFill>
          <a:blip r:embed="rId1"/>
          <a:stretch/>
        </p:blipFill>
        <p:spPr>
          <a:xfrm>
            <a:off x="4140360" y="2997360"/>
            <a:ext cx="1952640" cy="9522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umístěné v dětských domovech 27d), ve školských zařízeních pro výkon ústavní výchovy nebo ochranné výchovy 27e) nebo umístěné k výkonu ústavní výchovy v domovech pro osoby se zdravotním postižením 27h) nebo jde-li o pojištěnce umístěné na základě rozhodnutí soudu v zařízeních pro děti vyžadující okamžitou pomoc 27i) nebo pojištěnce svěřené rozhodnutím soudu do pěstounské péče podle zákona o rodině,</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ochranném léčení nařízeném soudem nebo při umístění pojištěnce z důvodů stanovených zvláštním zákonem 27j) bez jeho souhlasu do lůžkové péče, vysloví-li s přípustností převzetí a dalšího držení pojištěnce v ústavní péči souhlas soud 27k) nebo při výkonu zabezpečovací deten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léčení infekčního onemocnění, kterému je pojištěnec povinen se podrobit, při nařízené izolaci ve zdravotnickém zařízení nebo při nařízených karanténních opatřeních k zajištění ochrany veřejného zdraví podle zvláštního právního předpisu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 se nehradí</a:t>
            </a:r>
            <a:endParaRPr b="0" lang="en-US" sz="4400" spc="-1" strike="noStrike">
              <a:solidFill>
                <a:srgbClr val="ffffcc"/>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ý se prokáže rozhodnutím, oznámením nebo potvrzením vydaným orgánem pomoci v hmotné nouzi o dávcene starším 30 dn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posuzování zdravotní způsobilosti pojištěnce k odběru tkání a orgánů, při odběru tkání a orgánů a při dispenzární péči o pojištěnce po odběru tkání a orgánů podle transplantačního záko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ému jsou podle jiného právního předpisu poskytovány pobytové sociální služby v domovech pro osoby se zdravotním postižením, domovech pro seniory, domovech se zvláštním režimem nebo ve zdravotnických zařízeních lůžkové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okud u tohoto pojištěnce po úhradě za ubytování a stravu činí stanovený zůstatek ve výši alespoň 15 % jeho příjmu méně než 800 Kč nebo pokud nemá žádný příjem;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tuto skutečnost prokazuje pojištěnec potvrzením ne starším než 30 dnů, které je na jeho žádost povinen vydat poskytovatel sociální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preventivní prohlídk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dispenzární péče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hemodialýz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d) laboratorní nebo diagnostické vyšetření vyžádané ošetřujícím lékařem, pokud není zároveň provedeno klinické vyšetření</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e) vyšetření lékařem poskytovatele transfúzní služby při odběru krve, plazmy nebo kostní dřeně</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f) děti do dovršení 18 let věku včetně tohoto d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egulační poplatek je příjmem poskytovatele, který regulační poplatek vybral.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oskytovatel je povinen použít vybrané regulační poplatky na úhradu nákladů spojených s provozem zdravotnického zařízení a jeho modernizac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Regulační poplatek se platí poskytovateli v souvislosti s poskytováním hrazených služeb. </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vystavit pojištěnci nebo jeho zákonnému zástupci na jeho žádost doklad o zaplacení regulačního poplatku, s uvedením čísla pojištěnce, výše regulačního poplatku, otiskem razítka poskytovatele a podpisem osoby, která regulační poplatek přijala, a jde-li o poskytovatele lékárenské péče, též s uvedením názvu léčivého přípravku nebo potraviny pro zvláštní lékařské účely a výše doplatku, který se započítává do limit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sdělovat zdravotním pojišťovnám v rámci vyúčtování poskytnutých hrazených služeb za příslušný kalendářní měsíc, nebo za příslušné kalendářní čtvrtletí, informace o regulačních poplatcích vybraných podle odstavce 1, s uvedením čísla pojištěnce, ke kterému se regulační poplatek váže, výše zaplaceného regulačního poplatku a dne, ke kterému se regulační poplatek váž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je povinen regulační poplatek uvedený v odstavci 1 od pojištěnce nebo jeho zákonného zástupce vybr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jištění opakovaného a soustavného porušování této povinnosti je zdravotní pojišťovna oprávněna tomuto poskytovateli uložit pokutu až do výše 1 000 000 Kč. Pokutu je možno uložit i opakovaně.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ukládání pokuty zdravotní pojišťovna přihlíží k závažnosti porušení, k míře zavinění a k okolnostem, za nichž k porušení povinnosti došlo. Pokutu lze uložit do 1 roku ode dne, kdy zdravotní pojišťovna zjistila porušení nebo nesplnění povinnosti, nejdéle však do 3 let ode dne, kdy k porušení nebo nesplnění povinnosti došlo. Pokuta je příjmem zdravotní pojišťovny, která ji uložil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nesmí vybírat regulační poplatky v souvislosti s poskytováním hrazených služeb, které podle tohoto zákona regulačním poplatkům nepodléhají.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ři zjištění opakovaného porušování této povinnosti je zdravotní pojišťovna oprávněna tomuto poskytovateli uložit pokutu až do výše 50 000 Kč.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Opakované udělení pokuty poskytovateli je důvodem pro ukončení smlouvy o poskytování a úhradě hrazených služeb bez výpovědní lhů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okud celková částka uhrazená pojištěncem nebo za něj jeho zákonným zástupcem za regulační poplatky podle § 16a odst. 1 písm. a) až d) a za doplatky za předepsané ze zdravotního pojištění částečně hrazené léčivé přípravky nebo potraviny pro zvláštní lékařské účely, vydané na území České republiky, překročí v kalendářním roce limit ve výši 5 000 Kč, u dětí mladších 18 let, včetně kalendářního roku, ve kterém dovršily 18. rok věku, a u pojištěnců starších 65 let, včetně kalendářního roku, ve kterém dovršili 65. rok věku, ve výši 2 500 Kč, je zdravotní pojišťovna povinna uhradit pojištěnci nebo jeho zákonnému zástupci částku, o kterou je tento limit překroče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nik zdravotního pojištění</a:t>
            </a:r>
            <a:endParaRPr b="0" lang="en-US" sz="4400" spc="-1" strike="noStrike">
              <a:solidFill>
                <a:srgbClr val="ffffcc"/>
              </a:solidFill>
              <a:latin typeface="Arial"/>
            </a:endParaRPr>
          </a:p>
        </p:txBody>
      </p:sp>
      <p:sp>
        <p:nvSpPr>
          <p:cNvPr id="1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Úmrtí pojištěnce nebo jeho prohlášení za mrtvého,</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přestala být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ukonče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 limitu podle věty první se započítávají doplatky na částečně hrazené léčivé přípravky nebo potraviny pro zvláštní lékařské účely s obsahem stejné léčivé látky a stejné cesty podání pouze ve výši vypočtené podle doplatku na léčivý přípravek nebo potravinu pro zvláštní lékařské účely, jehož doplatek na množstevní jednotku této léčivé látky je nejnižší a u kterého nebylo zjištěno přerušení nebo ukončení dodáván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To neplatí, pokud předepisující lékař na receptu vyznačil, že předepsaný léčivý přípravek nelze nahradit; v takovém případě se do limitu započítává doplatek v plné výši.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o limitu </a:t>
            </a:r>
            <a:r>
              <a:rPr b="0" lang="cs-CZ" sz="2400" spc="-1" strike="noStrike" u="sng">
                <a:solidFill>
                  <a:srgbClr val="ffffff"/>
                </a:solidFill>
                <a:uFillTx/>
                <a:latin typeface="Arial"/>
                <a:ea typeface="Arial"/>
              </a:rPr>
              <a:t>se nezapočítávají</a:t>
            </a:r>
            <a:r>
              <a:rPr b="0" lang="cs-CZ" sz="2400" spc="-1" strike="noStrike">
                <a:solidFill>
                  <a:srgbClr val="ffffff"/>
                </a:solidFill>
                <a:latin typeface="Arial"/>
                <a:ea typeface="Arial"/>
              </a:rPr>
              <a:t> doplatky na částečně hrazené léčivé přípravky nebo potraviny pro zvláštní lékařské účely obsahující léčivé látky určené k podpůrné nebo doplňkové léčbě; to neplatí, jde-li o léčivé přípravky a potraviny pro zvláštní lékařské účely předepsané na recept pojištěncům starším 65 let, včetně dne, ve kterém dovršili 65. rok věk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eznam léčivých látek určených k podpůrné nebo doplňkové léčbě stanoví Ministerstvo zdravotnictví vyhláškou.</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 zdravotní pojišťovny</a:t>
            </a:r>
            <a:endParaRPr b="0" lang="en-US" sz="4400" spc="-1" strike="noStrike">
              <a:solidFill>
                <a:srgbClr val="ffffcc"/>
              </a:solidFill>
              <a:latin typeface="Arial"/>
            </a:endParaRPr>
          </a:p>
        </p:txBody>
      </p:sp>
      <p:sp>
        <p:nvSpPr>
          <p:cNvPr id="2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dravotní pojišťovna je povinna uhradit pojištěnci nebo jeho zákonnému zástupci částku, o kterou překračuje součet regulačních poplatků a doplatků započitatelných do limitu, oznámených poskytovateli zdravotní pojišťovně a to do 60 kalendářních dnů po uplynutí kalendářního čtvrtletí, ve kterém byl limit překroče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kalendářních čtvrtletích následujících po kalendářním čtvrtletí, ve kterém byl limit již překročen, je zdravotní pojišťovna povinna uhradit pojištěnci nebo jeho zákonnému zástupci částku ve výši součtu regulačních poplatků a doplatků započitatelných do limitu za příslušné kalendářní čtvrtletí, oznámených poskytovateli zdravotní pojišťovně, a to do 60 kalendářních dnů po uplynutí každého takového kalendářního čtvrtlet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Částku podle věty první nebo druhé, která v kalendářním čtvrtletí nepřesáhla 50 Kč, uhradí zdravotní pojišťovna do 60 kalendářních dnů po uplynutí posledního kalendářního čtvrtletí v kalendářním ro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měna zdravotní pojišťovny</a:t>
            </a:r>
            <a:endParaRPr b="0" lang="en-US" sz="4400" spc="-1" strike="noStrike">
              <a:solidFill>
                <a:srgbClr val="ffffcc"/>
              </a:solidFill>
              <a:latin typeface="Arial"/>
            </a:endParaRPr>
          </a:p>
        </p:txBody>
      </p:sp>
      <p:sp>
        <p:nvSpPr>
          <p:cNvPr id="2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měně zdravotní pojišťovny v průběhu kalendářního roku je zdravotní pojišťovna, u které byl pojištěnec pojištěn, povinna oznámit nové zdravotní pojišťovně pojištěnce skutečnosti rozhodné pro výpočet částk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Částku uhradí pojištěnci nebo jeho zákonnému zástupci zdravotní pojišťovna, u které je pojištěnec pojištěn k poslednímu dni kalendářního roku, ve kterém byl limit překročen.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a uvedená ve větě druhé oznámí zdravotním pojišťovnám, u kterých byl pojištěnec v kalendářním roce pojištěn, celkovou částku, o kterou byl limit tohoto pojištěnce překročen, jakož i poměrnou částku vypočtenou podle doby pojištění připadající na pojišťovnu, které je částka oznamována.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y jsou povinny částku na ně připadající uhradit zdravotní pojišťovně uvedené ve větě druhé do 30 dnů ode dne doručení oznámení o výši této částk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ZOR ZMĚNA</a:t>
            </a:r>
            <a:endParaRPr b="0" lang="en-US" sz="4400" spc="-1" strike="noStrike">
              <a:solidFill>
                <a:srgbClr val="ffffcc"/>
              </a:solidFill>
              <a:latin typeface="Arial"/>
            </a:endParaRPr>
          </a:p>
        </p:txBody>
      </p:sp>
      <p:sp>
        <p:nvSpPr>
          <p:cNvPr id="2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1.1.2015</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pic>
        <p:nvPicPr>
          <p:cNvPr id="266" name="Picture 10" descr="Desetikoruna z roku 1993 obsahuje nestandardní znaky. ">
            <a:hlinkClick r:id="rId1"/>
          </p:cNvPr>
          <p:cNvPicPr/>
          <p:nvPr/>
        </p:nvPicPr>
        <p:blipFill>
          <a:blip r:embed="rId2"/>
          <a:stretch/>
        </p:blipFill>
        <p:spPr>
          <a:xfrm>
            <a:off x="684360" y="2421000"/>
            <a:ext cx="2047680" cy="1533600"/>
          </a:xfrm>
          <a:prstGeom prst="rect">
            <a:avLst/>
          </a:prstGeom>
          <a:ln w="0">
            <a:noFill/>
          </a:ln>
        </p:spPr>
      </p:pic>
      <p:pic>
        <p:nvPicPr>
          <p:cNvPr id="267" name="Picture 12" descr="Desetikoruna z roku 1993 obsahuje nestandardní znaky. ">
            <a:hlinkClick r:id="rId3"/>
          </p:cNvPr>
          <p:cNvPicPr/>
          <p:nvPr/>
        </p:nvPicPr>
        <p:blipFill>
          <a:blip r:embed="rId4"/>
          <a:stretch/>
        </p:blipFill>
        <p:spPr>
          <a:xfrm>
            <a:off x="3419640" y="2421000"/>
            <a:ext cx="2047680" cy="1533600"/>
          </a:xfrm>
          <a:prstGeom prst="rect">
            <a:avLst/>
          </a:prstGeom>
          <a:ln w="0">
            <a:noFill/>
          </a:ln>
        </p:spPr>
      </p:pic>
      <p:pic>
        <p:nvPicPr>
          <p:cNvPr id="268" name="Picture 14" descr="Desetikoruna z roku 1993 obsahuje nestandardní znaky. ">
            <a:hlinkClick r:id="rId5"/>
          </p:cNvPr>
          <p:cNvPicPr/>
          <p:nvPr/>
        </p:nvPicPr>
        <p:blipFill>
          <a:blip r:embed="rId6"/>
          <a:stretch/>
        </p:blipFill>
        <p:spPr>
          <a:xfrm>
            <a:off x="5796000" y="2492280"/>
            <a:ext cx="2047680" cy="15336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a:t>
            </a:r>
            <a:r>
              <a:rPr b="0" lang="en-US" sz="4400" spc="-1" strike="noStrike">
                <a:solidFill>
                  <a:srgbClr val="ffffcc"/>
                </a:solidFill>
                <a:latin typeface="Tahoma"/>
                <a:ea typeface="Tahoma"/>
              </a:rPr>
              <a:t>Ů</a:t>
            </a:r>
            <a:r>
              <a:rPr b="0" lang="cs-CZ" sz="4400" spc="-1" strike="noStrike">
                <a:solidFill>
                  <a:srgbClr val="ffffcc"/>
                </a:solidFill>
                <a:latin typeface="Tahoma"/>
                <a:ea typeface="Tahoma"/>
              </a:rPr>
              <a:t>STÁVÁ</a:t>
            </a:r>
            <a:endParaRPr b="0" lang="en-US" sz="4400" spc="-1" strike="noStrike">
              <a:solidFill>
                <a:srgbClr val="ffffcc"/>
              </a:solidFill>
              <a:latin typeface="Arial"/>
            </a:endParaRPr>
          </a:p>
        </p:txBody>
      </p:sp>
      <p:sp>
        <p:nvSpPr>
          <p:cNvPr id="2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Od 1.1.2015</a:t>
            </a:r>
            <a:endParaRPr b="0" lang="en-US" sz="3200" spc="-1" strike="noStrike">
              <a:solidFill>
                <a:srgbClr val="ffffff"/>
              </a:solidFill>
              <a:latin typeface="Arial"/>
            </a:endParaRPr>
          </a:p>
        </p:txBody>
      </p:sp>
      <p:pic>
        <p:nvPicPr>
          <p:cNvPr id="271" name="Picture 5" descr="mince 50 Kč">
            <a:hlinkClick r:id="rId1"/>
          </p:cNvPr>
          <p:cNvPicPr/>
          <p:nvPr/>
        </p:nvPicPr>
        <p:blipFill>
          <a:blip r:embed="rId2"/>
          <a:stretch/>
        </p:blipFill>
        <p:spPr>
          <a:xfrm>
            <a:off x="755640" y="2781360"/>
            <a:ext cx="2095560" cy="2095560"/>
          </a:xfrm>
          <a:prstGeom prst="rect">
            <a:avLst/>
          </a:prstGeom>
          <a:ln w="0">
            <a:noFill/>
          </a:ln>
        </p:spPr>
      </p:pic>
      <p:pic>
        <p:nvPicPr>
          <p:cNvPr id="272" name="Picture 6" descr="20_2004_3s"/>
          <p:cNvPicPr/>
          <p:nvPr/>
        </p:nvPicPr>
        <p:blipFill>
          <a:blip r:embed="rId3"/>
          <a:stretch/>
        </p:blipFill>
        <p:spPr>
          <a:xfrm>
            <a:off x="3708360" y="3141720"/>
            <a:ext cx="1440000" cy="1368360"/>
          </a:xfrm>
          <a:prstGeom prst="rect">
            <a:avLst/>
          </a:prstGeom>
          <a:ln w="0">
            <a:noFill/>
          </a:ln>
        </p:spPr>
      </p:pic>
      <p:pic>
        <p:nvPicPr>
          <p:cNvPr id="273" name="Picture 8" descr="20_2004_3s"/>
          <p:cNvPicPr/>
          <p:nvPr/>
        </p:nvPicPr>
        <p:blipFill>
          <a:blip r:embed="rId4"/>
          <a:stretch/>
        </p:blipFill>
        <p:spPr>
          <a:xfrm>
            <a:off x="6156360" y="3068640"/>
            <a:ext cx="1440000" cy="13683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mlouvy s poskytovateli</a:t>
            </a:r>
            <a:endParaRPr b="0" lang="en-US" sz="4400" spc="-1" strike="noStrike">
              <a:solidFill>
                <a:srgbClr val="ffffcc"/>
              </a:solidFill>
              <a:latin typeface="Arial"/>
            </a:endParaRPr>
          </a:p>
        </p:txBody>
      </p:sp>
      <p:sp>
        <p:nvSpPr>
          <p:cNvPr id="2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Arial"/>
                <a:ea typeface="Arial"/>
              </a:rPr>
              <a:t>Za účelem zajištění věcného plnění při poskytování hrazených služeb pojištěncům uzavírají Všeobecná zdravotní pojišťovna České republiky a ostatní zdravotní pojišťovny smlouvy s poskytovateli o poskytování a úhradě hrazených služeb.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mlouvu o poskytování a úhradě hrazených služeb lze uzavřít pouze pro zdravotní služby, které je poskytovatel oprávněn poskytov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mlouvy se nevyžadují</a:t>
            </a:r>
            <a:endParaRPr b="0" lang="en-US" sz="4400" spc="-1" strike="noStrike">
              <a:solidFill>
                <a:srgbClr val="ffffcc"/>
              </a:solidFill>
              <a:latin typeface="Arial"/>
            </a:endParaRPr>
          </a:p>
        </p:txBody>
      </p:sp>
      <p:sp>
        <p:nvSpPr>
          <p:cNvPr id="2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neodkladné péče pojištěnci,</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zdravotních služeb pojištěncům ve výkonu vazby nebo výkonu trestu odnětí svobody nebo výkonu zabezpečovací detence poskytovatelem určeným Vězeňskou službou,</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c) zdravotních služeb pojištěnci, který je ve výkonu ochranného léčení nařízeného soudem, jde-li o zdravotní služby poskytované v souvislosti s onemocněním, pro které je pojištěnec povinen se léčení podrobi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Dohodovací řízení</a:t>
            </a:r>
            <a:endParaRPr b="0" lang="en-US" sz="4400" spc="-1" strike="noStrike">
              <a:solidFill>
                <a:srgbClr val="ffffcc"/>
              </a:solidFill>
              <a:latin typeface="Arial"/>
            </a:endParaRPr>
          </a:p>
        </p:txBody>
      </p:sp>
      <p:sp>
        <p:nvSpPr>
          <p:cNvPr id="2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odnoty bodu, výše úhrad hrazených služeb a regulační omezení se vždy na následující kalendářní rok dohodnou v dohodovacím řízení zástupců Všeobecné zdravotní pojišťovny České republiky a ostatních zdravotních pojišťoven a příslušných profesních sdružení poskytovatelů jako zástupců smluvních poskytovatelů.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Svolavatelem dohodovacího řízení je Ministerstvo zdravotnictví. Dojde-li k dohodě, posoudí její obsah Ministerstvo zdravotnictví z hlediska souladu s právními předpisy a veřejným zájmem. Je-li dohoda v souladu s právními předpisy a veřejným zájmem, vydá ji Ministerstvo zdravotnictví jako vyhlášku.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edojde-li v dohodovacím řízení k dohodě do 120 dnů před skončením příslušného kalendářního roku nebo shledá-li Ministerstvo zdravotnictví, že tato dohoda není v souladu s právními předpisy nebo veřejným zájmem, stanoví hodnoty bodu, výši úhrad hrazených služeb a regulační omezení na následující kalendářní rok Ministerstvo zdravotnictví vyhlášk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	</a:t>
            </a:r>
            <a:r>
              <a:rPr b="0" lang="cs-CZ" sz="1800" spc="-1" strike="noStrike">
                <a:solidFill>
                  <a:srgbClr val="ffffff"/>
                </a:solidFill>
                <a:latin typeface="Arial"/>
                <a:ea typeface="Arial"/>
              </a:rPr>
              <a:t>Vyhláška podle věty čtvrté a páté se použije, pokud se poskytovatel a zdravotní pojišťovna za podmínky dodržení zdravotně pojistného plánu zdravotní pojišťovny nedohodnou o způsobu úhrady, výši úhrady a regulačních omezeních jina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Arial"/>
                <a:ea typeface="Arial"/>
              </a:rPr>
              <a:t>Příslušná zdravotní pojišťovna hradí poskytovatelům, s výjimkou poskytovatelů lékárenské péče, léčivé přípravky paušální částkou, jejíž výše se sjedná ve smlouvě.</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6:36:44Z</dcterms:modified>
  <cp:revision>67</cp:revision>
  <dc:subject/>
  <dc:title>Snímek 1</dc:title>
</cp:coreProperties>
</file>