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4.jpeg" ContentType="image/jpeg"/>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89.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B4CA5B-4300-460E-A6F7-C972D8A3D8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AD40D2-FD60-4F83-8A80-DE57BC1426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E229B6-B6DC-4F08-80B3-147AE13F29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92F716-3502-46A8-B44E-A73EC058A9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984DC7D-B49B-40DF-A721-6031963F44C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0"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E944FB-E4AC-4633-8734-838D14FAAD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F8B74F-A005-4B86-B992-23C2EE4E60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4"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65F65A-86D7-413F-B777-4113B1A460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667081-D73D-4C1B-A259-8148CB4FF1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A9022A-B674-4B5A-8B14-D1A14DE89E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ECFEEA-0471-426C-AAF6-15A94590C8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F06146-C567-4CC1-BEFF-82B3EC86CA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7BBFCE-AA16-427D-A55E-4C80FA89FA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A5BAF2-0084-4001-88A4-60D103F795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1"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1BC61D-347E-49FE-BAB0-63E685B27F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8BABE71-123C-47B2-B534-AC19738B50A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3E8E69F-8270-4043-8268-F1BB5F07147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6AE381-F775-4B6E-8679-9A4767B5E9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576BA6-3122-47F9-918E-384F8FD14F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26F2D9-BEE7-4B48-BF30-DCD2BDCC45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84F3E6-C5E1-4A8C-949E-5B5F3DF702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FBE69F-2160-46C1-BC13-41B56EDED6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4D4379-AC06-4ED1-86EE-959A98B52A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121CBA-7D47-4B63-848D-6808DFF28D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FD5D68-5202-4513-B8A4-21E8A8E5D115}" type="slidenum">
              <a:rPr b="0" lang="cs-CZ"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1" name="Group 2"/>
          <p:cNvGrpSpPr/>
          <p:nvPr/>
        </p:nvGrpSpPr>
        <p:grpSpPr>
          <a:xfrm>
            <a:off x="0" y="0"/>
            <a:ext cx="8458200" cy="5943600"/>
            <a:chOff x="0" y="0"/>
            <a:chExt cx="8458200" cy="5943600"/>
          </a:xfrm>
        </p:grpSpPr>
        <p:sp>
          <p:nvSpPr>
            <p:cNvPr id="42" name="Freeform 3"/>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61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3" name="Freeform 4"/>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45"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6"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8"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2F3346-7E31-451E-873A-B9BDC84BF98A}" type="slidenum">
              <a:rPr b="0" lang="cs-CZ"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8.jpeg"/><Relationship Id="rId3" Type="http://schemas.openxmlformats.org/officeDocument/2006/relationships/hyperlink" Target="http://www.zlate-mince.cz/CRO_50_h.htm" TargetMode="External"/><Relationship Id="rId4" Type="http://schemas.openxmlformats.org/officeDocument/2006/relationships/image" Target="../media/image9.jpeg"/><Relationship Id="rId5" Type="http://schemas.openxmlformats.org/officeDocument/2006/relationships/hyperlink" Target="http://www.zlate-mince.cz/CRO_1_Kc.htm" TargetMode="External"/><Relationship Id="rId6" Type="http://schemas.openxmlformats.org/officeDocument/2006/relationships/image" Target="../media/image10.jpeg"/><Relationship Id="rId7" Type="http://schemas.openxmlformats.org/officeDocument/2006/relationships/image" Target="../media/image11.jpeg"/><Relationship Id="rId8" Type="http://schemas.openxmlformats.org/officeDocument/2006/relationships/image" Target="../media/image12.jpeg"/><Relationship Id="rId9" Type="http://schemas.openxmlformats.org/officeDocument/2006/relationships/image" Target="../media/image13.jpeg"/><Relationship Id="rId10" Type="http://schemas.openxmlformats.org/officeDocument/2006/relationships/image" Target="../media/image7.jpeg"/><Relationship Id="rId11" Type="http://schemas.openxmlformats.org/officeDocument/2006/relationships/image" Target="../media/image14.jpeg"/><Relationship Id="rId1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hyperlink" Target="http://www.vzp.cz/platci/informace/povinnosti-platcu-metodika/stat/vymerovaci-zaklad-stat" TargetMode="External"/><Relationship Id="rId2" Type="http://schemas.openxmlformats.org/officeDocument/2006/relationships/hyperlink" Target="http://www.vzp.cz/platci/informace/stat" TargetMode="External"/><Relationship Id="rId3"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hyperlink" Target="http://portal.gov.cz/app/zakony/zakon?q=48/1997" TargetMode="External"/><Relationship Id="rId2"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4.xml.rels><?xml version="1.0" encoding="UTF-8"?>
<Relationships xmlns="http://schemas.openxmlformats.org/package/2006/relationships"><Relationship Id="rId1" Type="http://schemas.openxmlformats.org/officeDocument/2006/relationships/hyperlink" Target="http://ekonomika.idnes.cz/foto.aspx?foto1=SPI34ec71_Lic_10_Kc_1993.jpg" TargetMode="External"/><Relationship Id="rId2" Type="http://schemas.openxmlformats.org/officeDocument/2006/relationships/image" Target="../media/image5.jpeg"/><Relationship Id="rId3" Type="http://schemas.openxmlformats.org/officeDocument/2006/relationships/hyperlink" Target="http://ekonomika.idnes.cz/foto.aspx?foto1=SPI34ec71_Lic_10_Kc_1993.jpg" TargetMode="External"/><Relationship Id="rId4" Type="http://schemas.openxmlformats.org/officeDocument/2006/relationships/image" Target="../media/image5.jpeg"/><Relationship Id="rId5" Type="http://schemas.openxmlformats.org/officeDocument/2006/relationships/hyperlink" Target="http://ekonomika.idnes.cz/foto.aspx?foto1=SPI34ec71_Lic_10_Kc_1993.jpg" TargetMode="External"/><Relationship Id="rId6" Type="http://schemas.openxmlformats.org/officeDocument/2006/relationships/image" Target="../media/image5.jpeg"/><Relationship Id="rId7" Type="http://schemas.openxmlformats.org/officeDocument/2006/relationships/slideLayout" Target="../slideLayouts/slideLayout13.xml"/>
</Relationships>
</file>

<file path=ppt/slides/_rels/slide95.xml.rels><?xml version="1.0" encoding="UTF-8"?>
<Relationships xmlns="http://schemas.openxmlformats.org/package/2006/relationships"><Relationship Id="rId1" Type="http://schemas.openxmlformats.org/officeDocument/2006/relationships/hyperlink" Target="http://www.zlate-mince.cz/semafor.asp?obr=/m/50_1999_2B.jpg" TargetMode="External"/><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7.jpeg"/><Relationship Id="rId5" Type="http://schemas.openxmlformats.org/officeDocument/2006/relationships/slideLayout" Target="../slideLayouts/slideLayout1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4000" y="907920"/>
            <a:ext cx="7846920" cy="18734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5400" spc="-1" strike="noStrike">
                <a:solidFill>
                  <a:srgbClr val="ffffcc"/>
                </a:solidFill>
                <a:latin typeface="Arial"/>
                <a:ea typeface="Arial"/>
              </a:rPr>
              <a:t>Financování péče v ČR</a:t>
            </a:r>
            <a:endParaRPr b="0" lang="en-US" sz="5400" spc="-1" strike="noStrike">
              <a:solidFill>
                <a:srgbClr val="ffffcc"/>
              </a:solidFill>
              <a:latin typeface="Arial"/>
            </a:endParaRPr>
          </a:p>
        </p:txBody>
      </p:sp>
      <p:pic>
        <p:nvPicPr>
          <p:cNvPr id="86" name="Picture 11" descr="Bankovky"/>
          <p:cNvPicPr/>
          <p:nvPr/>
        </p:nvPicPr>
        <p:blipFill>
          <a:blip r:embed="rId1"/>
          <a:stretch/>
        </p:blipFill>
        <p:spPr>
          <a:xfrm>
            <a:off x="2627280" y="2997360"/>
            <a:ext cx="4032360" cy="2952720"/>
          </a:xfrm>
          <a:prstGeom prst="rect">
            <a:avLst/>
          </a:prstGeom>
          <a:ln w="0">
            <a:noFill/>
          </a:ln>
        </p:spPr>
      </p:pic>
      <p:pic>
        <p:nvPicPr>
          <p:cNvPr id="87" name="Picture 13" descr="10_Hal_1999_1s"/>
          <p:cNvPicPr/>
          <p:nvPr/>
        </p:nvPicPr>
        <p:blipFill>
          <a:blip r:embed="rId2"/>
          <a:stretch/>
        </p:blipFill>
        <p:spPr>
          <a:xfrm>
            <a:off x="4048200" y="2905200"/>
            <a:ext cx="1047600" cy="1047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Arial"/>
                <a:ea typeface="Arial"/>
              </a:rPr>
              <a:t>Plátci pojistného zdravotního pojištění</a:t>
            </a:r>
            <a:endParaRPr b="0" lang="en-US" sz="4000" spc="-1" strike="noStrike">
              <a:solidFill>
                <a:srgbClr val="ffffcc"/>
              </a:solidFill>
              <a:latin typeface="Arial"/>
            </a:endParaRPr>
          </a:p>
        </p:txBody>
      </p:sp>
      <p:sp>
        <p:nvSpPr>
          <p:cNvPr id="10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a) pojištěnci </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b) zaměstnavatelé</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c) stá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Ošetřující lékař</a:t>
            </a:r>
            <a:endParaRPr b="0" lang="en-US" sz="4400" spc="-1" strike="noStrike">
              <a:solidFill>
                <a:srgbClr val="ffffcc"/>
              </a:solidFill>
              <a:latin typeface="Arial"/>
            </a:endParaRPr>
          </a:p>
        </p:txBody>
      </p:sp>
      <p:sp>
        <p:nvSpPr>
          <p:cNvPr id="28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Ošetřujícím lékařem se pro účely zdravotního pojištění rozumí</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a) lékař registrujícího poskytovatele,</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b) lékař poskytovatele specializované ambulantní péče,</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c) lékař poskytovatele jednodenní péče, nebo</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d) lékař se specializovanou způsobilostí poskytovatele lůžkové péče.</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Arial"/>
                <a:ea typeface="Arial"/>
              </a:rPr>
              <a:t>Vybavení pojištěnce po ukončení hospitalizace</a:t>
            </a:r>
            <a:endParaRPr b="0" lang="en-US" sz="4000" spc="-1" strike="noStrike">
              <a:solidFill>
                <a:srgbClr val="ffffcc"/>
              </a:solidFill>
              <a:latin typeface="Arial"/>
            </a:endParaRPr>
          </a:p>
        </p:txBody>
      </p:sp>
      <p:sp>
        <p:nvSpPr>
          <p:cNvPr id="28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1) Hrazenými službami je i vybavení pojištěnce léčivými přípravky, potravinami pro zvláštní lékařské účely a zdravotnickými prostředky po ukončení hospitalizace na 3 dny nebo v odůvodněných případech i na další, nezbytně nutnou dobu.</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 </a:t>
            </a:r>
            <a:r>
              <a:rPr b="0" lang="cs-CZ" sz="2400" spc="-1" strike="noStrike">
                <a:solidFill>
                  <a:srgbClr val="ffffff"/>
                </a:solidFill>
                <a:latin typeface="Arial"/>
                <a:ea typeface="Arial"/>
              </a:rPr>
              <a:t>(2) Pokud je pojištěnec propuštěn do domácího ošetření na propustku, není poskytovatel po dobu trvání propustky oprávněn účtovat zdravotní pojišťovně náklady za lůžkovou péči, s výjimkou léčivých přípravků a zdravotnických prostředků, kterými pojištěnce na dobu trvání propustky vybaví.</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Arial"/>
                <a:ea typeface="Arial"/>
              </a:rPr>
              <a:t>Stanovení maximálních cen léčivých přípravků a potravin pro zvláštní lékařské účely</a:t>
            </a:r>
            <a:endParaRPr b="0" lang="en-US" sz="2800" spc="-1" strike="noStrike">
              <a:solidFill>
                <a:srgbClr val="ffffcc"/>
              </a:solidFill>
              <a:latin typeface="Arial"/>
            </a:endParaRPr>
          </a:p>
        </p:txBody>
      </p:sp>
      <p:sp>
        <p:nvSpPr>
          <p:cNvPr id="28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O maximálních cenách hromadně vyráběných léčivých přípravků a potravin pro zvláštní lékařské účely, o nichž je podle cenového předpisu stanoven tento způsob regulace cen, rozhoduje Ústav.</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cs-CZ" sz="4000" spc="-1" strike="noStrike">
                <a:solidFill>
                  <a:srgbClr val="ffffcc"/>
                </a:solidFill>
                <a:latin typeface="Arial"/>
                <a:ea typeface="Arial"/>
              </a:rPr>
              <a:t> </a:t>
            </a:r>
            <a:r>
              <a:rPr b="0" lang="cs-CZ" sz="4000" spc="-1" strike="noStrike">
                <a:solidFill>
                  <a:srgbClr val="ffffcc"/>
                </a:solidFill>
                <a:latin typeface="Arial"/>
                <a:ea typeface="Arial"/>
              </a:rPr>
              <a:t>Zdravotní pojišťovny</a:t>
            </a:r>
            <a:endParaRPr b="0" lang="en-US" sz="4000" spc="-1" strike="noStrike">
              <a:solidFill>
                <a:srgbClr val="ffffcc"/>
              </a:solidFill>
              <a:latin typeface="Arial"/>
            </a:endParaRPr>
          </a:p>
        </p:txBody>
      </p:sp>
      <p:sp>
        <p:nvSpPr>
          <p:cNvPr id="28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Zdravotní pojištění provádějí tyto zdravotní pojišťovny:</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a) Všeobecná zdravotní pojišťovna České republiky</a:t>
            </a:r>
            <a:endParaRPr b="0" lang="en-US" sz="2800" spc="-1" strike="noStrike">
              <a:solidFill>
                <a:srgbClr val="ffffff"/>
              </a:solidFill>
              <a:latin typeface="Arial"/>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b) resortní, oborové, podnikové, popřípadě další pojišťovny</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90" name="PlaceHolder 1"/>
          <p:cNvSpPr>
            <a:spLocks noGrp="1"/>
          </p:cNvSpPr>
          <p:nvPr>
            <p:ph/>
          </p:nvPr>
        </p:nvSpPr>
        <p:spPr>
          <a:xfrm>
            <a:off x="468360" y="1628280"/>
            <a:ext cx="8229600" cy="4496040"/>
          </a:xfrm>
          <a:prstGeom prst="rect">
            <a:avLst/>
          </a:prstGeom>
          <a:noFill/>
          <a:ln w="0">
            <a:noFill/>
          </a:ln>
        </p:spPr>
        <p:txBody>
          <a:bodyPr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5400" spc="-1" strike="noStrike">
                <a:solidFill>
                  <a:srgbClr val="ffffff"/>
                </a:solidFill>
                <a:latin typeface="Tahoma"/>
                <a:ea typeface="Arial"/>
              </a:rPr>
              <a:t> </a:t>
            </a:r>
            <a:r>
              <a:rPr b="0" lang="cs-CZ" sz="5400" spc="-1" strike="noStrike">
                <a:solidFill>
                  <a:srgbClr val="ffffff"/>
                </a:solidFill>
                <a:latin typeface="Tahoma"/>
                <a:ea typeface="Arial"/>
              </a:rPr>
              <a:t>	</a:t>
            </a:r>
            <a:r>
              <a:rPr b="0" lang="cs-CZ" sz="5400" spc="-1" strike="noStrike">
                <a:solidFill>
                  <a:srgbClr val="ffffff"/>
                </a:solidFill>
                <a:latin typeface="Tahoma"/>
                <a:ea typeface="Arial"/>
              </a:rPr>
              <a:t>	</a:t>
            </a:r>
            <a:r>
              <a:rPr b="0" lang="cs-CZ" sz="5400" spc="-1" strike="noStrike">
                <a:solidFill>
                  <a:srgbClr val="ffffff"/>
                </a:solidFill>
                <a:latin typeface="Tahoma"/>
                <a:ea typeface="Arial"/>
              </a:rPr>
              <a:t>Děkuji za pozornost </a:t>
            </a:r>
            <a:endParaRPr b="0" lang="en-US" sz="54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ahoma"/>
                <a:ea typeface="Arial"/>
              </a:rPr>
              <a:t>	</a:t>
            </a:r>
            <a:r>
              <a:rPr b="0" lang="cs-CZ" sz="2800" spc="-1" strike="noStrike">
                <a:solidFill>
                  <a:srgbClr val="ffffff"/>
                </a:solidFill>
                <a:latin typeface="Tahoma"/>
                <a:ea typeface="Arial"/>
              </a:rPr>
              <a:t>	</a:t>
            </a:r>
            <a:r>
              <a:rPr b="0" lang="cs-CZ" sz="2800" spc="-1" strike="noStrike">
                <a:solidFill>
                  <a:srgbClr val="ffffff"/>
                </a:solidFill>
                <a:latin typeface="Tahoma"/>
                <a:ea typeface="Arial"/>
              </a:rPr>
              <a:t>	</a:t>
            </a:r>
            <a:r>
              <a:rPr b="0" lang="cs-CZ" sz="2800" spc="-1" strike="noStrike">
                <a:solidFill>
                  <a:srgbClr val="ffffff"/>
                </a:solidFill>
                <a:latin typeface="Tahoma"/>
                <a:ea typeface="Arial"/>
              </a:rPr>
              <a:t>	</a:t>
            </a:r>
            <a:r>
              <a:rPr b="0" lang="cs-CZ" sz="2800" spc="-1" strike="noStrike">
                <a:solidFill>
                  <a:srgbClr val="ffffff"/>
                </a:solidFill>
                <a:latin typeface="Tahoma"/>
                <a:ea typeface="Arial"/>
              </a:rPr>
              <a:t>Jana konečná</a:t>
            </a:r>
            <a:endParaRPr b="0" lang="en-US" sz="2800" spc="-1" strike="noStrike">
              <a:solidFill>
                <a:srgbClr val="ffffff"/>
              </a:solidFill>
              <a:latin typeface="Arial"/>
            </a:endParaRPr>
          </a:p>
        </p:txBody>
      </p:sp>
      <p:pic>
        <p:nvPicPr>
          <p:cNvPr id="291" name="Picture 9" descr="10_Hal_1999_1s"/>
          <p:cNvPicPr/>
          <p:nvPr/>
        </p:nvPicPr>
        <p:blipFill>
          <a:blip r:embed="rId1"/>
          <a:stretch/>
        </p:blipFill>
        <p:spPr>
          <a:xfrm>
            <a:off x="179280" y="2708280"/>
            <a:ext cx="1047960" cy="1047600"/>
          </a:xfrm>
          <a:prstGeom prst="rect">
            <a:avLst/>
          </a:prstGeom>
          <a:ln w="0">
            <a:noFill/>
          </a:ln>
        </p:spPr>
      </p:pic>
      <p:pic>
        <p:nvPicPr>
          <p:cNvPr id="292" name="Picture 11" descr="20_Hal_1999_1s"/>
          <p:cNvPicPr/>
          <p:nvPr/>
        </p:nvPicPr>
        <p:blipFill>
          <a:blip r:embed="rId2"/>
          <a:stretch/>
        </p:blipFill>
        <p:spPr>
          <a:xfrm>
            <a:off x="684360" y="404640"/>
            <a:ext cx="1047600" cy="1047960"/>
          </a:xfrm>
          <a:prstGeom prst="rect">
            <a:avLst/>
          </a:prstGeom>
          <a:ln w="0">
            <a:noFill/>
          </a:ln>
        </p:spPr>
      </p:pic>
      <p:pic>
        <p:nvPicPr>
          <p:cNvPr id="293" name="Picture 13" descr="50_Hal_1999_1s">
            <a:hlinkClick r:id="rId3"/>
          </p:cNvPr>
          <p:cNvPicPr/>
          <p:nvPr/>
        </p:nvPicPr>
        <p:blipFill>
          <a:blip r:embed="rId4"/>
          <a:stretch/>
        </p:blipFill>
        <p:spPr>
          <a:xfrm>
            <a:off x="2771640" y="1197000"/>
            <a:ext cx="1047960" cy="1047600"/>
          </a:xfrm>
          <a:prstGeom prst="rect">
            <a:avLst/>
          </a:prstGeom>
          <a:ln w="0">
            <a:noFill/>
          </a:ln>
        </p:spPr>
      </p:pic>
      <p:pic>
        <p:nvPicPr>
          <p:cNvPr id="294" name="Picture 15" descr="1_2004_1s">
            <a:hlinkClick r:id="rId5"/>
          </p:cNvPr>
          <p:cNvPicPr/>
          <p:nvPr/>
        </p:nvPicPr>
        <p:blipFill>
          <a:blip r:embed="rId6"/>
          <a:stretch/>
        </p:blipFill>
        <p:spPr>
          <a:xfrm>
            <a:off x="5292720" y="0"/>
            <a:ext cx="1047600" cy="1047600"/>
          </a:xfrm>
          <a:prstGeom prst="rect">
            <a:avLst/>
          </a:prstGeom>
          <a:ln w="0">
            <a:noFill/>
          </a:ln>
        </p:spPr>
      </p:pic>
      <p:pic>
        <p:nvPicPr>
          <p:cNvPr id="295" name="Picture 17" descr="2_1999_1s"/>
          <p:cNvPicPr/>
          <p:nvPr/>
        </p:nvPicPr>
        <p:blipFill>
          <a:blip r:embed="rId7"/>
          <a:stretch/>
        </p:blipFill>
        <p:spPr>
          <a:xfrm>
            <a:off x="6588000" y="1268280"/>
            <a:ext cx="1047960" cy="1047960"/>
          </a:xfrm>
          <a:prstGeom prst="rect">
            <a:avLst/>
          </a:prstGeom>
          <a:ln w="0">
            <a:noFill/>
          </a:ln>
        </p:spPr>
      </p:pic>
      <p:pic>
        <p:nvPicPr>
          <p:cNvPr id="296" name="Picture 19" descr="5_1999_1s"/>
          <p:cNvPicPr/>
          <p:nvPr/>
        </p:nvPicPr>
        <p:blipFill>
          <a:blip r:embed="rId8"/>
          <a:stretch/>
        </p:blipFill>
        <p:spPr>
          <a:xfrm>
            <a:off x="7812000" y="2349360"/>
            <a:ext cx="1047960" cy="1047960"/>
          </a:xfrm>
          <a:prstGeom prst="rect">
            <a:avLst/>
          </a:prstGeom>
          <a:ln w="0">
            <a:noFill/>
          </a:ln>
        </p:spPr>
      </p:pic>
      <p:pic>
        <p:nvPicPr>
          <p:cNvPr id="297" name="Picture 21" descr="10_1999_1s"/>
          <p:cNvPicPr/>
          <p:nvPr/>
        </p:nvPicPr>
        <p:blipFill>
          <a:blip r:embed="rId9"/>
          <a:stretch/>
        </p:blipFill>
        <p:spPr>
          <a:xfrm>
            <a:off x="971640" y="5084640"/>
            <a:ext cx="1047600" cy="1047960"/>
          </a:xfrm>
          <a:prstGeom prst="rect">
            <a:avLst/>
          </a:prstGeom>
          <a:ln w="0">
            <a:noFill/>
          </a:ln>
        </p:spPr>
      </p:pic>
      <p:pic>
        <p:nvPicPr>
          <p:cNvPr id="298" name="Picture 23" descr="20_2004_3s"/>
          <p:cNvPicPr/>
          <p:nvPr/>
        </p:nvPicPr>
        <p:blipFill>
          <a:blip r:embed="rId10"/>
          <a:stretch/>
        </p:blipFill>
        <p:spPr>
          <a:xfrm>
            <a:off x="7380360" y="4941720"/>
            <a:ext cx="1047600" cy="1047960"/>
          </a:xfrm>
          <a:prstGeom prst="rect">
            <a:avLst/>
          </a:prstGeom>
          <a:ln w="0">
            <a:noFill/>
          </a:ln>
        </p:spPr>
      </p:pic>
      <p:pic>
        <p:nvPicPr>
          <p:cNvPr id="299" name="Picture 25" descr="50_1999_1s"/>
          <p:cNvPicPr/>
          <p:nvPr/>
        </p:nvPicPr>
        <p:blipFill>
          <a:blip r:embed="rId11"/>
          <a:stretch/>
        </p:blipFill>
        <p:spPr>
          <a:xfrm>
            <a:off x="4067280" y="3860640"/>
            <a:ext cx="1047600" cy="10479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jištěnec je plátcem pojistného</a:t>
            </a:r>
            <a:endParaRPr b="0" lang="en-US" sz="4400" spc="-1" strike="noStrike">
              <a:solidFill>
                <a:srgbClr val="ffffcc"/>
              </a:solidFill>
              <a:latin typeface="Arial"/>
            </a:endParaRPr>
          </a:p>
        </p:txBody>
      </p:sp>
      <p:sp>
        <p:nvSpPr>
          <p:cNvPr id="10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a) </a:t>
            </a:r>
            <a:r>
              <a:rPr b="1" lang="cs-CZ" sz="2000" spc="-1" strike="noStrike" u="sng">
                <a:solidFill>
                  <a:srgbClr val="ffffff"/>
                </a:solidFill>
                <a:uFillTx/>
                <a:latin typeface="Arial"/>
                <a:ea typeface="Arial"/>
              </a:rPr>
              <a:t>je zaměstnancem</a:t>
            </a:r>
            <a:r>
              <a:rPr b="0" lang="cs-CZ" sz="2000" spc="-1" strike="noStrike">
                <a:solidFill>
                  <a:srgbClr val="ffffff"/>
                </a:solidFill>
                <a:latin typeface="Arial"/>
                <a:ea typeface="Arial"/>
              </a:rPr>
              <a:t>; za zaměstnance se pro účely zdravotního pojištění považuje fyzická osoba, které plynou nebo by měly plynout příjmy ze závislé činnosti nebo funkčních požitků podle zvláštního právního předpisu 1a), </a:t>
            </a:r>
            <a:r>
              <a:rPr b="1" lang="cs-CZ" sz="2000" spc="-1" strike="noStrike" u="sng">
                <a:solidFill>
                  <a:srgbClr val="ffffff"/>
                </a:solidFill>
                <a:uFillTx/>
                <a:latin typeface="Arial"/>
                <a:ea typeface="Arial"/>
              </a:rPr>
              <a:t>s výjimkou</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1. osoby, která má pouze příjmy ze závislé činnosti a funkčních požitků, které nejsou předmětem daně nebo jsou od daně osvobozeny,</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2. žáka nebo studenta, který má pouze příjmy ze závislé činnosti a funkčních požitků za práci z praktického výcviku,</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3. osoby činné na základě dohody o provedení práce, která v kalendářním měsíci nedosáhla příjmu ve výši částky, jež je podmínkou pro účast takové osoby na nemocenském pojištění podle zákona upravujícího nemocenské pojištění (dále jen "započitatelný příjem"),</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457200" y="692280"/>
            <a:ext cx="8229600" cy="5403600"/>
          </a:xfrm>
          <a:prstGeom prst="rect">
            <a:avLst/>
          </a:prstGeom>
          <a:noFill/>
          <a:ln w="0">
            <a:noFill/>
          </a:ln>
        </p:spPr>
        <p:txBody>
          <a:bodyPr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4. člena družstva, který není v pracovněprávním vztahu k družstvu, ale vykonává pro družstvo práci, za kterou je jím odměňován, a který v kalendářním měsíci nedosáhl započitatelného příjmu,</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5. osoby činné na základě dohody o pracovní činnosti, která v kalendářním měsíci nedosáhla započitatelného příjmu,</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6. dobrovolného pracovníka pečovatelské služby, který v kalendářním měsíci nedosáhl započitatelného příjmu,</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7. člena okrskové volební komise při volbách do Evropského parlamentu, Senátu a zastupitelstev územních samosprávných celků a člena okrskové volební komise a zvláštní okrskové volební komise při volbách do Poslanecké sněmovny a při volbě prezidenta republiky,</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457200" y="549000"/>
            <a:ext cx="8229600" cy="554652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u="sng">
                <a:solidFill>
                  <a:srgbClr val="ffffff"/>
                </a:solidFill>
                <a:uFillTx/>
                <a:latin typeface="Arial"/>
                <a:ea typeface="Arial"/>
              </a:rPr>
              <a:t>b) je osobou samostatně výdělečně činnou.</a:t>
            </a:r>
            <a:r>
              <a:rPr b="0" lang="cs-CZ" sz="1800" spc="-1" strike="noStrike">
                <a:solidFill>
                  <a:srgbClr val="ffffff"/>
                </a:solidFill>
                <a:latin typeface="Arial"/>
                <a:ea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Za osoby samostatně výdělečně činné se pro účely zdravotního pojištění považují:</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1. osoby podnikající v zemědělství</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2. osoby provozující živnost</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3. osoby provozující podnikání podle zvláštních předpisů</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4. osoby vykonávající uměleckou nebo jinou tvůrčí činnost na základě autorskoprávních vztahů,  s výjimkou činnosti, z níž jsou příjmy podle zvláštního právního předpisu samostatným základem daně z příjmů fyzických osob pro zdanění zvláštní sazbou daně </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5. společníci veřejných obchodních společností a komplementáři komanditních společností</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6. osoby vykonávající nezávislé povolání, které není živností ani podnikáním podle zvláštních předpisů</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7. osoby vykonávající činnost mandatáře na základě mandátní smlouvy uzavřené podle obchodního zákoníku,pokud tato činnost není považována za zaměstnání podle písmene a) a mandátní smlouva nebyla uzavřena v rámci jiné samostatné výdělečné činnosti,</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8. spolupracující osoby osob samostatně výdělečně činných, pokud podle zákona o daních z příjmů lze na ně rozdělovat příjmy dosažené výkonem spolupráce a výdaje vynaložené na jejich dosažení, zajištění a udržení,</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c) </a:t>
            </a:r>
            <a:r>
              <a:rPr b="0" lang="cs-CZ" sz="3200" spc="-1" strike="noStrike" u="sng">
                <a:solidFill>
                  <a:srgbClr val="ffffff"/>
                </a:solidFill>
                <a:uFillTx/>
                <a:latin typeface="Arial"/>
                <a:ea typeface="Arial"/>
              </a:rPr>
              <a:t>má na území České republiky trvalý pobyt</a:t>
            </a:r>
            <a:r>
              <a:rPr b="0" lang="cs-CZ" sz="3200" spc="-1" strike="noStrike">
                <a:solidFill>
                  <a:srgbClr val="ffffff"/>
                </a:solidFill>
                <a:latin typeface="Arial"/>
                <a:ea typeface="Arial"/>
              </a:rPr>
              <a:t>, avšak není uveden pod předchozími písmeny a není za něj plátcem pojistného stát, pokud uvedené skutečnosti trvají po celý kalendářní měsíc.</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cc"/>
                </a:solidFill>
                <a:latin typeface="Arial"/>
                <a:ea typeface="Arial"/>
              </a:rPr>
              <a:t>Zaměstnavatel je plátcem části pojistného za své zaměstnance </a:t>
            </a:r>
            <a:endParaRPr b="0" lang="en-US" sz="3200" spc="-1" strike="noStrike">
              <a:solidFill>
                <a:srgbClr val="ffffcc"/>
              </a:solidFill>
              <a:latin typeface="Arial"/>
            </a:endParaRPr>
          </a:p>
        </p:txBody>
      </p:sp>
      <p:sp>
        <p:nvSpPr>
          <p:cNvPr id="11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Zaměstnavatel je plátcem části pojistného z příjmů ze závislé činnosti a funkčních požitků zúčtovaných bývalému zaměstnanci po skončení zaměstnání.</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Služební úřad, v němž je státní zaměstnanec podle služebního zákona zařazen k výkonu státní služby, je plátcem pojistného za tohoto státního zaměstnance. Není-li v tomto zákoně stanoveno jinak, má služební úřad postavení zaměstnavatele.</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Arial"/>
                <a:ea typeface="Arial"/>
              </a:rPr>
              <a:t> </a:t>
            </a:r>
            <a:r>
              <a:rPr b="0" lang="cs-CZ" sz="2800" spc="-1" strike="noStrike">
                <a:solidFill>
                  <a:srgbClr val="ffffcc"/>
                </a:solidFill>
                <a:latin typeface="Arial"/>
                <a:ea typeface="Arial"/>
              </a:rPr>
              <a:t>Stát je plátcem pojistného prostřednictvím státního rozpočtu za tyto pojištěnce</a:t>
            </a:r>
            <a:endParaRPr b="0" lang="en-US" sz="2800" spc="-1" strike="noStrike">
              <a:solidFill>
                <a:srgbClr val="ffffcc"/>
              </a:solidFill>
              <a:latin typeface="Arial"/>
            </a:endParaRPr>
          </a:p>
        </p:txBody>
      </p:sp>
      <p:sp>
        <p:nvSpPr>
          <p:cNvPr id="11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a) </a:t>
            </a:r>
            <a:r>
              <a:rPr b="1" lang="cs-CZ" sz="3200" spc="-1" strike="noStrike" u="sng">
                <a:solidFill>
                  <a:srgbClr val="ffffff"/>
                </a:solidFill>
                <a:uFillTx/>
                <a:latin typeface="Arial"/>
                <a:ea typeface="Arial"/>
              </a:rPr>
              <a:t>nezaopatřené děti;</a:t>
            </a:r>
            <a:r>
              <a:rPr b="0" lang="cs-CZ" sz="3200" spc="-1" strike="noStrike">
                <a:solidFill>
                  <a:srgbClr val="ffffff"/>
                </a:solidFill>
                <a:latin typeface="Arial"/>
                <a:ea typeface="Arial"/>
              </a:rPr>
              <a:t> nezaopatřenost dítěte se posuzuje podle zákona o státní sociální podpoře,</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b) poživatele důchodů z důchodového pojištění, </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c) příjemce rodičovského příspěvku</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457200" y="692280"/>
            <a:ext cx="8229600" cy="5403600"/>
          </a:xfrm>
          <a:prstGeom prst="rect">
            <a:avLst/>
          </a:prstGeom>
          <a:noFill/>
          <a:ln w="0">
            <a:noFill/>
          </a:ln>
        </p:spPr>
        <p:txBody>
          <a:bodyPr anchor="t">
            <a:normAutofit/>
          </a:bodyPr>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d) ženy na mateřské a osoby na rodičovské dovolené a osoby pobírající peněžitou pomoc v mateřství podle předpisů o nemocenském pojištění </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e) uchazeče o zaměstnání včetně uchazečů o zaměstnání, kteří přijali krátkodobé zaměstnání</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f) osoby pobírající dávku pomoci v hmotné nouzi a osoby s nimi společně posuzované 10), a to za podmínky, že nejsou podle potvrzení plátce dávky pomoci v hmotné nouzi v pracovním ani obdobném vztahu ani nevykonávají samostatnou výdělečnou činnost, nejsou v evidenci uchazečů o zaměstnání a nejde o poživatele starobního důchodu, invalidního důchodu pro invaliditu třetího stupně, vdovského nebo vdoveckého důchodu, ani o poživatele rodičovského příspěvku nebo o nezaopatřené dítě,</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457200" y="549000"/>
            <a:ext cx="8229600" cy="5546520"/>
          </a:xfrm>
          <a:prstGeom prst="rect">
            <a:avLst/>
          </a:prstGeom>
          <a:noFill/>
          <a:ln w="0">
            <a:noFill/>
          </a:ln>
        </p:spPr>
        <p:txBody>
          <a:bodyPr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g) osoby, které jsou závislé na péči jiné osoby ve stupni II (středně těžká závislost) nebo stupni III (těžká závislost) anebo stupni IV (úplná závislost)  a osoby pečující o tyto osoby, a osoby pečující o osoby mladší 10 let, které jsou závislé na péči jiné osoby ve stupni I (lehká závislost),</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h) osoby konající službu v ozbrojených silách, s výjimkou vojáků z povolání, a osoby povolané k vojenskému cvičení,</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i) osoby ve výkonu zabezpečovací detence nebo vazby nebo osoby ve výkonu trestu odnětí svobody;</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j) osoby uvedené v § 5 písm. c), které jsou příjemci dávek nemocenského pojištění;14)</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457200" y="549000"/>
            <a:ext cx="8229600" cy="554652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k) osoby, které jsou invalidní ve třetím stupni nebo které dosáhly věku potřebného pro nárok na starobní důchod, avšak nesplňují další podmínky pro přiznání invalidního důchodu pro invaliditu třetího stupně nebo starobního důchodu a nemají příjmy ze zaměstnání, ze samostatné výdělečné činnosti a nepožívají žádný důchod z ciziny, nebo tento důchod nepřesahuje měsíčně částku ve výši minimální mzdy;</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l) osoby celodenně osobně a řádně pečující alespoň o jedno dítě do sedmi let věku nebo nejméně o dvě děti do 15 let věku, nejde-li o osoby uvedené v písmenu c) nebo d). Podmínka celodenní péče se považuje za splněnou i tehdy, je-li dítě předškolního věku umístěno v jeslích (mateřské škole), popřípadě v obdobném zařízení na dobu, která nepřevyšuje čtyři hodiny denně, a jde-li o dítě plnící povinnou školní docházku, po dobu návštěvy školy, s výjimkou umístění v zařízení s týdenním či celoročním pobytem.</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Za takové osoby se považuje vždy pouze jedna osoba, a to buď otec nebo matka dítěte, nebo osoba, která převzala dítě do trvalé péče nahrazující péči rodičů,16) pokud nemají příjmy ze zaměstnání nebo ze samostatné výdělečné činnosti,</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Tahoma"/>
                <a:ea typeface="Arial"/>
              </a:rPr>
              <a:t>Systém financování zdravotní péče ČR</a:t>
            </a:r>
            <a:endParaRPr b="0" lang="en-US" sz="4000" spc="-1" strike="noStrike">
              <a:solidFill>
                <a:srgbClr val="ffffcc"/>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ea typeface="Arial"/>
              </a:rPr>
              <a:t>Čl. 31 Listiny základních práv a svobod (dále též „Listiny“)</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ea typeface="Arial"/>
              </a:rPr>
              <a:t> „</a:t>
            </a:r>
            <a:r>
              <a:rPr b="0" i="1" lang="cs-CZ" sz="3200" spc="-1" strike="noStrike">
                <a:solidFill>
                  <a:srgbClr val="ffffff"/>
                </a:solidFill>
                <a:latin typeface="Tahoma"/>
                <a:ea typeface="Arial"/>
              </a:rPr>
              <a:t>Každý má právo na ochranu zdraví. Občané mají na základě veřejného pojištění právo na bezplatnou zdravotní péči a na zdravotní pomůcky za podmínek, které stanoví zák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457200" y="549000"/>
            <a:ext cx="8229600" cy="5546520"/>
          </a:xfrm>
          <a:prstGeom prst="rect">
            <a:avLst/>
          </a:prstGeom>
          <a:noFill/>
          <a:ln w="0">
            <a:noFill/>
          </a:ln>
        </p:spPr>
        <p:txBody>
          <a:bodyPr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m) mladistvé umístěné ve školských zařízeních pro výkon ústavní výchovy a ochranné výchovy,</a:t>
            </a:r>
            <a:endParaRPr b="0" lang="en-US" sz="2400" spc="-1" strike="noStrike">
              <a:solidFill>
                <a:srgbClr val="ffffff"/>
              </a:solidFill>
              <a:latin typeface="Arial"/>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n) osoby vykonávající dlouhodobou dobrovolnickou službu na základě smlouvy s vysílající organizací, které byla udělena akreditace Ministerstvem vnitra, v rozsahu překračujícím v průměru alespoň 20 hodin v kalendářním týdnu, pokud není dobrovolník plátcem pojistného podle § 5 nebo za něj není plátcem pojistného stát podle předchozích písmen a) až m),</a:t>
            </a:r>
            <a:endParaRPr b="0" lang="en-US" sz="2400" spc="-1" strike="noStrike">
              <a:solidFill>
                <a:srgbClr val="ffffff"/>
              </a:solidFill>
              <a:latin typeface="Arial"/>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o) cizince, kterým bylo uděleno oprávnění k pobytu na území České republiky za účelem poskytnutí dočasné ochrany podle zvláštního právního předpisu, 16a) pokud nemají příjmy ze zaměstnání nebo ze samostatné výdělečné činnosti,</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 žadatele o udělení mezinárodní ochrany a jeho dítě narozené na území, cizince, jemuž bylo uděleno vízum k pobytu nad 90 dnů za účelem strpění pobytu, a jeho dítě narozené na území 16b), pokud nemají příjmy ze zaměstnání nebo ze samostatné výdělečné činnosti,</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q) příjemci starobní penze na určenou dobu, doživotní penze nebo penze na přesně stanovenou dobu s přesně stanovenou výší důchodu podle zákona upravujícího doplňkové penzijní spoření do dosažení věku potřebného pro vznik nároku na starobní důchod podle § 32 zákona o důchodovém pojištění, pokud jsou splněny podmínky stanovené v § 22 odst. 4 nebo § 23 odst. 6 zákona č. 427/2011 Sb., o doplňkovém penzijním spoření; při stanovení tohoto věku u žen se postupuje stejně jako u mužů stejného data narození.</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ZOR ZMĚNA</a:t>
            </a:r>
            <a:endParaRPr b="0" lang="en-US" sz="4400" spc="-1" strike="noStrike">
              <a:solidFill>
                <a:srgbClr val="ffffcc"/>
              </a:solidFill>
              <a:latin typeface="Arial"/>
            </a:endParaRPr>
          </a:p>
        </p:txBody>
      </p:sp>
      <p:sp>
        <p:nvSpPr>
          <p:cNvPr id="12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Arial"/>
                <a:ea typeface="Arial"/>
              </a:rPr>
              <a:t>Od 1. 7. 2014 se na základě této novelizace zvýšil </a:t>
            </a:r>
            <a:r>
              <a:rPr b="0" lang="cs-CZ" sz="3200" spc="-1" strike="noStrike" u="sng">
                <a:solidFill>
                  <a:srgbClr val="ffcc66"/>
                </a:solidFill>
                <a:uFillTx/>
                <a:latin typeface="Arial"/>
                <a:ea typeface="Arial"/>
                <a:hlinkClick r:id="rId1"/>
              </a:rPr>
              <a:t>vyměřovací základ</a:t>
            </a:r>
            <a:r>
              <a:rPr b="1" lang="cs-CZ" sz="3200" spc="-1" strike="noStrike">
                <a:solidFill>
                  <a:srgbClr val="ffffff"/>
                </a:solidFill>
                <a:latin typeface="Arial"/>
                <a:ea typeface="Arial"/>
              </a:rPr>
              <a:t> pro platbu pojistného státem o 430 Kč na částku 6 259 Kč.</a:t>
            </a:r>
            <a:r>
              <a:rPr b="0" lang="cs-CZ" sz="3200" spc="-1" strike="noStrike">
                <a:solidFill>
                  <a:srgbClr val="ffffff"/>
                </a:solidFill>
                <a:latin typeface="Arial"/>
                <a:ea typeface="Arial"/>
              </a:rPr>
              <a:t> Z tohoto vyměřovacího základu bude stát platit </a:t>
            </a:r>
            <a:r>
              <a:rPr b="0" lang="cs-CZ" sz="3200" spc="-1" strike="noStrike" u="sng">
                <a:solidFill>
                  <a:srgbClr val="ffcc66"/>
                </a:solidFill>
                <a:uFillTx/>
                <a:latin typeface="Arial"/>
                <a:ea typeface="Arial"/>
                <a:hlinkClick r:id="rId2"/>
              </a:rPr>
              <a:t>za osoby, za které je plátcem pojistného stát</a:t>
            </a:r>
            <a:r>
              <a:rPr b="0" lang="cs-CZ" sz="3200" spc="-1" strike="noStrike">
                <a:solidFill>
                  <a:srgbClr val="ffffff"/>
                </a:solidFill>
                <a:latin typeface="Arial"/>
                <a:ea typeface="Arial"/>
              </a:rPr>
              <a:t>, měsíčně </a:t>
            </a:r>
            <a:r>
              <a:rPr b="1" lang="cs-CZ" sz="3200" spc="-1" strike="noStrike">
                <a:solidFill>
                  <a:srgbClr val="ffffff"/>
                </a:solidFill>
                <a:latin typeface="Arial"/>
                <a:ea typeface="Arial"/>
              </a:rPr>
              <a:t>pojistné</a:t>
            </a:r>
            <a:r>
              <a:rPr b="0" lang="cs-CZ" sz="3200" spc="-1" strike="noStrike">
                <a:solidFill>
                  <a:srgbClr val="ffffff"/>
                </a:solidFill>
                <a:latin typeface="Arial"/>
                <a:ea typeface="Arial"/>
              </a:rPr>
              <a:t> </a:t>
            </a:r>
            <a:r>
              <a:rPr b="1" lang="cs-CZ" sz="3200" spc="-1" strike="noStrike">
                <a:solidFill>
                  <a:srgbClr val="ffffff"/>
                </a:solidFill>
                <a:latin typeface="Arial"/>
                <a:ea typeface="Arial"/>
              </a:rPr>
              <a:t>ve výši 845 Kč.</a:t>
            </a:r>
            <a:r>
              <a:rPr b="0" lang="cs-CZ" sz="3200" spc="-1" strike="noStrike">
                <a:solidFill>
                  <a:srgbClr val="ffffff"/>
                </a:solidFill>
                <a:latin typeface="Tahoma"/>
                <a:ea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Souběh příjmů</a:t>
            </a:r>
            <a:endParaRPr b="0" lang="en-US" sz="4400" spc="-1" strike="noStrike">
              <a:solidFill>
                <a:srgbClr val="ffffcc"/>
              </a:solidFill>
              <a:latin typeface="Arial"/>
            </a:endParaRPr>
          </a:p>
        </p:txBody>
      </p:sp>
      <p:sp>
        <p:nvSpPr>
          <p:cNvPr id="12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Mají-li osoby uvedené v odstavce 1 písm. a) až i) a q) příjmy ze zaměstnání nebo ze samostatné výdělečné činnosti, je plátcem pojistného stát i tyto osoby.</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vinnost platit pojistné</a:t>
            </a:r>
            <a:endParaRPr b="0" lang="en-US" sz="4400" spc="-1" strike="noStrike">
              <a:solidFill>
                <a:srgbClr val="ffffcc"/>
              </a:solidFill>
              <a:latin typeface="Arial"/>
            </a:endParaRPr>
          </a:p>
        </p:txBody>
      </p:sp>
      <p:sp>
        <p:nvSpPr>
          <p:cNvPr id="12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1) Pojistné se platí zdravotní pojišťovně, u které je pojištěnec pojištěn, (dále jen "příslušná zdravotní pojišťovna").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vinnost platit pojistné</a:t>
            </a:r>
            <a:endParaRPr b="0" lang="en-US" sz="4400" spc="-1" strike="noStrike">
              <a:solidFill>
                <a:srgbClr val="ffffcc"/>
              </a:solidFill>
              <a:latin typeface="Arial"/>
            </a:endParaRPr>
          </a:p>
        </p:txBody>
      </p:sp>
      <p:sp>
        <p:nvSpPr>
          <p:cNvPr id="12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Arial"/>
                <a:ea typeface="Arial"/>
              </a:rPr>
              <a:t>	</a:t>
            </a:r>
            <a:r>
              <a:rPr b="1" lang="cs-CZ" sz="3200" spc="-1" strike="noStrike">
                <a:solidFill>
                  <a:srgbClr val="ffffff"/>
                </a:solidFill>
                <a:latin typeface="Arial"/>
                <a:ea typeface="Arial"/>
              </a:rPr>
              <a:t>Povinnost platit pojistné vzniká pojištěnci dnem:</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a) nástupu zaměstnance do zaměstnání </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b) zahájení samostatné výdělečné činnosti </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c) kdy se stal pojištěncem </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d) ke kterému se po návratu do České republiky pojištěnec přihlásil u příslušné zdravotní pojišťovny</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vinnost platit pojistné</a:t>
            </a:r>
            <a:endParaRPr b="0" lang="en-US" sz="4400" spc="-1" strike="noStrike">
              <a:solidFill>
                <a:srgbClr val="ffffcc"/>
              </a:solidFill>
              <a:latin typeface="Arial"/>
            </a:endParaRPr>
          </a:p>
        </p:txBody>
      </p:sp>
      <p:sp>
        <p:nvSpPr>
          <p:cNvPr id="128" name="PlaceHolder 2"/>
          <p:cNvSpPr>
            <a:spLocks noGrp="1"/>
          </p:cNvSpPr>
          <p:nvPr>
            <p:ph/>
          </p:nvPr>
        </p:nvSpPr>
        <p:spPr>
          <a:xfrm>
            <a:off x="457200" y="1600200"/>
            <a:ext cx="8229600" cy="4495680"/>
          </a:xfrm>
          <a:prstGeom prst="rect">
            <a:avLst/>
          </a:prstGeom>
          <a:noFill/>
          <a:ln w="0">
            <a:noFill/>
          </a:ln>
        </p:spPr>
        <p:txBody>
          <a:bodyPr anchor="t">
            <a:normAutofit fontScale="99000"/>
          </a:bodyPr>
          <a:p>
            <a:pPr marL="339480" indent="-3394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e) návratu do České republiky po nepřetržitém pobytu v cizině, který započal již před 1. lednem 1993, pokud den návratu připadne na období po 30. dubnu 1995; uvedené skutečnosti je pojištěnec povinen příslušné zdravotní pojišťovně doložit;</a:t>
            </a:r>
            <a:endParaRPr b="0" lang="en-US" sz="2000" spc="-1" strike="noStrike">
              <a:solidFill>
                <a:srgbClr val="ffffff"/>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9480" indent="-3394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f) návratu do České republiky po nepřetržitém pobytu v cizině, který započal mezi 1. lednem 1993 a 1. červencem 1993, pokud den návratu připadne na období po 30. dubnu 1995, jestliže pojištěnec</a:t>
            </a:r>
            <a:endParaRPr b="0" lang="en-US" sz="2000" spc="-1" strike="noStrike">
              <a:solidFill>
                <a:srgbClr val="ffffff"/>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9480" indent="-3394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1. byl v cizině zdravotně pojištěn,</a:t>
            </a:r>
            <a:endParaRPr b="0" lang="en-US" sz="2000" spc="-1" strike="noStrike">
              <a:solidFill>
                <a:srgbClr val="ffffff"/>
              </a:solidFill>
              <a:latin typeface="Arial"/>
            </a:endParaRPr>
          </a:p>
          <a:p>
            <a:pPr marL="339480" indent="-3394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2. v uvedeném období mu nebyly poskytnuty hrazené služby,</a:t>
            </a:r>
            <a:endParaRPr b="0" lang="en-US" sz="2000" spc="-1" strike="noStrike">
              <a:solidFill>
                <a:srgbClr val="ffffff"/>
              </a:solidFill>
              <a:latin typeface="Arial"/>
            </a:endParaRPr>
          </a:p>
          <a:p>
            <a:pPr marL="339480" indent="-3394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3. požádal zpětně příslušnou zdravotní pojišťovnu o postup podle odstavce 4.</a:t>
            </a:r>
            <a:endParaRPr b="0" lang="en-US" sz="2000" spc="-1" strike="noStrike">
              <a:solidFill>
                <a:srgbClr val="ffffff"/>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9480" indent="-3394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Tím není dotčena povinnost platit pojistné za dobu předcházející pobytu v cizině.</a:t>
            </a:r>
            <a:endParaRPr b="0" lang="en-US" sz="2000" spc="-1" strike="noStrike">
              <a:solidFill>
                <a:srgbClr val="ffffff"/>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vinnost platit pojistné</a:t>
            </a:r>
            <a:endParaRPr b="0" lang="en-US" sz="4400" spc="-1" strike="noStrike">
              <a:solidFill>
                <a:srgbClr val="ffffcc"/>
              </a:solidFill>
              <a:latin typeface="Arial"/>
            </a:endParaRPr>
          </a:p>
        </p:txBody>
      </p:sp>
      <p:sp>
        <p:nvSpPr>
          <p:cNvPr id="13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Povinnost zaměstnavatele platit část pojistného za své zaměstnance vzniká dnem nástupu zaměstnance do zaměstnání a zaniká dnem skončení zaměstnání.</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cs-CZ" sz="4000" spc="-1" strike="noStrike">
                <a:solidFill>
                  <a:srgbClr val="ffffcc"/>
                </a:solidFill>
                <a:latin typeface="Arial"/>
                <a:ea typeface="Arial"/>
              </a:rPr>
              <a:t>Za den nástupu zaměstnance do zaměstnání se považuje</a:t>
            </a:r>
            <a:br>
              <a:rPr sz="4000"/>
            </a:br>
            <a:endParaRPr b="0" lang="en-US" sz="4000" spc="-1" strike="noStrike">
              <a:solidFill>
                <a:srgbClr val="ffffcc"/>
              </a:solidFill>
              <a:latin typeface="Arial"/>
            </a:endParaRPr>
          </a:p>
        </p:txBody>
      </p:sp>
      <p:sp>
        <p:nvSpPr>
          <p:cNvPr id="132" name="PlaceHolder 2"/>
          <p:cNvSpPr>
            <a:spLocks noGrp="1"/>
          </p:cNvSpPr>
          <p:nvPr>
            <p:ph/>
          </p:nvPr>
        </p:nvSpPr>
        <p:spPr>
          <a:xfrm>
            <a:off x="457200" y="1600200"/>
            <a:ext cx="8229600" cy="4495680"/>
          </a:xfrm>
          <a:prstGeom prst="rect">
            <a:avLst/>
          </a:prstGeom>
          <a:noFill/>
          <a:ln w="0">
            <a:noFill/>
          </a:ln>
        </p:spPr>
        <p:txBody>
          <a:bodyPr anchor="t">
            <a:normAutofit fontScale="99000"/>
          </a:bodyPr>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3394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a) u pracovního poměru včetně pracovního poměru sjednaného podle cizích právních předpisů den, ve kterém zaměstnanec nastoupil do práce, a za den ukončení zaměstnání se považuje den skončení pracovního poměru,</a:t>
            </a:r>
            <a:endParaRPr b="0" lang="en-US" sz="2800" spc="-1" strike="noStrike">
              <a:solidFill>
                <a:srgbClr val="ffffff"/>
              </a:solidFill>
              <a:latin typeface="Arial"/>
            </a:endParaRPr>
          </a:p>
          <a:p>
            <a:pPr marL="339480" indent="-3394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b) u služebního poměru den, ve kterém zaměstnanec nastoupil k výkonu služby, jde-li o státního zaměstnance den nástupu služby, a za den ukončení zaměstnání se považuje den skončení služebního poměru,</a:t>
            </a:r>
            <a:endParaRPr b="0" lang="en-US" sz="2800" spc="-1" strike="noStrike">
              <a:solidFill>
                <a:srgbClr val="ffffff"/>
              </a:solidFill>
              <a:latin typeface="Arial"/>
            </a:endParaRPr>
          </a:p>
          <a:p>
            <a:pPr marL="339480" indent="-3394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endParaRPr b="0" lang="en-US" sz="2800" spc="-1" strike="noStrike">
              <a:solidFill>
                <a:srgbClr val="ffffff"/>
              </a:solidFill>
              <a:latin typeface="Arial"/>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cs-CZ" sz="4000" spc="-1" strike="noStrike">
                <a:solidFill>
                  <a:srgbClr val="ffffcc"/>
                </a:solidFill>
                <a:latin typeface="Arial"/>
                <a:ea typeface="Arial"/>
              </a:rPr>
              <a:t>Za den nástupu zaměstnance do zaměstnání se považuje</a:t>
            </a:r>
            <a:br>
              <a:rPr sz="4000"/>
            </a:br>
            <a:endParaRPr b="0" lang="en-US" sz="4000" spc="-1" strike="noStrike">
              <a:solidFill>
                <a:srgbClr val="ffffcc"/>
              </a:solidFill>
              <a:latin typeface="Arial"/>
            </a:endParaRPr>
          </a:p>
        </p:txBody>
      </p:sp>
      <p:sp>
        <p:nvSpPr>
          <p:cNvPr id="13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c) u členů družstva v družstvech, kde podmínkou členství je jejich pracovní vztah k družstvu, jestliže mimo pracovněprávní vztah vykonávají pro družstvo práci, za kterou jsou jím odměňováni, den započetí práce pro družstvo, a za den ukončení zaměstnání se považuje den skončení členství v družstvu,</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d) u zaměstnanců činných na základě dohody o pracovní činnosti den, ve kterém poprvé po uzavření dohody o pracovní činnosti zaměstnanec začal vykonávat sjednanou práci, a za den ukončení zaměstnání se považuje den, jímž uplynula doba, na kterou byla tato dohoda sjednána, u zaměstnanců činných na základě dohody o provedení práce se postupuje obdobně,</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e) u soudců den nástupu soudce do funkce, a za den ukončení zaměstnání se považuje den skončení výkonu funkce soud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Tahoma"/>
                <a:ea typeface="Arial"/>
              </a:rPr>
              <a:t>Systém financování zdravotní péče ČR</a:t>
            </a:r>
            <a:endParaRPr b="0" lang="en-US" sz="4000" spc="-1" strike="noStrike">
              <a:solidFill>
                <a:srgbClr val="ffffcc"/>
              </a:solidFill>
              <a:latin typeface="Arial"/>
            </a:endParaRPr>
          </a:p>
        </p:txBody>
      </p:sp>
      <p:sp>
        <p:nvSpPr>
          <p:cNvPr id="9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ea typeface="Arial"/>
              </a:rPr>
              <a:t> </a:t>
            </a:r>
            <a:r>
              <a:rPr b="0" lang="cs-CZ" sz="3200" spc="-1" strike="noStrike">
                <a:solidFill>
                  <a:srgbClr val="ffffff"/>
                </a:solidFill>
                <a:latin typeface="Tahoma"/>
                <a:ea typeface="Arial"/>
              </a:rPr>
              <a:t>Čl. 41 Listiny, tzv. výhrada zákona, práva uvedeného v čl. 31 se lze dovolávat pouze v mezích zákonů, které jej provádí. </a:t>
            </a:r>
            <a:endParaRPr b="0" lang="en-US" sz="3200" spc="-1" strike="noStrike">
              <a:solidFill>
                <a:srgbClr val="ffffff"/>
              </a:solidFill>
              <a:latin typeface="Arial"/>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ea typeface="Arial"/>
              </a:rPr>
              <a:t>Právo na zdravotní péči se dle dikce Listiny nevztahuje na cizince, neboť Listina hovoří „občanech“, tedy občanech České republiky.</a:t>
            </a:r>
            <a:endParaRPr b="0" lang="en-US" sz="3200" spc="-1" strike="noStrike">
              <a:solidFill>
                <a:srgbClr val="ffffff"/>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ffffcc"/>
                </a:solidFill>
                <a:latin typeface="Arial"/>
                <a:ea typeface="Arial"/>
              </a:rPr>
              <a:t>Za den nástupu zaměstnance do zaměstnání se považuje</a:t>
            </a:r>
            <a:endParaRPr b="0" lang="en-US" sz="4000" spc="-1" strike="noStrike">
              <a:solidFill>
                <a:srgbClr val="ffffcc"/>
              </a:solidFill>
              <a:latin typeface="Arial"/>
            </a:endParaRPr>
          </a:p>
        </p:txBody>
      </p:sp>
      <p:sp>
        <p:nvSpPr>
          <p:cNvPr id="13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f) u členů zastupitelstev územních samosprávných celků a zastupitelstev městských částí nebo městských obvodů územně členěných statutárních měst a hlavního města Prahy, kteří jsou pro výkon funkce dlouhodobě uvolněni nebo kteří před zvolením do funkce člena zastupitelstva nebyli v pracovním poměru, ale vykonávají funkci ve stejném rozsahu jako dlouhodobě uvolnění členové zastupitelstva den, od něhož členu náleží odměna za výkon funkce vyplácená členům zastupitelstev územních samosprávných celků a zastupitelstev městských částí nebo městských obvodů územně členěných statutárních měst a hlavního města Prahy, kteří jsou pro výkon funkce dlouhodobě uvolněni nebo kteří před zvolením do funkce člena zastupitelstva nebyli v pracovním poměru, ale vykonávají funkci ve stejném rozsahu jako dlouhodobě uvolnění členové zastupitelstva, a za den ukončení zaměstnání se považuje den, od něhož tato odměna nenáleží. Plní-li dosavadní starosta nebo primátor úkoly po uplynutí volebního období až do dne konání ustavujícího zasedání nově zvoleného zastupitelstva a je mu vyplácena odměna uvedená ve větě první, považuje se za zaměstnance ještě po dobu, po kterou mu náleží tato odměna; to platí obdobně pro hejtmana kraje a primátora hlavního města Prahy,</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ffffcc"/>
                </a:solidFill>
                <a:latin typeface="Arial"/>
                <a:ea typeface="Arial"/>
              </a:rPr>
              <a:t>Za den nástupu zaměstnance do zaměstnání se považuje</a:t>
            </a:r>
            <a:endParaRPr b="0" lang="en-US" sz="4000" spc="-1" strike="noStrike">
              <a:solidFill>
                <a:srgbClr val="ffffcc"/>
              </a:solidFill>
              <a:latin typeface="Arial"/>
            </a:endParaRPr>
          </a:p>
        </p:txBody>
      </p:sp>
      <p:sp>
        <p:nvSpPr>
          <p:cNvPr id="13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g) u poslanců Poslanecké sněmovny a senátorů Senátu Parlamentu České republiky a poslanců Evropského parlamentu zvolených na území České republiky den zvolení, a za den ukončení zaměstnání se považuje den uplynutí volebního období, popřípadě den zániku mandátu,</a:t>
            </a: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 </a:t>
            </a:r>
            <a:r>
              <a:rPr b="0" lang="cs-CZ" sz="2400" spc="-1" strike="noStrike">
                <a:solidFill>
                  <a:srgbClr val="ffffff"/>
                </a:solidFill>
                <a:latin typeface="Arial"/>
                <a:ea typeface="Arial"/>
              </a:rPr>
              <a:t>h) u členů vlády, prezidenta, viceprezidenta a členů Nejvyššího kontrolního úřadu, členů Rady pro rozhlasové a televizní vysílání, členů Rady Českého telekomunikačního úřadu, finančního arbitra, zástupce finančního arbitra, Veřejného ochránce práv a zástupce Veřejného ochránce práv den nástupu do funkce, a za den ukončení zaměstnání se považuje den skončení výkonu funkce,</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ffffcc"/>
                </a:solidFill>
                <a:latin typeface="Arial"/>
                <a:ea typeface="Arial"/>
              </a:rPr>
              <a:t>Za den nástupu zaměstnance do zaměstnání se považuje</a:t>
            </a:r>
            <a:endParaRPr b="0" lang="en-US" sz="4000" spc="-1" strike="noStrike">
              <a:solidFill>
                <a:srgbClr val="ffffcc"/>
              </a:solidFill>
              <a:latin typeface="Arial"/>
            </a:endParaRPr>
          </a:p>
        </p:txBody>
      </p:sp>
      <p:sp>
        <p:nvSpPr>
          <p:cNvPr id="14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i) u fyzických osob, které nejsou uvedeny v písmenech e) až h), které byly jmenovány nebo zvoleny do funkce a jejich jmenováním nevznikl pracovní nebo služební poměr, den nástupu do funkce, a za den ukončení zaměstnání se považuje den skončení výkonu funkce,</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j) u dobrovolných pracovníků pečovatelské služby den, ve kterém začal dobrovolný pracovník poskytovat pečovatelskou službu, a za den ukončení zaměstnání se považuje den, kdy přestal být dobrovolným pracovníkem pečovatelské služby,</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k) u osoby pečující o dítě a osoby, která je vedena v evidenci osob, které mohou vykonávat pěstounskou péči na přechodnou dobu, je-li těmto osobám vyplácena odměna pěstouna podle zákona o sociálně-právní ochraně dětí 16c), den, od něhož jim tato odměna náleží, a za den ukončení zaměstnání se považuje den, od něhož tato odměna nenáleží z jiných důvodů, než je dočasná pracovní neschopnost,</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ffffcc"/>
                </a:solidFill>
                <a:latin typeface="Arial"/>
                <a:ea typeface="Arial"/>
              </a:rPr>
              <a:t>Za den nástupu zaměstnance do zaměstnání se považuje</a:t>
            </a:r>
            <a:endParaRPr b="0" lang="en-US" sz="4000" spc="-1" strike="noStrike">
              <a:solidFill>
                <a:srgbClr val="ffffcc"/>
              </a:solidFill>
              <a:latin typeface="Arial"/>
            </a:endParaRPr>
          </a:p>
        </p:txBody>
      </p:sp>
      <p:sp>
        <p:nvSpPr>
          <p:cNvPr id="14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l) u odsouzených ve výkonu ochranného opatření zabezpečovací detence a trestu odnětí svobody zařazených do práce den zařazení do práce, a za den ukončení zaměstnání se považuje den odvolání z výkonu práce,</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m) u osob činných v poměru, který má obsah pracovního poměru, avšak pracovní poměr nevznikl, neboť nebyly splněny podmínky stanovené pracovněprávními předpisy pro jeho vznik, den započetí výkonu práce, a za den ukončení zaměstnání se považuje den ukončení výkonu práce,</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n) u zaměstnanců neuvedených pod písmeny a) až n) den, kdy začal zaměstnanec vykonávat práci, na jejímž základě mu plynou příjmy ze závislé činnosti a funkčních požitků, a za den ukončení zaměstnání se považuje den ukončení výkonu práce.</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vinnost státu platit pojistné</a:t>
            </a:r>
            <a:endParaRPr b="0" lang="en-US" sz="4400" spc="-1" strike="noStrike">
              <a:solidFill>
                <a:srgbClr val="ffffcc"/>
              </a:solidFill>
              <a:latin typeface="Arial"/>
            </a:endParaRPr>
          </a:p>
        </p:txBody>
      </p:sp>
      <p:sp>
        <p:nvSpPr>
          <p:cNvPr id="14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Povinnost státu platit pojistné za pojištěnce vzniká dnem, kdy se stát stává plátcem pojistného. </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Tato povinnost zaniká dnem, ke kterému stát přestal plátcem pojistného.</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Pojištěnec v cizině</a:t>
            </a:r>
            <a:endParaRPr b="0" lang="en-US" sz="4400" spc="-1" strike="noStrike">
              <a:solidFill>
                <a:srgbClr val="ffffcc"/>
              </a:solidFill>
              <a:latin typeface="Arial"/>
            </a:endParaRPr>
          </a:p>
        </p:txBody>
      </p:sp>
      <p:sp>
        <p:nvSpPr>
          <p:cNvPr id="14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Arial"/>
                <a:ea typeface="Arial"/>
              </a:rPr>
              <a:t>Pojištěnec </a:t>
            </a:r>
            <a:r>
              <a:rPr b="1" lang="cs-CZ" sz="1600" spc="-1" strike="noStrike">
                <a:solidFill>
                  <a:srgbClr val="ffffff"/>
                </a:solidFill>
                <a:latin typeface="Arial"/>
                <a:ea typeface="Arial"/>
              </a:rPr>
              <a:t>není povinen</a:t>
            </a:r>
            <a:r>
              <a:rPr b="0" lang="cs-CZ" sz="1600" spc="-1" strike="noStrike">
                <a:solidFill>
                  <a:srgbClr val="ffffff"/>
                </a:solidFill>
                <a:latin typeface="Arial"/>
                <a:ea typeface="Arial"/>
              </a:rPr>
              <a:t> platit pojistné po dobu, kdy je dlouhodobě v cizině, pokud je v cizině zdravotně pojištěn a učinil o této skutečnosti u příslušné zdravotní pojišťovny písemné prohlášení. </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Arial"/>
                <a:ea typeface="Arial"/>
              </a:rPr>
              <a:t>Povinnost platit pojistné však zaniká až dnem, který pojištěnec v prohlášení podle věty prvé uvedl, ne však dříve než dnem následujícím po dni, kdy toto prohlášení bylo doručeno příslušné zdravotní pojišťovně. </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Arial"/>
                <a:ea typeface="Arial"/>
              </a:rPr>
              <a:t>Od stejného dne až do dne, kdy se pojištěnec u příslušné zdravotní pojišťovny opět přihlásil, nemá pojištěnec nárok na poskytování hrazených služeb. Současně s opětovným přihlášením u příslušné zdravotní pojišťovny je pojištěnec povinen této pojišťovně dodatečně předložit doklad o uzavřeném zdravotním pojištění v cizině a jeho délce. </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Arial"/>
                <a:ea typeface="Arial"/>
              </a:rPr>
              <a:t>Pokud pojištěnec takový doklad nepředloží, je povinen příslušné zdravotní pojišťovně doplatit zpětně pojistné tak, jako by podle tohoto ustanovení nepostupoval. Za dlouhodobý pobyt v cizině se považuje nepřetržitý pobyt delší šesti měsíců.</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Arial"/>
                <a:ea typeface="Arial"/>
              </a:rPr>
              <a:t>Nezaplatí-li plátce pojistného pojistné ve stanovené výši a včas, je příslušná zdravotní pojišťovna povinna vymáhat na dlužníkovi jeho zaplacení včetně pená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Arial"/>
                <a:ea typeface="Arial"/>
              </a:rPr>
              <a:t>Výše a způsob placení pojistného a penále</a:t>
            </a:r>
            <a:endParaRPr b="0" lang="en-US" sz="4000" spc="-1" strike="noStrike">
              <a:solidFill>
                <a:srgbClr val="ffffcc"/>
              </a:solidFill>
              <a:latin typeface="Arial"/>
            </a:endParaRPr>
          </a:p>
        </p:txBody>
      </p:sp>
      <p:sp>
        <p:nvSpPr>
          <p:cNvPr id="14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Výši pojistného, penále a způsob jejich placení stanoví zvláštní zákon.</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Pojistné za zaměstnance hradí z jedné třetiny zaměstnanec, ze dvou třetin zaměstnavatel. Pojistné za státního zaměstnance podle služebního zákona hradí služební úřad v plné výši.</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Písemnou smlouvou mezi zaměstnancem a zaměstnavatelem může se zaměstnanec zavázat zaplatit zaměstnavateli zcela nebo zčásti částku odpovídající pojistnému, které za zaměstnance má zaměstnavatel povinnost hradit v době, kdy zaměstnanci poskytl </a:t>
            </a:r>
            <a:r>
              <a:rPr b="0" lang="cs-CZ" sz="2000" spc="-1" strike="noStrike" u="sng">
                <a:solidFill>
                  <a:srgbClr val="ffffff"/>
                </a:solidFill>
                <a:uFillTx/>
                <a:latin typeface="Arial"/>
                <a:ea typeface="Arial"/>
              </a:rPr>
              <a:t>pracovní volno bez náhrady příjmu</a:t>
            </a:r>
            <a:r>
              <a:rPr b="0" lang="cs-CZ" sz="2000" spc="-1" strike="noStrike">
                <a:solidFill>
                  <a:srgbClr val="ffffff"/>
                </a:solidFill>
                <a:latin typeface="Arial"/>
                <a:ea typeface="Arial"/>
              </a:rPr>
              <a:t>.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ři neomluvené nepřítomnosti zaměstnance v práci je zaměstnanec povinen zaplatit zaměstnavateli částku odpovídající pojistnému, které zaměstnavatel za zaměstnance za tuto dobu uhradi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cc"/>
                </a:solidFill>
                <a:latin typeface="Tahoma"/>
                <a:ea typeface="Arial"/>
              </a:rPr>
              <a:t>Práva a povinnosti plátců pojistného</a:t>
            </a:r>
            <a:endParaRPr b="0" lang="en-US" sz="4000" spc="-1" strike="noStrike">
              <a:solidFill>
                <a:srgbClr val="ffffcc"/>
              </a:solidFill>
              <a:latin typeface="Arial"/>
            </a:endParaRPr>
          </a:p>
        </p:txBody>
      </p:sp>
      <p:sp>
        <p:nvSpPr>
          <p:cNvPr id="15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ffffff"/>
                </a:solidFill>
                <a:latin typeface="Arial"/>
                <a:ea typeface="Arial"/>
              </a:rPr>
              <a:t>Oznamovací povinnost</a:t>
            </a:r>
            <a:r>
              <a:rPr b="0" lang="cs-CZ" sz="2000" spc="-1" strike="noStrike">
                <a:solidFill>
                  <a:srgbClr val="ffffff"/>
                </a:solidFill>
                <a:latin typeface="Arial"/>
                <a:ea typeface="Arial"/>
              </a:rPr>
              <a:t>  plátců pojistného</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Zaměstnavatel je povinen nejpozději </a:t>
            </a:r>
            <a:r>
              <a:rPr b="1" lang="cs-CZ" sz="2000" spc="-1" strike="noStrike">
                <a:solidFill>
                  <a:srgbClr val="ffffff"/>
                </a:solidFill>
                <a:latin typeface="Arial"/>
                <a:ea typeface="Arial"/>
              </a:rPr>
              <a:t>do osmi dnů</a:t>
            </a:r>
            <a:r>
              <a:rPr b="0" lang="cs-CZ" sz="2000" spc="-1" strike="noStrike">
                <a:solidFill>
                  <a:srgbClr val="ffffff"/>
                </a:solidFill>
                <a:latin typeface="Arial"/>
                <a:ea typeface="Arial"/>
              </a:rPr>
              <a:t> od vzniku skutečnosti, která se oznamuje, provést u příslušné zdravotní pojišťovny oznámení o:</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a) nástupu zaměstnance do zaměstnání a jeho ukončení</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b) změně zdravotní pojišťovny zaměstnancem, pokud mu toto skutečnost sdělil; oznámení se provede odhlášením od placení pojistného u původní zdravotní pojišťovny a přihlášením k placení pojistného u zdravotní pojišťovny, kterou si zaměstnanec zvolil,</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c) skutečnostech rozhodných pro povinnost státu platit za zaměstnance pojistné, a to i v těch případech, kdy povinnost státu vznikla v době, kdy zaměstnanci poskytl pracovní volno bez náhrady příjmu, jsou-li mu tyto skutečnosti známy.</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cc"/>
                </a:solidFill>
                <a:latin typeface="Tahoma"/>
                <a:ea typeface="Arial"/>
              </a:rPr>
              <a:t>Práva a povinnosti plátců pojistného</a:t>
            </a:r>
            <a:endParaRPr b="0" lang="en-US" sz="4000" spc="-1" strike="noStrike">
              <a:solidFill>
                <a:srgbClr val="ffffcc"/>
              </a:solidFill>
              <a:latin typeface="Arial"/>
            </a:endParaRPr>
          </a:p>
        </p:txBody>
      </p:sp>
      <p:sp>
        <p:nvSpPr>
          <p:cNvPr id="15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O oznamovacích skutečnostech je zaměstnavatel povinen vést evidenci a dokumentaci. </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Při plnění oznamovací povinnosti sděluje zaměstnavatel jméno, příjmení, trvalý pobyt a rodné číslo zaměstnance, případně jiné číslo pojištěnce.</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cc"/>
                </a:solidFill>
                <a:latin typeface="Tahoma"/>
                <a:ea typeface="Arial"/>
              </a:rPr>
              <a:t>Práva a povinnosti plátců pojistného</a:t>
            </a:r>
            <a:endParaRPr b="0" lang="en-US" sz="4000" spc="-1" strike="noStrike">
              <a:solidFill>
                <a:srgbClr val="ffffcc"/>
              </a:solidFill>
              <a:latin typeface="Arial"/>
            </a:endParaRPr>
          </a:p>
        </p:txBody>
      </p:sp>
      <p:sp>
        <p:nvSpPr>
          <p:cNvPr id="15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Zaměstnanec je povinen oznámit příslušné zdravotní pojišťovně skutečnosti neprodleně, zjistí-li, že jeho zaměstnavatel tuto povinnost nesplnil, nebo pokud údaje uvedené svému zaměstnavateli nesdělil.</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Pojištěnec, který je osobou samostatně výdělečně činnou, je povinen oznámit příslušné zdravotní pojišťovně zahájení a ukončení samostatné výdělečné činnosti nejpozději do osmi dnů ode dne, kdy tuto činnost zahájil nebo ukončil. </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ojištěnec, podnikající na základě živnostenského oprávnění, splní tuto povinnost i tehdy, učiní-li oznámení příslušnému živnostenskému úřadu.</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ojištěnec je povinen do osmi dnů ode dne, kdy se stal pojištěncem oznámit tuto skutečnost příslušné zdravotní pojišťovně.</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92" name="Picture 2" descr=""/>
          <p:cNvPicPr/>
          <p:nvPr/>
        </p:nvPicPr>
        <p:blipFill>
          <a:blip r:embed="rId1"/>
          <a:stretch/>
        </p:blipFill>
        <p:spPr>
          <a:xfrm>
            <a:off x="985680" y="1380960"/>
            <a:ext cx="7172640" cy="40960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cc"/>
                </a:solidFill>
                <a:latin typeface="Tahoma"/>
                <a:ea typeface="Arial"/>
              </a:rPr>
              <a:t>Práva a povinnosti plátců pojistného</a:t>
            </a:r>
            <a:endParaRPr b="0" lang="en-US" sz="4000" spc="-1" strike="noStrike">
              <a:solidFill>
                <a:srgbClr val="ffffcc"/>
              </a:solidFill>
              <a:latin typeface="Arial"/>
            </a:endParaRPr>
          </a:p>
        </p:txBody>
      </p:sp>
      <p:sp>
        <p:nvSpPr>
          <p:cNvPr id="15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Pojištěnec je povinen oznámit příslušné zdravotní pojišťovně nejpozději do osmi dnů skutečnosti rozhodné pro vznik nebo zánik povinnost státu platit za něj pojistné. </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Za osoby zaměstnané plní tuto povinnost zaměstnavatel, pokud jsou mu tyto skutečnosti známy. Za osoby nezletilé nebo osoby bez způsobilosti k právním úkonům plní tuto povinnost jejich zákonný zástupce.</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Narození pojištěnce je jeho zákonný zástupce povinen oznámit do osmi dnů ode dne narození zdravotní pojišťovně, u které je pojištěna matka dítěte v den jeho narození. </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Příslušný obecní úřad pověřený vedením matriky oznámí narození pojištěnce Centrálnímu registru pojištěnců bezprostředně po přidělení rodného čísla.</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Úmrtí pojištěnce nebo jeho prohlášení za mrtvého je povinen oznámit Centrálnímu registru pojištěnců do osmi dnů od zápisu do matriky příslušný obecní úřad pověřený vedením matriky.</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Arial"/>
                <a:ea typeface="Arial"/>
              </a:rPr>
              <a:t>Živnostenské úřady</a:t>
            </a:r>
            <a:br>
              <a:rPr sz="4000"/>
            </a:br>
            <a:endParaRPr b="0" lang="en-US" sz="4000" spc="-1" strike="noStrike">
              <a:solidFill>
                <a:srgbClr val="ffffcc"/>
              </a:solidFill>
              <a:latin typeface="Arial"/>
            </a:endParaRPr>
          </a:p>
        </p:txBody>
      </p:sp>
      <p:sp>
        <p:nvSpPr>
          <p:cNvPr id="158" name="PlaceHolder 2"/>
          <p:cNvSpPr>
            <a:spLocks noGrp="1"/>
          </p:cNvSpPr>
          <p:nvPr>
            <p:ph/>
          </p:nvPr>
        </p:nvSpPr>
        <p:spPr>
          <a:xfrm>
            <a:off x="468360" y="1628280"/>
            <a:ext cx="8229600" cy="449604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Živnostenské úřady, které přijaly oznámení, předají tyto údaje ve stanovené lhůtě   zdravotní pojišťovně, kterou ve svém oznámení pojištěnec uvedl (dále jen "příslušná pojišťovna").</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Živnostenské úřady sdělují nejpozději do 5 pracovních dnů příslušné pojišťovně vznik prvního nebo zánik posledního oprávnění provozovat živnost a pozastavení výkonu živnosti, a to s uvedením dne, ke kterému tyto skutečnosti nastaly.</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Živnostenské úřady předají na vyžádání zdravotní pojišťovně kopie dokladů, které pojištěnec připojil ke svému oznámení podle odstavce 1.</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Živnostenské úřady a zdravotní pojišťovny si v mezích své působnosti vzájemně předávají údaje potřebné k provádění veřejného zdravotního pojištění osob samostatně výdělečně činných, které podnikají na základě živnostenského oprávnění.</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ráva pojištěnce</a:t>
            </a:r>
            <a:endParaRPr b="0" lang="en-US" sz="4400" spc="-1" strike="noStrike">
              <a:solidFill>
                <a:srgbClr val="ffffcc"/>
              </a:solidFill>
              <a:latin typeface="Arial"/>
            </a:endParaRPr>
          </a:p>
        </p:txBody>
      </p:sp>
      <p:sp>
        <p:nvSpPr>
          <p:cNvPr id="16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1" lang="cs-CZ" sz="2000" spc="-1" strike="noStrike" u="sng">
                <a:solidFill>
                  <a:srgbClr val="ffffff"/>
                </a:solidFill>
                <a:uFillTx/>
                <a:latin typeface="Arial"/>
                <a:ea typeface="Arial"/>
              </a:rPr>
              <a:t>Pojištěnec má právo</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Na výběr zdravotní pojišťovny, nestanoví-li tento zákon jinak,</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na výběr poskytovatele zdravotních služeb na území České republiky (dále jen "poskytovatel"), který je ve smluvním vztahu k příslušné zdravotní pojišťovně, a na výběr zdravotnického zařízení tohoto poskytovatele; </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v případě registrujícího poskytovatele může toto právo uplatnit jednou za 3 měsíce,</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ráva pojištěnce</a:t>
            </a:r>
            <a:endParaRPr b="0" lang="en-US" sz="4400" spc="-1" strike="noStrike">
              <a:solidFill>
                <a:srgbClr val="ffffcc"/>
              </a:solidFill>
              <a:latin typeface="Arial"/>
            </a:endParaRPr>
          </a:p>
        </p:txBody>
      </p:sp>
      <p:sp>
        <p:nvSpPr>
          <p:cNvPr id="16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na časovou a místní dostupnost hrazených služeb poskytovaných smluvními poskytovateli příslušné zdravotní pojišťovny,</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na poskytnutí hrazených služeb v rozsahu a za podmínek stanovených tímto zákonem, přičemž poskytovatel nesmí za tyto hrazené služby přijmout od pojištěnce žádnou úhradu,</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ráva pojištěnce</a:t>
            </a:r>
            <a:endParaRPr b="0" lang="en-US" sz="4400" spc="-1" strike="noStrike">
              <a:solidFill>
                <a:srgbClr val="ffffcc"/>
              </a:solidFill>
              <a:latin typeface="Arial"/>
            </a:endParaRPr>
          </a:p>
        </p:txBody>
      </p:sp>
      <p:sp>
        <p:nvSpPr>
          <p:cNvPr id="16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na léčivé přípravky a potraviny pro zvláštní lékařské účely bez přímé úhrady, jde-li o léčivé přípravky a potraviny pro zvláštní lékařské účely hrazené ze zdravotního pojištění a předepsané v souladu s tímto zákonem; </a:t>
            </a:r>
            <a:endParaRPr b="0" lang="en-US" sz="2800" spc="-1" strike="noStrike">
              <a:solidFill>
                <a:srgbClr val="ffffff"/>
              </a:solidFill>
              <a:latin typeface="Arial"/>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to platí i v případech, kdy poskytovatel lékárenské péče nemá se zdravotní pojišťovnou pojištěnce dosud uzavřenou smlouvu,</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ráva pojištěnce</a:t>
            </a:r>
            <a:endParaRPr b="0" lang="en-US" sz="4400" spc="-1" strike="noStrike">
              <a:solidFill>
                <a:srgbClr val="ffffcc"/>
              </a:solidFill>
              <a:latin typeface="Arial"/>
            </a:endParaRPr>
          </a:p>
        </p:txBody>
      </p:sp>
      <p:sp>
        <p:nvSpPr>
          <p:cNvPr id="166" name="PlaceHolder 2"/>
          <p:cNvSpPr>
            <a:spLocks noGrp="1"/>
          </p:cNvSpPr>
          <p:nvPr>
            <p:ph/>
          </p:nvPr>
        </p:nvSpPr>
        <p:spPr>
          <a:xfrm>
            <a:off x="457200" y="1600200"/>
            <a:ext cx="8229600" cy="4495680"/>
          </a:xfrm>
          <a:prstGeom prst="rect">
            <a:avLst/>
          </a:prstGeom>
          <a:noFill/>
          <a:ln w="0">
            <a:noFill/>
          </a:ln>
        </p:spPr>
        <p:txBody>
          <a:bodyPr anchor="t">
            <a:normAutofit fontScale="97000"/>
          </a:bodyPr>
          <a:p>
            <a:pPr marL="332640" indent="-3326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na poskytnutí informací od zdravotní pojišťovny o jemu poskytnutých hrazených službách,</a:t>
            </a:r>
            <a:endParaRPr b="0" lang="en-US" sz="2000" spc="-1" strike="noStrike">
              <a:solidFill>
                <a:srgbClr val="ffffff"/>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2640" indent="-3326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odílet se na kontrole poskytnuté zdravotní péče hrazené zdravotním pojištěním,</a:t>
            </a:r>
            <a:endParaRPr b="0" lang="en-US" sz="2000" spc="-1" strike="noStrike">
              <a:solidFill>
                <a:srgbClr val="ffffff"/>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2640" indent="-3326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na vystavení dokladu o zaplacení regulačního poplatku; poskytovatel je povinen tento doklad pojištěnci na jeho žádost vydat,</a:t>
            </a:r>
            <a:endParaRPr b="0" lang="en-US" sz="2000" spc="-1" strike="noStrike">
              <a:solidFill>
                <a:srgbClr val="ffffff"/>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2640" indent="-3326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na vystavení dokladu o zaplacení regulačního poplatku a o zaplacení doplatku za vydání částečně hrazeného léčivého přípravku nebo potraviny pro zvláštní lékařské účely poskytovatelem lékárenské péče; </a:t>
            </a:r>
            <a:endParaRPr b="0" lang="en-US" sz="2000" spc="-1" strike="noStrike">
              <a:solidFill>
                <a:srgbClr val="ffffff"/>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2640" indent="-3326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oskytovatel lékárenské péče je povinen tento doklad pojištěnci na jeho žádost vydat,</a:t>
            </a:r>
            <a:endParaRPr b="0" lang="en-US" sz="2000" spc="-1" strike="noStrike">
              <a:solidFill>
                <a:srgbClr val="ffffff"/>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ráva pojištěnce</a:t>
            </a:r>
            <a:endParaRPr b="0" lang="en-US" sz="4400" spc="-1" strike="noStrike">
              <a:solidFill>
                <a:srgbClr val="ffffcc"/>
              </a:solidFill>
              <a:latin typeface="Arial"/>
            </a:endParaRPr>
          </a:p>
        </p:txBody>
      </p:sp>
      <p:sp>
        <p:nvSpPr>
          <p:cNvPr id="16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na uhrazení částky přesahující limit pro regulační poplatky a doplatky za předepsané částečně hrazené léčivé přípravky nebo potraviny pro zvláštní lékařské účely zdravotní pojišťovnou,</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na náhradu nákladů, které vynaložil na neodkladnou zdravotní péči čerpanou v cizině, a to pouze do výše stanovené pro úhradu takové péče, pokud by byla poskytnuta na území České republiky,</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na náhradu nákladů, které vynaložil na zdravotní služby čerpané v jiném členském státě Evropské unie, pokud jde o zdravotní služby, které by byly při poskytnutí na území České republiky hrazeny ze zdravotního pojištění (dále jen "hrazené přeshraniční služby"), a to pouze do výše stanovené pro úhradu takových služeb, pokud by byly poskytnuty na území České republiky,</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na informace týkající se možností čerpat zdravotní služby v jiných členských státech Evropské unie.</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ráva pojištěnce</a:t>
            </a:r>
            <a:endParaRPr b="0" lang="en-US" sz="4400" spc="-1" strike="noStrike">
              <a:solidFill>
                <a:srgbClr val="ffffcc"/>
              </a:solidFill>
              <a:latin typeface="Arial"/>
            </a:endParaRPr>
          </a:p>
        </p:txBody>
      </p:sp>
      <p:sp>
        <p:nvSpPr>
          <p:cNvPr id="17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Má-li pojištěnec za to, že mu nejsou poskytovány hrazené služby v souladu s tímto zákonem, může podat stížnost podle zákona o zdravotních službách.</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jištěnec je povinen</a:t>
            </a:r>
            <a:endParaRPr b="0" lang="en-US" sz="4400" spc="-1" strike="noStrike">
              <a:solidFill>
                <a:srgbClr val="ffffcc"/>
              </a:solidFill>
              <a:latin typeface="Arial"/>
            </a:endParaRPr>
          </a:p>
        </p:txBody>
      </p:sp>
      <p:sp>
        <p:nvSpPr>
          <p:cNvPr id="17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u="sng">
                <a:solidFill>
                  <a:srgbClr val="ffffff"/>
                </a:solidFill>
                <a:uFillTx/>
                <a:latin typeface="Arial"/>
                <a:ea typeface="Arial"/>
              </a:rPr>
              <a:t>Plnit oznamovací povinnost </a:t>
            </a: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Sdělit v den nástupu do zaměstnání svému zaměstnavateli, u které zdravotní pojišťovny je pojištěn. Stejnou povinnost má i tehdy, stane-li se pojištěncem jiné zdravotní pojišťovny v době trvání zaměstnání; tuto povinnost splní do osmi dnů ode dne změny zdravotní pojišťovny,</a:t>
            </a: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přijetí sdělení podle předchozích vět je zaměstnavatel povinen pojištěnci písemně potvrdit. Zaměstnavatel má právo požadovat na zaměstnanci nebo bývalém zaměstnanci úhradu penále, které zaplatil v souvislosti s neoznámením nebo opožděným oznámením změny zdravotní pojišťovny pojištěncem,</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jištěnec je povinen</a:t>
            </a:r>
            <a:endParaRPr b="0" lang="en-US" sz="4400" spc="-1" strike="noStrike">
              <a:solidFill>
                <a:srgbClr val="ffffcc"/>
              </a:solidFill>
              <a:latin typeface="Arial"/>
            </a:endParaRPr>
          </a:p>
        </p:txBody>
      </p:sp>
      <p:sp>
        <p:nvSpPr>
          <p:cNvPr id="17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poskytnout součinnost při poskytování zdravotních služeb a kontrole průběhu individuálního léčebného postupu a dodržovat poskytovatelem stanovený léčebný režim,</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podrobit se na vyzvání preventivním prohlídkám, pokud tak stanoví tento zákon nebo obecně závazné právní předpisy,</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dodržovat opatření směřující k odvrácení nemocí,</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vyvarovat se jednání, jehož cílem je vědomé poškození vlastního zdraví,</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u="sng">
                <a:solidFill>
                  <a:srgbClr val="ffcc66"/>
                </a:solidFill>
                <a:uFillTx/>
                <a:latin typeface="Tahoma"/>
                <a:ea typeface="Arial"/>
                <a:hlinkClick r:id="rId1"/>
              </a:rPr>
              <a:t>č. 48/1997 Sb.</a:t>
            </a:r>
            <a:endParaRPr b="0" lang="en-US" sz="4400" spc="-1" strike="noStrike">
              <a:solidFill>
                <a:srgbClr val="ffffcc"/>
              </a:solidFill>
              <a:latin typeface="Arial"/>
            </a:endParaRPr>
          </a:p>
        </p:txBody>
      </p:sp>
      <p:sp>
        <p:nvSpPr>
          <p:cNvPr id="9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Arial"/>
                <a:ea typeface="Arial"/>
              </a:rPr>
              <a:t>Zákon o veřejném zdravotním pojištění a o změně a doplnění některých souvisejících zákonů</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jištěnec je povinen</a:t>
            </a:r>
            <a:endParaRPr b="0" lang="en-US" sz="4400" spc="-1" strike="noStrike">
              <a:solidFill>
                <a:srgbClr val="ffffcc"/>
              </a:solidFill>
              <a:latin typeface="Arial"/>
            </a:endParaRPr>
          </a:p>
        </p:txBody>
      </p:sp>
      <p:sp>
        <p:nvSpPr>
          <p:cNvPr id="17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rokazovat se při poskytování zdravotních služeb, s výjimkou poskytování léčivých přípravků, potravin pro zvláštní lékařské účely a zdravotnických prostředků, platným průkazem pojištěnce nebo náhradním dokladem vydaným příslušnou zdravotní pojišťovnou,</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oznámit do osmi dnů příslušné zdravotní pojišťovně ztrátu nebo poškození průkazu pojištěnce,</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vrátit do osmi dnů příslušné zdravotní pojišťovně průkaz pojištěnce při</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1. zániku zdravotního pojištění </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2. změně zdravotní pojišťovny;</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3. dlouhodobém pobytu v zahraničí,</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jištěnec je povinen</a:t>
            </a:r>
            <a:endParaRPr b="0" lang="en-US" sz="4400" spc="-1" strike="noStrike">
              <a:solidFill>
                <a:srgbClr val="ffffcc"/>
              </a:solidFill>
              <a:latin typeface="Arial"/>
            </a:endParaRPr>
          </a:p>
        </p:txBody>
      </p:sp>
      <p:sp>
        <p:nvSpPr>
          <p:cNvPr id="17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oznámit příslušné zdravotní pojišťovně změny jména, příjmení, trvalého pobytu nebo rodného čísla, a to do 30 dnů ode dne, kdy ke změně došlo; pokud se pojištěnec v místě trvalého pobytu nezdržuje, je povinen příslušné zdravotní pojišťovně oznámit také adresu místa pobytu na území České republiky, kde se převážně zdržuje (dále jen "bydliště"),</a:t>
            </a:r>
            <a:endParaRPr b="0" lang="en-US" sz="2400" spc="-1" strike="noStrike">
              <a:solidFill>
                <a:srgbClr val="ffffff"/>
              </a:solidFill>
              <a:latin typeface="Arial"/>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při změně zdravotní pojišťovny předložit nově zvolené zdravotní pojišťovně doklad o výši záloh na pojistné vypočtených z vyměřovacího základu, jde-li o osobu samostatně výdělečně činnou,</a:t>
            </a:r>
            <a:endParaRPr b="0" lang="en-US" sz="2400" spc="-1" strike="noStrike">
              <a:solidFill>
                <a:srgbClr val="ffffff"/>
              </a:solidFill>
              <a:latin typeface="Arial"/>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hradit poskytovateli regulační poplatky. </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Hrazené služby</a:t>
            </a:r>
            <a:endParaRPr b="0" lang="en-US" sz="4400" spc="-1" strike="noStrike">
              <a:solidFill>
                <a:srgbClr val="ffffcc"/>
              </a:solidFill>
              <a:latin typeface="Arial"/>
            </a:endParaRPr>
          </a:p>
        </p:txBody>
      </p:sp>
      <p:sp>
        <p:nvSpPr>
          <p:cNvPr id="18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Ze zdravotního pojištění se hradí zdravotní služby poskytnuté pojištěnci </a:t>
            </a:r>
            <a:r>
              <a:rPr b="1" lang="cs-CZ" sz="2800" spc="-1" strike="noStrike">
                <a:solidFill>
                  <a:srgbClr val="ffffff"/>
                </a:solidFill>
                <a:latin typeface="Arial"/>
                <a:ea typeface="Arial"/>
              </a:rPr>
              <a:t>s cílem</a:t>
            </a:r>
            <a:r>
              <a:rPr b="0" lang="cs-CZ" sz="2800" spc="-1" strike="noStrike">
                <a:solidFill>
                  <a:srgbClr val="ffffff"/>
                </a:solidFill>
                <a:latin typeface="Arial"/>
                <a:ea typeface="Arial"/>
              </a:rPr>
              <a:t> zlepšit nebo zachovat jeho zdravotní stav nebo zmírnit jeho utrpení, pokud</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a) odpovídají zdravotnímu stavu pojištěnce a účelu, jehož má být jejich poskytnutím dosaženo, a jsou pro pojištěnce přiměřeně bezpečné,</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b) jsou v souladu se současnými dostupnými poznatky lékařské vědy,</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c) existují důkazy o jejich účinnosti vzhledem k účelu jejich poskytování.</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Hrazené služby</a:t>
            </a:r>
            <a:endParaRPr b="0" lang="en-US" sz="4400" spc="-1" strike="noStrike">
              <a:solidFill>
                <a:srgbClr val="ffffcc"/>
              </a:solidFill>
              <a:latin typeface="Arial"/>
            </a:endParaRPr>
          </a:p>
        </p:txBody>
      </p:sp>
      <p:sp>
        <p:nvSpPr>
          <p:cNvPr id="18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Hrazenými službami jsou v rozsahu a za podmínek stanovených tímto zákonem</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a) zdravotní péče preventivní, dispenzární, diagnostická, léčebná, léčebně rehabilitační, lázeňská léčebně rehabilitační, posudková, ošetřovatelská, paliativní a zdravotní péče o dárce krve, tkání a buněk nebo orgánů související s jejich odběrem, a to ve všech formách jejího poskytování podle zákona o zdravotních službách,</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b) poskytování léčivých přípravků, potravin pro zvláštní lékařské účely, zdravotnických prostředků a stomatologických výrobků,</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c) přeprava pojištěnců a náhrada cestovních nákladů,</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d) odběr krve a odběr tkání, buněk a orgánů určených k transplantaci a nezbytné nakládání s nimi (uchovávání, skladování, zpracování a vyšetření),</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Hrazené služby</a:t>
            </a:r>
            <a:endParaRPr b="0" lang="en-US" sz="4400" spc="-1" strike="noStrike">
              <a:solidFill>
                <a:srgbClr val="ffffcc"/>
              </a:solidFill>
              <a:latin typeface="Arial"/>
            </a:endParaRPr>
          </a:p>
        </p:txBody>
      </p:sp>
      <p:sp>
        <p:nvSpPr>
          <p:cNvPr id="18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e) přeprava žijícího dárce do místa odběru a z tohoto místa do místa poskytnutí zdravotní péče související s odběrem a z tohoto místa a náhradu cestovních nákladů,</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f) přeprava zemřelého dárce do místa odběru a z tohoto místa,</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g) přeprava odebraných tkání, buněk a orgánů,</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h) prohlídka zemřelého pojištěnce a pitva včetně přepravy,</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i) pobyt průvodce pojištěnce ve zdravotnickém zařízení lůžkové péče,</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j) zdravotní péče související s těhotenstvím a porodem dítěte, jehož matka požádala o utajení své osoby v souvislosti s porodem; tuto péči hradí zdravotní pojišťovna, kterou na základě identifikačních údajů pojištěnce o úhradu požádá příslušný poskytovatel.</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Hrazené služby</a:t>
            </a:r>
            <a:endParaRPr b="0" lang="en-US" sz="4400" spc="-1" strike="noStrike">
              <a:solidFill>
                <a:srgbClr val="ffffcc"/>
              </a:solidFill>
              <a:latin typeface="Arial"/>
            </a:endParaRPr>
          </a:p>
        </p:txBody>
      </p:sp>
      <p:sp>
        <p:nvSpPr>
          <p:cNvPr id="18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Ze zdravotního pojištění se hradí zdravotní služby poskytnuté na území České republiky.</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Ze zdravotního pojištění se pojištěnci na základě jeho žádosti poskytne náhrada nákladů vynaložených na neodkladnou zdravotní péči, jejíž potřeba nastala během jeho pobytu v cizině, a to pouze do výše stanovené pro úhradu takových služeb, pokud by byly poskytnuty na území České republiky.</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Ze zdravotního pojištění se pojištěnci na základě jeho žádosti poskytne náhrada nákladů vynaložených na hrazené přeshraniční služby, a to pouze do výše stanovené pro úhradu takových hrazených služeb, pokud by byly poskytnuty na území České republiky. Jestliže je náhrada nákladů na hrazené přeshraniční služby podmíněna udělením předchozího souhlasu podle § 14b, poskytne se mu náhrada nákladů pouze tehdy, byl-li předchozí souhlas udělen.</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Hrazené služby</a:t>
            </a:r>
            <a:endParaRPr b="0" lang="en-US" sz="4400" spc="-1" strike="noStrike">
              <a:solidFill>
                <a:srgbClr val="ffffcc"/>
              </a:solidFill>
              <a:latin typeface="Arial"/>
            </a:endParaRPr>
          </a:p>
        </p:txBody>
      </p:sp>
      <p:sp>
        <p:nvSpPr>
          <p:cNvPr id="18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Jde-li při poskytnutí hrazených přeshraničních služeb o nezbytnou péči hrazenou podle koordinačních nařízení a náklady spojené s jejím čerpáním jsou podle koordinačních nařízení hrazeny pouze zčásti, použije se pro náhradu nákladů vynaložených pojištěncem a nehrazených podle koordinačních nařízení.</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V takovém případě se pojištěnci poskytne náhrada jím vynaložených nákladů ve výši částky vypočtené jako rozdíl mezi celkovou výší úhrady takové zdravotní služby, která by při poskytnutí na území České republiky byla hrazena ze zdravotního pojištění, a celkovou výší částky, která je za takovou zdravotní službu hrazena podle koordinačních nařízení. Je-li vypočtená částka vyšší než částka, kterou pojištěnec vynaložil, poskytne se mu náhrada pouze ve výši částky vynaložené.</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Jsou-li tímto zákonem nebo rozhodnutím Státního ústavu pro kontrolu léčiv (dále jen "Ústav") vydaným podle části šesté stanoveny podmínky pro úhradu hrazených služeb, musí být tyto podmínky splněny i pro náhradu na hrazené přeshraniční služby; za takovou podmínku se nepovažuje uzavření smlouvy o poskytování a úhradě hrazených služeb.</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Výše náhrady nákladů</a:t>
            </a:r>
            <a:endParaRPr b="0" lang="en-US" sz="4400" spc="-1" strike="noStrike">
              <a:solidFill>
                <a:srgbClr val="ffffcc"/>
              </a:solidFill>
              <a:latin typeface="Arial"/>
            </a:endParaRPr>
          </a:p>
        </p:txBody>
      </p:sp>
      <p:sp>
        <p:nvSpPr>
          <p:cNvPr id="19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na základě tohoto zákona</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vyhlášky </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cenového předpisu</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opatření obecné povahy </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rozhodnutí Ústavu ke dni vyhotovení účetního dokladu, na jehož základě se náhrada provádí</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ředchozí souhlas</a:t>
            </a:r>
            <a:endParaRPr b="0" lang="en-US" sz="4400" spc="-1" strike="noStrike">
              <a:solidFill>
                <a:srgbClr val="ffffcc"/>
              </a:solidFill>
              <a:latin typeface="Arial"/>
            </a:endParaRPr>
          </a:p>
        </p:txBody>
      </p:sp>
      <p:sp>
        <p:nvSpPr>
          <p:cNvPr id="19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 </a:t>
            </a:r>
            <a:r>
              <a:rPr b="0" lang="cs-CZ" sz="2400" spc="-1" strike="noStrike">
                <a:solidFill>
                  <a:srgbClr val="ffffff"/>
                </a:solidFill>
                <a:latin typeface="Arial"/>
                <a:ea typeface="Arial"/>
              </a:rPr>
              <a:t>Vláda může nařízením vymezit hrazené přeshraniční služby, u nichž je poskytnutí náhrady nákladů podmíněno udělením předchozího souhlasu. </a:t>
            </a: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Jako hrazené přeshraniční služby, u nichž je poskytnutí náhrady nákladů podmíněno předchozím souhlasem, lze vymezit pouze</a:t>
            </a: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a) plánované hrazené služby, pro které jsou nařízením vlády o místní a časové dostupnosti zdravotních služeb stanoveny lhůty časové dostupnosti a které současně vyžadují hospitalizaci nebo vysoce specializované přístrojové nebo zdravotnické vybavení, nebo</a:t>
            </a: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b) hrazené služby, které zahrnují léčbu, která představuje zvláštní riziko pro pacienta nebo obyvatelstvo.</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Žádost</a:t>
            </a:r>
            <a:endParaRPr b="0" lang="en-US" sz="4400" spc="-1" strike="noStrike">
              <a:solidFill>
                <a:srgbClr val="ffffcc"/>
              </a:solidFill>
              <a:latin typeface="Arial"/>
            </a:endParaRPr>
          </a:p>
        </p:txBody>
      </p:sp>
      <p:sp>
        <p:nvSpPr>
          <p:cNvPr id="19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Ministerstvo zdravotnictví oznámí Evropské komisi, u kterých hrazených služeb je náhrada nákladů podmíněna předchozím souhlasem.</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O udělení předchozího souhlasu rozhoduje příslušná zdravotní pojišťovna na žádost pojištěnce. Žádost je nutné podat nejpozději před začátkem čerpání hrazených přeshraničních služeb.</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Základní ustanovení</a:t>
            </a:r>
            <a:endParaRPr b="0" lang="en-US" sz="4400" spc="-1" strike="noStrike">
              <a:solidFill>
                <a:srgbClr val="ffffcc"/>
              </a:solidFill>
              <a:latin typeface="Arial"/>
            </a:endParaRPr>
          </a:p>
        </p:txBody>
      </p:sp>
      <p:sp>
        <p:nvSpPr>
          <p:cNvPr id="9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Veřejné zdravotní pojištění (dále jen "zdravotní pojištění"),</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Rozsah a podmínky, za nichž jsou na základě tohoto zákona ze zdravotního pojištění hrazeny zdravotní služby (dále jen "hrazené služby"),</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Způsob stanovení cen a úhrad léčivých přípravků a potravin pro zvláštní lékařské účely hrazených ze zdravotního pojištění.</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Odmítnutí předchozího souhlasu</a:t>
            </a:r>
            <a:endParaRPr b="0" lang="en-US" sz="4400" spc="-1" strike="noStrike">
              <a:solidFill>
                <a:srgbClr val="ffffcc"/>
              </a:solidFill>
              <a:latin typeface="Arial"/>
            </a:endParaRPr>
          </a:p>
        </p:txBody>
      </p:sp>
      <p:sp>
        <p:nvSpPr>
          <p:cNvPr id="19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Zdravotní pojišťovna může odmítnout udělit předchozí souhlas pouze, jestliže</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a) by byl pojištěnec vzhledem ke svému zdravotnímu stavu při čerpání hrazených přeshraničních služeb </a:t>
            </a:r>
            <a:r>
              <a:rPr b="0" lang="cs-CZ" sz="2000" spc="-1" strike="noStrike" u="sng">
                <a:solidFill>
                  <a:srgbClr val="ffffff"/>
                </a:solidFill>
                <a:uFillTx/>
                <a:latin typeface="Arial"/>
                <a:ea typeface="Arial"/>
              </a:rPr>
              <a:t>vystaven riziku</a:t>
            </a:r>
            <a:r>
              <a:rPr b="0" lang="cs-CZ" sz="2000" spc="-1" strike="noStrike">
                <a:solidFill>
                  <a:srgbClr val="ffffff"/>
                </a:solidFill>
                <a:latin typeface="Arial"/>
                <a:ea typeface="Arial"/>
              </a:rPr>
              <a:t>, které nelze považovat za přijatelné, při zohlednění možného přínosu čerpání těchto hrazených přeshraničních služeb,</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b) je důvodná obava, že by čerpání hrazených přeshraničních služeb mohlo mít za následek </a:t>
            </a:r>
            <a:r>
              <a:rPr b="0" lang="cs-CZ" sz="2000" spc="-1" strike="noStrike" u="sng">
                <a:solidFill>
                  <a:srgbClr val="ffffff"/>
                </a:solidFill>
                <a:uFillTx/>
                <a:latin typeface="Arial"/>
                <a:ea typeface="Arial"/>
              </a:rPr>
              <a:t>podstatné ohrožení veřejného zdraví</a:t>
            </a:r>
            <a:r>
              <a:rPr b="0" lang="cs-CZ" sz="2000" spc="-1" strike="noStrike">
                <a:solidFill>
                  <a:srgbClr val="ffffff"/>
                </a:solidFill>
                <a:latin typeface="Arial"/>
                <a:ea typeface="Arial"/>
              </a:rPr>
              <a:t>,</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c) ohledně toho, kdo má hrazené přeshraniční služby poskytnout, </a:t>
            </a:r>
            <a:r>
              <a:rPr b="0" lang="cs-CZ" sz="2000" spc="-1" strike="noStrike" u="sng">
                <a:solidFill>
                  <a:srgbClr val="ffffff"/>
                </a:solidFill>
                <a:uFillTx/>
                <a:latin typeface="Arial"/>
                <a:ea typeface="Arial"/>
              </a:rPr>
              <a:t>existuje důvodná obava</a:t>
            </a:r>
            <a:r>
              <a:rPr b="0" lang="cs-CZ" sz="2000" spc="-1" strike="noStrike">
                <a:solidFill>
                  <a:srgbClr val="ffffff"/>
                </a:solidFill>
                <a:latin typeface="Arial"/>
                <a:ea typeface="Arial"/>
              </a:rPr>
              <a:t>, pokud jde o dodržování standardů a pokynů týkajících se kvality zdravotních služeb jím poskytovaných a o bezpečí pojištěnce, nebo</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d) lze požadované zdravotní služby pojištěnci poskytnout na území České republiky ve lhůtě časové dostupnosti stanovené nařízením vlády o místní a časové dostupnosti zdravotních služeb.</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Kontaktní místo</a:t>
            </a:r>
            <a:endParaRPr b="0" lang="en-US" sz="4400" spc="-1" strike="noStrike">
              <a:solidFill>
                <a:srgbClr val="ffffcc"/>
              </a:solidFill>
              <a:latin typeface="Arial"/>
            </a:endParaRPr>
          </a:p>
        </p:txBody>
      </p:sp>
      <p:sp>
        <p:nvSpPr>
          <p:cNvPr id="19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u="sng">
                <a:solidFill>
                  <a:srgbClr val="ffffff"/>
                </a:solidFill>
                <a:uFillTx/>
                <a:latin typeface="Arial"/>
                <a:ea typeface="Arial"/>
              </a:rPr>
              <a:t> </a:t>
            </a:r>
            <a:r>
              <a:rPr b="1" lang="cs-CZ" sz="1800" spc="-1" strike="noStrike" u="sng">
                <a:solidFill>
                  <a:srgbClr val="ffffff"/>
                </a:solidFill>
                <a:uFillTx/>
                <a:latin typeface="Arial"/>
                <a:ea typeface="Arial"/>
              </a:rPr>
              <a:t>Kontaktní místo poskytuje zejména informace o</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a) možnostech čerpání zdravotních služeb v členských státech Evropské unie,</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b) poskytovatelích,</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c) kontaktních údajích vnitrostátních kontaktních míst v jiných členských státech Evropské unie,</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d) právních předpisech České republiky upravujících standardy a pokyny o kvalitě a bezpečnosti poskytování zdravotních služeb, včetně ustanovení o dozoru a hodnocení poskytovatelů, a o poskytovatelích, na které se tyto standardy a pokyny vztahují,</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e) právech pacientů, postupech pro podávání stížností a mechanizmech pro zjednání nápravy a o možnostech řešení sporů v České republice,</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f) náležitostech, které mají být podle právních předpisů České republiky uvedeny na lékařských předpisech, které jsou vystavovány na žádost pacienta, který je hodlá použít v jiném členském státě Evropské unie.</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Kontaktní místo</a:t>
            </a:r>
            <a:endParaRPr b="0" lang="en-US" sz="4400" spc="-1" strike="noStrike">
              <a:solidFill>
                <a:srgbClr val="ffffcc"/>
              </a:solidFill>
              <a:latin typeface="Arial"/>
            </a:endParaRPr>
          </a:p>
        </p:txBody>
      </p:sp>
      <p:sp>
        <p:nvSpPr>
          <p:cNvPr id="20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u="sng">
                <a:solidFill>
                  <a:srgbClr val="ffffff"/>
                </a:solidFill>
                <a:uFillTx/>
                <a:latin typeface="Arial"/>
                <a:ea typeface="Arial"/>
              </a:rPr>
              <a:t>Kontaktní místo dále na žádost poskytuje informace o</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a) oprávnění konkrétního poskytovatele poskytovat zdravotní služby nebo o případných omezeních jeho oprávnění,</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b) přístupnosti konkrétních zdravotnických zařízení v České republice pro osoby se zdravotním postižením,</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c) možnosti čerpat zdravotní služby podle koordinačních nařízení,</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d) právech pojištěnce v souvislosti s čerpáním zdravotních služeb v jiných členských státech Evropské unie, a to zejména o pravidlech a podmínkách náhrady nákladů a postupech pro jejich uplatňování,</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e) právech pacienta z jiného členského státu Evropské unie na území České republiky v souvislosti s čerpáním zdravotních služeb, zejména o možnostech odvolání a nápravy, má-li pacient za to, že byl poškozen na svých právech, včetně případů, kdy dojde k újmě v důsledku čerpání zdravotních služeb.</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Nehrazené zdravotní výkony</a:t>
            </a:r>
            <a:endParaRPr b="0" lang="en-US" sz="4400" spc="-1" strike="noStrike">
              <a:solidFill>
                <a:srgbClr val="ffffcc"/>
              </a:solidFill>
              <a:latin typeface="Arial"/>
            </a:endParaRPr>
          </a:p>
        </p:txBody>
      </p:sp>
      <p:sp>
        <p:nvSpPr>
          <p:cNvPr id="20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Ze zdravotního pojištění se nehradí, nebo se hradí jen za určitých podmínek, zdravotní výkony uvedené v příloze č. 1  zákona.</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Nehrazené zdravotní výkony</a:t>
            </a:r>
            <a:endParaRPr b="0" lang="en-US" sz="4400" spc="-1" strike="noStrike">
              <a:solidFill>
                <a:srgbClr val="ffffcc"/>
              </a:solidFill>
              <a:latin typeface="Arial"/>
            </a:endParaRPr>
          </a:p>
        </p:txBody>
      </p:sp>
      <p:sp>
        <p:nvSpPr>
          <p:cNvPr id="20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Ze zdravotního pojištění se dále nehradí výkony akupunktury.</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Hrazené služby</a:t>
            </a:r>
            <a:endParaRPr b="0" lang="en-US" sz="4400" spc="-1" strike="noStrike">
              <a:solidFill>
                <a:srgbClr val="ffffcc"/>
              </a:solidFill>
              <a:latin typeface="Arial"/>
            </a:endParaRPr>
          </a:p>
        </p:txBody>
      </p:sp>
      <p:sp>
        <p:nvSpPr>
          <p:cNvPr id="20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Hrazené služby zahrnují zdravotní péči poskytnutou na základě doporučení registrujícího poskytovatele v oboru gynekologie a porodnictví v souvislosti s umělým oplodněním, a to nejvíce třikrát za život, nebo bylo-li v prvních dvou případech přeneseno do pohlavních orgánů ženy pouze 1 lidské embryo vzniklé oplodněním vajíčka spermií mimo tělo ženy, čtyřikrát za život</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a) ženám s oboustrannou neprůchodností vejcovodů ve věku od 18 do 39 let,</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b) ostatním ženám ve věku od 22 do 39 le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cc"/>
                </a:solidFill>
                <a:latin typeface="Arial"/>
                <a:ea typeface="Arial"/>
              </a:rPr>
              <a:t>Ze zdravotního pojištění se vždy plně hradí v provedení nejméně ekonomicky náročném léčivé přípravky obsahující tyto léčivé látky:</a:t>
            </a:r>
            <a:br>
              <a:rPr sz="1800"/>
            </a:br>
            <a:endParaRPr b="0" lang="en-US" sz="1800" spc="-1" strike="noStrike">
              <a:solidFill>
                <a:srgbClr val="ffffcc"/>
              </a:solidFill>
              <a:latin typeface="Arial"/>
            </a:endParaRPr>
          </a:p>
        </p:txBody>
      </p:sp>
      <p:sp>
        <p:nvSpPr>
          <p:cNvPr id="20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a) sérum proti stafylokokovým infekcím,</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b) sérum proti záškrtu,</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c) sérum proti hadímu jedu,</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d) sérum proti botulismu,</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e) sérum proti plynaté sněti,</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f) sérum proti vzteklině,</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g) imunoglobulin proti tetanu,</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h) imunoglobulin proti hepatitidě B,</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i) tetanový toxoid,</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j) vakcína proti stafylokokovým infekcím,</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k) vakcína proti vzteklině,</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l) antidota (užívaná při léčbě otrav organofosfáty, těžkými kovy a kyanidy).</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Léčivé přípravky</a:t>
            </a:r>
            <a:endParaRPr b="0" lang="en-US" sz="4400" spc="-1" strike="noStrike">
              <a:solidFill>
                <a:srgbClr val="ffffcc"/>
              </a:solidFill>
              <a:latin typeface="Arial"/>
            </a:endParaRPr>
          </a:p>
        </p:txBody>
      </p:sp>
      <p:sp>
        <p:nvSpPr>
          <p:cNvPr id="21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Ze zdravotního pojištění se hradí při poskytování ambulantní zdravotní péče léčivé přípravky a potraviny pro zvláštní lékařské účely, pokud pro ně Ústav rozhodl o výši úhrady.</a:t>
            </a:r>
            <a:endParaRPr b="0" lang="en-US" sz="2800" spc="-1" strike="noStrike">
              <a:solidFill>
                <a:srgbClr val="ffffff"/>
              </a:solidFill>
              <a:latin typeface="Arial"/>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V každé skupině léčivých látek uvedených v příloze č. 2 se ze zdravotního pojištění vždy plně hradí nejméně jeden léčivý přípravek nebo potravina pro zvláštní lékařské účely.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Léčivé přípravky</a:t>
            </a:r>
            <a:endParaRPr b="0" lang="en-US" sz="4400" spc="-1" strike="noStrike">
              <a:solidFill>
                <a:srgbClr val="ffffcc"/>
              </a:solidFill>
              <a:latin typeface="Arial"/>
            </a:endParaRPr>
          </a:p>
        </p:txBody>
      </p:sp>
      <p:sp>
        <p:nvSpPr>
          <p:cNvPr id="21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Dále se ze zdravotního pojištění hradí individuálně připravované léčivé přípravky, radiofarmaka, transfúzní přípravky, léčivé přípravky pro moderní terapii a tkáně a buňky ve výši stanovené Ústavem opatřením obecné povahy.</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Léčivé přípravky</a:t>
            </a:r>
            <a:endParaRPr b="0" lang="en-US" sz="4400" spc="-1" strike="noStrike">
              <a:solidFill>
                <a:srgbClr val="ffffcc"/>
              </a:solidFill>
              <a:latin typeface="Arial"/>
            </a:endParaRPr>
          </a:p>
        </p:txBody>
      </p:sp>
      <p:sp>
        <p:nvSpPr>
          <p:cNvPr id="21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Ze zdravotního pojištění se při poskytování lůžkové péče plně hradí léčivé přípravky a potraviny pro zvláštní lékařské účely, individuálně připravované léčivé přípravky, radiofarmaka, transfúzní přípravky, zdravotnické prostředky, léčivé přípravky pro moderní terapii a tkáně a buňky, v provedení nejméně ekonomicky náročném, v závislosti na míře a závažnosti onemocnění, a pojištěnec se na jejich úhradě nepodílí.</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Arial"/>
                <a:ea typeface="Arial"/>
              </a:rPr>
              <a:t>Osobní rozsah zdravotního pojištění</a:t>
            </a:r>
            <a:endParaRPr b="0" lang="en-US" sz="4000" spc="-1" strike="noStrike">
              <a:solidFill>
                <a:srgbClr val="ffffcc"/>
              </a:solidFill>
              <a:latin typeface="Arial"/>
            </a:endParaRPr>
          </a:p>
        </p:txBody>
      </p:sp>
      <p:sp>
        <p:nvSpPr>
          <p:cNvPr id="9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Osoby, které mají trvalý pobyt na území České republiky,</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osoby, které na území České republiky nemají trvalý pobyt, pokud jsou zaměstnanci zaměstnavatele, který má sídlo nebo trvalý pobyt na území České republiky, (dále jen "pojištěnci").</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Léčivé přípravky</a:t>
            </a:r>
            <a:endParaRPr b="0" lang="en-US" sz="4400" spc="-1" strike="noStrike">
              <a:solidFill>
                <a:srgbClr val="ffffcc"/>
              </a:solidFill>
              <a:latin typeface="Arial"/>
            </a:endParaRPr>
          </a:p>
        </p:txBody>
      </p:sp>
      <p:sp>
        <p:nvSpPr>
          <p:cNvPr id="21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6) Ze zdravotního pojištění </a:t>
            </a:r>
            <a:r>
              <a:rPr b="1" lang="cs-CZ" sz="2400" spc="-1" strike="noStrike" u="sng">
                <a:solidFill>
                  <a:srgbClr val="ffffff"/>
                </a:solidFill>
                <a:uFillTx/>
                <a:latin typeface="Arial"/>
                <a:ea typeface="Arial"/>
              </a:rPr>
              <a:t>se nehradí</a:t>
            </a:r>
            <a:r>
              <a:rPr b="0" lang="cs-CZ" sz="2400" spc="-1" strike="noStrike">
                <a:solidFill>
                  <a:srgbClr val="ffffff"/>
                </a:solidFill>
                <a:latin typeface="Arial"/>
                <a:ea typeface="Arial"/>
              </a:rPr>
              <a:t> léčivé přípravky a potraviny pro zvláštní lékařské účely uvedené v odstavci 5 větě první, pokud Ústav rozhodnutím úhradu nepřiznal. Ústav nepřizná úhradu, jde-li o léčivé přípravky a potraviny pro zvláštní lékařské účely</a:t>
            </a:r>
            <a:endParaRPr b="0" lang="en-US" sz="2400" spc="-1" strike="noStrike">
              <a:solidFill>
                <a:srgbClr val="ffffff"/>
              </a:solidFill>
              <a:latin typeface="Arial"/>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 </a:t>
            </a:r>
            <a:r>
              <a:rPr b="0" lang="cs-CZ" sz="2400" spc="-1" strike="noStrike">
                <a:solidFill>
                  <a:srgbClr val="ffffff"/>
                </a:solidFill>
                <a:latin typeface="Arial"/>
                <a:ea typeface="Arial"/>
              </a:rPr>
              <a:t>a) podpůrné a doplňkové,</a:t>
            </a:r>
            <a:endParaRPr b="0" lang="en-US" sz="2400" spc="-1" strike="noStrike">
              <a:solidFill>
                <a:srgbClr val="ffffff"/>
              </a:solidFill>
              <a:latin typeface="Arial"/>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 </a:t>
            </a:r>
            <a:r>
              <a:rPr b="0" lang="cs-CZ" sz="2400" spc="-1" strike="noStrike">
                <a:solidFill>
                  <a:srgbClr val="ffffff"/>
                </a:solidFill>
                <a:latin typeface="Arial"/>
                <a:ea typeface="Arial"/>
              </a:rPr>
              <a:t>b) jejichž používání je z odborného hlediska nevhodné,</a:t>
            </a:r>
            <a:endParaRPr b="0" lang="en-US" sz="2400" spc="-1" strike="noStrike">
              <a:solidFill>
                <a:srgbClr val="ffffff"/>
              </a:solidFill>
              <a:latin typeface="Arial"/>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 </a:t>
            </a:r>
            <a:r>
              <a:rPr b="0" lang="cs-CZ" sz="2400" spc="-1" strike="noStrike">
                <a:solidFill>
                  <a:srgbClr val="ffffff"/>
                </a:solidFill>
                <a:latin typeface="Arial"/>
                <a:ea typeface="Arial"/>
              </a:rPr>
              <a:t>c) nemají dostatečné důkazy o terapeutické účinnosti, </a:t>
            </a:r>
            <a:endParaRPr b="0" lang="en-US" sz="2400" spc="-1" strike="noStrike">
              <a:solidFill>
                <a:srgbClr val="ffffff"/>
              </a:solidFill>
              <a:latin typeface="Arial"/>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 </a:t>
            </a:r>
            <a:r>
              <a:rPr b="0" lang="cs-CZ" sz="2400" spc="-1" strike="noStrike">
                <a:solidFill>
                  <a:srgbClr val="ffffff"/>
                </a:solidFill>
                <a:latin typeface="Arial"/>
                <a:ea typeface="Arial"/>
              </a:rPr>
              <a:t>d) nesplňují podmínky účelné terapeutické intervence, nebo</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Arial"/>
                <a:ea typeface="Arial"/>
              </a:rPr>
              <a:t>Ze zdravotního pojištění </a:t>
            </a:r>
            <a:r>
              <a:rPr b="1" lang="cs-CZ" sz="4000" spc="-1" strike="noStrike" u="sng">
                <a:solidFill>
                  <a:srgbClr val="ffffcc"/>
                </a:solidFill>
                <a:uFillTx/>
                <a:latin typeface="Arial"/>
                <a:ea typeface="Arial"/>
              </a:rPr>
              <a:t>se nehradí</a:t>
            </a:r>
            <a:r>
              <a:rPr b="0" lang="cs-CZ" sz="4000" spc="-1" strike="noStrike">
                <a:solidFill>
                  <a:srgbClr val="ffffcc"/>
                </a:solidFill>
                <a:latin typeface="Arial"/>
                <a:ea typeface="Arial"/>
              </a:rPr>
              <a:t> léčivé přípravky</a:t>
            </a:r>
            <a:endParaRPr b="0" lang="en-US" sz="4000" spc="-1" strike="noStrike">
              <a:solidFill>
                <a:srgbClr val="ffffcc"/>
              </a:solidFill>
              <a:latin typeface="Arial"/>
            </a:endParaRPr>
          </a:p>
        </p:txBody>
      </p:sp>
      <p:sp>
        <p:nvSpPr>
          <p:cNvPr id="21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e) které jsou prvním podobným přípravkem v referenční skupině, který byl podle zákona o léčivech registrován jako biologický léčivý přípravek nebo generikum, a držitel registrace se písemně spolu s žádostí o stanovení výše a podmínek úhrady nezavázal dodávat léčivý přípravek nebo potravinu pro zvláštní lékařské účely na český trh po dobu 12 měsíců ode dne účinnosti stanovené výše a podmínek úhrady,</a:t>
            </a: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f) které mohou být vydávány i bez lékařského předpisu s výjimkou potravin pro zvláštní lékařské účely a takových léčivých přípravků, u kterých v průběhu řízení o stanovení výše a podmínek úhrady s přiznáním úhrady vyjádří na základě veřejného zájmu souhlas všechny zdravotní pojišťovny.</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Zdravotnické prostředky</a:t>
            </a:r>
            <a:endParaRPr b="0" lang="en-US" sz="4400" spc="-1" strike="noStrike">
              <a:solidFill>
                <a:srgbClr val="ffffcc"/>
              </a:solidFill>
              <a:latin typeface="Arial"/>
            </a:endParaRPr>
          </a:p>
        </p:txBody>
      </p:sp>
      <p:sp>
        <p:nvSpPr>
          <p:cNvPr id="22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Zdravotnické prostředky uvedené v oddílu B přílohy č. 3  zákona se ze zdravotního pojištění nehradí. Zdravotnické prostředky uvedené v oddílu C přílohy č. 3  zákona se ze zdravotního pojištění hradí ve výši a za podmínek stanovených v této příloze.</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Zdravotnické prostředky</a:t>
            </a:r>
            <a:endParaRPr b="0" lang="en-US" sz="4400" spc="-1" strike="noStrike">
              <a:solidFill>
                <a:srgbClr val="ffffcc"/>
              </a:solidFill>
              <a:latin typeface="Arial"/>
            </a:endParaRPr>
          </a:p>
        </p:txBody>
      </p:sp>
      <p:sp>
        <p:nvSpPr>
          <p:cNvPr id="22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Zdravotnické prostředky neuvedené se ze zdravotního pojištění hradí ve výši 75 % ceny zdravotnického prostředku v provedení nejméně ekonomicky náročném, v závislosti na míře a závažnosti zdravotního postižení.</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Cenu nejméně ekonomicky náročného provedení zdravotnického prostředku zjišťuje zdravotní pojišťovna průzkumem trhu. </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Ze zdravotního pojištění podle tohoto odstavce se hradí zdravotnické prostředky předepsané za účelem</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a) pokračovat v léčebném procesu,</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b) podpořit stabilizaci zdravotního stavu pojištěnce nebo jej výrazně zlepšit anebo vyloučit jeho zhoršení, nebo</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c) kompenzovat nebo zmírnit následky zdravotní vady včetně náhrady nebo modifikace anatomické struktury nebo fyziologického procesu.</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Stomatologické výrobky</a:t>
            </a:r>
            <a:endParaRPr b="0" lang="en-US" sz="4400" spc="-1" strike="noStrike">
              <a:solidFill>
                <a:srgbClr val="ffffcc"/>
              </a:solidFill>
              <a:latin typeface="Arial"/>
            </a:endParaRPr>
          </a:p>
        </p:txBody>
      </p:sp>
      <p:sp>
        <p:nvSpPr>
          <p:cNvPr id="22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Ze zdravotního pojištění se hradí stomatologické výrobky v rozsahu a za podmínek uvedených v příloze č. 4 tohoto zákona.</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Nehradí se</a:t>
            </a:r>
            <a:endParaRPr b="0" lang="en-US" sz="4400" spc="-1" strike="noStrike">
              <a:solidFill>
                <a:srgbClr val="ffffcc"/>
              </a:solidFill>
              <a:latin typeface="Arial"/>
            </a:endParaRPr>
          </a:p>
        </p:txBody>
      </p:sp>
      <p:sp>
        <p:nvSpPr>
          <p:cNvPr id="22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u="sng">
                <a:solidFill>
                  <a:srgbClr val="ffffff"/>
                </a:solidFill>
                <a:uFillTx/>
                <a:latin typeface="Arial"/>
                <a:ea typeface="Arial"/>
              </a:rPr>
              <a:t>Ze zdravotního pojištění se nehradí </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Arial"/>
                <a:ea typeface="Arial"/>
              </a:rPr>
              <a:t>vyšetření, prohlídky, léčivé přípravky, potraviny pro zvláštní lékařské účely a zdravotnické prostředky a jiné výkony provedené v osobním zájmu a na žádost fyzických osob nebo v zájmu a na žádost právnických osob, jejichž cílem není zachovat nebo zlepšit zdravotní stav pojištěnce. </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Arial"/>
                <a:ea typeface="Arial"/>
              </a:rPr>
              <a:t>Hrazené služby dále nezahrnují vyšetření, prohlídky, léčivé přípravky, potraviny pro zvláštní lékařské účely a zdravotnické prostředky a jiné zdravotní výkony provedené na dožádání soudu, státního zastupitelství, orgánů státní správy a orgánů Policie České republiky. </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Arial"/>
                <a:ea typeface="Arial"/>
              </a:rPr>
              <a:t>Úhradu zdravotních služeb podle předchozí věty poskytne zdravotnickému zařízení orgán, pro který se zdravotní služby provádějí, ve výši stanovené seznamem zdravotních výkonů s bodovými hodnotami v souladu s rozhodnutím Ministerstva zdravotnictví; jde-li o úhradu na dožádání orgánů Policie České republiky, zašle poskytovatel vyúčtování Ministerstvu vnitra, a to nejpozději do 15. dne kalendářního měsíce následujícího po kalendářním měsíci, v němž byly zdravotní služby poskytnut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4400" spc="-1" strike="noStrike">
              <a:solidFill>
                <a:srgbClr val="ffffcc"/>
              </a:solidFill>
              <a:latin typeface="Tahoma"/>
              <a:ea typeface="Arial"/>
            </a:endParaRPr>
          </a:p>
        </p:txBody>
      </p:sp>
      <p:sp>
        <p:nvSpPr>
          <p:cNvPr id="22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Zdravotní služby poskytované v dětských domovech pro děti do 3 let věku.</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Z rozpočtu zřizovatele se hradí též zdravotnická záchranná služba</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4400" spc="-1" strike="noStrike">
              <a:solidFill>
                <a:srgbClr val="ffffcc"/>
              </a:solidFill>
              <a:latin typeface="Tahoma"/>
              <a:ea typeface="Arial"/>
            </a:endParaRPr>
          </a:p>
        </p:txBody>
      </p:sp>
      <p:sp>
        <p:nvSpPr>
          <p:cNvPr id="23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Příslušná zdravotní pojišťovna hradí ve výjimečných případech zdravotní služby jinak zdravotní pojišťovnou nehrazené, je-li poskytnutí takových zdravotních služeb jedinou možností z hlediska zdravotního stavu pojištěnce.</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S výjimkou případů, kdy hrozí nebezpečí z prodlení, je poskytování zdravotních služeb podle předchozího odstavce vázáno na předchozí souhlas revizního lékaře.</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Regulační poplatky</a:t>
            </a:r>
            <a:endParaRPr b="0" lang="en-US" sz="4400" spc="-1" strike="noStrike">
              <a:solidFill>
                <a:srgbClr val="ffffcc"/>
              </a:solidFill>
              <a:latin typeface="Arial"/>
            </a:endParaRPr>
          </a:p>
        </p:txBody>
      </p:sp>
      <p:sp>
        <p:nvSpPr>
          <p:cNvPr id="23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u="sng">
                <a:solidFill>
                  <a:srgbClr val="ffffff"/>
                </a:solidFill>
                <a:uFillTx/>
                <a:latin typeface="Arial"/>
                <a:ea typeface="Arial"/>
              </a:rPr>
              <a:t>30 Kč za</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1. návštěvu, při které bylo provedeno klinické vyšetření 27a) (dále jen "návštěva") u lékaře poskytovatele v oboru všeobecné praktické lékařství, praktické lékařství pro děti a dorost, gynekologie a porodnictví, nebo za návštěvu, při které bylo provedeno vyšetření u lékaře poskytovatele v oboru zubní lékařství,</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2. návštěvu u lékaře poskytovatele specializované ambulantní péče,</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3. návštěvní službu poskytnutou lékařem poskytovatele v oboru všeobecné praktické lékařství a praktické lékařství pro děti a dorost,</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b) 30 Kč za návštěvu u klinického psychologa,</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c) 30 Kč za návštěvu u klinického logopeda,</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d) 30 Kč za recept, na jehož základě došlo k výdeji prvního z balení předepsaných hrazených léčivých přípravků nebo potravin pro zvláštní lékařské účely, bez ohledu na počet hrazených léčivých přípravků nebo potravin pro zvláštní lékařské účely a počet předepsaných balení,</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Regulační poplatky</a:t>
            </a:r>
            <a:endParaRPr b="0" lang="en-US" sz="4400" spc="-1" strike="noStrike">
              <a:solidFill>
                <a:srgbClr val="ffffcc"/>
              </a:solidFill>
              <a:latin typeface="Arial"/>
            </a:endParaRPr>
          </a:p>
        </p:txBody>
      </p:sp>
      <p:sp>
        <p:nvSpPr>
          <p:cNvPr id="23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e) 90 Kč za využití lékařské pohotovostní služby nebo pohotovostní služby v oboru zubní lékařství (dále jen "pohotovostní služba") v pracovní dny v době od 17 do 7 hodin a v sobotu, neděli a ve svátek, není-li tato doba pravidelnou ordinační dobou poskytovatele zajišťujícího pohotovostní službu; regulační poplatek za využití pohotovostní služby se neplatí, pokud dojde k následnému přijetí pojištěnce do lůžkové péče.</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Vznik zdravotního pojištění</a:t>
            </a:r>
            <a:endParaRPr b="0" lang="en-US" sz="4400" spc="-1" strike="noStrike">
              <a:solidFill>
                <a:srgbClr val="ffffcc"/>
              </a:solidFill>
              <a:latin typeface="Arial"/>
            </a:endParaRPr>
          </a:p>
        </p:txBody>
      </p:sp>
      <p:sp>
        <p:nvSpPr>
          <p:cNvPr id="10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Narození, jde-li o osobu s trvalým pobytem na území České republiky,</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osoba bez trvalého pobytu na území České republiky stala zaměstnancem,</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získání trvalého pobytu na území České republiky.</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zor změna</a:t>
            </a:r>
            <a:endParaRPr b="0" lang="en-US" sz="4400" spc="-1" strike="noStrike">
              <a:solidFill>
                <a:srgbClr val="ffffcc"/>
              </a:solidFill>
              <a:latin typeface="Arial"/>
            </a:endParaRPr>
          </a:p>
        </p:txBody>
      </p:sp>
      <p:sp>
        <p:nvSpPr>
          <p:cNvPr id="23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Od 1.1.2014  </a:t>
            </a:r>
            <a:endParaRPr b="0" lang="en-US" sz="3200" spc="-1" strike="noStrike">
              <a:solidFill>
                <a:srgbClr val="ffffff"/>
              </a:solidFill>
              <a:latin typeface="Arial"/>
            </a:endParaRPr>
          </a:p>
          <a:p>
            <a:pPr lvl="3" marL="16002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3" marL="1600200" indent="0">
              <a:lnSpc>
                <a:spcPct val="100000"/>
              </a:lnSpc>
              <a:spcBef>
                <a:spcPts val="24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cs-CZ" sz="9600" spc="-1" strike="noStrike">
                <a:solidFill>
                  <a:srgbClr val="ffffff"/>
                </a:solidFill>
                <a:latin typeface="Times New Roman"/>
                <a:ea typeface="Arial"/>
              </a:rPr>
              <a:t>	</a:t>
            </a:r>
            <a:r>
              <a:rPr b="0" lang="cs-CZ" sz="9600" spc="-1" strike="noStrike">
                <a:solidFill>
                  <a:srgbClr val="ffffff"/>
                </a:solidFill>
                <a:latin typeface="Times New Roman"/>
                <a:ea typeface="Arial"/>
              </a:rPr>
              <a:t>	</a:t>
            </a:r>
            <a:r>
              <a:rPr b="0" lang="cs-CZ" sz="9600" spc="-1" strike="noStrike">
                <a:solidFill>
                  <a:srgbClr val="ffffff"/>
                </a:solidFill>
                <a:latin typeface="Times New Roman"/>
                <a:ea typeface="Arial"/>
              </a:rPr>
              <a:t>	</a:t>
            </a:r>
            <a:endParaRPr b="0" lang="en-US" sz="9600" spc="-1" strike="noStrike">
              <a:solidFill>
                <a:srgbClr val="ffffff"/>
              </a:solidFill>
              <a:latin typeface="Arial"/>
            </a:endParaRPr>
          </a:p>
        </p:txBody>
      </p:sp>
      <p:pic>
        <p:nvPicPr>
          <p:cNvPr id="237" name="Picture 14" descr="Sto korun"/>
          <p:cNvPicPr/>
          <p:nvPr/>
        </p:nvPicPr>
        <p:blipFill>
          <a:blip r:embed="rId1"/>
          <a:stretch/>
        </p:blipFill>
        <p:spPr>
          <a:xfrm>
            <a:off x="4140360" y="2997360"/>
            <a:ext cx="1952640" cy="952200"/>
          </a:xfrm>
          <a:prstGeom prst="rect">
            <a:avLst/>
          </a:prstGeom>
          <a:ln w="0">
            <a:noFill/>
          </a:ln>
        </p:spPr>
      </p:pic>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cc"/>
                </a:solidFill>
                <a:latin typeface="Arial"/>
                <a:ea typeface="Arial"/>
              </a:rPr>
              <a:t>Regulační poplatek se nehradí</a:t>
            </a:r>
            <a:endParaRPr b="0" lang="en-US" sz="3200" spc="-1" strike="noStrike">
              <a:solidFill>
                <a:srgbClr val="ffffcc"/>
              </a:solidFill>
              <a:latin typeface="Arial"/>
            </a:endParaRPr>
          </a:p>
        </p:txBody>
      </p:sp>
      <p:sp>
        <p:nvSpPr>
          <p:cNvPr id="23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Jde-li o pojištěnce umístěné v dětských domovech 27d), ve školských zařízeních pro výkon ústavní výchovy nebo ochranné výchovy 27e) nebo umístěné k výkonu ústavní výchovy v domovech pro osoby se zdravotním postižením 27h) nebo jde-li o pojištěnce umístěné na základě rozhodnutí soudu v zařízeních pro děti vyžadující okamžitou pomoc 27i) nebo pojištěnce svěřené rozhodnutím soudu do pěstounské péče podle zákona o rodině,</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při ochranném léčení nařízeném soudem nebo při umístění pojištěnce z důvodů stanovených zvláštním zákonem 27j) bez jeho souhlasu do lůžkové péče, vysloví-li s přípustností převzetí a dalšího držení pojištěnce v ústavní péči souhlas soud 27k) nebo při výkonu zabezpečovací detence,</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při léčení infekčního onemocnění, kterému je pojištěnec povinen se podrobit, při nařízené izolaci ve zdravotnickém zařízení nebo při nařízených karanténních opatřeních k zajištění ochrany veřejného zdraví podle zvláštního právního předpisu </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Regulační poplatek se nehradí</a:t>
            </a:r>
            <a:endParaRPr b="0" lang="en-US" sz="4400" spc="-1" strike="noStrike">
              <a:solidFill>
                <a:srgbClr val="ffffcc"/>
              </a:solidFill>
              <a:latin typeface="Arial"/>
            </a:endParaRPr>
          </a:p>
        </p:txBody>
      </p:sp>
      <p:sp>
        <p:nvSpPr>
          <p:cNvPr id="24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jde-li o pojištěnce, který se prokáže rozhodnutím, oznámením nebo potvrzením vydaným orgánem pomoci v hmotné nouzi o dávcene starším 30 dnů,</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při posuzování zdravotní způsobilosti pojištěnce k odběru tkání a orgánů, při odběru tkání a orgánů a při dispenzární péči o pojištěnce po odběru tkání a orgánů podle transplantačního zákona,</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jde-li o pojištěnce, kterému jsou podle jiného právního předpisu poskytovány pobytové sociální služby v domovech pro osoby se zdravotním postižením, domovech pro seniory, domovech se zvláštním režimem nebo ve zdravotnických zařízeních lůžkové péče,</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pokud u tohoto pojištěnce po úhradě za ubytování a stravu činí stanovený zůstatek ve výši alespoň 15 % jeho příjmu méně než 800 Kč nebo pokud nemá žádný příjem; </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tuto skutečnost prokazuje pojištěnec potvrzením ne starším než 30 dnů, které je na jeho žádost povinen vydat poskytovatel sociálních služeb.</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cc"/>
                </a:solidFill>
                <a:latin typeface="Arial"/>
                <a:ea typeface="Arial"/>
              </a:rPr>
              <a:t>Regulační poplatek se nehradí</a:t>
            </a:r>
            <a:endParaRPr b="0" lang="en-US" sz="3200" spc="-1" strike="noStrike">
              <a:solidFill>
                <a:srgbClr val="ffffcc"/>
              </a:solidFill>
              <a:latin typeface="Arial"/>
            </a:endParaRPr>
          </a:p>
        </p:txBody>
      </p:sp>
      <p:sp>
        <p:nvSpPr>
          <p:cNvPr id="24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a) preventivní prohlídka</a:t>
            </a: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b) dispenzární péče </a:t>
            </a: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c) hemodialýza</a:t>
            </a: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d) laboratorní nebo diagnostické vyšetření vyžádané ošetřujícím lékařem, pokud není zároveň provedeno klinické vyšetření</a:t>
            </a: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e) vyšetření lékařem poskytovatele transfúzní služby při odběru krve, plazmy nebo kostní dřeně</a:t>
            </a: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f) děti do dovršení 18 let věku včetně tohoto dn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Regulační poplatek</a:t>
            </a:r>
            <a:endParaRPr b="0" lang="en-US" sz="4400" spc="-1" strike="noStrike">
              <a:solidFill>
                <a:srgbClr val="ffffcc"/>
              </a:solidFill>
              <a:latin typeface="Arial"/>
            </a:endParaRPr>
          </a:p>
        </p:txBody>
      </p:sp>
      <p:sp>
        <p:nvSpPr>
          <p:cNvPr id="24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Regulační poplatek je příjmem poskytovatele, který regulační poplatek vybral. </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Poskytovatel je povinen použít vybrané regulační poplatky na úhradu nákladů spojených s provozem zdravotnického zařízení a jeho modernizací.</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Regulační poplatek</a:t>
            </a:r>
            <a:endParaRPr b="0" lang="en-US" sz="4400" spc="-1" strike="noStrike">
              <a:solidFill>
                <a:srgbClr val="ffffcc"/>
              </a:solidFill>
              <a:latin typeface="Arial"/>
            </a:endParaRPr>
          </a:p>
        </p:txBody>
      </p:sp>
      <p:sp>
        <p:nvSpPr>
          <p:cNvPr id="24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Regulační poplatek se platí poskytovateli v souvislosti s poskytováním hrazených služeb. </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Poskytovatel je povinen vystavit pojištěnci nebo jeho zákonnému zástupci na jeho žádost doklad o zaplacení regulačního poplatku, s uvedením čísla pojištěnce, výše regulačního poplatku, otiskem razítka poskytovatele a podpisem osoby, která regulační poplatek přijala, a jde-li o poskytovatele lékárenské péče, též s uvedením názvu léčivého přípravku nebo potraviny pro zvláštní lékařské účely a výše doplatku, který se započítává do limitu.</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Povinnosti poskytovatele</a:t>
            </a:r>
            <a:endParaRPr b="0" lang="en-US" sz="4400" spc="-1" strike="noStrike">
              <a:solidFill>
                <a:srgbClr val="ffffcc"/>
              </a:solidFill>
              <a:latin typeface="Arial"/>
            </a:endParaRPr>
          </a:p>
        </p:txBody>
      </p:sp>
      <p:sp>
        <p:nvSpPr>
          <p:cNvPr id="24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Poskytovatel je povinen sdělovat zdravotním pojišťovnám v rámci vyúčtování poskytnutých hrazených služeb za příslušný kalendářní měsíc, nebo za příslušné kalendářní čtvrtletí, informace o regulačních poplatcích vybraných podle odstavce 1, s uvedením čísla pojištěnce, ke kterému se regulační poplatek váže, výše zaplaceného regulačního poplatku a dne, ke kterému se regulační poplatek váž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Povinnosti poskytovatele</a:t>
            </a:r>
            <a:endParaRPr b="0" lang="en-US" sz="4400" spc="-1" strike="noStrike">
              <a:solidFill>
                <a:srgbClr val="ffffcc"/>
              </a:solidFill>
              <a:latin typeface="Arial"/>
            </a:endParaRPr>
          </a:p>
        </p:txBody>
      </p:sp>
      <p:sp>
        <p:nvSpPr>
          <p:cNvPr id="25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oskytovatel je povinen regulační poplatek uvedený v odstavci 1 od pojištěnce nebo jeho zákonného zástupce vybrat.</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ři zjištění opakovaného a soustavného porušování této povinnosti je zdravotní pojišťovna oprávněna tomuto poskytovateli uložit pokutu až do výše 1 000 000 Kč. Pokutu je možno uložit i opakovaně.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ři ukládání pokuty zdravotní pojišťovna přihlíží k závažnosti porušení, k míře zavinění a k okolnostem, za nichž k porušení povinnosti došlo. Pokutu lze uložit do 1 roku ode dne, kdy zdravotní pojišťovna zjistila porušení nebo nesplnění povinnosti, nejdéle však do 3 let ode dne, kdy k porušení nebo nesplnění povinnosti došlo. Pokuta je příjmem zdravotní pojišťovny, která ji uložila. +)</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Povinnosti poskytovatele</a:t>
            </a:r>
            <a:endParaRPr b="0" lang="en-US" sz="4400" spc="-1" strike="noStrike">
              <a:solidFill>
                <a:srgbClr val="ffffcc"/>
              </a:solidFill>
              <a:latin typeface="Arial"/>
            </a:endParaRPr>
          </a:p>
        </p:txBody>
      </p:sp>
      <p:sp>
        <p:nvSpPr>
          <p:cNvPr id="25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Poskytovatel nesmí vybírat regulační poplatky v souvislosti s poskytováním hrazených služeb, které podle tohoto zákona regulačním poplatkům nepodléhají. </a:t>
            </a: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Při zjištění opakovaného porušování této povinnosti je zdravotní pojišťovna oprávněna tomuto poskytovateli uložit pokutu až do výše 50 000 Kč. </a:t>
            </a: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Opakované udělení pokuty poskytovateli je důvodem pro ukončení smlouvy o poskytování a úhradě hrazených služeb bez výpovědní lhůt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Arial"/>
                <a:ea typeface="Arial"/>
              </a:rPr>
              <a:t>Limity regulačních poplatků a doplatků na léčiva nebo potraviny pro zvláštní lékařské účely</a:t>
            </a:r>
            <a:endParaRPr b="0" lang="en-US" sz="2800" spc="-1" strike="noStrike">
              <a:solidFill>
                <a:srgbClr val="ffffcc"/>
              </a:solidFill>
              <a:latin typeface="Arial"/>
            </a:endParaRPr>
          </a:p>
        </p:txBody>
      </p:sp>
      <p:sp>
        <p:nvSpPr>
          <p:cNvPr id="25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Pokud celková částka uhrazená pojištěncem nebo za něj jeho zákonným zástupcem za regulační poplatky podle § 16a odst. 1 písm. a) až d) a za doplatky za předepsané ze zdravotního pojištění částečně hrazené léčivé přípravky nebo potraviny pro zvláštní lékařské účely, vydané na území České republiky, překročí v kalendářním roce limit ve výši 5 000 Kč, u dětí mladších 18 let, včetně kalendářního roku, ve kterém dovršily 18. rok věku, a u pojištěnců starších 65 let, včetně kalendářního roku, ve kterém dovršili 65. rok věku, ve výši 2 500 Kč, je zdravotní pojišťovna povinna uhradit pojištěnci nebo jeho zákonnému zástupci částku, o kterou je tento limit překročen.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Zánik zdravotního pojištění</a:t>
            </a:r>
            <a:endParaRPr b="0" lang="en-US" sz="4400" spc="-1" strike="noStrike">
              <a:solidFill>
                <a:srgbClr val="ffffcc"/>
              </a:solidFill>
              <a:latin typeface="Arial"/>
            </a:endParaRPr>
          </a:p>
        </p:txBody>
      </p:sp>
      <p:sp>
        <p:nvSpPr>
          <p:cNvPr id="10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Úmrtí pojištěnce nebo jeho prohlášení za mrtvého,</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osoba bez trvalého pobytu na území České republiky přestala být zaměstnancem,</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ukončení trvalého pobytu na území České republiky.</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Arial"/>
                <a:ea typeface="Arial"/>
              </a:rPr>
              <a:t>Limity regulačních poplatků a doplatků na léčiva nebo potraviny pro zvláštní lékařské účely</a:t>
            </a:r>
            <a:endParaRPr b="0" lang="en-US" sz="2800" spc="-1" strike="noStrike">
              <a:solidFill>
                <a:srgbClr val="ffffcc"/>
              </a:solidFill>
              <a:latin typeface="Arial"/>
            </a:endParaRPr>
          </a:p>
        </p:txBody>
      </p:sp>
      <p:sp>
        <p:nvSpPr>
          <p:cNvPr id="25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Do limitu podle věty první se započítávají doplatky na částečně hrazené léčivé přípravky nebo potraviny pro zvláštní lékařské účely s obsahem stejné léčivé látky a stejné cesty podání pouze ve výši vypočtené podle doplatku na léčivý přípravek nebo potravinu pro zvláštní lékařské účely, jehož doplatek na množstevní jednotku této léčivé látky je nejnižší a u kterého nebylo zjištěno přerušení nebo ukončení dodávání.</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Arial"/>
                <a:ea typeface="Arial"/>
              </a:rPr>
              <a:t>Limity regulačních poplatků a doplatků na léčiva nebo potraviny pro zvláštní lékařské účely</a:t>
            </a:r>
            <a:endParaRPr b="0" lang="en-US" sz="2800" spc="-1" strike="noStrike">
              <a:solidFill>
                <a:srgbClr val="ffffcc"/>
              </a:solidFill>
              <a:latin typeface="Arial"/>
            </a:endParaRPr>
          </a:p>
        </p:txBody>
      </p:sp>
      <p:sp>
        <p:nvSpPr>
          <p:cNvPr id="25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To neplatí, pokud předepisující lékař na receptu vyznačil, že předepsaný léčivý přípravek nelze nahradit; v takovém případě se do limitu započítává doplatek v plné výši. </a:t>
            </a: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Do limitu </a:t>
            </a:r>
            <a:r>
              <a:rPr b="0" lang="cs-CZ" sz="2400" spc="-1" strike="noStrike" u="sng">
                <a:solidFill>
                  <a:srgbClr val="ffffff"/>
                </a:solidFill>
                <a:uFillTx/>
                <a:latin typeface="Arial"/>
                <a:ea typeface="Arial"/>
              </a:rPr>
              <a:t>se nezapočítávají</a:t>
            </a:r>
            <a:r>
              <a:rPr b="0" lang="cs-CZ" sz="2400" spc="-1" strike="noStrike">
                <a:solidFill>
                  <a:srgbClr val="ffffff"/>
                </a:solidFill>
                <a:latin typeface="Arial"/>
                <a:ea typeface="Arial"/>
              </a:rPr>
              <a:t> doplatky na částečně hrazené léčivé přípravky nebo potraviny pro zvláštní lékařské účely obsahující léčivé látky určené k podpůrné nebo doplňkové léčbě; to neplatí, jde-li o léčivé přípravky a potraviny pro zvláštní lékařské účely předepsané na recept pojištěncům starším 65 let, včetně dne, ve kterém dovršili 65. rok věku. </a:t>
            </a: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Seznam léčivých látek určených k podpůrné nebo doplňkové léčbě stanoví Ministerstvo zdravotnictví vyhláškou.</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Povinnost zdravotní pojišťovny</a:t>
            </a:r>
            <a:endParaRPr b="0" lang="en-US" sz="4400" spc="-1" strike="noStrike">
              <a:solidFill>
                <a:srgbClr val="ffffcc"/>
              </a:solidFill>
              <a:latin typeface="Arial"/>
            </a:endParaRPr>
          </a:p>
        </p:txBody>
      </p:sp>
      <p:sp>
        <p:nvSpPr>
          <p:cNvPr id="26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Zdravotní pojišťovna je povinna uhradit pojištěnci nebo jeho zákonnému zástupci částku, o kterou překračuje součet regulačních poplatků a doplatků započitatelných do limitu, oznámených poskytovateli zdravotní pojišťovně a to do 60 kalendářních dnů po uplynutí kalendářního čtvrtletí, ve kterém byl limit překročen. </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V kalendářních čtvrtletích následujících po kalendářním čtvrtletí, ve kterém byl limit již překročen, je zdravotní pojišťovna povinna uhradit pojištěnci nebo jeho zákonnému zástupci částku ve výši součtu regulačních poplatků a doplatků započitatelných do limitu za příslušné kalendářní čtvrtletí, oznámených poskytovateli zdravotní pojišťovně, a to do 60 kalendářních dnů po uplynutí každého takového kalendářního čtvrtletí. </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Částku podle věty první nebo druhé, která v kalendářním čtvrtletí nepřesáhla 50 Kč, uhradí zdravotní pojišťovna do 60 kalendářních dnů po uplynutí posledního kalendářního čtvrtletí v kalendářním roc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Změna zdravotní pojišťovny</a:t>
            </a:r>
            <a:endParaRPr b="0" lang="en-US" sz="4400" spc="-1" strike="noStrike">
              <a:solidFill>
                <a:srgbClr val="ffffcc"/>
              </a:solidFill>
              <a:latin typeface="Arial"/>
            </a:endParaRPr>
          </a:p>
        </p:txBody>
      </p:sp>
      <p:sp>
        <p:nvSpPr>
          <p:cNvPr id="26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ři změně zdravotní pojišťovny v průběhu kalendářního roku je zdravotní pojišťovna, u které byl pojištěnec pojištěn, povinna oznámit nové zdravotní pojišťovně pojištěnce skutečnosti rozhodné pro výpočet částky.</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Částku uhradí pojištěnci nebo jeho zákonnému zástupci zdravotní pojišťovna, u které je pojištěnec pojištěn k poslednímu dni kalendářního roku, ve kterém byl limit překročen. </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Zdravotní pojišťovna uvedená ve větě druhé oznámí zdravotním pojišťovnám, u kterých byl pojištěnec v kalendářním roce pojištěn, celkovou částku, o kterou byl limit tohoto pojištěnce překročen, jakož i poměrnou částku vypočtenou podle doby pojištění připadající na pojišťovnu, které je částka oznamována. </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Zdravotní pojišťovny jsou povinny částku na ně připadající uhradit zdravotní pojišťovně uvedené ve větě druhé do 30 dnů ode dne doručení oznámení o výši této částky.</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POZOR ZMĚNA</a:t>
            </a:r>
            <a:endParaRPr b="0" lang="en-US" sz="4400" spc="-1" strike="noStrike">
              <a:solidFill>
                <a:srgbClr val="ffffcc"/>
              </a:solidFill>
              <a:latin typeface="Arial"/>
            </a:endParaRPr>
          </a:p>
        </p:txBody>
      </p:sp>
      <p:sp>
        <p:nvSpPr>
          <p:cNvPr id="26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ea typeface="Arial"/>
              </a:rPr>
              <a:t>1.1.2015</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ea typeface="Arial"/>
              </a:rPr>
              <a:t>  </a:t>
            </a:r>
            <a:r>
              <a:rPr b="0" lang="cs-CZ" sz="3200" spc="-1" strike="noStrike">
                <a:solidFill>
                  <a:srgbClr val="ffffff"/>
                </a:solidFill>
                <a:latin typeface="Tahoma"/>
                <a:ea typeface="Arial"/>
              </a:rPr>
              <a:t>	</a:t>
            </a:r>
            <a:r>
              <a:rPr b="0" lang="cs-CZ" sz="3200" spc="-1" strike="noStrike">
                <a:solidFill>
                  <a:srgbClr val="ffffff"/>
                </a:solidFill>
                <a:latin typeface="Tahoma"/>
                <a:ea typeface="Arial"/>
              </a:rPr>
              <a:t>	</a:t>
            </a:r>
            <a:r>
              <a:rPr b="0" lang="cs-CZ" sz="3200" spc="-1" strike="noStrike">
                <a:solidFill>
                  <a:srgbClr val="ffffff"/>
                </a:solidFill>
                <a:latin typeface="Tahoma"/>
                <a:ea typeface="Arial"/>
              </a:rPr>
              <a:t>	</a:t>
            </a:r>
            <a:r>
              <a:rPr b="0" lang="cs-CZ" sz="3200" spc="-1" strike="noStrike">
                <a:solidFill>
                  <a:srgbClr val="ffffff"/>
                </a:solidFill>
                <a:latin typeface="Tahoma"/>
                <a:ea typeface="Arial"/>
              </a:rPr>
              <a:t>	</a:t>
            </a:r>
            <a:endParaRPr b="0" lang="en-US" sz="3200" spc="-1" strike="noStrike">
              <a:solidFill>
                <a:srgbClr val="ffffff"/>
              </a:solidFill>
              <a:latin typeface="Arial"/>
            </a:endParaRPr>
          </a:p>
        </p:txBody>
      </p:sp>
      <p:pic>
        <p:nvPicPr>
          <p:cNvPr id="266" name="Picture 10" descr="Desetikoruna z roku 1993 obsahuje nestandardní znaky. ">
            <a:hlinkClick r:id="rId1"/>
          </p:cNvPr>
          <p:cNvPicPr/>
          <p:nvPr/>
        </p:nvPicPr>
        <p:blipFill>
          <a:blip r:embed="rId2"/>
          <a:stretch/>
        </p:blipFill>
        <p:spPr>
          <a:xfrm>
            <a:off x="684360" y="2421000"/>
            <a:ext cx="2047680" cy="1533600"/>
          </a:xfrm>
          <a:prstGeom prst="rect">
            <a:avLst/>
          </a:prstGeom>
          <a:ln w="0">
            <a:noFill/>
          </a:ln>
        </p:spPr>
      </p:pic>
      <p:pic>
        <p:nvPicPr>
          <p:cNvPr id="267" name="Picture 12" descr="Desetikoruna z roku 1993 obsahuje nestandardní znaky. ">
            <a:hlinkClick r:id="rId3"/>
          </p:cNvPr>
          <p:cNvPicPr/>
          <p:nvPr/>
        </p:nvPicPr>
        <p:blipFill>
          <a:blip r:embed="rId4"/>
          <a:stretch/>
        </p:blipFill>
        <p:spPr>
          <a:xfrm>
            <a:off x="3419640" y="2421000"/>
            <a:ext cx="2047680" cy="1533600"/>
          </a:xfrm>
          <a:prstGeom prst="rect">
            <a:avLst/>
          </a:prstGeom>
          <a:ln w="0">
            <a:noFill/>
          </a:ln>
        </p:spPr>
      </p:pic>
      <p:pic>
        <p:nvPicPr>
          <p:cNvPr id="268" name="Picture 14" descr="Desetikoruna z roku 1993 obsahuje nestandardní znaky. ">
            <a:hlinkClick r:id="rId5"/>
          </p:cNvPr>
          <p:cNvPicPr/>
          <p:nvPr/>
        </p:nvPicPr>
        <p:blipFill>
          <a:blip r:embed="rId6"/>
          <a:stretch/>
        </p:blipFill>
        <p:spPr>
          <a:xfrm>
            <a:off x="5796000" y="2492280"/>
            <a:ext cx="2047680" cy="1533600"/>
          </a:xfrm>
          <a:prstGeom prst="rect">
            <a:avLst/>
          </a:prstGeom>
          <a:ln w="0">
            <a:noFill/>
          </a:ln>
        </p:spPr>
      </p:pic>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Z</a:t>
            </a:r>
            <a:r>
              <a:rPr b="0" lang="en-US" sz="4400" spc="-1" strike="noStrike">
                <a:solidFill>
                  <a:srgbClr val="ffffcc"/>
                </a:solidFill>
                <a:latin typeface="Tahoma"/>
                <a:ea typeface="Tahoma"/>
              </a:rPr>
              <a:t>Ů</a:t>
            </a:r>
            <a:r>
              <a:rPr b="0" lang="cs-CZ" sz="4400" spc="-1" strike="noStrike">
                <a:solidFill>
                  <a:srgbClr val="ffffcc"/>
                </a:solidFill>
                <a:latin typeface="Tahoma"/>
                <a:ea typeface="Tahoma"/>
              </a:rPr>
              <a:t>STÁVÁ</a:t>
            </a:r>
            <a:endParaRPr b="0" lang="en-US" sz="4400" spc="-1" strike="noStrike">
              <a:solidFill>
                <a:srgbClr val="ffffcc"/>
              </a:solidFill>
              <a:latin typeface="Arial"/>
            </a:endParaRPr>
          </a:p>
        </p:txBody>
      </p:sp>
      <p:sp>
        <p:nvSpPr>
          <p:cNvPr id="27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ea typeface="Arial"/>
              </a:rPr>
              <a:t>Od 1.1.2015</a:t>
            </a:r>
            <a:endParaRPr b="0" lang="en-US" sz="3200" spc="-1" strike="noStrike">
              <a:solidFill>
                <a:srgbClr val="ffffff"/>
              </a:solidFill>
              <a:latin typeface="Arial"/>
            </a:endParaRPr>
          </a:p>
        </p:txBody>
      </p:sp>
      <p:pic>
        <p:nvPicPr>
          <p:cNvPr id="271" name="Picture 5" descr="mince 50 Kč">
            <a:hlinkClick r:id="rId1"/>
          </p:cNvPr>
          <p:cNvPicPr/>
          <p:nvPr/>
        </p:nvPicPr>
        <p:blipFill>
          <a:blip r:embed="rId2"/>
          <a:stretch/>
        </p:blipFill>
        <p:spPr>
          <a:xfrm>
            <a:off x="755640" y="2781360"/>
            <a:ext cx="2095560" cy="2095560"/>
          </a:xfrm>
          <a:prstGeom prst="rect">
            <a:avLst/>
          </a:prstGeom>
          <a:ln w="0">
            <a:noFill/>
          </a:ln>
        </p:spPr>
      </p:pic>
      <p:pic>
        <p:nvPicPr>
          <p:cNvPr id="272" name="Picture 6" descr="20_2004_3s"/>
          <p:cNvPicPr/>
          <p:nvPr/>
        </p:nvPicPr>
        <p:blipFill>
          <a:blip r:embed="rId3"/>
          <a:stretch/>
        </p:blipFill>
        <p:spPr>
          <a:xfrm>
            <a:off x="3708360" y="3141720"/>
            <a:ext cx="1440000" cy="1368360"/>
          </a:xfrm>
          <a:prstGeom prst="rect">
            <a:avLst/>
          </a:prstGeom>
          <a:ln w="0">
            <a:noFill/>
          </a:ln>
        </p:spPr>
      </p:pic>
      <p:pic>
        <p:nvPicPr>
          <p:cNvPr id="273" name="Picture 8" descr="20_2004_3s"/>
          <p:cNvPicPr/>
          <p:nvPr/>
        </p:nvPicPr>
        <p:blipFill>
          <a:blip r:embed="rId4"/>
          <a:stretch/>
        </p:blipFill>
        <p:spPr>
          <a:xfrm>
            <a:off x="6156360" y="3068640"/>
            <a:ext cx="1440000" cy="1368360"/>
          </a:xfrm>
          <a:prstGeom prst="rect">
            <a:avLst/>
          </a:prstGeom>
          <a:ln w="0">
            <a:noFill/>
          </a:ln>
        </p:spPr>
      </p:pic>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Smlouvy s poskytovateli</a:t>
            </a:r>
            <a:endParaRPr b="0" lang="en-US" sz="4400" spc="-1" strike="noStrike">
              <a:solidFill>
                <a:srgbClr val="ffffcc"/>
              </a:solidFill>
              <a:latin typeface="Arial"/>
            </a:endParaRPr>
          </a:p>
        </p:txBody>
      </p:sp>
      <p:sp>
        <p:nvSpPr>
          <p:cNvPr id="27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ahoma"/>
                <a:ea typeface="Arial"/>
              </a:rPr>
              <a:t> </a:t>
            </a:r>
            <a:r>
              <a:rPr b="0" lang="cs-CZ" sz="2800" spc="-1" strike="noStrike">
                <a:solidFill>
                  <a:srgbClr val="ffffff"/>
                </a:solidFill>
                <a:latin typeface="Arial"/>
                <a:ea typeface="Arial"/>
              </a:rPr>
              <a:t>Za účelem zajištění věcného plnění při poskytování hrazených služeb pojištěncům uzavírají Všeobecná zdravotní pojišťovna České republiky a ostatní zdravotní pojišťovny smlouvy s poskytovateli o poskytování a úhradě hrazených služeb. </a:t>
            </a:r>
            <a:endParaRPr b="0" lang="en-US" sz="2800" spc="-1" strike="noStrike">
              <a:solidFill>
                <a:srgbClr val="ffffff"/>
              </a:solidFill>
              <a:latin typeface="Arial"/>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Smlouvu o poskytování a úhradě hrazených služeb lze uzavřít pouze pro zdravotní služby, které je poskytovatel oprávněn poskytov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Smlouvy se nevyžadují</a:t>
            </a:r>
            <a:endParaRPr b="0" lang="en-US" sz="4400" spc="-1" strike="noStrike">
              <a:solidFill>
                <a:srgbClr val="ffffcc"/>
              </a:solidFill>
              <a:latin typeface="Arial"/>
            </a:endParaRPr>
          </a:p>
        </p:txBody>
      </p:sp>
      <p:sp>
        <p:nvSpPr>
          <p:cNvPr id="27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a) neodkladné péče pojištěnci,</a:t>
            </a: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b) zdravotních služeb pojištěncům ve výkonu vazby nebo výkonu trestu odnětí svobody nebo výkonu zabezpečovací detence poskytovatelem určeným Vězeňskou službou,</a:t>
            </a: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c) zdravotních služeb pojištěnci, který je ve výkonu ochranného léčení nařízeného soudem, jde-li o zdravotní služby poskytované v souvislosti s onemocněním, pro které je pojištěnec povinen se léčení podrobit.</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Dohodovací řízení</a:t>
            </a:r>
            <a:endParaRPr b="0" lang="en-US" sz="4400" spc="-1" strike="noStrike">
              <a:solidFill>
                <a:srgbClr val="ffffcc"/>
              </a:solidFill>
              <a:latin typeface="Arial"/>
            </a:endParaRPr>
          </a:p>
        </p:txBody>
      </p:sp>
      <p:sp>
        <p:nvSpPr>
          <p:cNvPr id="27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Hodnoty bodu, výše úhrad hrazených služeb a regulační omezení se vždy na následující kalendářní rok dohodnou v dohodovacím řízení zástupců Všeobecné zdravotní pojišťovny České republiky a ostatních zdravotních pojišťoven a příslušných profesních sdružení poskytovatelů jako zástupců smluvních poskytovatelů. </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Svolavatelem dohodovacího řízení je Ministerstvo zdravotnictví. Dojde-li k dohodě, posoudí její obsah Ministerstvo zdravotnictví z hlediska souladu s právními předpisy a veřejným zájmem. Je-li dohoda v souladu s právními předpisy a veřejným zájmem, vydá ji Ministerstvo zdravotnictví jako vyhlášku. </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Nedojde-li v dohodovacím řízení k dohodě do 120 dnů před skončením příslušného kalendářního roku nebo shledá-li Ministerstvo zdravotnictví, že tato dohoda není v souladu s právními předpisy nebo veřejným zájmem, stanoví hodnoty bodu, výši úhrad hrazených služeb a regulační omezení na následující kalendářní rok Ministerstvo zdravotnictví vyhláškou.</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	</a:t>
            </a:r>
            <a:r>
              <a:rPr b="0" lang="cs-CZ" sz="1800" spc="-1" strike="noStrike">
                <a:solidFill>
                  <a:srgbClr val="ffffff"/>
                </a:solidFill>
                <a:latin typeface="Arial"/>
                <a:ea typeface="Arial"/>
              </a:rPr>
              <a:t>Vyhláška podle věty čtvrté a páté se použije, pokud se poskytovatel a zdravotní pojišťovna za podmínky dodržení zdravotně pojistného plánu zdravotní pojišťovny nedohodnou o způsobu úhrady, výši úhrady a regulačních omezeních jina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4400" spc="-1" strike="noStrike">
              <a:solidFill>
                <a:srgbClr val="ffffcc"/>
              </a:solidFill>
              <a:latin typeface="Tahoma"/>
              <a:ea typeface="Arial"/>
            </a:endParaRPr>
          </a:p>
        </p:txBody>
      </p:sp>
      <p:sp>
        <p:nvSpPr>
          <p:cNvPr id="28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ea typeface="Arial"/>
              </a:rPr>
              <a:t> </a:t>
            </a:r>
            <a:r>
              <a:rPr b="0" lang="cs-CZ" sz="3200" spc="-1" strike="noStrike">
                <a:solidFill>
                  <a:srgbClr val="ffffff"/>
                </a:solidFill>
                <a:latin typeface="Arial"/>
                <a:ea typeface="Arial"/>
              </a:rPr>
              <a:t>Příslušná zdravotní pojišťovna hradí poskytovatelům, s výjimkou poskytovatelů lékárenské péče, léčivé přípravky paušální částkou, jejíž výše se sjedná ve smlouvě.</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9-02T10:32:53Z</dcterms:created>
  <dc:creator>owner</dc:creator>
  <dc:description/>
  <dc:language>en-US</dc:language>
  <cp:lastModifiedBy>Jana Konečná</cp:lastModifiedBy>
  <dcterms:modified xsi:type="dcterms:W3CDTF">2014-11-09T16:36:44Z</dcterms:modified>
  <cp:revision>67</cp:revision>
  <dc:subject/>
  <dc:title>Snímek 1</dc:title>
</cp:coreProperties>
</file>