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24.wmf" ContentType="image/x-wmf"/>
  <Override PartName="/ppt/media/image29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541-AFCC-4F9D-BC32-A005A6CF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D7D-B2BE-4152-90DA-2617E56B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80D-CF83-4FB0-A035-BF4A9981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227-ED54-458C-8D9C-C9378E1A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75B-C0D0-4B72-930A-889AD492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711-0058-456E-8F8B-8AB4614C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B8A-9ED7-4799-AFE6-CB41418E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65C-20DC-4E3E-BA37-BB35B25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84C-3581-456B-B857-D1881461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7422-443B-4179-A308-F9D6CBC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67EA-E3C2-4454-9ACC-98B8BC1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98B-C313-4105-9452-8CFCCC7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BACC-DE11-4065-AEC6-8F3E01BED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derná magnetická rezon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61960" y="5157720"/>
            <a:ext cx="46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v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derný magnetický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9520" y="1287360"/>
            <a:ext cx="813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ý magnetický moment M je podobně spojen se spinem I, jako byl magnetický momen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pojen s orbitálním L. Rozdíl je jen v konstantě úměr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048120"/>
            <a:ext cx="81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yromagnetický fakto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á roz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76720" y="2590920"/>
          <a:ext cx="1050840" cy="40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90920"/>
                    <a:ext cx="105084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2514600" y="3505320"/>
          <a:ext cx="3289320" cy="88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3505320"/>
                    <a:ext cx="32893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0880" y="44197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yromagnetický faktor protonu a neutronu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116080" y="4952880"/>
          <a:ext cx="3778200" cy="15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6080" y="4952880"/>
                    <a:ext cx="377820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vantování jaderného magnetického mo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30481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ůmět do nějakého směru (např. do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65360" y="2514600"/>
          <a:ext cx="2467080" cy="4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65360" y="2514600"/>
                    <a:ext cx="2467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50960" y="3733920"/>
          <a:ext cx="5257800" cy="39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0960" y="3733920"/>
                    <a:ext cx="52578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380880" y="114300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že je spin kvantován, je kvantován i jaderný magnetický moment. Pravidla kvantové mechaniky dovolují, aby velikost magnetického momentu by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42670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ie magnetického momentu v homogenním poli induk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ířícím podél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06640" y="5334120"/>
          <a:ext cx="467352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6640" y="5334120"/>
                    <a:ext cx="46735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derný magnetický moment pro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=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0" t="0" r="1568" b="0"/>
          <a:stretch/>
        </p:blipFill>
        <p:spPr>
          <a:xfrm>
            <a:off x="228600" y="1371600"/>
            <a:ext cx="7732800" cy="2001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33520" y="4191120"/>
            <a:ext cx="38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ž jsme viděli, že spin ½ 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př. také  izotop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e šesti protony a sedmi neutrony – jedním nepárovaný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952880" y="3733920"/>
            <a:ext cx="3581280" cy="2593080"/>
            <a:chOff x="4952880" y="3733920"/>
            <a:chExt cx="3581280" cy="2593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rcRect l="3731" t="0" r="3731" b="0"/>
            <a:stretch/>
          </p:blipFill>
          <p:spPr>
            <a:xfrm>
              <a:off x="4952880" y="4190760"/>
              <a:ext cx="17874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81480" y="3733920"/>
              <a:ext cx="113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to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05160" y="5867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utron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58000" y="533376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párova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u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6476400" y="5486400"/>
              <a:ext cx="30492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vantové přec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266688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o energie je buď vyzářena (je-li záporná) jako kvantum elektromagnetického záření nebo je získána (je-li kladná) absorpcí takového kv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66680" y="2286000"/>
          <a:ext cx="576756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576756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380880" y="1066680"/>
            <a:ext cx="8131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echodu jádra ze stavu 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stavu 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chody mohou probíhat jen mezi sousedními hladinami) dojde ke změně e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449568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uvážením vztahu mezi kruhovou frekvencí a frekvencí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stáváme jednu ze základních rovnic N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200400" y="4038480"/>
          <a:ext cx="1765440" cy="38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038480"/>
                    <a:ext cx="176544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2781360" y="5562720"/>
          <a:ext cx="257796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1360" y="5562720"/>
                    <a:ext cx="2577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yvolání přech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066680"/>
            <a:ext cx="8458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y k přechodu došlo, musíme kromě homogenního na čase nezávislého magnetického pole orientovaného podél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čítat s dalším přidaným elektromagnetickým polem – monochromatickou v rovin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ruhově polarizovanou vlnou s úhlovou frekvencí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amplitudo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73392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zápisu jsme zanedbali prostorovou závislost fáze vl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066680" y="2971800"/>
          <a:ext cx="654048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65404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371600" y="4267080"/>
          <a:ext cx="5524560" cy="97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267080"/>
                    <a:ext cx="5524560" cy="9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533520" y="5410080"/>
            <a:ext cx="813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že i pro velmi vysokou frekvenc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Hz je vlnová dél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3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ravděpodobnost přechodu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1066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přechodu je třeba počítat s užitím rovnic kvantové mechaniky. Uvedeme si jen výsledek pro jádro se spinem jedna polovina a kladným gyromagnetickým fakt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79640" y="4572000"/>
          <a:ext cx="629892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4572000"/>
                    <a:ext cx="62989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"/>
          <p:cNvGrpSpPr/>
          <p:nvPr/>
        </p:nvGrpSpPr>
        <p:grpSpPr>
          <a:xfrm>
            <a:off x="457200" y="2590920"/>
            <a:ext cx="6159600" cy="1739880"/>
            <a:chOff x="457200" y="2590920"/>
            <a:chExt cx="6159600" cy="1739880"/>
          </a:xfrm>
        </p:grpSpPr>
        <p:sp>
          <p:nvSpPr>
            <p:cNvPr id="239" name=""/>
            <p:cNvSpPr/>
            <p:nvPr/>
          </p:nvSpPr>
          <p:spPr>
            <a:xfrm>
              <a:off x="1373040" y="3048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1440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8800" y="3048120"/>
              <a:ext cx="0" cy="121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52480" y="34290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52480" y="411480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457200" y="3352680"/>
            <a:ext cx="266760" cy="34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3352680"/>
                      <a:ext cx="2667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6" name=""/>
            <p:cNvGraphicFramePr/>
            <p:nvPr/>
          </p:nvGraphicFramePr>
          <p:xfrm>
            <a:off x="5943600" y="3200400"/>
            <a:ext cx="673200" cy="52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43600" y="3200400"/>
                      <a:ext cx="673200" cy="52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8" name=""/>
            <p:cNvGraphicFramePr/>
            <p:nvPr/>
          </p:nvGraphicFramePr>
          <p:xfrm>
            <a:off x="6019920" y="3809880"/>
            <a:ext cx="520560" cy="52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9920" y="3809880"/>
                      <a:ext cx="5205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0" name=""/>
            <p:cNvSpPr/>
            <p:nvPr/>
          </p:nvSpPr>
          <p:spPr>
            <a:xfrm>
              <a:off x="2286000" y="34290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51" name=""/>
            <p:cNvGraphicFramePr/>
            <p:nvPr/>
          </p:nvGraphicFramePr>
          <p:xfrm>
            <a:off x="2362320" y="3657600"/>
            <a:ext cx="404640" cy="2700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362320" y="3657600"/>
                      <a:ext cx="404640" cy="27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 flipH="1">
              <a:off x="3276720" y="2590920"/>
              <a:ext cx="380880" cy="15238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276720" y="3428640"/>
              <a:ext cx="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91120" y="3429000"/>
              <a:ext cx="0" cy="6858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191120" y="2666880"/>
              <a:ext cx="533160" cy="1447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Pravděpodobnost přechodu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106668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 vztahu pro pravděpodobnost přechodu vidíme, že při resonanci, tj. pr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může tato pravděpodobnost dosáhnout v jistém čase jedn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66680" y="2362320"/>
          <a:ext cx="68072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362320"/>
                    <a:ext cx="68072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80880" y="3581280"/>
            <a:ext cx="8093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třeba si uvědomit, že až dosud jsme uvažovali o izolovaných jádrech. V látce je přiložené vnější magnetické pole v místě daného jádra mírně ovlivněno okolím, což vede k tzv. chemickému posuvu resonanční frekvence. V lékařských aplikacích jsou vodíkové atomy vázány především ve skupinách –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 a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 Pro proton s frekvencí 42 576 388 Hz při poli 1 T je chemický posuv těchto skupin 220 H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eplotní rovnováha pro jaderné spiny v lát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rovnová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2680" y="1066680"/>
            <a:ext cx="2894040" cy="3657600"/>
            <a:chOff x="382680" y="1066680"/>
            <a:chExt cx="2894040" cy="3657600"/>
          </a:xfrm>
        </p:grpSpPr>
        <p:sp>
          <p:nvSpPr>
            <p:cNvPr id="265" name=""/>
            <p:cNvSpPr/>
            <p:nvPr/>
          </p:nvSpPr>
          <p:spPr>
            <a:xfrm>
              <a:off x="2209680" y="10666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43000" y="31240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1523880"/>
              <a:ext cx="190476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43000" y="3809880"/>
              <a:ext cx="19051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1981080" y="1219320"/>
              <a:ext cx="76320" cy="350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81080" y="1828800"/>
              <a:ext cx="914400" cy="1295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990360" y="1828800"/>
              <a:ext cx="990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3124080"/>
              <a:ext cx="1295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143000" y="3124080"/>
              <a:ext cx="8380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15238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2819520"/>
              <a:ext cx="3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209320" y="3809880"/>
              <a:ext cx="2286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1080" y="3124080"/>
              <a:ext cx="1067040" cy="91440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143000" y="31240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3520" y="19810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2680" y="14479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252320" y="1184400"/>
            <a:ext cx="4129560" cy="2930400"/>
            <a:chOff x="4252320" y="1184400"/>
            <a:chExt cx="4129560" cy="2930400"/>
          </a:xfrm>
        </p:grpSpPr>
        <p:sp>
          <p:nvSpPr>
            <p:cNvPr id="282" name=""/>
            <p:cNvSpPr/>
            <p:nvPr/>
          </p:nvSpPr>
          <p:spPr>
            <a:xfrm>
              <a:off x="4267080" y="28954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10080" y="1981080"/>
              <a:ext cx="6098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10080" y="2895480"/>
              <a:ext cx="6858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19810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880" y="3733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629400" y="205740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52320" y="1184400"/>
              <a:ext cx="6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0120" y="12193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05720" y="25909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0" i="1" lang="cs-CZ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43800" y="17524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19720" y="22096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244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771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16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343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8660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3888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167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24480" y="16761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91520" y="3886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3809880" y="5105520"/>
          <a:ext cx="3467160" cy="90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105520"/>
                    <a:ext cx="346716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arušení rovnová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6324480" y="1143000"/>
          <a:ext cx="190512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143000"/>
                    <a:ext cx="19051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380880" y="1108080"/>
            <a:ext cx="5257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 tak velmi malý rozdíl v koncentraci vytváří při obrovské hustotě protonů v látce makroskopickou magnetizac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e směru os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Tu můžeme ovlivnit vhodně trvajícím pulsem radiofrekvenční (rf) vlny s rezonanční frekvencí. Na obrázcích je účinek jednoho 9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dvou 180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f puls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3"/>
          <a:srcRect l="0" t="0" r="1924" b="0"/>
          <a:stretch/>
        </p:blipFill>
        <p:spPr>
          <a:xfrm>
            <a:off x="533520" y="4191120"/>
            <a:ext cx="75135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ávrat k rovnová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3640" y="1184400"/>
            <a:ext cx="80168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edpokládejme, že jsme v čas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τ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osáhli rf pulsem nulové magnetizace ve směru osy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z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akcí s okolím ale dochází ke zpětnému přechodu do rovnovážného stavu s tzv. konstantou spinově – mřížkové interakce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volné precesi nejsou složky magnetických momentů v rovině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 jednotlivých jader ve fázi, takže celková magnetizace ve směr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je nulová. Za působení rf pole se sfázují a tak i celková magnetizace rotuje obdobně jako jednotlivé momenty. Po vypnutí rf pole se interakcí mezi spiny opět sfázování poruší, to se děje s časovou konstantou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971800" y="3886200"/>
          <a:ext cx="2925720" cy="24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2925720" cy="24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NMR nebo M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Základním fyzikálním procesem je jaderná magnetická rezonance (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nuclear magnetic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resonance – NMR). Protože řada lidí má obavy ze slov jádro, jaderný, jaderná, používá se v lékařských aplikacích názvu zobrazení magnetickou rezonancí (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magnetic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orontoPlain~33"/>
              </a:rPr>
              <a:t>resonance imaging</a:t>
            </a:r>
            <a:r>
              <a:rPr b="0" lang="cs-CZ" sz="2400" spc="-1" strike="noStrike">
                <a:solidFill>
                  <a:srgbClr val="000000"/>
                </a:solidFill>
                <a:latin typeface="TorontoPlain~33"/>
              </a:rPr>
              <a:t> - MRI). Nakonec je to i přesnější – rozdílu v intenzitě určitého fyzikálního jevu se používá k získání kontrastu ve výsledném obra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Časové konstanty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66680" y="1397160"/>
          <a:ext cx="6553440" cy="4566960"/>
        </p:xfrm>
        <a:graphic>
          <a:graphicData uri="http://schemas.openxmlformats.org/drawingml/2006/table">
            <a:tbl>
              <a:tblPr/>
              <a:tblGrid>
                <a:gridCol w="3048120"/>
                <a:gridCol w="1676520"/>
                <a:gridCol w="18288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 lá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cs-CZ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m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[ms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-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z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á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mota (G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ílá hmot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W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brospinální tekuti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S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Kontrast v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cs-CZ" sz="32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0" i="1" lang="cs-CZ" sz="3200" spc="-1" strike="noStrike">
                <a:solidFill>
                  <a:srgbClr val="0000cc"/>
                </a:solidFill>
                <a:latin typeface="Times New Roman"/>
              </a:rPr>
              <a:t>T</a:t>
            </a:r>
            <a:r>
              <a:rPr b="0" lang="cs-CZ" sz="32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990720" y="1676520"/>
            <a:ext cx="6421320" cy="4269600"/>
            <a:chOff x="990720" y="1676520"/>
            <a:chExt cx="6421320" cy="4269600"/>
          </a:xfrm>
        </p:grpSpPr>
        <p:pic>
          <p:nvPicPr>
            <p:cNvPr id="319" name="" descr=""/>
            <p:cNvPicPr/>
            <p:nvPr/>
          </p:nvPicPr>
          <p:blipFill>
            <a:blip r:embed="rId1"/>
            <a:srcRect l="0" t="0" r="1654" b="0"/>
            <a:stretch/>
          </p:blipFill>
          <p:spPr>
            <a:xfrm>
              <a:off x="990720" y="2209680"/>
              <a:ext cx="6421320" cy="32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648320" y="1676520"/>
              <a:ext cx="74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4720" y="167652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4520" y="548640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Blochovy rov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62120" y="3048120"/>
          <a:ext cx="7327800" cy="29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8120"/>
                    <a:ext cx="7327800" cy="29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zahrnují všechny vlivy, které působí na vektor magnetizace (makroskopický, tj. střední hodnota z velkého počtu jader): precesi v základním homogenním poli, vliv rf pole a relaxační jev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Řešení Blochových rov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371600" y="2666880"/>
          <a:ext cx="630540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630540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jdou řešit za zjednodušujícího předpokladu ustáleného stavu magnetizace podél os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alyticky. Potom dostaneme pro dvě zcela odlišně se chovající složky magnetizace vzta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46280" y="522288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lochovy rovnice vzniknou z kvantově-mechanických rovnic pro operátory jako rovnice pro jejich střední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Jak získat obraz při M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1066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tvoření obrazu vyžaduje splnit dvě základní podmín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ít způsob, jak získat informaci jen z dané malé oblasti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jít způsob, jak vytvářet k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3124080"/>
            <a:ext cx="7788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Jev NM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Felix Bloch a Edward Purcell 1946 (Nobelova cena 19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Rozdíly v signál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d normálních a rakovinných oblastí: Raymond Damadian 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Zobrazení malých oblast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omocí gradientu pole: Paul Lauterbur 1973 a Peter Mansfield 1974 (Nobelova cena 20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Gradientní cívky dělají hl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0" t="0" r="2225" b="0"/>
          <a:stretch/>
        </p:blipFill>
        <p:spPr>
          <a:xfrm>
            <a:off x="1066680" y="1066680"/>
            <a:ext cx="630252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tváření obrazu při MRI a 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82480" y="515772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desá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rbitální a magnetický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14400" y="2514600"/>
            <a:ext cx="2133720" cy="2224080"/>
            <a:chOff x="914400" y="2514600"/>
            <a:chExt cx="2133720" cy="2224080"/>
          </a:xfrm>
        </p:grpSpPr>
        <p:sp>
          <p:nvSpPr>
            <p:cNvPr id="48" name=""/>
            <p:cNvSpPr/>
            <p:nvPr/>
          </p:nvSpPr>
          <p:spPr>
            <a:xfrm>
              <a:off x="1067040" y="335268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057400" y="251460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447560" y="3809880"/>
              <a:ext cx="6094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4240" y="419076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2" name=""/>
            <p:cNvGraphicFramePr/>
            <p:nvPr/>
          </p:nvGraphicFramePr>
          <p:xfrm>
            <a:off x="1905120" y="4419360"/>
            <a:ext cx="217440" cy="319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4419360"/>
                      <a:ext cx="21744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" name=""/>
            <p:cNvGraphicFramePr/>
            <p:nvPr/>
          </p:nvGraphicFramePr>
          <p:xfrm>
            <a:off x="2133720" y="2971800"/>
            <a:ext cx="217440" cy="307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3720" y="2971800"/>
                      <a:ext cx="2174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" name=""/>
            <p:cNvGraphicFramePr/>
            <p:nvPr/>
          </p:nvGraphicFramePr>
          <p:xfrm>
            <a:off x="1600200" y="3657600"/>
            <a:ext cx="182520" cy="250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600200" y="3657600"/>
                      <a:ext cx="18252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"/>
            <p:cNvGraphicFramePr/>
            <p:nvPr/>
          </p:nvGraphicFramePr>
          <p:xfrm>
            <a:off x="914400" y="4343400"/>
            <a:ext cx="514440" cy="249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14400" y="4343400"/>
                      <a:ext cx="514440" cy="24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1371600" y="4114800"/>
              <a:ext cx="184320" cy="18396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98440" y="1420920"/>
            <a:ext cx="371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ástice o hmotnost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 náboj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kruhové trajektorii poloměr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oment hybno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58800" y="1447920"/>
            <a:ext cx="327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udová smyčka poloměru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proudem  velikost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magnetický mo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3520" y="5029200"/>
          <a:ext cx="228420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520" y="5029200"/>
                    <a:ext cx="22842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410080" y="4876920"/>
          <a:ext cx="3368880" cy="14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4876920"/>
                    <a:ext cx="336888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7" name=""/>
          <p:cNvGrpSpPr/>
          <p:nvPr/>
        </p:nvGrpSpPr>
        <p:grpSpPr>
          <a:xfrm>
            <a:off x="5486400" y="2590920"/>
            <a:ext cx="1981080" cy="2103480"/>
            <a:chOff x="5486400" y="2590920"/>
            <a:chExt cx="1981080" cy="2103480"/>
          </a:xfrm>
        </p:grpSpPr>
        <p:sp>
          <p:nvSpPr>
            <p:cNvPr id="68" name=""/>
            <p:cNvSpPr/>
            <p:nvPr/>
          </p:nvSpPr>
          <p:spPr>
            <a:xfrm>
              <a:off x="5486400" y="342900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400800" y="434340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477120" y="2590920"/>
              <a:ext cx="0" cy="129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6553080" y="2895480"/>
            <a:ext cx="217440" cy="308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553080" y="2895480"/>
                      <a:ext cx="21744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5938920" y="4386240"/>
            <a:ext cx="193680" cy="3081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38920" y="4386240"/>
                      <a:ext cx="193680" cy="30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" name=""/>
            <p:cNvSpPr/>
            <p:nvPr/>
          </p:nvSpPr>
          <p:spPr>
            <a:xfrm flipH="1">
              <a:off x="5714640" y="3886200"/>
              <a:ext cx="7621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" name=""/>
            <p:cNvGraphicFramePr/>
            <p:nvPr/>
          </p:nvGraphicFramePr>
          <p:xfrm>
            <a:off x="5781600" y="3699000"/>
            <a:ext cx="354240" cy="3204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781600" y="3699000"/>
                      <a:ext cx="354240" cy="32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6694560" y="3760920"/>
            <a:ext cx="216000" cy="252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94560" y="3760920"/>
                      <a:ext cx="21600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0" name=""/>
          <p:cNvGraphicFramePr/>
          <p:nvPr/>
        </p:nvGraphicFramePr>
        <p:xfrm>
          <a:off x="3352680" y="4191120"/>
          <a:ext cx="1222560" cy="7156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52680" y="4191120"/>
                    <a:ext cx="1222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 rot="3600000">
            <a:off x="2971440" y="4800240"/>
            <a:ext cx="609480" cy="762120"/>
          </a:xfrm>
          <a:prstGeom prst="upArrow">
            <a:avLst>
              <a:gd name="adj1" fmla="val 50000"/>
              <a:gd name="adj2" fmla="val 312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8000000">
            <a:off x="4496040" y="4723920"/>
            <a:ext cx="609480" cy="761760"/>
          </a:xfrm>
          <a:prstGeom prst="upArrow">
            <a:avLst>
              <a:gd name="adj1" fmla="val 50000"/>
              <a:gd name="adj2" fmla="val 312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895480" y="6019920"/>
          <a:ext cx="2183040" cy="398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95480" y="6019920"/>
                    <a:ext cx="21830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143000"/>
            <a:ext cx="81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le druhé impulsové věty je časová změna momentu hybnosti rovna momentu působící síly. V případě magnetického momentu v homogenním magnetickém poli ve směru os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09880"/>
            <a:ext cx="8131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armorovu frekvenci jsme označili jako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Vektor momentu hybnosti rozložíme do složky rovnoběžné s vektorem indukce magnetického pole a složek kolm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084320" y="2332080"/>
          <a:ext cx="567684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2332080"/>
                    <a:ext cx="567684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523880" y="5181480"/>
          <a:ext cx="5149800" cy="9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5181480"/>
                    <a:ext cx="51498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14300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epsáním do složek dostáváme tři rovni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2666880"/>
            <a:ext cx="81313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dle třetí z rovnic je složka vektoru momentu hybnost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rovnoběžná s  magnetickým polem konstantní. Také velikost vektoru momentu hybnost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konstantní – to vidíme hned, vynásobíme-li první rovnici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druho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řetí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vzniklé rovnice sečt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676520"/>
          <a:ext cx="701532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0153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231920" y="4664160"/>
          <a:ext cx="643896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1920" y="4664160"/>
                    <a:ext cx="643896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cc"/>
                </a:solidFill>
                <a:latin typeface="Times New Roman"/>
              </a:rPr>
              <a:t>Larmorova precese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143000"/>
            <a:ext cx="813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prvních dvou rovnic si vzpomeneme na vztahy pro goniometrické funk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743200"/>
            <a:ext cx="81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sledné vztahy pro složky momentu hybnosti jsou te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981080"/>
          <a:ext cx="69134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9134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62120" y="3276720"/>
          <a:ext cx="406872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40687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09480" y="510552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ktor momentu hybnosti vykonává precesní pohyb s Larmorovou frekvencí – tvoří površky kužele s osou danou magnetickým po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400800" y="3352680"/>
            <a:ext cx="2529000" cy="2898360"/>
            <a:chOff x="6400800" y="3352680"/>
            <a:chExt cx="2529000" cy="2898360"/>
          </a:xfrm>
        </p:grpSpPr>
        <p:sp>
          <p:nvSpPr>
            <p:cNvPr id="109" name=""/>
            <p:cNvSpPr/>
            <p:nvPr/>
          </p:nvSpPr>
          <p:spPr>
            <a:xfrm>
              <a:off x="6705720" y="57913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67480" y="33526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00800" y="3809880"/>
              <a:ext cx="1905120" cy="609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7120" y="5105520"/>
              <a:ext cx="190476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91520" y="35049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91520" y="4114800"/>
              <a:ext cx="914400" cy="129528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400800" y="4114800"/>
              <a:ext cx="9907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391520" y="4114800"/>
              <a:ext cx="0" cy="1295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391520" y="4114800"/>
              <a:ext cx="91440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391520" y="5333760"/>
              <a:ext cx="1295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009920" y="5410080"/>
              <a:ext cx="381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162920" y="3809880"/>
              <a:ext cx="1522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10480" y="525780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2" name=""/>
            <p:cNvGraphicFramePr/>
            <p:nvPr/>
          </p:nvGraphicFramePr>
          <p:xfrm>
            <a:off x="7924680" y="4648320"/>
            <a:ext cx="239760" cy="341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924680" y="4648320"/>
                      <a:ext cx="23976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>
            <a:off x="7086600" y="4495680"/>
            <a:ext cx="274680" cy="389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86600" y="4495680"/>
                      <a:ext cx="274680" cy="3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 já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112920" y="3054240"/>
          <a:ext cx="126684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2920" y="3054240"/>
                    <a:ext cx="126684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79520" y="1287360"/>
            <a:ext cx="813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dro je složeno z nukleonů (protonů a neutronů). Každý nukleon má vlastní moment hybnosti –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vektor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pi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Velikosti vektoru spinu měřené v jednotkách Planckovy konstant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říkáme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pi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pro nukleony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4038480"/>
            <a:ext cx="813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ny nukleonů se vektorově sčítají, takže se při počtu protonů 2, 8, 20, 28, 50, 82 a 126 spiny vyruší, totéž platí pro neutrony. Je to podobné existenci uzavřených slupek u elektronů v atomu. Pro jádra izotopů nejlehčích prvků je předpověď spinu jádra snad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 jader s malým počtem nukle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5800" y="1306440"/>
            <a:ext cx="6653160" cy="4484880"/>
            <a:chOff x="685800" y="1306440"/>
            <a:chExt cx="6653160" cy="4484880"/>
          </a:xfrm>
        </p:grpSpPr>
        <p:graphicFrame>
          <p:nvGraphicFramePr>
            <p:cNvPr id="133" name=""/>
            <p:cNvGraphicFramePr/>
            <p:nvPr/>
          </p:nvGraphicFramePr>
          <p:xfrm>
            <a:off x="790560" y="1371600"/>
            <a:ext cx="318960" cy="37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0560" y="1371600"/>
                      <a:ext cx="318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/>
            <p:nvPr/>
          </p:nvSpPr>
          <p:spPr>
            <a:xfrm>
              <a:off x="4267080" y="15238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52480" y="2209680"/>
              <a:ext cx="152640" cy="1526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29718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762120" y="2133720"/>
            <a:ext cx="376200" cy="37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2133720"/>
                      <a:ext cx="37620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"/>
            <p:cNvGraphicFramePr/>
            <p:nvPr/>
          </p:nvGraphicFramePr>
          <p:xfrm>
            <a:off x="762120" y="2819520"/>
            <a:ext cx="398520" cy="3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62120" y="2819520"/>
                      <a:ext cx="3985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" name=""/>
            <p:cNvGraphicFramePr/>
            <p:nvPr/>
          </p:nvGraphicFramePr>
          <p:xfrm>
            <a:off x="762120" y="3505320"/>
            <a:ext cx="398520" cy="376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62120" y="3505320"/>
                      <a:ext cx="39852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" name=""/>
            <p:cNvGraphicFramePr/>
            <p:nvPr/>
          </p:nvGraphicFramePr>
          <p:xfrm>
            <a:off x="685800" y="4419720"/>
            <a:ext cx="534960" cy="376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800" y="4419720"/>
                      <a:ext cx="534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6" name=""/>
            <p:cNvGraphicFramePr/>
            <p:nvPr/>
          </p:nvGraphicFramePr>
          <p:xfrm>
            <a:off x="685800" y="5410080"/>
            <a:ext cx="534960" cy="376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" y="5410080"/>
                      <a:ext cx="534960" cy="3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4267080" y="2971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2480" y="3581280"/>
              <a:ext cx="152640" cy="15264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35812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76920" y="35812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52480" y="45720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09680" y="45720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449568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52480" y="54864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09680" y="5486400"/>
              <a:ext cx="152640" cy="15228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43400" y="5486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828800" y="2057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8288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82880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82880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8288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343400" y="13716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343400" y="28195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34340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34340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41972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860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286000" y="44197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952880" y="34290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029200" y="5334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73" name=""/>
            <p:cNvGraphicFramePr/>
            <p:nvPr/>
          </p:nvGraphicFramePr>
          <p:xfrm>
            <a:off x="6616800" y="1306440"/>
            <a:ext cx="650880" cy="6606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616800" y="1306440"/>
                      <a:ext cx="650880" cy="66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6611760" y="2133720"/>
            <a:ext cx="650880" cy="660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611760" y="2133720"/>
                      <a:ext cx="6508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7" name=""/>
            <p:cNvGraphicFramePr/>
            <p:nvPr/>
          </p:nvGraphicFramePr>
          <p:xfrm>
            <a:off x="6645240" y="2995560"/>
            <a:ext cx="582480" cy="306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645240" y="2995560"/>
                      <a:ext cx="582480" cy="30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79" name=""/>
            <p:cNvGraphicFramePr/>
            <p:nvPr/>
          </p:nvGraphicFramePr>
          <p:xfrm>
            <a:off x="6689880" y="3429000"/>
            <a:ext cx="649080" cy="660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689880" y="3429000"/>
                      <a:ext cx="6490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1" name=""/>
            <p:cNvGraphicFramePr/>
            <p:nvPr/>
          </p:nvGraphicFramePr>
          <p:xfrm>
            <a:off x="6689880" y="4343400"/>
            <a:ext cx="649080" cy="6602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6689880" y="4343400"/>
                      <a:ext cx="64908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3" name=""/>
            <p:cNvGraphicFramePr/>
            <p:nvPr/>
          </p:nvGraphicFramePr>
          <p:xfrm>
            <a:off x="6716880" y="5357880"/>
            <a:ext cx="591840" cy="3078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6716880" y="5357880"/>
                      <a:ext cx="591840" cy="30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piny a výskyt jader pro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23880" y="1397160"/>
          <a:ext cx="6096240" cy="46576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143000"/>
                <a:gridCol w="190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v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kyt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%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9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h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s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d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s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s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Musilova</cp:lastModifiedBy>
  <dcterms:modified xsi:type="dcterms:W3CDTF">2008-12-02T12:31:04Z</dcterms:modified>
  <cp:revision>291</cp:revision>
  <dc:subject/>
  <dc:title>Radiologická fyzika</dc:title>
</cp:coreProperties>
</file>