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7.wmf" ContentType="image/x-wmf"/>
  <Override PartName="/ppt/media/image12.wmf" ContentType="image/x-wmf"/>
  <Override PartName="/ppt/media/image3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13.jpeg" ContentType="image/jpeg"/>
  <Override PartName="/ppt/media/image31.wmf" ContentType="image/x-wmf"/>
  <Override PartName="/ppt/media/image29.wmf" ContentType="image/x-wmf"/>
  <Override PartName="/ppt/media/image30.wmf" ContentType="image/x-wmf"/>
  <Override PartName="/ppt/media/image42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7.jpeg" ContentType="image/jpeg"/>
  <Override PartName="/ppt/media/image28.wmf" ContentType="image/x-wmf"/>
  <Override PartName="/ppt/media/image3.jpeg" ContentType="image/jpeg"/>
  <Override PartName="/ppt/media/image32.wmf" ContentType="image/x-wmf"/>
  <Override PartName="/ppt/media/image2.wmf" ContentType="image/x-wmf"/>
  <Override PartName="/ppt/media/image34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4E6-1305-4E7A-8109-ECFBCDEB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85A-28AF-4B8B-A12E-66549FC9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A492-E47B-492F-98D1-B9934ED1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1AE9-27D7-42AD-B63B-154F4F0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838-8D31-4D67-99E8-5CDE19D3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755-F593-4BD7-B39F-EF515491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023-A5EE-4CC5-A435-E630CF0B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ABD5-A259-4C8B-BF3B-4EAC0718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1C0-D136-4EBE-A353-CE15D330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2BB-470C-4ECA-8207-C7752DE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4B92-3C62-4659-9B5E-67333F8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2B8-253E-4303-AE5E-F8E58049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909D-D0A9-47F3-89AE-CFA8B040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.wikipedia.org/wiki/Soubor:Laubfrosch-wik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klady diferenciálního poč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ce a tečny, integrály a plo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ferenciální rov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28640" y="515772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p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ní c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ou dělit nelze. Je-li například funkc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menovatelem podí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 určitou hodno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ěnné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býv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ly,  nelze hodno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zlomku dosadit (nedal by se vyčísli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Viděli jsme ale, že když se ve zlomku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líží k nule jak čitatel, 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jmenovatel, může se stát, že se hodnota zlomku blíží k jisté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efinovanému číslu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Číslo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 pak nazývá limitou funkce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 píš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16160" y="5373720"/>
          <a:ext cx="6149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5373720"/>
                    <a:ext cx="6149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dna důležitá lim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773360"/>
            <a:ext cx="3429000" cy="3429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3500280"/>
            <a:ext cx="410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340000" y="1773000"/>
            <a:ext cx="1800360" cy="1726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2386200">
            <a:off x="607320" y="1735560"/>
            <a:ext cx="3537000" cy="331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5" y="76"/>
                </a:moveTo>
                <a:arcTo wR="10800" hR="10800" stAng="-4993116" swAng="2633866"/>
                <a:lnTo>
                  <a:pt x="10800" y="10800"/>
                </a:lnTo>
                <a:close/>
              </a:path>
              <a:path fill="none" w="21600" h="21600">
                <a:moveTo>
                  <a:pt x="12075" y="76"/>
                </a:moveTo>
                <a:arcTo wR="10800" hR="10800" stAng="-4993116" swAng="2633866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2276640"/>
            <a:ext cx="0" cy="1223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140360" y="1773000"/>
            <a:ext cx="0" cy="172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301140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70160" y="249228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3280" y="1700280"/>
          <a:ext cx="424836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700280"/>
                    <a:ext cx="42483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 flipV="1">
            <a:off x="2340000" y="1052280"/>
            <a:ext cx="0" cy="43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ém tečny a de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0" t="3147" r="0" b="0"/>
          <a:stretch/>
        </p:blipFill>
        <p:spPr>
          <a:xfrm>
            <a:off x="468360" y="1268280"/>
            <a:ext cx="3744720" cy="432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276720" y="2421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68360" y="3429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40000" y="350028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348000" y="249228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211640" y="1341360"/>
          <a:ext cx="4680000" cy="381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1341360"/>
                    <a:ext cx="4680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691280" y="299736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2584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636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2560" y="134136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20720" y="285264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27640" y="407664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0000" y="3716280"/>
            <a:ext cx="0" cy="4320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8000" y="371628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/>
          <p:nvPr/>
        </p:nvCxnSpPr>
        <p:spPr>
          <a:xfrm>
            <a:off x="2340000" y="407628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1582560" y="501336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Hodnot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cs-CZ" sz="2400" spc="-1" strike="noStrike" baseline="30000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určená předchozí limitou, je deriv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funkce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v bodě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Chápeme-li </a:t>
            </a:r>
            <a:r>
              <a:rPr b="1" i="1" lang="cs-CZ" sz="2400" spc="-1" strike="noStrike">
                <a:solidFill>
                  <a:srgbClr val="669900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jako proměnnou, je </a:t>
            </a:r>
            <a:r>
              <a:rPr b="1" i="1" lang="cs-CZ" sz="2400" spc="-1" strike="noStrike">
                <a:solidFill>
                  <a:srgbClr val="669900"/>
                </a:solidFill>
                <a:latin typeface="Times New Roman"/>
              </a:rPr>
              <a:t>f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i="1" lang="cs-CZ" sz="2400" spc="-1" strike="noStrike" baseline="30000">
                <a:solidFill>
                  <a:srgbClr val="6699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 funk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Směrnice tečny ke grafu závisí na bodu doty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počet směrnice a rovnice přím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4292640"/>
            <a:ext cx="252108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187280" y="1773000"/>
            <a:ext cx="0" cy="2879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24000" y="1557000"/>
            <a:ext cx="2447640" cy="31669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005360"/>
            <a:ext cx="1429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0920" y="2349360"/>
            <a:ext cx="142920" cy="144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57800" y="42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836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0520" y="36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837080" y="198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753200">
            <a:off x="-42120" y="3228120"/>
            <a:ext cx="1828080" cy="1828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53" y="42"/>
                </a:moveTo>
                <a:arcTo wR="10800" hR="10800" stAng="-5096117" swAng="3072201"/>
                <a:lnTo>
                  <a:pt x="10800" y="10800"/>
                </a:lnTo>
                <a:close/>
              </a:path>
              <a:path fill="none" w="21600" h="21600">
                <a:moveTo>
                  <a:pt x="11753" y="42"/>
                </a:moveTo>
                <a:arcTo wR="10800" hR="10800" stAng="-5096117" swAng="3072201"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60720" y="357336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0000" y="407664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24000" y="2492280"/>
            <a:ext cx="0" cy="15843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443700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24000" y="4437000"/>
            <a:ext cx="0" cy="720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/>
          <p:nvPr/>
        </p:nvCxnSpPr>
        <p:spPr>
          <a:xfrm>
            <a:off x="826560" y="4868640"/>
            <a:ext cx="129780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2195640" y="2421000"/>
            <a:ext cx="936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4076640"/>
            <a:ext cx="936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"/>
          <p:cNvCxnSpPr/>
          <p:nvPr/>
        </p:nvCxnSpPr>
        <p:spPr>
          <a:xfrm>
            <a:off x="2555640" y="2420640"/>
            <a:ext cx="1080" cy="165636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2649240" y="3068640"/>
            <a:ext cx="104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2680" y="4797360"/>
            <a:ext cx="1080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771640" y="1413000"/>
          <a:ext cx="6193080" cy="48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413000"/>
                    <a:ext cx="6193080" cy="48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411280" y="1844640"/>
            <a:ext cx="14472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26160" y="148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ýpočet směrnice a rovnice teč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745080" cy="44654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843280" y="3213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221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979640" y="4292640"/>
            <a:ext cx="10080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16360" y="328464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6560" y="378936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4948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3308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276640"/>
            <a:ext cx="9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17440" y="364500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4360" y="4797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00" y="501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16360" y="494172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/>
          <p:nvPr/>
        </p:nvCxnSpPr>
        <p:spPr>
          <a:xfrm>
            <a:off x="1907640" y="522900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aphicFrame>
        <p:nvGraphicFramePr>
          <p:cNvPr id="306" name=""/>
          <p:cNvGraphicFramePr/>
          <p:nvPr/>
        </p:nvGraphicFramePr>
        <p:xfrm>
          <a:off x="3419640" y="981000"/>
          <a:ext cx="5724360" cy="51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981000"/>
                    <a:ext cx="572436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 flipH="1">
            <a:off x="6804000" y="3573360"/>
            <a:ext cx="43200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667640" y="4076640"/>
            <a:ext cx="43344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2600" y="62578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Sami dokončete výpočet rovnice tečny, když nyní znáte směrn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003640" y="3645000"/>
            <a:ext cx="2741760" cy="2741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Derivace a fy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rovnoměrným pohybem po kružnici se již každý jist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kal, třeba na řetízkovém kolotoči. Takový pohyb koná například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středivka používaná ve zdravotnických zařízeních. Řekněme, 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ějaké tělísko obíhá ve vzdálenost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0 m od osy kolotoč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e jeden oběh trvá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,0 s. Závislost polohy tělíska na čase pak l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jádřit například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72360" y="501336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372360" y="328428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80360" y="407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372360" y="4220640"/>
            <a:ext cx="1008000" cy="79236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04720" y="45324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73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1640" y="4221000"/>
            <a:ext cx="0" cy="8636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300360" y="414972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38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3440" y="494172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3933720"/>
            <a:ext cx="60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17080" y="42210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429264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740720" y="4005360"/>
            <a:ext cx="0" cy="10080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741440" y="37162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12000" y="378936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324000" y="3789360"/>
          <a:ext cx="4968720" cy="17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89360"/>
                    <a:ext cx="4968720" cy="17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250560" y="5661000"/>
            <a:ext cx="865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Je získaná hodnota obvodové rychlosti shodná s velikostí vekt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rychlosti daného bodu? Co je to vlastně rychl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003640" y="3645000"/>
            <a:ext cx="2741760" cy="27414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růměrná rychlost za dobu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372360" y="5013360"/>
            <a:ext cx="194472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372360" y="3284280"/>
            <a:ext cx="0" cy="1726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96360" y="4508640"/>
            <a:ext cx="1425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72360" y="4581360"/>
            <a:ext cx="1224000" cy="432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04000" y="4532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73440" y="3213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1380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49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85080" y="414972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4000" y="321300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364500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372360" y="3789360"/>
            <a:ext cx="360360" cy="1224000"/>
          </a:xfrm>
          <a:prstGeom prst="line">
            <a:avLst/>
          </a:prstGeom>
          <a:ln w="38160">
            <a:solidFill>
              <a:srgbClr val="00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741080" y="407664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751080" y="313524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6803640" y="3715920"/>
            <a:ext cx="792360" cy="792360"/>
          </a:xfrm>
          <a:prstGeom prst="line">
            <a:avLst/>
          </a:prstGeom>
          <a:ln w="38160">
            <a:solidFill>
              <a:srgbClr val="00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53240" y="40705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0000" y="4221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533520" y="1066680"/>
          <a:ext cx="541800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5418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250920" y="558972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Zkuste si sami velikosti průměrn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ostí a jejich úhly </a:t>
            </a:r>
            <a:r>
              <a:rPr b="1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oso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vypočítat a seřadit do tabulky. Všimněte si, k jakým hodnotám se blíží, když se interval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stále zmenš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79280" y="1700280"/>
            <a:ext cx="8713800" cy="30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89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ve zmenšujícím se interval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310600" cy="2584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547640" y="5013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 tady jsou výsledky řešení Vašeho úko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0920" y="1557360"/>
            <a:ext cx="8713800" cy="29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amžitá rychlost jako lim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6360" cy="2363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25800" y="1052640"/>
            <a:ext cx="58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hyb hmotného bodu po prostorové křiv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1280" y="4581360"/>
          <a:ext cx="7993080" cy="208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4581360"/>
                    <a:ext cx="799308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332720" y="357336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oloha …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71640" y="3645000"/>
            <a:ext cx="216000" cy="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5280" y="357336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ychlost …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012000" y="3645000"/>
            <a:ext cx="215640" cy="0"/>
          </a:xfrm>
          <a:prstGeom prst="line">
            <a:avLst/>
          </a:prstGeom>
          <a:ln w="255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odvození derivací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1: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toda vykrácení nepohodlného výrazu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2: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sin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84360" y="1700280"/>
          <a:ext cx="784836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84836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684360" y="4292640"/>
          <a:ext cx="7632720" cy="23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292640"/>
                    <a:ext cx="763272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 flipV="1">
            <a:off x="971640" y="2852280"/>
            <a:ext cx="504720" cy="505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484360" y="3429000"/>
            <a:ext cx="505080" cy="50472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Derivace a tečny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matik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libovolně malých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79280" y="1341360"/>
            <a:ext cx="8785440" cy="50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ce elementárních funk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83566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dla pro deriv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1341360"/>
            <a:ext cx="8785440" cy="4751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550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idlo pro složenou funk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187280" y="1413000"/>
            <a:ext cx="0" cy="223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87280" y="1916280"/>
            <a:ext cx="0" cy="1296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40360" y="1341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40360" y="1773360"/>
            <a:ext cx="0" cy="151128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67280" y="1628640"/>
            <a:ext cx="0" cy="18716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1341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88000" y="1700280"/>
            <a:ext cx="0" cy="15127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1760" y="2317680"/>
            <a:ext cx="50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28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503160" y="2349360"/>
            <a:ext cx="5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33cc33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2421000"/>
            <a:ext cx="52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i="1" lang="cs-CZ" sz="28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601680" y="2349360"/>
            <a:ext cx="59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6633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42920" y="2133720"/>
            <a:ext cx="2872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1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95640" y="220500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44000" y="17002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43640" y="2060640"/>
            <a:ext cx="2890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1280" y="1413000"/>
            <a:ext cx="27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47640" y="2924280"/>
            <a:ext cx="1943280" cy="3585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356000" y="2924280"/>
            <a:ext cx="1943280" cy="358560"/>
          </a:xfrm>
          <a:custGeom>
            <a:avLst/>
            <a:gdLst>
              <a:gd name="textAreaLeft" fmla="*/ 303480 w 1943280"/>
              <a:gd name="textAreaRight" fmla="*/ 1700640 w 194328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116000" y="3978360"/>
          <a:ext cx="6985080" cy="207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978360"/>
                    <a:ext cx="698508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dhady změn hodnot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539640" y="1125360"/>
          <a:ext cx="8136000" cy="10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13600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39640" y="1916280"/>
            <a:ext cx="3745080" cy="4465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348000" y="3213000"/>
            <a:ext cx="14436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40000" y="4221000"/>
            <a:ext cx="142920" cy="14292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1280" y="4292640"/>
            <a:ext cx="100836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3419640" y="3284640"/>
            <a:ext cx="0" cy="1008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907280" y="3716280"/>
            <a:ext cx="7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2, 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62584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4, 1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493440" y="45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840" y="206064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y = 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428720" y="3573360"/>
            <a:ext cx="4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0720" y="479736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411280" y="501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419640" y="4941720"/>
            <a:ext cx="0" cy="503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"/>
          <p:cNvCxnSpPr/>
          <p:nvPr/>
        </p:nvCxnSpPr>
        <p:spPr>
          <a:xfrm>
            <a:off x="2410920" y="5229000"/>
            <a:ext cx="1008720" cy="1080"/>
          </a:xfrm>
          <a:prstGeom prst="straightConnector1">
            <a:avLst/>
          </a:prstGeom>
          <a:ln w="2232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3" name=""/>
          <p:cNvSpPr/>
          <p:nvPr/>
        </p:nvSpPr>
        <p:spPr>
          <a:xfrm>
            <a:off x="3492360" y="3284640"/>
            <a:ext cx="11509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19640" y="4292640"/>
            <a:ext cx="1223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"/>
          <p:cNvCxnSpPr/>
          <p:nvPr/>
        </p:nvCxnSpPr>
        <p:spPr>
          <a:xfrm>
            <a:off x="4427280" y="3284640"/>
            <a:ext cx="1080" cy="1008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3419640" y="386064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/>
          <p:nvPr/>
        </p:nvCxnSpPr>
        <p:spPr>
          <a:xfrm>
            <a:off x="3850920" y="3789360"/>
            <a:ext cx="1080" cy="504000"/>
          </a:xfrm>
          <a:prstGeom prst="straightConnector1">
            <a:avLst/>
          </a:prstGeom>
          <a:ln w="2556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853080" y="3789360"/>
            <a:ext cx="4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1" i="1" lang="cs-CZ" sz="20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4916520" y="2046240"/>
          <a:ext cx="3994200" cy="2622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16520" y="2046240"/>
                    <a:ext cx="399420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179280" y="5241960"/>
          <a:ext cx="8964720" cy="174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5241960"/>
                    <a:ext cx="8964720" cy="17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va příklady na odh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2184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přibližnou hodnotu čísla 2,0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přibližnou hodnotu si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24000" y="1593720"/>
          <a:ext cx="882000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93720"/>
                    <a:ext cx="882000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3780000" y="2205000"/>
            <a:ext cx="0" cy="649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3348000" y="285264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95640" y="2924280"/>
            <a:ext cx="0" cy="64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763640" y="357336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08720" y="2205000"/>
            <a:ext cx="0" cy="64944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924360" y="2924280"/>
            <a:ext cx="0" cy="6490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076720" y="2852640"/>
            <a:ext cx="43200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492360" y="3573360"/>
            <a:ext cx="43200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92720" y="2924280"/>
            <a:ext cx="0" cy="649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27640" y="2924280"/>
            <a:ext cx="0" cy="6490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795640" y="3573360"/>
            <a:ext cx="431640" cy="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4859280" y="3573360"/>
            <a:ext cx="43200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324000" y="4633920"/>
          <a:ext cx="849600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633920"/>
                    <a:ext cx="849600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ěkolik úloh na derivace a teč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voďte pravidlo pro derivaci funkc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užijte binomickou vě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2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počtěte derivace následujících funk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Úloha 3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rčete rovnici tečny ke grafu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sin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bodě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39640" y="3068640"/>
          <a:ext cx="5761080" cy="15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068640"/>
                    <a:ext cx="5761080" cy="15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Integrály a plochy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jistit funkci z její deriv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brácená úloha mechaniky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od zrychlení k trajekto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zákon mechaniky – druhý Newtonův zákon –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jádřit zrychlení hmotného bodu na základě sil, jimiž na hmo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d působí okolní objek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Zrychlení je však derivací rychlosti, a ta je derivací polo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Abychom zjistili funkci, která popisuje závislosti polohy hmotné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bodu na čase, musíme nějakou zpětnou procedurou najít, j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ff"/>
                </a:solidFill>
                <a:latin typeface="Times New Roman"/>
              </a:rPr>
              <a:t>vypadala funkce, než jsme ji zderivov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pačná procedura k derivování, tj. nalézání původ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primitivní) funkce, se nazývá integrová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itivní funkce (neurčitý integrá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2920" y="907560"/>
            <a:ext cx="8488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na intervalu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 je definována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á je spojitá (její limita v každém bodě existuje a je rov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ční hodnotě, graf funkce není „potrhaný“). 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finovaná na intervalu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obsahujícím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, a taková, že je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erivace na intervalu 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] je rovn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rimitiv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funkcí (neurčitým integrálem) k funkci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a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4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+ 1 je definována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 k ní funkcí primitivní, ale také všechny funk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var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+ libovolná konstant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Jak je to možné, že jedna a táž funkce má nekonečně mno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imitivních funkcí lišících se navzájem o konstan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179280" y="1413000"/>
            <a:ext cx="8785440" cy="518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ulka primitivních funkcí –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931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Nejen velké, ale i malé změny „jsou život“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opravdu potřebujeme diferenciální poče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2276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kuste si představit situaci: Sedíte v místnosti, kde tikají hodiny. Za chvíli je nevnímáte. Ale hned si uvědomíte, kdyby se zastav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Nebo:  Máte dlaň položenou na stole v klidu. Za chvíli nic nehmatáte. Abyste hmat „oživili“, musíte prsty po stole posun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Organismus reaguje na časovou změ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chom jeho chování (a další jevy související se změnami) pochopili, potřebujeme aparát k počítání s malými změnam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bulka primitivních funkcí – I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23120" cy="25876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468360" y="4508640"/>
            <a:ext cx="817884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ém ploch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18908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205440" y="53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332000" y="3645000"/>
            <a:ext cx="358560" cy="134604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332000" y="3860280"/>
            <a:ext cx="0" cy="151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692360" y="3284640"/>
            <a:ext cx="215640" cy="170640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08000" y="2924280"/>
            <a:ext cx="719280" cy="20667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2637000"/>
            <a:ext cx="216000" cy="235404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843280" y="2492280"/>
            <a:ext cx="358560" cy="24987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03640" y="2349360"/>
            <a:ext cx="144360" cy="26416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348000" y="2349360"/>
            <a:ext cx="0" cy="295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637080" y="450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9440" y="1844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08000" y="5013360"/>
            <a:ext cx="0" cy="503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627280" y="5013360"/>
            <a:ext cx="0" cy="4316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98120" y="5516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31440" y="5516640"/>
            <a:ext cx="57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411280" y="2924280"/>
            <a:ext cx="0" cy="208908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056680" y="443700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ξ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879720" y="1268280"/>
          <a:ext cx="5091120" cy="49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9720" y="1268280"/>
                    <a:ext cx="5091120" cy="49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900360" y="1341360"/>
            <a:ext cx="20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rčit plochu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d graf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Diferenciální rovnice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 rovnice pro změnu určit funkci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4000" y="5157720"/>
            <a:ext cx="4535280" cy="1484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16720" y="357336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 – ještě jed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755640" y="5445000"/>
          <a:ext cx="7885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45000"/>
                    <a:ext cx="7885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"/>
          <p:cNvSpPr/>
          <p:nvPr/>
        </p:nvSpPr>
        <p:spPr>
          <a:xfrm>
            <a:off x="1116000" y="1413000"/>
            <a:ext cx="14907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116000" y="3213000"/>
            <a:ext cx="14907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51280" y="1413000"/>
            <a:ext cx="1490760" cy="1512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851280" y="3213000"/>
            <a:ext cx="1490760" cy="1513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835280" y="1700280"/>
            <a:ext cx="50472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908000" y="1197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835280" y="2852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835280" y="3213000"/>
            <a:ext cx="129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835280" y="3573000"/>
            <a:ext cx="649080" cy="36036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484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835280" y="263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835280" y="4437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8728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4000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4000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57080" y="134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653200" y="3357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0072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1636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28472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00720" y="2565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427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64328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56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71636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500720" y="21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35600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211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859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14036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9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140360" y="22050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067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1164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636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8472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42764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28472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328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00720" y="4149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1636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5600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28472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27640" y="4508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8800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427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788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643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5928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5600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11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40360" y="39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140360" y="4365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4328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28472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2000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93236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88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859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67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95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73272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708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73272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5964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7528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99564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03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140360" y="1844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27640" y="191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06728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928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003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67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378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5364000" y="2708280"/>
          <a:ext cx="309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708280"/>
                    <a:ext cx="30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"/>
          <p:cNvSpPr/>
          <p:nvPr/>
        </p:nvSpPr>
        <p:spPr>
          <a:xfrm>
            <a:off x="5243040" y="1989000"/>
            <a:ext cx="31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,8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615640" y="465300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–2,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016880" y="465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55640" y="1268280"/>
            <a:ext cx="7920000" cy="42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 - řeš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2419200" y="377352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9200" y="377352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"/>
          <p:cNvGraphicFramePr/>
          <p:nvPr/>
        </p:nvGraphicFramePr>
        <p:xfrm>
          <a:off x="1519200" y="1484280"/>
          <a:ext cx="6462720" cy="381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9200" y="1484280"/>
                    <a:ext cx="6462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7" name=""/>
          <p:cNvSpPr/>
          <p:nvPr/>
        </p:nvSpPr>
        <p:spPr>
          <a:xfrm>
            <a:off x="882360" y="5734080"/>
            <a:ext cx="769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žijte uvedený postup pro řešení problému s absorpcí záře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čáteční podmínka zde má charakter zadání intenzity záření na povrc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ště jednou mecha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55640" y="1628640"/>
            <a:ext cx="0" cy="64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2276640"/>
            <a:ext cx="230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55640" y="2492280"/>
            <a:ext cx="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55640" y="3141720"/>
            <a:ext cx="230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55640" y="2060640"/>
            <a:ext cx="14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00000" y="1844640"/>
            <a:ext cx="7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971640" y="184464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116000" y="1844280"/>
            <a:ext cx="14292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58920" y="184464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403280" y="1844280"/>
            <a:ext cx="14436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47640" y="1844640"/>
            <a:ext cx="716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19280" y="20606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835280" y="21337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78160" y="220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89440" y="177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640" y="292428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900000" y="2708280"/>
            <a:ext cx="14292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42920" y="2708280"/>
            <a:ext cx="28908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332000" y="2707920"/>
            <a:ext cx="21564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47640" y="2708280"/>
            <a:ext cx="216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1763640" y="2707920"/>
            <a:ext cx="216000" cy="36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979640" y="2708280"/>
            <a:ext cx="7128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50920" y="2924280"/>
            <a:ext cx="21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68360" y="2637000"/>
            <a:ext cx="503280" cy="504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484360" y="292428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2484360" y="2060280"/>
            <a:ext cx="0" cy="863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411280" y="2852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763640" y="2924280"/>
            <a:ext cx="504720" cy="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306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78160" y="31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609280" y="3233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916360" y="3357720"/>
            <a:ext cx="21564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466000" y="150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89440" y="2565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27280" y="1557360"/>
            <a:ext cx="216000" cy="0"/>
          </a:xfrm>
          <a:prstGeom prst="line">
            <a:avLst/>
          </a:prstGeom>
          <a:ln w="255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835280" y="3068640"/>
            <a:ext cx="500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3419640" y="1341360"/>
          <a:ext cx="521172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1341360"/>
                    <a:ext cx="521172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374040" y="4889520"/>
            <a:ext cx="80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Dokončete řešení na základě znalosti počátečních podmín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ředchozí rovnice jsou ukázkou obyčejných diferenciáln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vnic prvého a druhého řádu, lineárních, s konstantní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eficienty a homogenn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ěření a zpracování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80760" y="515772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šes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6200000">
            <a:off x="5220360" y="1916640"/>
            <a:ext cx="3024360" cy="36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atesonův pokus se žáb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1916280"/>
            <a:ext cx="1440000" cy="15825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1341360"/>
            <a:ext cx="1440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1628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557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653000"/>
            <a:ext cx="1440000" cy="1584360"/>
          </a:xfrm>
          <a:prstGeom prst="can">
            <a:avLst>
              <a:gd name="adj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4076640"/>
            <a:ext cx="144000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43657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924280"/>
            <a:ext cx="2292480" cy="1663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12187200">
            <a:off x="3419640" y="2420280"/>
            <a:ext cx="1574640" cy="485640"/>
          </a:xfrm>
          <a:custGeom>
            <a:avLst/>
            <a:gdLst>
              <a:gd name="textAreaLeft" fmla="*/ 245880 w 1574640"/>
              <a:gd name="textAreaRight" fmla="*/ 1378080 w 15746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9268800">
            <a:off x="3347280" y="4437000"/>
            <a:ext cx="1575000" cy="486000"/>
          </a:xfrm>
          <a:custGeom>
            <a:avLst/>
            <a:gdLst>
              <a:gd name="textAreaLeft" fmla="*/ 245880 w 1575000"/>
              <a:gd name="textAreaRight" fmla="*/ 1378440 w 157500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3080" y="29242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7800" y="1197000"/>
            <a:ext cx="560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ychlé zahřívání nádoby s vodou a žáb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žába změnu pozná a vysko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8160" y="5589720"/>
            <a:ext cx="573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omalé zahřívání nádoby s vodou a žáb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žába změnu nepozná a uvaří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1484280"/>
            <a:ext cx="360360" cy="4681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atesonův zá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ateson – Ehre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rganismus reaguje na časovou změnu (derivaci) vníma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očit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atematizace“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ff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signál, podně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nímaný počit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66ff"/>
                </a:solidFill>
                <a:latin typeface="Times New Roman"/>
              </a:rPr>
              <a:t>R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ezva, re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39640" y="4653000"/>
          <a:ext cx="331164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653000"/>
                    <a:ext cx="331164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27640" y="24210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V="1">
            <a:off x="6588000" y="3500280"/>
            <a:ext cx="1008360" cy="1873440"/>
          </a:xfrm>
          <a:prstGeom prst="line">
            <a:avLst/>
          </a:prstGeom>
          <a:ln w="381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3500280"/>
            <a:ext cx="0" cy="18734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8000" y="5373720"/>
            <a:ext cx="1008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06960" y="4941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96360" y="4292640"/>
            <a:ext cx="5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516720" y="3573360"/>
            <a:ext cx="914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 j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55640" y="5445000"/>
          <a:ext cx="78850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45000"/>
                    <a:ext cx="78850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116000" y="1413000"/>
            <a:ext cx="1490760" cy="15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213000"/>
            <a:ext cx="14907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1413000"/>
            <a:ext cx="1490760" cy="1512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3213000"/>
            <a:ext cx="1490760" cy="1513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35280" y="1700280"/>
            <a:ext cx="50472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08000" y="1197000"/>
            <a:ext cx="935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835280" y="2852280"/>
            <a:ext cx="115236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835280" y="3213000"/>
            <a:ext cx="129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835280" y="3573000"/>
            <a:ext cx="649080" cy="36036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48428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263700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835280" y="443700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40000" y="220500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400536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57080" y="1341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3200" y="335772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+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2565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6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21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356000" y="234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40360" y="23493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205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40360" y="220500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256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84720" y="1989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2764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4149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5600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84720" y="4292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508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5928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56000" y="4005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3933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436572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4149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4437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84720" y="38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4076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2000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32360" y="24922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63700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2060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24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9308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414972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386064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142920" cy="142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7528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95640" y="227664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3640" y="21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184464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27640" y="19162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422100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4365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3640" y="393372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40766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37893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5364000" y="2708280"/>
          <a:ext cx="309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708280"/>
                    <a:ext cx="309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243040" y="1989000"/>
            <a:ext cx="31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4,8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2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15640" y="4653000"/>
            <a:ext cx="31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–2,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 1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16880" y="465300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orpce zá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92360" y="1773360"/>
            <a:ext cx="1727280" cy="381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1773360"/>
            <a:ext cx="144360" cy="38163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5280" y="386064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3860640"/>
            <a:ext cx="129708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85264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268360" y="285264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41080" y="2349360"/>
            <a:ext cx="5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3860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+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12880" y="335124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     I + 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386064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4140360" y="1989000"/>
          <a:ext cx="467964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989000"/>
                    <a:ext cx="467964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rodní zákony - pří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ická mechanika – Newtonův druhý pohybový zá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asická elektrodynamika – zákon elektromagnetické indu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vantová mechanika – časový vývoj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říroda nás informuje o změnách. Zákony přírody nejčastě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ředstavují chování časových a prostorových změn velič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Je tedy dobré umět se změnami počít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87280" y="1484280"/>
          <a:ext cx="65469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84280"/>
                    <a:ext cx="65469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538280" y="2708280"/>
          <a:ext cx="549900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8280" y="2708280"/>
                    <a:ext cx="5499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900000" y="3860640"/>
          <a:ext cx="7129440" cy="9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60640"/>
                    <a:ext cx="7129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Jak se dělí nula nulo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042920" y="1557360"/>
            <a:ext cx="0" cy="324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4149720"/>
            <a:ext cx="22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0328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6364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4076640"/>
            <a:ext cx="0" cy="144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71640" y="386064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357336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328464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99736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270828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4437000"/>
            <a:ext cx="144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1916280"/>
            <a:ext cx="1800360" cy="2952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3500280"/>
            <a:ext cx="144360" cy="144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403280" y="364500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81440" y="364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7080" y="1773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6000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4872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072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1080" y="4149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360" y="41497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440" y="3357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440" y="278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348000" y="1268280"/>
          <a:ext cx="475128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268280"/>
                    <a:ext cx="475128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2771640" y="3357720"/>
          <a:ext cx="6096240" cy="9144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2771640" y="4508640"/>
          <a:ext cx="6096240" cy="91440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(</a:t>
                      </a:r>
                      <a:r>
                        <a:rPr b="1" i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994560" y="285264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us“ o dělení nul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960" y="5826240"/>
            <a:ext cx="89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Co si myslíte o možnosti dělení nulou? Jde to provést, nebo se to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lze za určitých podmínek „přiblížit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0680" y="1628640"/>
            <a:ext cx="47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1" i="1" lang="cs-CZ" sz="2400" spc="-1" strike="noStrike" baseline="-25000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ÚTFA</cp:lastModifiedBy>
  <dcterms:modified xsi:type="dcterms:W3CDTF">2009-10-26T08:07:26Z</dcterms:modified>
  <cp:revision>72</cp:revision>
  <dc:subject/>
  <dc:title>Radiologická fyzika</dc:title>
</cp:coreProperties>
</file>