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10.wmf" ContentType="image/x-wmf"/>
  <Override PartName="/ppt/media/image25.png" ContentType="image/png"/>
  <Override PartName="/ppt/media/image6.wmf" ContentType="image/x-wmf"/>
  <Override PartName="/ppt/media/image31.wmf" ContentType="image/x-wmf"/>
  <Override PartName="/ppt/media/image11.wmf" ContentType="image/x-wmf"/>
  <Override PartName="/ppt/media/image26.png" ContentType="image/png"/>
  <Override PartName="/ppt/media/image16.wmf" ContentType="image/x-wmf"/>
  <Override PartName="/ppt/media/image8.png" ContentType="image/png"/>
  <Override PartName="/ppt/media/image5.wmf" ContentType="image/x-wmf"/>
  <Override PartName="/ppt/media/image28.wmf" ContentType="image/x-wmf"/>
  <Override PartName="/ppt/media/image7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9.wmf" ContentType="image/x-wmf"/>
  <Override PartName="/ppt/media/image13.wmf" ContentType="image/x-wmf"/>
  <Override PartName="/ppt/media/image4.wmf" ContentType="image/x-wmf"/>
  <Override PartName="/ppt/media/image3.wmf" ContentType="image/x-wmf"/>
  <Override PartName="/ppt/media/image2.wmf" ContentType="image/x-wmf"/>
  <Override PartName="/ppt/media/image29.wmf" ContentType="image/x-wmf"/>
  <Override PartName="/ppt/media/image1.png" ContentType="image/png"/>
  <Override PartName="/ppt/media/image24.png" ContentType="image/png"/>
  <Override PartName="/ppt/media/image14.wmf" ContentType="image/x-wmf"/>
  <Override PartName="/ppt/media/image15.png" ContentType="image/png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FDEA-4E26-42DA-886C-EEED05A8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7C9F-5F43-442C-AEAC-7AC79FCD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F9A8-B2B3-4FB5-9FD7-C8D47A15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1AF6-2F50-4D5E-9D53-E46388702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09E6-C85F-4D85-BF8A-20A532EE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2038-A998-44F4-89A7-852DC7A3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F399-C150-417D-B515-50D2BD57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2708-CB81-4818-99DB-9C89BB24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8591-6395-4F7A-AC6E-91E39466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5CFF-E816-4AA8-BFCF-6F2D9B74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A845-59CA-4788-86B1-405F9871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6023-6A12-43AE-A657-3ED5B732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71F6-E30F-4CA0-A60A-50EA7DBBA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Radiologick</a:t>
            </a:r>
            <a:r>
              <a:rPr b="1" lang="cs-CZ" sz="4800" spc="-1" strike="noStrike">
                <a:solidFill>
                  <a:srgbClr val="3333cc"/>
                </a:solidFill>
                <a:latin typeface="Times New Roman"/>
              </a:rPr>
              <a:t>á fyzi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790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zim 2008, třetí přednáš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265104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ony zach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oustava 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Jednotky v radiolog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ápis zákonů zach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371600" y="1676520"/>
          <a:ext cx="5761080" cy="63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5761080" cy="63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533520" y="9144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523880" y="3352680"/>
          <a:ext cx="4803840" cy="100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352680"/>
                    <a:ext cx="480384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1905120" y="5105520"/>
          <a:ext cx="4295520" cy="100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5105520"/>
                    <a:ext cx="4295520" cy="100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533520" y="259092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žka hybnosti ve směru os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44197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žka hybnosti ve směru os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měna vlnové délky a ener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440080" y="1863720"/>
          <a:ext cx="362268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0080" y="1863720"/>
                    <a:ext cx="36226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533520" y="10666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výpočtu dostan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048120" y="3048120"/>
          <a:ext cx="1733400" cy="104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048120"/>
                    <a:ext cx="173340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1951200" y="4824360"/>
          <a:ext cx="4201920" cy="156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51200" y="4824360"/>
                    <a:ext cx="4201920" cy="15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533520" y="2514600"/>
            <a:ext cx="8305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de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 Comptonova vlnová dél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42670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 energii fotonu po rozptylu dostan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nožství fotonem předané ener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048120" y="3048120"/>
          <a:ext cx="1733400" cy="104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048120"/>
                    <a:ext cx="173340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" descr=""/>
          <p:cNvPicPr/>
          <p:nvPr/>
        </p:nvPicPr>
        <p:blipFill>
          <a:blip r:embed="rId3"/>
          <a:srcRect l="3940" t="3940" r="7871" b="0"/>
          <a:stretch/>
        </p:blipFill>
        <p:spPr>
          <a:xfrm>
            <a:off x="838080" y="1828800"/>
            <a:ext cx="4429080" cy="482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4572000" y="990720"/>
          <a:ext cx="3881520" cy="1089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990720"/>
                    <a:ext cx="388152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Zákon zachování energie: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kinetická a potenciální energ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hyb částice s malou hmotností v poli částice s vekou hmotnost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362320" y="2133720"/>
          <a:ext cx="3502080" cy="106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133720"/>
                    <a:ext cx="350208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380880" y="12193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 takovém případě můžeme s dobrým přiblížením považovat částici s velkou hmotností za nehybn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327672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ktron hmotnosti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 náboje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 elektrickém poli protonu s náboje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54100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Částice s hmotností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 gravitačním poli Země hmotnosti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90920" y="4267080"/>
          <a:ext cx="3510000" cy="9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4267080"/>
                    <a:ext cx="35100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naménko potenciální ener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876400" y="1295280"/>
          <a:ext cx="2320920" cy="10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6400" y="1295280"/>
                    <a:ext cx="232092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457200" y="25146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hlasné náboje se odpuzují, náboje opačného znaménka se přitahuj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5105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vitační působení je vždy přitažliv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048120" y="3733920"/>
          <a:ext cx="2327040" cy="9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733920"/>
                    <a:ext cx="232704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k je to s potenciální energií v gravitačním poli zem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2514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Úpr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44197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ýsled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878120" y="1405080"/>
          <a:ext cx="436248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8120" y="1405080"/>
                    <a:ext cx="436248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838080" y="3048120"/>
          <a:ext cx="7391520" cy="114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048120"/>
                    <a:ext cx="739152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762120" y="5105520"/>
          <a:ext cx="6991200" cy="957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5105520"/>
                    <a:ext cx="69912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Zkratky pro různé jednotky ener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447920"/>
            <a:ext cx="4495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Bt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British thermal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r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ft.l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foot - p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hp.h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horse power h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Jo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ca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kal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kW.h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kilowatthod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e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elektrovo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kg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ki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atomová hmotnostní jednot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řevodní vztahy jednotek pro energ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1605" r="0" b="0"/>
          <a:stretch/>
        </p:blipFill>
        <p:spPr>
          <a:xfrm>
            <a:off x="609480" y="1523880"/>
            <a:ext cx="829476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Mezinárodní soustava jednotek S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Zákon zachování energ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ákladní jednotky SI m, kg, 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9907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élka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metr            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6002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r je délka dráhy proběhnuté světlem ve vakuu za do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99 792 458 sekun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7432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motnos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kilogram    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335268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ogram je jednotka hmotnosti; rovná se hmotnosti mezinárodního prototypu kilogra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44197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Čas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   sekunda       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51814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kunda je trvání 9 192 631 770 period záření odpovídajícího přechodu mezi dvěma velmi jemnými hladinami základního stavu atomu cesia 1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ákladní jednotky SI A, 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9907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Elektrický proud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ampér          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60020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mpér je stálý elektrický proud, který při průtoku dvěma přímými nekonečně dlouhými rovnoběžnými vodiči zanedbatelného kruhového průřezu, umístěnými ve vakuu ve vzdálenosti 1 metru, vyvolá mezi nimi sílu 2.10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newtonu na metr dél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37339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Termodynamická teplota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 kelvin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       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45720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elvin, jednotka termodynamické teploty, je 1/273,16 termodynamické teploty trojného bodu v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ákladní jednotky SI mol, c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9907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átkové množství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mol   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m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160020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l je látkové množství soustavy, která obsahuje tolik elementárních entit, kolik je atomů v 0,012 kg uhlíku 12. Př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žití molu musí být elementární entity specifikovány. Mohou to být atomy, molekuly, ionty, elektrony, jiné čás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bo specifikované skupiny takových částic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37339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Svítivost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kandela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3333cc"/>
                </a:solidFill>
                <a:latin typeface="Times New Roman"/>
              </a:rPr>
              <a:t>     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4572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ndela je svítivost zdroje v daném směru, který vysílá monochromatické záření s kmitočtem 540.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tzů a má v tomto směru zářivost 1/683 wattů na steradi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dvozené jednotky SI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259480" cy="2198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831060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dvozené jednotky SI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3106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Jednotky v radiolog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hlcená dávk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143000"/>
            <a:ext cx="7635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Pohlcená dávka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 míra radiační dávky (energie na jednotku hmotnosti) skutečně pohlcené určitým objektem, například pacientovou rukou nebo hrudníkem. Jednotkou v soustavě SI je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ray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Gy). Stále se však užívá i starší jednotky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d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radiation absorbed dose - pohlcená radiační dávka). Jednotky jsou definovány jak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447920" y="3581280"/>
          <a:ext cx="6019560" cy="7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581280"/>
                    <a:ext cx="601956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kvivalentní dávk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914400"/>
            <a:ext cx="76359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orontoBoldItalic"/>
              </a:rPr>
              <a:t>Ekvivalentní dávka.</a:t>
            </a:r>
            <a:r>
              <a:rPr b="1" i="1" lang="cs-CZ" sz="2400" spc="-1" strike="noStrike">
                <a:solidFill>
                  <a:srgbClr val="ff0000"/>
                </a:solidFill>
                <a:latin typeface="TorontoBoldItalic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orontoPlain~2a"/>
              </a:rPr>
              <a:t>Ačkoli různé druhy záření (například záření gama a neutrony) mohou tělu dodat stejné množství energie, nemusí mít stejný biologický účinek. Ekvivalentní dávka nám umožňuje určit biologický účinek záření tak, že vynásobíme pohlcenou dávku (udanou v jednotkách gray nebo rad) číselným </a:t>
            </a:r>
            <a:r>
              <a:rPr b="1" lang="cs-CZ" sz="2400" spc="-1" strike="noStrike">
                <a:solidFill>
                  <a:srgbClr val="000000"/>
                </a:solidFill>
                <a:latin typeface="TorontoBold"/>
              </a:rPr>
              <a:t>RBE </a:t>
            </a:r>
            <a:r>
              <a:rPr b="0" lang="cs-CZ" sz="2400" spc="-1" strike="noStrike">
                <a:solidFill>
                  <a:srgbClr val="000000"/>
                </a:solidFill>
                <a:latin typeface="TorontoPlain~2a"/>
              </a:rPr>
              <a:t>faktorem relativní biologické účinnosti (relative biological effectiveness). Pro rentgenové záření a elektrony je RBE=1, pro pomalé neutrony RBE=5, pro α-částice RBE=10 atd. Běžné osobní měřicí pomůcky registrují právě ekvivalentní dávku. Jednotkou pro ekvivalentní dávku v soustavě SI je </a:t>
            </a:r>
            <a:r>
              <a:rPr b="1" lang="cs-CZ" sz="2400" spc="-1" strike="noStrike">
                <a:solidFill>
                  <a:srgbClr val="000000"/>
                </a:solidFill>
                <a:latin typeface="TorontoBold"/>
              </a:rPr>
              <a:t>sievert </a:t>
            </a:r>
            <a:r>
              <a:rPr b="0" lang="cs-CZ" sz="2400" spc="-1" strike="noStrike">
                <a:solidFill>
                  <a:srgbClr val="000000"/>
                </a:solidFill>
                <a:latin typeface="TorontoPlain~2a"/>
              </a:rPr>
              <a:t>(Sv). Užívá se i starší jednotky </a:t>
            </a:r>
            <a:r>
              <a:rPr b="1" lang="cs-CZ" sz="2400" spc="-1" strike="noStrike">
                <a:solidFill>
                  <a:srgbClr val="000000"/>
                </a:solidFill>
                <a:latin typeface="TorontoBold"/>
              </a:rPr>
              <a:t>rem</a:t>
            </a:r>
            <a:r>
              <a:rPr b="0" lang="cs-CZ" sz="2400" spc="-1" strike="noStrike">
                <a:solidFill>
                  <a:srgbClr val="000000"/>
                </a:solidFill>
                <a:latin typeface="TorontoPlain~2a"/>
              </a:rPr>
              <a:t>. Plat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514600" y="5638680"/>
          <a:ext cx="358128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5638680"/>
                    <a:ext cx="35812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ktivi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914400"/>
            <a:ext cx="763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ktivita.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elková rychlost rozpadu vzorku radionuklidu se nazývá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ktivit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zorku. Jednotkou aktivity v soustavě SI je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becquere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podle objevitele radioaktivity Henriho Becquer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124080" y="2749680"/>
          <a:ext cx="26416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749680"/>
                    <a:ext cx="26416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838080" y="3809880"/>
            <a:ext cx="76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 Bq tedy odpovídá jednomu rozpadu za sekundu. Starší, ale stále používanou jednotkou je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u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133720" y="4648320"/>
          <a:ext cx="4444920" cy="74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4648320"/>
                    <a:ext cx="444492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říklady použit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54100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Aktivita:</a:t>
            </a:r>
            <a:r>
              <a:rPr b="0" lang="cs-CZ" sz="2400" spc="-1" strike="noStrike">
                <a:solidFill>
                  <a:srgbClr val="000000"/>
                </a:solidFill>
                <a:latin typeface="TorontoPlain~2a"/>
              </a:rPr>
              <a:t> „Aktivita vyhořelé palivové tyče číslo 5 658 dne 15. ledna 1997 činila 3,5.10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orontoPlain"/>
              </a:rPr>
              <a:t>15</a:t>
            </a:r>
            <a:r>
              <a:rPr b="0" lang="cs-CZ" sz="2400" spc="-1" strike="noStrike">
                <a:solidFill>
                  <a:srgbClr val="000000"/>
                </a:solidFill>
                <a:latin typeface="TorontoPlai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orontoPlain~2a"/>
              </a:rPr>
              <a:t>Bq.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990720"/>
            <a:ext cx="8016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imes New Roman"/>
              </a:rPr>
              <a:t>Pohlcená dávka:</a:t>
            </a:r>
            <a:r>
              <a:rPr b="1" i="1" lang="cs-CZ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„Celotělová, krátkodobá dávka gama záření 3 Gy (300 rad) zapříčiní smrt 50% populace, která jí byla vystavena.“ Pro uklidnění uveďme, že dnešní střední roční absorbovaná dávka záření ze zdrojů přírodních i vytvořených lidskou činností je asi </a:t>
            </a:r>
            <a:r>
              <a:rPr b="0" lang="cs-CZ" sz="2400" spc="-1" strike="noStrike">
                <a:solidFill>
                  <a:srgbClr val="000000"/>
                </a:solidFill>
                <a:latin typeface="TorontoPlain~2a"/>
              </a:rPr>
              <a:t>2 mGy=0,2 r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342900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TorontoBoldItalic"/>
              </a:rPr>
              <a:t>Ekvivalentní dávka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„Národní úřad pro ochranu před zářením doporučuje, aby nikdo vystavený působení záření (kromě osob pracujících se zářením) neobdržel v žádném roce ekvivalentní dávku větší než 5 mSv =0,5 rem.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chard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Feynman o energ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990720"/>
            <a:ext cx="8016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 důležité si uvědomi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že dnešní fyzika neví, co energie je. Netvrdíme, že se energie vyskytuje v nějakých malých dávkách o přesně dané velikosti. Tak to prostě není. Nicméně máme vzorce pro výpočet určitých číselných hodnot, a když ta čísla všechna sečteme, dají vždycky toté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 vypočítáváme energii, občas její část systém opouští a občas zase zvenku přichází. Když chceme zákon zachování ověřit, musíme si dát pozor, aby žádná energie ani zvenku nepřišla, ani ven neodeš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orontoPlain~2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orontoPlain~2a"/>
              </a:rPr>
              <a:t>Energie má řadu různých podob, a každá z nich se počítá z jiného vzorce. Existuje gravitační energie, elektromagnetická energie, kinetická energie, tepelná energie, elastická energie, jaderná energie a energie spojená s hmotností. Když sečteme výrazy pro všechny tyto druhy energie, bude součet vždy stejn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vitační potenciální ener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1_0008" descr=""/>
          <p:cNvPicPr/>
          <p:nvPr/>
        </p:nvPicPr>
        <p:blipFill>
          <a:blip r:embed="rId1"/>
          <a:srcRect l="0" t="0" r="0" b="596"/>
          <a:stretch/>
        </p:blipFill>
        <p:spPr>
          <a:xfrm>
            <a:off x="4343400" y="838080"/>
            <a:ext cx="4246560" cy="5531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41360" y="1031760"/>
            <a:ext cx="390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Vratný stroj 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jednotkové závaží spustí o jednotkovou vzdálenost a přitom tři jednotková závaží zvedne o vzdálenost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3124080"/>
            <a:ext cx="390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Nevratný stroj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jednotkové závaží spustí o jednotkovou vzdálenost a přitom tři jednotková závaží zvedne o vzdálenost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65320" y="5359320"/>
          <a:ext cx="1257120" cy="64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65320" y="5359320"/>
                    <a:ext cx="1257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ůk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1360" y="1031760"/>
            <a:ext cx="8093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pokládejme opak našeho tvrzení, tedy 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X. Jednotkové závaží spustíme strojem B o jednotkovou vzdálenost a tři jednotková závaží vystoupí o Y výše. Pak můžeme snížit tři závaží závaží z Y na X a získat „zadarmo“ výkon, neboť v této situaci pak vratný stroj A s obráceným chodem by snížil tři jednotková závaží o vzdálenost X a zdvihl jednotkové závaží o jednotkovou vzdálenost, čímž by se závaží dostala do původního stavu a oba stroje by mohly opakovat popsanou akci. Kdyby tedy bylo Y větší jak X, dostali bychom věčný pohyb, jehož existenci považujeme za vyloučen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542960" y="4997520"/>
          <a:ext cx="4942080" cy="122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2960" y="4997520"/>
                    <a:ext cx="494208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9051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cc"/>
                </a:solidFill>
                <a:latin typeface="Times New Roman"/>
              </a:rPr>
              <a:t>Zákon zachování energie a hybnosti na příkladu Comptonova jev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rakteristiky elektronu a foto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1430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lektron charakterizujeme hmotností, nábojem a  vektorem rychlosti (případně spine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657520" y="2306520"/>
          <a:ext cx="2370240" cy="5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7520" y="2306520"/>
                    <a:ext cx="237024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380880" y="289548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ton charakterizujeme frekvencí (vlnovou délkou) a jednotkovým vektorem směru šíření (případně jednotkovým vektorem polariz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133720" y="4572000"/>
          <a:ext cx="4122720" cy="9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4572000"/>
                    <a:ext cx="412272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ybnost a energie elektronu a foto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1430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ný elektron má hybnost a energ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09480" y="1752480"/>
          <a:ext cx="7839360" cy="16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7839360" cy="16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457200" y="36576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ton má hybnost a energ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209680" y="4419720"/>
          <a:ext cx="3924360" cy="9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4419720"/>
                    <a:ext cx="392436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mptonův rozpt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4114800"/>
            <a:ext cx="815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orontoPlain~33"/>
              </a:rPr>
              <a:t>Rentgenové záření o vlnové délce λ</a:t>
            </a:r>
            <a:r>
              <a:rPr b="0" lang="cs-CZ" sz="2800" spc="-1" strike="noStrike">
                <a:solidFill>
                  <a:srgbClr val="000000"/>
                </a:solidFill>
                <a:latin typeface="MTMI~42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orontoPlain~33"/>
              </a:rPr>
              <a:t>interaguje s elektronem v klidu. Rentgenový svazek je rozptýlen do úhlu φ</a:t>
            </a:r>
            <a:r>
              <a:rPr b="0" lang="cs-CZ" sz="2800" spc="-1" strike="noStrike">
                <a:solidFill>
                  <a:srgbClr val="000000"/>
                </a:solidFill>
                <a:latin typeface="MTMI~42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orontoPlain~33"/>
              </a:rPr>
              <a:t>a jeho vlnová délka vzroste na λ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orontoPlain~33"/>
              </a:rPr>
              <a:t>/</a:t>
            </a:r>
            <a:r>
              <a:rPr b="0" lang="cs-CZ" sz="2800" spc="-1" strike="noStrike">
                <a:solidFill>
                  <a:srgbClr val="000000"/>
                </a:solidFill>
                <a:latin typeface="TorontoPlain~33"/>
              </a:rPr>
              <a:t>. Elektron se pohybuje s rychlostí </a:t>
            </a:r>
            <a:r>
              <a:rPr b="1" i="1" lang="cs-CZ" sz="2800" spc="-1" strike="noStrike">
                <a:solidFill>
                  <a:srgbClr val="000000"/>
                </a:solidFill>
                <a:latin typeface="Vector-GroteskMediumItalic~ae"/>
              </a:rPr>
              <a:t>v</a:t>
            </a:r>
            <a:r>
              <a:rPr b="0" i="1" lang="cs-CZ" sz="2800" spc="-1" strike="noStrike">
                <a:solidFill>
                  <a:srgbClr val="000000"/>
                </a:solidFill>
                <a:latin typeface="Vector-GroteskMediumItalic~ae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orontoPlain~33"/>
              </a:rPr>
              <a:t>pod úhlem 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600200" y="1295280"/>
            <a:ext cx="5629320" cy="22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0T12:54:08Z</dcterms:created>
  <dc:creator>bohunka</dc:creator>
  <dc:description/>
  <dc:language>en-US</dc:language>
  <cp:lastModifiedBy>bohunka</cp:lastModifiedBy>
  <dcterms:modified xsi:type="dcterms:W3CDTF">2008-10-06T03:57:03Z</dcterms:modified>
  <cp:revision>124</cp:revision>
  <dc:subject/>
  <dc:title>Radiologická fyzika</dc:title>
</cp:coreProperties>
</file>