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wmf" ContentType="image/x-wmf"/>
  <Override PartName="/ppt/media/image22.jpeg" ContentType="image/jpeg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media/image13.jpeg" ContentType="image/jpeg"/>
  <Override PartName="/ppt/media/image3.wmf" ContentType="image/x-wmf"/>
  <Override PartName="/ppt/media/image26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A7D2-37F6-49B8-8FDD-804F990B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6E2C-A602-4723-A241-76C04F81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789-76AE-4209-81A4-6B27C81F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B095-4350-498F-8E34-E658FB50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6CFE-8AAD-422D-83EB-74E85BE5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7F0-0BE5-4434-830A-6FA43B45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6C3C-A1B9-4225-8C0B-1F7C6B14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E22-959C-40C3-8538-C6DCEAB6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45A-572A-4BC6-AD69-026DDB54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4D80-037C-4969-9841-DD193857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649-0CE1-4B6E-BFE2-FE34982A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3F4-BCAC-4C5A-8730-BC4183CB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CD15-9D1B-4EC4-8A90-AE37AF065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vděpodob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ěření a zpracování d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0760" y="5157720"/>
            <a:ext cx="44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šest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ifry, kostky, karty 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neb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ombinatorická prů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výběry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té třídy prvků z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v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bě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vků z množiny obsahující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vků podle jist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vi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9280" y="2997360"/>
          <a:ext cx="8785440" cy="1368360"/>
        </p:xfrm>
        <a:graphic>
          <a:graphicData uri="http://schemas.openxmlformats.org/drawingml/2006/table">
            <a:tbl>
              <a:tblPr/>
              <a:tblGrid>
                <a:gridCol w="3029040"/>
                <a:gridCol w="2712960"/>
                <a:gridCol w="30434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ořadí je podstatn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ořadí je nepodstatn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rvky lze opakov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ce s opakování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binace a opakování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rvky nelze opakov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ce bez opak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binace bez opak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9280" y="5157720"/>
          <a:ext cx="8785440" cy="1235160"/>
        </p:xfrm>
        <a:graphic>
          <a:graphicData uri="http://schemas.openxmlformats.org/drawingml/2006/table">
            <a:tbl>
              <a:tblPr/>
              <a:tblGrid>
                <a:gridCol w="3029040"/>
                <a:gridCol w="2712960"/>
                <a:gridCol w="3043440"/>
              </a:tblGrid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ari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kombin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 opakování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ez opak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56240" y="4529160"/>
            <a:ext cx="56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evné signál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 barev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472428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80360" y="472428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67640" y="4724280"/>
            <a:ext cx="216000" cy="2160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56720" y="472428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44000" y="472428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532720" y="4724280"/>
            <a:ext cx="216000" cy="216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0" y="5661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5661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566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5661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566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80000" y="5661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48000" y="609300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609300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6093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609300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609300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80000" y="6093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566100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00720" y="5661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5661000"/>
            <a:ext cx="21600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604360" y="566100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17080" y="5661000"/>
            <a:ext cx="215640" cy="2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8000" y="5661000"/>
            <a:ext cx="21600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12000" y="6093000"/>
            <a:ext cx="21564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00720" y="609300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6093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28000" y="6093000"/>
            <a:ext cx="21600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17080" y="6093000"/>
            <a:ext cx="21564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04360" y="6093000"/>
            <a:ext cx="21564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09640" y="55371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89280" y="5537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28720" y="5950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0160" y="5950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k určit počet možných výbě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1484280"/>
          <a:ext cx="8568720" cy="3528720"/>
        </p:xfrm>
        <a:graphic>
          <a:graphicData uri="http://schemas.openxmlformats.org/drawingml/2006/table">
            <a:tbl>
              <a:tblPr/>
              <a:tblGrid>
                <a:gridCol w="2954520"/>
                <a:gridCol w="2646360"/>
                <a:gridCol w="2967840"/>
              </a:tblGrid>
              <a:tr h="1275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ari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kombin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14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 opakování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bez opaková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940360" y="2878200"/>
          <a:ext cx="251928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878200"/>
                    <a:ext cx="251928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012000" y="3933720"/>
          <a:ext cx="244764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3933720"/>
                    <a:ext cx="24476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419640" y="4005360"/>
          <a:ext cx="230472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4005360"/>
                    <a:ext cx="2304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419640" y="3141720"/>
          <a:ext cx="165564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9640" y="3141720"/>
                    <a:ext cx="16556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445680" y="553716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Zkusíme přijít na to, jak vzorce vzni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zorce pro vari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Určení vzorce pro variace  opaková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z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rvků vybrat první?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ůsob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z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ků vybrat druhý?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ůsob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vybrat první dva prvky?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= n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ůsob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Kolika způsoby lze tedy vybrat </a:t>
            </a:r>
            <a:r>
              <a:rPr b="1" i="1" lang="cs-CZ" sz="2400" spc="-1" strike="noStrike">
                <a:solidFill>
                  <a:srgbClr val="009900"/>
                </a:solidFill>
                <a:latin typeface="Times New Roman"/>
              </a:rPr>
              <a:t>k </a:t>
            </a: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prvků? Doplňte s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Určení vzorce pro variace  bez opak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z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ků vybrat první?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působ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ze zbývajících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vků vybrat druhý?              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 způsob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tedy vybrat první dva prvky?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nakonec ze zbývajících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prvků vybrat k-tý? …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k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Kolika způsoby lze tedy vybrat </a:t>
            </a:r>
            <a:r>
              <a:rPr b="1" i="1" lang="cs-CZ" sz="2400" spc="-1" strike="noStrike">
                <a:solidFill>
                  <a:srgbClr val="009900"/>
                </a:solidFill>
                <a:latin typeface="Times New Roman"/>
              </a:rPr>
              <a:t>k </a:t>
            </a: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prvků?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                                       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1)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–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2)…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k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zorce pro kombin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Určení vzorce pro kombinace bez  opak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ika způsoby lze uspořádat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opakujících se prvků?  …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yto možnosti, lišící se pouze pořadím, jsou ekvivalent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to je C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) = V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) /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… </a:t>
            </a: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Výsledný vzorec zapište s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Určení vzorce pro kombinace s opaková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k vypadají kombinace s opakováním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revných kuliček při výběru z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ých barev? Zvolme např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4365720"/>
          <a:ext cx="8641800" cy="790560"/>
        </p:xfrm>
        <a:graphic>
          <a:graphicData uri="http://schemas.openxmlformats.org/drawingml/2006/table">
            <a:tbl>
              <a:tblPr/>
              <a:tblGrid>
                <a:gridCol w="1235880"/>
                <a:gridCol w="1230480"/>
                <a:gridCol w="1236240"/>
                <a:gridCol w="1235880"/>
                <a:gridCol w="1236600"/>
                <a:gridCol w="1234080"/>
                <a:gridCol w="1232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modr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červe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r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zelen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hněd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fial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oranž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611280" y="4869000"/>
            <a:ext cx="21564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0000" y="4869000"/>
            <a:ext cx="216000" cy="215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2360" y="4869000"/>
            <a:ext cx="21564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79640" y="486900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68360" y="486900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48000" y="4869000"/>
            <a:ext cx="21600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4869000"/>
            <a:ext cx="215640" cy="21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59280" y="4869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4869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84720" y="4869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4869000"/>
            <a:ext cx="216000" cy="215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48360" y="4869000"/>
            <a:ext cx="216000" cy="21564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28000" y="4869000"/>
            <a:ext cx="216000" cy="21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17080" y="4869000"/>
            <a:ext cx="215640" cy="21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3120" y="5249880"/>
            <a:ext cx="85899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hrádek, tj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1 přepážek mez nimi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uliček, celkem te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+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1 poz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nich vybírám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zic pro kuličky, tj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= C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+ k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y na pravděpodobnost -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 hlavní výhry ve Sport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h sportky představuje výběr šesti ze čtyřiceti devíti čí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aká je pravděpodobnost páté ceny ve Sportce? 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šesti tažených je třeba uhodnout tři čís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210360" y="2593800"/>
          <a:ext cx="914400" cy="1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0360" y="259380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101600" y="2421000"/>
          <a:ext cx="64357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1600" y="2421000"/>
                    <a:ext cx="64357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826920" y="4869000"/>
          <a:ext cx="8137800" cy="1728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920" y="4869000"/>
                    <a:ext cx="813780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y na pravděpodobnost -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3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ve hře typu Šance mil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odnete správně taženou skupinu cifer? (Z každého ze šesti bubn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ahujících cifry 0, 1, 2, … , 9 se náhodně vybere jedn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aká je pravděpodobnost v předchozí hře, bude-li 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zici pouze jeden buben, který obsahuje každou z cifer práv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n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210360" y="2593800"/>
          <a:ext cx="914400" cy="1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0360" y="259380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392120" y="2852640"/>
          <a:ext cx="57722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2120" y="2852640"/>
                    <a:ext cx="57722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84360" y="5300640"/>
          <a:ext cx="755964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5300640"/>
                    <a:ext cx="75596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Jak s pravděpodobnostmi počítat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ravděpodobnosti „složených“ jev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ěkdy je třeba určit pravděpodobnosti jevů, které jsou nějaký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působem „složeny“ z jevů jednodušších. Uvažujme o d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ve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ejichž pravděpodobnosti jsou známy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ujme nové jev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a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… jevy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a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nastanou součas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… nastane 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nebo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(v principu zahrnuje i možnost, ž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nastanou o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 určitých podmínek lze pravděpodobnosti jevů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č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mocí pravděpodobností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závislé je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při současném hodu dvěma kostka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dne na obou šestka?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Uvědomte s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o, co padne na jedné kostce, je nezávislé na výsledku druh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ost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: Na první kostce padne šestka …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= 1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: Na druhé kostce padne šestka …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= 1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: Jevy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nastanou současně …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= 6</a:t>
            </a:r>
            <a:r>
              <a:rPr b="0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6 = 36 možnost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= 1,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 / N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/36 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cc"/>
                </a:solidFill>
                <a:latin typeface="Wingdings"/>
                <a:ea typeface="Wingdings"/>
              </a:rPr>
              <a:t>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avděpodobnost současného nástupu nezávislých jevů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vna součinu pravděpodobností  těchto je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slučitelné je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při hodu kostkou padne některé 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ou nejvyšších čísel, tj. padne šestka nebo pětk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Uvědomte si: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kutečnosti, že šestka i pětka padnou při stejném hodu, js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eslučiteln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: Na kostce padne šestka …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= 1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: Na kostce padne pětka  …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= 1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: Nastane buď 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nebo jev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= 6 možností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        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= 2,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 / N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/6 =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+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avděpodobnost nástupu některého z jevů, z nichž každé d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sou neslučitelné, je rovna součtu pravděpodobností těchto je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Dokážete vysvětlit, proč je součet pravděpodobností jevu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jevu opačného, tj. že jev </a:t>
            </a:r>
            <a:r>
              <a:rPr b="1" i="1" lang="en-US" sz="24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enastane, je rovna 1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říklady na pravděpodobnost -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000" y="1312560"/>
            <a:ext cx="8435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íklad 5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ká je pravděpodobnost, že ve skupině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sob maj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espoň dvě narozeniny ve stejný de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k má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365 dní. Určíme nejprve pravděpodobnost jev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ž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ždá z osob má narozenin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v jiný d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Počet případů možn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tento jev j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(variace s opakováním – v princip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ůže  mít každá z osob narozeniny v kterýkoli den). Počet příp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znivých j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(variace bez opakování – nechceme, a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 narozeninový den zopakoval u více osob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v, který nás zajímá, je opačným jevem k jev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je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 je ted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p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1 – V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/ V</a:t>
            </a:r>
            <a:r>
              <a:rPr b="1" lang="cs-CZ" sz="2400" spc="-1" strike="noStrike" baseline="30000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imes New Roman"/>
              </a:rPr>
              <a:t>Vypočtěte si tuto pravděpodobnost pro 40 osob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210360" y="2593800"/>
          <a:ext cx="914400" cy="1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0360" y="2593800"/>
                    <a:ext cx="914400" cy="1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Měření tlaku – nejjednodušší úkon u lékaře 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jak zacházet s měřenými hodnotam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9890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ěžná situace u lékaře: „Paní Nováková, když už tady jste, posaďte se, změřím vám tlak. ....... Ale ale, sto šedesát na sto deset, hned vám musím předepsat lék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”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ff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0066ff"/>
                </a:solidFill>
                <a:latin typeface="Times New Roman"/>
              </a:rPr>
              <a:t>Ale pane doktore, já jsem trochu rozčílená, to není možné, změřte to znovu, prosím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o ano, máte pravdu, teď je to už jen sto třicet na devadesát – máte tlak  jako mlad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Změřte si tlak desetkrá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ůležitý příklad – Bernoulliův pokus -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Provedení pokusu a ozna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Nastane-li předem definovaný jev </a:t>
            </a:r>
            <a:r>
              <a:rPr b="0" i="1" lang="cs-CZ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 (například „padne šestka“), nazveme to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zdarem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, v opačném případě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nezdarem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 zdaru označím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1/6), pravděpodobnost nezdaru je 1 –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tedy 5/6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krát nezávisle provedeme pokus (například hod kostkou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Jaký jev nás zajím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Jev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 Právě při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vedeních z celkového počtu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vedení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kusu nastane z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ůležitý příklad – Bernoulliův pokus -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Které další jevy s tím souvis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v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ro j = 1, …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.. při j-tém provedení pokusu nastane z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v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pro k =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+1, …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.. při k-tém provedení pokusu nez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v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.. Jev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ž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x+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ž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stoupí současně, tj. právě při prvních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pakováních pokusu nastane zdar, při zbývajících nezd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záleží nám ale na tom, při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kterých 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ze všech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pakování pokusu nastal zdar. Možností, kdy zdar nastal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ávě při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e vše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pakování pokusu, je C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/[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–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!]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Výsledná pravděpodobnost jevu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počtěte pravděpodobnost Bernoulliova pokusu pro 5 opakování hodu kostkou a dva zdary, a pro 5 opakování hodu mincí a žádný zdar. Pro jaké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 při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odech mincí pravděpodobnost jevu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největší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619280" y="4941720"/>
          <a:ext cx="5813280" cy="8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941720"/>
                    <a:ext cx="581328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684360" y="2852640"/>
          <a:ext cx="792000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2852640"/>
                    <a:ext cx="79200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Úlohy na pravděpodob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loha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při současném hodu 6 kostkami pa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každé kostce jiné číslo,      e) více než tři dvojk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é jedničky,                        f) právě ti dvojk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spoň tři dvojky,                  g) všechna čísla stejná.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loha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vděpodobnost, že stud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oží úspěšně zkoušku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logické fyziky, j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ravděpodobnost, že zkoušku slož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B, j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Jaká je pravděpodobnost, že zkoušku slož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ávě jeden ze studentů,         c) oba stu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espoň jeden ze studentů,     d) žádný ze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Jednotlivé situace je třeba „šikovně“ vytvořit pomocí jev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nezávislých, resp. neslučitelných, resp.  jevů obojího ty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63272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Měření a zpracování dat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k souvisí pravděpodobnost s měře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ěřené hodnoty veličin jsou „náhodné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920" y="124128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zpomeňme si na měření krevního tlaku – co znamená fak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že při různých opakováních měření naměříme jin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ění se tlak tak rychle, že jej fakticky nemůžeme určit, neb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lze z různých naměřených hodnot zjistit relevantní informa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 správné, že lékař měří pacientovi při dané návštěvě tl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uze jedn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Řada veličin se řídí náhodnými vlivy, takže i za stejn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odmínek mohou nabývat různých hodnot, popř. při jej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pakovaném měření můžeme dostat různé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áhodná veličina s diskrétním rozděle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Náhodná veličina 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X 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a její (diskrétní)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ičina, která nabývá hodnot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s pravděpodobnost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kde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+ …+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Times New Roman"/>
              </a:rPr>
              <a:t>N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imes New Roman"/>
              </a:rPr>
              <a:t>Víte proč ?? Uvědomte si neslučitelnost jevů, že veličina nab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8000"/>
                </a:solidFill>
                <a:latin typeface="Times New Roman"/>
              </a:rPr>
              <a:t>dvou různých hodnot součas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Rozdělením náhodné veličiny rozumíme soubor všech dvoj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j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j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),  pro j = 1, …,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ernoulliovo rozdělení -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192560" cy="4192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4192920" cy="4192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80360" y="1700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7016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5661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01800" y="1700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93160" y="1219320"/>
            <a:ext cx="3340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hody kostkou – zdar = še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hody mincí   –   zdar = hl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(binomick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12800" y="1219320"/>
            <a:ext cx="33400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hody kostkou – zdar = šes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hody mincí   –  zdar = hl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(binomick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3120" y="6091200"/>
            <a:ext cx="812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kážete z grafů určit „nejpravděpodobnější hodnotu“ ? Co znamená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nomick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é a Poissonovo rozdělení –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Poissonovo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imitní případ binomického rozdělení (Bernoulliova pr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velký počet pokusů, zajímáme-li se o velmi malý počet zdar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 srovnání s počtem pokus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Praktický pří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gistrace radioaktivních částic v Geigerově-Millerově trub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Cs</a:t>
            </a:r>
            <a:r>
              <a:rPr b="1" lang="cs-CZ" sz="2400" spc="-1" strike="noStrike" baseline="30000">
                <a:solidFill>
                  <a:srgbClr val="ff3300"/>
                </a:solidFill>
                <a:latin typeface="Times New Roman"/>
              </a:rPr>
              <a:t>137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→ Ba</a:t>
            </a:r>
            <a:r>
              <a:rPr b="1" lang="cs-CZ" sz="24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137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+ elektron + neutrino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… asi 8%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šech rozp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Cs</a:t>
            </a:r>
            <a:r>
              <a:rPr b="1" lang="cs-CZ" sz="2400" spc="-1" strike="noStrike" baseline="30000">
                <a:solidFill>
                  <a:srgbClr val="ff3300"/>
                </a:solidFill>
                <a:latin typeface="Times New Roman"/>
              </a:rPr>
              <a:t>137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→ Ba</a:t>
            </a:r>
            <a:r>
              <a:rPr b="1" lang="cs-CZ" sz="24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137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*</a:t>
            </a:r>
            <a:r>
              <a:rPr b="1" lang="cs-CZ" sz="2400" spc="-1" strike="noStrike" baseline="30000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+ elektron + neutrino …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si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9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%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šech rozp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zdroj s aktivitou 10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(1 Curie … za 1 s rozpad 3,7 . 10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d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našem vzorku to znamená 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700 000 pokusů za 10 sekund)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experimentu při počítání pulsů je nastaveno na cca 1 puls (zd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1 s, počet zdarů v intervalu 10 s je tedy velmi malý proti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Binomické  a Poissonovo rozdělení –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570560" cy="45705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80360" y="13413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10160" y="5084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16000" y="2133720"/>
            <a:ext cx="295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nomické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dy mincí 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70560" cy="4570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4859280" y="1844640"/>
            <a:ext cx="15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Binom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n =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50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93080" y="2924280"/>
            <a:ext cx="172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Poissono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&lt;x&gt;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 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01800" y="13413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101080" y="5084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k zjistit rozdělení experimentálně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Příklad se střel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řelec vystřelí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krát na terč. Dosažené počty bodů při jednotliv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střelech představují hodnoty náhodné veličiny. Jaké js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i jednotlivých hodnot? Pr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50 napříkl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 různých počtech výstřelů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 pravděpodobnosti budou obec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nit. Pro rostoucí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udeme pozorovat jejich „ustalování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3357720"/>
          <a:ext cx="8640720" cy="1439640"/>
        </p:xfrm>
        <a:graphic>
          <a:graphicData uri="http://schemas.openxmlformats.org/drawingml/2006/table">
            <a:tbl>
              <a:tblPr/>
              <a:tblGrid>
                <a:gridCol w="1379520"/>
                <a:gridCol w="662040"/>
                <a:gridCol w="658800"/>
                <a:gridCol w="660600"/>
                <a:gridCol w="660240"/>
                <a:gridCol w="660600"/>
                <a:gridCol w="658800"/>
                <a:gridCol w="660240"/>
                <a:gridCol w="660240"/>
                <a:gridCol w="659160"/>
                <a:gridCol w="661680"/>
                <a:gridCol w="658800"/>
              </a:tblGrid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dno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t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kus s měřením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413000"/>
          <a:ext cx="4464000" cy="5029200"/>
        </p:xfrm>
        <a:graphic>
          <a:graphicData uri="http://schemas.openxmlformats.org/drawingml/2006/table">
            <a:tbl>
              <a:tblPr/>
              <a:tblGrid>
                <a:gridCol w="1487520"/>
                <a:gridCol w="1488960"/>
                <a:gridCol w="14875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st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076720" y="1413000"/>
            <a:ext cx="406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Jaké jsou  jednotk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Times New Roman"/>
              </a:rPr>
              <a:t>1 mm Hg odpovídá tla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33cc"/>
                </a:solidFill>
                <a:latin typeface="Times New Roman"/>
              </a:rPr>
              <a:t>p = h</a:t>
            </a:r>
            <a:r>
              <a:rPr b="1" i="1" lang="el-GR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ρ</a:t>
            </a:r>
            <a:r>
              <a:rPr b="1" i="1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g</a:t>
            </a:r>
            <a:r>
              <a:rPr b="0" i="1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= </a:t>
            </a:r>
            <a:r>
              <a:rPr b="0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</a:t>
            </a:r>
            <a:r>
              <a:rPr b="0" lang="cs-CZ" sz="24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3</a:t>
            </a:r>
            <a:r>
              <a:rPr b="0" lang="cs-CZ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</a:t>
            </a:r>
            <a:r>
              <a:rPr b="0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3 500</a:t>
            </a:r>
            <a:r>
              <a:rPr b="0" lang="cs-CZ" sz="2400" spc="-1" strike="noStrike">
                <a:solidFill>
                  <a:srgbClr val="0033cc"/>
                </a:solidFill>
                <a:latin typeface="Wingdings"/>
                <a:ea typeface="Wingdings"/>
              </a:rPr>
              <a:t></a:t>
            </a:r>
            <a:r>
              <a:rPr b="0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= 135 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0 mm Hg odpovídá 13,5 k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Která z hodnot je správná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esprávně položená otáz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S daty je třeba umět zacház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terá hodnota nejlépe reprezentuje rozděle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Jak máme zadávat náhodnou velič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áhodnou veličinu nejdokonaleji  reprezentuje zadání její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dělení. To je ovšem poněkud nepraktické. U střelce jsme viděl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že jeho kvalita je reprezentována hodnotou blízkou devít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ovala se nejčastěji, má největší váh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Reprezentativní hodn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ritmetický průměr všech hodnot včetně „násobnosti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vedená hodnota je váženým průměrem hodnot a nazývá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řední hodnotou náhodné velič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čete střední hodnotu dosažených bodů v příkladu se střelc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68360" y="4149720"/>
          <a:ext cx="835164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149720"/>
                    <a:ext cx="83516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lší charakteristiky rozdě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Který střelec je lepš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va střelci vystřelí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krát na terč. Pr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 50 máme jejich tabu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24000" y="2565360"/>
          <a:ext cx="8351280" cy="1371600"/>
        </p:xfrm>
        <a:graphic>
          <a:graphicData uri="http://schemas.openxmlformats.org/drawingml/2006/table">
            <a:tbl>
              <a:tblPr/>
              <a:tblGrid>
                <a:gridCol w="1332360"/>
                <a:gridCol w="639720"/>
                <a:gridCol w="636840"/>
                <a:gridCol w="637560"/>
                <a:gridCol w="640080"/>
                <a:gridCol w="636480"/>
                <a:gridCol w="637920"/>
                <a:gridCol w="639720"/>
                <a:gridCol w="636840"/>
                <a:gridCol w="637560"/>
                <a:gridCol w="638280"/>
                <a:gridCol w="6379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dno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t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24000" y="4149720"/>
          <a:ext cx="8351640" cy="1511280"/>
        </p:xfrm>
        <a:graphic>
          <a:graphicData uri="http://schemas.openxmlformats.org/drawingml/2006/table">
            <a:tbl>
              <a:tblPr/>
              <a:tblGrid>
                <a:gridCol w="1331640"/>
                <a:gridCol w="641520"/>
                <a:gridCol w="636480"/>
                <a:gridCol w="636480"/>
                <a:gridCol w="640080"/>
                <a:gridCol w="637920"/>
                <a:gridCol w="636840"/>
                <a:gridCol w="639720"/>
                <a:gridCol w="637920"/>
                <a:gridCol w="635040"/>
                <a:gridCol w="642960"/>
                <a:gridCol w="635040"/>
              </a:tblGrid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dno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et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dělení pro oba stře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0" y="1341360"/>
          <a:ext cx="8424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8424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2475000" y="1268280"/>
            <a:ext cx="448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střední hodnota  je 5,0 u obou roz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zptyl rozdě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Odvozené náhodné velič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 = 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náhodná veličina s rozdělením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má-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ičin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dělení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erá veličina charakterizuje „odchýlení“ hodnot od střední hodno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Určete střední hodnotu veličiny </a:t>
            </a: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- &lt;</a:t>
            </a:r>
            <a:r>
              <a:rPr b="1" i="1" lang="en-US" sz="24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9900"/>
                </a:solidFill>
                <a:latin typeface="Times New Roman"/>
              </a:rPr>
              <a:t>&gt;</a:t>
            </a: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. Čekali jste tento výsled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Rozptylem náhodné veličiny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 rozumíme střední hodno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náhodné veličiny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 =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 &lt;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&gt;]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 Její odmocnina je tzv. směrodatn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odchyl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počtěte hodnotu rozptylu a směrodatné odchylky u obou střelců. Jak by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interpretovali výsledek? Směrodatná odchylka </a:t>
            </a:r>
            <a:r>
              <a:rPr b="1" i="1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jde 1,7 pro prvého a 1,2 p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ruhého střel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844560" y="4437000"/>
          <a:ext cx="695160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4437000"/>
                    <a:ext cx="695160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án rozdě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4920" y="1052280"/>
            <a:ext cx="8364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Distribuční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unkce definovaná n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oučtem pravděpodobnos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… + p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povídajících hodnotám menším než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s+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Medián je hodnota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, pro kterou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&lt;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0,5 a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s+1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≥ 0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kol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mediány rozdělení pro oba porovnávané střelce. Je výsled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čekávaný? 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79600" y="2492280"/>
          <a:ext cx="694512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492280"/>
                    <a:ext cx="69451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ční funkce pro střel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144440" y="1523880"/>
          <a:ext cx="6777360" cy="43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1523880"/>
                    <a:ext cx="677736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1908000" y="4724280"/>
            <a:ext cx="107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87640" y="472428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465300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40360" y="4508640"/>
            <a:ext cx="576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16360" y="422100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92720" y="285264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867280" y="256536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43640" y="242100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20000" y="234936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472428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64000" y="458136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87640" y="465300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4292640"/>
            <a:ext cx="57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88000" y="3789360"/>
            <a:ext cx="57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92720" y="328464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867280" y="278136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43640" y="249228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20000" y="234936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10960" y="1413000"/>
            <a:ext cx="33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medián  je 5 u obou rozdě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1080" y="1989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50560" y="472428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50560" y="472428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596000" y="234936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7596000" y="2349360"/>
            <a:ext cx="115236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3573360"/>
            <a:ext cx="7920000" cy="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00" y="30686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0,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áhodná veličina se spojitým rozděle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Náhodná veličina 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X 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a její (spojité)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ičina, která nabývá všech reálných hodnot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intervalu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 elementárními pravděpodobnostmi d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 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d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Rozdělením náhodné veličiny rozumíme funkci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)  na  interva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]. </a:t>
            </a: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Též hustota pravděpodob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Střední hodnota, rozptyl, distribuční fun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Úkol: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Čemu je roven integrál z hustoty pravděpodobnosti (plocha pod grafem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069920" y="3645000"/>
          <a:ext cx="685800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3645000"/>
                    <a:ext cx="685800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ůležitý příklad – normální rozdě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4951440" cy="495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3492360" y="1844640"/>
          <a:ext cx="5040360" cy="18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360" y="1844640"/>
                    <a:ext cx="504036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716360" y="4149720"/>
            <a:ext cx="4103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červená … </a:t>
            </a:r>
            <a:r>
              <a:rPr b="1" i="1" lang="el-G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σ</a:t>
            </a:r>
            <a:r>
              <a:rPr b="1" i="1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= </a:t>
            </a:r>
            <a:r>
              <a:rPr b="0" lang="cs-CZ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modrá   … </a:t>
            </a:r>
            <a:r>
              <a:rPr b="1" i="1" lang="el-GR" sz="2400" spc="-1" strike="noStrike">
                <a:solidFill>
                  <a:srgbClr val="0000cc"/>
                </a:solidFill>
                <a:latin typeface="Times New Roman"/>
              </a:rPr>
              <a:t>σ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cc99"/>
                </a:solidFill>
                <a:latin typeface="Times New Roman"/>
              </a:rPr>
              <a:t>zelená    … </a:t>
            </a:r>
            <a:r>
              <a:rPr b="1" i="1" lang="el-GR" sz="2400" spc="-1" strike="noStrike">
                <a:solidFill>
                  <a:srgbClr val="00cc99"/>
                </a:solidFill>
                <a:latin typeface="Times New Roman"/>
              </a:rPr>
              <a:t>σ</a:t>
            </a:r>
            <a:r>
              <a:rPr b="1" i="1" lang="cs-CZ" sz="2400" spc="-1" strike="noStrike">
                <a:solidFill>
                  <a:srgbClr val="00cc99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cc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zývá se též rozdě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ausso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828036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66ff"/>
                </a:solidFill>
                <a:latin typeface="Times New Roman"/>
              </a:rPr>
              <a:t>Fyzikální veličina a její chyb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o znamená zápis typu </a:t>
            </a: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= (2,518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007) m</a:t>
            </a:r>
            <a:r>
              <a:rPr b="0" lang="cs-CZ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Který výsledek je ten prav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Měření délky ukazovát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ádejme, že všech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tudentů v posluchárně bude měřit délku téhož ukazovátka, nebo ji bude jeden student měřit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krá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Budou všechny získané hodnoty stej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č se budou obecně li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Která z naměřených hodnot je skutečnou délkou ukazovátk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3300"/>
                </a:solidFill>
                <a:latin typeface="Times New Roman"/>
              </a:rPr>
              <a:t>Délka ukazovátka se při měření „chová“ jako náhodná velič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Chyby, kterých se při měření dopouští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rubé a systematické chyby (předpokládejme, že jsme je eliminov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hodné chyby (jejich vlivem se budeme zabýv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63272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Pravděpodobnost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ematika náh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rmální rozložení ch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dpokládejme, že existuje nějaká „správná“ hodnota délky ukazovátk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 že student naměřil hodnoty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některé mohou být i stejn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Odchylky od (zatím neznámé) správné hodnoty označme                        (</a:t>
            </a:r>
            <a:r>
              <a:rPr b="1" i="1" lang="el-G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ε</a:t>
            </a:r>
            <a:r>
              <a:rPr b="1" lang="cs-CZ" sz="2400" spc="-1" strike="noStrike" baseline="-25000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i="1" lang="el-G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ε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cs-CZ" sz="24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, …, </a:t>
            </a:r>
            <a:r>
              <a:rPr b="1" i="1" lang="el-G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ε</a:t>
            </a: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cs-CZ" sz="2400" spc="-1" strike="noStrike" baseline="-25000">
                <a:solidFill>
                  <a:srgbClr val="0000cc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). Tyto hodnoty jsou hodnotami náhodné veličiny 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jí hustotu pravděpodobnosti označme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. Za jistých podmínek je rozdělením normální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Předpokládejme, že odchylky jsou způsobeny 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 nezávislými vlivy, každý z nich odchýlí měřenou hodnotu od </a:t>
            </a:r>
            <a:r>
              <a:rPr b="1" i="1" lang="cs-CZ" sz="24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 o stejnou hodnotu </a:t>
            </a:r>
            <a:r>
              <a:rPr b="1" i="1" lang="el-G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kladnou nebo zápornou, s pravděpodobností 0,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dnou odchylku +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veme zdarem, zápornou (–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nezdarem.Výsledná odchylka naměřené hodnot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ží v intervalu (–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 může nabývat pouze celých násobků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liv chybových vlivů –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1125360"/>
            <a:ext cx="7848360" cy="532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1916280"/>
            <a:ext cx="345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427640" y="1844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115640" y="1916280"/>
            <a:ext cx="331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5080" y="141300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Záporné chy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68360" y="14130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Kladné chy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995640" y="1989000"/>
            <a:ext cx="43200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1989000"/>
            <a:ext cx="431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067280" y="2492280"/>
            <a:ext cx="4334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2997360"/>
            <a:ext cx="43344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76720" y="2492280"/>
            <a:ext cx="4320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580000" y="299736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04000" y="436572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30872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571640" y="3500280"/>
            <a:ext cx="4316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492360" y="2492280"/>
            <a:ext cx="43200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987640" y="299736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500360" y="2492280"/>
            <a:ext cx="431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076720" y="299736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300720" y="436572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80400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86728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995640" y="299736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000" y="4365720"/>
            <a:ext cx="431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0072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292360" y="4437000"/>
            <a:ext cx="431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59280" y="4437000"/>
            <a:ext cx="43344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64000" y="4941720"/>
            <a:ext cx="43200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35600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787640" y="4941720"/>
            <a:ext cx="43164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850920" y="4869000"/>
            <a:ext cx="431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842920" y="4869000"/>
            <a:ext cx="431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34800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1908000" y="486900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2411280" y="436572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348000" y="436572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4356000" y="436572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43280" y="4365720"/>
            <a:ext cx="431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780000" y="4365720"/>
            <a:ext cx="431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492360" y="2924280"/>
            <a:ext cx="432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43280" y="37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486160" y="371628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360" y="53737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98200" y="544500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–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–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25080" y="54450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4360" y="134136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liv č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5640" y="1989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liv č. 2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5640" y="2492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liv č. 3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55640" y="306864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liv č.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84360" y="41497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liv č. 11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liv chybových vlivů – 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3640" y="160128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 odchýlení 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ladných 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 –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porný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livů 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ladných a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 –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zdarů), tj. pravděpodobnost vznik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chylky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= j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 – j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(–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ε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– 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dána binomický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zdělením (Bernoulliovým pro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1/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velká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e lze nahradit rozdělením normálním (Gaussovým).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možňuje následující zpracová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476360" y="3430440"/>
          <a:ext cx="619128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3430440"/>
                    <a:ext cx="619128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metický průměr a jeho chy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Reprezentativní hodnota 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ritmetický průměr všech naměřených hodnot (střední hodn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liči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Směrodatná odchylka příslušná aritmetickému průmě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rávná hodnota veličiny nebude určena, ale s pravděpodobnos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8,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ží v intervalu určeném aritmetickým průměrem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měrodatnou odchylkou tak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cc"/>
                </a:solidFill>
                <a:latin typeface="Times New Roman"/>
              </a:rPr>
              <a:t>Krajní chyba</a:t>
            </a:r>
            <a:r>
              <a:rPr b="0" lang="cs-CZ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… trojnásobek směrodatné odchylky … odpovíd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nímu intervalu 9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195640" y="2133720"/>
          <a:ext cx="5400720" cy="71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133720"/>
                    <a:ext cx="5400720" cy="7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1308240" y="4437000"/>
          <a:ext cx="659736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08240" y="4437000"/>
                    <a:ext cx="659736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8280360" cy="24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ůzné typy průměrů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n tak pro zajímavos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metický průměr - 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měl ze tří matematických písemek v semestru tř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dnocení B a jedno C. U dvou závěrečných písemek měl A a 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 ústní zkoušky E. Jaká je jeho průměrná známka, jestliže všech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ámky mají stejnou váh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46320" y="3429000"/>
          <a:ext cx="67118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6320" y="3429000"/>
                    <a:ext cx="67118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metický průměr - I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0560" y="1096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Řešte předchozí příklad za předpokladu, že závěrečná písemka m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akrát větší váhu než průběžná a ústní zkouška má dvakrát větš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áhu než závěrečná písem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684360" y="3459240"/>
          <a:ext cx="8064360" cy="260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459240"/>
                    <a:ext cx="806436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ůměrná rychlost – 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4920" y="836640"/>
            <a:ext cx="8497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obil jel z A do B první úsek rychlostí 130 km/h stejn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bu druhý úsek průměrnou rychlostí 70 km/h. Jaká byla je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ůměrná rychlost na celé tr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Je odpověď dána aritmetickým průměrem obou hodnot, t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(130 + 70)/2 = 100 km / 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e to věc definic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ůměrná  je definována jako podíl celkov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áhy a celkové doby jízdy. Dráhu ale neznáme. Víme však, ž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a úseky trvaly stejně ča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Takže přece jen aritmetický průměr? Zkusme úlohu obmě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979560" y="4724280"/>
          <a:ext cx="668808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4724280"/>
                    <a:ext cx="668808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ůměrná rychlost – I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obil jel z A do B první úsek rychlostí 130 km/h a druh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úsek rychlostí 70 km/h. Oba úseky byly stejně dlouhé. Jaká by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yní průměrná rychl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edná se o tzv. harmonický průmě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826920" y="2781360"/>
          <a:ext cx="77774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781360"/>
                    <a:ext cx="77774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ůměrný“ obdélník je čtvere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424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říklad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čete stranu čtverce, který má stejný obsah jako obdélník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ná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nebo poloměr koule, která má stejný objem ja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psoid o poloosá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32000" y="3429000"/>
            <a:ext cx="180000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63640" y="4797360"/>
            <a:ext cx="9144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5400000">
            <a:off x="2771640" y="4221000"/>
            <a:ext cx="1800360" cy="7905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1792" y="8762"/>
                </a:moveTo>
                <a:arcTo wR="-9236" hR="-9236" stAng="-10035192" swAng="-12933099"/>
                <a:lnTo>
                  <a:pt x="844" y="14986"/>
                </a:lnTo>
                <a:arcTo wR="10800" hR="10800" stAng="9431709" swAng="12933099"/>
                <a:lnTo>
                  <a:pt x="23967" y="13779"/>
                </a:lnTo>
                <a:lnTo>
                  <a:pt x="19803" y="16407"/>
                </a:lnTo>
                <a:lnTo>
                  <a:pt x="17175" y="1224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59280" y="3141720"/>
            <a:ext cx="2087640" cy="9856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59280" y="3429000"/>
            <a:ext cx="2089080" cy="433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651640" y="3141720"/>
            <a:ext cx="502920" cy="985680"/>
          </a:xfrm>
          <a:prstGeom prst="ellipse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435640" y="4508640"/>
            <a:ext cx="1155600" cy="1155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435640" y="4869000"/>
            <a:ext cx="1152360" cy="431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5435280" y="4869000"/>
            <a:ext cx="1152360" cy="431640"/>
          </a:xfrm>
          <a:prstGeom prst="ellipse">
            <a:avLst/>
          </a:prstGeom>
          <a:solidFill>
            <a:srgbClr val="bbe0e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5400000">
            <a:off x="6298920" y="4005000"/>
            <a:ext cx="1800360" cy="79056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790560"/>
              <a:gd name="textAreaBottom" fmla="*/ 790920 h 790560"/>
            </a:gdLst>
            <a:ahLst/>
            <a:rect l="textAreaLeft" t="textAreaTop" r="textAreaRight" b="textAreaBottom"/>
            <a:pathLst>
              <a:path w="21600" h="21600">
                <a:moveTo>
                  <a:pt x="1792" y="8762"/>
                </a:moveTo>
                <a:arcTo wR="-9236" hR="-9236" stAng="-10035192" swAng="-12933099"/>
                <a:lnTo>
                  <a:pt x="844" y="14986"/>
                </a:lnTo>
                <a:arcTo wR="10800" hR="10800" stAng="9431709" swAng="12933099"/>
                <a:lnTo>
                  <a:pt x="23967" y="13779"/>
                </a:lnTo>
                <a:lnTo>
                  <a:pt x="19803" y="16407"/>
                </a:lnTo>
                <a:lnTo>
                  <a:pt x="17175" y="1224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o je to pravděpodobnost</a:t>
            </a:r>
            <a:br>
              <a:rPr sz="3200"/>
            </a:b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aneb</a:t>
            </a:r>
            <a:br>
              <a:rPr sz="3200"/>
            </a:b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proč nesázet Sportk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Víte například, 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 hlavní výhry ve Sportce je sedm milióntin procenta, tj. ani ne jedna ku deseti miliónů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pravděpodobnost páté ceny je už skoro dvouprocent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že mezi  40 lidmi jsou alespoň dva, kteří mají narozeniny ve stejný den, je skoro devadesátiprocentní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9900"/>
                </a:solidFill>
                <a:latin typeface="Times New Roman"/>
              </a:rPr>
              <a:t>A ví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co to vůbec je pravděpodobn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 je to medián, co průměr, a kolik typů průměrů existu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ff"/>
                </a:solidFill>
                <a:latin typeface="Times New Roman"/>
              </a:rPr>
              <a:t>co je správnost a co přesnost měře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o znamená zápis „hodnota veličiny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je (2,518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007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 m“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ůměrný“ elipsoid je ko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351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ýpoč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edná se o geometrický průmě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armonický p.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≤  geometrický p.  ≤ aritmetický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 to ještě zdaleka nejsou všechny typy průměr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684360" y="2060640"/>
          <a:ext cx="784836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8483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diologická fyzik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332000" y="2565360"/>
            <a:ext cx="6400800" cy="17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dioa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371680" y="5157720"/>
            <a:ext cx="46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zim 2008, sedmá předná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08200" y="254160"/>
            <a:ext cx="143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1224"/>
                </a:solidFill>
                <a:latin typeface="Times New Roman"/>
              </a:rPr>
              <a:t>Příště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áhodné jevy a jejich pravděpodobnost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2421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1341360"/>
            <a:ext cx="87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ázení mincí – náhodný poku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kem dvě možnosti – náhodné jevy (orel, hlav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dujeme jev A: padne orel – jedna z možností je příznivá, 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p =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ázení kostkou – náhodný po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kem šest možností – náhodných jevů (1, 2, 3, 4, 5,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dujeme jev A: padne šestka – jedna z možností je příznivá, </a:t>
            </a:r>
            <a:r>
              <a:rPr b="1" i="1" lang="en-US" sz="2400" spc="-1" strike="noStrike">
                <a:solidFill>
                  <a:srgbClr val="0066ff"/>
                </a:solidFill>
                <a:latin typeface="Times New Roman"/>
              </a:rPr>
              <a:t>p =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1/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4508640"/>
            <a:ext cx="1166760" cy="11667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4508640"/>
            <a:ext cx="1166760" cy="11667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4508640"/>
            <a:ext cx="1167120" cy="11667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4508640"/>
            <a:ext cx="1166760" cy="11667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360" y="4508640"/>
            <a:ext cx="1167120" cy="11667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20000" y="4508640"/>
            <a:ext cx="1166760" cy="116676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00720" y="49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5373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00720" y="537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4941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5157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96360" y="515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157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49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96360" y="49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537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537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4941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37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5373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9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9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360" y="5157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8360" y="5373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49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5373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157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46530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4581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27280" y="4581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465300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84360" y="465300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71640" y="479736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5013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5229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95640" y="4581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46530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4581360"/>
            <a:ext cx="1443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80000" y="46530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4581360"/>
            <a:ext cx="144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932360" y="46530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64000" y="479736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465300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5013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5157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64000" y="530064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27640" y="4653000"/>
            <a:ext cx="144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360" y="4869000"/>
            <a:ext cx="7128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472428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508464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4941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360" y="530064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9280" y="5157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4581360"/>
            <a:ext cx="1447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40720" y="4653000"/>
            <a:ext cx="1443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56720" y="530064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28000" y="5013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101080" y="472428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5013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5373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5229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67280" y="4869000"/>
            <a:ext cx="7128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11640" y="472428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04000" y="508464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720" y="515772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59640" y="5229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4724280"/>
            <a:ext cx="7164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4797360"/>
            <a:ext cx="7128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4869000"/>
            <a:ext cx="7128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ce pravděpodo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avděpodob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oupení jevu A je podílem počtu případů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 nichž jev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tal (čitatel), a počtu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šech možných případů (jmenovat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Úkol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) Jaká je pravděpodobnost, že při hodu kostkou padne sudé čísl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) Jaká je pravděpodobnost, že padne číslo dělitelné třemi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) Jaká je pravděpodobnost, že padne číslo menší než 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Úkol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Jaká je pravděpodobnost, že při hodu dvěma kostka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oučasně) padne součet sed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Jaká je pravděpodobnost, že součin padnuvších čísel bude lich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Jakých hodnot může pravděpodobnost v principu nabý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Řešení předchozích úk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Řešení úkolu 1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6,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íznivé jsou případy, kdy padne trojka nebo šest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2/6 = 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Řešení úkolu 2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36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aždá ze 6 možností, které mohou padnout na první kost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nezávisle kombinuje s každou ze 6 možností na druhé kostce),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ednička na první a šestka na druhé kostce, nebo naop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vojka na první a pětka na druhé kostce, nebo naopak, trojka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vní a čtyřka na druhé kostce, nebo naopak),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6/36 = 1/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Řešení úkolu 2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N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36,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9,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p =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9/36 = 1/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Řešení úkolu 2b sami zdůvodně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eště jeden úkol ryze praktic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zásuvce jsou ponožky tří barev. Červené (Č), zelené (Z)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ré (M). Je jich tam od každé barvy hodně. Student jde 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ůzku a chce si vzít čisté ponožky. Náhle zhasne svět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vytáhne potmě dvě ponožk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budou mít stejnou barv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nebudou mít stejnou barv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ká je pravděpodobnost, že ponožky budou mít stejnou barvu, ale ne červen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Všimněte si výsledků a) a b). Co pro ně platí? Co myslíte,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to náhoda, nebo to tak být mus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ev jistý – jev s jednotkovou pravděpodobností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ev nemožný – jev s nulovou pravděpodobnost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21:19:55Z</dcterms:created>
  <dc:creator>Jana Musilová</dc:creator>
  <dc:description/>
  <dc:language>en-US</dc:language>
  <cp:lastModifiedBy>Jana Musilová</cp:lastModifiedBy>
  <dcterms:modified xsi:type="dcterms:W3CDTF">2008-11-03T18:18:11Z</dcterms:modified>
  <cp:revision>164</cp:revision>
  <dc:subject/>
  <dc:title>Radiologická fyzika</dc:title>
</cp:coreProperties>
</file>