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30.wmf" ContentType="image/x-wmf"/>
  <Override PartName="/ppt/media/image27.png" ContentType="image/png"/>
  <Override PartName="/ppt/media/image12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26.png" ContentType="image/png"/>
  <Override PartName="/ppt/media/image11.wmf" ContentType="image/x-wmf"/>
  <Override PartName="/ppt/media/image31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EAF-E75D-4449-9994-4A84E268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66D-6462-4445-8917-450E5D48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5AB-C636-45CB-AA3C-78591383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937-3BB2-4448-ACC4-1A9DC43A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32A4-6CB0-407D-B5F4-E790B4BB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9F80-D7AF-46D5-8919-E83077DE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F8B-9561-4FE7-8C05-5F08494B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56A-E1AD-4ACA-A9D6-54C5697C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582-657F-41CC-B0EB-64E5EB17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8DA8-1B24-4DFA-B173-BA76CC72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6BE6-432E-4ECB-9106-EC289874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FFF-A6E9-45B8-9D4E-2F2878A9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A126-DE22-457F-BB21-E0A534B57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.wmf"/><Relationship Id="rId1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tgenov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zář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49440" y="515772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osm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Schema přechodu </a:t>
            </a:r>
            <a:r>
              <a:rPr b="0" lang="cs-CZ" sz="3200" spc="-1" strike="noStrike" baseline="30000">
                <a:solidFill>
                  <a:srgbClr val="0000cc"/>
                </a:solidFill>
                <a:latin typeface="Times New Roman"/>
              </a:rPr>
              <a:t>99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Mo – </a:t>
            </a:r>
            <a:r>
              <a:rPr b="0" lang="cs-CZ" sz="3200" spc="-1" strike="noStrike" baseline="30000">
                <a:solidFill>
                  <a:srgbClr val="0000cc"/>
                </a:solidFill>
                <a:latin typeface="Times New Roman"/>
              </a:rPr>
              <a:t>99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52280" y="1447920"/>
            <a:ext cx="8686800" cy="5123160"/>
            <a:chOff x="152280" y="1447920"/>
            <a:chExt cx="8686800" cy="5123160"/>
          </a:xfrm>
        </p:grpSpPr>
        <p:grpSp>
          <p:nvGrpSpPr>
            <p:cNvPr id="203" name=""/>
            <p:cNvGrpSpPr/>
            <p:nvPr/>
          </p:nvGrpSpPr>
          <p:grpSpPr>
            <a:xfrm>
              <a:off x="152280" y="1447920"/>
              <a:ext cx="8686800" cy="4117320"/>
              <a:chOff x="152280" y="1447920"/>
              <a:chExt cx="8686800" cy="4117320"/>
            </a:xfrm>
          </p:grpSpPr>
          <p:sp>
            <p:nvSpPr>
              <p:cNvPr id="204" name=""/>
              <p:cNvSpPr/>
              <p:nvPr/>
            </p:nvSpPr>
            <p:spPr>
              <a:xfrm>
                <a:off x="5410080" y="1981080"/>
                <a:ext cx="1295640" cy="3276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419720" y="2362320"/>
                <a:ext cx="35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19720" y="27432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19720" y="3505320"/>
                <a:ext cx="358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43400" y="502920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7280" y="23623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67280" y="2362320"/>
                <a:ext cx="0" cy="2286000"/>
              </a:xfrm>
              <a:prstGeom prst="line">
                <a:avLst/>
              </a:prstGeom>
              <a:ln w="38160">
                <a:solidFill>
                  <a:srgbClr val="66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81480" y="4267080"/>
                <a:ext cx="0" cy="76212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172200" y="4648320"/>
                <a:ext cx="0" cy="38088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24280" y="2362320"/>
                <a:ext cx="0" cy="1143000"/>
              </a:xfrm>
              <a:prstGeom prst="line">
                <a:avLst/>
              </a:prstGeom>
              <a:ln w="38160">
                <a:solidFill>
                  <a:srgbClr val="669900"/>
                </a:solidFill>
                <a:prstDash val="dash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029200" y="2362320"/>
                <a:ext cx="0" cy="380880"/>
              </a:xfrm>
              <a:prstGeom prst="line">
                <a:avLst/>
              </a:prstGeom>
              <a:ln w="38160">
                <a:solidFill>
                  <a:srgbClr val="6699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76920" y="4267080"/>
                <a:ext cx="0" cy="76212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16" name=""/>
              <p:cNvGraphicFramePr/>
              <p:nvPr/>
            </p:nvGraphicFramePr>
            <p:xfrm>
              <a:off x="8153280" y="2133720"/>
              <a:ext cx="685800" cy="419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153280" y="2133720"/>
                        <a:ext cx="68580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18" name=""/>
              <p:cNvGraphicFramePr/>
              <p:nvPr/>
            </p:nvGraphicFramePr>
            <p:xfrm>
              <a:off x="8229600" y="4952880"/>
              <a:ext cx="584280" cy="41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1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229600" y="4952880"/>
                        <a:ext cx="584280" cy="41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0" name=""/>
              <p:cNvSpPr/>
              <p:nvPr/>
            </p:nvSpPr>
            <p:spPr>
              <a:xfrm flipV="1">
                <a:off x="2895480" y="1980720"/>
                <a:ext cx="0" cy="30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66880" y="502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66880" y="3505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666880" y="2743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66880" y="2362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211120" y="1447920"/>
                <a:ext cx="115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ke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8320" y="2057400"/>
                <a:ext cx="101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57,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28800" y="25146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20,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54280" y="327672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9,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59200" y="4800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24280" y="3809880"/>
                <a:ext cx="31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6640" y="457200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31000" y="380988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33" name=""/>
              <p:cNvGraphicFramePr/>
              <p:nvPr/>
            </p:nvGraphicFramePr>
            <p:xfrm>
              <a:off x="5943600" y="3657600"/>
              <a:ext cx="533520" cy="380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3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943600" y="3657600"/>
                        <a:ext cx="53352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5" name=""/>
              <p:cNvGraphicFramePr/>
              <p:nvPr/>
            </p:nvGraphicFramePr>
            <p:xfrm>
              <a:off x="4114800" y="2819520"/>
              <a:ext cx="533520" cy="380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3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114800" y="2819520"/>
                        <a:ext cx="53352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7" name=""/>
              <p:cNvSpPr/>
              <p:nvPr/>
            </p:nvSpPr>
            <p:spPr>
              <a:xfrm>
                <a:off x="685800" y="220968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0880" y="24382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0880" y="281952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57200" y="3581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33520" y="50292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90160" y="1488960"/>
                <a:ext cx="57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 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52280" y="198108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52280" y="51055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/2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5" name=""/>
              <p:cNvGraphicFramePr/>
              <p:nvPr/>
            </p:nvGraphicFramePr>
            <p:xfrm>
              <a:off x="8077320" y="4419720"/>
              <a:ext cx="749160" cy="419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6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077320" y="4419720"/>
                        <a:ext cx="74916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7" name=""/>
              <p:cNvSpPr/>
              <p:nvPr/>
            </p:nvSpPr>
            <p:spPr>
              <a:xfrm>
                <a:off x="533520" y="46483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46483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419720" y="4648320"/>
                <a:ext cx="350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754280" y="434340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42,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76920" y="3505320"/>
                <a:ext cx="0" cy="38088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81480" y="2743200"/>
                <a:ext cx="0" cy="1143000"/>
              </a:xfrm>
              <a:prstGeom prst="line">
                <a:avLst/>
              </a:prstGeom>
              <a:ln w="38160">
                <a:solidFill>
                  <a:srgbClr val="0000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2280" y="24382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52280" y="320040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/2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52280" y="426708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/2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6" name=""/>
              <p:cNvGraphicFramePr/>
              <p:nvPr/>
            </p:nvGraphicFramePr>
            <p:xfrm>
              <a:off x="5181480" y="2362320"/>
              <a:ext cx="533520" cy="3808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57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181480" y="2362320"/>
                        <a:ext cx="53352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58" name=""/>
            <p:cNvSpPr/>
            <p:nvPr/>
          </p:nvSpPr>
          <p:spPr>
            <a:xfrm>
              <a:off x="1981080" y="6019920"/>
              <a:ext cx="762120" cy="0"/>
            </a:xfrm>
            <a:prstGeom prst="line">
              <a:avLst/>
            </a:prstGeom>
            <a:ln w="38160">
              <a:solidFill>
                <a:srgbClr val="66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57400" y="6324480"/>
              <a:ext cx="685800" cy="0"/>
            </a:xfrm>
            <a:prstGeom prst="line">
              <a:avLst/>
            </a:prstGeom>
            <a:ln w="38160">
              <a:solidFill>
                <a:srgbClr val="669900"/>
              </a:solidFill>
              <a:prstDash val="dash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7400" y="5638680"/>
              <a:ext cx="685800" cy="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95480" y="5410080"/>
              <a:ext cx="83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2,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95480" y="5791320"/>
              <a:ext cx="83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6,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95480" y="617220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,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4410000" y="5486400"/>
            <a:ext cx="3886200" cy="909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410000" y="5486400"/>
                      <a:ext cx="3886200" cy="9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Positronová e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52280" y="1371600"/>
            <a:ext cx="8763120" cy="5100480"/>
            <a:chOff x="152280" y="1371600"/>
            <a:chExt cx="8763120" cy="5100480"/>
          </a:xfrm>
        </p:grpSpPr>
        <p:sp>
          <p:nvSpPr>
            <p:cNvPr id="268" name=""/>
            <p:cNvSpPr/>
            <p:nvPr/>
          </p:nvSpPr>
          <p:spPr>
            <a:xfrm>
              <a:off x="5943600" y="1981080"/>
              <a:ext cx="6858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95480" y="1981080"/>
              <a:ext cx="68580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23623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90920" y="5029200"/>
              <a:ext cx="419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0400" y="2362320"/>
              <a:ext cx="0" cy="266688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1936800" y="2057400"/>
            <a:ext cx="4698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36800" y="2057400"/>
                      <a:ext cx="4698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1886040" y="4800600"/>
            <a:ext cx="469800" cy="41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86040" y="4800600"/>
                      <a:ext cx="4698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7" name=""/>
            <p:cNvSpPr/>
            <p:nvPr/>
          </p:nvSpPr>
          <p:spPr>
            <a:xfrm>
              <a:off x="4116240" y="137160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keV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78" name=""/>
            <p:cNvGraphicFramePr/>
            <p:nvPr/>
          </p:nvGraphicFramePr>
          <p:xfrm>
            <a:off x="2057400" y="3200400"/>
            <a:ext cx="6858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057400" y="3200400"/>
                      <a:ext cx="6858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80" name=""/>
            <p:cNvGrpSpPr/>
            <p:nvPr/>
          </p:nvGrpSpPr>
          <p:grpSpPr>
            <a:xfrm>
              <a:off x="152280" y="1488960"/>
              <a:ext cx="990720" cy="4076280"/>
              <a:chOff x="152280" y="1488960"/>
              <a:chExt cx="990720" cy="4076280"/>
            </a:xfrm>
          </p:grpSpPr>
          <p:sp>
            <p:nvSpPr>
              <p:cNvPr id="281" name=""/>
              <p:cNvSpPr/>
              <p:nvPr/>
            </p:nvSpPr>
            <p:spPr>
              <a:xfrm>
                <a:off x="685800" y="220968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3520" y="2438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33520" y="50292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90160" y="1488960"/>
                <a:ext cx="57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J 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52280" y="198108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52280" y="510552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/2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87" name=""/>
            <p:cNvGraphicFramePr/>
            <p:nvPr/>
          </p:nvGraphicFramePr>
          <p:xfrm>
            <a:off x="6997680" y="4800600"/>
            <a:ext cx="469800" cy="41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97680" y="4800600"/>
                      <a:ext cx="4698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"/>
            <p:cNvGraphicFramePr/>
            <p:nvPr/>
          </p:nvGraphicFramePr>
          <p:xfrm>
            <a:off x="914400" y="5562720"/>
            <a:ext cx="3656160" cy="90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14400" y="5562720"/>
                      <a:ext cx="3656160" cy="90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6095880" y="3505320"/>
              <a:ext cx="0" cy="152388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19520" y="350532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4876920" y="205704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11680" y="198108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754,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888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11680" y="312408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55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97" name=""/>
            <p:cNvGraphicFramePr/>
            <p:nvPr/>
          </p:nvGraphicFramePr>
          <p:xfrm>
            <a:off x="6940440" y="2133720"/>
            <a:ext cx="43200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940440" y="2133720"/>
                      <a:ext cx="432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838188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9600" y="3505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29600" y="50641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86240" y="152388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732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077320" y="5029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05" name=""/>
            <p:cNvGraphicFramePr/>
            <p:nvPr/>
          </p:nvGraphicFramePr>
          <p:xfrm>
            <a:off x="6781680" y="4038480"/>
            <a:ext cx="685800" cy="419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0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781680" y="4038480"/>
                      <a:ext cx="6858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7" name=""/>
            <p:cNvGraphicFramePr/>
            <p:nvPr/>
          </p:nvGraphicFramePr>
          <p:xfrm>
            <a:off x="5003640" y="5562720"/>
            <a:ext cx="3402000" cy="9093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003640" y="5562720"/>
                      <a:ext cx="3402000" cy="90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rzdné záření nabité částic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4880" y="1260360"/>
            <a:ext cx="63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Částice hmotnos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 náboje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yzařuje 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1752480"/>
          <a:ext cx="554832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2480"/>
                    <a:ext cx="55483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449280" y="3124080"/>
            <a:ext cx="77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tomto vztahu vystupuje hybnost, energie a Lorentzův f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14400" y="3581280"/>
          <a:ext cx="6505560" cy="108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581280"/>
                    <a:ext cx="65055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444600" y="480060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 částici na kruhové trajektorii v magnetickém poli induk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897200" y="5334120"/>
          <a:ext cx="4995720" cy="108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97200" y="5334120"/>
                    <a:ext cx="499572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rzdné záření nabité částic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rychlosti částice blízké rychlosti světla má záření výkon přibližně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je soustředěno dopředu do malého kužele s vrcholovým úhle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frekvencí s maximem kole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844560" y="2362320"/>
          <a:ext cx="690552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362320"/>
                    <a:ext cx="69055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1066680" y="350532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2987640" cy="29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6781680" y="3809880"/>
          <a:ext cx="139392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809880"/>
                    <a:ext cx="1393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276120" y="3657600"/>
          <a:ext cx="145260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120" y="3657600"/>
                    <a:ext cx="1452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rzdné záření nabité částic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rychlosti částice blízké rychlosti světla má záření výkon přibližně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je soustředěno dopředu do malého kužele s vrcholovým úhle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θ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frekvencí s maximem kolem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844560" y="2362320"/>
          <a:ext cx="690552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362320"/>
                    <a:ext cx="69055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1066680" y="350532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"/>
          <a:stretch/>
        </p:blipFill>
        <p:spPr>
          <a:xfrm>
            <a:off x="4952880" y="3429000"/>
            <a:ext cx="2987640" cy="29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5" name=""/>
          <p:cNvGraphicFramePr/>
          <p:nvPr/>
        </p:nvGraphicFramePr>
        <p:xfrm>
          <a:off x="6781680" y="3809880"/>
          <a:ext cx="1393920" cy="152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1680" y="3809880"/>
                    <a:ext cx="1393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76120" y="3657600"/>
          <a:ext cx="145260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120" y="3657600"/>
                    <a:ext cx="14526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bsorpce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52280" y="1752480"/>
            <a:ext cx="2971800" cy="3837240"/>
            <a:chOff x="152280" y="1752480"/>
            <a:chExt cx="2971800" cy="3837240"/>
          </a:xfrm>
        </p:grpSpPr>
        <p:sp>
          <p:nvSpPr>
            <p:cNvPr id="341" name=""/>
            <p:cNvSpPr/>
            <p:nvPr/>
          </p:nvSpPr>
          <p:spPr>
            <a:xfrm>
              <a:off x="1128600" y="1752480"/>
              <a:ext cx="1727280" cy="3816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576440" y="1773360"/>
              <a:ext cx="144360" cy="3816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2280" y="388620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9360" y="3860640"/>
              <a:ext cx="1297080" cy="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87360" y="2852640"/>
              <a:ext cx="28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1720800" y="285264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93160" y="234936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71360" y="38606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 + </a:t>
              </a:r>
              <a:r>
                <a:rPr b="0" lang="el-GR" sz="24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64960" y="3351240"/>
              <a:ext cx="14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      I + </a:t>
              </a:r>
              <a:r>
                <a:rPr b="0" lang="el-GR" sz="2400" spc="-1" strike="noStrike">
                  <a:solidFill>
                    <a:srgbClr val="000000"/>
                  </a:solidFill>
                  <a:latin typeface="Verdana"/>
                </a:rPr>
                <a:t>Δ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20800" y="386064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51" name=""/>
          <p:cNvGraphicFramePr/>
          <p:nvPr/>
        </p:nvGraphicFramePr>
        <p:xfrm>
          <a:off x="3276720" y="1523880"/>
          <a:ext cx="477972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523880"/>
                    <a:ext cx="477972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3352680" y="2971800"/>
            <a:ext cx="56390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olotloušťka 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ħ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je lineární koeficient útlumu. Zavádějí se také hmotový a atomový koeficient útlu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038480" y="4267080"/>
          <a:ext cx="3559320" cy="92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4267080"/>
                    <a:ext cx="3559320" cy="9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3450240" y="5257800"/>
            <a:ext cx="5524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hustota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mo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molární hmotnost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vogadrova konst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alší koeficienty útlu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14300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oton předává energii nabitým částicím látky (elektronům, případně dvojici elektron – positron). Energie těchto částic je absorbována látkou nebo v části opět vyzářena. Zavedeme pro charakteristiku těchto jevů koeficient energiového útlumu a koeficient energiové absor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362320" y="3124080"/>
          <a:ext cx="366876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124080"/>
                    <a:ext cx="366876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380880" y="4038480"/>
            <a:ext cx="82296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j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ůměrná hodnota energie předaná fotonem nabitým částicím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růměrná energie, kterou uloží tyto částice v látce. S definicí koeficientu zpětného vyzáření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á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112840" y="5392800"/>
          <a:ext cx="4168800" cy="8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12840" y="5392800"/>
                    <a:ext cx="416880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ožné interakce fotonů s lát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" y="1600200"/>
            <a:ext cx="815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Times New Roman"/>
              </a:rPr>
              <a:t>Fotoelektrický j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Times New Roman"/>
              </a:rPr>
              <a:t>Rayleigho rozpty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Times New Roman"/>
              </a:rPr>
              <a:t>Comptonův j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Times New Roman"/>
              </a:rPr>
              <a:t>Vytváření párů elektron - positr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toelektrický j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7920" y="1447920"/>
          <a:ext cx="6095880" cy="4317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ton interaguje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ým atom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 se stane s foto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miz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energ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/(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ħ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áh jev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koeficient útl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lněná čás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kt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předaná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ħ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sledný j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rakteristické rtg zář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bo Augerův elekt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znamná oblast pro vo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20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ayleigho rozptyl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447920" y="1447920"/>
          <a:ext cx="6095880" cy="39528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ton interaguje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n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 elektronem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to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 se stane s foto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ptýlí 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energ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/(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ħ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áh jev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koeficient útl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lněná čás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ád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předaná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sledný j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ádn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znamná oblast pro vo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20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lektromagnetick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1371600"/>
          <a:ext cx="8686800" cy="4657680"/>
        </p:xfrm>
        <a:graphic>
          <a:graphicData uri="http://schemas.openxmlformats.org/drawingml/2006/table">
            <a:tbl>
              <a:tblPr/>
              <a:tblGrid>
                <a:gridCol w="2658960"/>
                <a:gridCol w="2903760"/>
                <a:gridCol w="3124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 zář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nová délk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m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ie fotonu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eV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ntgen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fia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itel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4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55 – 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račerve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8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,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krovln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– 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2,5.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diové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Comptonův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j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447920" y="1447920"/>
          <a:ext cx="6095880" cy="39528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ton interaguje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ný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elektro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 se stane s foto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zptýlí 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energ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rostoucí energií kles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áh jev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koeficient útl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lněná čás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tonův elekt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,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předaná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ní část roste s energi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sledný j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žádn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znamná oblast pro vo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keV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10 M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Vytváření párů elektron - posit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447920" y="1447920"/>
          <a:ext cx="6095880" cy="39528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ton interaguje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ulombovým polem já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 se stane s foton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miz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energ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rostoucí energií ro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áh jev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ární koeficient útlu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volněná čás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ár elektron - posit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vislost n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/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ní předaná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ħω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2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i="1" lang="cs-CZ" sz="20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cs-CZ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sledný j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ihilační zář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znamná oblast pro vod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M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etaily k fotoelektrick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é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mu jevu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rcRect l="7527" t="7191" r="7527" b="0"/>
          <a:stretch/>
        </p:blipFill>
        <p:spPr>
          <a:xfrm>
            <a:off x="228600" y="1676520"/>
            <a:ext cx="5035680" cy="431784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257800" y="1981080"/>
            <a:ext cx="358128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luorescenční výtěžek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K(L)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dává podíl pravděpodobností emise fotonu a Augerova elektronů při zaplnění dané volné hladiny. Zlome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(L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ak určuje podíl dané hladiny na všech fotoelektrických jeve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r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ii fotonu v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ětší než vazebná energie na K – hladině, tj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ħ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ħ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etaily k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Comptonovu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jevu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0" t="5766" r="3831" b="0"/>
          <a:stretch/>
        </p:blipFill>
        <p:spPr>
          <a:xfrm>
            <a:off x="228600" y="1143000"/>
            <a:ext cx="754848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ominance jednotlivých jev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4715" r="3604" b="943"/>
          <a:stretch/>
        </p:blipFill>
        <p:spPr>
          <a:xfrm>
            <a:off x="457200" y="1143000"/>
            <a:ext cx="7370640" cy="55134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743200" y="4800600"/>
            <a:ext cx="335268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řehled vztah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828800" y="1676520"/>
          <a:ext cx="416736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41673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905120" y="4343400"/>
          <a:ext cx="327168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4343400"/>
                    <a:ext cx="32716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"/>
          <p:cNvSpPr/>
          <p:nvPr/>
        </p:nvSpPr>
        <p:spPr>
          <a:xfrm>
            <a:off x="886680" y="1184400"/>
            <a:ext cx="74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neární koeficient útlumu a koeficient energiové absorp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28000" y="3505320"/>
            <a:ext cx="79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řední hodnota předané energie pro fotoelektrický jev a tvor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árů elektron - posi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05760" y="5562720"/>
            <a:ext cx="80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ední hodnota předané energie pro Comptonův jev nezávisí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átce, její hodnotu můžeme odečíst z  universálního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derná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361960" y="515772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devá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08200" y="25416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1224"/>
                </a:solidFill>
                <a:latin typeface="Times New Roman"/>
              </a:rPr>
              <a:t>Příšt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Viditelné svět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0040" y="1295280"/>
            <a:ext cx="8681400" cy="4041360"/>
            <a:chOff x="230040" y="1295280"/>
            <a:chExt cx="8681400" cy="4041360"/>
          </a:xfrm>
        </p:grpSpPr>
        <p:sp>
          <p:nvSpPr>
            <p:cNvPr id="48" name=""/>
            <p:cNvSpPr/>
            <p:nvPr/>
          </p:nvSpPr>
          <p:spPr>
            <a:xfrm>
              <a:off x="19810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668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526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0384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242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100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958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52480" y="2209680"/>
              <a:ext cx="304920" cy="22860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60680" y="1447920"/>
              <a:ext cx="64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560" y="14479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345200" y="14479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16800" y="14479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86200" y="2209680"/>
              <a:ext cx="990720" cy="22860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2209680"/>
              <a:ext cx="457200" cy="228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1800" y="2209680"/>
              <a:ext cx="457200" cy="2286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57400" y="2209680"/>
              <a:ext cx="914400" cy="228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2209680"/>
              <a:ext cx="457200" cy="2286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334120" y="2209680"/>
              <a:ext cx="609480" cy="228600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943600" y="2209680"/>
              <a:ext cx="457200" cy="2286000"/>
            </a:xfrm>
            <a:prstGeom prst="rect">
              <a:avLst/>
            </a:prstGeom>
            <a:solidFill>
              <a:srgbClr val="80008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23880" y="2209680"/>
              <a:ext cx="548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7920" y="4495680"/>
              <a:ext cx="5638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668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526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384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242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10080" y="2057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4812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0060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781680" y="43434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9728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97480" y="47242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908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4880" y="47242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23400" y="1946160"/>
              <a:ext cx="99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nm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6280" y="426708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 [eV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62560" y="1295280"/>
              <a:ext cx="174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lnová dél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67480" y="487692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0040" y="2895480"/>
              <a:ext cx="1387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>
                  <a:solidFill>
                    <a:srgbClr val="000000"/>
                  </a:solidFill>
                  <a:latin typeface="Times New Roman"/>
                </a:rPr>
                <a:t>infračervan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1800" spc="-1" strike="noStrike">
                  <a:solidFill>
                    <a:srgbClr val="000000"/>
                  </a:solidFill>
                  <a:latin typeface="Times New Roman"/>
                </a:rPr>
                <a:t>zář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29760" y="2971800"/>
              <a:ext cx="127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ultrafialov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zář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Helium – neonový la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55760" y="6289560"/>
            <a:ext cx="70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  Ne     He  Ne       He  Ne      He  Ne          He  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6000" y="990720"/>
            <a:ext cx="8630640" cy="5321160"/>
            <a:chOff x="306000" y="990720"/>
            <a:chExt cx="8630640" cy="5321160"/>
          </a:xfrm>
        </p:grpSpPr>
        <p:sp>
          <p:nvSpPr>
            <p:cNvPr id="91" name=""/>
            <p:cNvSpPr/>
            <p:nvPr/>
          </p:nvSpPr>
          <p:spPr>
            <a:xfrm>
              <a:off x="5638680" y="2057400"/>
              <a:ext cx="1067040" cy="1066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143000" y="1523880"/>
              <a:ext cx="0" cy="464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1828800"/>
              <a:ext cx="457200" cy="434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5120" y="1828800"/>
              <a:ext cx="457200" cy="434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1828800"/>
              <a:ext cx="457200" cy="434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0400" y="1828800"/>
              <a:ext cx="457200" cy="434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38480" y="1828800"/>
              <a:ext cx="457200" cy="434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0" y="1828800"/>
              <a:ext cx="457200" cy="434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10080" y="1828800"/>
              <a:ext cx="457200" cy="434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943600" y="1828800"/>
              <a:ext cx="457200" cy="434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0280" y="1828800"/>
              <a:ext cx="457200" cy="4343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43800" y="1828800"/>
              <a:ext cx="457200" cy="434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0720" y="220968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90720" y="228600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66680" y="281952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3000" y="617220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60958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57400" y="6095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22096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2680" y="60958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6095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24280" y="21337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62720" y="6095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5880" y="2743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62920" y="60958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6080" y="60958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895480" y="2361960"/>
              <a:ext cx="0" cy="380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2096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2819520"/>
              <a:ext cx="0" cy="32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67080" y="2286000"/>
              <a:ext cx="0" cy="388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00600" y="2285640"/>
              <a:ext cx="0" cy="388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3200" y="990720"/>
              <a:ext cx="100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eV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6000" y="1905120"/>
              <a:ext cx="69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,6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,6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6000" y="266688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8,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4960" y="594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9680" y="1066680"/>
              <a:ext cx="579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ážka e – He   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ážka He – Ne     světlo laseru       měkké rt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=632,5 n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8153280" y="2285640"/>
              <a:ext cx="304920" cy="106668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8457840" y="2819160"/>
              <a:ext cx="304920" cy="5331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61120" y="3443400"/>
              <a:ext cx="875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Times New Roman"/>
                </a:rPr>
                <a:t>dlouh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imes New Roman"/>
                </a:rPr>
                <a:t>krátk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ob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živo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ntgenov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562720"/>
            <a:ext cx="68738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ávislost intenzity rentgenového záření na vlnové délce při dopadu elektronů s kinetickou energii </a:t>
            </a:r>
            <a:r>
              <a:rPr b="0" i="1" lang="cs-CZ" sz="2400" spc="-1" strike="noStrike">
                <a:solidFill>
                  <a:srgbClr val="000000"/>
                </a:solidFill>
                <a:latin typeface="MTMI~2d"/>
              </a:rPr>
              <a:t>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orontoPlain"/>
              </a:rPr>
              <a:t>k,0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 keV na molybdenový ter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2034" r="0" b="0"/>
          <a:stretch/>
        </p:blipFill>
        <p:spPr>
          <a:xfrm>
            <a:off x="1371600" y="914400"/>
            <a:ext cx="559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rzdn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4800600"/>
            <a:ext cx="8001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Kratší vlnové délky, než je hodnota λ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orontoPlain~2a"/>
              </a:rPr>
              <a:t>min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, nejsou ve spojitém spektru zastoupeny. Hodnota λ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orontoPlain~2a"/>
              </a:rPr>
              <a:t>min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 odpovídá jediné srážce elektronu s atomem terče, při které elektron ztratí </a:t>
            </a:r>
            <a:r>
              <a:rPr b="0" lang="cs-CZ" sz="2400" spc="-1" strike="noStrike">
                <a:solidFill>
                  <a:srgbClr val="000000"/>
                </a:solidFill>
                <a:latin typeface="TorontoItalic"/>
              </a:rPr>
              <a:t>veškerou</a:t>
            </a:r>
            <a:r>
              <a:rPr b="0" i="1" lang="cs-CZ" sz="2400" spc="-1" strike="noStrike">
                <a:solidFill>
                  <a:srgbClr val="000000"/>
                </a:solidFill>
                <a:latin typeface="TorontoItalic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svou počáteční kinetickou energii </a:t>
            </a:r>
            <a:r>
              <a:rPr b="0" i="1" lang="cs-CZ" sz="2400" spc="-1" strike="noStrike">
                <a:solidFill>
                  <a:srgbClr val="000000"/>
                </a:solidFill>
                <a:latin typeface="MTMI~2d"/>
              </a:rPr>
              <a:t>E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orontoPlain"/>
              </a:rPr>
              <a:t>k,0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11769" r="8291" b="11769"/>
          <a:stretch/>
        </p:blipFill>
        <p:spPr>
          <a:xfrm>
            <a:off x="1447920" y="1295280"/>
            <a:ext cx="5575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harakteristick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1295280"/>
            <a:ext cx="4724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orontoPlain~33"/>
              </a:rPr>
              <a:t>Zjednodušený diagram hladin energie atomu molybdenu znázorňuje přechody (děr, nikoli elektronů), odpovídající vzniku některé z charakteristických čar rentgenového spektra tohoto atomu. Každá z vodorovných čar odpovídá energii atomu s dírou (tj. scházejícím elektronem) v označené slup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16554" b="24078"/>
          <a:stretch/>
        </p:blipFill>
        <p:spPr>
          <a:xfrm>
            <a:off x="152280" y="990720"/>
            <a:ext cx="3538800" cy="553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191120" y="4724280"/>
          <a:ext cx="478620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724280"/>
                    <a:ext cx="478620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Nukl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7359480" cy="4925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867280" y="3886200"/>
            <a:ext cx="1730520" cy="1857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867280" y="3352680"/>
            <a:ext cx="173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a živ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Schema přechodu </a:t>
            </a:r>
            <a:r>
              <a:rPr b="0" lang="cs-CZ" sz="3200" spc="-1" strike="noStrike" baseline="30000">
                <a:solidFill>
                  <a:srgbClr val="0000cc"/>
                </a:solidFill>
                <a:latin typeface="Times New Roman"/>
              </a:rPr>
              <a:t>60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Co - </a:t>
            </a:r>
            <a:r>
              <a:rPr b="0" lang="cs-CZ" sz="3200" spc="-1" strike="noStrike" baseline="30000">
                <a:solidFill>
                  <a:srgbClr val="0000cc"/>
                </a:solidFill>
                <a:latin typeface="Times New Roman"/>
              </a:rPr>
              <a:t>60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28600" y="1447920"/>
            <a:ext cx="8699400" cy="5504400"/>
            <a:chOff x="228600" y="1447920"/>
            <a:chExt cx="8699400" cy="5504400"/>
          </a:xfrm>
        </p:grpSpPr>
        <p:sp>
          <p:nvSpPr>
            <p:cNvPr id="147" name=""/>
            <p:cNvSpPr/>
            <p:nvPr/>
          </p:nvSpPr>
          <p:spPr>
            <a:xfrm>
              <a:off x="5410080" y="1981080"/>
              <a:ext cx="129564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19720" y="23623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19720" y="27432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19720" y="350532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43400" y="502920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67280" y="2362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2362320"/>
              <a:ext cx="0" cy="38088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72200" y="2743200"/>
              <a:ext cx="0" cy="76212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72200" y="3505320"/>
              <a:ext cx="0" cy="1523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24280" y="2362320"/>
              <a:ext cx="0" cy="1143000"/>
            </a:xfrm>
            <a:prstGeom prst="line">
              <a:avLst/>
            </a:prstGeom>
            <a:ln w="38160">
              <a:solidFill>
                <a:srgbClr val="66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52880" y="3505320"/>
              <a:ext cx="0" cy="15238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86600" y="2743200"/>
              <a:ext cx="0" cy="228600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8305920" y="2133720"/>
            <a:ext cx="62208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05920" y="2133720"/>
                      <a:ext cx="6220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"/>
            <p:cNvGraphicFramePr/>
            <p:nvPr/>
          </p:nvGraphicFramePr>
          <p:xfrm>
            <a:off x="8255160" y="4724280"/>
            <a:ext cx="571320" cy="4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55160" y="4724280"/>
                      <a:ext cx="57132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"/>
            <p:cNvSpPr/>
            <p:nvPr/>
          </p:nvSpPr>
          <p:spPr>
            <a:xfrm flipV="1">
              <a:off x="2895480" y="1980720"/>
              <a:ext cx="0" cy="304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6688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66880" y="3505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6880" y="2743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66880" y="236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11120" y="1447920"/>
              <a:ext cx="115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keV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8320" y="205740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23,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6520" y="2514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5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78320" y="3276720"/>
              <a:ext cx="10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32,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59200" y="4800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31200" y="3733920"/>
              <a:ext cx="3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6800" y="2895480"/>
              <a:ext cx="3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6800" y="3962520"/>
              <a:ext cx="3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97840" y="4038480"/>
              <a:ext cx="3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6095880" y="2362320"/>
            <a:ext cx="533520" cy="38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2362320"/>
                      <a:ext cx="533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4114800" y="2819520"/>
            <a:ext cx="533520" cy="380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4800" y="2819520"/>
                      <a:ext cx="533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533520" y="22096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0880" y="243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28195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3581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880" y="5029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0160" y="148896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" y="1981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600" y="2438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9480" y="5791320"/>
              <a:ext cx="533520" cy="0"/>
            </a:xfrm>
            <a:prstGeom prst="line">
              <a:avLst/>
            </a:prstGeom>
            <a:ln w="38160">
              <a:solidFill>
                <a:srgbClr val="66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480" y="6477120"/>
              <a:ext cx="533520" cy="0"/>
            </a:xfrm>
            <a:prstGeom prst="line">
              <a:avLst/>
            </a:prstGeom>
            <a:ln w="38160">
              <a:solidFill>
                <a:srgbClr val="6699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70880" y="5562720"/>
              <a:ext cx="101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9,88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6880" y="5791320"/>
              <a:ext cx="5335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66880" y="6477120"/>
              <a:ext cx="533520" cy="0"/>
            </a:xfrm>
            <a:prstGeom prst="line">
              <a:avLst/>
            </a:prstGeom>
            <a:ln w="38160">
              <a:solidFill>
                <a:srgbClr val="0000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71600" y="624852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,12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04600" y="5562720"/>
              <a:ext cx="109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gt; 99,9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81280" y="6248520"/>
              <a:ext cx="96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 0,1</a:t>
              </a:r>
              <a:r>
                <a:rPr b="1" lang="cs-CZ" sz="2000" spc="-1" strike="noStrike">
                  <a:solidFill>
                    <a:srgbClr val="000000"/>
                  </a:solidFill>
                  <a:latin typeface="Times New Roman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5013360" y="5943600"/>
            <a:ext cx="3654360" cy="41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13360" y="5943600"/>
                      <a:ext cx="36543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9:55Z</dcterms:created>
  <dc:creator>Jana Musilová</dc:creator>
  <dc:description/>
  <dc:language>en-US</dc:language>
  <cp:lastModifiedBy>Michal Lenc</cp:lastModifiedBy>
  <dcterms:modified xsi:type="dcterms:W3CDTF">2008-11-23T21:41:23Z</dcterms:modified>
  <cp:revision>245</cp:revision>
  <dc:subject/>
  <dc:title>Radiologická fyzika</dc:title>
</cp:coreProperties>
</file>