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5.wmf" ContentType="image/x-wmf"/>
  <Override PartName="/ppt/media/image24.jpeg" ContentType="image/jpe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56.png" ContentType="image/png"/>
  <Override PartName="/ppt/media/image14.wmf" ContentType="image/x-wmf"/>
  <Override PartName="/ppt/media/image1.png" ContentType="image/png"/>
  <Override PartName="/ppt/media/image29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6.wmf" ContentType="image/x-wmf"/>
  <Override PartName="/ppt/media/image36.wmf" ContentType="image/x-wmf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48.wmf" ContentType="image/x-wmf"/>
  <Override PartName="/ppt/media/image16.wmf" ContentType="image/x-wmf"/>
  <Override PartName="/ppt/media/image55.png" ContentType="image/png"/>
  <Override PartName="/ppt/media/image35.wmf" ContentType="image/x-wmf"/>
  <Override PartName="/ppt/media/image37.wmf" ContentType="image/x-wmf"/>
  <Override PartName="/ppt/media/image44.wmf" ContentType="image/x-wmf"/>
  <Override PartName="/ppt/media/image45.wmf" ContentType="image/x-wmf"/>
  <Override PartName="/ppt/media/image2.png" ContentType="image/png"/>
  <Override PartName="/ppt/media/image46.wmf" ContentType="image/x-wmf"/>
  <Override PartName="/ppt/media/image50.wmf" ContentType="image/x-wmf"/>
  <Override PartName="/ppt/media/image52.png" ContentType="image/png"/>
  <Override PartName="/ppt/media/image13.wmf" ContentType="image/x-wmf"/>
  <Override PartName="/ppt/media/image5.png" ContentType="image/png"/>
  <Override PartName="/ppt/media/image38.wmf" ContentType="image/x-wmf"/>
  <Override PartName="/ppt/media/image40.png" ContentType="image/png"/>
  <Override PartName="/ppt/media/image51.wmf" ContentType="image/x-wmf"/>
  <Override PartName="/ppt/media/image42.png" ContentType="image/png"/>
  <Override PartName="/ppt/media/image53.wmf" ContentType="image/x-wmf"/>
  <Override PartName="/ppt/media/image43.png" ContentType="image/png"/>
  <Override PartName="/ppt/media/image54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10.wmf" ContentType="image/x-wmf"/>
  <Override PartName="/ppt/media/image47.wmf" ContentType="image/x-wmf"/>
  <Override PartName="/ppt/media/image49.wmf" ContentType="image/x-wmf"/>
  <Override PartName="/ppt/media/image12.wmf" ContentType="image/x-wmf"/>
  <Override PartName="/ppt/media/image8.png" ContentType="image/png"/>
  <Override PartName="/ppt/media/image41.wmf" ContentType="image/x-wmf"/>
  <Override PartName="/ppt/media/image39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E369-7681-422B-9B80-259BEF13C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F546-4861-4877-A2F2-7F213F66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594A-5AD0-4C5D-82E9-A5D79383F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7585-965C-44B8-B2D4-5B00F929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7BE9-F737-4222-9710-297F7A4C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43DF-FF4E-4C2C-9553-4DB52C60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1A2C-4324-4D29-A1BB-EE51041D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B0EE-81A9-4AFF-B60F-29F2DF80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2576-36CF-42F7-9558-879079B4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39EA-70D0-43D0-B2CA-D696A509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9AF9-601A-4B78-B7FF-34538E7F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762E-A839-4FDA-9B44-7841873A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2940-6AEB-4C03-834D-A70FCCCA98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4.wmf"/><Relationship Id="rId7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Radiologick</a:t>
            </a:r>
            <a:r>
              <a:rPr b="1" lang="cs-CZ" sz="4800" spc="-1" strike="noStrike">
                <a:solidFill>
                  <a:srgbClr val="3333cc"/>
                </a:solidFill>
                <a:latin typeface="Times New Roman"/>
              </a:rPr>
              <a:t>á fyzi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hal Lenc, Jana Musilov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dzim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uklidy v okolí zl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496548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lasické“ třídění n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rozp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111400" y="2595600"/>
          <a:ext cx="5343480" cy="90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1400" y="2595600"/>
                    <a:ext cx="534348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52280" y="18288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um se změní na radon při emis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částice (jádra hel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1911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uklid X se změní na nuklid Y při emisi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částice (jádra hel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36576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becn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133720" y="5181480"/>
          <a:ext cx="4297320" cy="90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5181480"/>
                    <a:ext cx="429732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04920" y="121932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rozp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Klasické“ třídění na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zp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130480" y="2595600"/>
          <a:ext cx="5303880" cy="90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0480" y="2595600"/>
                    <a:ext cx="530388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228600" y="18288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obalt se změní na nikl (v nabuzeném stavu) při emisi elektronu a antineut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1911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uklid X se změní na nuklid Y při emisi elektronu a antineut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36576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becn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944720" y="5181480"/>
          <a:ext cx="4675320" cy="90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4720" y="5181480"/>
                    <a:ext cx="467532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304920" y="121932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rozp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Klasické“ třídění na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zp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346480" y="2595600"/>
          <a:ext cx="4871880" cy="90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6480" y="2595600"/>
                    <a:ext cx="487188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28600" y="18288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kl v nabuzeném stavu přejde do základního stavu při emisi dvou foton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419112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ukli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 nabuzen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 stav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přejde do základního stavu X při emisi dvou foton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36576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becn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189160" y="5200560"/>
          <a:ext cx="418464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89160" y="5200560"/>
                    <a:ext cx="418464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304920" y="121932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γ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rozp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lší typy přechod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057400" y="2523960"/>
          <a:ext cx="459756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523960"/>
                    <a:ext cx="459756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28600" y="18288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sík se změní na uhlík při emisi positronu a neut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1911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uklid X se změní na nuklid Y při emisi positronu a neut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36576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becn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944720" y="5181480"/>
          <a:ext cx="4675320" cy="90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4720" y="5181480"/>
                    <a:ext cx="467532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304920" y="121932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rozp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lší typy přechod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666800" y="2523960"/>
          <a:ext cx="538344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0" y="2523960"/>
                    <a:ext cx="538344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228600" y="18288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d se přemění na tellur v nabuzeném stavu při emisi neut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480" y="419112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ktron z vnitřní hladiny „se sloučí“ s protonem jádra na neutron při emisi neut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36576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becn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905120" y="5029200"/>
          <a:ext cx="4787640" cy="90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5029200"/>
                    <a:ext cx="478764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304920" y="121932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lektronový záchy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lší typy přechod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905120" y="2362320"/>
          <a:ext cx="5029200" cy="90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362320"/>
                    <a:ext cx="5029200" cy="90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76320" y="1828800"/>
            <a:ext cx="89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lur z nabuzeného stavu přejde do jedenkrát ionizovaného stavu při emisi elektro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480" y="419112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vek uvolní energii nabuzeného stavu emisí vnitřního elektro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36576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becn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413080" y="5048280"/>
          <a:ext cx="377028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3080" y="5048280"/>
                    <a:ext cx="377028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304920" y="121932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Vnitřní konve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k podrobný popis je potřeba pro porozumění jevu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200" y="3089160"/>
            <a:ext cx="782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va příklad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) Stručný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Jak je popisován na různých úrovních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β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rozp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) Podrobnějš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roč jsou při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α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rozpadu emitovány právě nuklidy heli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p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ozpa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635280" y="990720"/>
          <a:ext cx="462276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990720"/>
                    <a:ext cx="46227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4016520" y="2543040"/>
          <a:ext cx="4155840" cy="8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16520" y="2543040"/>
                    <a:ext cx="415584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016520" y="4572000"/>
          <a:ext cx="4159080" cy="88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16520" y="4572000"/>
                    <a:ext cx="415908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36440" y="928800"/>
            <a:ext cx="321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sfor se změní na sí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ři emisi elektronu a neut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2590920"/>
            <a:ext cx="350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eutron se změní na pr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i emisi elektronu a elektronového antineut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4572000"/>
            <a:ext cx="350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-kvark se změní na u-kva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i emisi elektronu a elektronového antineut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4120" y="1717560"/>
            <a:ext cx="798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Zákon zachování počtu nukleonů (3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=32)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 a elektrického nábo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15=16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9520" y="3657600"/>
            <a:ext cx="73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Zákon zachování baryonového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(1=1)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, leptonovéh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0=1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a elektrického náboj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(0=1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4040" y="5638680"/>
            <a:ext cx="78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Zákon zachování baryonového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(1/3=1/3)</a:t>
            </a: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, leptonového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0=1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imes New Roman"/>
              </a:rPr>
              <a:t>a elektrického náboj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(-1/3=2/3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p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ozpa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4186440" cy="5211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V="1">
            <a:off x="4572000" y="2666520"/>
            <a:ext cx="0" cy="2514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46680" y="541008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u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76760" y="22096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douc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86400" y="1523880"/>
            <a:ext cx="3505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každém vrcholu Feynmanova diagramu jsou splněny zákony zachování: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baryonového náboj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3333cc"/>
                </a:solidFill>
                <a:latin typeface="Times New Roman"/>
              </a:rPr>
              <a:t>leptonového náboj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elektrického náboj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cs-CZ" sz="2800" spc="-1" strike="noStrike">
                <a:solidFill>
                  <a:srgbClr val="3333cc"/>
                </a:solidFill>
                <a:latin typeface="Times New Roman"/>
              </a:rPr>
              <a:t>energie a hyb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ematické a fyzikální základy radiologi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981080"/>
            <a:ext cx="74674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ření: částice a vlny.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ktr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ektromagnetického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e.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ktura látek. Atomy. Jádra. Zákony zachování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stava SI, převody k jiným jednotkám. Terminologie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atematika: funkce, rovn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atematika: základy diferenciálního počt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atematika: pravděpodobnost, měření a zpracování d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aktivi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tgenové záření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droj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detektory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ření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kce záření s hmoto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razvu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atematika: principy tomografických met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petitori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insteinovy vztahy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080" y="1108080"/>
            <a:ext cx="54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ztah mezi energií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hmotností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čás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276720" y="1752480"/>
          <a:ext cx="2146320" cy="7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752480"/>
                    <a:ext cx="214632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676800" y="2971800"/>
            <a:ext cx="659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kud se částice pohybuje rychlostí velikost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317680" y="3784680"/>
          <a:ext cx="3733920" cy="17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17680" y="3784680"/>
                    <a:ext cx="3733920" cy="17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insteinovy vztahy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3200" y="1108080"/>
            <a:ext cx="70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ztah mezi energií fotonu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 frekvencí elmg. záření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397320" y="1974960"/>
          <a:ext cx="190476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7320" y="1974960"/>
                    <a:ext cx="19047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685800" y="32004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ztah mezi energií fotonu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 vlnovou délkou elmg. záření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882880" y="3949560"/>
          <a:ext cx="2692440" cy="139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82880" y="3949560"/>
                    <a:ext cx="2692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ndamentální konstan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1480" y="11080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ychlost světla ve vakuu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828800" y="1447920"/>
          <a:ext cx="501660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447920"/>
                    <a:ext cx="501660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685800" y="2209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lanckova konstant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831960" y="2679840"/>
          <a:ext cx="7480080" cy="74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2679840"/>
                    <a:ext cx="74800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533520" y="472428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tonova gravitační konstant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0720" y="5257800"/>
          <a:ext cx="8242560" cy="74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720" y="5257800"/>
                    <a:ext cx="824256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685800" y="3429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ární náboj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965160" y="3886200"/>
          <a:ext cx="7213680" cy="74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65160" y="3886200"/>
                    <a:ext cx="72136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ednotky pro vyjádření hmot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1120" y="990720"/>
            <a:ext cx="8321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soustavě SI je touto jednotkou kilogram. Díky Einsteinově vztahu mezi energií  a hmotností částice v klidu můžeme vyjadřovat hmotnost pomocí jednotek pro energii nebo si zvolit nějakou hmotnost jako normál, se kterým budeme ostatní hmotnosti porovnávat. Pro atomovou a jadernou fyziku je vhodnou jednotkou energie elektronvolt (eV) a jeho násobky, tj. 1 eV je energie získaná nebo ztracená elementárním nábojem při překonání potenciálového rozdílu 1 V. Hmotnosti se většinou vyjadřují v MeV/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1 MeV=10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eV) nebo v atomových jednotkách hmotnosti u.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973080" y="4724280"/>
          <a:ext cx="7197840" cy="195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3080" y="4724280"/>
                    <a:ext cx="719784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Hmotnostní přebytek nukli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93800" y="1052640"/>
          <a:ext cx="2724480" cy="12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3800" y="1052640"/>
                    <a:ext cx="272448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507960" y="2514600"/>
          <a:ext cx="8128080" cy="40640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  <a:gridCol w="20322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7 2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utr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8 6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uter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13 5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t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15 5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14 9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ást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1 5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ozen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zpad ura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62080" y="1295280"/>
          <a:ext cx="8619840" cy="8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" y="1295280"/>
                    <a:ext cx="861984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07960" y="2514600"/>
          <a:ext cx="8128080" cy="34830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  <a:gridCol w="20322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u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8,050 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aktin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7,051 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r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,043 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002 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d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07 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pontánn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zpad ura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62080" y="1295280"/>
          <a:ext cx="8619840" cy="8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" y="1295280"/>
                    <a:ext cx="861984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52280" y="2805120"/>
          <a:ext cx="4222800" cy="124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805120"/>
                    <a:ext cx="422280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4734000" y="2971800"/>
          <a:ext cx="4201920" cy="1247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34000" y="2971800"/>
                    <a:ext cx="420192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-2880" y="4495680"/>
            <a:ext cx="440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Spontánní rozpad nastává, poloč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rozpadu je 4,47.10</a:t>
            </a:r>
            <a:r>
              <a:rPr b="0" lang="en-US" sz="2400" spc="-1" strike="noStrike" baseline="30000">
                <a:solidFill>
                  <a:srgbClr val="6600ff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 l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20680" y="449568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pontánní rozpad nemůže nast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unelování při 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zpad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ura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57360" y="1133640"/>
          <a:ext cx="7137360" cy="52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360" y="1133640"/>
                    <a:ext cx="713736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6" name="" descr=""/>
          <p:cNvPicPr/>
          <p:nvPr/>
        </p:nvPicPr>
        <p:blipFill>
          <a:blip r:embed="rId3"/>
          <a:srcRect l="15346" t="5659" r="0" b="0"/>
          <a:stretch/>
        </p:blipFill>
        <p:spPr>
          <a:xfrm>
            <a:off x="2286000" y="1828800"/>
            <a:ext cx="5118120" cy="4835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19240" y="2860560"/>
            <a:ext cx="14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4,5.10</a:t>
            </a:r>
            <a:r>
              <a:rPr b="0" lang="en-US" sz="2400" spc="-1" strike="noStrike" baseline="30000">
                <a:solidFill>
                  <a:srgbClr val="6600ff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 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299720" y="278460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,1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Štěpen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ra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95440" y="1295280"/>
          <a:ext cx="7950240" cy="6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1295280"/>
                    <a:ext cx="79502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609480" y="1981080"/>
            <a:ext cx="7183440" cy="16606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380880" y="3581280"/>
            <a:ext cx="5437440" cy="167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"/>
          <p:cNvGraphicFramePr/>
          <p:nvPr/>
        </p:nvGraphicFramePr>
        <p:xfrm>
          <a:off x="720720" y="5230800"/>
          <a:ext cx="7702560" cy="84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0720" y="5230800"/>
                    <a:ext cx="770256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áření: částice nebo vl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4640" y="1260360"/>
            <a:ext cx="796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ecná odpověď j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„ani částice, ani vlny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eb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„někdy části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ěkdy vlny“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3720" y="2209680"/>
            <a:ext cx="78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ktrony, positrony, protony, neutrony, …nebo vlnové funk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2819520"/>
          <a:ext cx="463212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19520"/>
                    <a:ext cx="463212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5791320" y="26668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motnost, rychlost, impuls ( = hybnost ), energ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442880" y="4443480"/>
          <a:ext cx="3421080" cy="8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2880" y="4443480"/>
                    <a:ext cx="342108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5867280" y="41911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nová délka, frekv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rní diagnostické met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6280" y="1676520"/>
            <a:ext cx="8191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orontoPlain~2a"/>
              </a:rPr>
              <a:t>MRI</a:t>
            </a:r>
            <a:r>
              <a:rPr b="0" lang="cs-CZ" sz="2800" spc="-1" strike="noStrike">
                <a:solidFill>
                  <a:srgbClr val="3333cc"/>
                </a:solidFill>
                <a:latin typeface="TorontoPlain~2a"/>
              </a:rPr>
              <a:t> – zobrazení pomocí jaderné magnetické reso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cc"/>
                </a:solidFill>
                <a:latin typeface="TorontoPlain~2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orontoPlain~2a"/>
              </a:rPr>
              <a:t>(magnetic resonance imag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orontoPlain~2a"/>
              </a:rPr>
              <a:t>CT</a:t>
            </a:r>
            <a:r>
              <a:rPr b="0" lang="cs-CZ" sz="2800" spc="-1" strike="noStrike">
                <a:solidFill>
                  <a:srgbClr val="3333cc"/>
                </a:solidFill>
                <a:latin typeface="TorontoPlain~2a"/>
              </a:rPr>
              <a:t> – zobrazení pomocí absorbce rentgenového zář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computer tomograph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orontoPlain~2a"/>
              </a:rPr>
              <a:t>PET</a:t>
            </a:r>
            <a:r>
              <a:rPr b="0" lang="cs-CZ" sz="2800" spc="-1" strike="noStrike">
                <a:solidFill>
                  <a:srgbClr val="3333cc"/>
                </a:solidFill>
                <a:latin typeface="TorontoPlain~2a"/>
              </a:rPr>
              <a:t> – zobrazení pomocí positronů emitovaných při β</a:t>
            </a:r>
            <a:r>
              <a:rPr b="0" lang="cs-CZ" sz="2800" spc="-1" strike="noStrike" baseline="30000">
                <a:solidFill>
                  <a:srgbClr val="3333cc"/>
                </a:solidFill>
                <a:latin typeface="TorontoPlain~2a"/>
              </a:rPr>
              <a:t>+ 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orontoPlain~2a"/>
              </a:rPr>
              <a:t>	</a:t>
            </a:r>
            <a:r>
              <a:rPr b="0" lang="cs-CZ" sz="2800" spc="-1" strike="noStrike">
                <a:solidFill>
                  <a:srgbClr val="3333cc"/>
                </a:solidFill>
                <a:latin typeface="TorontoPlain~2a"/>
              </a:rPr>
              <a:t>rozpadu</a:t>
            </a:r>
            <a:r>
              <a:rPr b="0" lang="en-US" sz="2800" spc="-1" strike="noStrike">
                <a:solidFill>
                  <a:srgbClr val="3333cc"/>
                </a:solidFill>
                <a:latin typeface="TorontoPlain~2a"/>
              </a:rPr>
              <a:t> (positron emission tomograph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orontoPlain~2a"/>
              </a:rPr>
              <a:t>US</a:t>
            </a:r>
            <a:r>
              <a:rPr b="0" lang="en-US" sz="2800" spc="-1" strike="noStrike">
                <a:solidFill>
                  <a:srgbClr val="ff0000"/>
                </a:solidFill>
                <a:latin typeface="TorontoPlain~2a"/>
              </a:rPr>
              <a:t>I</a:t>
            </a:r>
            <a:r>
              <a:rPr b="0" lang="cs-CZ" sz="2800" spc="-1" strike="noStrike">
                <a:solidFill>
                  <a:srgbClr val="3333cc"/>
                </a:solidFill>
                <a:latin typeface="TorontoPlain~2a"/>
              </a:rPr>
              <a:t> – zobrazení pomocí absorbce, odrazu nebo </a:t>
            </a:r>
            <a:r>
              <a:rPr b="0" lang="en-US" sz="2800" spc="-1" strike="noStrike">
                <a:solidFill>
                  <a:srgbClr val="3333cc"/>
                </a:solidFill>
                <a:latin typeface="TorontoPlain~2a"/>
              </a:rPr>
              <a:t>	</a:t>
            </a:r>
            <a:r>
              <a:rPr b="0" lang="cs-CZ" sz="2800" spc="-1" strike="noStrike">
                <a:solidFill>
                  <a:srgbClr val="3333cc"/>
                </a:solidFill>
                <a:latin typeface="TorontoPlain~2a"/>
              </a:rPr>
              <a:t>frekvenčního posuvu ultrazvukových vl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orontoPlain~2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orontoPlain~2a"/>
              </a:rPr>
              <a:t>(ultrasound imag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áření: částice nebo vl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4640" y="1260360"/>
            <a:ext cx="796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ecná odpověď j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„ani částice, ani vlny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ebo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„někdy části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ěkdy vlny“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3360" y="2209680"/>
            <a:ext cx="48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ktromagnetické vlnění nebo fot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595520" y="4262400"/>
          <a:ext cx="266040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4262400"/>
                    <a:ext cx="26604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5791320" y="41911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uls ( = hybnost ), energ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752480" y="3048120"/>
          <a:ext cx="197172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3048120"/>
                    <a:ext cx="197172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5791320" y="27432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lnová délka, frekv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říklad: jaderná magnetická rezo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2057400" y="3276720"/>
          <a:ext cx="475452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276720"/>
                    <a:ext cx="47545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981080" y="1219320"/>
            <a:ext cx="4534200" cy="19126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2133720" y="4267080"/>
            <a:ext cx="4398840" cy="20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říklad: jaderná magnetická rezo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572616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říklad: jaderná magnetická rezo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9593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říklad: rentgenové záře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rcRect l="5671" t="0" r="9721" b="0"/>
          <a:stretch/>
        </p:blipFill>
        <p:spPr>
          <a:xfrm>
            <a:off x="4495680" y="1143000"/>
            <a:ext cx="4048200" cy="25322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rcRect l="5409" t="0" r="5409" b="0"/>
          <a:stretch/>
        </p:blipFill>
        <p:spPr>
          <a:xfrm>
            <a:off x="533520" y="2362320"/>
            <a:ext cx="3832200" cy="30733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419720" y="3962520"/>
            <a:ext cx="4038480" cy="20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2930" t="4109" r="4396" b="4109"/>
          <a:stretch/>
        </p:blipFill>
        <p:spPr>
          <a:xfrm>
            <a:off x="304920" y="1800360"/>
            <a:ext cx="4209840" cy="2973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984480" cy="2962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63920" y="556272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920" y="54864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4572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 je to za zařízení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ypický problé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447920"/>
            <a:ext cx="7864200" cy="43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onizující elektromagnetické záření 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&gt; 3.10</a:t>
            </a:r>
            <a:r>
              <a:rPr b="0" lang="cs-CZ" sz="2800" spc="-1" strike="noStrike" baseline="30000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z neboli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&lt;100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V, rtg a gama) má dostatek energie pro ionizaci atomů tvořících naše tělo. Ionty způsobují  tvorbu volných radikálů (H, OH) a vysoce chemicky reaktivních sloučenin (H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, které vyvolávají změny biologicky významných molekul (DNA) a vedou k biologickým účinkům jako je kancerogeneze a mutageneze. Čím vyšší je počet fotonů absorbovaných tělem a čím vyšší je energie těchto fotonů, tím vyšší je počet  vytvářených volných radikálů, tím vyšší je riziko. </a:t>
            </a:r>
            <a:r>
              <a:rPr b="1" lang="cs-CZ" sz="2800" spc="-1" strike="noStrike">
                <a:solidFill>
                  <a:srgbClr val="ff0000"/>
                </a:solidFill>
                <a:latin typeface="Times New Roman"/>
              </a:rPr>
              <a:t>Al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valita obrazu souvisí s dávk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295280"/>
            <a:ext cx="7864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ecně platí, že lepší obraz vyžaduje více fotonů a tím i vyšší dávk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676908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ěco jaderné terminolo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2514600"/>
            <a:ext cx="8381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orontoPlain~2a"/>
              </a:rPr>
              <a:t>Jádro se skládá z protonů a neutronů. Počet protonů v jádře (</a:t>
            </a:r>
            <a:r>
              <a:rPr b="1" lang="en-US" sz="2400" spc="-1" strike="noStrike">
                <a:solidFill>
                  <a:srgbClr val="000000"/>
                </a:solidFill>
                <a:latin typeface="TorontoBold"/>
              </a:rPr>
              <a:t>atomové číslo </a:t>
            </a:r>
            <a:r>
              <a:rPr b="0" lang="en-US" sz="2400" spc="-1" strike="noStrike">
                <a:solidFill>
                  <a:srgbClr val="000000"/>
                </a:solidFill>
                <a:latin typeface="TorontoPlain~2a"/>
              </a:rPr>
              <a:t>nebo také </a:t>
            </a:r>
            <a:r>
              <a:rPr b="1" lang="en-US" sz="2400" spc="-1" strike="noStrike">
                <a:solidFill>
                  <a:srgbClr val="000000"/>
                </a:solidFill>
                <a:latin typeface="TorontoBold"/>
              </a:rPr>
              <a:t>protonové číslo </a:t>
            </a:r>
            <a:r>
              <a:rPr b="0" lang="en-US" sz="2400" spc="-1" strike="noStrike">
                <a:solidFill>
                  <a:srgbClr val="000000"/>
                </a:solidFill>
                <a:latin typeface="TorontoPlain~2a"/>
              </a:rPr>
              <a:t>jádra) je označováno symbolem </a:t>
            </a:r>
            <a:r>
              <a:rPr b="1" lang="en-US" sz="2400" spc="-1" strike="noStrike">
                <a:solidFill>
                  <a:srgbClr val="ff0000"/>
                </a:solidFill>
                <a:latin typeface="MTMI~2d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orontoPlain~2a"/>
              </a:rPr>
              <a:t>; počet neutronů (</a:t>
            </a:r>
            <a:r>
              <a:rPr b="1" lang="en-US" sz="2400" spc="-1" strike="noStrike">
                <a:solidFill>
                  <a:srgbClr val="000000"/>
                </a:solidFill>
                <a:latin typeface="TorontoBold"/>
              </a:rPr>
              <a:t>neutronové číslo</a:t>
            </a:r>
            <a:r>
              <a:rPr b="0" lang="en-US" sz="2400" spc="-1" strike="noStrike">
                <a:solidFill>
                  <a:srgbClr val="000000"/>
                </a:solidFill>
                <a:latin typeface="TorontoPlain~2a"/>
              </a:rPr>
              <a:t>) symbolem </a:t>
            </a:r>
            <a:r>
              <a:rPr b="1" lang="en-US" sz="2400" spc="-1" strike="noStrike">
                <a:solidFill>
                  <a:srgbClr val="ff0000"/>
                </a:solidFill>
                <a:latin typeface="MTMI~2d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orontoPlain~2a"/>
              </a:rPr>
              <a:t>. Celkovému počtu neutronů a protonů v jádře říkáme </a:t>
            </a:r>
            <a:r>
              <a:rPr b="1" lang="en-US" sz="2400" spc="-1" strike="noStrike">
                <a:solidFill>
                  <a:srgbClr val="000000"/>
                </a:solidFill>
                <a:latin typeface="TorontoBold"/>
              </a:rPr>
              <a:t>hmotnostní číslo </a:t>
            </a:r>
            <a:r>
              <a:rPr b="1" lang="en-US" sz="2400" spc="-1" strike="noStrike">
                <a:solidFill>
                  <a:srgbClr val="ff0000"/>
                </a:solidFill>
                <a:latin typeface="MTMI~2d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MTMI~2d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orontoPlain~2a"/>
              </a:rPr>
              <a:t>Máme-li na mysli jak neutrony, tak protony, používá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orontoPlain~2a"/>
              </a:rPr>
              <a:t>společného pojmenování </a:t>
            </a:r>
            <a:r>
              <a:rPr b="1" lang="en-US" sz="2400" spc="-1" strike="noStrike">
                <a:solidFill>
                  <a:srgbClr val="000000"/>
                </a:solidFill>
                <a:latin typeface="TorontoBold"/>
              </a:rPr>
              <a:t>nukleony</a:t>
            </a:r>
            <a:r>
              <a:rPr b="0" lang="en-US" sz="2400" spc="-1" strike="noStrike">
                <a:solidFill>
                  <a:srgbClr val="000000"/>
                </a:solidFill>
                <a:latin typeface="TorontoPlain~2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2193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TorontoPlain~2a"/>
              </a:rPr>
              <a:t>Pokud se o jádra atomů zajímáme jen z hlediska různých jaderných vlastností, nikoli jako o části atomů, nazýváme je obecně </a:t>
            </a:r>
            <a:r>
              <a:rPr b="1" lang="cs-CZ" sz="2400" spc="-1" strike="noStrike">
                <a:solidFill>
                  <a:srgbClr val="3333cc"/>
                </a:solidFill>
                <a:latin typeface="TorontoBold"/>
              </a:rPr>
              <a:t>nuklidy</a:t>
            </a:r>
            <a:r>
              <a:rPr b="0" lang="cs-CZ" sz="2400" spc="-1" strike="noStrike">
                <a:solidFill>
                  <a:srgbClr val="3333cc"/>
                </a:solidFill>
                <a:latin typeface="TorontoPlain~2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600200" y="4952880"/>
          <a:ext cx="495936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952880"/>
                    <a:ext cx="495936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načení nuklid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10645" r="65539" b="21290"/>
          <a:stretch/>
        </p:blipFill>
        <p:spPr>
          <a:xfrm>
            <a:off x="685800" y="1370160"/>
            <a:ext cx="4235400" cy="411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6095880" y="1828800"/>
          <a:ext cx="1494000" cy="357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5880" y="1828800"/>
                    <a:ext cx="1494000" cy="35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námé nuklidy (zeleně stabiln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51032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0T12:54:08Z</dcterms:created>
  <dc:creator>bohunka</dc:creator>
  <dc:description/>
  <dc:language>en-US</dc:language>
  <cp:lastModifiedBy>Musilova</cp:lastModifiedBy>
  <dcterms:modified xsi:type="dcterms:W3CDTF">2008-09-22T12:45:07Z</dcterms:modified>
  <cp:revision>39</cp:revision>
  <dc:subject/>
  <dc:title>Radiologická fyzika</dc:title>
</cp:coreProperties>
</file>