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0.png" ContentType="image/png"/>
  <Override PartName="/ppt/media/image50.wmf" ContentType="image/x-wmf"/>
  <Override PartName="/ppt/media/image5.wmf" ContentType="image/x-wmf"/>
  <Override PartName="/ppt/media/image35.wmf" ContentType="image/x-wmf"/>
  <Override PartName="/ppt/media/image38.wmf" ContentType="image/x-wmf"/>
  <Override PartName="/ppt/media/image55.png" ContentType="image/png"/>
  <Override PartName="/ppt/media/image3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29.wmf" ContentType="image/x-wmf"/>
  <Override PartName="/ppt/media/image47.wmf" ContentType="image/x-wmf"/>
  <Override PartName="/ppt/media/image48.wmf" ContentType="image/x-wmf"/>
  <Override PartName="/ppt/media/image13.wmf" ContentType="image/x-wmf"/>
  <Override PartName="/ppt/media/image49.wmf" ContentType="image/x-wmf"/>
  <Override PartName="/ppt/media/image11.png" ContentType="image/png"/>
  <Override PartName="/ppt/media/image51.wmf" ContentType="image/x-wmf"/>
  <Override PartName="/ppt/media/image52.wmf" ContentType="image/x-wmf"/>
  <Override PartName="/ppt/media/image40.wmf" ContentType="image/x-wmf"/>
  <Override PartName="/ppt/media/image7.png" ContentType="image/png"/>
  <Override PartName="/ppt/media/image15.wmf" ContentType="image/x-wmf"/>
  <Override PartName="/ppt/media/image53.wmf" ContentType="image/x-wmf"/>
  <Override PartName="/ppt/media/image41.wmf" ContentType="image/x-wmf"/>
  <Override PartName="/ppt/media/image8.png" ContentType="image/png"/>
  <Override PartName="/ppt/media/image54.wmf" ContentType="image/x-wmf"/>
  <Override PartName="/ppt/media/image37.wmf" ContentType="image/x-wmf"/>
  <Override PartName="/ppt/media/image30.wmf" ContentType="image/x-wmf"/>
  <Override PartName="/ppt/media/image9.png" ContentType="image/png"/>
  <Override PartName="/ppt/media/image42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53C-586E-4F6B-A831-AD8B6FC93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FA5-4FDA-41C8-B9AC-B0EE7FD5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D81-D059-47C0-8BE0-545C6EC9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6C1-5F3D-4252-AD72-6DC0D034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E57-C938-48DF-B707-72BB3056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1E1-316D-43D4-BB1D-B1A8A29A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D8F-4565-43E9-AD36-C04A3723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9B0-8EDF-45C1-B535-52930DF3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662-1D24-4EAD-A169-00459269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D0C-B529-43A4-8D71-7D41AD63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2C96-2A59-4CE8-A142-43893E06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BC9C-70F0-43B0-8D32-4D93153A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C08A-69BA-4514-A1F3-DB992245E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oa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71680" y="5157720"/>
            <a:ext cx="46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zim 2008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d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Příprava technecia (Tc)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800" y="114300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eaktoru dochází k vytvoření radionukli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981080" y="1752480"/>
          <a:ext cx="380376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38037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446040" y="2514600"/>
            <a:ext cx="8288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lybden je přepraven k diagnostickému zařízení, probíhá při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ad s poločasem rozpadu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6 ho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663560" y="3581280"/>
          <a:ext cx="4770720" cy="6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3560" y="3581280"/>
                    <a:ext cx="477072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93640" y="4460760"/>
            <a:ext cx="82454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chemickém generátoru je technecium separováno a navázá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vhodnou látku. Pak je dopraveno ke zkoumanému orgá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chnecium přejd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ozpadem s poločasem rozpadu 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361 minut z excitovaného  do základního stavu. Vyzáří přitom f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 energii 141 keV, který je deteková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Příprava technecia (Tc)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" y="21337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šetření mozku „Ceretec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327400" y="1295280"/>
          <a:ext cx="3868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7400" y="1295280"/>
                    <a:ext cx="3868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90720" y="2743200"/>
            <a:ext cx="2879640" cy="2541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55627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99m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cO-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examethylpropyleneamineox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rcRect l="0" t="3064" r="9128" b="0"/>
          <a:stretch/>
        </p:blipFill>
        <p:spPr>
          <a:xfrm>
            <a:off x="5181480" y="2743200"/>
            <a:ext cx="2975040" cy="28335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799520" y="2133720"/>
            <a:ext cx="22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šetření led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67880" y="5562720"/>
            <a:ext cx="35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99m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cO-mercaptoacetyltrigly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říprava kobaltu (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1800" y="114300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eaktoru dochází k vytvoření radionukli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085840" y="1752480"/>
          <a:ext cx="359280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5840" y="1752480"/>
                    <a:ext cx="359280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457200" y="2514600"/>
            <a:ext cx="8153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adionuklid je vhodně umístěn („kobaltová bomba“). Přitom probíhá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ozpad s poločasem rozpadu 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5,27 ro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057400" y="3429000"/>
          <a:ext cx="4348080" cy="6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429000"/>
                    <a:ext cx="43480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17680" y="423216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citované jádro niklu téměř okamžitě přechází do základního stavu, fotony vzniklé při tomto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ozpadu mají každý energi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bližně 1.2 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362320" y="5562720"/>
          <a:ext cx="4016160" cy="69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5562720"/>
                    <a:ext cx="40161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Energiov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é schema rozpadu Co - 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62120" y="1523880"/>
            <a:ext cx="7251120" cy="3812400"/>
            <a:chOff x="762120" y="1523880"/>
            <a:chExt cx="7251120" cy="3812400"/>
          </a:xfrm>
        </p:grpSpPr>
        <p:sp>
          <p:nvSpPr>
            <p:cNvPr id="117" name=""/>
            <p:cNvSpPr/>
            <p:nvPr/>
          </p:nvSpPr>
          <p:spPr>
            <a:xfrm>
              <a:off x="4495680" y="2057040"/>
              <a:ext cx="1294920" cy="327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762120" y="1523880"/>
              <a:ext cx="7251120" cy="3812400"/>
              <a:chOff x="762120" y="1523880"/>
              <a:chExt cx="7251120" cy="381240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3428640" y="2437920"/>
                <a:ext cx="3733200" cy="2666880"/>
                <a:chOff x="3428640" y="2437920"/>
                <a:chExt cx="3733200" cy="26668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504600" y="2437920"/>
                  <a:ext cx="358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504600" y="2818800"/>
                  <a:ext cx="36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504600" y="3580560"/>
                  <a:ext cx="3580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428640" y="5104800"/>
                  <a:ext cx="365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952520" y="24379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952520" y="2437920"/>
                  <a:ext cx="0" cy="380880"/>
                </a:xfrm>
                <a:prstGeom prst="line">
                  <a:avLst/>
                </a:prstGeom>
                <a:ln w="38160">
                  <a:solidFill>
                    <a:srgbClr val="6699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257080" y="2818800"/>
                  <a:ext cx="0" cy="76140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257080" y="3580560"/>
                  <a:ext cx="0" cy="152388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9520" y="2437920"/>
                  <a:ext cx="0" cy="1142640"/>
                </a:xfrm>
                <a:prstGeom prst="line">
                  <a:avLst/>
                </a:prstGeom>
                <a:ln w="38160">
                  <a:solidFill>
                    <a:srgbClr val="669900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038120" y="3580560"/>
                  <a:ext cx="0" cy="152388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171480" y="2818800"/>
                  <a:ext cx="0" cy="2285640"/>
                </a:xfrm>
                <a:prstGeom prst="line">
                  <a:avLst/>
                </a:prstGeom>
                <a:ln w="38160">
                  <a:solidFill>
                    <a:srgbClr val="0000cc"/>
                  </a:solidFill>
                  <a:prstDash val="sysDot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131" name=""/>
              <p:cNvGraphicFramePr/>
              <p:nvPr/>
            </p:nvGraphicFramePr>
            <p:xfrm>
              <a:off x="7391160" y="2209320"/>
              <a:ext cx="622080" cy="419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391160" y="2209320"/>
                        <a:ext cx="622080" cy="41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3" name=""/>
              <p:cNvGraphicFramePr/>
              <p:nvPr/>
            </p:nvGraphicFramePr>
            <p:xfrm>
              <a:off x="7340400" y="4800240"/>
              <a:ext cx="570960" cy="418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4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7340400" y="4800240"/>
                        <a:ext cx="570960" cy="418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5" name=""/>
              <p:cNvSpPr/>
              <p:nvPr/>
            </p:nvSpPr>
            <p:spPr>
              <a:xfrm flipV="1">
                <a:off x="1981080" y="2057040"/>
                <a:ext cx="0" cy="304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52480" y="510516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752480" y="358092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52480" y="281916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752480" y="243792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96360" y="1523880"/>
                <a:ext cx="127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cs-CZ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r>
                  <a:rPr b="0" lang="cs-CZ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MeV]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3560" y="2133360"/>
                <a:ext cx="86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,82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2120" y="2590560"/>
                <a:ext cx="94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,50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63560" y="3352320"/>
                <a:ext cx="86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,33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44080" y="4876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16440" y="3809520"/>
                <a:ext cx="31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02040" y="2971440"/>
                <a:ext cx="31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02040" y="4038120"/>
                <a:ext cx="31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83080" y="4114440"/>
                <a:ext cx="31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49" name=""/>
              <p:cNvGraphicFramePr/>
              <p:nvPr/>
            </p:nvGraphicFramePr>
            <p:xfrm>
              <a:off x="5181480" y="2437920"/>
              <a:ext cx="532800" cy="3808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0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181480" y="2437920"/>
                        <a:ext cx="53280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1" name=""/>
              <p:cNvGraphicFramePr/>
              <p:nvPr/>
            </p:nvGraphicFramePr>
            <p:xfrm>
              <a:off x="3200040" y="2895120"/>
              <a:ext cx="533160" cy="3808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52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200040" y="2895120"/>
                        <a:ext cx="533160" cy="3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Zákon radioaktivního rozp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9160" y="1066680"/>
            <a:ext cx="67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vzorek s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ádry radionuklidu je rychlost rozp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48120" y="1600200"/>
          <a:ext cx="156816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00200"/>
                    <a:ext cx="15681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00600" y="2362320"/>
            <a:ext cx="33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úměrná počtu těchto j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895480" y="2819520"/>
          <a:ext cx="2090880" cy="107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2819520"/>
                    <a:ext cx="209088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28600" y="3962520"/>
            <a:ext cx="832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ato rovnice popisuje 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zákon radioaktivního rozpad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Konstanta úměrnost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pro daný rozpad charakteristická, nazývá se proto 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konstanta rozpadu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má rozmě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=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ivita vzorku je defino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ja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819520" y="5638680"/>
          <a:ext cx="22953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5638680"/>
                    <a:ext cx="2295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Integrální tvar zákona radioaktivního rozp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1080" y="118440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dnoduchou integrací dostává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98480" y="1752480"/>
          <a:ext cx="4457880" cy="5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8480" y="1752480"/>
                    <a:ext cx="44578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20400" y="2438280"/>
            <a:ext cx="599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vykle volí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 a značí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ak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514600" y="3124080"/>
          <a:ext cx="283068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124080"/>
                    <a:ext cx="28306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304920" y="3962520"/>
            <a:ext cx="8321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to rovnice také popisuje zákon radioaktivního rozpadu, stejně jako rovnice pro aktivitu (označuje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670120" y="5105520"/>
          <a:ext cx="267012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70120" y="5105520"/>
                    <a:ext cx="26701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al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ší charakteristiky rozpa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066680"/>
            <a:ext cx="8321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ozpadu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doba, po které jak počet jader radionuklidu ve vzorku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tak aktivita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klesnou na polovinu své původní hodn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715000" y="4343400"/>
          <a:ext cx="204948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343400"/>
                    <a:ext cx="204948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376200" y="289548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dnoduchá úprava dává pro poločas rozpadu vzt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05320" y="3505320"/>
          <a:ext cx="159696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505320"/>
                    <a:ext cx="15969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04920" y="44956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řední doba života je definována vzta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519360" y="5243400"/>
          <a:ext cx="1117800" cy="100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19360" y="5243400"/>
                    <a:ext cx="11178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7772400" y="44956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ak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666880" y="2057400"/>
          <a:ext cx="3035520" cy="84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2057400"/>
                    <a:ext cx="30355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Rozpad dvěma různými způs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5040" y="118440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ad se může dít více způsoby. Uvažujme dva různé, charakterizované rozpadovými konstantam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 Je t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6560" y="2895480"/>
            <a:ext cx="47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 poločas rozpadu máme teď vzt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981080" y="3429000"/>
          <a:ext cx="4253040" cy="14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429000"/>
                    <a:ext cx="4253040" cy="14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304920" y="4800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dnoduchá úprava dá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971800" y="5334120"/>
          <a:ext cx="2568600" cy="12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5334120"/>
                    <a:ext cx="256860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457200" y="1981080"/>
          <a:ext cx="823284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981080"/>
                    <a:ext cx="8232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voustupňový rozpad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5040" y="1184400"/>
            <a:ext cx="83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mi často musíme uvažovat o rozpadu jako vícestupňovém procesu. Nejčastější je dvoustupňový rozpad ty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2590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značení pochází z anglického </a:t>
            </a:r>
            <a:r>
              <a:rPr b="0" lang="en" sz="2400" spc="-1" strike="noStrike">
                <a:solidFill>
                  <a:srgbClr val="000000"/>
                </a:solidFill>
                <a:latin typeface="Times New Roman"/>
              </a:rPr>
              <a:t>parent, daughter, granddaugh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Potřebné rovnice bud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3429000"/>
          <a:ext cx="6356160" cy="26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635616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971800" y="2057400"/>
          <a:ext cx="304812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2057400"/>
                    <a:ext cx="30481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voustupňový rozpad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219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ení, které splňuje počáteční podmínky najdeme například postupnou integrací rovnic ja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09480" y="2362320"/>
          <a:ext cx="7896240" cy="22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789624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380880" y="472428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 praktické účely je potřeba znát aktivitu dceřinného vzorku.  Aktivita rodičovského vzorku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057400" y="5638680"/>
          <a:ext cx="5081760" cy="7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5638680"/>
                    <a:ext cx="5081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adioaktivní rozp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95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roz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038480" y="1219320"/>
          <a:ext cx="34401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219320"/>
                    <a:ext cx="3440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33520" y="21337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roz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038480" y="1981080"/>
          <a:ext cx="3743280" cy="72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981080"/>
                    <a:ext cx="3743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33520" y="3048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γ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roz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038480" y="2819520"/>
          <a:ext cx="3490920" cy="72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2819520"/>
                    <a:ext cx="3490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533520" y="38098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roz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114800" y="3733920"/>
          <a:ext cx="3743280" cy="723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3733920"/>
                    <a:ext cx="3743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4724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Elektronový zách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038480" y="4648320"/>
          <a:ext cx="3832200" cy="72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4648320"/>
                    <a:ext cx="3832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533520" y="55627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Vnitřní ko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91120" y="5486400"/>
          <a:ext cx="3144600" cy="722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91120" y="5486400"/>
                    <a:ext cx="31446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ktivita dceřinného vzorku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předchozích výsledků dostává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914400" y="1828800"/>
          <a:ext cx="690228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690228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80880" y="3505320"/>
            <a:ext cx="83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ný vhodný tvar tohoto vztahu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4191120"/>
          <a:ext cx="8039160" cy="124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191120"/>
                    <a:ext cx="803916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ktivita dceřinného vzorku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ální hodnotu aktivity dostaneme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85800" y="1752480"/>
          <a:ext cx="7507440" cy="13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50744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80880" y="3505320"/>
            <a:ext cx="83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případě, že poločas rozpadu dceřinného vzorku je menší než poločas vzorku rodičovského (rodičovský: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 na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99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dceřinný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99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na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, dostává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362320" y="5105520"/>
          <a:ext cx="3479760" cy="117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5105520"/>
                    <a:ext cx="347976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ktivita dceřinného vzorku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1219320"/>
            <a:ext cx="82296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vis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R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 hodnot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od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)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lutá) a 1/10 (červená) n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D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105520" y="3124080"/>
          <a:ext cx="3840120" cy="11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124080"/>
                    <a:ext cx="384012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3"/>
          <a:srcRect l="0" t="7871" r="0" b="0"/>
          <a:stretch/>
        </p:blipFill>
        <p:spPr>
          <a:xfrm>
            <a:off x="380880" y="2286000"/>
            <a:ext cx="45720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ktivace v reakt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1066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eaktoru ozařuje neutronový svazek vzorek stabilního nuklidu, jadernou reakcí se vytváří požadovaný radioaktivní nu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2590920"/>
            <a:ext cx="832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čet jader stabilního nuklidu se opět řídí zákon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2209680" y="1981080"/>
          <a:ext cx="331956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981080"/>
                    <a:ext cx="331956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200400" y="3200400"/>
          <a:ext cx="1741320" cy="89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200400"/>
                    <a:ext cx="174132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304920" y="4191120"/>
            <a:ext cx="83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stant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v tomto případě součinem hustoty toku neutronů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účinného průřezu reakc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tj. plošku, která ukazuje jak velkou překážku tvoří při dané reakci jádro  dopadajícím neutronům (rozměry veličin jsou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=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j]=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=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76720" y="5943600"/>
          <a:ext cx="135072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5943600"/>
                    <a:ext cx="13507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říklad s kobal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066680"/>
            <a:ext cx="86104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eaktoru ozařuje neutronový svazek vzorek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 hmotnosti m=1 g, jadernou reakcí se vytváří radioaktivní nuklid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. Účinný průřez j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35 barn (barn=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neutrono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ý tok je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ločas rozpadu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o na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j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1/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2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oků, vyzáření dvou fotonů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záření při přechodu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i následuje v zanedbatelně krátké dob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861840" y="3352680"/>
          <a:ext cx="1575000" cy="8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1840" y="3352680"/>
                    <a:ext cx="157500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838080" y="4343400"/>
          <a:ext cx="1616040" cy="58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343400"/>
                    <a:ext cx="161604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836800" y="3352680"/>
          <a:ext cx="3606840" cy="85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36800" y="3352680"/>
                    <a:ext cx="360684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2819520" y="4267080"/>
          <a:ext cx="614988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19520" y="4267080"/>
                    <a:ext cx="61498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801720" y="5116680"/>
          <a:ext cx="1670040" cy="113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1720" y="5116680"/>
                    <a:ext cx="167004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2819520" y="5105520"/>
          <a:ext cx="5997600" cy="1071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19520" y="5105520"/>
                    <a:ext cx="599760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Nejčastěji užívané radionuklidy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2193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γ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roz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447920" y="2057400"/>
          <a:ext cx="6324480" cy="4206600"/>
        </p:xfrm>
        <a:graphic>
          <a:graphicData uri="http://schemas.openxmlformats.org/drawingml/2006/table">
            <a:tbl>
              <a:tblPr/>
              <a:tblGrid>
                <a:gridCol w="3162240"/>
                <a:gridCol w="1422360"/>
                <a:gridCol w="1739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kl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rg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[keV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ód I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3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ód 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1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4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ód I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allium T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2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necium Tc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99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Nejčastěji užívané radionuklidy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1447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+</a:t>
            </a:r>
            <a:r>
              <a:rPr b="1" lang="cs-CZ" sz="2800" spc="-1" strike="noStrike">
                <a:solidFill>
                  <a:srgbClr val="ff3300"/>
                </a:solidFill>
                <a:latin typeface="Times New Roman"/>
              </a:rPr>
              <a:t>  roz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447920" y="2590920"/>
          <a:ext cx="6324480" cy="2247840"/>
        </p:xfrm>
        <a:graphic>
          <a:graphicData uri="http://schemas.openxmlformats.org/drawingml/2006/table">
            <a:tbl>
              <a:tblPr/>
              <a:tblGrid>
                <a:gridCol w="3162240"/>
                <a:gridCol w="1422360"/>
                <a:gridCol w="1739880"/>
              </a:tblGrid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kl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cs-CZ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minut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rgi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[keV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uor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ysl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ík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říště 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γ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 a r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ent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genové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453080" cy="3970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 flipH="1">
            <a:off x="5714640" y="1371600"/>
            <a:ext cx="762120" cy="14479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a 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enové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49440" y="5157720"/>
            <a:ext cx="45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osm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8200" y="254160"/>
            <a:ext cx="14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1224"/>
                </a:solidFill>
                <a:latin typeface="Times New Roman"/>
              </a:rPr>
              <a:t>Příště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ozpad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alpha" descr=""/>
          <p:cNvPicPr/>
          <p:nvPr/>
        </p:nvPicPr>
        <p:blipFill>
          <a:blip r:embed="rId1"/>
          <a:stretch/>
        </p:blipFill>
        <p:spPr>
          <a:xfrm>
            <a:off x="1833480" y="1371600"/>
            <a:ext cx="547524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533520" y="5257800"/>
          <a:ext cx="344016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257800"/>
                    <a:ext cx="34401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ozpad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beta" descr=""/>
          <p:cNvPicPr/>
          <p:nvPr/>
        </p:nvPicPr>
        <p:blipFill>
          <a:blip r:embed="rId1"/>
          <a:stretch/>
        </p:blipFill>
        <p:spPr>
          <a:xfrm>
            <a:off x="1839960" y="1389240"/>
            <a:ext cx="5464080" cy="407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838080" y="5410080"/>
          <a:ext cx="374328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5410080"/>
                    <a:ext cx="3743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ozpad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r>
              <a:rPr b="0" lang="cs-CZ" sz="32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betaplus" descr=""/>
          <p:cNvPicPr/>
          <p:nvPr/>
        </p:nvPicPr>
        <p:blipFill>
          <a:blip r:embed="rId1"/>
          <a:stretch/>
        </p:blipFill>
        <p:spPr>
          <a:xfrm>
            <a:off x="1839960" y="1389240"/>
            <a:ext cx="5464080" cy="407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762120" y="5334120"/>
          <a:ext cx="374328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5334120"/>
                    <a:ext cx="374328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Elektro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nový zách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betacapture" descr=""/>
          <p:cNvPicPr/>
          <p:nvPr/>
        </p:nvPicPr>
        <p:blipFill>
          <a:blip r:embed="rId1"/>
          <a:stretch/>
        </p:blipFill>
        <p:spPr>
          <a:xfrm>
            <a:off x="1839960" y="1389240"/>
            <a:ext cx="5464080" cy="407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457200" y="5410080"/>
          <a:ext cx="383220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410080"/>
                    <a:ext cx="38322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R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ozpad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amma" descr=""/>
          <p:cNvPicPr/>
          <p:nvPr/>
        </p:nvPicPr>
        <p:blipFill>
          <a:blip r:embed="rId1"/>
          <a:stretch/>
        </p:blipFill>
        <p:spPr>
          <a:xfrm>
            <a:off x="1846440" y="1433520"/>
            <a:ext cx="5451120" cy="3989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4114800" y="4876920"/>
          <a:ext cx="3490920" cy="7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4876920"/>
                    <a:ext cx="3490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Obecné schema 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β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 rozpad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785340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Příprava technecia (Tc)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0360" y="1143000"/>
            <a:ext cx="81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ačínáme u molybd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Z=42. V přírodě se vyskytuje ř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bilních isotopů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52480" y="2133720"/>
          <a:ext cx="5181840" cy="41670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,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,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c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a4c1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,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21:19:55Z</dcterms:created>
  <dc:creator>Jana Musilová</dc:creator>
  <dc:description/>
  <dc:language>en-US</dc:language>
  <cp:lastModifiedBy>bohunka</cp:lastModifiedBy>
  <dcterms:modified xsi:type="dcterms:W3CDTF">2008-11-10T05:11:01Z</dcterms:modified>
  <cp:revision>207</cp:revision>
  <dc:subject/>
  <dc:title>Radiologická fyzika</dc:title>
</cp:coreProperties>
</file>