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5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56.png" ContentType="image/png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48.wmf" ContentType="image/x-wmf"/>
  <Override PartName="/ppt/media/image16.wmf" ContentType="image/x-wmf"/>
  <Override PartName="/ppt/media/image55.png" ContentType="image/png"/>
  <Override PartName="/ppt/media/image35.wmf" ContentType="image/x-wmf"/>
  <Override PartName="/ppt/media/image37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50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38.wmf" ContentType="image/x-wmf"/>
  <Override PartName="/ppt/media/image40.png" ContentType="image/png"/>
  <Override PartName="/ppt/media/image51.wmf" ContentType="image/x-wmf"/>
  <Override PartName="/ppt/media/image42.png" ContentType="image/png"/>
  <Override PartName="/ppt/media/image53.wmf" ContentType="image/x-wmf"/>
  <Override PartName="/ppt/media/image43.png" ContentType="image/png"/>
  <Override PartName="/ppt/media/image5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image8.png" ContentType="image/png"/>
  <Override PartName="/ppt/media/image41.wmf" ContentType="image/x-wmf"/>
  <Override PartName="/ppt/media/image39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B87-6380-49EC-9253-4E2A2702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195-5EAA-47E8-BDF6-F47E2912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529-B323-435A-9C31-99D133CF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AA5-9694-49E1-8F2F-EE094F01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13A-D261-4DA4-AAAC-4018D5F8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EBE-5CC3-4126-8FDF-39107BC7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C2A-9C86-4AEF-84FF-BE6CA457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DE0-E5C3-41B8-8130-F81D6540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362-3535-4079-B8A9-2C1E2212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6A0-5E24-44B8-9557-F1B310C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414-8B5F-471D-B385-2FB43CCF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E73-A03E-4B9A-9910-C89A2C58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2B9C-1BE9-48A4-A771-4F15508898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Radiologick</a:t>
            </a: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á fyz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l Lenc, Jana Musil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zim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uklidy v okolí z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9654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asické“ třídění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oz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11400" y="2595600"/>
          <a:ext cx="534348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2595600"/>
                    <a:ext cx="53434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5228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m se změní na radon při emi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částice (jádra hel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1911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klid X se změní na nuklid Y při emis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částice (jádra hel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33720" y="5181480"/>
          <a:ext cx="429732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5181480"/>
                    <a:ext cx="42973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lasické“ třídění n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30480" y="2595600"/>
          <a:ext cx="530388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2595600"/>
                    <a:ext cx="53038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balt se změní na nikl (v nabuzeném stavu) při emisi elektronu a anti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911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klid X se změní na nuklid Y při emisi elektronu a anti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44720" y="5181480"/>
          <a:ext cx="467532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4720" y="5181480"/>
                    <a:ext cx="46753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lasické“ třídění n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346480" y="2595600"/>
          <a:ext cx="487188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6480" y="2595600"/>
                    <a:ext cx="48718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2860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kl v nabuzeném stavu přejde do základního stavu při emisi dvou foton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1911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kl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nabuz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stav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řejde do základního stavu X při emisi dvou foton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89160" y="5200560"/>
          <a:ext cx="41846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9160" y="5200560"/>
                    <a:ext cx="4184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γ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lší typy přechod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57400" y="2523960"/>
          <a:ext cx="45975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23960"/>
                    <a:ext cx="45975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sík se změní na uhlík při emisi positronu a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1911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klid X se změní na nuklid Y při emisi positronu a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44720" y="5181480"/>
          <a:ext cx="467532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4720" y="5181480"/>
                    <a:ext cx="46753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lší typy přechod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66800" y="2523960"/>
          <a:ext cx="538344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2523960"/>
                    <a:ext cx="53834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860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d se přemění na tellur v nabuzeném stavu při emisi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480" y="4191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ktron z vnitřní hladiny „se sloučí“ s protonem jádra na neutron při emisi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05120" y="5029200"/>
          <a:ext cx="478764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5029200"/>
                    <a:ext cx="47876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lektronový záchy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lší typy přechod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05120" y="2362320"/>
          <a:ext cx="502920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62320"/>
                    <a:ext cx="50292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320" y="182880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ur z nabuzeného stavu přejde do jedenkrát ionizovaného stavu při emisi elektr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480" y="4191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vek uvolní energii nabuzeného stavu emisí vnitřního elektr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413080" y="5048280"/>
          <a:ext cx="377028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3080" y="5048280"/>
                    <a:ext cx="37702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nitřní kon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k podrobný popis je potřeba pro porozumění jev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200" y="3089160"/>
            <a:ext cx="782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a příkl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Stručn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Jak je popisován na různých úrovních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roz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Podrobnějš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oč jsou při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rozpadu emitovány právě nuklidy heli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ozp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635280" y="990720"/>
          <a:ext cx="46227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990720"/>
                    <a:ext cx="46227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016520" y="2543040"/>
          <a:ext cx="41558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6520" y="2543040"/>
                    <a:ext cx="41558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016520" y="4572000"/>
          <a:ext cx="4159080" cy="8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16520" y="4572000"/>
                    <a:ext cx="41590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36440" y="928800"/>
            <a:ext cx="321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sfor se změní na sí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ři emisi elektronu a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59092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tron se změní na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 emisi elektronu a elektronového anti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5720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-kvark se změní na u-kv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 emisi elektronu a elektronového anti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20" y="1717560"/>
            <a:ext cx="79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ákon zachování počtu nukleonů (3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32)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a elektrického náb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5=16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9520" y="36576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ákon zachování baryonovéh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1=1)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, leptonovéh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0=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a elektrického náboj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0=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040" y="5638680"/>
            <a:ext cx="78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ákon zachování baryonovéh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1/3=1/3)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, leptonovéh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0=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a elektrického náboj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-1/3=2/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ozp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186440" cy="5211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4572000" y="26665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6680" y="54100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76760" y="22096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ouc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523880"/>
            <a:ext cx="3505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aždém vrcholu Feynmanova diagramu jsou splněny zákony zachován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aryonového náboj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3333cc"/>
                </a:solidFill>
                <a:latin typeface="Times New Roman"/>
              </a:rPr>
              <a:t>leptonového náboj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elektrického náboj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3333cc"/>
                </a:solidFill>
                <a:latin typeface="Times New Roman"/>
              </a:rPr>
              <a:t>energie a hyb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matické a fyzikální základy radiologi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981080"/>
            <a:ext cx="7467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ření: částice a vlny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kt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ktromagnetického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látek. Atomy. Jádra. Zákony zachová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stava SI, převody k jiným jednotkám. Terminologie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tematika: funkce, rovn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tematika: základy diferenciálního poč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tematika: pravděpodobnost, měření a zpracování d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aktiv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genové zář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o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etektor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ř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kce záření s hmot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zv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tematika: principy tomografických met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etito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nsteinovy vztahy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080" y="110808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ztah mezi energi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hmotnost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čá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76720" y="1752480"/>
          <a:ext cx="214632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52480"/>
                    <a:ext cx="21463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76800" y="2971800"/>
            <a:ext cx="65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ud se částice pohybuje rychlostí velikos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317680" y="3784680"/>
          <a:ext cx="3733920" cy="17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7680" y="3784680"/>
                    <a:ext cx="37339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nsteinovy vztahy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3200" y="110808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tah mezi energií foton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frekvencí elmg. záře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397320" y="1974960"/>
          <a:ext cx="19047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1974960"/>
                    <a:ext cx="1904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8580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tah mezi energií foton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vlnovou délkou elmg. záře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882880" y="3949560"/>
          <a:ext cx="269244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2880" y="3949560"/>
                    <a:ext cx="2692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amentální konsta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1480" y="11080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chlost světla ve vaku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28800" y="1447920"/>
          <a:ext cx="50166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47920"/>
                    <a:ext cx="50166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8580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nckova konstant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1960" y="2679840"/>
          <a:ext cx="748008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2679840"/>
                    <a:ext cx="74800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33520" y="4724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onova gravitační konstant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0720" y="5257800"/>
          <a:ext cx="82425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720" y="5257800"/>
                    <a:ext cx="82425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8580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ární náboj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65160" y="3886200"/>
          <a:ext cx="721368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65160" y="3886200"/>
                    <a:ext cx="72136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dnotky pro vyjádření hmot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120" y="990720"/>
            <a:ext cx="8321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soustavě SI je touto jednotkou kilogram. Díky Einsteinově vztahu mezi energií  a hmotností částice v klidu můžeme vyjadřovat hmotnost pomocí jednotek pro energii nebo si zvolit nějakou hmotnost jako normál, se kterým budeme ostatní hmotnosti porovnávat. Pro atomovou a jadernou fyziku je vhodnou jednotkou energie elektronvolt (eV) a jeho násobky, tj. 1 eV je energie získaná nebo ztracená elementárním nábojem při překonání potenciálového rozdílu 1 V. Hmotnosti se většinou vyjadřují v MeV/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1 MeV=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eV) nebo v atomových jednotkách hmotnosti u.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73080" y="4724280"/>
          <a:ext cx="719784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4724280"/>
                    <a:ext cx="71978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Hmotnostní přebytek nukli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93800" y="1052640"/>
          <a:ext cx="2724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3800" y="1052640"/>
                    <a:ext cx="2724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07960" y="2514600"/>
          <a:ext cx="812808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7 2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8 6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ute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3 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5 5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4 9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ást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1 5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ze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zpad ur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62080" y="1295280"/>
          <a:ext cx="861984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295280"/>
                    <a:ext cx="86198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07960" y="2514600"/>
          <a:ext cx="8128080" cy="3483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,050 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aktin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,051 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,043 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02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d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7 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pontánn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zpad ur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62080" y="1295280"/>
          <a:ext cx="861984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295280"/>
                    <a:ext cx="86198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52280" y="2805120"/>
          <a:ext cx="422280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05120"/>
                    <a:ext cx="42228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734000" y="2971800"/>
          <a:ext cx="420192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4000" y="2971800"/>
                    <a:ext cx="42019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-2880" y="4495680"/>
            <a:ext cx="440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Spontánní rozpad nastává, polo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rozpadu je 4,47.10</a:t>
            </a:r>
            <a:r>
              <a:rPr b="0" lang="en-US" sz="2400" spc="-1" strike="noStrike" baseline="30000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0680" y="449568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ontánní rozpad nemůže nas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unelování při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zpa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r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57360" y="1133640"/>
          <a:ext cx="713736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1133640"/>
                    <a:ext cx="713736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rcRect l="15346" t="5659" r="0" b="0"/>
          <a:stretch/>
        </p:blipFill>
        <p:spPr>
          <a:xfrm>
            <a:off x="2286000" y="1828800"/>
            <a:ext cx="5118120" cy="4835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19240" y="2860560"/>
            <a:ext cx="14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4,5.10</a:t>
            </a:r>
            <a:r>
              <a:rPr b="0" lang="en-US" sz="2400" spc="-1" strike="noStrike" baseline="30000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99720" y="2784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Štěpen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95440" y="1295280"/>
          <a:ext cx="79502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295280"/>
                    <a:ext cx="79502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7183440" cy="1660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80880" y="3581280"/>
            <a:ext cx="5437440" cy="167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720720" y="5230800"/>
          <a:ext cx="7702560" cy="84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0720" y="5230800"/>
                    <a:ext cx="77025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ření: částice nebo vl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4640" y="126036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cná odpověď j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„ani částice, ani vlny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„někdy část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ěkdy vlny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3720" y="220968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ktrony, positrony, protony, neutrony, …nebo vlnové fun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2819520"/>
          <a:ext cx="463212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46321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791320" y="26668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motnost, rychlost, impuls ( = hybnost ),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42880" y="4443480"/>
          <a:ext cx="342108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4443480"/>
                    <a:ext cx="34210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867280" y="4191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nová délka, frekv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rní diagnostické 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1676520"/>
            <a:ext cx="819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orontoPlain~2a"/>
              </a:rPr>
              <a:t>MRI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 – zobrazení pomocí jaderné magnetické re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(magnetic resonance imag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orontoPlain~2a"/>
              </a:rPr>
              <a:t>CT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 – zobrazení pomocí absorbce rentgenového zář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computer tomograp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orontoPlain~2a"/>
              </a:rPr>
              <a:t>PET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 – zobrazení pomocí positronů emitovaných při β</a:t>
            </a:r>
            <a:r>
              <a:rPr b="0" lang="cs-CZ" sz="2800" spc="-1" strike="noStrike" baseline="30000">
                <a:solidFill>
                  <a:srgbClr val="3333cc"/>
                </a:solidFill>
                <a:latin typeface="TorontoPlain~2a"/>
              </a:rPr>
              <a:t>+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orontoPlain~2a"/>
              </a:rPr>
              <a:t>	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rozpadu</a:t>
            </a: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 (positron emission tomograp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orontoPlain~2a"/>
              </a:rPr>
              <a:t>US</a:t>
            </a:r>
            <a:r>
              <a:rPr b="0" lang="en-US" sz="2800" spc="-1" strike="noStrike">
                <a:solidFill>
                  <a:srgbClr val="ff0000"/>
                </a:solidFill>
                <a:latin typeface="TorontoPlain~2a"/>
              </a:rPr>
              <a:t>I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 – zobrazení pomocí absorbce, odrazu nebo </a:t>
            </a: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	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frekvenčního posuvu ultrazvukových v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(ultrasound imag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ření: částice nebo vl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4640" y="126036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cná odpověď j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„ani částice, ani vlny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„někdy část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ěkdy vlny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3360" y="22096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ktromagnetické vlnění nebo fo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95520" y="4262400"/>
          <a:ext cx="26604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262400"/>
                    <a:ext cx="2660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791320" y="41911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 ( = hybnost ),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752480" y="3048120"/>
          <a:ext cx="197172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048120"/>
                    <a:ext cx="19717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791320" y="27432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nová délka, frekv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: jaderná magnetická rezo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057400" y="3276720"/>
          <a:ext cx="475452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76720"/>
                    <a:ext cx="47545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981080" y="1219320"/>
            <a:ext cx="4534200" cy="1912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133720" y="4267080"/>
            <a:ext cx="439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: jaderná magnetická rezo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726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: jaderná magnetická rezo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959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: rentgenové zář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5671" t="0" r="9721" b="0"/>
          <a:stretch/>
        </p:blipFill>
        <p:spPr>
          <a:xfrm>
            <a:off x="4495680" y="1143000"/>
            <a:ext cx="4048200" cy="253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5409" t="0" r="5409" b="0"/>
          <a:stretch/>
        </p:blipFill>
        <p:spPr>
          <a:xfrm>
            <a:off x="533520" y="2362320"/>
            <a:ext cx="3832200" cy="3073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962520"/>
            <a:ext cx="403848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930" t="4109" r="4396" b="4109"/>
          <a:stretch/>
        </p:blipFill>
        <p:spPr>
          <a:xfrm>
            <a:off x="304920" y="1800360"/>
            <a:ext cx="4209840" cy="297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984480" cy="296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920" y="5562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920" y="54864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 je to za zařízení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ický problé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447920"/>
            <a:ext cx="786420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onizující elektromagnetické záření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&gt; 3.10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z neboli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&lt;10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V, rtg a gama) má dostatek energie pro ionizaci atomů tvořících naše tělo. Ionty způsobují  tvorbu volných radikálů (H, OH) a vysoce chemicky reaktivních sloučenin (H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které vyvolávají změny biologicky významných molekul (DNA) a vedou k biologickým účinkům jako je kancerogeneze a mutageneze. Čím vyšší je počet fotonů absorbovaných tělem a čím vyšší je energie těchto fotonů, tím vyšší je počet  vytvářených volných radikálů, tím vyšší je riziko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A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valita obrazu souvisí s dávk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295280"/>
            <a:ext cx="7864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cně platí, že lepší obraz vyžaduje více fotonů a tím i vyšší dávk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690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ěco jaderné termi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51460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Jádro se skládá z protonů a neutronů. Počet protonů v jádře (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atomové číslo 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nebo také 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protonové číslo 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jádra) je označováno symbolem </a:t>
            </a:r>
            <a:r>
              <a:rPr b="1" lang="en-US" sz="2400" spc="-1" strike="noStrike">
                <a:solidFill>
                  <a:srgbClr val="ff0000"/>
                </a:solidFill>
                <a:latin typeface="MTMI~2d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; počet neutronů (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neutronové číslo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) symbolem </a:t>
            </a:r>
            <a:r>
              <a:rPr b="1" lang="en-US" sz="2400" spc="-1" strike="noStrike">
                <a:solidFill>
                  <a:srgbClr val="ff0000"/>
                </a:solidFill>
                <a:latin typeface="MTMI~2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. Celkovému počtu neutronů a protonů v jádře říkáme 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hmotnostní číslo </a:t>
            </a:r>
            <a:r>
              <a:rPr b="1" lang="en-US" sz="2400" spc="-1" strike="noStrike">
                <a:solidFill>
                  <a:srgbClr val="ff0000"/>
                </a:solidFill>
                <a:latin typeface="MTMI~2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TMI~2d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Máme-li na mysli jak neutrony, tak protony, použív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společného pojmenování 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nukleony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orontoPlain~2a"/>
              </a:rPr>
              <a:t>Pokud se o jádra atomů zajímáme jen z hlediska různých jaderných vlastností, nikoli jako o části atomů, nazýváme je obecně </a:t>
            </a:r>
            <a:r>
              <a:rPr b="1" lang="cs-CZ" sz="2400" spc="-1" strike="noStrike">
                <a:solidFill>
                  <a:srgbClr val="3333cc"/>
                </a:solidFill>
                <a:latin typeface="TorontoBold"/>
              </a:rPr>
              <a:t>nuklidy</a:t>
            </a:r>
            <a:r>
              <a:rPr b="0" lang="cs-CZ" sz="2400" spc="-1" strike="noStrike">
                <a:solidFill>
                  <a:srgbClr val="3333cc"/>
                </a:solidFill>
                <a:latin typeface="TorontoPlain~2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00200" y="4952880"/>
          <a:ext cx="495936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952880"/>
                    <a:ext cx="495936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načení nuklid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0645" r="65539" b="21290"/>
          <a:stretch/>
        </p:blipFill>
        <p:spPr>
          <a:xfrm>
            <a:off x="685800" y="1370160"/>
            <a:ext cx="4235400" cy="41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6095880" y="1828800"/>
          <a:ext cx="1494000" cy="35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1828800"/>
                    <a:ext cx="149400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námé nuklidy (zeleně stabiln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5103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2:54:08Z</dcterms:created>
  <dc:creator>bohunka</dc:creator>
  <dc:description/>
  <dc:language>en-US</dc:language>
  <cp:lastModifiedBy>Musilova</cp:lastModifiedBy>
  <dcterms:modified xsi:type="dcterms:W3CDTF">2008-09-22T12:45:07Z</dcterms:modified>
  <cp:revision>39</cp:revision>
  <dc:subject/>
  <dc:title>Radiologická fyzika</dc:title>
</cp:coreProperties>
</file>