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7.wmf" ContentType="image/x-wmf"/>
  <Override PartName="/ppt/media/image12.wmf" ContentType="image/x-wmf"/>
  <Override PartName="/ppt/media/image3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13.jpeg" ContentType="image/jpeg"/>
  <Override PartName="/ppt/media/image31.wmf" ContentType="image/x-wmf"/>
  <Override PartName="/ppt/media/image29.wmf" ContentType="image/x-wmf"/>
  <Override PartName="/ppt/media/image30.wmf" ContentType="image/x-wmf"/>
  <Override PartName="/ppt/media/image42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7.jpeg" ContentType="image/jpeg"/>
  <Override PartName="/ppt/media/image28.wmf" ContentType="image/x-wmf"/>
  <Override PartName="/ppt/media/image3.jpeg" ContentType="image/jpeg"/>
  <Override PartName="/ppt/media/image32.wmf" ContentType="image/x-wmf"/>
  <Override PartName="/ppt/media/image2.wmf" ContentType="image/x-wmf"/>
  <Override PartName="/ppt/media/image34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27D-E0CB-4C29-82EB-5563F585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F04-6AE0-4D1F-9754-27823759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7687-B3B4-4FBE-918D-29376C8F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2AF-AD72-4845-B75F-EA9851B4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DA6-54FB-49A0-9EFD-78624D51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1AF-751F-4BF7-8426-31474F6A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7DB-CE35-4926-8CCC-01E88E62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5335-F716-47B3-8BC0-FDA7A0A1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EFF-4DBE-4850-9C93-66F7F72C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CB9-936D-4715-8601-DC9042DC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5DF-4ECB-4C69-B55B-412DF9EC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958-7E7E-4887-AC6F-A1D475B6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D155-76D6-4D7C-A87C-96A55A362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13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Laubfrosch-wiki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diologická fyz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áklady diferenciálního poč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ce a tečny, integrály a plo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erenciální rov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28640" y="5157720"/>
            <a:ext cx="43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zim 2008, pátá předná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ní c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686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ou dělit nelze. Je-li například funkc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menovatelem podíl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 určitou hodnotu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ěnné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býv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y,  nelze hodnotu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zlomku dosadit (nedal by se vyčísli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Viděli jsme ale, že když se ve zlomku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blíží k nule jak čitatel, 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jmenovatel, může se stát, že se hodnota zlomku blíží k jistém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definovanému číslu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Číslo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e pak nazývá limitou funkc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 píš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16160" y="5373720"/>
          <a:ext cx="61498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6160" y="5373720"/>
                    <a:ext cx="6149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dna důležitá lim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4360" y="1773360"/>
            <a:ext cx="3429000" cy="3429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3500280"/>
            <a:ext cx="410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340000" y="1773000"/>
            <a:ext cx="1800360" cy="172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2386200">
            <a:off x="607320" y="1735560"/>
            <a:ext cx="3537000" cy="331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75" y="76"/>
                </a:moveTo>
                <a:arcTo wR="10800" hR="10800" stAng="-4993116" swAng="2633866"/>
                <a:lnTo>
                  <a:pt x="10800" y="10800"/>
                </a:lnTo>
                <a:close/>
              </a:path>
              <a:path fill="none" w="21600" h="21600">
                <a:moveTo>
                  <a:pt x="12075" y="76"/>
                </a:moveTo>
                <a:arcTo wR="10800" hR="10800" stAng="-4993116" swAng="2633866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2276640"/>
            <a:ext cx="0" cy="1223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140360" y="1773000"/>
            <a:ext cx="0" cy="17269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360" y="3011400"/>
            <a:ext cx="5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70160" y="249228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43280" y="1700280"/>
          <a:ext cx="424836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700280"/>
                    <a:ext cx="42483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 flipV="1">
            <a:off x="2340000" y="1052280"/>
            <a:ext cx="0" cy="43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ém tečny a deriv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0" t="3147" r="0" b="0"/>
          <a:stretch/>
        </p:blipFill>
        <p:spPr>
          <a:xfrm>
            <a:off x="468360" y="1268280"/>
            <a:ext cx="3744720" cy="432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276720" y="2421000"/>
            <a:ext cx="14436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68360" y="3429000"/>
            <a:ext cx="14292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40000" y="3500280"/>
            <a:ext cx="10080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348000" y="2492280"/>
            <a:ext cx="0" cy="10080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211640" y="1341360"/>
          <a:ext cx="4680000" cy="381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11640" y="1341360"/>
                    <a:ext cx="46800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691280" y="299736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25840" y="285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4, 1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6360" y="4149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2560" y="134136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 = 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20720" y="2852640"/>
            <a:ext cx="4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27640" y="407664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340000" y="3716280"/>
            <a:ext cx="0" cy="43200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8000" y="3716280"/>
            <a:ext cx="0" cy="503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"/>
          <p:cNvCxnSpPr/>
          <p:nvPr/>
        </p:nvCxnSpPr>
        <p:spPr>
          <a:xfrm>
            <a:off x="2340000" y="4076280"/>
            <a:ext cx="1008720" cy="108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1582560" y="5013360"/>
            <a:ext cx="75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Hodnota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cs-CZ" sz="2400" spc="-1" strike="noStrike" baseline="30000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určená předchozí limitou, je deriv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funkce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 v bodě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9900"/>
                </a:solidFill>
                <a:latin typeface="Times New Roman"/>
              </a:rPr>
              <a:t>Chápeme-li </a:t>
            </a:r>
            <a:r>
              <a:rPr b="1" i="1" lang="cs-CZ" sz="2400" spc="-1" strike="noStrike">
                <a:solidFill>
                  <a:srgbClr val="669900"/>
                </a:solidFill>
                <a:latin typeface="Times New Roman"/>
              </a:rPr>
              <a:t>x </a:t>
            </a:r>
            <a:r>
              <a:rPr b="1" lang="cs-CZ" sz="2400" spc="-1" strike="noStrike">
                <a:solidFill>
                  <a:srgbClr val="669900"/>
                </a:solidFill>
                <a:latin typeface="Times New Roman"/>
              </a:rPr>
              <a:t>jako proměnnou, je </a:t>
            </a:r>
            <a:r>
              <a:rPr b="1" i="1" lang="cs-CZ" sz="2400" spc="-1" strike="noStrike">
                <a:solidFill>
                  <a:srgbClr val="6699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i="1" lang="cs-CZ" sz="2400" spc="-1" strike="noStrike" baseline="30000">
                <a:solidFill>
                  <a:srgbClr val="6699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) </a:t>
            </a:r>
            <a:r>
              <a:rPr b="1" lang="cs-CZ" sz="2400" spc="-1" strike="noStrike">
                <a:solidFill>
                  <a:srgbClr val="669900"/>
                </a:solidFill>
                <a:latin typeface="Times New Roman"/>
              </a:rPr>
              <a:t> funk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9900"/>
                </a:solidFill>
                <a:latin typeface="Times New Roman"/>
              </a:rPr>
              <a:t>Směrnice tečny ke grafu závisí na bodu doty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ýpočet směrnice a rovnice přím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4292640"/>
            <a:ext cx="2521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187280" y="1773000"/>
            <a:ext cx="0" cy="2879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24000" y="1557000"/>
            <a:ext cx="2447640" cy="31669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5640" y="4005360"/>
            <a:ext cx="1429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2349360"/>
            <a:ext cx="14292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5780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836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052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37080" y="198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753200">
            <a:off x="-42120" y="3228120"/>
            <a:ext cx="1828080" cy="182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53" y="42"/>
                </a:moveTo>
                <a:arcTo wR="10800" hR="10800" stAng="-5096117" swAng="3072201"/>
                <a:lnTo>
                  <a:pt x="10800" y="10800"/>
                </a:lnTo>
                <a:close/>
              </a:path>
              <a:path fill="none" w="21600" h="21600">
                <a:moveTo>
                  <a:pt x="11753" y="42"/>
                </a:moveTo>
                <a:arcTo wR="10800" hR="10800" stAng="-5096117" swAng="3072201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260720" y="357336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407664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24000" y="2492280"/>
            <a:ext cx="0" cy="1584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6920" y="4437000"/>
            <a:ext cx="0" cy="720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24000" y="4437000"/>
            <a:ext cx="0" cy="720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"/>
          <p:cNvCxnSpPr/>
          <p:nvPr/>
        </p:nvCxnSpPr>
        <p:spPr>
          <a:xfrm>
            <a:off x="826560" y="4868640"/>
            <a:ext cx="1297800" cy="108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2195640" y="2421000"/>
            <a:ext cx="936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95640" y="4076640"/>
            <a:ext cx="936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/>
          <p:nvPr/>
        </p:nvCxnSpPr>
        <p:spPr>
          <a:xfrm>
            <a:off x="2555640" y="2420640"/>
            <a:ext cx="1080" cy="165636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2649240" y="3068640"/>
            <a:ext cx="104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22680" y="4797360"/>
            <a:ext cx="108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771640" y="1413000"/>
          <a:ext cx="6193080" cy="48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413000"/>
                    <a:ext cx="619308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2411280" y="1844640"/>
            <a:ext cx="1447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26160" y="148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ýpočet směrnice a rovnice teč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3745080" cy="44654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843280" y="3213000"/>
            <a:ext cx="14436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5280" y="4221000"/>
            <a:ext cx="14292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79640" y="4292640"/>
            <a:ext cx="10080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916360" y="3284640"/>
            <a:ext cx="0" cy="10080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86560" y="378936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49480" y="285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4, 1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33080" y="4149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2276640"/>
            <a:ext cx="9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 = 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17440" y="3645000"/>
            <a:ext cx="4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24360" y="479736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00" y="501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16360" y="4941720"/>
            <a:ext cx="0" cy="503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/>
          <p:nvPr/>
        </p:nvCxnSpPr>
        <p:spPr>
          <a:xfrm>
            <a:off x="1907640" y="5229000"/>
            <a:ext cx="1008720" cy="108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graphicFrame>
        <p:nvGraphicFramePr>
          <p:cNvPr id="306" name=""/>
          <p:cNvGraphicFramePr/>
          <p:nvPr/>
        </p:nvGraphicFramePr>
        <p:xfrm>
          <a:off x="3419640" y="981000"/>
          <a:ext cx="5724360" cy="511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981000"/>
                    <a:ext cx="572436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 flipH="1">
            <a:off x="6804000" y="3573360"/>
            <a:ext cx="432000" cy="64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667640" y="4076640"/>
            <a:ext cx="433440" cy="64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2600" y="625788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Sami dokončete výpočet rovnice tečny, když nyní znáte směrn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003640" y="3645000"/>
            <a:ext cx="2741760" cy="2741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Derivace a fy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 rovnoměrným pohybem po kružnici se již každý jist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kal, třeba na řetízkovém kolotoči. Takový pohyb koná například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středivka používaná ve zdravotnických zařízeních. Řekněme, 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ějaké tělísko obíhá ve vzdálenost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0 m od osy kolotoče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že jeden oběh trvá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,0 s. Závislost polohy tělíska na čase pak l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jádřit například tak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372360" y="5013360"/>
            <a:ext cx="19447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6372360" y="3284280"/>
            <a:ext cx="0" cy="172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380360" y="4076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372360" y="4220640"/>
            <a:ext cx="1008000" cy="792360"/>
          </a:xfrm>
          <a:prstGeom prst="line">
            <a:avLst/>
          </a:prstGeom>
          <a:ln w="38160">
            <a:solidFill>
              <a:srgbClr val="00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04720" y="45324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37344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51640" y="4221000"/>
            <a:ext cx="0" cy="8636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6300360" y="4149720"/>
            <a:ext cx="10796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81380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3440" y="49417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393372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517080" y="42210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59640" y="4292640"/>
            <a:ext cx="217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740720" y="4005360"/>
            <a:ext cx="0" cy="1008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741440" y="37162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812000" y="3789360"/>
            <a:ext cx="217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324000" y="3789360"/>
          <a:ext cx="4968720" cy="17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789360"/>
                    <a:ext cx="496872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250560" y="5661000"/>
            <a:ext cx="86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Je získaná hodnota obvodové rychlosti shodná s velikostí vekt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rychlosti daného bodu? Co je to vlastně rychl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003640" y="3645000"/>
            <a:ext cx="2741760" cy="2741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ůměrná rychlost za dobu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372360" y="5013360"/>
            <a:ext cx="19447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372360" y="3284280"/>
            <a:ext cx="0" cy="172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596360" y="450864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372360" y="4581360"/>
            <a:ext cx="1224000" cy="432000"/>
          </a:xfrm>
          <a:prstGeom prst="line">
            <a:avLst/>
          </a:prstGeom>
          <a:ln w="38160">
            <a:solidFill>
              <a:srgbClr val="00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04000" y="453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7344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81380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93080" y="49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885080" y="4149720"/>
            <a:ext cx="217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04000" y="3213000"/>
            <a:ext cx="217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2720" y="3645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372360" y="3789360"/>
            <a:ext cx="360360" cy="1224000"/>
          </a:xfrm>
          <a:prstGeom prst="line">
            <a:avLst/>
          </a:prstGeom>
          <a:ln w="38160">
            <a:solidFill>
              <a:srgbClr val="00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741080" y="407664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751080" y="313524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6803640" y="3715920"/>
            <a:ext cx="792360" cy="792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53240" y="40705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20000" y="422100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533520" y="1066680"/>
          <a:ext cx="541800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5418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250920" y="558972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kol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kuste si sami velikosti průměrný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ychlostí a jejich úhly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 osou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ypočítat a seřadit do tabulky. Všimněte si, k jakým hodnotám se blíží, když se interval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ustále zmenšu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79280" y="1700280"/>
            <a:ext cx="8713800" cy="3024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89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ůměrná rychlost ve zmenšujícím se interval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310600" cy="25844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547640" y="501336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 tady jsou výsledky řešení Vašeho úko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0920" y="1557360"/>
            <a:ext cx="8713800" cy="29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kamžitá rychlost jako lim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226360" cy="23637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25800" y="1052640"/>
            <a:ext cx="58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hyb hmotného bodu po prostorové křiv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11280" y="4581360"/>
          <a:ext cx="7993080" cy="208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4581360"/>
                    <a:ext cx="799308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1332720" y="357336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poloha … 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771640" y="3645000"/>
            <a:ext cx="216000" cy="0"/>
          </a:xfrm>
          <a:prstGeom prst="line">
            <a:avLst/>
          </a:prstGeom>
          <a:ln w="255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355280" y="357336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rychlost … 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12000" y="3645000"/>
            <a:ext cx="215640" cy="0"/>
          </a:xfrm>
          <a:prstGeom prst="line">
            <a:avLst/>
          </a:prstGeom>
          <a:ln w="255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y odvození derivací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915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íklad 1: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etoda vykrácení nepohodlného výrazu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íklad 2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 = sin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84360" y="1700280"/>
          <a:ext cx="784836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84836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684360" y="4292640"/>
          <a:ext cx="7632720" cy="23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292640"/>
                    <a:ext cx="763272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 flipV="1">
            <a:off x="971640" y="2852280"/>
            <a:ext cx="504720" cy="5050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484360" y="3429000"/>
            <a:ext cx="505080" cy="50472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63272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Derivace a tečny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tematik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„libovolně malých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změ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79280" y="1341360"/>
            <a:ext cx="8785440" cy="5018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ce elementárních fun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835668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vidla pro deriv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1341360"/>
            <a:ext cx="8785440" cy="475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85550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vidlo pro složenou funk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187280" y="1413000"/>
            <a:ext cx="0" cy="22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87280" y="1916280"/>
            <a:ext cx="0" cy="12967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40360" y="1341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140360" y="1773360"/>
            <a:ext cx="0" cy="151128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67280" y="1628640"/>
            <a:ext cx="0" cy="18716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1341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588000" y="1700280"/>
            <a:ext cx="0" cy="1512720"/>
          </a:xfrm>
          <a:prstGeom prst="line">
            <a:avLst/>
          </a:prstGeom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71760" y="2317680"/>
            <a:ext cx="50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28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503160" y="234936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33cc33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2421000"/>
            <a:ext cx="52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i="1" lang="cs-CZ" sz="2800" spc="-1" strike="noStrike" baseline="-25000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601680" y="2349360"/>
            <a:ext cx="59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6633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42920" y="2133720"/>
            <a:ext cx="2872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01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95640" y="2205000"/>
            <a:ext cx="2890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44000" y="170028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443640" y="2060640"/>
            <a:ext cx="2890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931280" y="1413000"/>
            <a:ext cx="27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547640" y="2924280"/>
            <a:ext cx="1943280" cy="358560"/>
          </a:xfrm>
          <a:custGeom>
            <a:avLst/>
            <a:gdLst>
              <a:gd name="textAreaLeft" fmla="*/ 303480 w 1943280"/>
              <a:gd name="textAreaRight" fmla="*/ 1700640 w 194328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356000" y="2924280"/>
            <a:ext cx="1943280" cy="358560"/>
          </a:xfrm>
          <a:custGeom>
            <a:avLst/>
            <a:gdLst>
              <a:gd name="textAreaLeft" fmla="*/ 303480 w 1943280"/>
              <a:gd name="textAreaRight" fmla="*/ 1700640 w 194328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116000" y="3978360"/>
          <a:ext cx="6985080" cy="20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978360"/>
                    <a:ext cx="698508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dhady změn hodnot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539640" y="1125360"/>
          <a:ext cx="8136000" cy="10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25360"/>
                    <a:ext cx="813600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539640" y="1916280"/>
            <a:ext cx="3745080" cy="4465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348000" y="3213000"/>
            <a:ext cx="14436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40000" y="4221000"/>
            <a:ext cx="14292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411280" y="4292640"/>
            <a:ext cx="100836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419640" y="3284640"/>
            <a:ext cx="0" cy="10080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07280" y="371628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25840" y="285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4, 1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9344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9840" y="206064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 = 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428720" y="3573360"/>
            <a:ext cx="4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700720" y="479736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411280" y="501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419640" y="4941720"/>
            <a:ext cx="0" cy="503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"/>
          <p:cNvCxnSpPr/>
          <p:nvPr/>
        </p:nvCxnSpPr>
        <p:spPr>
          <a:xfrm>
            <a:off x="2410920" y="5229000"/>
            <a:ext cx="1008720" cy="108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423" name=""/>
          <p:cNvSpPr/>
          <p:nvPr/>
        </p:nvSpPr>
        <p:spPr>
          <a:xfrm>
            <a:off x="3492360" y="3284640"/>
            <a:ext cx="11509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419640" y="4292640"/>
            <a:ext cx="1223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"/>
          <p:cNvCxnSpPr/>
          <p:nvPr/>
        </p:nvCxnSpPr>
        <p:spPr>
          <a:xfrm>
            <a:off x="4427280" y="3284640"/>
            <a:ext cx="1080" cy="100872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426" name=""/>
          <p:cNvSpPr/>
          <p:nvPr/>
        </p:nvSpPr>
        <p:spPr>
          <a:xfrm>
            <a:off x="3419640" y="386064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/>
          <p:nvPr/>
        </p:nvCxnSpPr>
        <p:spPr>
          <a:xfrm>
            <a:off x="3850920" y="3789360"/>
            <a:ext cx="1080" cy="504000"/>
          </a:xfrm>
          <a:prstGeom prst="straightConnector1">
            <a:avLst/>
          </a:prstGeom>
          <a:ln w="2556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3853080" y="3789360"/>
            <a:ext cx="4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2000" spc="-1" strike="noStrike">
                <a:solidFill>
                  <a:srgbClr val="ff33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916520" y="2046240"/>
          <a:ext cx="3994200" cy="262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16520" y="2046240"/>
                    <a:ext cx="399420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179280" y="5241960"/>
          <a:ext cx="8964720" cy="1747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5241960"/>
                    <a:ext cx="896472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va příklady na odh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2184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čete přibližnou hodnotu čísla 2,0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čete přibližnou hodnotu s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24000" y="1593720"/>
          <a:ext cx="8820000" cy="17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93720"/>
                    <a:ext cx="8820000" cy="17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3780000" y="2205000"/>
            <a:ext cx="0" cy="649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348000" y="2852640"/>
            <a:ext cx="43200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95640" y="2924280"/>
            <a:ext cx="0" cy="64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1763640" y="3573360"/>
            <a:ext cx="43200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08720" y="2205000"/>
            <a:ext cx="0" cy="649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924360" y="2924280"/>
            <a:ext cx="0" cy="64908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076720" y="2852640"/>
            <a:ext cx="432000" cy="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492360" y="3573360"/>
            <a:ext cx="432000" cy="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92720" y="2924280"/>
            <a:ext cx="0" cy="64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27640" y="2924280"/>
            <a:ext cx="0" cy="64908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5795640" y="3573360"/>
            <a:ext cx="431640" cy="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4859280" y="3573360"/>
            <a:ext cx="43200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324000" y="4633920"/>
          <a:ext cx="8496000" cy="19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633920"/>
                    <a:ext cx="849600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ěkolik úloh na derivace a teč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loha 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voďte pravidlo pro derivaci funkcí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žijte binomickou vě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loha 2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počtěte derivace následujících funkc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loha 3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rčete rovnici tečny ke grafu funkc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= sin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bodě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39640" y="3068640"/>
          <a:ext cx="5761080" cy="15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068640"/>
                    <a:ext cx="576108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63272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Integrály a plochy</a:t>
            </a:r>
            <a:br>
              <a:rPr sz="5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k zjistit funkci z její deriv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brácená úloha mechaniky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d zrychlení k trajekto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496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kladní zákon mechaniky – druhý Newtonův zákon – umožň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jádřit zrychlení hmotného bodu na základě sil, jimiž na hmot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od působí okolní objek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Zrychlení je však derivací rychlosti, a ta je derivací polo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Abychom zjistili funkci, která popisuje závislosti polohy hmotn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bodu na čase, musíme nějakou zpětnou procedurou najít, j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vypadala funkce, než jsme ji zderivov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Opačná procedura k derivování, tj. nalézání původ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(primitivní) funkce, se nazývá integr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mitivní funkce (neurčitý integrá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2920" y="907560"/>
            <a:ext cx="8488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pokládejme, že na intervalu [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] je definována funkc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terá je spojitá (její limita v každém bodě existuje a je rov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unkční hodnotě, graf funkce není „potrhaný“). Funkc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finovaná na intervalu 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obsahujícím [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], a taková, že je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rivace na intervalu [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] je rovna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primi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funkcí (neurčitým integrálem) k funkci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a 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íklad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unkc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= 4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+ 1 je definována 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unk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k ní funkcí primitivní, ale také všechny funk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varu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+ libovolná konstanta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Jak je to možné, že jedna a táž funkce má nekonečně mno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primitivních funkcí lišících se navzájem o konstan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79280" y="1413000"/>
            <a:ext cx="8785440" cy="518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ulka primitivních funkcí – 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4931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Nejen velké, ale i malé změny „jsou život“ 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opravdu potřebujeme diferenciální poče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2766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kuste si představit situaci: Sedíte v místnosti, kde tikají hodiny. Za chvíli je nevnímáte. Ale hned si uvědomíte, kdyby se zastav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Nebo:  Máte dlaň položenou na stole v klidu. Za chvíli nic nehmatáte. Abyste hmat „oživili“, musíte prsty po stole posun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Organismus reaguje na časovou změ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ychom jeho chování (a další jevy související se změnami) pochopili, potřebujeme aparát k počítání s malými změnam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ulka primitivních funkcí – I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23120" cy="25876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817884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ém ploch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118908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20544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332000" y="3645000"/>
            <a:ext cx="358560" cy="134604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1332000" y="3860280"/>
            <a:ext cx="0" cy="1511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692360" y="3284640"/>
            <a:ext cx="215640" cy="170640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08000" y="2924280"/>
            <a:ext cx="719280" cy="206676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627280" y="2637000"/>
            <a:ext cx="216000" cy="235404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43280" y="2492280"/>
            <a:ext cx="358560" cy="249876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03640" y="2349360"/>
            <a:ext cx="144360" cy="26416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348000" y="2349360"/>
            <a:ext cx="0" cy="295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63708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9440" y="1844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908000" y="501336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627280" y="501336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98120" y="55166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31440" y="5516640"/>
            <a:ext cx="57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411280" y="2924280"/>
            <a:ext cx="0" cy="20890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056680" y="4437000"/>
            <a:ext cx="36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ξ</a:t>
            </a:r>
            <a:r>
              <a:rPr b="1" lang="cs-CZ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879720" y="1268280"/>
          <a:ext cx="5091120" cy="49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79720" y="1268280"/>
                    <a:ext cx="509112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900360" y="1341360"/>
            <a:ext cx="20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rčit plochu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d graf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63272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Diferenciální rovnice</a:t>
            </a:r>
            <a:br>
              <a:rPr sz="5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k z rovnice pro změnu určit funkci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24000" y="5157720"/>
            <a:ext cx="4535280" cy="1484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16720" y="3573360"/>
            <a:ext cx="9144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zpad jader – ještě jed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755640" y="5445000"/>
          <a:ext cx="788508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45000"/>
                    <a:ext cx="788508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>
            <a:off x="1116000" y="1413000"/>
            <a:ext cx="1490760" cy="15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116000" y="3213000"/>
            <a:ext cx="1490760" cy="151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51280" y="1413000"/>
            <a:ext cx="1490760" cy="1512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51280" y="3213000"/>
            <a:ext cx="1490760" cy="1513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835280" y="1700280"/>
            <a:ext cx="504720" cy="5047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908000" y="1197000"/>
            <a:ext cx="935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835280" y="2852280"/>
            <a:ext cx="115236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835280" y="3213000"/>
            <a:ext cx="1296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1835280" y="3573000"/>
            <a:ext cx="649080" cy="36036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835280" y="148428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835280" y="263700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35280" y="3284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835280" y="4437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87280" y="220500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40000" y="220500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187280" y="40053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340000" y="40053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557080" y="1341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653200" y="33577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+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284720" y="21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500720" y="23493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16360" y="2565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284720" y="24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00720" y="25653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427640" y="2492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643280" y="2349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356000" y="263700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716360" y="24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500720" y="2133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356000" y="2349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211640" y="2492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859280" y="24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40360" y="23493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643280" y="2205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2565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9280" y="2205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140360" y="22050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0" y="2060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932360" y="227664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263700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572000" y="21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067280" y="2060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11640" y="2565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16360" y="1989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84720" y="1989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427640" y="4365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84720" y="42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3280" y="4292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500720" y="4149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716360" y="4437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572000" y="39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356000" y="4149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284720" y="4292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427640" y="450864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88000" y="42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27640" y="39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788000" y="39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643280" y="4076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59280" y="4005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356000" y="4005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11640" y="4149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140360" y="3933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140360" y="4365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003640" y="4149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643280" y="4437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427640" y="3860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284720" y="3860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77080" y="407664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20000" y="414972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093080" y="400536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932360" y="2492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88000" y="263700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859280" y="2060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067280" y="24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995640" y="21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093080" y="400536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732720" y="414972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877080" y="386064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732720" y="386064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59640" y="400536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75280" y="227664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995640" y="227664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003640" y="21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40360" y="18446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427640" y="1916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067280" y="42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859280" y="4365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003640" y="39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067280" y="4076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643280" y="3789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5364000" y="2708280"/>
          <a:ext cx="309564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2708280"/>
                    <a:ext cx="30956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5243040" y="1989000"/>
            <a:ext cx="31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4,8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2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  1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615640" y="4653000"/>
            <a:ext cx="31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–2,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5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  1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016880" y="4653000"/>
            <a:ext cx="11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+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755640" y="1268280"/>
            <a:ext cx="7920000" cy="424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zpad jader - řeš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2419200" y="377352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9200" y="377352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1519200" y="1484280"/>
          <a:ext cx="6462720" cy="381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9200" y="1484280"/>
                    <a:ext cx="64627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"/>
          <p:cNvSpPr/>
          <p:nvPr/>
        </p:nvSpPr>
        <p:spPr>
          <a:xfrm>
            <a:off x="882360" y="5734080"/>
            <a:ext cx="769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Úkol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žijte uvedený postup pro řešení problému s absorpcí záře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čáteční podmínka zde má charakter zadání intenzity záření na povrch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ště jednou mecha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55640" y="1628640"/>
            <a:ext cx="0" cy="64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55640" y="2276640"/>
            <a:ext cx="230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55640" y="249228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55640" y="3141720"/>
            <a:ext cx="230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55640" y="2060640"/>
            <a:ext cx="144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900000" y="1844640"/>
            <a:ext cx="716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71640" y="1844640"/>
            <a:ext cx="14436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1116000" y="1844280"/>
            <a:ext cx="14292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258920" y="1844640"/>
            <a:ext cx="14436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1403280" y="1844280"/>
            <a:ext cx="14436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47640" y="1844640"/>
            <a:ext cx="716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619280" y="206064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835280" y="2133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7816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8944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5640" y="29242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900000" y="2708280"/>
            <a:ext cx="14292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042920" y="2708280"/>
            <a:ext cx="28908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1332000" y="2707920"/>
            <a:ext cx="21564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547640" y="2708280"/>
            <a:ext cx="21600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763640" y="2707920"/>
            <a:ext cx="21600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79640" y="2708280"/>
            <a:ext cx="7128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050920" y="2924280"/>
            <a:ext cx="21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268360" y="2637000"/>
            <a:ext cx="503280" cy="50472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484360" y="292428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2484360" y="2060280"/>
            <a:ext cx="0" cy="8636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411280" y="285264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1763640" y="2924280"/>
            <a:ext cx="504720" cy="0"/>
          </a:xfrm>
          <a:prstGeom prst="line">
            <a:avLst/>
          </a:prstGeom>
          <a:ln w="540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35280" y="3068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7816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609280" y="3233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916360" y="3357720"/>
            <a:ext cx="2156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466000" y="150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cc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989440" y="256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627280" y="1557360"/>
            <a:ext cx="216000" cy="0"/>
          </a:xfrm>
          <a:prstGeom prst="line">
            <a:avLst/>
          </a:prstGeom>
          <a:ln w="255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35280" y="3068640"/>
            <a:ext cx="5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3419640" y="1341360"/>
          <a:ext cx="521172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341360"/>
                    <a:ext cx="521172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"/>
          <p:cNvSpPr/>
          <p:nvPr/>
        </p:nvSpPr>
        <p:spPr>
          <a:xfrm>
            <a:off x="374040" y="4889520"/>
            <a:ext cx="803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Dokončete řešení na základě znalosti počátečních podmí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Předchozí rovnice jsou ukázkou obyčejných diferenciální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rovnic prvého a druhého řádu, lineárních, s konstantní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oeficienty a homogenní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diologická fyz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vděpodob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ěření a zpracování d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80760" y="5157720"/>
            <a:ext cx="44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zim 2008, šestá předná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08200" y="254160"/>
            <a:ext cx="14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1224"/>
                </a:solidFill>
                <a:latin typeface="Times New Roman"/>
              </a:rPr>
              <a:t>Příště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rot="16200000">
            <a:off x="5220360" y="1916640"/>
            <a:ext cx="3024360" cy="36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atesonův pokus se žáb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1916280"/>
            <a:ext cx="1440000" cy="15825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1341360"/>
            <a:ext cx="1440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364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557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653000"/>
            <a:ext cx="1440000" cy="1584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4076640"/>
            <a:ext cx="1440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43657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2924280"/>
            <a:ext cx="2292480" cy="1663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12187200">
            <a:off x="3419640" y="2420280"/>
            <a:ext cx="1574640" cy="485640"/>
          </a:xfrm>
          <a:custGeom>
            <a:avLst/>
            <a:gdLst>
              <a:gd name="textAreaLeft" fmla="*/ 245880 w 1574640"/>
              <a:gd name="textAreaRight" fmla="*/ 1378080 w 157464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9268800">
            <a:off x="3347280" y="4437000"/>
            <a:ext cx="1575000" cy="486000"/>
          </a:xfrm>
          <a:custGeom>
            <a:avLst/>
            <a:gdLst>
              <a:gd name="textAreaLeft" fmla="*/ 245880 w 1575000"/>
              <a:gd name="textAreaRight" fmla="*/ 1378440 w 15750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3080" y="29242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7800" y="1197000"/>
            <a:ext cx="560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rychlé zahřívání nádoby s vodou a žáb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žába změnu pozná a vysko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8160" y="5589720"/>
            <a:ext cx="573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pomalé zahřívání nádoby s vodou a žáb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žába změnu nepozná a uvaří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1484280"/>
            <a:ext cx="360360" cy="468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atesonův zák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ateson – Ehren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Organismus reaguje na časovou změnu (derivaci) vnímaný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počit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ematizace“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66ff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 signál, podně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nímaný počit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66ff"/>
                </a:solidFill>
                <a:latin typeface="Times New Roman"/>
              </a:rPr>
              <a:t>R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ezva, re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9640" y="4653000"/>
          <a:ext cx="331164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653000"/>
                    <a:ext cx="331164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427640" y="24210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V="1">
            <a:off x="6588000" y="3500280"/>
            <a:ext cx="1008360" cy="187344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96360" y="3500280"/>
            <a:ext cx="0" cy="18734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8000" y="5373720"/>
            <a:ext cx="1008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06960" y="4941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96360" y="429264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516720" y="3573360"/>
            <a:ext cx="9144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zpad j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55640" y="5445000"/>
          <a:ext cx="788508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45000"/>
                    <a:ext cx="788508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116000" y="1413000"/>
            <a:ext cx="1490760" cy="15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3213000"/>
            <a:ext cx="1490760" cy="151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1413000"/>
            <a:ext cx="1490760" cy="1512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1280" y="3213000"/>
            <a:ext cx="1490760" cy="1513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835280" y="1700280"/>
            <a:ext cx="504720" cy="5047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08000" y="1197000"/>
            <a:ext cx="935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835280" y="2852280"/>
            <a:ext cx="115236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835280" y="3213000"/>
            <a:ext cx="1296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835280" y="3573000"/>
            <a:ext cx="649080" cy="36036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48428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263700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3284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835280" y="4437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220500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220500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40053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40053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7080" y="1341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3200" y="33577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+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4720" y="21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3493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2565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24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25653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27640" y="2492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2349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263700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24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2133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56000" y="2349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11640" y="2492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24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23493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205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565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2205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40360" y="22050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2060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227664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263700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1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67280" y="2060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2565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1989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1989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7640" y="4365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42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4292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4149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4437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9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4149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4292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450864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42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39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39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4076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4005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56000" y="4005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149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0360" y="3933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4365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4149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4437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27640" y="3860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84720" y="3860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407664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20000" y="414972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93080" y="400536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32360" y="2492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263700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59280" y="2060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7280" y="24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21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93080" y="400536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32720" y="414972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77080" y="386064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32720" y="386064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400536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75280" y="227664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95640" y="227664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3640" y="21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18446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27640" y="1916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7280" y="42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59280" y="4365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03640" y="39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4076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3280" y="3789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64000" y="2708280"/>
          <a:ext cx="309564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2708280"/>
                    <a:ext cx="30956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243040" y="1989000"/>
            <a:ext cx="31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4,8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2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  1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15640" y="4653000"/>
            <a:ext cx="31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–2,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5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  1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16880" y="4653000"/>
            <a:ext cx="11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+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orpce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92360" y="1773360"/>
            <a:ext cx="1727280" cy="381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1773360"/>
            <a:ext cx="144360" cy="381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386064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3860640"/>
            <a:ext cx="12970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285264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268360" y="285264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41080" y="2349360"/>
            <a:ext cx="5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3860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12880" y="335124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     I +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3860640"/>
            <a:ext cx="93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140360" y="1989000"/>
          <a:ext cx="467964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989000"/>
                    <a:ext cx="467964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rodní zákony - pří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lasická mechanika – Newtonův druhý pohybový zá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lasická elektrodynamika – zákon elektromagnetické indu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vantová mechanika – časový vývoj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říroda nás informuje o změnách. Zákony přírody nejčastě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ředstavují chování časových a prostorových změn velič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Je tedy dobré umět se změnami počít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87280" y="1484280"/>
          <a:ext cx="654696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84280"/>
                    <a:ext cx="65469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538280" y="2708280"/>
          <a:ext cx="549900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8280" y="2708280"/>
                    <a:ext cx="54990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900000" y="3860640"/>
          <a:ext cx="7129440" cy="93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3860640"/>
                    <a:ext cx="71294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Jak se dělí nula nulo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0000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42920" y="1557360"/>
            <a:ext cx="0" cy="324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414972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03280" y="4076640"/>
            <a:ext cx="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63640" y="4076640"/>
            <a:ext cx="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4076640"/>
            <a:ext cx="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4076640"/>
            <a:ext cx="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360" y="4076640"/>
            <a:ext cx="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3860640"/>
            <a:ext cx="14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3573360"/>
            <a:ext cx="14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3284640"/>
            <a:ext cx="14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2997360"/>
            <a:ext cx="14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2708280"/>
            <a:ext cx="14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71640" y="4437000"/>
            <a:ext cx="14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1916280"/>
            <a:ext cx="1800360" cy="2952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3500280"/>
            <a:ext cx="144360" cy="14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357336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403280" y="364500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81440" y="36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708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60000" y="4149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48720" y="4149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0720" y="4149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41080" y="4149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360" y="41497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440" y="3357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440" y="27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348000" y="1268280"/>
          <a:ext cx="475128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268280"/>
                    <a:ext cx="475128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2771640" y="3357720"/>
          <a:ext cx="6096240" cy="91440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2771640" y="4508640"/>
          <a:ext cx="6096240" cy="91440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3994560" y="28526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kus“ o dělení nul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960" y="5826240"/>
            <a:ext cx="89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Co si myslíte o možnosti dělení nulou? Jde to provést, nebo se to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lze za určitých podmínek „přiblížit“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0680" y="1628640"/>
            <a:ext cx="47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1" i="1" lang="cs-CZ" sz="24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21:19:55Z</dcterms:created>
  <dc:creator>Jana Musilová</dc:creator>
  <dc:description/>
  <dc:language>en-US</dc:language>
  <cp:lastModifiedBy>ÚTFA</cp:lastModifiedBy>
  <dcterms:modified xsi:type="dcterms:W3CDTF">2009-10-26T08:07:26Z</dcterms:modified>
  <cp:revision>72</cp:revision>
  <dc:subject/>
  <dc:title>Radiologická fyzika</dc:title>
</cp:coreProperties>
</file>