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7.png" ContentType="image/png"/>
  <Override PartName="/ppt/media/image18.wmf" ContentType="image/x-wmf"/>
  <Override PartName="/ppt/media/image16.png" ContentType="image/png"/>
  <Override PartName="/ppt/media/image14.wmf" ContentType="image/x-wmf"/>
  <Override PartName="/ppt/media/image24.wmf" ContentType="image/x-wmf"/>
  <Override PartName="/ppt/media/image1.wmf" ContentType="image/x-wmf"/>
  <Override PartName="/ppt/media/image31.wmf" ContentType="image/x-wmf"/>
  <Override PartName="/ppt/media/image25.wmf" ContentType="image/x-wmf"/>
  <Override PartName="/ppt/media/image2.wmf" ContentType="image/x-wmf"/>
  <Override PartName="/ppt/media/image32.wmf" ContentType="image/x-wmf"/>
  <Override PartName="/ppt/media/image26.wmf" ContentType="image/x-wmf"/>
  <Override PartName="/ppt/media/image3.wmf" ContentType="image/x-wmf"/>
  <Override PartName="/ppt/media/image33.wmf" ContentType="image/x-wmf"/>
  <Override PartName="/ppt/media/image27.wmf" ContentType="image/x-wmf"/>
  <Override PartName="/ppt/media/image4.wmf" ContentType="image/x-wmf"/>
  <Override PartName="/ppt/media/image34.wmf" ContentType="image/x-wmf"/>
  <Override PartName="/ppt/media/image28.wmf" ContentType="image/x-wmf"/>
  <Override PartName="/ppt/media/image10.png" ContentType="image/png"/>
  <Override PartName="/ppt/media/image50.wmf" ContentType="image/x-wmf"/>
  <Override PartName="/ppt/media/image5.wmf" ContentType="image/x-wmf"/>
  <Override PartName="/ppt/media/image35.wmf" ContentType="image/x-wmf"/>
  <Override PartName="/ppt/media/image38.wmf" ContentType="image/x-wmf"/>
  <Override PartName="/ppt/media/image55.png" ContentType="image/png"/>
  <Override PartName="/ppt/media/image39.wmf" ContentType="image/x-wmf"/>
  <Override PartName="/ppt/media/image43.wmf" ContentType="image/x-wmf"/>
  <Override PartName="/ppt/media/image44.wmf" ContentType="image/x-wmf"/>
  <Override PartName="/ppt/media/image45.wmf" ContentType="image/x-wmf"/>
  <Override PartName="/ppt/media/image46.png" ContentType="image/png"/>
  <Override PartName="/ppt/media/image29.wmf" ContentType="image/x-wmf"/>
  <Override PartName="/ppt/media/image47.wmf" ContentType="image/x-wmf"/>
  <Override PartName="/ppt/media/image48.wmf" ContentType="image/x-wmf"/>
  <Override PartName="/ppt/media/image13.wmf" ContentType="image/x-wmf"/>
  <Override PartName="/ppt/media/image49.wmf" ContentType="image/x-wmf"/>
  <Override PartName="/ppt/media/image11.png" ContentType="image/png"/>
  <Override PartName="/ppt/media/image51.wmf" ContentType="image/x-wmf"/>
  <Override PartName="/ppt/media/image52.wmf" ContentType="image/x-wmf"/>
  <Override PartName="/ppt/media/image40.wmf" ContentType="image/x-wmf"/>
  <Override PartName="/ppt/media/image7.png" ContentType="image/png"/>
  <Override PartName="/ppt/media/image15.wmf" ContentType="image/x-wmf"/>
  <Override PartName="/ppt/media/image53.wmf" ContentType="image/x-wmf"/>
  <Override PartName="/ppt/media/image41.wmf" ContentType="image/x-wmf"/>
  <Override PartName="/ppt/media/image8.png" ContentType="image/png"/>
  <Override PartName="/ppt/media/image54.wmf" ContentType="image/x-wmf"/>
  <Override PartName="/ppt/media/image37.wmf" ContentType="image/x-wmf"/>
  <Override PartName="/ppt/media/image30.wmf" ContentType="image/x-wmf"/>
  <Override PartName="/ppt/media/image9.png" ContentType="image/png"/>
  <Override PartName="/ppt/media/image42.wmf" ContentType="image/x-wmf"/>
  <Override PartName="/ppt/media/image6.wmf" ContentType="image/x-wmf"/>
  <Override PartName="/ppt/media/image36.wmf" ContentType="image/x-wmf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DD780-CE3F-4B5E-8D12-A0B12AB6A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A8111-D927-4E1D-96BB-D5A9241DB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9DF88-8499-445A-B42B-19B2A0145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68279-6E3D-4F12-8AE1-721A20279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7FF0D-C4F9-4B1D-B17C-C94367517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353CB-7779-4711-ACC5-6FB46FCBE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53930-DA9D-4376-B8F5-8789D0C3A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162BC-2B28-41D7-8C40-663A2316C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65331-A728-4557-A86B-B98456056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508C8-E1A2-4B82-AD71-1A002860A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1501A-5E82-444B-9192-2631DDE78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AEAB0-1145-4F3E-B5CB-2122225BF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118EC-500B-4B18-9487-AF34C59090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0.wmf"/><Relationship Id="rId7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3.wmf"/><Relationship Id="rId9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6.wmf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9.wmf"/><Relationship Id="rId7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3.wmf"/><Relationship Id="rId9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6.wmf"/><Relationship Id="rId7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8.wmf"/><Relationship Id="rId5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0.wmf"/><Relationship Id="rId5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2.wmf"/><Relationship Id="rId5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4.wmf"/><Relationship Id="rId5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5.wmf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8.wmf"/><Relationship Id="rId7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4.wmf"/><Relationship Id="rId1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83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ff"/>
                </a:solidFill>
                <a:latin typeface="Times New Roman"/>
              </a:rPr>
              <a:t>Radiologická fyzik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32000" y="2565360"/>
            <a:ext cx="640080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adioaktivi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371680" y="5157720"/>
            <a:ext cx="466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zim 2008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d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á přednáš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cc"/>
                </a:solidFill>
                <a:latin typeface="Times New Roman"/>
              </a:rPr>
              <a:t>Příprava technecia (Tc) 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1800" y="1143000"/>
            <a:ext cx="570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 reaktoru dochází k vytvoření radionuklid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1981080" y="1752480"/>
          <a:ext cx="3803760" cy="69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1752480"/>
                    <a:ext cx="3803760" cy="69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"/>
          <p:cNvSpPr/>
          <p:nvPr/>
        </p:nvSpPr>
        <p:spPr>
          <a:xfrm>
            <a:off x="446040" y="2514600"/>
            <a:ext cx="828828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lybden je přepraven k diagnostickému zařízení, probíhá přit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zpad s poločasem rozpadu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/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66 hod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1663560" y="3581280"/>
          <a:ext cx="4770720" cy="693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63560" y="3581280"/>
                    <a:ext cx="4770720" cy="69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" name=""/>
          <p:cNvSpPr/>
          <p:nvPr/>
        </p:nvSpPr>
        <p:spPr>
          <a:xfrm>
            <a:off x="593640" y="4460760"/>
            <a:ext cx="824544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 chemickém generátoru je technecium separováno a navázá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a vhodnou látku. Pak je dopraveno ke zkoumanému orgánu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Technecium přejde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rozpadem s poločasem rozpadu T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imes New Roman"/>
              </a:rPr>
              <a:t>1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=361 minut z excitovaného  do základního stavu. Vyzáří přitom fot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o energii 141 keV, který je deteková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cc"/>
                </a:solidFill>
                <a:latin typeface="Times New Roman"/>
              </a:rPr>
              <a:t>Příprava technecia (Tc) I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29920" y="2133720"/>
            <a:ext cx="355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yšetření mozku „Ceretec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327400" y="1295280"/>
          <a:ext cx="3868560" cy="72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27400" y="1295280"/>
                    <a:ext cx="386856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990720" y="2743200"/>
            <a:ext cx="2879640" cy="25416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380880" y="5562720"/>
            <a:ext cx="464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 baseline="30000">
                <a:solidFill>
                  <a:srgbClr val="000000"/>
                </a:solidFill>
                <a:latin typeface="Times New Roman"/>
                <a:ea typeface="Arial"/>
              </a:rPr>
              <a:t>99m</a:t>
            </a:r>
            <a:r>
              <a:rPr b="0" lang="en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TcO-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hexamethylpropyleneamineox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4"/>
          <a:srcRect l="0" t="3064" r="9128" b="0"/>
          <a:stretch/>
        </p:blipFill>
        <p:spPr>
          <a:xfrm>
            <a:off x="5181480" y="2743200"/>
            <a:ext cx="2975040" cy="283356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4799520" y="2133720"/>
            <a:ext cx="220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yšetření ledv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267880" y="5562720"/>
            <a:ext cx="351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 baseline="30000">
                <a:solidFill>
                  <a:srgbClr val="000000"/>
                </a:solidFill>
                <a:latin typeface="Times New Roman"/>
                <a:ea typeface="Arial"/>
              </a:rPr>
              <a:t>99m</a:t>
            </a:r>
            <a:r>
              <a:rPr b="0" lang="en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TcO-mercaptoacetyltriglyc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Příprava kobaltu (C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51800" y="1143000"/>
            <a:ext cx="570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 reaktoru dochází k vytvoření radionuklid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2085840" y="1752480"/>
          <a:ext cx="3592800" cy="69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85840" y="1752480"/>
                    <a:ext cx="3592800" cy="69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" name=""/>
          <p:cNvSpPr/>
          <p:nvPr/>
        </p:nvSpPr>
        <p:spPr>
          <a:xfrm>
            <a:off x="457200" y="2514600"/>
            <a:ext cx="815328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Radionuklid je vhodně umístěn („kobaltová bomba“). Přitom probíhá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rozpad s poločasem rozpadu T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imes New Roman"/>
              </a:rPr>
              <a:t>1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=5,27 rok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2057400" y="3429000"/>
          <a:ext cx="4348080" cy="693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057400" y="3429000"/>
                    <a:ext cx="4348080" cy="69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"/>
          <p:cNvSpPr/>
          <p:nvPr/>
        </p:nvSpPr>
        <p:spPr>
          <a:xfrm>
            <a:off x="517680" y="4232160"/>
            <a:ext cx="7940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Excitované jádro niklu téměř okamžitě přechází do základního stavu, fotony vzniklé při tomto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rozpadu mají každý energi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ibližně 1.2 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2362320" y="5562720"/>
          <a:ext cx="4016160" cy="693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362320" y="5562720"/>
                    <a:ext cx="4016160" cy="69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Energiov</a:t>
            </a:r>
            <a:r>
              <a:rPr b="0" lang="cs-CZ" sz="3200" spc="-1" strike="noStrike">
                <a:solidFill>
                  <a:srgbClr val="0000cc"/>
                </a:solidFill>
                <a:latin typeface="Times New Roman"/>
              </a:rPr>
              <a:t>é schema rozpadu Co - 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762120" y="1523880"/>
            <a:ext cx="7251120" cy="3812400"/>
            <a:chOff x="762120" y="1523880"/>
            <a:chExt cx="7251120" cy="3812400"/>
          </a:xfrm>
        </p:grpSpPr>
        <p:sp>
          <p:nvSpPr>
            <p:cNvPr id="117" name=""/>
            <p:cNvSpPr/>
            <p:nvPr/>
          </p:nvSpPr>
          <p:spPr>
            <a:xfrm>
              <a:off x="4495680" y="2057040"/>
              <a:ext cx="1294920" cy="3276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762120" y="1523880"/>
              <a:ext cx="7251120" cy="3812400"/>
              <a:chOff x="762120" y="1523880"/>
              <a:chExt cx="7251120" cy="3812400"/>
            </a:xfrm>
          </p:grpSpPr>
          <p:grpSp>
            <p:nvGrpSpPr>
              <p:cNvPr id="119" name=""/>
              <p:cNvGrpSpPr/>
              <p:nvPr/>
            </p:nvGrpSpPr>
            <p:grpSpPr>
              <a:xfrm>
                <a:off x="3428640" y="2437920"/>
                <a:ext cx="3733200" cy="2666880"/>
                <a:chOff x="3428640" y="2437920"/>
                <a:chExt cx="3733200" cy="2666880"/>
              </a:xfrm>
            </p:grpSpPr>
            <p:sp>
              <p:nvSpPr>
                <p:cNvPr id="120" name=""/>
                <p:cNvSpPr/>
                <p:nvPr/>
              </p:nvSpPr>
              <p:spPr>
                <a:xfrm>
                  <a:off x="3504600" y="2437920"/>
                  <a:ext cx="3580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504600" y="2818800"/>
                  <a:ext cx="36572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3504600" y="3580560"/>
                  <a:ext cx="3580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3428640" y="5104800"/>
                  <a:ext cx="36572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4952520" y="2437920"/>
                  <a:ext cx="0" cy="380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4952520" y="2437920"/>
                  <a:ext cx="0" cy="380880"/>
                </a:xfrm>
                <a:prstGeom prst="line">
                  <a:avLst/>
                </a:prstGeom>
                <a:ln w="38160">
                  <a:solidFill>
                    <a:srgbClr val="6699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5257080" y="2818800"/>
                  <a:ext cx="0" cy="761400"/>
                </a:xfrm>
                <a:prstGeom prst="line">
                  <a:avLst/>
                </a:prstGeom>
                <a:ln w="38160">
                  <a:solidFill>
                    <a:srgbClr val="0000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5257080" y="3580560"/>
                  <a:ext cx="0" cy="1523880"/>
                </a:xfrm>
                <a:prstGeom prst="line">
                  <a:avLst/>
                </a:prstGeom>
                <a:ln w="38160">
                  <a:solidFill>
                    <a:srgbClr val="0000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809520" y="2437920"/>
                  <a:ext cx="0" cy="1142640"/>
                </a:xfrm>
                <a:prstGeom prst="line">
                  <a:avLst/>
                </a:prstGeom>
                <a:ln w="38160">
                  <a:solidFill>
                    <a:srgbClr val="669900"/>
                  </a:solidFill>
                  <a:prstDash val="sysDot"/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4038120" y="3580560"/>
                  <a:ext cx="0" cy="1523880"/>
                </a:xfrm>
                <a:prstGeom prst="line">
                  <a:avLst/>
                </a:prstGeom>
                <a:ln w="38160">
                  <a:solidFill>
                    <a:srgbClr val="0000cc"/>
                  </a:solidFill>
                  <a:prstDash val="sysDot"/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6171480" y="2818800"/>
                  <a:ext cx="0" cy="2285640"/>
                </a:xfrm>
                <a:prstGeom prst="line">
                  <a:avLst/>
                </a:prstGeom>
                <a:ln w="38160">
                  <a:solidFill>
                    <a:srgbClr val="0000cc"/>
                  </a:solidFill>
                  <a:prstDash val="sysDot"/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aphicFrame>
            <p:nvGraphicFramePr>
              <p:cNvPr id="131" name=""/>
              <p:cNvGraphicFramePr/>
              <p:nvPr/>
            </p:nvGraphicFramePr>
            <p:xfrm>
              <a:off x="7391160" y="2209320"/>
              <a:ext cx="622080" cy="4190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32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7391160" y="2209320"/>
                        <a:ext cx="622080" cy="4190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33" name=""/>
              <p:cNvGraphicFramePr/>
              <p:nvPr/>
            </p:nvGraphicFramePr>
            <p:xfrm>
              <a:off x="7340400" y="4800240"/>
              <a:ext cx="570960" cy="41868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134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7340400" y="4800240"/>
                        <a:ext cx="570960" cy="418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35" name=""/>
              <p:cNvSpPr/>
              <p:nvPr/>
            </p:nvSpPr>
            <p:spPr>
              <a:xfrm flipV="1">
                <a:off x="1981080" y="2057040"/>
                <a:ext cx="0" cy="3047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752480" y="5105160"/>
                <a:ext cx="456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1752480" y="3580920"/>
                <a:ext cx="456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752480" y="2819160"/>
                <a:ext cx="456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752480" y="2437920"/>
                <a:ext cx="456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296360" y="1523880"/>
                <a:ext cx="1273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MeV]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763560" y="2133360"/>
                <a:ext cx="866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2,82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2120" y="2590560"/>
                <a:ext cx="945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2,505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763560" y="3352320"/>
                <a:ext cx="866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,33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44080" y="487656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716440" y="3809520"/>
                <a:ext cx="315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γ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4802040" y="2971440"/>
                <a:ext cx="315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γ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4802040" y="4038120"/>
                <a:ext cx="315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γ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3583080" y="4114440"/>
                <a:ext cx="315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γ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aphicFrame>
            <p:nvGraphicFramePr>
              <p:cNvPr id="149" name=""/>
              <p:cNvGraphicFramePr/>
              <p:nvPr/>
            </p:nvGraphicFramePr>
            <p:xfrm>
              <a:off x="5181480" y="2437920"/>
              <a:ext cx="532800" cy="3808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50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5181480" y="2437920"/>
                        <a:ext cx="532800" cy="3808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51" name=""/>
              <p:cNvGraphicFramePr/>
              <p:nvPr/>
            </p:nvGraphicFramePr>
            <p:xfrm>
              <a:off x="3200040" y="2895120"/>
              <a:ext cx="533160" cy="3808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52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3200040" y="2895120"/>
                        <a:ext cx="533160" cy="3808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Zákon radioaktivního rozpa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99160" y="1066680"/>
            <a:ext cx="674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ro vzorek s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jádry radionuklidu je rychlost rozpad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3048120" y="1600200"/>
          <a:ext cx="1568160" cy="89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8120" y="1600200"/>
                    <a:ext cx="1568160" cy="89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7" name=""/>
          <p:cNvSpPr/>
          <p:nvPr/>
        </p:nvSpPr>
        <p:spPr>
          <a:xfrm>
            <a:off x="300600" y="2362320"/>
            <a:ext cx="336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úměrná počtu těchto j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2895480" y="2819520"/>
          <a:ext cx="2090880" cy="1071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95480" y="2819520"/>
                    <a:ext cx="2090880" cy="107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"/>
          <p:cNvSpPr/>
          <p:nvPr/>
        </p:nvSpPr>
        <p:spPr>
          <a:xfrm>
            <a:off x="228600" y="3962520"/>
            <a:ext cx="8321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Tato rovnice popisuje </a:t>
            </a:r>
            <a:r>
              <a:rPr b="0" lang="cs-CZ" sz="2400" spc="-1" strike="noStrike">
                <a:solidFill>
                  <a:srgbClr val="ff3300"/>
                </a:solidFill>
                <a:latin typeface="Times New Roman"/>
              </a:rPr>
              <a:t>zákon radioaktivního rozpadu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. Konstanta úměrnosti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λ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je pro daný rozpad charakteristická, nazývá se proto </a:t>
            </a:r>
            <a:r>
              <a:rPr b="0" lang="cs-CZ" sz="2400" spc="-1" strike="noStrike">
                <a:solidFill>
                  <a:srgbClr val="ff3300"/>
                </a:solidFill>
                <a:latin typeface="Times New Roman"/>
              </a:rPr>
              <a:t>konstanta rozpadu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 má rozmě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λ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=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ktivita vzorku je definov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á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 jak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2819520" y="5638680"/>
          <a:ext cx="2295360" cy="720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819520" y="5638680"/>
                    <a:ext cx="2295360" cy="72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Integrální tvar zákona radioaktivního rozpa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61080" y="1184400"/>
            <a:ext cx="431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dnoduchou integrací dostává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1698480" y="1752480"/>
          <a:ext cx="4457880" cy="551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8480" y="1752480"/>
                    <a:ext cx="4457880" cy="55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7" name=""/>
          <p:cNvSpPr/>
          <p:nvPr/>
        </p:nvSpPr>
        <p:spPr>
          <a:xfrm>
            <a:off x="320400" y="2438280"/>
            <a:ext cx="5997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vykle volím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0 a značím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(t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0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takž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2514600" y="3124080"/>
          <a:ext cx="2830680" cy="666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14600" y="3124080"/>
                    <a:ext cx="2830680" cy="66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0" name=""/>
          <p:cNvSpPr/>
          <p:nvPr/>
        </p:nvSpPr>
        <p:spPr>
          <a:xfrm>
            <a:off x="304920" y="3962520"/>
            <a:ext cx="83214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to rovnice také popisuje zákon radioaktivního rozpadu, stejně jako rovnice pro aktivitu (označujem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λ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2670120" y="5105520"/>
          <a:ext cx="2670120" cy="66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670120" y="5105520"/>
                    <a:ext cx="2670120" cy="66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Dal</a:t>
            </a:r>
            <a:r>
              <a:rPr b="0" lang="cs-CZ" sz="3200" spc="-1" strike="noStrike">
                <a:solidFill>
                  <a:srgbClr val="0000cc"/>
                </a:solidFill>
                <a:latin typeface="Times New Roman"/>
              </a:rPr>
              <a:t>ší charakteristiky rozpa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33520" y="1066680"/>
            <a:ext cx="832140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oločas rozpadu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cs-CZ" sz="2400" spc="-1" strike="noStrike" baseline="-25000">
                <a:solidFill>
                  <a:srgbClr val="000000"/>
                </a:solidFill>
                <a:latin typeface="Times New Roman"/>
              </a:rPr>
              <a:t>1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je doba, po které jak počet jader radionuklidu ve vzorku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, tak aktivita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poklesnou na polovinu své původní hodno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5715000" y="4343400"/>
          <a:ext cx="2049480" cy="88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15000" y="4343400"/>
                    <a:ext cx="2049480" cy="88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7" name=""/>
          <p:cNvSpPr/>
          <p:nvPr/>
        </p:nvSpPr>
        <p:spPr>
          <a:xfrm>
            <a:off x="376200" y="2895480"/>
            <a:ext cx="646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dnoduchá úprava dává pro poločas rozpadu vzta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3505320" y="3505320"/>
          <a:ext cx="1596960" cy="1000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05320" y="3505320"/>
                    <a:ext cx="159696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0" name=""/>
          <p:cNvSpPr/>
          <p:nvPr/>
        </p:nvSpPr>
        <p:spPr>
          <a:xfrm>
            <a:off x="304920" y="4495680"/>
            <a:ext cx="556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řední doba života je definována vztah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3519360" y="5243400"/>
          <a:ext cx="1117800" cy="1000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19360" y="5243400"/>
                    <a:ext cx="11178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"/>
          <p:cNvSpPr/>
          <p:nvPr/>
        </p:nvSpPr>
        <p:spPr>
          <a:xfrm>
            <a:off x="7772400" y="4495680"/>
            <a:ext cx="97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takž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2666880" y="2057400"/>
          <a:ext cx="3035520" cy="841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666880" y="2057400"/>
                    <a:ext cx="3035520" cy="84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Rozpad dvěma různými způso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65040" y="1184400"/>
            <a:ext cx="8321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zpad se může dít více způsoby. Uvažujme dva různé, charakterizované rozpadovými konstantam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λ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(1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λ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(2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. Je te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6560" y="2895480"/>
            <a:ext cx="472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 poločas rozpadu máme teď vzta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1981080" y="3429000"/>
          <a:ext cx="4253040" cy="1434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3429000"/>
                    <a:ext cx="4253040" cy="14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1" name=""/>
          <p:cNvSpPr/>
          <p:nvPr/>
        </p:nvSpPr>
        <p:spPr>
          <a:xfrm>
            <a:off x="304920" y="480060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dnoduchá úprava dáv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2971800" y="5334120"/>
          <a:ext cx="2568600" cy="1274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71800" y="5334120"/>
                    <a:ext cx="2568600" cy="127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4" name=""/>
          <p:cNvGraphicFramePr/>
          <p:nvPr/>
        </p:nvGraphicFramePr>
        <p:xfrm>
          <a:off x="457200" y="1981080"/>
          <a:ext cx="8232840" cy="897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" y="1981080"/>
                    <a:ext cx="8232840" cy="89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Dvoustupňový rozpad 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65040" y="1184400"/>
            <a:ext cx="8321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lmi často musíme uvažovat o rozpadu jako vícestupňovém procesu. Nejčastější je dvoustupňový rozpad ty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80880" y="259092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Označení pochází z anglického </a:t>
            </a:r>
            <a:r>
              <a:rPr b="0" lang="en" sz="2400" spc="-1" strike="noStrike">
                <a:solidFill>
                  <a:srgbClr val="000000"/>
                </a:solidFill>
                <a:latin typeface="Times New Roman"/>
              </a:rPr>
              <a:t>parent, daughter, granddaughter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. Potřebné rovnice budo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990720" y="3429000"/>
          <a:ext cx="6356160" cy="2608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3429000"/>
                    <a:ext cx="6356160" cy="260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1" name=""/>
          <p:cNvGraphicFramePr/>
          <p:nvPr/>
        </p:nvGraphicFramePr>
        <p:xfrm>
          <a:off x="2971800" y="2057400"/>
          <a:ext cx="3048120" cy="43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71800" y="2057400"/>
                    <a:ext cx="304812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Dvoustupňový rozpad 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04920" y="121932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Řešení, které splňuje počáteční podmínky najdeme například postupnou integrací rovnic jak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609480" y="2362320"/>
          <a:ext cx="7896240" cy="227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2362320"/>
                    <a:ext cx="7896240" cy="227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7" name=""/>
          <p:cNvSpPr/>
          <p:nvPr/>
        </p:nvSpPr>
        <p:spPr>
          <a:xfrm>
            <a:off x="380880" y="4724280"/>
            <a:ext cx="824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 praktické účely je potřeba znát aktivitu dceřinného vzorku.  Aktivita rodičovského vzorku 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2057400" y="5638680"/>
          <a:ext cx="5081760" cy="719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057400" y="5638680"/>
                    <a:ext cx="5081760" cy="7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cc"/>
                </a:solidFill>
                <a:latin typeface="Times New Roman"/>
              </a:rPr>
              <a:t>adioaktivní rozp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29528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α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 rozp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4038480" y="1219320"/>
          <a:ext cx="3440160" cy="72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1219320"/>
                    <a:ext cx="344016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"/>
          <p:cNvSpPr/>
          <p:nvPr/>
        </p:nvSpPr>
        <p:spPr>
          <a:xfrm>
            <a:off x="533520" y="213372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β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 rozp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4038480" y="1981080"/>
          <a:ext cx="3743280" cy="723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038480" y="1981080"/>
                    <a:ext cx="374328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533520" y="304812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γ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 rozp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4038480" y="2819520"/>
          <a:ext cx="3490920" cy="723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038480" y="2819520"/>
                    <a:ext cx="349092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" name=""/>
          <p:cNvSpPr/>
          <p:nvPr/>
        </p:nvSpPr>
        <p:spPr>
          <a:xfrm>
            <a:off x="533520" y="3809880"/>
            <a:ext cx="213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β</a:t>
            </a:r>
            <a:r>
              <a:rPr b="1" lang="en-US" sz="2800" spc="-1" strike="noStrike" baseline="30000">
                <a:solidFill>
                  <a:srgbClr val="0000cc"/>
                </a:solidFill>
                <a:latin typeface="Times New Roman"/>
              </a:rPr>
              <a:t>+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 rozp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4114800" y="3733920"/>
          <a:ext cx="3743280" cy="723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114800" y="3733920"/>
                    <a:ext cx="374328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/>
          <p:nvPr/>
        </p:nvSpPr>
        <p:spPr>
          <a:xfrm>
            <a:off x="533520" y="4724280"/>
            <a:ext cx="32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Elektronový záchy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4038480" y="4648320"/>
          <a:ext cx="3832200" cy="7239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038480" y="4648320"/>
                    <a:ext cx="383220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"/>
          <p:cNvSpPr/>
          <p:nvPr/>
        </p:nvSpPr>
        <p:spPr>
          <a:xfrm>
            <a:off x="533520" y="5562720"/>
            <a:ext cx="32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Vnitřní konver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4191120" y="5486400"/>
          <a:ext cx="3144600" cy="7221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191120" y="5486400"/>
                    <a:ext cx="3144600" cy="72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Aktivita dceřinného vzorku 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04920" y="121932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 předchozích výsledků dostává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914400" y="1828800"/>
          <a:ext cx="6902280" cy="1467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828800"/>
                    <a:ext cx="6902280" cy="146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380880" y="3505320"/>
            <a:ext cx="832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iný vhodný tvar tohoto vztahu j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457200" y="4191120"/>
          <a:ext cx="8039160" cy="1242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4191120"/>
                    <a:ext cx="8039160" cy="124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Aktivita dceřinného vzorku 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04920" y="121932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imální hodnotu aktivity dostaneme 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685800" y="1752480"/>
          <a:ext cx="7507440" cy="130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507440" cy="130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1" name=""/>
          <p:cNvSpPr/>
          <p:nvPr/>
        </p:nvSpPr>
        <p:spPr>
          <a:xfrm>
            <a:off x="380880" y="3505320"/>
            <a:ext cx="8321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 případě, že poločas rozpadu dceřinného vzorku je menší než poločas vzorku rodičovského (rodičovský: </a:t>
            </a:r>
            <a:r>
              <a:rPr b="0" lang="cs-CZ" sz="2400" spc="-1" strike="noStrike" baseline="30000">
                <a:solidFill>
                  <a:srgbClr val="000000"/>
                </a:solidFill>
                <a:latin typeface="Times New Roman"/>
              </a:rPr>
              <a:t>99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Mo na </a:t>
            </a:r>
            <a:r>
              <a:rPr b="0" lang="cs-CZ" sz="2400" spc="-1" strike="noStrike" baseline="30000">
                <a:solidFill>
                  <a:srgbClr val="000000"/>
                </a:solidFill>
                <a:latin typeface="Times New Roman"/>
              </a:rPr>
              <a:t>99m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T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, dceřinný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 baseline="30000">
                <a:solidFill>
                  <a:srgbClr val="000000"/>
                </a:solidFill>
                <a:latin typeface="Times New Roman"/>
              </a:rPr>
              <a:t>99m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T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 na </a:t>
            </a:r>
            <a:r>
              <a:rPr b="0" lang="cs-CZ" sz="2400" spc="-1" strike="noStrike" baseline="30000">
                <a:solidFill>
                  <a:srgbClr val="000000"/>
                </a:solidFill>
                <a:latin typeface="Times New Roman"/>
              </a:rPr>
              <a:t>9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c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) , dostávám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2362320" y="5105520"/>
          <a:ext cx="3479760" cy="1171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62320" y="5105520"/>
                    <a:ext cx="3479760" cy="117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Aktivita dceřinného vzorku I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04920" y="1219320"/>
            <a:ext cx="822960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Závislost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/R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 hodnoty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λ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imes New Roman"/>
              </a:rPr>
              <a:t>PD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/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λ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imes New Roman"/>
              </a:rPr>
              <a:t>DG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modr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á)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5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(žlutá) a 1/10 (červená) na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λ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imes New Roman"/>
              </a:rPr>
              <a:t>DG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.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5105520" y="3124080"/>
          <a:ext cx="3840120" cy="117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05520" y="3124080"/>
                    <a:ext cx="3840120" cy="11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28" name="" descr=""/>
          <p:cNvPicPr/>
          <p:nvPr/>
        </p:nvPicPr>
        <p:blipFill>
          <a:blip r:embed="rId3"/>
          <a:srcRect l="0" t="7871" r="0" b="0"/>
          <a:stretch/>
        </p:blipFill>
        <p:spPr>
          <a:xfrm>
            <a:off x="380880" y="2286000"/>
            <a:ext cx="4572000" cy="42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Aktivace v reakto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106668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 reaktoru ozařuje neutronový svazek vzorek stabilního nuklidu, jadernou reakcí se vytváří požadovaný radioaktivní nukl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80880" y="2590920"/>
            <a:ext cx="832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očet jader stabilního nuklidu se opět řídí zákon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2209680" y="1981080"/>
          <a:ext cx="3319560" cy="69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1981080"/>
                    <a:ext cx="3319560" cy="69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4" name=""/>
          <p:cNvGraphicFramePr/>
          <p:nvPr/>
        </p:nvGraphicFramePr>
        <p:xfrm>
          <a:off x="3200400" y="3200400"/>
          <a:ext cx="1741320" cy="892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00400" y="3200400"/>
                    <a:ext cx="1741320" cy="89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6" name=""/>
          <p:cNvSpPr/>
          <p:nvPr/>
        </p:nvSpPr>
        <p:spPr>
          <a:xfrm>
            <a:off x="304920" y="4191120"/>
            <a:ext cx="8397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Konstanta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λ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je v tomto případě součinem hustoty toku neutronů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 účinného průřezu reakce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, tj. plošku, která ukazuje jak velkou překážku tvoří při dané reakci jádro  dopadajícím neutronům (rozměry veličin jsou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λ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=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[j]=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[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=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3276720" y="5943600"/>
          <a:ext cx="1350720" cy="593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3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276720" y="5943600"/>
                    <a:ext cx="1350720" cy="59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P</a:t>
            </a:r>
            <a:r>
              <a:rPr b="0" lang="cs-CZ" sz="3200" spc="-1" strike="noStrike">
                <a:solidFill>
                  <a:srgbClr val="0000cc"/>
                </a:solidFill>
                <a:latin typeface="Times New Roman"/>
              </a:rPr>
              <a:t>říklad s kobal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04920" y="1066680"/>
            <a:ext cx="8610480" cy="233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 reaktoru ozařuje neutronový svazek vzorek </a:t>
            </a:r>
            <a:r>
              <a:rPr b="0" lang="cs-CZ" sz="2400" spc="-1" strike="noStrike" baseline="30000">
                <a:solidFill>
                  <a:srgbClr val="000000"/>
                </a:solidFill>
                <a:latin typeface="Times New Roman"/>
              </a:rPr>
              <a:t>59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o hmotnosti m=1 g, jadernou reakcí se vytváří radioaktivní nuklid </a:t>
            </a:r>
            <a:r>
              <a:rPr b="0" lang="cs-CZ" sz="2400" spc="-1" strike="noStrike" baseline="30000">
                <a:solidFill>
                  <a:srgbClr val="000000"/>
                </a:solidFill>
                <a:latin typeface="Times New Roman"/>
              </a:rPr>
              <a:t>60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o. Účinný průřez je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=35 barn (barn=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-2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neutronov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ý tok je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=10</a:t>
            </a:r>
            <a:r>
              <a:rPr b="0" lang="cs-CZ" sz="2400" spc="-1" strike="noStrike" baseline="30000">
                <a:solidFill>
                  <a:srgbClr val="000000"/>
                </a:solidFill>
                <a:latin typeface="Times New Roman"/>
              </a:rPr>
              <a:t>13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1</a:t>
            </a:r>
            <a:r>
              <a:rPr b="0" lang="cs-CZ" sz="2400" spc="-1" strike="noStrike" baseline="30000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oločas rozpadu </a:t>
            </a:r>
            <a:r>
              <a:rPr b="0" lang="cs-CZ" sz="2400" spc="-1" strike="noStrike" baseline="30000">
                <a:solidFill>
                  <a:srgbClr val="000000"/>
                </a:solidFill>
                <a:latin typeface="Times New Roman"/>
              </a:rPr>
              <a:t>60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o na </a:t>
            </a:r>
            <a:r>
              <a:rPr b="0" lang="cs-CZ" sz="2400" spc="-1" strike="noStrike" baseline="30000">
                <a:solidFill>
                  <a:srgbClr val="000000"/>
                </a:solidFill>
                <a:latin typeface="Times New Roman"/>
              </a:rPr>
              <a:t>60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 je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imes New Roman"/>
              </a:rPr>
              <a:t>1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,27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roků, vyzáření dvou fotonů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záření při přechodu </a:t>
            </a:r>
            <a:r>
              <a:rPr b="0" lang="cs-CZ" sz="2400" spc="-1" strike="noStrike" baseline="30000">
                <a:solidFill>
                  <a:srgbClr val="000000"/>
                </a:solidFill>
                <a:latin typeface="Times New Roman"/>
              </a:rPr>
              <a:t>60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a </a:t>
            </a:r>
            <a:r>
              <a:rPr b="0" lang="cs-CZ" sz="2400" spc="-1" strike="noStrike" baseline="30000">
                <a:solidFill>
                  <a:srgbClr val="000000"/>
                </a:solidFill>
                <a:latin typeface="Times New Roman"/>
              </a:rPr>
              <a:t>60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i následuje v zanedbatelně krátké době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861840" y="3352680"/>
          <a:ext cx="1575000" cy="80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1840" y="3352680"/>
                    <a:ext cx="1575000" cy="80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3" name=""/>
          <p:cNvGraphicFramePr/>
          <p:nvPr/>
        </p:nvGraphicFramePr>
        <p:xfrm>
          <a:off x="838080" y="4343400"/>
          <a:ext cx="1616040" cy="585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8080" y="4343400"/>
                    <a:ext cx="1616040" cy="58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5" name=""/>
          <p:cNvGraphicFramePr/>
          <p:nvPr/>
        </p:nvGraphicFramePr>
        <p:xfrm>
          <a:off x="2836800" y="3352680"/>
          <a:ext cx="3606840" cy="855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4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836800" y="3352680"/>
                    <a:ext cx="3606840" cy="85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7" name=""/>
          <p:cNvGraphicFramePr/>
          <p:nvPr/>
        </p:nvGraphicFramePr>
        <p:xfrm>
          <a:off x="2819520" y="4267080"/>
          <a:ext cx="6149880" cy="668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4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819520" y="4267080"/>
                    <a:ext cx="6149880" cy="66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9" name=""/>
          <p:cNvGraphicFramePr/>
          <p:nvPr/>
        </p:nvGraphicFramePr>
        <p:xfrm>
          <a:off x="801720" y="5116680"/>
          <a:ext cx="1670040" cy="11300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5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801720" y="5116680"/>
                    <a:ext cx="1670040" cy="113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1" name=""/>
          <p:cNvGraphicFramePr/>
          <p:nvPr/>
        </p:nvGraphicFramePr>
        <p:xfrm>
          <a:off x="2819520" y="5105520"/>
          <a:ext cx="5997600" cy="10713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52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819520" y="5105520"/>
                    <a:ext cx="5997600" cy="107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cc"/>
                </a:solidFill>
                <a:latin typeface="Times New Roman"/>
              </a:rPr>
              <a:t>Nejčastěji užívané radionuklidy</a:t>
            </a: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 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581280" y="121932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γ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  rozp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1447920" y="2057400"/>
          <a:ext cx="6324480" cy="4206600"/>
        </p:xfrm>
        <a:graphic>
          <a:graphicData uri="http://schemas.openxmlformats.org/drawingml/2006/table">
            <a:tbl>
              <a:tblPr/>
              <a:tblGrid>
                <a:gridCol w="3162240"/>
                <a:gridCol w="1422360"/>
                <a:gridCol w="17398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kli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 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/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</a:t>
                      </a: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rgie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[keV]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ód I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12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,3 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ód I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- 13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,04 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ód I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-1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 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allium Tl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- 20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3 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chnecium Tc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–99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cc"/>
                </a:solidFill>
                <a:latin typeface="Times New Roman"/>
              </a:rPr>
              <a:t>Nejčastěji užívané radionuklidy</a:t>
            </a: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 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124080" y="144792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β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+</a:t>
            </a:r>
            <a:r>
              <a:rPr b="1" lang="cs-CZ" sz="2800" spc="-1" strike="noStrike">
                <a:solidFill>
                  <a:srgbClr val="ff3300"/>
                </a:solidFill>
                <a:latin typeface="Times New Roman"/>
              </a:rPr>
              <a:t>  rozp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8" name=""/>
          <p:cNvGraphicFramePr/>
          <p:nvPr/>
        </p:nvGraphicFramePr>
        <p:xfrm>
          <a:off x="1447920" y="2590920"/>
          <a:ext cx="6324480" cy="2247840"/>
        </p:xfrm>
        <a:graphic>
          <a:graphicData uri="http://schemas.openxmlformats.org/drawingml/2006/table">
            <a:tbl>
              <a:tblPr/>
              <a:tblGrid>
                <a:gridCol w="3162240"/>
                <a:gridCol w="1422360"/>
                <a:gridCol w="1739880"/>
              </a:tblGrid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kli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cs-CZ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/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[minut]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</a:t>
                      </a: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rgie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[keV]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luor</a:t>
                      </a: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8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ysl</a:t>
                      </a: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ík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- 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9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P</a:t>
            </a:r>
            <a:r>
              <a:rPr b="0" lang="cs-CZ" sz="3200" spc="-1" strike="noStrike">
                <a:solidFill>
                  <a:srgbClr val="0000cc"/>
                </a:solidFill>
                <a:latin typeface="Times New Roman"/>
              </a:rPr>
              <a:t>říště </a:t>
            </a:r>
            <a:r>
              <a:rPr b="0" lang="cs-CZ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γ</a:t>
            </a:r>
            <a:r>
              <a:rPr b="0" lang="cs-CZ" sz="3200" spc="-1" strike="noStrike">
                <a:solidFill>
                  <a:srgbClr val="0000cc"/>
                </a:solidFill>
                <a:latin typeface="Times New Roman"/>
              </a:rPr>
              <a:t> a r</a:t>
            </a: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ent</a:t>
            </a:r>
            <a:r>
              <a:rPr b="0" lang="cs-CZ" sz="3200" spc="-1" strike="noStrike">
                <a:solidFill>
                  <a:srgbClr val="0000cc"/>
                </a:solidFill>
                <a:latin typeface="Times New Roman"/>
              </a:rPr>
              <a:t>genové zář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762120" y="1600200"/>
            <a:ext cx="7453080" cy="397044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/>
          <p:nvPr/>
        </p:nvSpPr>
        <p:spPr>
          <a:xfrm flipH="1">
            <a:off x="5714640" y="1371600"/>
            <a:ext cx="762120" cy="144792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4360" y="83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ff"/>
                </a:solidFill>
                <a:latin typeface="Times New Roman"/>
              </a:rPr>
              <a:t>Radiologická fyzik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1332000" y="2565360"/>
            <a:ext cx="640080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a r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nt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genové zář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449440" y="5157720"/>
            <a:ext cx="450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dzim 2008, osmá přednáš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808200" y="254160"/>
            <a:ext cx="143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01224"/>
                </a:solidFill>
                <a:latin typeface="Times New Roman"/>
              </a:rPr>
              <a:t>Příště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cc"/>
                </a:solidFill>
                <a:latin typeface="Times New Roman"/>
              </a:rPr>
              <a:t>ozpad</a:t>
            </a: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alpha" descr=""/>
          <p:cNvPicPr/>
          <p:nvPr/>
        </p:nvPicPr>
        <p:blipFill>
          <a:blip r:embed="rId1"/>
          <a:stretch/>
        </p:blipFill>
        <p:spPr>
          <a:xfrm>
            <a:off x="1833480" y="1371600"/>
            <a:ext cx="5475240" cy="4114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5" name=""/>
          <p:cNvGraphicFramePr/>
          <p:nvPr/>
        </p:nvGraphicFramePr>
        <p:xfrm>
          <a:off x="533520" y="5257800"/>
          <a:ext cx="3440160" cy="723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520" y="5257800"/>
                    <a:ext cx="344016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cc"/>
                </a:solidFill>
                <a:latin typeface="Times New Roman"/>
              </a:rPr>
              <a:t>ozpad</a:t>
            </a: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beta" descr=""/>
          <p:cNvPicPr/>
          <p:nvPr/>
        </p:nvPicPr>
        <p:blipFill>
          <a:blip r:embed="rId1"/>
          <a:stretch/>
        </p:blipFill>
        <p:spPr>
          <a:xfrm>
            <a:off x="1839960" y="1389240"/>
            <a:ext cx="5464080" cy="4079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9" name=""/>
          <p:cNvGraphicFramePr/>
          <p:nvPr/>
        </p:nvGraphicFramePr>
        <p:xfrm>
          <a:off x="838080" y="5410080"/>
          <a:ext cx="3743280" cy="723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38080" y="5410080"/>
                    <a:ext cx="374328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cc"/>
                </a:solidFill>
                <a:latin typeface="Times New Roman"/>
              </a:rPr>
              <a:t>ozpad</a:t>
            </a: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β</a:t>
            </a:r>
            <a:r>
              <a:rPr b="0" lang="cs-CZ" sz="3200" spc="-1" strike="noStrike" baseline="30000">
                <a:solidFill>
                  <a:srgbClr val="0000cc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betaplus" descr=""/>
          <p:cNvPicPr/>
          <p:nvPr/>
        </p:nvPicPr>
        <p:blipFill>
          <a:blip r:embed="rId1"/>
          <a:stretch/>
        </p:blipFill>
        <p:spPr>
          <a:xfrm>
            <a:off x="1839960" y="1389240"/>
            <a:ext cx="5464080" cy="4079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3" name=""/>
          <p:cNvGraphicFramePr/>
          <p:nvPr/>
        </p:nvGraphicFramePr>
        <p:xfrm>
          <a:off x="762120" y="5334120"/>
          <a:ext cx="3743280" cy="723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5334120"/>
                    <a:ext cx="374328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Elektro</a:t>
            </a:r>
            <a:r>
              <a:rPr b="0" lang="cs-CZ" sz="3200" spc="-1" strike="noStrike">
                <a:solidFill>
                  <a:srgbClr val="0000cc"/>
                </a:solidFill>
                <a:latin typeface="Times New Roman"/>
              </a:rPr>
              <a:t>nový záchy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betacapture" descr=""/>
          <p:cNvPicPr/>
          <p:nvPr/>
        </p:nvPicPr>
        <p:blipFill>
          <a:blip r:embed="rId1"/>
          <a:stretch/>
        </p:blipFill>
        <p:spPr>
          <a:xfrm>
            <a:off x="1839960" y="1389240"/>
            <a:ext cx="5464080" cy="4079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7" name=""/>
          <p:cNvGraphicFramePr/>
          <p:nvPr/>
        </p:nvGraphicFramePr>
        <p:xfrm>
          <a:off x="457200" y="5410080"/>
          <a:ext cx="3832200" cy="723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5410080"/>
                    <a:ext cx="383220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cc"/>
                </a:solidFill>
                <a:latin typeface="Times New Roman"/>
              </a:rPr>
              <a:t>ozpad</a:t>
            </a: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gamma" descr=""/>
          <p:cNvPicPr/>
          <p:nvPr/>
        </p:nvPicPr>
        <p:blipFill>
          <a:blip r:embed="rId1"/>
          <a:stretch/>
        </p:blipFill>
        <p:spPr>
          <a:xfrm>
            <a:off x="1846440" y="1433520"/>
            <a:ext cx="5451120" cy="3989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1" name=""/>
          <p:cNvGraphicFramePr/>
          <p:nvPr/>
        </p:nvGraphicFramePr>
        <p:xfrm>
          <a:off x="4114800" y="4876920"/>
          <a:ext cx="3490920" cy="723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4876920"/>
                    <a:ext cx="349092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cc"/>
                </a:solidFill>
                <a:latin typeface="Times New Roman"/>
              </a:rPr>
              <a:t>Obecné schema </a:t>
            </a:r>
            <a:r>
              <a:rPr b="0" lang="cs-CZ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β</a:t>
            </a:r>
            <a:r>
              <a:rPr b="0" lang="cs-CZ" sz="3200" spc="-1" strike="noStrike">
                <a:solidFill>
                  <a:srgbClr val="0000cc"/>
                </a:solidFill>
                <a:latin typeface="Times New Roman"/>
              </a:rPr>
              <a:t> rozpad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obr4" descr=""/>
          <p:cNvPicPr/>
          <p:nvPr/>
        </p:nvPicPr>
        <p:blipFill>
          <a:blip r:embed="rId1"/>
          <a:stretch/>
        </p:blipFill>
        <p:spPr>
          <a:xfrm>
            <a:off x="380880" y="990720"/>
            <a:ext cx="7853400" cy="564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cc"/>
                </a:solidFill>
                <a:latin typeface="Times New Roman"/>
              </a:rPr>
              <a:t>Příprava technecia (Tc) 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0360" y="1143000"/>
            <a:ext cx="810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Začínáme u molybden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Mo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), Z=42. V přírodě se vyskytuje ř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tabilních isotopů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1752480" y="2133720"/>
          <a:ext cx="5181840" cy="4167000"/>
        </p:xfrm>
        <a:graphic>
          <a:graphicData uri="http://schemas.openxmlformats.org/drawingml/2006/table">
            <a:tbl>
              <a:tblPr/>
              <a:tblGrid>
                <a:gridCol w="2590920"/>
                <a:gridCol w="25909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1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,8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9,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1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,7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1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,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9,4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a4c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,7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a4c1"/>
                    </a:solidFill>
                  </a:tcPr>
                </a:tc>
              </a:tr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9,6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6T21:19:55Z</dcterms:created>
  <dc:creator>Jana Musilová</dc:creator>
  <dc:description/>
  <dc:language>en-US</dc:language>
  <cp:lastModifiedBy>bohunka</cp:lastModifiedBy>
  <dcterms:modified xsi:type="dcterms:W3CDTF">2008-11-10T05:11:01Z</dcterms:modified>
  <cp:revision>207</cp:revision>
  <dc:subject/>
  <dc:title>Radiologická fyzika</dc:title>
</cp:coreProperties>
</file>