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jpeg" ContentType="image/jpeg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348-584A-4F94-AA35-17540153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1F6-836A-418C-9562-734CC5C1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483-380F-4917-A0DC-41945642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65D-9804-4466-B180-11D071AE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67C-8FAD-4085-9F35-D4B71C24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B57-1AA8-49C1-81B2-5AC7ED85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EA8-7C79-444C-8592-3705E57A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EA6-DC43-4BF5-9E3D-0688B019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1E3-D8D5-44C9-8FC5-A2B0114B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6D0-42CE-44C8-8EEC-37B88BAE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DDA-1EDE-43CF-93FE-B70E4F45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7EB-AB5E-4C06-B524-7C3293DC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D861-22E3-43F4-BBD6-B523B308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vděpodob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ěření a zpracování d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0760" y="5157720"/>
            <a:ext cx="44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šes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ifry, kostky, karty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eb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ombinatorická prů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ýběry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té třídy prvků z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bě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vků z množiny obsahující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vků podle jist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vi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9280" y="2997360"/>
          <a:ext cx="8785440" cy="1368360"/>
        </p:xfrm>
        <a:graphic>
          <a:graphicData uri="http://schemas.openxmlformats.org/drawingml/2006/table">
            <a:tbl>
              <a:tblPr/>
              <a:tblGrid>
                <a:gridCol w="3029040"/>
                <a:gridCol w="2712960"/>
                <a:gridCol w="30434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ořadí je podstatn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ořadí je nepodstatn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rvky lze opakov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ce s opaková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binace a opaková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rvky nelze opakov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ce bez opak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binace bez opak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9280" y="5157720"/>
          <a:ext cx="8785440" cy="1235160"/>
        </p:xfrm>
        <a:graphic>
          <a:graphicData uri="http://schemas.openxmlformats.org/drawingml/2006/table">
            <a:tbl>
              <a:tblPr/>
              <a:tblGrid>
                <a:gridCol w="3029040"/>
                <a:gridCol w="2712960"/>
                <a:gridCol w="3043440"/>
              </a:tblGrid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ari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kombin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 opaková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ez opak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56240" y="452916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evné signál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 barev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4724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80360" y="472428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67640" y="4724280"/>
            <a:ext cx="216000" cy="216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56720" y="472428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44000" y="472428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3272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566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566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8000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609300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609300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6093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609300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609300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6093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566100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0072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566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04360" y="566100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17080" y="5661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800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2000" y="6093000"/>
            <a:ext cx="21564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609300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6093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28000" y="609300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17080" y="6093000"/>
            <a:ext cx="21564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04360" y="6093000"/>
            <a:ext cx="21564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09640" y="5537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89280" y="553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8720" y="5950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0160" y="5950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určit počet možných výbě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1484280"/>
          <a:ext cx="8568720" cy="3528720"/>
        </p:xfrm>
        <a:graphic>
          <a:graphicData uri="http://schemas.openxmlformats.org/drawingml/2006/table">
            <a:tbl>
              <a:tblPr/>
              <a:tblGrid>
                <a:gridCol w="2954520"/>
                <a:gridCol w="2646360"/>
                <a:gridCol w="2967840"/>
              </a:tblGrid>
              <a:tr h="1275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ari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kombin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4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 opakování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ez opaková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940360" y="2878200"/>
          <a:ext cx="251928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878200"/>
                    <a:ext cx="251928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012000" y="3933720"/>
          <a:ext cx="244764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3933720"/>
                    <a:ext cx="24476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419640" y="4005360"/>
          <a:ext cx="230472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4005360"/>
                    <a:ext cx="2304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419640" y="3141720"/>
          <a:ext cx="165564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9640" y="3141720"/>
                    <a:ext cx="16556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45680" y="553716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Zkusíme přijít na to, jak vzorce vzni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zorce pro vari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Určení vzorce pro variace  opakov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z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rvků vybrat první?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ůso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z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ků vybrat druhý?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ůso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vybrat první dva prvky?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= n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ůso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Kolika způsoby lze tedy vybrat </a:t>
            </a:r>
            <a:r>
              <a:rPr b="1" i="1" lang="cs-CZ" sz="2400" spc="-1" strike="noStrike">
                <a:solidFill>
                  <a:srgbClr val="009900"/>
                </a:solidFill>
                <a:latin typeface="Times New Roman"/>
              </a:rPr>
              <a:t>k </a:t>
            </a: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prvků? Doplňte s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Určení vzorce pro variace  bez opak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z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ků vybrat první?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ůso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ze zbývajících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ků vybrat druhý?              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 způso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tedy vybrat první dva prvky?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nakonec ze zbývajících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prvků vybrat k-tý? …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k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Kolika způsoby lze tedy vybrat </a:t>
            </a:r>
            <a:r>
              <a:rPr b="1" i="1" lang="cs-CZ" sz="2400" spc="-1" strike="noStrike">
                <a:solidFill>
                  <a:srgbClr val="009900"/>
                </a:solidFill>
                <a:latin typeface="Times New Roman"/>
              </a:rPr>
              <a:t>k </a:t>
            </a: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prvků?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                                  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1)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–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2)…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k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zorce pro kombin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Určení vzorce pro kombinace bez  opak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uspořádat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opakujících se prvků? 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to možnosti, lišící se pouze pořadím, jsou ekvivalent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to je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) = V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) /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… </a:t>
            </a: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Výsledný vzorec zapište s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Určení vzorce pro kombinace s opakov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 vypadají kombinace s opakováním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revných kuliček při výběru z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ých barev? Zvolme např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4365720"/>
          <a:ext cx="8641800" cy="790560"/>
        </p:xfrm>
        <a:graphic>
          <a:graphicData uri="http://schemas.openxmlformats.org/drawingml/2006/table">
            <a:tbl>
              <a:tblPr/>
              <a:tblGrid>
                <a:gridCol w="1235880"/>
                <a:gridCol w="1230480"/>
                <a:gridCol w="1236240"/>
                <a:gridCol w="1235880"/>
                <a:gridCol w="1236600"/>
                <a:gridCol w="1234080"/>
                <a:gridCol w="1232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odr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červe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r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zele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hněd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fial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oranž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611280" y="4869000"/>
            <a:ext cx="21564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486900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4869000"/>
            <a:ext cx="21564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486900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68360" y="486900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8000" y="486900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486900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4869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4869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4869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4869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48360" y="4869000"/>
            <a:ext cx="216000" cy="215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28000" y="4869000"/>
            <a:ext cx="216000" cy="21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4869000"/>
            <a:ext cx="215640" cy="21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3120" y="5249880"/>
            <a:ext cx="8589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hrádek, tj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1 přepážek mez nimi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uliček, celkem te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+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1 poz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nich vybírám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ic pro kuličky, tj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C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+ k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na pravděpodobnost -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 hlavní výhry ve Sport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h sportky představuje výběr šesti ze čtyřiceti devíti čí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aká je pravděpodobnost páté ceny ve Sportce? 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šesti tažených je třeba uhodnout tři čís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210360" y="2593800"/>
          <a:ext cx="914400" cy="1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0360" y="259380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01600" y="2421000"/>
          <a:ext cx="64357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1600" y="2421000"/>
                    <a:ext cx="6435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826920" y="4869000"/>
          <a:ext cx="813780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869000"/>
                    <a:ext cx="81378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na pravděpodobnost -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ve hře typu Šance mi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odnete správně taženou skupinu cifer? (Z každého ze šesti bubn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ahujících cifry 0, 1, 2, … , 9 se náhodně vybere jedn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aká je pravděpodobnost v předchozí hře, bude-li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zici pouze jeden buben, který obsahuje každou z cifer práv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n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210360" y="2593800"/>
          <a:ext cx="914400" cy="1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0360" y="259380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392120" y="2852640"/>
          <a:ext cx="57722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2852640"/>
                    <a:ext cx="5772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84360" y="5300640"/>
          <a:ext cx="755964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300640"/>
                    <a:ext cx="75596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Jak s pravděpodobnostmi počítat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avděpodobnosti „složených“ je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ěkdy je třeba určit pravděpodobnosti jevů, které jsou nějaký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působem „složeny“ z jevů jednodušších. Uvažujme o d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ve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ejichž pravděpodobnosti jsou známy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ujme nové jev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a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… jevy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a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nastanou součas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… nastane 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nebo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(v principu zahrnuje i možnost, ž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nastanou o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určitých podmínek lze pravděpodobnosti jevů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č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cí pravděpodobností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závislé je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při současném hodu dvěma kostk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ne na obou šestka?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Uvědomte s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, co padne na jedné kostce, je nezávislé na výsledku druh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ost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Na první kostce padne šestka 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1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Na druhé kostce padne šestka 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1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Jevy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nastanou současně 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= 6</a:t>
            </a:r>
            <a:r>
              <a:rPr b="0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6 = 36 možnost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= 1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 / N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/36 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avděpodobnost současného nástupu nezávislých jevů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vna součinu pravděpodobností  těchto je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slučitelné je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při hodu kostkou padne některé 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ou nejvyšších čísel, tj. padne šestka nebo pětk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Uvědomte si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kutečnosti, že šestka i pětka padnou při stejném hodu, js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slučitel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Na kostce padne šestka 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1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Na kostce padne pětka  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1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Nastane buď 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nebo 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= 6 možnost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= 2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 / N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/6 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+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avděpodobnost nástupu některého z jevů, z nichž každé d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sou neslučitelné, je rovna součtu pravděpodobností těchto je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okážete vysvětlit, proč je součet pravděpodobností jevu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jevu opačného, tj. že jev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enastane, je rovna 1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na pravděpodobnost -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000" y="131256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klad 5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á je pravděpodobnost, že ve skupině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ob maj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espoň dvě narozeniny ve stejný d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k má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365 dní. Určíme nejprve pravděpodobnost jev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ž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z osob má narozenin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v jiný d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Počet případů možn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tento jev j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(variace s opakováním – v princip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ůže  mít každá z osob narozeniny v kterýkoli den). Počet příp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znivých j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(variace bez opakování – nechceme, a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narozeninový den zopakoval u více oso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v, který nás zajímá, je opačným jevem k jev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je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 je ted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1 – V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/ V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imes New Roman"/>
              </a:rPr>
              <a:t>Vypočtěte si tuto pravděpodobnost pro 40 osob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210360" y="2593800"/>
          <a:ext cx="914400" cy="1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0360" y="259380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Měření tlaku – nejjednodušší úkon u lékaře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jak zacházet s měřenými hodnotam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989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ěžná situace u lékaře: „Paní Nováková, když už tady jste, posaďte se, změřím vám tlak. ....... Ale ale, sto šedesát na sto deset, hned vám musím předepsat lék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”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66ff"/>
                </a:solidFill>
                <a:latin typeface="Times New Roman"/>
              </a:rPr>
              <a:t>Ale pane doktore, já jsem trochu rozčílená, to není možné, změřte to znovu, prosím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 ano, máte pravdu, teď je to už jen sto třicet na devadesát – máte tlak  jako mlad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Změřte si tlak desetkrá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ůležitý příklad – Bernoulliův pokus -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Provedení pokusu a ozna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Nastane-li předem definovaný jev </a:t>
            </a:r>
            <a:r>
              <a:rPr b="0" i="1" lang="cs-CZ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 (například „padne šestka“), nazveme to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zdarem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, v opačném případě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nezdarem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 zdaru označím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1/6), pravděpodobnost nezdaru je 1 –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tedy 5/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krát nezávisle provedeme pokus (například hod kostko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Jaký jev nás zajím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Jev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 Právě při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vedeních z celkového počt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vedení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su nastane z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ůležitý příklad – Bernoulliův pokus -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Které další jevy s tím souvis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v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ro j = 1, …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.. při j-tém provedení pokusu nastane z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v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ro k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+1, …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.. při k-tém provedení pokusu nez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v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.. Jev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ž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x+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ž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stoupí současně, tj. právě při prvních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akováních pokusu nastane zdar, při zbývajících nez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záleží nám ale na tom, při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terých 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ze všech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akování pokusu nastal zdar. Možností, kdy zdar nastal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ávě při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 vš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akování pokusu, je C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/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–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Výsledná pravděpodobnost jevu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počtěte pravděpodobnost Bernoulliova pokusu pro 5 opakování hodu kostkou a dva zdary, a pro 5 opakování hodu mincí a žádný zdar. Pro jaké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při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odech mincí pravděpodobnost jevu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ejvětší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19280" y="4941720"/>
          <a:ext cx="581328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941720"/>
                    <a:ext cx="58132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684360" y="2852640"/>
          <a:ext cx="79200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852640"/>
                    <a:ext cx="7920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Úlohy na pravděpodob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loh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při současném hodu 6 kostkami pa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každé kostce jiné číslo,      e) více než tři dvojk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é jedničky,                        f) právě ti dvojk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spoň tři dvojky,                  g) všechna čísla stejná.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loha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děpodobnost, že stud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oží úspěšně zkoušku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logické fyziky, j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avděpodobnost, že zkoušku slož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B, j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Jaká je pravděpodobnost, že zkoušku slo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ávě jeden ze studentů,         c) oba stu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spoň jeden ze studentů,     d) žádný ze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Jednotlivé situace je třeba „šikovně“ vytvořit pomocí jev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ezávislých, resp. neslučitelných, resp.  jevů obojího ty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6327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Měření a zpracování dat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souvisí pravděpodobnost s měře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ěřené hodnoty veličin jsou „náhodné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24128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zpomeňme si na měření krevního tlaku – co znamená fak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že při různých opakováních měření naměříme jin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ění se tlak tak rychle, že jej fakticky nemůžeme určit, neb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lze z různých naměřených hodnot zjistit relevantní informa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 správné, že lékař měří pacientovi při dané návštěvě tl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uze jedn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Řada veličin se řídí náhodnými vlivy, takže i za stejn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odmínek mohou nabývat různých hodnot, popř. při jej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pakovaném měření můžeme dostat různ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áhodná veličina s diskrétním rozděle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Náhodná veličina 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X 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a její (diskrétní)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ičina, která nabývá hodnot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s pravděpodobnost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kde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+ …+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N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imes New Roman"/>
              </a:rPr>
              <a:t>Víte proč ?? Uvědomte si neslučitelnost jevů, že veličina nab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imes New Roman"/>
              </a:rPr>
              <a:t>dvou různých hodnot součas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Rozdělením náhodné veličiny rozumíme soubor všech dvoj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),  pro j = 1, …,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ernoulliovo rozdělení -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192560" cy="4192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192920" cy="4192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80360" y="1700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7016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5661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01800" y="1700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93160" y="1219320"/>
            <a:ext cx="3340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hody kostkou – zdar = še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hody mincí   –   zdar = hl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(binomick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2800" y="1219320"/>
            <a:ext cx="3340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hody kostkou – zdar = še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hody mincí   –  zdar = hl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(binomick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3120" y="6091200"/>
            <a:ext cx="812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kážete z grafů určit „nejpravděpodobnější hodnotu“ ? Co znamená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nomick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é a Poissonovo rozdělení –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Poissonovo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mitní případ binomického rozdělení (Bernoulliova pr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velký počet pokusů, zajímáme-li se o velmi malý počet zda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srovnání s počtem pokus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Praktický pří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gistrace radioaktivních částic v Geigerově-Millerově trub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Cs</a:t>
            </a:r>
            <a:r>
              <a:rPr b="1" lang="cs-CZ" sz="2400" spc="-1" strike="noStrike" baseline="30000">
                <a:solidFill>
                  <a:srgbClr val="ff3300"/>
                </a:solidFill>
                <a:latin typeface="Times New Roman"/>
              </a:rPr>
              <a:t>137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→ Ba</a:t>
            </a:r>
            <a:r>
              <a:rPr b="1" lang="cs-CZ" sz="24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137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+ elektron + neutrino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… asi 8%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šech rozp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Cs</a:t>
            </a:r>
            <a:r>
              <a:rPr b="1" lang="cs-CZ" sz="2400" spc="-1" strike="noStrike" baseline="30000">
                <a:solidFill>
                  <a:srgbClr val="ff3300"/>
                </a:solidFill>
                <a:latin typeface="Times New Roman"/>
              </a:rPr>
              <a:t>137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→ Ba</a:t>
            </a:r>
            <a:r>
              <a:rPr b="1" lang="cs-CZ" sz="24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137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cs-CZ" sz="24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+ elektron + neutrino …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si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9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%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šech rozp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zdroj s aktivitou 1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(1 Curie … za 1 s rozpad 3,7 . 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d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našem vzorku to znamená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700 000 pokusů za 10 sekund)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experimentu při počítání pulsů je nastaveno na cca 1 puls (zd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1 s, počet zdarů v intervalu 10 s je tedy velmi malý proti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inomické  a Poissonovo rozdělení –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570560" cy="4570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80360" y="1341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101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6000" y="2133720"/>
            <a:ext cx="295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omické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dy mincí 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70560" cy="4570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859280" y="184464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Binom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n =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93080" y="2924280"/>
            <a:ext cx="172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Poisson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&lt;x&gt;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01800" y="1341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101080" y="50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zjistit rozdělení experimentáln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Příklad se střel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elec vystřelí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krát na terč. Dosažené počty bodů při jednotliv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střelech představují hodnoty náhodné veličiny. Jaké js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i jednotlivých hodnot? Pr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50 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 různých počtech výstřelů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pravděpodobnosti budou obec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nit. Pro rostoucí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udeme pozorovat jejich „ustalování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3357720"/>
          <a:ext cx="8640720" cy="1439640"/>
        </p:xfrm>
        <a:graphic>
          <a:graphicData uri="http://schemas.openxmlformats.org/drawingml/2006/table">
            <a:tbl>
              <a:tblPr/>
              <a:tblGrid>
                <a:gridCol w="1379520"/>
                <a:gridCol w="662040"/>
                <a:gridCol w="658800"/>
                <a:gridCol w="660600"/>
                <a:gridCol w="660240"/>
                <a:gridCol w="660600"/>
                <a:gridCol w="658800"/>
                <a:gridCol w="660240"/>
                <a:gridCol w="660240"/>
                <a:gridCol w="659160"/>
                <a:gridCol w="661680"/>
                <a:gridCol w="658800"/>
              </a:tblGrid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dno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t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kus s měřením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413000"/>
          <a:ext cx="4464000" cy="5029200"/>
        </p:xfrm>
        <a:graphic>
          <a:graphicData uri="http://schemas.openxmlformats.org/drawingml/2006/table">
            <a:tbl>
              <a:tblPr/>
              <a:tblGrid>
                <a:gridCol w="1487520"/>
                <a:gridCol w="1488960"/>
                <a:gridCol w="14875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st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076720" y="1413000"/>
            <a:ext cx="406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Jaké jsou  jednotk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Times New Roman"/>
              </a:rPr>
              <a:t>1 mm Hg odpovídá tla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33cc"/>
                </a:solidFill>
                <a:latin typeface="Times New Roman"/>
              </a:rPr>
              <a:t>p = h</a:t>
            </a:r>
            <a:r>
              <a:rPr b="1" i="1" lang="el-GR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ρ</a:t>
            </a:r>
            <a:r>
              <a:rPr b="1" i="1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g</a:t>
            </a:r>
            <a:r>
              <a:rPr b="0" i="1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= </a:t>
            </a:r>
            <a:r>
              <a:rPr b="0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</a:t>
            </a:r>
            <a:r>
              <a:rPr b="0" lang="cs-CZ" sz="24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3</a:t>
            </a:r>
            <a:r>
              <a:rPr b="0" lang="cs-CZ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</a:t>
            </a:r>
            <a:r>
              <a:rPr b="0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3 500</a:t>
            </a:r>
            <a:r>
              <a:rPr b="0" lang="cs-CZ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</a:t>
            </a:r>
            <a:r>
              <a:rPr b="0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= 135 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0 mm Hg odpovídá 13,5 k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Která z hodnot je správná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esprávně položená otáz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S daty je třeba umět zacház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terá hodnota nejlépe reprezentuje rozděle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Jak máme zadávat náhodnou velič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áhodnou veličinu nejdokonaleji  reprezentuje zadání její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dělení. To je ovšem poněkud nepraktické. U střelce jsme viděl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že jeho kvalita je reprezentována hodnotou blízkou devít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ovala se nejčastěji, má největší váh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prezentativní hodn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ritmetický průměr všech hodnot včetně „násobnosti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vedená hodnota je váženým průměrem hodnot a nazývá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řední hodnotou náhodné velič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čete střední hodnotu dosažených bodů v příkladu se střelc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4149720"/>
          <a:ext cx="83516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149720"/>
                    <a:ext cx="83516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lší charakteristiky rozdě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Který střelec je lepš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a střelci vystřelí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krát na terč. Pr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50 máme jejich tabu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24000" y="2565360"/>
          <a:ext cx="8351280" cy="1371600"/>
        </p:xfrm>
        <a:graphic>
          <a:graphicData uri="http://schemas.openxmlformats.org/drawingml/2006/table">
            <a:tbl>
              <a:tblPr/>
              <a:tblGrid>
                <a:gridCol w="1332360"/>
                <a:gridCol w="639720"/>
                <a:gridCol w="636840"/>
                <a:gridCol w="637560"/>
                <a:gridCol w="640080"/>
                <a:gridCol w="636480"/>
                <a:gridCol w="637920"/>
                <a:gridCol w="639720"/>
                <a:gridCol w="636840"/>
                <a:gridCol w="637560"/>
                <a:gridCol w="638280"/>
                <a:gridCol w="6379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dno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t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24000" y="4149720"/>
          <a:ext cx="8351640" cy="1511280"/>
        </p:xfrm>
        <a:graphic>
          <a:graphicData uri="http://schemas.openxmlformats.org/drawingml/2006/table">
            <a:tbl>
              <a:tblPr/>
              <a:tblGrid>
                <a:gridCol w="1331640"/>
                <a:gridCol w="641520"/>
                <a:gridCol w="636480"/>
                <a:gridCol w="636480"/>
                <a:gridCol w="640080"/>
                <a:gridCol w="637920"/>
                <a:gridCol w="636840"/>
                <a:gridCol w="639720"/>
                <a:gridCol w="637920"/>
                <a:gridCol w="635040"/>
                <a:gridCol w="642960"/>
                <a:gridCol w="6350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dno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t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dělení pro oba stře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0" y="1341360"/>
          <a:ext cx="8424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424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2475000" y="1268280"/>
            <a:ext cx="44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třední hodnota  je 5,0 u obou roz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tyl rozdě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Odvozené náhodné velič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 = 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náhodná veličina s rozdělením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má-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ičin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dělení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erá veličina charakterizuje „odchýlení“ hodnot od střední hodno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Určete střední hodnotu veličiny 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- &lt;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&gt;</a:t>
            </a: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. Čekali jste tento výsled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Rozptylem náhodné veličiny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rozumíme střední hodno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áhodné veličiny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 &lt;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]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Její odmocnina je tzv. směrodatn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odchyl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počtěte hodnotu rozptylu a směrodatné odchylky u obou střelců. Jak by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pretovali výsledek? Směrodatná odchylka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jde 1,7 pro prvého a 1,2 p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ruhého střel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844560" y="4437000"/>
          <a:ext cx="695160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4437000"/>
                    <a:ext cx="69516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án rozdě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364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Distribuční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ce definovaná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tem pravděpodobnos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… + 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povídajících hodnotám menším než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+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Medián je hodnota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, pro kterou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0,5 a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s+1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≥ 0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kol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mediány rozdělení pro oba porovnávané střelce. Je výsled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čekávaný?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79600" y="2492280"/>
          <a:ext cx="694512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492280"/>
                    <a:ext cx="69451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ční funkce pro stře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144440" y="1523880"/>
          <a:ext cx="6777360" cy="43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1523880"/>
                    <a:ext cx="677736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1908000" y="4724280"/>
            <a:ext cx="107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472428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465300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40360" y="4508640"/>
            <a:ext cx="57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16360" y="422100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92720" y="285264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256536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43640" y="242100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20000" y="234936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472428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64000" y="4581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87640" y="465300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429264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88000" y="378936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92720" y="32846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2781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43640" y="249228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2349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10960" y="141300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edián  je 5 u obou roz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1080" y="1989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50560" y="472428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50560" y="472428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96000" y="234936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96000" y="2349360"/>
            <a:ext cx="1152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3573360"/>
            <a:ext cx="7920000" cy="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00" y="3068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0,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áhodná veličina se spojitým rozděle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Náhodná veličina 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X 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a její (spojité)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ičina, která nabývá všech reálných hodnot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interval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 elementárními pravděpodobnostmi d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d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Rozdělením náhodné veličiny rozumíme funkci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)  na  interva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].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Též hustota pravděpodob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Střední hodnota, rozptyl, distribuční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emu je roven integrál z hustoty pravděpodobnosti (plocha pod grafem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69920" y="3645000"/>
          <a:ext cx="6858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3645000"/>
                    <a:ext cx="6858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ůležitý příklad – normální rozdě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951440" cy="495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3492360" y="1844640"/>
          <a:ext cx="504036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1844640"/>
                    <a:ext cx="504036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716360" y="4149720"/>
            <a:ext cx="41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červená … </a:t>
            </a:r>
            <a:r>
              <a:rPr b="1" i="1" lang="el-G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σ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=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modrá   … 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</a:rPr>
              <a:t>σ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99"/>
                </a:solidFill>
                <a:latin typeface="Times New Roman"/>
              </a:rPr>
              <a:t>zelená    … </a:t>
            </a:r>
            <a:r>
              <a:rPr b="1" i="1" lang="el-GR" sz="2400" spc="-1" strike="noStrike">
                <a:solidFill>
                  <a:srgbClr val="00cc99"/>
                </a:solidFill>
                <a:latin typeface="Times New Roman"/>
              </a:rPr>
              <a:t>σ</a:t>
            </a:r>
            <a:r>
              <a:rPr b="1" i="1" lang="cs-CZ" sz="2400" spc="-1" strike="noStrike">
                <a:solidFill>
                  <a:srgbClr val="00cc99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zývá se též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auss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828036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66ff"/>
                </a:solidFill>
                <a:latin typeface="Times New Roman"/>
              </a:rPr>
              <a:t>Fyzikální veličina a její chyb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 znamená zápis typu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2,51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007) m</a:t>
            </a: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terý výsledek je ten prav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Měření délky ukazová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ejme, že všech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tudentů v posluchárně bude měřit délku téhož ukazovátka, nebo ji bude jeden student měřit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krá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Budou všechny získané hodnoty stej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č se budou obecně li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Která z naměřených hodnot je skutečnou délkou ukazovátk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Délka ukazovátka se při měření „chová“ jako náhodná velič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Chyby, kterých se při měření dopouští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rubé a systematické chyby (předpokládejme, že jsme je eliminov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hodné chyby (jejich vlivem se budeme zabýv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6327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Pravděpodobnost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ematika náh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ální rozložení c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ejme, že existuje nějaká „správná“ hodnota délky ukazovátk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že student naměřil hodnoty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některé mohou být i stejn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Odchylky od (zatím neznámé) správné hodnoty označme                        (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ε</a:t>
            </a:r>
            <a:r>
              <a:rPr b="1" lang="cs-CZ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ε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cs-CZ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, …, 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ε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cs-CZ" sz="24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). Tyto hodnoty jsou hodnotami náhodné veličiny 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jí hustotu pravděpodobnosti označm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. Za jistých podmínek je rozdělením normální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Předpokládejme, že odchylky jsou způsobeny 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 nezávislými vlivy, každý z nich odchýlí měřenou hodnotu od 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 o stejnou hodnotu 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kladnou nebo zápornou, s pravděpodobností 0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dnou odchylku +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veme zdarem, zápornou (–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nezdarem.Výsledná odchylka naměřené hodnot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ží v intervalu (–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může nabývat pouze celých násobků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liv chybových vlivů –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1125360"/>
            <a:ext cx="7848360" cy="532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1916280"/>
            <a:ext cx="345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27640" y="184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115640" y="1916280"/>
            <a:ext cx="331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5080" y="141300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Záporné chy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68360" y="14130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Kladné chy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95640" y="1989000"/>
            <a:ext cx="43200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1989000"/>
            <a:ext cx="431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67280" y="2492280"/>
            <a:ext cx="4334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2997360"/>
            <a:ext cx="43344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76720" y="2492280"/>
            <a:ext cx="432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80000" y="299736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04000" y="4365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0872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571640" y="3500280"/>
            <a:ext cx="4316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492360" y="2492280"/>
            <a:ext cx="432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87640" y="299736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500360" y="2492280"/>
            <a:ext cx="431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076720" y="299736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300720" y="4365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80400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86728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95640" y="299736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000" y="4365720"/>
            <a:ext cx="431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0072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292360" y="4437000"/>
            <a:ext cx="431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4437000"/>
            <a:ext cx="4334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64000" y="4941720"/>
            <a:ext cx="43200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5600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787640" y="4941720"/>
            <a:ext cx="431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850920" y="4869000"/>
            <a:ext cx="431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842920" y="4869000"/>
            <a:ext cx="431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4800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90800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411280" y="4365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48000" y="4365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356000" y="4365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43280" y="4365720"/>
            <a:ext cx="431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80000" y="4365720"/>
            <a:ext cx="431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92360" y="292428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43280" y="37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486160" y="371628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360" y="53737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98200" y="544500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–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–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25080" y="5445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134136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 č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5640" y="1989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 č. 2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5640" y="2492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 č. 3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5640" y="30686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 č.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4149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 č. 11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liv chybových vlivů – 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3640" y="160128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 odchýlení 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ladných 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 –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porn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ivů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ladných 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 –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zdarů), tj. pravděpodobnost vzni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chylky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= j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 – j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(–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– 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dána binomický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dělením (Bernoulliovým pr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1/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velká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lze nahradit rozdělením normálním (Gaussovým).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ožňuje následující zpracová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476360" y="3430440"/>
          <a:ext cx="619128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430440"/>
                    <a:ext cx="6191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metický průměr a jeho chy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Reprezentativní hodnota 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ritmetický průměr všech naměřených hodnot (střední hodn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ič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Směrodatná odchylka příslušná aritmetickému průmě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ávná hodnota veličiny nebude určena, ale s pravděpodobnos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8,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ží v intervalu určeném aritmetickým průměrem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měrodatnou odchylkou tak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Krajní chyba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 trojnásobek směrodatné odchylky … odpovíd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nímu intervalu 9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195640" y="2133720"/>
          <a:ext cx="5400720" cy="71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54007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308240" y="4437000"/>
          <a:ext cx="659736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4437000"/>
                    <a:ext cx="65973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828036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ůzné typy průměrů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n tak pro zajímavos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metický průměr - 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měl ze tří matematických písemek v semestru t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dnocení B a jedno C. U dvou závěrečných písemek měl A a 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ústní zkoušky E. Jaká je jeho průměrná známka, jestliže všech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ámky mají stejnou váh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46320" y="3429000"/>
          <a:ext cx="6711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6320" y="3429000"/>
                    <a:ext cx="6711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metický průměr - I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0560" y="1096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te předchozí příklad za předpokladu, že závěrečná písemka m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akrát větší váhu než průběžná a ústní zkouška má dvakrát větš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áhu než závěrečná písem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84360" y="3459240"/>
          <a:ext cx="8064360" cy="26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459240"/>
                    <a:ext cx="806436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ůměrná rychlost – 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8497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obil jel z A do B první úsek rychlostí 130 km/h stejn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u druhý úsek průměrnou rychlostí 70 km/h. Jaká byla je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ůměrná rychlost na celé tr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Je odpověď dána aritmetickým průměrem obou hodnot, t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(130 + 70)/2 = 100 km /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e to věc definic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ůměrná  je definována jako podíl celkov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áhy a celkové doby jízdy. Dráhu ale neznáme. Víme však, ž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a úseky trvaly stejně ča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akže přece jen aritmetický průměr? Zkusme úlohu obmě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979560" y="4724280"/>
          <a:ext cx="668808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4724280"/>
                    <a:ext cx="6688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ůměrná rychlost – 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obil jel z A do B první úsek rychlostí 130 km/h a druh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sek rychlostí 70 km/h. Oba úseky byly stejně dlouhé. Jaká by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ní průměrná rychl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edná se o tzv. harmonický průmě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826920" y="2781360"/>
          <a:ext cx="77774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81360"/>
                    <a:ext cx="77774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ůměrný“ obdélník je čtvere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424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čete stranu čtverce, který má stejný obsah jako obdélník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ná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ebo poloměr koule, která má stejný objem ja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psoid o poloosá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32000" y="3429000"/>
            <a:ext cx="1800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63640" y="479736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2771640" y="4221000"/>
            <a:ext cx="1800360" cy="7905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1792" y="8762"/>
                </a:moveTo>
                <a:arcTo wR="-9236" hR="-9236" stAng="-10035192" swAng="-12933099"/>
                <a:lnTo>
                  <a:pt x="844" y="14986"/>
                </a:lnTo>
                <a:arcTo wR="10800" hR="10800" stAng="9431709" swAng="12933099"/>
                <a:lnTo>
                  <a:pt x="23967" y="13779"/>
                </a:lnTo>
                <a:lnTo>
                  <a:pt x="19803" y="16407"/>
                </a:lnTo>
                <a:lnTo>
                  <a:pt x="17175" y="1224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59280" y="3141720"/>
            <a:ext cx="2087640" cy="985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59280" y="3429000"/>
            <a:ext cx="2089080" cy="433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651640" y="3141720"/>
            <a:ext cx="502920" cy="985680"/>
          </a:xfrm>
          <a:prstGeom prst="ellipse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35640" y="4508640"/>
            <a:ext cx="1155600" cy="1155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35640" y="4869000"/>
            <a:ext cx="1152360" cy="431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5435280" y="4869000"/>
            <a:ext cx="1152360" cy="431640"/>
          </a:xfrm>
          <a:prstGeom prst="ellipse">
            <a:avLst/>
          </a:prstGeom>
          <a:solidFill>
            <a:srgbClr val="bbe0e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6298920" y="4005000"/>
            <a:ext cx="1800360" cy="7905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1792" y="8762"/>
                </a:moveTo>
                <a:arcTo wR="-9236" hR="-9236" stAng="-10035192" swAng="-12933099"/>
                <a:lnTo>
                  <a:pt x="844" y="14986"/>
                </a:lnTo>
                <a:arcTo wR="10800" hR="10800" stAng="9431709" swAng="12933099"/>
                <a:lnTo>
                  <a:pt x="23967" y="13779"/>
                </a:lnTo>
                <a:lnTo>
                  <a:pt x="19803" y="16407"/>
                </a:lnTo>
                <a:lnTo>
                  <a:pt x="17175" y="1224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o je to pravděpodobnost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proč nesázet Sportk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Víte například, 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 hlavní výhry ve Sportce je sedm milióntin procenta, tj. ani ne jedna ku deseti miliónů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pravděpodobnost páté ceny je už skoro dvouprocent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že mezi  40 lidmi jsou alespoň dva, kteří mají narozeniny ve stejný den, je skoro devadesátiprocentní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A ví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co to vůbec je pravděpodobn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 je to medián, co průměr, a kolik typů průměrů existu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co je správnost a co přesnost měř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 znamená zápis „hodnota veličin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e (2,518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007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 m“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ůměrný“ elipsoid je ko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poč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edná se o geometrický průmě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armonický p.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≤  geometrický p.  ≤ aritmetický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 to ještě zdaleka nejsou všechny typy průměr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84360" y="2060640"/>
          <a:ext cx="784836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848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o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371680" y="5157720"/>
            <a:ext cx="46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sedm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08200" y="25416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1224"/>
                </a:solidFill>
                <a:latin typeface="Times New Roman"/>
              </a:rPr>
              <a:t>Příšt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áhodné jevy a jejich pravděpodobnost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1341360"/>
            <a:ext cx="87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ázení mincí – náhodný poku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kem dvě možnosti – náhodné jevy (orel, hlav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dujeme jev A: padne orel – jedna z možností je příznivá, 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p =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ázení kostkou – náhodný po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kem šest možností – náhodných jevů (1, 2, 3, 4, 5,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dujeme jev A: padne šestka – jedna z možností je příznivá,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p =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1/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508640"/>
            <a:ext cx="1166760" cy="11667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4508640"/>
            <a:ext cx="1166760" cy="11667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4508640"/>
            <a:ext cx="1167120" cy="11667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508640"/>
            <a:ext cx="1166760" cy="11667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4508640"/>
            <a:ext cx="1167120" cy="11667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20000" y="4508640"/>
            <a:ext cx="1166760" cy="11667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5373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537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9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5157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6360" y="515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15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9636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537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537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49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37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5373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360" y="5157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537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5373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157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6530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4581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4581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465300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465300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479736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5013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5229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4581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46530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4581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46530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4581360"/>
            <a:ext cx="144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46530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479736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465300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5013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5157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530064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465300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4869000"/>
            <a:ext cx="7128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472428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508464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4941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530064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5157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4581360"/>
            <a:ext cx="144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40720" y="46530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56720" y="530064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28000" y="5013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01080" y="472428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5373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5229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4869000"/>
            <a:ext cx="7128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472428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04000" y="508464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5157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59640" y="5229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472428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4797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4869000"/>
            <a:ext cx="7128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ce pravděpod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avděpodob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oupení jevu A je podílem počtu případů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 nichž jev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al (čitatel), a počt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šech možných případů (jmenovat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Úkol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) Jaká je pravděpodobnost, že při hodu kostkou padne sudé čís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) Jaká je pravděpodobnost, že padne číslo dělitelné třem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) Jaká je pravděpodobnost, že padne číslo menší než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kol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Jaká je pravděpodobnost, že při hodu dvěma kostk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učasně) padne součet sed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Jaká je pravděpodobnost, že součin padnuvších čísel bude lich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Jakých hodnot může pravděpodobnost v principu nabý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Řešení předchozích úk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Řešení úkolu 1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6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íznivé jsou případy, kdy padne trojka nebo šes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/6 = 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Řešení úkolu 2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aždá ze 6 možností, které mohou padnout na první kost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nezávisle kombinuje s každou ze 6 možností na druhé kostce),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ednička na první a šestka na druhé kostce, nebo naop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ojka na první a pětka na druhé kostce, nebo naopak, trojka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vní a čtyřka na druhé kostce, nebo naopak)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6/36 = 1/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Řešení úkolu 2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36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9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9/36 = 1/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Řešení úkolu 2b sami zdůvodně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ště jeden úkol ryze prakt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zásuvce jsou ponožky tří barev. Červené (Č), zelené (Z)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ré (M). Je jich tam od každé barvy hodně. Student jde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ůzku a chce si vzít čisté ponožky. Náhle zhasne svět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vytáhne potmě dvě ponož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budou mít stejnou barv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nebudou mít stejnou barv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ponožky budou mít stejnou barvu, ale ne červen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Všimněte si výsledků a) a b). Co pro ně platí? Co myslíte,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o náhoda, nebo to tak být mus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ev jistý – jev s jednotkovou pravděpodobností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ev nemožný – jev s nulovou pravděpodobnost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19:55Z</dcterms:created>
  <dc:creator>Jana Musilová</dc:creator>
  <dc:description/>
  <dc:language>en-US</dc:language>
  <cp:lastModifiedBy>Jana Musilová</cp:lastModifiedBy>
  <dcterms:modified xsi:type="dcterms:W3CDTF">2008-11-03T18:18:11Z</dcterms:modified>
  <cp:revision>164</cp:revision>
  <dc:subject/>
  <dc:title>Radiologická fyzika</dc:title>
</cp:coreProperties>
</file>