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BF2-4505-4F72-B2C8-794A141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9A4-06F9-49B1-8A92-6FFFBED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985-7F4B-438B-9318-D91E0DE0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4C5-45F5-4DC7-912F-5D5BE71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A3D-0C8E-4FC7-B2CD-8CCA366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9F2-D2F4-4083-8BA3-FA6EF5A4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881-FE36-4119-9713-91AE8E24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86C-8A9B-40EA-B75D-76911EE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B14-C150-41E1-925B-07CFC30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030-06DB-4EFE-9096-D3B5B72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281-33C1-40E0-B511-F52E6B7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3AA-559A-4DE2-A7E8-7830CDA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CF4B-F5C4-4F18-A11B-B7C7C7A8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derná magnetická rezon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1960" y="515772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v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derný magnetický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9520" y="1287360"/>
            <a:ext cx="81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 magnetický moment M je podobně spojen se spinem I, jako byl magnetický momen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pojen s orbitálním L. Rozdíl je jen v konstantě úměr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8120"/>
            <a:ext cx="81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yromagnetický fakto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á roz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76720" y="2590920"/>
          <a:ext cx="10508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90920"/>
                    <a:ext cx="10508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514600" y="3505320"/>
          <a:ext cx="3289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505320"/>
                    <a:ext cx="3289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0880" y="44197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yromagnetický faktor protonu a neutronu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116080" y="4952880"/>
          <a:ext cx="377820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6080" y="4952880"/>
                    <a:ext cx="3778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vantování jaderného magnetického mo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0481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ůmět do nějakého směru (např. do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65360" y="2514600"/>
          <a:ext cx="246708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2514600"/>
                    <a:ext cx="2467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50960" y="3733920"/>
          <a:ext cx="525780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3733920"/>
                    <a:ext cx="52578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80880" y="114300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že je spin kvantován, je kvantován i jaderný magnetický moment. Pravidla kvantové mechaniky dovolují, aby velikost magnetického momentu b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2670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e magnetického momentu v homogenním poli induk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ířícím podél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06640" y="5334120"/>
          <a:ext cx="46735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6640" y="5334120"/>
                    <a:ext cx="467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derný magnetický moment pr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=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1568" b="0"/>
          <a:stretch/>
        </p:blipFill>
        <p:spPr>
          <a:xfrm>
            <a:off x="228600" y="1371600"/>
            <a:ext cx="7732800" cy="2001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4191120"/>
            <a:ext cx="38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ž jsme viděli, že spin ½ 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také  izotop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e šesti protony a sedmi neutrony – jedním nepárovaný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52880" y="3733920"/>
            <a:ext cx="3581280" cy="2593080"/>
            <a:chOff x="4952880" y="3733920"/>
            <a:chExt cx="3581280" cy="2593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rcRect l="3731" t="0" r="3731" b="0"/>
            <a:stretch/>
          </p:blipFill>
          <p:spPr>
            <a:xfrm>
              <a:off x="4952880" y="4190760"/>
              <a:ext cx="17874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81480" y="373392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160" y="5867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utro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0" y="53337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párova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u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476400" y="5486400"/>
              <a:ext cx="30492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vantové přec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6668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o energie je buď vyzářena (je-li záporná) jako kvantum elektromagnetického záření nebo je získána (je-li kladná) absorpcí takového k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286000"/>
          <a:ext cx="576756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57675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80880" y="1066680"/>
            <a:ext cx="8131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echodu jádra ze stavu 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stavu 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chody mohou probíhat jen mezi sousedními hladinami) dojde ke změně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4956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uvážením vztahu mezi kruhovou frekvencí a frekvencí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stáváme jednu ze základních rovnic N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00400" y="4038480"/>
          <a:ext cx="17654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1765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781360" y="5562720"/>
          <a:ext cx="257796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1360" y="5562720"/>
                    <a:ext cx="2577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yvolání pře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066680"/>
            <a:ext cx="8458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k přechodu došlo, musíme kromě homogenního na čase nezávislého magnetického pole orientovaného podél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čítat s dalším přidaným elektromagnetickým polem – monochromatickou v rovin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ruhově polarizovanou vlnou s úhlovou frekvenc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amplitudo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339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zápisu jsme zanedbali prostorovou závislost fáze vl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66680" y="2971800"/>
          <a:ext cx="654048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6540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371600" y="4267080"/>
          <a:ext cx="5524560" cy="9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55245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33520" y="5410080"/>
            <a:ext cx="81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že i pro velmi vysokou frekvenc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Hz je vlnová dél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ravděpodobnost přechodu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přechodu je třeba počítat s užitím rovnic kvantové mechaniky. Uvedeme si jen výsledek pro jádro se spinem jedna polovina a kladným gyromagnetickým fakt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79640" y="4572000"/>
          <a:ext cx="62989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4572000"/>
                    <a:ext cx="62989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457200" y="2590920"/>
            <a:ext cx="6159600" cy="1739880"/>
            <a:chOff x="457200" y="2590920"/>
            <a:chExt cx="6159600" cy="1739880"/>
          </a:xfrm>
        </p:grpSpPr>
        <p:sp>
          <p:nvSpPr>
            <p:cNvPr id="239" name=""/>
            <p:cNvSpPr/>
            <p:nvPr/>
          </p:nvSpPr>
          <p:spPr>
            <a:xfrm>
              <a:off x="1373040" y="30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8800" y="30481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2480" y="3429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52480" y="4114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457200" y="3352680"/>
            <a:ext cx="2667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2667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5943600" y="3200400"/>
            <a:ext cx="673200" cy="52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3200400"/>
                      <a:ext cx="6732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6019920" y="3809880"/>
            <a:ext cx="520560" cy="52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9920" y="3809880"/>
                      <a:ext cx="5205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228600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2362320" y="3657600"/>
            <a:ext cx="40464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2320" y="3657600"/>
                      <a:ext cx="40464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 flipH="1">
              <a:off x="3276720" y="2590920"/>
              <a:ext cx="380880" cy="15238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276720" y="3428640"/>
              <a:ext cx="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1120" y="3429000"/>
              <a:ext cx="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91120" y="2666880"/>
              <a:ext cx="533160" cy="1447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ravděpodobnost přechodu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06668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 vztahu pro pravděpodobnost přechodu vidíme, že při resonanci, tj. pr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ůže tato pravděpodobnost dosáhnout v jistém čase jedn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66680" y="2362320"/>
          <a:ext cx="68072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68072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80880" y="3581280"/>
            <a:ext cx="8093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třeba si uvědomit, že až dosud jsme uvažovali o izolovaných jádrech. V látce je přiložené vnější magnetické pole v místě daného jádra mírně ovlivněno okolím, což vede k tzv. chemickému posuvu resonanční frekvence. V lékařských aplikacích jsou vodíkové atomy vázány především ve skupinách 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 a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 Pro proton s frekvencí 42 576 388 Hz při poli 1 T je chemický posuv těchto skupin 220 H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eplotní rovnováha pro jaderné spiny v lát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rovnová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2680" y="1066680"/>
            <a:ext cx="2894040" cy="3657600"/>
            <a:chOff x="382680" y="1066680"/>
            <a:chExt cx="2894040" cy="3657600"/>
          </a:xfrm>
        </p:grpSpPr>
        <p:sp>
          <p:nvSpPr>
            <p:cNvPr id="265" name=""/>
            <p:cNvSpPr/>
            <p:nvPr/>
          </p:nvSpPr>
          <p:spPr>
            <a:xfrm>
              <a:off x="2209680" y="10666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31240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1523880"/>
              <a:ext cx="19047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3000" y="3809880"/>
              <a:ext cx="19051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1981080" y="1219320"/>
              <a:ext cx="7632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81080" y="1828800"/>
              <a:ext cx="914400" cy="1295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990360" y="1828800"/>
              <a:ext cx="990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312408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143000" y="31240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15238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281952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209320" y="3809880"/>
              <a:ext cx="228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3124080"/>
              <a:ext cx="106704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143000" y="31240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1981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2680" y="1447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252320" y="1184400"/>
            <a:ext cx="4129560" cy="2930400"/>
            <a:chOff x="4252320" y="1184400"/>
            <a:chExt cx="4129560" cy="2930400"/>
          </a:xfrm>
        </p:grpSpPr>
        <p:sp>
          <p:nvSpPr>
            <p:cNvPr id="282" name=""/>
            <p:cNvSpPr/>
            <p:nvPr/>
          </p:nvSpPr>
          <p:spPr>
            <a:xfrm>
              <a:off x="4267080" y="2895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0080" y="198108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0080" y="289548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19810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880" y="3733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9400" y="2057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52320" y="1184400"/>
              <a:ext cx="6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590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3800" y="1752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22096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771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1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43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866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88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167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24480" y="167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915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3809880" y="5105520"/>
          <a:ext cx="3467160" cy="90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105520"/>
                    <a:ext cx="346716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arušení rovnová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324480" y="1143000"/>
          <a:ext cx="1905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143000"/>
                    <a:ext cx="1905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380880" y="1108080"/>
            <a:ext cx="5257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tak velmi malý rozdíl v koncentraci vytváří při obrovské hustotě protonů v látce makroskopickou magnetizac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e směru os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Tu můžeme ovlivnit vhodně trvajícím pulsem radiofrekvenční (rf) vlny s rezonanční frekvencí. Na obrázcích je účinek jednoho 9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dvou 18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f puls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rcRect l="0" t="0" r="1924" b="0"/>
          <a:stretch/>
        </p:blipFill>
        <p:spPr>
          <a:xfrm>
            <a:off x="533520" y="4191120"/>
            <a:ext cx="75135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ávrat k rovnov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640" y="1184400"/>
            <a:ext cx="80168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pokládejme, že jsme v čas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osáhli rf pulsem nulové magnetizace ve směru os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z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cí s okolím ale dochází ke zpětnému přechodu do rovnovážného stavu s tzv. konstantou spinově – mřížkové interakc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volné precesi nejsou složky magnetických momentů v rovině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 jednotlivých jader ve fázi, takže celková magnetizace ve směr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nulová. Za působení rf pole se sfázují a tak i celková magnetizace rotuje obdobně jako jednotlivé momenty. Po vypnutí rf pole se interakcí mezi spiny opět sfázování poruší, to se děje s časovou konstanto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971800" y="3886200"/>
          <a:ext cx="2925720" cy="24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292572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MR nebo M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Základním fyzikálním procesem je jaderná magnetická rezonance (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nuclear magnetic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resonance – NMR). Protože řada lidí má obavy ze slov jádro, jaderný, jaderná, používá se v lékařských aplikacích názvu zobrazení magnetickou rezonancí (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magnetic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resonance imaging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- MRI). Nakonec je to i přesnější – rozdílu v intenzitě určitého fyzikálního jevu se používá k získání kontrastu ve výsledném obr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Časové konstan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66680" y="1397160"/>
          <a:ext cx="6553440" cy="4566960"/>
        </p:xfrm>
        <a:graphic>
          <a:graphicData uri="http://schemas.openxmlformats.org/drawingml/2006/table">
            <a:tbl>
              <a:tblPr/>
              <a:tblGrid>
                <a:gridCol w="3048120"/>
                <a:gridCol w="1676520"/>
                <a:gridCol w="18288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lá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cs-CZ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m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m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z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mota (G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ílá hmot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W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brospinální tekut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S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ontrast 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cs-CZ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0" i="1" lang="cs-CZ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cs-CZ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90720" y="1676520"/>
            <a:ext cx="6421320" cy="4269600"/>
            <a:chOff x="990720" y="1676520"/>
            <a:chExt cx="6421320" cy="42696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rcRect l="0" t="0" r="1654" b="0"/>
            <a:stretch/>
          </p:blipFill>
          <p:spPr>
            <a:xfrm>
              <a:off x="990720" y="2209680"/>
              <a:ext cx="642132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648320" y="16765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4720" y="16765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4520" y="548640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Blochovy rov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62120" y="3048120"/>
          <a:ext cx="732780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8120"/>
                    <a:ext cx="732780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zahrnují všechny vlivy, které působí na vektor magnetizace (makroskopický, tj. střední hodnota z velkého počtu jader): precesi v základním homogenním poli, vliv rf pole a relaxační jev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ešení Blochových rov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371600" y="2666880"/>
          <a:ext cx="630540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630540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jdou řešit za zjednodušujícího předpokladu ustáleného stavu magnetizace podél os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alyticky. Potom dostaneme pro dvě zcela odlišně se chovající složky magnetizace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6280" y="52228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vzniknou z kvantově-mechanických rovnic pro operátory jako rovnice pro jejich střední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k získat obraz při M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ení obrazu vyžaduje splnit dvě základní podmí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ít způsob, jak získat informaci jen z dané malé oblasti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ít způsob, jak vytvářet k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31240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Jev NM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Felix Bloch a Edward Purcell 1946 (Nobelova cena 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Rozdíly v signál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d normálních a rakovinných oblastí: Raymond Damadian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Zobrazení malých obla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mocí gradientu pole: Paul Lauterbur 1973 a Peter Mansfield 1974 (Nobelova cena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Gradientní cívky dělají h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0" r="2225" b="0"/>
          <a:stretch/>
        </p:blipFill>
        <p:spPr>
          <a:xfrm>
            <a:off x="1066680" y="1066680"/>
            <a:ext cx="63025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áření obrazu při MRI a 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82480" y="515772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s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rbitální a magnetický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4400" y="2514600"/>
            <a:ext cx="2133720" cy="2224080"/>
            <a:chOff x="914400" y="2514600"/>
            <a:chExt cx="2133720" cy="2224080"/>
          </a:xfrm>
        </p:grpSpPr>
        <p:sp>
          <p:nvSpPr>
            <p:cNvPr id="48" name=""/>
            <p:cNvSpPr/>
            <p:nvPr/>
          </p:nvSpPr>
          <p:spPr>
            <a:xfrm>
              <a:off x="1067040" y="335268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057400" y="25146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447560" y="3809880"/>
              <a:ext cx="6094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4240" y="419076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905120" y="4419360"/>
            <a:ext cx="217440" cy="3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4419360"/>
                      <a:ext cx="21744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33720" y="2971800"/>
            <a:ext cx="217440" cy="30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971800"/>
                      <a:ext cx="2174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600200" y="3657600"/>
            <a:ext cx="182520" cy="25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3657600"/>
                      <a:ext cx="1825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914400" y="4343400"/>
            <a:ext cx="514440" cy="24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14400" y="4343400"/>
                      <a:ext cx="51444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1371600" y="4114800"/>
              <a:ext cx="184320" cy="1839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98440" y="1420920"/>
            <a:ext cx="371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ástice o hmotnost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 nábo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kruhové trajektorii poloměr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oment hybno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58800" y="1447920"/>
            <a:ext cx="327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udová smyčka poloměr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proudem  velikost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agnetický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5029200"/>
          <a:ext cx="228420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029200"/>
                    <a:ext cx="22842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10080" y="4876920"/>
          <a:ext cx="3368880" cy="14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4876920"/>
                    <a:ext cx="33688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5486400" y="2590920"/>
            <a:ext cx="1981080" cy="2103480"/>
            <a:chOff x="5486400" y="2590920"/>
            <a:chExt cx="1981080" cy="2103480"/>
          </a:xfrm>
        </p:grpSpPr>
        <p:sp>
          <p:nvSpPr>
            <p:cNvPr id="68" name=""/>
            <p:cNvSpPr/>
            <p:nvPr/>
          </p:nvSpPr>
          <p:spPr>
            <a:xfrm>
              <a:off x="5486400" y="342900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00800" y="43434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477120" y="25909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6553080" y="2895480"/>
            <a:ext cx="217440" cy="308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53080" y="2895480"/>
                      <a:ext cx="21744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938920" y="4386240"/>
            <a:ext cx="193680" cy="308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38920" y="4386240"/>
                      <a:ext cx="19368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 flipH="1">
              <a:off x="5714640" y="388620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5781600" y="3699000"/>
            <a:ext cx="354240" cy="320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81600" y="3699000"/>
                      <a:ext cx="3542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6694560" y="3760920"/>
            <a:ext cx="216000" cy="252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94560" y="3760920"/>
                      <a:ext cx="21600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" name=""/>
          <p:cNvGraphicFramePr/>
          <p:nvPr/>
        </p:nvGraphicFramePr>
        <p:xfrm>
          <a:off x="3352680" y="4191120"/>
          <a:ext cx="1222560" cy="71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4191120"/>
                    <a:ext cx="1222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3600000">
            <a:off x="2971440" y="480024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000000">
            <a:off x="4496040" y="4723920"/>
            <a:ext cx="609480" cy="761760"/>
          </a:xfrm>
          <a:prstGeom prst="upArrow">
            <a:avLst>
              <a:gd name="adj1" fmla="val 50000"/>
              <a:gd name="adj2" fmla="val 312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95480" y="6019920"/>
          <a:ext cx="2183040" cy="39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95480" y="6019920"/>
                    <a:ext cx="2183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4300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e druhé impulsové věty je časová změna momentu hybnosti rovna momentu působící síly. V případě magnetického momentu v homogenním magnetickém poli ve směru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09880"/>
            <a:ext cx="8131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armorovu frekvenci jsme označili jak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Vektor momentu hybnosti rozložíme do složky rovnoběžné s vektorem indukce magnetického pole a složek kolm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84320" y="2332080"/>
          <a:ext cx="567684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332080"/>
                    <a:ext cx="567684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523880" y="5181480"/>
          <a:ext cx="51498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181480"/>
                    <a:ext cx="51498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4300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epsáním do složek dostáváme tři rovn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666880"/>
            <a:ext cx="8131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třetí z rovnic je složka vektoru momentu hybnost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vnoběžná s  magnetickým polem konstantní. Také velikost vektoru momentu hybnost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konstantní – to vidíme hned, vynásobíme-li první rovnic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ruho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řet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vzniklé rovnice seč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676520"/>
          <a:ext cx="70153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015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31920" y="4664160"/>
          <a:ext cx="643896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4664160"/>
                    <a:ext cx="643896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prvních dvou rovnic si vzpomeneme na vztahy pro goniometrické funk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74320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ledné vztahy pro složky momentu hybnosti jsou t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69134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913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62120" y="3276720"/>
          <a:ext cx="406872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40687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510552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ktor momentu hybnosti vykonává precesní pohyb s Larmorovou frekvencí – tvoří površky kužele s osou danou magnetickým po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00800" y="3352680"/>
            <a:ext cx="2529000" cy="2898360"/>
            <a:chOff x="6400800" y="3352680"/>
            <a:chExt cx="2529000" cy="2898360"/>
          </a:xfrm>
        </p:grpSpPr>
        <p:sp>
          <p:nvSpPr>
            <p:cNvPr id="109" name=""/>
            <p:cNvSpPr/>
            <p:nvPr/>
          </p:nvSpPr>
          <p:spPr>
            <a:xfrm>
              <a:off x="6705720" y="57913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67480" y="33526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3809880"/>
              <a:ext cx="19051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7120" y="5105520"/>
              <a:ext cx="190476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91520" y="35049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91520" y="4114800"/>
              <a:ext cx="914400" cy="1295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400800" y="411480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391520" y="411480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391520" y="4114800"/>
              <a:ext cx="91440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391520" y="533376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009920" y="54100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920" y="3809880"/>
              <a:ext cx="152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10480" y="525780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7924680" y="4648320"/>
            <a:ext cx="239760" cy="341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648320"/>
                      <a:ext cx="23976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7086600" y="4495680"/>
            <a:ext cx="274680" cy="389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6600" y="4495680"/>
                      <a:ext cx="27468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 já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112920" y="3054240"/>
          <a:ext cx="126684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2920" y="3054240"/>
                    <a:ext cx="12668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9520" y="128736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dro je složeno z nukleonů (protonů a neutronů). Každý nukleon má vlastní moment hybnosti –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vektor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pi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Velikosti vektoru spinu měřené v jednotkách Planckovy konstant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říkáme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pi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pro nukleony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038480"/>
            <a:ext cx="813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y nukleonů se vektorově sčítají, takže se při počtu protonů 2, 8, 20, 28, 50, 82 a 126 spiny vyruší, totéž platí pro neutrony. Je to podobné existenci uzavřených slupek u elektronů v atomu. Pro jádra izotopů nejlehčích prvků je předpověď spinu jádra snad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 jader s malým počtem nukle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1306440"/>
            <a:ext cx="6653160" cy="4484880"/>
            <a:chOff x="685800" y="1306440"/>
            <a:chExt cx="6653160" cy="4484880"/>
          </a:xfrm>
        </p:grpSpPr>
        <p:graphicFrame>
          <p:nvGraphicFramePr>
            <p:cNvPr id="133" name=""/>
            <p:cNvGraphicFramePr/>
            <p:nvPr/>
          </p:nvGraphicFramePr>
          <p:xfrm>
            <a:off x="790560" y="1371600"/>
            <a:ext cx="318960" cy="3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0560" y="1371600"/>
                      <a:ext cx="318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4267080" y="1523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2209680"/>
              <a:ext cx="152640" cy="1526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29718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762120" y="2133720"/>
            <a:ext cx="376200" cy="37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133720"/>
                      <a:ext cx="3762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762120" y="2819520"/>
            <a:ext cx="398520" cy="3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2819520"/>
                      <a:ext cx="3985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762120" y="3505320"/>
            <a:ext cx="398520" cy="37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3505320"/>
                      <a:ext cx="3985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685800" y="4419720"/>
            <a:ext cx="534960" cy="37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" y="4419720"/>
                      <a:ext cx="534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685800" y="5410080"/>
            <a:ext cx="534960" cy="376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5410080"/>
                      <a:ext cx="534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4267080" y="2971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2480" y="3581280"/>
              <a:ext cx="152640" cy="1526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35812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3581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2480" y="45720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44956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54864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8800" y="2057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8288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82880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82880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8288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343400" y="1371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3434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34340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41972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860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8600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0292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6616800" y="1306440"/>
            <a:ext cx="650880" cy="66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16800" y="1306440"/>
                      <a:ext cx="6508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6611760" y="2133720"/>
            <a:ext cx="650880" cy="66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11760" y="2133720"/>
                      <a:ext cx="6508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6645240" y="2995560"/>
            <a:ext cx="582480" cy="30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45240" y="2995560"/>
                      <a:ext cx="58248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6689880" y="3429000"/>
            <a:ext cx="649080" cy="660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89880" y="3429000"/>
                      <a:ext cx="6490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6689880" y="4343400"/>
            <a:ext cx="649080" cy="660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89880" y="4343400"/>
                      <a:ext cx="6490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6716880" y="5357880"/>
            <a:ext cx="591840" cy="307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16880" y="5357880"/>
                      <a:ext cx="5918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y a výskyt jader pro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3880" y="1397160"/>
          <a:ext cx="6096240" cy="4657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14300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v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ky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%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h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s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d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s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s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Musilova</cp:lastModifiedBy>
  <dcterms:modified xsi:type="dcterms:W3CDTF">2008-12-02T12:31:04Z</dcterms:modified>
  <cp:revision>291</cp:revision>
  <dc:subject/>
  <dc:title>Radiologická fyzika</dc:title>
</cp:coreProperties>
</file>