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26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BB5-C8F5-4D18-B771-184D0AE3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A50-14FF-4B73-94F1-149E7DFF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320-645F-4BD6-BD61-8CD1443F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545-24AA-4F8A-A482-B7E60F14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D11-EB3B-4C2D-BE96-BD056E22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BCE-88F0-4FCB-BB5E-C43F670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5C2-D42C-488F-A7A4-0E48BF6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FB4-D6B0-445C-814C-C5BCFFC8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C15-A9C6-4ACC-B7FB-F501B30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37E-870E-475B-BEFC-46DE5C3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254-BE54-43E1-94CC-BDDE40C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8A4-BC95-49E1-89E0-A11DFB4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E8E-7D3A-4755-89BC-1C83F3D2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genov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zář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9440" y="515772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osm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Schema přechodu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99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Mo –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99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2280" y="1447920"/>
            <a:ext cx="8686800" cy="5123160"/>
            <a:chOff x="152280" y="1447920"/>
            <a:chExt cx="8686800" cy="5123160"/>
          </a:xfrm>
        </p:grpSpPr>
        <p:grpSp>
          <p:nvGrpSpPr>
            <p:cNvPr id="203" name=""/>
            <p:cNvGrpSpPr/>
            <p:nvPr/>
          </p:nvGrpSpPr>
          <p:grpSpPr>
            <a:xfrm>
              <a:off x="152280" y="1447920"/>
              <a:ext cx="8686800" cy="4117320"/>
              <a:chOff x="152280" y="1447920"/>
              <a:chExt cx="8686800" cy="4117320"/>
            </a:xfrm>
          </p:grpSpPr>
          <p:sp>
            <p:nvSpPr>
              <p:cNvPr id="204" name=""/>
              <p:cNvSpPr/>
              <p:nvPr/>
            </p:nvSpPr>
            <p:spPr>
              <a:xfrm>
                <a:off x="5410080" y="1981080"/>
                <a:ext cx="1295640" cy="3276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19720" y="23623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19720" y="27432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19720" y="35053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3400" y="50292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7280" y="2362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7280" y="2362320"/>
                <a:ext cx="0" cy="22860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1480" y="4267080"/>
                <a:ext cx="0" cy="762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72200" y="4648320"/>
                <a:ext cx="0" cy="380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24280" y="2362320"/>
                <a:ext cx="0" cy="1143000"/>
              </a:xfrm>
              <a:prstGeom prst="line">
                <a:avLst/>
              </a:prstGeom>
              <a:ln w="38160">
                <a:solidFill>
                  <a:srgbClr val="669900"/>
                </a:solidFill>
                <a:prstDash val="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29200" y="2362320"/>
                <a:ext cx="0" cy="380880"/>
              </a:xfrm>
              <a:prstGeom prst="line">
                <a:avLst/>
              </a:prstGeom>
              <a:ln w="38160">
                <a:solidFill>
                  <a:srgbClr val="6699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76920" y="4267080"/>
                <a:ext cx="0" cy="762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16" name=""/>
              <p:cNvGraphicFramePr/>
              <p:nvPr/>
            </p:nvGraphicFramePr>
            <p:xfrm>
              <a:off x="8153280" y="2133720"/>
              <a:ext cx="685800" cy="419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153280" y="2133720"/>
                        <a:ext cx="68580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8" name=""/>
              <p:cNvGraphicFramePr/>
              <p:nvPr/>
            </p:nvGraphicFramePr>
            <p:xfrm>
              <a:off x="8229600" y="4952880"/>
              <a:ext cx="584280" cy="41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9600" y="4952880"/>
                        <a:ext cx="584280" cy="41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0" name=""/>
              <p:cNvSpPr/>
              <p:nvPr/>
            </p:nvSpPr>
            <p:spPr>
              <a:xfrm flipV="1">
                <a:off x="2895480" y="1980720"/>
                <a:ext cx="0" cy="30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66880" y="502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6880" y="3505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66880" y="2743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66880" y="2362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11120" y="1447920"/>
                <a:ext cx="11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ke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8320" y="2057400"/>
                <a:ext cx="101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57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800" y="2514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20,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54280" y="327672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9,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59200" y="4800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24280" y="3809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6640" y="457200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1000" y="380988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3" name=""/>
              <p:cNvGraphicFramePr/>
              <p:nvPr/>
            </p:nvGraphicFramePr>
            <p:xfrm>
              <a:off x="5943600" y="3657600"/>
              <a:ext cx="533520" cy="38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3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43600" y="3657600"/>
                        <a:ext cx="5335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"/>
              <p:cNvGraphicFramePr/>
              <p:nvPr/>
            </p:nvGraphicFramePr>
            <p:xfrm>
              <a:off x="4114800" y="2819520"/>
              <a:ext cx="533520" cy="380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114800" y="2819520"/>
                        <a:ext cx="5335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7" name=""/>
              <p:cNvSpPr/>
              <p:nvPr/>
            </p:nvSpPr>
            <p:spPr>
              <a:xfrm>
                <a:off x="685800" y="220968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0880" y="24382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0880" y="2819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7200" y="3581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3520" y="502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0160" y="1488960"/>
                <a:ext cx="57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2280" y="19810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2280" y="51055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"/>
              <p:cNvGraphicFramePr/>
              <p:nvPr/>
            </p:nvGraphicFramePr>
            <p:xfrm>
              <a:off x="8077320" y="4419720"/>
              <a:ext cx="749160" cy="419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077320" y="4419720"/>
                        <a:ext cx="74916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7" name=""/>
              <p:cNvSpPr/>
              <p:nvPr/>
            </p:nvSpPr>
            <p:spPr>
              <a:xfrm>
                <a:off x="533520" y="4648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4648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19720" y="464832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4280" y="434340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42,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6920" y="3505320"/>
                <a:ext cx="0" cy="380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81480" y="2743200"/>
                <a:ext cx="0" cy="1143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2280" y="243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280" y="32004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/2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2280" y="426708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6" name=""/>
              <p:cNvGraphicFramePr/>
              <p:nvPr/>
            </p:nvGraphicFramePr>
            <p:xfrm>
              <a:off x="5181480" y="2362320"/>
              <a:ext cx="533520" cy="3808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181480" y="2362320"/>
                        <a:ext cx="5335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58" name=""/>
            <p:cNvSpPr/>
            <p:nvPr/>
          </p:nvSpPr>
          <p:spPr>
            <a:xfrm>
              <a:off x="1981080" y="6019920"/>
              <a:ext cx="762120" cy="0"/>
            </a:xfrm>
            <a:prstGeom prst="line">
              <a:avLst/>
            </a:prstGeom>
            <a:ln w="38160">
              <a:solidFill>
                <a:srgbClr val="66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57400" y="6324480"/>
              <a:ext cx="685800" cy="0"/>
            </a:xfrm>
            <a:prstGeom prst="line">
              <a:avLst/>
            </a:prstGeom>
            <a:ln w="38160">
              <a:solidFill>
                <a:srgbClr val="6699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400" y="5638680"/>
              <a:ext cx="685800" cy="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5410080"/>
              <a:ext cx="83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2,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5480" y="5791320"/>
              <a:ext cx="83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6,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61722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,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410000" y="5486400"/>
            <a:ext cx="3886200" cy="909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10000" y="5486400"/>
                      <a:ext cx="3886200" cy="9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ositronová e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2280" y="1371600"/>
            <a:ext cx="8763120" cy="5100480"/>
            <a:chOff x="152280" y="1371600"/>
            <a:chExt cx="8763120" cy="5100480"/>
          </a:xfrm>
        </p:grpSpPr>
        <p:sp>
          <p:nvSpPr>
            <p:cNvPr id="268" name=""/>
            <p:cNvSpPr/>
            <p:nvPr/>
          </p:nvSpPr>
          <p:spPr>
            <a:xfrm>
              <a:off x="5943600" y="1981080"/>
              <a:ext cx="6858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95480" y="1981080"/>
              <a:ext cx="6858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23623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0920" y="5029200"/>
              <a:ext cx="419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2362320"/>
              <a:ext cx="0" cy="26668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936800" y="2057400"/>
            <a:ext cx="4698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6800" y="2057400"/>
                      <a:ext cx="469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886040" y="4800600"/>
            <a:ext cx="46980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86040" y="4800600"/>
                      <a:ext cx="469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4116240" y="137160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k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8" name=""/>
            <p:cNvGraphicFramePr/>
            <p:nvPr/>
          </p:nvGraphicFramePr>
          <p:xfrm>
            <a:off x="2057400" y="3200400"/>
            <a:ext cx="6858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3200400"/>
                      <a:ext cx="685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0" name=""/>
            <p:cNvGrpSpPr/>
            <p:nvPr/>
          </p:nvGrpSpPr>
          <p:grpSpPr>
            <a:xfrm>
              <a:off x="152280" y="1488960"/>
              <a:ext cx="990720" cy="4076280"/>
              <a:chOff x="152280" y="1488960"/>
              <a:chExt cx="990720" cy="407628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220968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3520" y="2438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3520" y="502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0160" y="1488960"/>
                <a:ext cx="57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2280" y="198108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2280" y="51055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87" name=""/>
            <p:cNvGraphicFramePr/>
            <p:nvPr/>
          </p:nvGraphicFramePr>
          <p:xfrm>
            <a:off x="6997680" y="4800600"/>
            <a:ext cx="469800" cy="41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97680" y="4800600"/>
                      <a:ext cx="469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914400" y="5562720"/>
            <a:ext cx="3656160" cy="90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14400" y="5562720"/>
                      <a:ext cx="365616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6095880" y="3505320"/>
              <a:ext cx="0" cy="15238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520" y="350532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876920" y="205704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11680" y="19810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754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888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11680" y="31240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55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7" name=""/>
            <p:cNvGraphicFramePr/>
            <p:nvPr/>
          </p:nvGraphicFramePr>
          <p:xfrm>
            <a:off x="6940440" y="2133720"/>
            <a:ext cx="43200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40440" y="2133720"/>
                      <a:ext cx="432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83818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9600" y="3505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9600" y="5064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6240" y="152388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732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7732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5" name=""/>
            <p:cNvGraphicFramePr/>
            <p:nvPr/>
          </p:nvGraphicFramePr>
          <p:xfrm>
            <a:off x="6781680" y="4038480"/>
            <a:ext cx="685800" cy="419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81680" y="4038480"/>
                      <a:ext cx="6858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5003640" y="5562720"/>
            <a:ext cx="3402000" cy="909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03640" y="5562720"/>
                      <a:ext cx="340200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 nabité částic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880" y="1260360"/>
            <a:ext cx="63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ástice hmot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 náboj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yzařuje 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1752480"/>
          <a:ext cx="55483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55483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49280" y="312408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omto vztahu vystupuje hybnost, energie a Lorentzův f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14400" y="3581280"/>
          <a:ext cx="650556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581280"/>
                    <a:ext cx="65055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44600" y="480060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částici na kruhové trajektorii v magnetickém poli induk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897200" y="5334120"/>
          <a:ext cx="499572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7200" y="5334120"/>
                    <a:ext cx="49957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 nabité částic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rychlosti částice blízké rychlosti světla má záření výkon přibližně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 soustředěno dopředu do malého kužele s vrcholovým úh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rekvencí s maximem ko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844560" y="2362320"/>
          <a:ext cx="69055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362320"/>
                    <a:ext cx="69055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066680" y="350532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2987640" cy="29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6781680" y="3809880"/>
          <a:ext cx="139392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809880"/>
                    <a:ext cx="1393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76120" y="3657600"/>
          <a:ext cx="145260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120" y="3657600"/>
                    <a:ext cx="1452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 nabité částic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rychlosti částice blízké rychlosti světla má záření výkon přibližně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 soustředěno dopředu do malého kužele s vrcholovým úh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rekvencí s maximem ko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844560" y="2362320"/>
          <a:ext cx="69055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362320"/>
                    <a:ext cx="69055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1066680" y="350532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2987640" cy="29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6781680" y="3809880"/>
          <a:ext cx="139392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809880"/>
                    <a:ext cx="1393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76120" y="3657600"/>
          <a:ext cx="145260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120" y="3657600"/>
                    <a:ext cx="1452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sorpce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2280" y="1752480"/>
            <a:ext cx="2971800" cy="3837240"/>
            <a:chOff x="152280" y="1752480"/>
            <a:chExt cx="2971800" cy="3837240"/>
          </a:xfrm>
        </p:grpSpPr>
        <p:sp>
          <p:nvSpPr>
            <p:cNvPr id="341" name=""/>
            <p:cNvSpPr/>
            <p:nvPr/>
          </p:nvSpPr>
          <p:spPr>
            <a:xfrm>
              <a:off x="1128600" y="1752480"/>
              <a:ext cx="1727280" cy="381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76440" y="1773360"/>
              <a:ext cx="144360" cy="3816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80" y="38862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9360" y="3860640"/>
              <a:ext cx="129708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87360" y="285264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720800" y="285264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93160" y="23493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71360" y="3860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 +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64960" y="3351240"/>
              <a:ext cx="14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      I + </a:t>
              </a:r>
              <a:r>
                <a:rPr b="0" lang="el-GR" sz="2400" spc="-1" strike="noStrike">
                  <a:solidFill>
                    <a:srgbClr val="000000"/>
                  </a:solidFill>
                  <a:latin typeface="Verdana"/>
                </a:rPr>
                <a:t>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0800" y="386064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1" name=""/>
          <p:cNvGraphicFramePr/>
          <p:nvPr/>
        </p:nvGraphicFramePr>
        <p:xfrm>
          <a:off x="3276720" y="1523880"/>
          <a:ext cx="47797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23880"/>
                    <a:ext cx="4779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352680" y="2971800"/>
            <a:ext cx="5639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olotloušťka 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je lineární koeficient útlumu. Zavádějí se také hmotový a atomový koeficient út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38480" y="4267080"/>
          <a:ext cx="3559320" cy="9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267080"/>
                    <a:ext cx="3559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450240" y="5257800"/>
            <a:ext cx="5524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hustota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mo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molární hmotnost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ogadrova kons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alší koeficienty útlu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14300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ton předává energii nabitým částicím látky (elektronům, případně dvojici elektron – positron). Energie těchto částic je absorbována látkou nebo v části opět vyzářena. Zavedeme pro charakteristiku těchto jevů koeficient energiového útlumu a koeficient energiové absor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362320" y="3124080"/>
          <a:ext cx="36687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36687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80880" y="4038480"/>
            <a:ext cx="8229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ůměrná hodnota energie předaná fotonem nabitým částicím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ůměrná energie, kterou uloží tyto částice v látce. S definicí koeficientu zpětného vyzářen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112840" y="5392800"/>
          <a:ext cx="41688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2840" y="5392800"/>
                    <a:ext cx="41688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ožné interakce fotonů s lát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0020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Fotoelektrický j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Rayleigho rozpty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Comptonův j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Vytváření párů elektron - positr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toelektrický j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7920" y="1447920"/>
          <a:ext cx="6095880" cy="4317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ým ato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iz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/(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cké rtg zář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bo Augerův elek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0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ayleigho rozptyl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447920" y="1447920"/>
          <a:ext cx="6095880" cy="3952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n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elektronem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to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týlí 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/(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ád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ádn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0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lektromagnetick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371600"/>
          <a:ext cx="8686800" cy="4657680"/>
        </p:xfrm>
        <a:graphic>
          <a:graphicData uri="http://schemas.openxmlformats.org/drawingml/2006/table">
            <a:tbl>
              <a:tblPr/>
              <a:tblGrid>
                <a:gridCol w="2658960"/>
                <a:gridCol w="2903760"/>
                <a:gridCol w="312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 zář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nová délk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m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e foton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eV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tgen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fia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itel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4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5 – 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červe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8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rovln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– 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2,5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diové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Comptonův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j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447920" y="1447920"/>
          <a:ext cx="6095880" cy="3952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ný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lektr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týlí 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rostoucí energií kles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tonův elek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ní část roste s energi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ádn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eV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 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ytváření párů elektron - posit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447920" y="1447920"/>
          <a:ext cx="6095880" cy="3952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lombovým polem já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iz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rostoucí energií ro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ár elektron - posi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2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hilační zář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taily k fotoelektrick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 jevu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7527" t="7191" r="7527" b="0"/>
          <a:stretch/>
        </p:blipFill>
        <p:spPr>
          <a:xfrm>
            <a:off x="228600" y="1676520"/>
            <a:ext cx="5035680" cy="4317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257800" y="1981080"/>
            <a:ext cx="35812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luorescenční výtěžek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K(L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dává podíl pravděpodobností emise fotonu a Augerova elektronů při zaplnění dané volné hladiny. Zlome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ak určuje podíl dané hladiny na všech fotoelektrických jeve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i fotonu 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tší než vazebná energie na K – hladině, tj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taily k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Comptonovu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jevu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0" t="5766" r="3831" b="0"/>
          <a:stretch/>
        </p:blipFill>
        <p:spPr>
          <a:xfrm>
            <a:off x="228600" y="1143000"/>
            <a:ext cx="75484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ominance jednotlivých jev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4715" r="3604" b="943"/>
          <a:stretch/>
        </p:blipFill>
        <p:spPr>
          <a:xfrm>
            <a:off x="457200" y="1143000"/>
            <a:ext cx="7370640" cy="5513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743200" y="4800600"/>
            <a:ext cx="3352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řehled vztah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828800" y="1676520"/>
          <a:ext cx="416736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41673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905120" y="4343400"/>
          <a:ext cx="32716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343400"/>
                    <a:ext cx="32716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886680" y="11844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neární koeficient útlumu a koeficient energiové absor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8000" y="350532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ní hodnota předané energie pro fotoelektrický jev a tvor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árů elektron - posi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5760" y="5562720"/>
            <a:ext cx="80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dní hodnota předané energie pro Comptonův jev nezávisí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átce, její hodnotu můžeme odečíst z  universálního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derná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1960" y="515772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dev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iditelné svět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0040" y="1295280"/>
            <a:ext cx="8681400" cy="4041360"/>
            <a:chOff x="230040" y="1295280"/>
            <a:chExt cx="8681400" cy="4041360"/>
          </a:xfrm>
        </p:grpSpPr>
        <p:sp>
          <p:nvSpPr>
            <p:cNvPr id="48" name=""/>
            <p:cNvSpPr/>
            <p:nvPr/>
          </p:nvSpPr>
          <p:spPr>
            <a:xfrm>
              <a:off x="19810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42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100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58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2480" y="2209680"/>
              <a:ext cx="304920" cy="228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0680" y="1447920"/>
              <a:ext cx="64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560" y="1447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5200" y="1447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6800" y="1447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6200" y="2209680"/>
              <a:ext cx="99072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2209680"/>
              <a:ext cx="457200" cy="228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2209680"/>
              <a:ext cx="457200" cy="228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2209680"/>
              <a:ext cx="91440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209680"/>
              <a:ext cx="457200" cy="2286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34120" y="2209680"/>
              <a:ext cx="60948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2209680"/>
              <a:ext cx="457200" cy="228600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2209680"/>
              <a:ext cx="548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7920" y="4495680"/>
              <a:ext cx="563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26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384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9728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7480" y="47242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908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4880" y="47242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23400" y="1946160"/>
              <a:ext cx="99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n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6280" y="426708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[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62560" y="129528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lnová dél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67480" y="48769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0040" y="2895480"/>
              <a:ext cx="13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000000"/>
                  </a:solidFill>
                  <a:latin typeface="Times New Roman"/>
                </a:rPr>
                <a:t>infračerva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000000"/>
                  </a:solidFill>
                  <a:latin typeface="Times New Roman"/>
                </a:rPr>
                <a:t>zář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9760" y="29718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ultrafialov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zář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elium – neonový l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55760" y="62895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 Ne     He  Ne       He  Ne      He  Ne          He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6000" y="990720"/>
            <a:ext cx="8630640" cy="5321160"/>
            <a:chOff x="306000" y="990720"/>
            <a:chExt cx="8630640" cy="5321160"/>
          </a:xfrm>
        </p:grpSpPr>
        <p:sp>
          <p:nvSpPr>
            <p:cNvPr id="91" name=""/>
            <p:cNvSpPr/>
            <p:nvPr/>
          </p:nvSpPr>
          <p:spPr>
            <a:xfrm>
              <a:off x="5638680" y="2057400"/>
              <a:ext cx="1067040" cy="1066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143000" y="1523880"/>
              <a:ext cx="0" cy="464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512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4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100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438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0720" y="220968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228600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281952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61722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6095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209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2680" y="6095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21337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2743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6095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95480" y="2361960"/>
              <a:ext cx="0" cy="38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209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1952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080" y="228600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00600" y="228564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200" y="990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6000" y="1905120"/>
              <a:ext cx="6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,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,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6000" y="2666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,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4960" y="594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1066680"/>
              <a:ext cx="579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ážka e – He   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ážka He – Ne     světlo laseru       měkké rt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=632,5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153280" y="2285640"/>
              <a:ext cx="304920" cy="10666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8457840" y="2819160"/>
              <a:ext cx="304920" cy="533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61120" y="3443400"/>
              <a:ext cx="875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imes New Roman"/>
                </a:rPr>
                <a:t>dlouh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krátk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živo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tgenov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562720"/>
            <a:ext cx="68738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vislost intenzity rentgenového záření na vlnové délce při dopadu elektronů s kinetickou energii </a:t>
            </a:r>
            <a:r>
              <a:rPr b="0" i="1" lang="cs-CZ" sz="2400" spc="-1" strike="noStrike">
                <a:solidFill>
                  <a:srgbClr val="000000"/>
                </a:solidFill>
                <a:latin typeface="MTMI~2d"/>
              </a:rPr>
              <a:t>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orontoPlain"/>
              </a:rPr>
              <a:t>k,0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 keV na molybdenový ter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2034" r="0" b="0"/>
          <a:stretch/>
        </p:blipFill>
        <p:spPr>
          <a:xfrm>
            <a:off x="1371600" y="914400"/>
            <a:ext cx="559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8006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Kratší vlnové délky, než je hodnota 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orontoPlain~2a"/>
              </a:rPr>
              <a:t>min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, nejsou ve spojitém spektru zastoupeny. Hodnota 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orontoPlain~2a"/>
              </a:rPr>
              <a:t>min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 odpovídá jediné srážce elektronu s atomem terče, při které elektron ztratí </a:t>
            </a:r>
            <a:r>
              <a:rPr b="0" lang="cs-CZ" sz="2400" spc="-1" strike="noStrike">
                <a:solidFill>
                  <a:srgbClr val="000000"/>
                </a:solidFill>
                <a:latin typeface="TorontoItalic"/>
              </a:rPr>
              <a:t>veškerou</a:t>
            </a:r>
            <a:r>
              <a:rPr b="0" i="1" lang="cs-CZ" sz="2400" spc="-1" strike="noStrike">
                <a:solidFill>
                  <a:srgbClr val="000000"/>
                </a:solidFill>
                <a:latin typeface="TorontoItalic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svou počáteční kinetickou energii </a:t>
            </a:r>
            <a:r>
              <a:rPr b="0" i="1" lang="cs-CZ" sz="2400" spc="-1" strike="noStrike">
                <a:solidFill>
                  <a:srgbClr val="000000"/>
                </a:solidFill>
                <a:latin typeface="MTMI~2d"/>
              </a:rPr>
              <a:t>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orontoPlain"/>
              </a:rPr>
              <a:t>k,0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11769" r="8291" b="11769"/>
          <a:stretch/>
        </p:blipFill>
        <p:spPr>
          <a:xfrm>
            <a:off x="1447920" y="1295280"/>
            <a:ext cx="5575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arakteristick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2952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Zjednodušený diagram hladin energie atomu molybdenu znázorňuje přechody (děr, nikoli elektronů), odpovídající vzniku některé z charakteristických čar rentgenového spektra tohoto atomu. Každá z vodorovných čar odpovídá energii atomu s dírou (tj. scházejícím elektronem) v označené slup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16554" b="24078"/>
          <a:stretch/>
        </p:blipFill>
        <p:spPr>
          <a:xfrm>
            <a:off x="152280" y="990720"/>
            <a:ext cx="3538800" cy="55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191120" y="4724280"/>
          <a:ext cx="478620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724280"/>
                    <a:ext cx="47862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ukl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359480" cy="4925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1730520" cy="1857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67280" y="3352680"/>
            <a:ext cx="173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a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Schema přechodu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60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Co -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60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1447920"/>
            <a:ext cx="8699400" cy="5504400"/>
            <a:chOff x="228600" y="1447920"/>
            <a:chExt cx="8699400" cy="5504400"/>
          </a:xfrm>
        </p:grpSpPr>
        <p:sp>
          <p:nvSpPr>
            <p:cNvPr id="147" name=""/>
            <p:cNvSpPr/>
            <p:nvPr/>
          </p:nvSpPr>
          <p:spPr>
            <a:xfrm>
              <a:off x="5410080" y="1981080"/>
              <a:ext cx="129564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23623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27432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35053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50292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6728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2362320"/>
              <a:ext cx="0" cy="3808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2743200"/>
              <a:ext cx="0" cy="762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200" y="3505320"/>
              <a:ext cx="0" cy="1523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2362320"/>
              <a:ext cx="0" cy="1143000"/>
            </a:xfrm>
            <a:prstGeom prst="line">
              <a:avLst/>
            </a:prstGeom>
            <a:ln w="38160">
              <a:solidFill>
                <a:srgbClr val="66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2880" y="3505320"/>
              <a:ext cx="0" cy="1523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2743200"/>
              <a:ext cx="0" cy="228600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8305920" y="2133720"/>
            <a:ext cx="62208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05920" y="2133720"/>
                      <a:ext cx="6220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8255160" y="4724280"/>
            <a:ext cx="57132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55160" y="4724280"/>
                      <a:ext cx="57132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 flipV="1">
              <a:off x="2895480" y="198072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68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688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11120" y="144792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k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8320" y="205740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23,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2514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5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8320" y="3276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3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920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1200" y="373392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6800" y="289548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6800" y="396252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7840" y="403848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6095880" y="2362320"/>
            <a:ext cx="53352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362320"/>
                      <a:ext cx="533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4114800" y="2819520"/>
            <a:ext cx="533520" cy="380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4800" y="2819520"/>
                      <a:ext cx="533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53352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243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581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0160" y="148896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480" y="5791320"/>
              <a:ext cx="533520" cy="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80" y="6477120"/>
              <a:ext cx="533520" cy="0"/>
            </a:xfrm>
            <a:prstGeom prst="line">
              <a:avLst/>
            </a:prstGeom>
            <a:ln w="38160">
              <a:solidFill>
                <a:srgbClr val="66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0880" y="5562720"/>
              <a:ext cx="10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9,88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6880" y="579132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6880" y="647712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624852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,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4600" y="5562720"/>
              <a:ext cx="10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 99,9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1280" y="6248520"/>
              <a:ext cx="96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 0,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5013360" y="5943600"/>
            <a:ext cx="36543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3360" y="5943600"/>
                      <a:ext cx="36543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Michal Lenc</cp:lastModifiedBy>
  <dcterms:modified xsi:type="dcterms:W3CDTF">2008-11-23T21:41:23Z</dcterms:modified>
  <cp:revision>245</cp:revision>
  <dc:subject/>
  <dc:title>Radiologická fyzika</dc:title>
</cp:coreProperties>
</file>