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288-25BC-4F5E-A369-92113BD4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F9F-327B-4BC2-A10D-D31D913C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047-0037-4041-AB82-74C2F414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356-69F8-457A-813E-439CA793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00DD-BB6E-4A2F-B7C9-7B6F878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CA22-2883-4E97-B140-2AD164B7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E3DA-FDC9-4C0E-97E6-E297816F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556C-A8A0-49BA-B29A-6C86C614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5E0B-C5C8-4F8D-A6AE-C348159A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BF60-546B-4FD9-8511-0793E2F7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2C15-FFC3-4632-8188-F3CC9997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19C-942F-4A8E-97E7-FFB07099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B79C-5A92-42DC-8806-512440FF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A2BF-8B4A-4FB8-BC55-D66B0CE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C86B-6474-419E-8124-7F6C1C31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569E-0D67-4EA9-80E4-F347C246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B5F8-F71B-4DDE-B303-CFEB7388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050-5134-4DD7-A3F3-210E54C0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BB0-B61D-4771-9EFC-5BE3A811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63B-1F0F-4579-B6E8-D0A7012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616-82DE-452E-A951-75F79F42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680-C173-4D5D-961A-157E373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C18-3689-4CA9-B6F2-6DE8E32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F08-4DCF-4D8B-8F06-0CB4CA7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4AA1-CC8A-44B1-B65A-5A4C7189B009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4268-4E93-49E0-AECF-ADF9B22353A5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Právní odpovědnost ve zdravotnictví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4. přednáš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eské a evropské zdravotnické práv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014, Filip Křepel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Jednotlivé aspekty soukromoprávní odpovědnosti (nejen) ve zdravotnictví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1) Kdo nese odpovědnos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2) Za co se nese odpovědnos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3) Jaké je peněžní hodnocení (ocenění) odpovědnosti, to jest především částky přiznané jako odškodnění nebo zadostiučinění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4)  Ve prospěch koho je taková odpovědnost (pacient, pozůstalí)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5) Pojištění rizik, zejména odpovědnosti za újmu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ákladní odpovědnost poskytovate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ětšina zdravotní péče je poskytována týmem zdravotníků: lékaři a dalším zdravotnickým a jiným personále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ze ji  tak jen dílem personifikov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ěmto poměrům vhodně odpovídá česká úprava, která připisuje odpovědnost obecně poskytovatel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ím je obvykle právnická osoba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Které osoby? Lekce 6 ČEZ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dividuální odpovědnost nese v ČR jenom lékař - provozovatel individuální privátní zdravotní péč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Omezená odpovědnost zdravotníka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povědnost zdravotníků-zaměstnanců za škodu způsobenou je v ČR jenom druhotná, na základě pracovního práva (regr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ýjimka: exces. Co jím je ve zdravotnictví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é jsou možné další postihy dle pracovního práva: mzdový postih, přeřazení, výpověď, resp. okamžité ukončení pracovního poměr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 nedbalosti je omezena podle výše mzd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 se štěpí regresní odpovědnosti mezi zdravotníky s ohledem na jejich spoluzavinění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jišťování odpovědnosti lékařů a dalších zdravotníků je tedy počin jen omezeně potřebný (újma zaviněnou úmyslně se nepojistí, to je přece morální hazard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Jiná možná řešení odpovědnostních důsledků vztahu zaměstnavatele a zaměstnanců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zahraničí tomu bývá leckde jinak: za osobní pochybení nese odpovědnost lékař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e pak je nutné v případě nemocniční péče složitě personifikovat tuto plnou odpovědn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klady států, kde je ve větší míře než v ČR individuální odpovědnost lékařů – Německo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entuálně tuto odpovědnost může nést souběžně zdravotnické zařízení a jednotliví lékaři (USA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k vyvstává otázka, jestli je to společná (solidární) nebo dílčí odpovědn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2800" spc="-1" strike="noStrike">
                <a:solidFill>
                  <a:srgbClr val="ffffcc"/>
                </a:solidFill>
                <a:latin typeface="Tahoma"/>
              </a:rPr>
              <a:t>Odpovědnost za chování a za výsledek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udikatura odmítá odpovědnost za neúspěch léč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podobné řešení v Německu skrz povahu smlouvy o službě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Dienstvertrag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resp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Behandlungvertrag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ze to považovat za správné, vždyť to by nakonec každé úmrtí zakládalo odpovědn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o by bylo absurdní, ekonomicky zatěžující a psychologicky kontraproduktiv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nom pochybení, tj. zaviněné nedodržení postupů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lege artis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představuje předpoklad soukromoprávní odpovědnost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vláštní případy objektivní odpovědnosti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dle subjektivní odpovědnosti za pochybení existuje ještě objektivní odpovědnost poskytovatele za újmu způsobenou vadou věci použité při poskytování zdravotní péče (tj. léčiva, zdravotnického prostředku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škozený nemusí dokládat zavinění. Stačí příčinná souvislost mezi vadou a újmou. Je ale možná liberace (doložení nesouvislost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udikatura k OZ pojímala široce jako důsledek vlastnosti, škodlivé účinky, NOZ úmyslně zúži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tázka odpovědnosti za léčivo? Poskytla jako péči-zboží lékárna, lékař jen předeps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dpovědnost výrobců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je to propojené s odpovědností výrobce, popř. distributora za újmu způsobenou vadou výrobku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Česku byl zvláštní zákon (59/1998 Sb.) na základě nepříliš promyšlené transpozice práva EU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každém případě není důvod spotřebiteli odnímat také tuto ochranu, která je přinejmenším – ovšem v mezích legislativy, nikoli za špatné použití dobrého výrobku – souběžná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je to s regresem zdravotnického zařízení vůči výrobci nebo dodavateli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ze se ve skutečnosti regresního nároku domoci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Trendy odškodňování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raxe se posunula od socialisticky restriktivního pojetí k odpovídajícímu západnímu pojetí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dci opustili restrikci, snad kvůli zjevně neúnosně nízkým částkám tabulek.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Bylo to ale vzhledem ke zdlouhavosti vícestupňového soudního řízení nepřehledné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raxe odškodňování újmy způsobené ve zdravotnictví je zlomkem odškodňování újmy na zdraví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raxe se tvoří hlavně při odškodňování obětí autonehod, do zdravotnictví se přenáší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Dosavadní dvoukolejnost a nynější spojení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nkrétní česká právní úprava: pravidla příslušné části OZ, jež prošla určitou novelizací, vyhláška o bolestném (440/2001 Sb.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becná klausule o osobnostní újmě - § 11 OZ – postupně se začala vykládat jako souběžný důvod pro odškodňování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Z má dvojkolejnost odstran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alkulace újmy na zdraví (bolestné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Z odmítl legislativní, resp. legislativně exekutivní zakotvení sazebníku (tabulky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izovala se skupina pro vytvoření metodiky pro kalkulaci újmy na zdrav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ěření míry postižení z hlediska funkčnosti, nikoli újmy na jednotlivých orgánech podle mezinárodních metodik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novení částky 10 mil. Kč pro 100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áměr oslabit zvyšovací koeficien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á šanci se prosadit jako vodítko pro pojišťovny, úřad a soud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cc"/>
                </a:solidFill>
                <a:uFillTx/>
                <a:latin typeface="Tahoma"/>
              </a:rPr>
              <a:t>Předeslání k přednášce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éma by mělo kurs uzavírat po probrání primárních norem zdravotnického práva, neboť sankce jsou významné až při nedodržení dispoz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 konci semestru se ale nikdo nesoustřed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émate se zabývají desítky univerzitních učitelů a badatelů, je záležitostí stovek právníků v prax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dokáži zde aspirovat na ve všech aspektech zcela fundovaný pohled na vě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Způsob odškodně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moderním světě je vyrovnání újmy peněžní. Ve zboží nebo ve službách je výjimečné, zpravidla se vyžaduje souhlas odškodňovaného. Pro újmu způsobenou ve zdravotnictví by samozřejmě připadala v úvahu nápravná zdravotní péč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Česku se vzhledem k bezplatnosti financuje nápravná péče rovněž z veřejného zdravotního pojištění, aniž by se nutně dovozovala odpovědnost. Jinde to může být rovněž odpovědnostní záležit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řejné zdravotní pojišťovny však mají regresní nároky vůči těm, co újmu, jejíž léčení financovaly, zavinili či způsobil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řehled odškodňování pacien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datečně vzniklé náklady: zdravotní péče hrazená pacientem samotným či blízkými, nutné pomůcky, vybavení bytu ap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regresní cestou péče hrazená příslušné veřejné zdravotní pojišťovně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ekonomické škody: ušlý  příjem (ušlá mzda, ušlý zisk – nedostatek dat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bolestné: proměna kalkula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zv. ztížení společenského uplatnění by mělo být pokryto bolestný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Co se hradí u žijících poškozených a pozůstalým po zemřelé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 případě úmrtí tady nějaké blízké oprávněné máme. Tak dalece ještě individualizace nedoš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Z dokonce vymezuje jednoznačněji okruh dotčených pozůstalých a stanovil paušá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OZ zase otevírá prostor pro posouzení.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naložené náklady na léčení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živné pozůstalým odkázaným na výživu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Jednorázové odškodnění, rent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škodňování jednorázové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nta? Případná valorizace renty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tázka pravidelného či příležitostného přezkoumávání zdravotního stavu poškozenéh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eská praxe zatím příliš s rentou nepracuje, bylo by to žádoucí. Co NOZ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počtení veřejného invalidního důchodu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Vývoj v jiných zemích - US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ěňování advokátů podle výsledku (procenta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rovské náklady, dílem posun k faktické objektivní odpovědnosti za výsled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ndence k odstrašujícímu pojetí náhrad (punitive damages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A jako země práva bez silnější zásady přiměřenos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o zvyšuje náklady, v některých státech a odvětvích na pokraj kolaps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o legislativní omezování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non-economic damages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obdoba naší osobnostní újmy) některými státy. Čelí ovšem advokátské lobb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Vývoj v západní Evropě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rancie dílem kritický vývoj na základě nové legislativy.  Německo pošilhávající, ale zároveň ostražitě se ohlížející do US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ropské soudy ale nemají tendenci přiznávat horentní odškodné a více zkoumají zavině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užívání tabulek? V jednotlivých zemích velmi různé: státní či nestátní tabulk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načné rozdíly v přiznávání bolestného, nevysvětlitelné pouze odlišnou hospodářskou a sociální úrovní, ale také odlišnou politikou odškodňová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Pojištění odpovědnosti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ištění odpovědnosti za újmu: v ČR se nestátní poskytovatelé musejí pojišťovat na svou odpovědno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átním zdravotnickým zařízením to uložené není, dlouho se ani pojišťovat nemohly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sud právní rámec pojištění odpovědnosti – zvláštní zákon 37/2004 Sb o pojistné smlouvě a předpisy o pojišťovnictv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yní zpátky v NOZ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Jednotlivé aspekty pojištění odpovědnosti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ědnost je neomezená. Pojištění ovšem nemůže být neomezené, smlouvy tedy stanoví rozsah pojištění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ezpečné výluky nejen ve zdravotnictví (klausule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laims mad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výluky týkající se pochybení, výluky týkající se odpovědnosti jiných, výluky týkající se zlého úmyslu zaměstnanců, zcela nedostatečné pokrytí z hlediska rozsahu, přemrštěná spoluúčast apod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hodnost angažmá ČLK či asociací poskytovatelů, odborných společností při vyjednání smluv s pojišťovnam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cc"/>
                </a:solidFill>
                <a:uFillTx/>
                <a:latin typeface="Tahoma"/>
              </a:rPr>
              <a:t>Veřejnoprávní odpovědno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 ČR podobně jako leckde jinde správní, kárná (disciplinární) a trestní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povědnost za pochybení, obvykle za nedbalostní, nikoli objektivní odpovědn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latnění odpovědnosti má poskytovat společnosti ochranu, zadostiučinění a odrazovat od podobného počítání.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běžná soukromoprávní odpovědnost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právní odpovědnos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kutování a regulování včetně uzavírání jednotlivých poskytovatelů, neudělení, omezení či odnětí povolení a oprávněn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ýká se jednotlivých poskytovatelů zdravotní péče (tedy vesměs právnických osob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yní nový licenční režim dle ZZS (přednáška 6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nozí poskytovatelé jsou veřejní či těžko zastupitelná vede ke zdrženlivost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prvním případě je nicméně možný zásah vůči manažerům za selhá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cc"/>
                </a:solidFill>
                <a:uFillTx/>
                <a:latin typeface="Tahoma"/>
              </a:rPr>
              <a:t>Péče lege art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dravotní péče má být poskytována kvalitně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§ 28 (2) ZZS: „Pacient má právo na poskytování zdravotních služeb na náležité odborné úrovni.“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Co je kvalita v jednotlivých případech, ovšem neurčuje vesměs přímo právo. Není to prostě možné vzhledem k vývoji vědy a techniky medicín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roto existuje koncept zdravotnického zákroku či péče </a:t>
            </a: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lege artis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: odpovídající péče, tj. péče na úrovni doby (vzhledem k znalostem lékařské vědy) a místa a času.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éče, která je neodpovídající, je špatná, je to péče </a:t>
            </a: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non lege artis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, anglicky </a:t>
            </a: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malpractice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Finanční odpovědnost? </a:t>
            </a: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Dosud prakticky nevyužívá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tihování nekvalitní či protiprávní zdravotní péče může být postiženo kvazi-správně, prostřednictvím smluvní politiky veřejných zdravotních pojišťov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ůli jakým selháním a na základě jakého postupu smějí veřejné zdravotní pojišťovny vypovědět smlouvy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představitelné vracení úhrady v případě soudy či úřady konstatovaného pochybení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tím se neužívá, problémy se značnou prodlevou a opravnými prostředky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o veřejném financování přednáška 7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árná (disciplinární) odpovědno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vádí Česká lékařská komora a další profesní komory dle zákona 220/1991 S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sadní postih je zákaz výkonu povolání v podobě vyloučení rozhodnutím Čestné rady Komory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ze dokladovat rigoróznost,  adekvátní anebo falešnou profesní solidaritu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city veřejnosti totiž nemusejí být spravedlivé, řada stížností je nedůvodný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restní odpovědno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balostní ublížení na zdraví (se závažným následkem nebo následkem smrti) jako dlouhodobě uplatňovaný nástroj „prosazování“ dobré péč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č? Ex offo vyšetřování, nevyžaduje zásadní vlastní součinnost poškozeného, rychlejší průběh (než vleklé civilní spory), odstrašující účinky, větší zneuctění již v průběhu trestního řízen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ritika trestní repre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ik je ale vůbec odsouzených lékařů a dalších zdravotníků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olání po větším posunu k prosazování odpovědnosti soukromoprávní, jak je tomu ve vyspělejších zemí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tává se toto ale vítězstvím Pyrrhový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si ne, větší přísnost a částky se prosazují bez ohledu na trestní repre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cc"/>
                </a:solidFill>
                <a:uFillTx/>
                <a:latin typeface="Tahoma"/>
              </a:rPr>
              <a:t>Prev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naha o učinění péče bezpečnější řadou organizačních opatření nad rámec standardů lege artis (odborně náležité péče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samostatný byznys: správná zdravotnická praxe, systém kvality a bezpečnosti, certifikace (ISO)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 ČR existuje organizace zaměřující se na propagaci a kontrolu: Česká společnost pro kvalitu ve zdravotnictví (MUDr. Marx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mpulsem mohou být pojišťovny zajišťující pojištění odpovědnost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mpulsem by mohly být veřejné zdravotní pojišťovn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dy se standardy stávají povinné?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Příklady opatření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jednoznačná identifikace pacient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přesná identifikace částí těla k zákrok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bezpečné způsoby dávkování, přípravy a podávání léčiv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odpovídající komunikace mezi profesioná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únosná zátěž profesionálů a její sledování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standardy pro řešení mimořádných situací a jejich nacvičování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interní kontrolní mechanismy pro zabránění pochybení (kontrola operačního pole apod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řádná evidence při zákrocích apo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používání moderních technologií (nahrávání, filmování…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Role znalců při vymeze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Co je </a:t>
            </a:r>
            <a:r>
              <a:rPr b="0" i="1" lang="cs-CZ" sz="3100" spc="-1" strike="noStrike">
                <a:solidFill>
                  <a:srgbClr val="ffffff"/>
                </a:solidFill>
                <a:latin typeface="Tahoma"/>
              </a:rPr>
              <a:t>lege artis</a:t>
            </a: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 péče, to určují vesměs sami lékaři povolaní jako znalci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Existuje určitá standardizace profesními asociacemi a v souvislosti s výukou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Soudce nebo úředník to mnohdy může jen uznat nebo odmítnout a vysvětlit proč.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Právníci a veřejnost jsou tak zde do značné míry závislí na posudku lékařů (samozřejmě s výjimkou nejjasnějších pochybení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rávně neodpovídající péč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Takovou péčí může jí být nejen špatně provedený zdravotnický zákro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Ale především nečinnost a nekonání, když se konat mělo.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rávně problematická je ale též péče </a:t>
            </a:r>
            <a:r>
              <a:rPr b="0" i="1" lang="cs-CZ" sz="3000" spc="-1" strike="noStrike">
                <a:solidFill>
                  <a:srgbClr val="ffffff"/>
                </a:solidFill>
                <a:latin typeface="Tahoma"/>
              </a:rPr>
              <a:t>lege artis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 např. při právně významném nesouhlasu pacienta nebo při nedostatečném poučení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mezíme jen na zdravotníky v běžných situacích (tj. ve službě). Na jiné expertní a laickou první pomoc se následně popisovaný rámec uplatní omezeně, pokud vůbec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edbalost a úmys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chybení může být úmyslné (připomenout koncept úmyslu), je to však výjimečné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vyklé je pochybení nedbalostní (připomenout koncept nedbalost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dbalost se bude obvykle předpokládat, naopak výjimečný zlý úmysl je třeba doklád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nozí pacienti jsou však podezřívaví a lékařům a dalším zdravotníkům nekalý úmysl rádi připisuj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raždy „ze soucitu či „z moci“, poškozování pacientů na zdraví či úmyslně odepíraná péče se nicméně výjimečně také vyskytují vyskytují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Nedbalost a omyl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ěkteré právní řády výslovně a jiné podvědomě odlišují nedbalostní pochybení od tzv. běžného omylu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Běžný omyl má být nepostižitelný. Příznaky chorob bývají nezřetelné. Lékař není neomylný. Kvůli vzácnosti nelze očekávat jejich okamžitou identifikaci, neboť lékař nemá vždy potřebnou zkušenost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roto však existují lékařské specializace. Překročení kompetence se špatnými následky je též pochybení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Mezi omylem a pochybením je nezřetelná a v českém právu skoro nevytýčená hranice. Judikatu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Význam omezených možností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Lze vyvozovat důsledky z nemožnosti poskytnutí dokonalé péče kvůli finančním, personálním a materiálním mezím poskytování zdravotní péče?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Činí se tak velmi opatrně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Bezpochyby je to ale významné u první pomoci mimo zdravotnické zařízení či záchrannou službu. Zde jsou ale právě proto jiné standard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Je to však patrně příčinou určité zdrženlivosti při ukládání postihů stejně a přiznávání náhrad ve srovnaní s  případy srovnatelné újmy způsobené jind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znam soukromoprávní odpovědnosti ve zdravotnictví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Soukromoprávní odpovědnost ve zdravotnictví je velké téma v řadě zemí, zejména v USA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ačíná být také v ČR vzhledem k judikatuře nižších soudů, ty začínají přiznávat vysoké náhrady újmy. Otevírá NOZ ještě více prostor?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vyšování majetkové odpovědnosti zdravotníků či zdravotnických zařízení má však ekonomické (cena zdravotní péče), sociální (nedostupnost pro určité skupiny pacientů či na určitých místech), psychologické (defensivní medicína, alibismus) a nakonec politické důsledky (snaha zajistit ochranu zdravotnictví kvůli hospodářské udržitelnosti)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0:24:14Z</dcterms:created>
  <dc:creator>gcuu</dc:creator>
  <dc:description/>
  <dc:language>en-US</dc:language>
  <cp:lastModifiedBy>Filip Křepelka</cp:lastModifiedBy>
  <dcterms:modified xsi:type="dcterms:W3CDTF">2015-04-08T14:36:28Z</dcterms:modified>
  <cp:revision>92</cp:revision>
  <dc:subject/>
  <dc:title>Odpovědnost ve zdravotnictví</dc:title>
</cp:coreProperties>
</file>