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87D7-EFBE-4530-8648-7CCEEFD09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34A1-6AD3-4055-8066-20F6D14A9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5629-C060-4B80-82B5-2B819F9F1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F7F7-CE30-4B6A-9E88-0CD8FAEB5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C8058-0F21-46EC-879B-D959141B6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0C0BD-1E4F-476E-BC9A-0EC8A00F1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250D8-41D0-483D-89B6-E7F55AAD3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F7A92-20F1-42E0-A2CE-A695B575B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43C1D-C439-4E85-A115-39AC8B8CD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CB135-E2C9-4F92-85EC-D97D0629C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A4176-3D0A-4A00-BC5E-A01A434B3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2BF0-9E31-46C9-939A-126379BB2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49CC9-A789-4895-A27C-41D3D04DF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AA04B-C91F-45A4-B93C-5456F6C1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1CE33-D883-4186-AD55-E63F7113C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57100-6445-4D8B-AB26-5BEF0EE34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C2439-86BC-406D-81CD-195E28E28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76A0-D824-4270-A7BE-3FBFF9DF2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8C71-7600-4892-9701-B13A29BE5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FD28-E079-489E-927C-D14917B43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F5DF-0214-4E87-A3D6-041E45459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8BCD-F4C4-49C6-AA13-002D2114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5045-9894-4A0A-B942-4C8E31BD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22A0-5CEF-4138-8638-DC2C6AED5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2F416-39D6-4598-9B77-61493910A5C3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56430-9BBA-4C67-9012-E702649065AC}" type="slidenum">
              <a:rPr b="0" lang="cs-C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ffcc"/>
                </a:solidFill>
                <a:latin typeface="Tahoma"/>
              </a:rPr>
              <a:t>Právní odpovědnost ve zdravotnictví 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4. přednášk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České a evropské zdravotnické práv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2014, Filip Křepelk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cc"/>
                </a:solidFill>
                <a:latin typeface="Tahoma"/>
              </a:rPr>
              <a:t>Jednotlivé aspekty soukromoprávní odpovědnosti (nejen) ve zdravotnictví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(1) Kdo nese odpovědnost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(2) Za co se nese odpovědnost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(3) Jaké je peněžní hodnocení (ocenění) odpovědnosti, to jest především částky přiznané jako odškodnění nebo zadostiučinění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(4)  Ve prospěch koho je taková odpovědnost (pacient, pozůstalí)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(5) Pojištění rizik, zejména odpovědnosti za újmu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cs-CZ" sz="4000" spc="-1" strike="noStrike">
                <a:solidFill>
                  <a:srgbClr val="ffffcc"/>
                </a:solidFill>
                <a:latin typeface="Tahoma"/>
              </a:rPr>
              <a:t>Základní odpovědnost poskytovatel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ětšina zdravotní péče je poskytována týmem zdravotníků: lékaři a dalším zdravotnickým a jiným personálem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Lze ji  tak jen dílem personifikova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Těmto poměrům vhodně odpovídá česká úprava, která připisuje odpovědnost obecně poskytovateli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Tím je obvykle právnická osoba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(Které osoby? Lekce 6 ČEZP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Individuální odpovědnost nese v ČR jenom lékař - provozovatel individuální privátní zdravotní péč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cc"/>
                </a:solidFill>
                <a:latin typeface="Tahoma"/>
              </a:rPr>
              <a:t>Omezená odpovědnost zdravotníka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Odpovědnost zdravotníků-zaměstnanců za škodu způsobenou je v ČR jenom druhotná, na základě pracovního práva (regres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ýjimka: exces. Co jím je ve zdravotnictví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Jaké jsou možné další postihy dle pracovního práva: mzdový postih, přeřazení, výpověď, resp. okamžité ukončení pracovního poměru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U nedbalosti je omezena podle výše mzdy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Jak se štěpí regresní odpovědnosti mezi zdravotníky s ohledem na jejich spoluzavinění?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ojišťování odpovědnosti lékařů a dalších zdravotníků je tedy počin jen omezeně potřebný (újma zaviněnou úmyslně se nepojistí, to je přece morální hazard)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ahoma"/>
              </a:rPr>
              <a:t>Jiná možná řešení odpovědnostních důsledků vztahu zaměstnavatele a zaměstnanců 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 zahraničí tomu bývá leckde jinak: za osobní pochybení nese odpovědnost lékař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Zde pak je nutné v případě nemocniční péče složitě personifikovat tuto plnou odpovědnos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říklady států, kde je ve větší míře než v ČR individuální odpovědnost lékařů – Německo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Eventuálně tuto odpovědnost může nést souběžně zdravotnické zařízení a jednotliví lékaři (USA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ak vyvstává otázka, jestli je to společná (solidární) nebo dílčí odpovědnos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cs-CZ" sz="2800" spc="-1" strike="noStrike">
                <a:solidFill>
                  <a:srgbClr val="ffffcc"/>
                </a:solidFill>
                <a:latin typeface="Tahoma"/>
              </a:rPr>
              <a:t>Odpovědnost za chování a za výsledek 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Judikatura odmítá odpovědnost za neúspěch léčení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(podobné řešení v Německu skrz povahu smlouvy o službě </a:t>
            </a:r>
            <a:r>
              <a:rPr b="0" i="1" lang="cs-CZ" sz="2800" spc="-1" strike="noStrike">
                <a:solidFill>
                  <a:srgbClr val="ffffff"/>
                </a:solidFill>
                <a:latin typeface="Tahoma"/>
              </a:rPr>
              <a:t>Dienstvertrag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, resp. </a:t>
            </a:r>
            <a:r>
              <a:rPr b="0" i="1" lang="cs-CZ" sz="2800" spc="-1" strike="noStrike">
                <a:solidFill>
                  <a:srgbClr val="ffffff"/>
                </a:solidFill>
                <a:latin typeface="Tahoma"/>
              </a:rPr>
              <a:t>Behandlungvertrag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Lze to považovat za správné, vždyť to by nakonec každé úmrtí zakládalo odpovědnos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To by bylo absurdní, ekonomicky zatěžující a psychologicky kontraproduktivní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Jenom pochybení, tj. zaviněné nedodržení postupů </a:t>
            </a:r>
            <a:r>
              <a:rPr b="0" i="1" lang="cs-CZ" sz="2800" spc="-1" strike="noStrike">
                <a:solidFill>
                  <a:srgbClr val="ffffff"/>
                </a:solidFill>
                <a:latin typeface="Tahoma"/>
              </a:rPr>
              <a:t>lege artis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představuje předpoklad soukromoprávní odpovědnosti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cc"/>
                </a:solidFill>
                <a:latin typeface="Tahoma"/>
              </a:rPr>
              <a:t>Zvláštní případy objektivní odpovědnosti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edle subjektivní odpovědnosti za pochybení existuje ještě objektivní odpovědnost poskytovatele za újmu způsobenou vadou věci použité při poskytování zdravotní péče (tj. léčiva, zdravotnického prostředku)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oškozený nemusí dokládat zavinění. Stačí příčinná souvislost mezi vadou a újmou. Je ale možná liberace (doložení nesouvislosti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Judikatura k OZ pojímala široce jako důsledek vlastnosti, škodlivé účinky, NOZ úmyslně zúžil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Otázka odpovědnosti za léčivo? Poskytla jako péči-zboží lékárna, lékař jen předepsal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Odpovědnost výrobců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Jak je to propojené s odpovědností výrobce, popř. distributora za újmu způsobenou vadou výrobku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 Česku byl zvláštní zákon (59/1998 Sb.) na základě nepříliš promyšlené transpozice práva EU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 každém případě není důvod spotřebiteli odnímat také tuto ochranu, která je přinejmenším – ovšem v mezích legislativy, nikoli za špatné použití dobrého výrobku – souběžná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Jak je to s regresem zdravotnického zařízení vůči výrobci nebo dodavateli?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Lze se ve skutečnosti regresního nároku domoci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cc"/>
                </a:solidFill>
                <a:latin typeface="Tahoma"/>
              </a:rPr>
              <a:t>Trendy odškodňování  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ahoma"/>
              </a:rPr>
              <a:t>Praxe se posunula od socialisticky restriktivního pojetí k odpovídajícímu západnímu pojetí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ahoma"/>
              </a:rPr>
              <a:t>Soudci opustili restrikci, snad kvůli zjevně neúnosně nízkým částkám tabulek. 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ahoma"/>
              </a:rPr>
              <a:t>Bylo to ale vzhledem ke zdlouhavosti vícestupňového soudního řízení nepřehledné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ahoma"/>
              </a:rPr>
              <a:t>Praxe odškodňování újmy způsobené ve zdravotnictví je zlomkem odškodňování újmy na zdraví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ahoma"/>
              </a:rPr>
              <a:t>Praxe se tvoří hlavně při odškodňování obětí autonehod, do zdravotnictví se přenáší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Dosavadní dvoukolejnost a nynější spojení 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ahoma"/>
              </a:rPr>
              <a:t>Konkrétní česká právní úprava: pravidla příslušné části OZ, jež prošla určitou novelizací, vyhláška o bolestném (440/2001 Sb.)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ahoma"/>
              </a:rPr>
              <a:t>Obecná klausule o osobnostní újmě - § 11 OZ – postupně se začala vykládat jako souběžný důvod pro odškodňování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OZ má dvojkolejnost odstranil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Kalkulace újmy na zdraví (bolestné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OZ odmítl legislativní, resp. legislativně exekutivní zakotvení sazebníku (tabulky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ktivizovala se skupina pro vytvoření metodiky pro kalkulaci újmy na zdraví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Měření míry postižení z hlediska funkčnosti, nikoli újmy na jednotlivých orgánech podle mezinárodních metodik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tanovení částky 10 mil. Kč pro 100%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Záměr oslabit zvyšovací koeficienty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Má šanci se prosadit jako vodítko pro pojišťovny, úřad a soudy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cc"/>
                </a:solidFill>
                <a:uFillTx/>
                <a:latin typeface="Tahoma"/>
              </a:rPr>
              <a:t>Předeslání k přednášce</a:t>
            </a: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Téma by mělo kurs uzavírat po probrání primárních norem zdravotnického práva, neboť sankce jsou významné až při nedodržení dispozic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a konci semestru se ale nikdo nesoustředí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Témate se zabývají desítky univerzitních učitelů a badatelů, je záležitostí stovek právníků v praxi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edokáži zde aspirovat na ve všech aspektech zcela fundovaný pohled na věc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Způsob odškodnění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 moderním světě je vyrovnání újmy peněžní. Ve zboží nebo ve službách je výjimečné, zpravidla se vyžaduje souhlas odškodňovaného. Pro újmu způsobenou ve zdravotnictví by samozřejmě připadala v úvahu nápravná zdravotní péč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 Česku se vzhledem k bezplatnosti financuje nápravná péče rovněž z veřejného zdravotního pojištění, aniž by se nutně dovozovala odpovědnost. Jinde to může být rovněž odpovědnostní záležitos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eřejné zdravotní pojišťovny však mají regresní nároky vůči těm, co újmu, jejíž léčení financovaly, zavinili či způsobili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Přehled odškodňování pacient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dodatečně vzniklé náklady: zdravotní péče hrazená pacientem samotným či blízkými, nutné pomůcky, vybavení bytu apod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- regresní cestou péče hrazená příslušné veřejné zdravotní pojišťovně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- ekonomické škody: ušlý  příjem (ušlá mzda, ušlý zisk – nedostatek dat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- bolestné: proměna kalkulac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tzv. ztížení společenského uplatnění by mělo být pokryto bolestným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cc"/>
                </a:solidFill>
                <a:latin typeface="Tahoma"/>
              </a:rPr>
              <a:t>Co se hradí u žijících poškozených a pozůstalým po zemřelém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 případě úmrtí tady nějaké blízké oprávněné máme. Tak dalece ještě individualizace nedošl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OZ dokonce vymezuje jednoznačněji okruh dotčených pozůstalých a stanovil paušál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OZ zase otevírá prostor pro posouzení.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ynaložené náklady na léčení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ýživné pozůstalým odkázaným na výživu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Jednorázové odškodnění, renty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Odškodňování jednorázové?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Renta? Případná valorizace renty?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Otázka pravidelného či příležitostného přezkoumávání zdravotního stavu poškozeného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Česká praxe zatím příliš s rentou nepracuje, bylo by to žádoucí. Co NOZ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apočtení veřejného invalidního důchodu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Vývoj v jiných zemích - USA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Odměňování advokátů podle výsledku (procenta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Obrovské náklady, dílem posun k faktické objektivní odpovědnosti za výslede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Tendence k odstrašujícímu pojetí náhrad (punitive damages)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USA jako země práva bez silnější zásady přiměřenosti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To zvyšuje náklady, v některých státech a odvětvích na pokraj kolapsu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oto legislativní omezování </a:t>
            </a:r>
            <a:r>
              <a:rPr b="0" i="1" lang="cs-CZ" sz="2800" spc="-1" strike="noStrike">
                <a:solidFill>
                  <a:srgbClr val="ffffff"/>
                </a:solidFill>
                <a:latin typeface="Tahoma"/>
              </a:rPr>
              <a:t>non-economic damages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(obdoba naší osobnostní újmy) některými státy. Čelí ovšem advokátské lobb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Vývoj v západní Evropě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Francie dílem kritický vývoj na základě nové legislativy.  Německo pošilhávající, ale zároveň ostražitě se ohlížející do US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Evropské soudy ale nemají tendenci přiznávat horentní odškodné a více zkoumají zavinění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oužívání tabulek? V jednotlivých zemích velmi různé: státní či nestátní tabulky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Značné rozdíly v přiznávání bolestného, nevysvětlitelné pouze odlišnou hospodářskou a sociální úrovní, ale také odlišnou politikou odškodňování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cc"/>
                </a:solidFill>
                <a:latin typeface="Tahoma"/>
              </a:rPr>
              <a:t>Pojištění odpovědnosti  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ojištění odpovědnosti za újmu: v ČR se nestátní poskytovatelé musejí pojišťovat na svou odpovědnost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tátním zdravotnickým zařízením to uložené není, dlouho se ani pojišťovat nemohly.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Dosud právní rámec pojištění odpovědnosti – zvláštní zákon 37/2004 Sb o pojistné smlouvě a předpisy o pojišťovnictví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yní zpátky v NOZ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cc"/>
                </a:solidFill>
                <a:latin typeface="Tahoma"/>
              </a:rPr>
              <a:t>Jednotlivé aspekty pojištění odpovědnosti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Odpovědnost je neomezená. Pojištění ovšem nemůže být neomezené, smlouvy tedy stanoví rozsah pojištění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ebezpečné výluky nejen ve zdravotnictví (klausule </a:t>
            </a:r>
            <a:r>
              <a:rPr b="0" i="1" lang="cs-CZ" sz="2800" spc="-1" strike="noStrike">
                <a:solidFill>
                  <a:srgbClr val="ffffff"/>
                </a:solidFill>
                <a:latin typeface="Tahoma"/>
              </a:rPr>
              <a:t>claims made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, výluky týkající se pochybení, výluky týkající se odpovědnosti jiných, výluky týkající se zlého úmyslu zaměstnanců, zcela nedostatečné pokrytí z hlediska rozsahu, přemrštěná spoluúčast apod.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hodnost angažmá ČLK či asociací poskytovatelů, odborných společností při vyjednání smluv s pojišťovnami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cc"/>
                </a:solidFill>
                <a:uFillTx/>
                <a:latin typeface="Tahoma"/>
              </a:rPr>
              <a:t>Veřejnoprávní odpovědnos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 ČR podobně jako leckde jinde správní, kárná (disciplinární) a trestní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Odpovědnost za pochybení, obvykle za nedbalostní, nikoli objektivní odpovědnos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Uplatnění odpovědnosti má poskytovat společnosti ochranu, zadostiučinění a odrazovat od podobného počítání.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ouběžná soukromoprávní odpovědnost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Správní odpovědnost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okutování a regulování včetně uzavírání jednotlivých poskytovatelů, neudělení, omezení či odnětí povolení a oprávnění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Týká se jednotlivých poskytovatelů zdravotní péče (tedy vesměs právnických osob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yní nový licenční režim dle ZZS (přednáška 6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Mnozí poskytovatelé jsou veřejní či těžko zastupitelná vede ke zdrženlivosti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 prvním případě je nicméně možný zásah vůči manažerům za selhání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cc"/>
                </a:solidFill>
                <a:uFillTx/>
                <a:latin typeface="Tahoma"/>
              </a:rPr>
              <a:t>Péče lege arti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ahoma"/>
              </a:rPr>
              <a:t>Zdravotní péče má být poskytována kvalitně.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ahoma"/>
              </a:rPr>
              <a:t>§ 28 (2) ZZS: „Pacient má právo na poskytování zdravotních služeb na náležité odborné úrovni.“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ahoma"/>
              </a:rPr>
              <a:t>Co je kvalita v jednotlivých případech, ovšem neurčuje vesměs přímo právo. Není to prostě možné vzhledem k vývoji vědy a techniky medicíny.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ahoma"/>
              </a:rPr>
              <a:t>Proto existuje koncept zdravotnického zákroku či péče </a:t>
            </a:r>
            <a:r>
              <a:rPr b="0" i="1" lang="cs-CZ" sz="2600" spc="-1" strike="noStrike">
                <a:solidFill>
                  <a:srgbClr val="ffffff"/>
                </a:solidFill>
                <a:latin typeface="Tahoma"/>
              </a:rPr>
              <a:t>lege artis</a:t>
            </a:r>
            <a:r>
              <a:rPr b="0" lang="cs-CZ" sz="2600" spc="-1" strike="noStrike">
                <a:solidFill>
                  <a:srgbClr val="ffffff"/>
                </a:solidFill>
                <a:latin typeface="Tahoma"/>
              </a:rPr>
              <a:t>: odpovídající péče, tj. péče na úrovni doby (vzhledem k znalostem lékařské vědy) a místa a času. 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ahoma"/>
              </a:rPr>
              <a:t>Péče, která je neodpovídající, je špatná, je to péče </a:t>
            </a:r>
            <a:r>
              <a:rPr b="0" i="1" lang="cs-CZ" sz="2600" spc="-1" strike="noStrike">
                <a:solidFill>
                  <a:srgbClr val="ffffff"/>
                </a:solidFill>
                <a:latin typeface="Tahoma"/>
              </a:rPr>
              <a:t>non lege artis</a:t>
            </a:r>
            <a:r>
              <a:rPr b="0" lang="cs-CZ" sz="2600" spc="-1" strike="noStrike">
                <a:solidFill>
                  <a:srgbClr val="ffffff"/>
                </a:solidFill>
                <a:latin typeface="Tahoma"/>
              </a:rPr>
              <a:t>, anglicky </a:t>
            </a:r>
            <a:r>
              <a:rPr b="0" i="1" lang="cs-CZ" sz="2600" spc="-1" strike="noStrike">
                <a:solidFill>
                  <a:srgbClr val="ffffff"/>
                </a:solidFill>
                <a:latin typeface="Tahoma"/>
              </a:rPr>
              <a:t>malpractice</a:t>
            </a:r>
            <a:r>
              <a:rPr b="0" lang="cs-CZ" sz="26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Finanční odpovědnost? </a:t>
            </a:r>
            <a:br>
              <a:rPr sz="4400"/>
            </a:b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Dosud prakticky nevyužíván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ostihování nekvalitní či protiprávní zdravotní péče může být postiženo kvazi-správně, prostřednictvím smluvní politiky veřejných zdravotních pojišťoven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Kvůli jakým selháním a na základě jakého postupu smějí veřejné zdravotní pojišťovny vypovědět smlouvy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Je představitelné vracení úhrady v případě soudy či úřady konstatovaného pochybení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atím se neužívá, problémy se značnou prodlevou a opravnými prostředky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(o veřejném financování přednáška 7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Kárná (disciplinární) odpovědnos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rovádí Česká lékařská komora a další profesní komory dle zákona 220/1991 Sb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ásadní postih je zákaz výkonu povolání v podobě vyloučení rozhodnutím Čestné rady Komory.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Lze dokladovat rigoróznost,  adekvátní anebo falešnou profesní solidaritu?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ocity veřejnosti totiž nemusejí být spravedlivé, řada stížností je nedůvodných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Trestní odpovědnos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edbalostní ublížení na zdraví (se závažným následkem nebo následkem smrti) jako dlouhodobě uplatňovaný nástroj „prosazování“ dobré péč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roč? Ex offo vyšetřování, nevyžaduje zásadní vlastní součinnost poškozeného, rychlejší průběh (než vleklé civilní spory), odstrašující účinky, větší zneuctění již v průběhu trestního řízení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Kritika trestní repres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olik je ale vůbec odsouzených lékařů a dalších zdravotníků?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olání po větším posunu k prosazování odpovědnosti soukromoprávní, jak je tomu ve vyspělejších zemích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estává se toto ale vítězstvím Pyrrhovým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Asi ne, větší přísnost a částky se prosazují bez ohledu na trestní repres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cc"/>
                </a:solidFill>
                <a:uFillTx/>
                <a:latin typeface="Tahoma"/>
              </a:rPr>
              <a:t>Preven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naha o učinění péče bezpečnější řadou organizačních opatření nad rámec standardů lege artis (odborně náležité péče)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yní samostatný byznys: správná zdravotnická praxe, systém kvality a bezpečnosti, certifikace (ISO).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 ČR existuje organizace zaměřující se na propagaci a kontrolu: Česká společnost pro kvalitu ve zdravotnictví (MUDr. Marx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Impulsem mohou být pojišťovny zajišťující pojištění odpovědnosti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Impulsem by mohly být veřejné zdravotní pojišťovny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Kdy se standardy stávají povinné?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cc"/>
                </a:solidFill>
                <a:latin typeface="Tahoma"/>
              </a:rPr>
              <a:t>Příklady opatření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- jednoznačná identifikace pacient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- přesná identifikace částí těla k zákroků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- bezpečné způsoby dávkování, přípravy a podávání léčiv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- odpovídající komunikace mezi profesioná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- únosná zátěž profesionálů a její sledování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- standardy pro řešení mimořádných situací a jejich nacvičování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- interní kontrolní mechanismy pro zabránění pochybení (kontrola operačního pole apod.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- řádná evidence při zákrocích apod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- používání moderních technologií (nahrávání, filmování…)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Role znalců při vymezení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74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ffffff"/>
                </a:solidFill>
                <a:latin typeface="Tahoma"/>
              </a:rPr>
              <a:t>Co je </a:t>
            </a:r>
            <a:r>
              <a:rPr b="0" i="1" lang="cs-CZ" sz="3100" spc="-1" strike="noStrike">
                <a:solidFill>
                  <a:srgbClr val="ffffff"/>
                </a:solidFill>
                <a:latin typeface="Tahoma"/>
              </a:rPr>
              <a:t>lege artis</a:t>
            </a:r>
            <a:r>
              <a:rPr b="0" lang="cs-CZ" sz="3100" spc="-1" strike="noStrike">
                <a:solidFill>
                  <a:srgbClr val="ffffff"/>
                </a:solidFill>
                <a:latin typeface="Tahoma"/>
              </a:rPr>
              <a:t> péče, to určují vesměs sami lékaři povolaní jako znalci. 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74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ffffff"/>
                </a:solidFill>
                <a:latin typeface="Tahoma"/>
              </a:rPr>
              <a:t>Existuje určitá standardizace profesními asociacemi a v souvislosti s výukou.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74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ffffff"/>
                </a:solidFill>
                <a:latin typeface="Tahoma"/>
              </a:rPr>
              <a:t>Soudce nebo úředník to mnohdy může jen uznat nebo odmítnout a vysvětlit proč.  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74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ffffff"/>
                </a:solidFill>
                <a:latin typeface="Tahoma"/>
              </a:rPr>
              <a:t>Právníci a veřejnost jsou tak zde do značné míry závislí na posudku lékařů (samozřejmě s výjimkou nejjasnějších pochybení)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Právně neodpovídající péče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ahoma"/>
              </a:rPr>
              <a:t>Takovou péčí může jí být nejen špatně provedený zdravotnický zákrok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ahoma"/>
              </a:rPr>
              <a:t>Ale především nečinnost a nekonání, když se konat mělo.  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ahoma"/>
              </a:rPr>
              <a:t>Právně problematická je ale též péče </a:t>
            </a:r>
            <a:r>
              <a:rPr b="0" i="1" lang="cs-CZ" sz="3000" spc="-1" strike="noStrike">
                <a:solidFill>
                  <a:srgbClr val="ffffff"/>
                </a:solidFill>
                <a:latin typeface="Tahoma"/>
              </a:rPr>
              <a:t>lege artis</a:t>
            </a:r>
            <a:r>
              <a:rPr b="0" lang="cs-CZ" sz="3000" spc="-1" strike="noStrike">
                <a:solidFill>
                  <a:srgbClr val="ffffff"/>
                </a:solidFill>
                <a:latin typeface="Tahoma"/>
              </a:rPr>
              <a:t> např. při právně významném nesouhlasu pacienta nebo při nedostatečném poučení)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ahoma"/>
              </a:rPr>
              <a:t>Omezíme jen na zdravotníky v běžných situacích (tj. ve službě). Na jiné expertní a laickou první pomoc se následně popisovaný rámec uplatní omezeně, pokud vůbec.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Nedbalost a úmys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ochybení může být úmyslné (připomenout koncept úmyslu), je to však výjimečné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Obvyklé je pochybení nedbalostní (připomenout koncept nedbalosti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edbalost se bude obvykle předpokládat, naopak výjimečný zlý úmysl je třeba dokláda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Mnozí pacienti jsou však podezřívaví a lékařům a dalším zdravotníkům nekalý úmysl rádi připisují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raždy „ze soucitu či „z moci“, poškozování pacientů na zdraví či úmyslně odepíraná péče se nicméně výjimečně také vyskytují vyskytují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cc"/>
                </a:solidFill>
                <a:latin typeface="Tahoma"/>
              </a:rPr>
              <a:t>Nedbalost a omyl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ahoma"/>
              </a:rPr>
              <a:t>Některé právní řády výslovně a jiné podvědomě odlišují nedbalostní pochybení od tzv. běžného omylu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ahoma"/>
              </a:rPr>
              <a:t>Běžný omyl má být nepostižitelný. Příznaky chorob bývají nezřetelné. Lékař není neomylný. Kvůli vzácnosti nelze očekávat jejich okamžitou identifikaci, neboť lékař nemá vždy potřebnou zkušenost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ahoma"/>
              </a:rPr>
              <a:t>Proto však existují lékařské specializace. Překročení kompetence se špatnými následky je též pochybením.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ahoma"/>
              </a:rPr>
              <a:t>Mezi omylem a pochybením je nezřetelná a v českém právu skoro nevytýčená hranice. Judikatura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Význam omezených možností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ahoma"/>
              </a:rPr>
              <a:t>Lze vyvozovat důsledky z nemožnosti poskytnutí dokonalé péče kvůli finančním, personálním a materiálním mezím poskytování zdravotní péče?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ahoma"/>
              </a:rPr>
              <a:t>Činí se tak velmi opatrně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ahoma"/>
              </a:rPr>
              <a:t>Bezpochyby je to ale významné u první pomoci mimo zdravotnické zařízení či záchrannou službu. Zde jsou ale právě proto jiné standardy.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ahoma"/>
              </a:rPr>
              <a:t>Je to však patrně příčinou určité zdrženlivosti při ukládání postihů stejně a přiznávání náhrad ve srovnaní s  případy srovnatelné újmy způsobené jinde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cc"/>
                </a:solidFill>
                <a:latin typeface="Tahoma"/>
              </a:rPr>
              <a:t>Význam soukromoprávní odpovědnosti ve zdravotnictví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ahoma"/>
              </a:rPr>
              <a:t>Soukromoprávní odpovědnost ve zdravotnictví je velké téma v řadě zemí, zejména v USA.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ahoma"/>
              </a:rPr>
              <a:t>Začíná být také v ČR vzhledem k judikatuře nižších soudů, ty začínají přiznávat vysoké náhrady újmy. Otevírá NOZ ještě více prostor?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ahoma"/>
              </a:rPr>
              <a:t>Zvyšování majetkové odpovědnosti zdravotníků či zdravotnických zařízení má však ekonomické (cena zdravotní péče), sociální (nedostupnost pro určité skupiny pacientů či na určitých místech), psychologické (defensivní medicína, alibismus) a nakonec politické důsledky (snaha zajistit ochranu zdravotnictví kvůli hospodářské udržitelnosti)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9T10:24:14Z</dcterms:created>
  <dc:creator>gcuu</dc:creator>
  <dc:description/>
  <dc:language>en-US</dc:language>
  <cp:lastModifiedBy>Filip Křepelka</cp:lastModifiedBy>
  <dcterms:modified xsi:type="dcterms:W3CDTF">2015-04-08T14:36:28Z</dcterms:modified>
  <cp:revision>92</cp:revision>
  <dc:subject/>
  <dc:title>Odpovědnost ve zdravotnictví</dc:title>
</cp:coreProperties>
</file>