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0FF87-50A8-486B-A0D7-FC3B7063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8A4F0-7D19-4AB4-94AF-D7D78603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CCCBE-9799-45F4-90D2-051E6FFF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48C6A-BAE5-4A86-8E53-595FB535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4D0C-AE27-4F6F-839A-773C4CAC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0162-A632-4E91-B9A6-EAF24CA7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B31C-0643-4E75-903E-313B721D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30B0-2E56-45E4-AF43-92F7D6EC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BA61-0ADA-4F1A-8CFF-76B026C1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5F28-22C3-4538-B142-931E060A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42AE-2042-49C2-A7B0-AC6F87DA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C5281-318E-4742-B789-3571664A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CBB2-DE0D-4240-B4D8-243C6B4C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6C26-2C04-45B6-A8C2-988A33DB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C4D8-4F00-43F2-99F6-C42C1E2E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78A4-FA1F-48A9-81CD-D7BB876E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5087-E101-4CD9-B8AD-D6C922B7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86E15-A849-4C21-9E0C-976DBF4F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10C0E-7889-456D-93F7-A0D56CA8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FD954-3DE3-42D5-881D-28AC13AD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3556D-FB81-4CD7-B7C1-1F7491BE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5CE9A-C131-4D86-AC06-68714494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E5F74-4F17-4987-AB07-067492C9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FE69D-E794-4963-8A8D-5C9663CB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508F-8A53-4418-9A1E-2FD9E9364109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51BA-309F-4AA8-BE59-CAE960725E27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Program – 20. 5.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9.00 – 10.1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 novela vyhlášky 72/2005 o poskytování poradensk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0.15 – 10.3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0.30 – 11.4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služebreflexe k realizaci seminárních prací, zkušenosti stud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1.45 – 12.0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2.00 – 13.0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prezentace 4 vybraných seminárních prací z různých typů škol + disk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loha č. 3 k vyhlášce č. 72/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výchovného porad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školního metodika          prev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školního psycholo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školního speciálního pedago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které činnosti uvedené ve standardech pro jednotlivé poradenské pracovníky se překrývají, proto je důležité stanovit ve škole poradenským pracovníkům pracovní náplně, které budou co nejpřesněji vymezovat jejich činnost a odpovídat velikosti jejich pracovního úvazku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ho jste seznámili se závěry analýzy      a jak budou dále využ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s při realizaci analýzy nebo              z výsledků překvapil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 - 3 kroky, které byste teď chtěli udělat nebo už jste je uděl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Reflexe studentů – seminární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Legislativní zakotvení poradenských služeb ve škole – novela vyhlášky 72/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jem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školní poradenské pracoviště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e poprvé objevil v roce 1999 v Metodickém listu MŠMT         k poskytování poradenských služeb ve školách       a školských zařízeních č.j. 13 4099/98-24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školní poradenská pracoviště vznikala ve školách především v rámci projektů VIP, RAM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elký důraz byl kladen na roli školních psychologů        a školních speciálních pedagogů ve školách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existuje žádná přesná metodika, jak by mělo školní poradenské pracoviště ve škole vypadat,   jak by mělo být řízeno, kde je jeho místo                v organizačním řádu šk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do školské legislativy se tento pojem dostává až ny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y, vyhlášky a metodické pokyny vymezují rámec pro poskytování poradenských služeb – rámec se dá aplikovat na každé škole jinak,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ždá škola si musí vytvořit vlastní funkční model poradenských služeb podle svých potřeb a specif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zákonná norma věnovaná poradenským službám 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yhláška MŠMT č. 72/2005 Sb., o poskytování poradenských služeb ve školách a školských poradenských zařízení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poslední novela spojená se zapracování problematiky společného vzdělávání vyjde v nejbližších dnech,   k dispozici je v podobě po připomínkovém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vymezuje, kdo poradenské služby poskytuje, komu je poskytuje, co je jejich obsahem a jaké jsou standardní činnosti jednotlivých subjektů, nově se v ní objevu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jem školní poradenské pracoviš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školu jsou nejdůležitější paragraf č. 7 a příloha č.3 této vyhlá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§ 7 –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Ředitel základní, střední a vyšší odborné školy zabezpečuje poskytování poradenských služeb ve škole </a:t>
            </a:r>
            <a:r>
              <a:rPr b="1" lang="cs-CZ" sz="2200" spc="-1" strike="noStrike">
                <a:solidFill>
                  <a:srgbClr val="ff0000"/>
                </a:solidFill>
                <a:latin typeface="Arial"/>
              </a:rPr>
              <a:t>školním poradenským pracovištěm, ve kterém působí zpravidla výchovný poradce a školní metodik prevence</a:t>
            </a: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teří spolupracují zejména s třídními učiteli, učiteli výchov, případně dalšími pedagogickými pracovníky školy. Poskytování poradenských služeb ve škole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může být zajišťováno i školním psychologem nebo školním speciálním pedagogem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škole jsou zajišťovány poradenské služby v rozsahu odpovídajícím počtu a vzdělávacím potřebám žáků školy zaměřené n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oskytování podpůrných opatření pro žáky se speciálními vzdělávacími potřeb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 vyhlášky č. 116/2011 o poskytování poradenských služeb ve školách a školských zařízen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sledování a vyhodnocování účinnosti zvolených podpůrných opatř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evenci školní neúspěš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ariérové poradenství integrující vzdělávací, informační a poradenskou podporu vhodné volbě vzdělávací cesty a pozdějšímu profesnímu uplat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odporu vzdělávání a sociálního začleňování žáků  z odlišného kulturního prostřední a s odlišnými životními podmínk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oru vzdělávání žáků nadaných a mimořádně nadaný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ůběžnou a dlouhodobou péči o žáky s výchovnými či vzdělávacími obtížemi a vytváření příznivého </a:t>
            </a: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klimatu pro přijímání kulturních a jiných odlišností ve škole a školském zaříz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včasnou intervenci při aktuálních problémech         u jednotlivých žáků a třídních kolektiv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ředcházení všem formám rizikového chování včetně různých forem šikany a diskrimin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růběžné vyhodnocování účinnosti preventivních programů uskutečňovaných škol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metodickou podporu učitelům při použití psychologických a speciálně pedagogických postupů ve vzdělávací činnosti šk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spolupráci a komunikaci mezi školou a zákonnými zástup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spolupráci školy při poskytování poradenských služeb se školskými poradenskými zařízení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Škola zpracovává a uskutečňuje program poradenských služeb ve škol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který zahrnuje popis činností a vymezení odpovědnosti pedagogických pracovníků uvedených v odstavci 1, preventivní program školy včetně strategie předcházení školní neúspěšnosti, šikaně a dalším projevům rizikového chov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edagogičtí pracovními uvedení v odstavci 1 se podílejí na zajišťování podpůrných opatření pro žáky se speciálními vzdělávacími potřebami, poskytují součinnost ŠPZ a spolupracují s orgány veřejné moci  za účelem ochrany práv žák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6-05-20T04:55:07Z</dcterms:modified>
  <cp:revision>89</cp:revision>
  <dc:subject/>
  <dc:title>Výchovný poradce  v systému poradenských služeb na ZŠ Rosice</dc:title>
</cp:coreProperties>
</file>