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3A24D-272E-4EE9-AD2F-718D0DE3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11B91-9289-42EB-8E94-7196BE43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B325D-0772-4B56-81C8-CD6136BF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593B0-1A9B-40FF-A1CD-068C9F9F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AD4E-D79E-4424-9B4C-82716265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3B4A-8BA4-4C4E-BC57-35735BAF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5234-CE0E-4551-9FD4-CC99F7C0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1ADE-ABC3-477F-BFE2-B795229E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85BA-5C21-4953-9E83-D69537F9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8DB9-EE2E-4EBB-AE22-6C1ADF26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6C05-53D3-4907-8844-A805848A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E3A57-F012-49ED-8706-40BD0E9D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8E8A-8DE8-43CC-8295-5398F332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C71E-0984-43C7-88BA-54F7A0CC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8ADA-49BF-407C-995C-D6C9ED3A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E195-3A29-40B3-9CE6-F77A7E10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F897-4746-463C-9AC0-3079C9C1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3E63B-9E9B-4D0C-B046-DA7C9B91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93B64-0EA9-4177-A834-F21F72F0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7186F-3643-4D48-9E08-762C67DF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92973-1A82-4000-8FE7-7CEBC8FA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25056-512E-471E-A675-E4CFC0C2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6EE3F-48D5-4BB2-8351-9992637C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5A710-5D71-4771-9CED-06A88157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73D3-AB09-4288-A272-568A908E9B3B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E147-EB7E-4CAE-BCEE-59C969876159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Program – 20. 5.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9.00 – 10.1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 novela vyhlášky 72/2005 o poskytování poradensk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0.15 – 10.3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0.30 – 11.4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služebreflexe k realizaci seminárních prací, zkušenosti stud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1.45 – 12.0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2.00 – 13.0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prezentace 4 vybraných seminárních prací z různých typů škol + disk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loha č. 3 k vyhlášce č. 72/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výchovného porad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školního metodika          prev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školního psycholo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školního speciálního pedago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které činnosti uvedené ve standardech pro jednotlivé poradenské pracovníky se překrývají, proto je důležité stanovit ve škole poradenským pracovníkům pracovní náplně, které budou co nejpřesněji vymezovat jejich činnost a odpovídat velikosti jejich pracovního úvazku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ho jste seznámili se závěry analýzy      a jak budou dále využ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s při realizaci analýzy nebo              z výsledků překvapil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 - 3 kroky, které byste teď chtěli udělat nebo už jste je uděl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Reflexe studentů – seminární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Legislativní zakotvení poradenských služeb ve škole – novela vyhlášky 72/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jem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školní poradenské pracoviště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e poprvé objevil v roce 1999 v Metodickém listu MŠMT         k poskytování poradenských služeb ve školách       a školských zařízeních č.j. 13 4099/98-24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školní poradenská pracoviště vznikala ve školách především v rámci projektů VIP, RAM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elký důraz byl kladen na roli školních psychologů        a školních speciálních pedagogů ve školách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existuje žádná přesná metodika, jak by mělo školní poradenské pracoviště ve škole vypadat,   jak by mělo být řízeno, kde je jeho místo                v organizačním řádu šk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do školské legislativy se tento pojem dostává až ny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y, vyhlášky a metodické pokyny vymezují rámec pro poskytování poradenských služeb – rámec se dá aplikovat na každé škole jinak,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ždá škola si musí vytvořit vlastní funkční model poradenských služeb podle svých potřeb a specif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zákonná norma věnovaná poradenským službám 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yhláška MŠMT č. 72/2005 Sb., o poskytování poradenských služeb ve školách a školských poradenských zařízení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poslední novela spojená se zapracování problematiky společného vzdělávání vyjde v nejbližších dnech,   k dispozici je v podobě po připomínkovém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vymezuje, kdo poradenské služby poskytuje, komu je poskytuje, co je jejich obsahem a jaké jsou standardní činnosti jednotlivých subjektů, nově se v ní objevu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jem školní poradenské pracoviš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školu jsou nejdůležitější paragraf č. 7 a příloha č.3 této vyhlá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§ 7 –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Ředitel základní, střední a vyšší odborné školy zabezpečuje poskytování poradenských služeb ve škole </a:t>
            </a:r>
            <a:r>
              <a:rPr b="1" lang="cs-CZ" sz="2200" spc="-1" strike="noStrike">
                <a:solidFill>
                  <a:srgbClr val="ff0000"/>
                </a:solidFill>
                <a:latin typeface="Arial"/>
              </a:rPr>
              <a:t>školním poradenským pracovištěm, ve kterém působí zpravidla výchovný poradce a školní metodik prevence</a:t>
            </a: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teří spolupracují zejména s třídními učiteli, učiteli výchov, případně dalšími pedagogickými pracovníky školy. Poskytování poradenských služeb ve škole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může být zajišťováno i školním psychologem nebo školním speciálním pedagogem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škole jsou zajišťovány poradenské služby v rozsahu odpovídajícím počtu a vzdělávacím potřebám žáků školy zaměřené n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oskytování podpůrných opatření pro žáky se speciálními vzdělávacími potřeb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 vyhlášky č. 116/2011 o poskytování poradenských služeb ve školách a školských zařízen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sledování a vyhodnocování účinnosti zvolených podpůrných opatř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evenci školní neúspěš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ariérové poradenství integrující vzdělávací, informační a poradenskou podporu vhodné volbě vzdělávací cesty a pozdějšímu profesnímu uplat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odporu vzdělávání a sociálního začleňování žáků  z odlišného kulturního prostřední a s odlišnými životními podmínk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oru vzdělávání žáků nadaných a mimořádně nadaný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ůběžnou a dlouhodobou péči o žáky s výchovnými či vzdělávacími obtížemi a vytváření příznivého </a:t>
            </a: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klimatu pro přijímání kulturních a jiných odlišností ve škole a školském zaříz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včasnou intervenci při aktuálních problémech         u jednotlivých žáků a třídních kolektiv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ředcházení všem formám rizikového chování včetně různých forem šikany a diskrimin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růběžné vyhodnocování účinnosti preventivních programů uskutečňovaných škol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metodickou podporu učitelům při použití psychologických a speciálně pedagogických postupů ve vzdělávací činnosti šk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spolupráci a komunikaci mezi školou a zákonnými zástup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spolupráci školy při poskytování poradenských služeb se školskými poradenskými zařízení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Škola zpracovává a uskutečňuje program poradenských služeb ve škol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který zahrnuje popis činností a vymezení odpovědnosti pedagogických pracovníků uvedených v odstavci 1, preventivní program školy včetně strategie předcházení školní neúspěšnosti, šikaně a dalším projevům rizikového chov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edagogičtí pracovními uvedení v odstavci 1 se podílejí na zajišťování podpůrných opatření pro žáky se speciálními vzdělávacími potřebami, poskytují součinnost ŠPZ a spolupracují s orgány veřejné moci  za účelem ochrany práv žák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6-05-20T04:55:07Z</dcterms:modified>
  <cp:revision>89</cp:revision>
  <dc:subject/>
  <dc:title>Výchovný poradce  v systému poradenských služeb na ZŠ Rosice</dc:title>
</cp:coreProperties>
</file>