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A9B92-BA7E-4B54-A167-7B5F4BE0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66769-8E2E-4D06-BA04-86D7F1EF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AEABB-5922-49B9-B822-8569E1A2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EC980-D474-4888-B617-E2E8ED63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4379-659B-47EC-A0B7-E23011C8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65D5-3E15-416D-83A8-AD436B5C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68E6-DB9B-4A32-840B-CC542A11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18C0-2ABE-4C65-916D-B7BC7F22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518A-01D5-4C94-A222-153EE07E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80C2-8285-4D05-998F-C4B57DCF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BEDF-3722-44BF-85D4-37B6130C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DC5D0-BDD9-4500-9148-3A6D063F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20E8-CBEE-4528-8DFE-4410472D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7E65-AE18-41F4-88FF-11C1C11D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39E7-F562-4993-B2C6-96597EC6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9887-E4D5-4279-BB55-CEC69E84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C86B-96DD-422A-BBFB-08C9E523F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76171-5D4F-4A72-8A1D-4FD34D5A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D6370-5EC2-4403-8B47-B190024D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11D5E-2C89-4A42-A48B-FA926299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802CE-1B66-444D-80A1-A1C9F82B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34A25-3135-4922-AD84-B3DA96A3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B0685-249E-48DC-BDCF-8C3EE7C8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E770C-EF02-4D8A-96BA-23A020B0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3282-1ECA-4D75-BD4B-482BCC5B726E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3953-1934-45E4-8613-81C84F54E5B5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Program – 20. 5.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9.00 – 10.1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 novela vyhlášky 72/2005 o poskytování poradensk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0.15 – 10.3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0.30 – 11.4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→ služebreflexe k realizaci seminárních prací, zkušenosti stud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1.45 – 12.0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2.00 – 13.0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→ prezentace 4 vybraných seminárních prací z různých typů škol + disk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loha č. 3 k vyhlášce č. 72/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činnosti výchovného porad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činnosti školního metodika          prev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činnosti školního psycholo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činnosti školního speciálního pedago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ěkteré činnosti uvedené ve standardech pro jednotlivé poradenské pracovníky se překrývají, proto je důležité stanovit ve škole poradenským pracovníkům pracovní náplně, které budou co nejpřesněji vymezovat jejich činnost a odpovídat velikosti jejich pracovního úvazku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ho jste seznámili se závěry analýzy      a jak budou dále využ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s při realizaci analýzy nebo              z výsledků překvapil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 - 3 kroky, které byste teď chtěli udělat nebo už jste je uděl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Reflexe studentů – seminární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Legislativní zakotvení poradenských služeb ve škole – novela vyhlášky 72/2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jem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školní poradenské pracoviště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e poprvé objevil v roce 1999 v Metodickém listu MŠMT         k poskytování poradenských služeb ve školách       a školských zařízeních č.j. 13 4099/98-24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školní poradenská pracoviště vznikala ve školách především v rámci projektů VIP, RAM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elký důraz byl kladen na roli školních psychologů        a školních speciálních pedagogů ve školách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existuje žádná přesná metodika, jak by mělo školní poradenské pracoviště ve škole vypadat,   jak by mělo být řízeno, kde je jeho místo                v organizačním řádu šk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do školské legislativy se tento pojem dostává až ny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y, vyhlášky a metodické pokyny vymezují rámec pro poskytování poradenských služeb – rámec se dá aplikovat na každé škole jinak,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ždá škola si musí vytvořit vlastní funkční model poradenských služeb podle svých potřeb a specif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zákonná norma věnovaná poradenským službám 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yhláška MŠMT č. 72/2005 Sb., o poskytování poradenských služeb ve školách a školských poradenských zařízení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poslední novela spojená se zapracování problematiky společného vzdělávání vyjde v nejbližších dnech,   k dispozici je v podobě po připomínkovém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vymezuje, kdo poradenské služby poskytuje, komu je poskytuje, co je jejich obsahem a jaké jsou standardní činnosti jednotlivých subjektů, nově se v ní objevu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jem školní poradenské pracoviš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školu jsou nejdůležitější paragraf č. 7 a příloha č.3 této vyhlá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§ 7 –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Ředitel základní, střední a vyšší odborné školy zabezpečuje poskytování poradenských služeb ve škole </a:t>
            </a:r>
            <a:r>
              <a:rPr b="1" lang="cs-CZ" sz="2200" spc="-1" strike="noStrike">
                <a:solidFill>
                  <a:srgbClr val="ff0000"/>
                </a:solidFill>
                <a:latin typeface="Arial"/>
              </a:rPr>
              <a:t>školním poradenským pracovištěm, ve kterém působí zpravidla výchovný poradce a školní metodik prevence</a:t>
            </a: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teří spolupracují zejména s třídními učiteli, učiteli výchov, případně dalšími pedagogickými pracovníky školy. Poskytování poradenských služeb ve škole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může být zajišťováno i školním psychologem nebo školním speciálním pedagogem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škole jsou zajišťovány poradenské služby v rozsahu odpovídajícím počtu a vzdělávacím potřebám žáků školy zaměřené n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oskytování podpůrných opatření pro žáky se speciálními vzdělávacími potřeb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 vyhlášky č. 116/2011 o poskytování poradenských služeb ve školách a školských zařízen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sledování a vyhodnocování účinnosti zvolených podpůrných opatř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evenci školní neúspěš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ariérové poradenství integrující vzdělávací, informační a poradenskou podporu vhodné volbě vzdělávací cesty a pozdějšímu profesnímu uplat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odporu vzdělávání a sociálního začleňování žáků  z odlišného kulturního prostřední a s odlišnými životními podmínk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oru vzdělávání žáků nadaných a mimořádně nadaný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ůběžnou a dlouhodobou péči o žáky s výchovnými či vzdělávacími obtížemi a vytváření příznivého </a:t>
            </a: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klimatu pro přijímání kulturních a jiných odlišností ve škole a školském zaříz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včasnou intervenci při aktuálních problémech         u jednotlivých žáků a třídních kolektiv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ředcházení všem formám rizikového chování včetně různých forem šikany a diskrimin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růběžné vyhodnocování účinnosti preventivních programů uskutečňovaných škol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metodickou podporu učitelům při použití psychologických a speciálně pedagogických postupů ve vzdělávací činnosti šk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spolupráci a komunikaci mezi školou a zákonnými zástup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spolupráci školy při poskytování poradenských služeb se školskými poradenskými zařízení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Škola zpracovává a uskutečňuje program poradenských služeb ve škol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který zahrnuje popis činností a vymezení odpovědnosti pedagogických pracovníků uvedených v odstavci 1, preventivní program školy včetně strategie předcházení školní neúspěšnosti, šikaně a dalším projevům rizikového chov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edagogičtí pracovními uvedení v odstavci 1 se podílejí na zajišťování podpůrných opatření pro žáky se speciálními vzdělávacími potřebami, poskytují součinnost ŠPZ a spolupracují s orgány veřejné moci  za účelem ochrany práv žák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6-05-20T04:55:07Z</dcterms:modified>
  <cp:revision>89</cp:revision>
  <dc:subject/>
  <dc:title>Výchovný poradce  v systému poradenských služeb na ZŠ Rosice</dc:title>
</cp:coreProperties>
</file>