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6C9B-776E-44B0-9A29-76E69DFFCB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6D22-E78C-4C5C-9D29-86F8DF8016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datum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0.11.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AA4D-2413-4603-A0E5-E3161402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2DF30-0C4B-4D88-8C83-18C785F8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616B-5FF2-4F5B-A4D0-8CF403A5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3026-4529-479B-B12C-A9B01724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ADB3-7C14-43E0-A3F0-E99C803D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B9C6-014B-4FCB-9936-4759045F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26CF-B43E-4DF8-9412-D439E77A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CD16-82CC-4C78-98E6-C7A123C8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9FD5-D324-4D52-866D-1D14DDBC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2259-2ABC-431C-8D4C-DBDF6FBF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2E38-46B1-42BD-BB6B-6FF9FE3D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4324-8B4F-4B0F-89BA-254BFC83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6573-CD7E-436D-9B02-CC5C124B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DEC3-605D-43DA-8E93-7ED75E1A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C442-168D-4D02-8054-B84D6588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D6CD-A0B5-4BF6-94A5-6207AD5E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7BD8-D156-4CFC-A38B-C7C4ECB5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C84D8-3A6C-417B-AB57-B28A5583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834D-60A7-425B-B18D-1E270F86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F29B2-CCD4-4341-8348-2CE59072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11AFF-FCE5-4900-B7F8-8046DE3D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D3EBE-407A-407C-949A-CEADC0F1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3674-8EB8-46A1-B16A-9E15D694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CD61-F0A6-4A50-8070-18F0DA85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1741-CFC8-44BB-A280-E5E04E7437EF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5F3C-FB7D-480B-BE2A-961F520090F9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kluze.upol.cz/portal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Nov&#225;%20legislativa/Individu&#225;ln&#237;%20vzd&#283;l&#225;vac&#237;%20pl&#225;n%20-%20vzor.pdf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Nov&#225;%20legislativa/Pl&#225;n%20pedagogick&#233;%20podpory%20-%20vzor.pdf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rvp.cz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vp.cz/" TargetMode="External"/><Relationship Id="rId2" Type="http://schemas.openxmlformats.org/officeDocument/2006/relationships/hyperlink" Target="file:///Nov&#225;%20legislativa/RVP%20ZV_2016%20(2)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Nov&#225;%20legislativa/Zpr&#225;va%20&#352;PZ%20-%20vzor.doc" TargetMode="External"/><Relationship Id="rId2" Type="http://schemas.openxmlformats.org/officeDocument/2006/relationships/hyperlink" Target="file:///Nov&#225;%20legislativa/Doporu&#269;en&#237;%20&#352;PZ%20-%20vzor.pdf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11. 3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1. blok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aktuální stav inkluze, nová legislativa a její aplikace do prax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2. blok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Kariérní poradenství – aktivity výchovného poradce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3. blok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 Výuka předmětu Volba povolání na základní škole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ůrná opatření mají být ve všech stupních poskytována v 10 oblastec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ce výu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ifikace vyučovacích metod a f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ence – práce se žákem mimo výu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ů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y obsahu vzdělávání – spec. ped. předmě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prava na výu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pora sociální a zdravo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 s třídním kolektiv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 informací na </a:t>
            </a:r>
            <a:r>
              <a:rPr b="0" lang="cs-CZ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inkluze.upol.cz/porta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964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ragraf 5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IVP pro žáka se S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kola zpracovává IVP, vyžadují-li to speciální vzdělávací potřeby žáka, zpracovává se na základě doporučení ŠPZ  a žádosti zákonného zástupce -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v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VP obsahuje údaje o skladbě druhů a stupňů podpůrných opatření poskytovaných v kombinaci s tímto plán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VP obsahuje zejména informace 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Úpravách obsahu vzdělá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Časovém a obsahovém rozvržení vzdělá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Úpravách metod a forem výuky a hodnocení žák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řípadné úpravě výstupů ze vzdělávání žák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VP se bude nově vyhodnocovat 1x ro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ragraf 6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istent pedag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P poskytuje jinému pedagogickému pracovníkovi podporu při vzdělávání žáka se SVP za účelem individualizace přístupu k těmto žák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P pomáhá pedagogovi při organizaci a realizaci vzdělávání, podporuje samostatnost a aktivní zapojení žáka do všech činností realizovaných v rámci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964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le potřeby pracuje s ostatními žáky třídy dle pokynů pedago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P může poskytovat podporu při vzdělávání žákovi nebo více žákům současně, nejvýše však 4 žákům ve tříd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1-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stup školy při poskytování podpůrných opatření 1. stupně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d zahájením poskytování podpůrných opatření 1. stupně zpracuje škola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lán pedagogické podpory,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terý zahrnuj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is obtíží žá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ánovaná podpůrná opatření 1. stup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 cílů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ůsob vyhodnocení plá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jpozději po 3 měsících se vyhodnotí, zda podpůrná opatření vedou k naplnění stanovených cílů – není-li tomu tak, doporučí škola využití poradenské pomoci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 plánem pedagogické podpory seznámí škola žáka, zákonného zástupce a všechny vyučující žá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vzor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přík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964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Postup před přiznáním podpůrného opatření 2. – 5. stupn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Š určí ve škole pedagogického pracovníka, který bude odpovídat za spolupráci  se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dnou z věcí, které ŠPZ využívá při posuzování speciálních vzdělávacích potřeba žáka, je vyhodnocení plánu pedagogické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PZ projedná před vydáním doporučení návrh doporučených podpůrných opatření se školou, zletilým žákem nebo zákonným zástupcem žáka; povede-li to k naplňování vzdělávacích potřeb žáka, přihlédne k jejich vyjádření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y 14 a 15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práva a doporučení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aragrafy popisují, co mají tyto dokumenty obsahovat; vzory jsou přílohou vyhláš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964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6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Poskytování podpůrných opatření 2. – 5. stupn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 škola poskytuje bezodkladně po obdržení doporučení ŠPZ a udělení informovaného souhlasu (co má obsahovat je součástí vyhláš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kola ve spolupráci se ŠPZ, žákem a zákonným zástupcem průběžně vyhodnocuje poskytování PO, zhodnocení musí být nejpozději do 1 roku od vydání doporu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y 17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rganizace vzdělávání žáků s 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třídě se může vzdělávat nejvýše 5 žáků s přiznaným podpůrným opatřením 2. – 5. stupn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čet žáků se SVP nesmí přesáhnout jednu třetinu žáků ve tříd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třídě mohou vykonávat pedagogickou činnost souběžně nejvýše 4 pedagogičtí pracovní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to vše znamená pro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utnost zapojit do spolupráce při plánování a realizace péče o žáky VŠECHNY pedagogické pracovní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lak na růst odbornosti pedagogů a jejich profesionali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hloubení spolupráce a komunikace uvnitř šk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hloubení spolupráce mezi školami a ŠP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sokou míru zapojení samotných žáků a zákonných zástupců, dojednávání s ni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Nutnost budovat školní systém péče – výzva pro poradenské pracovníky ve šk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ýchovný poradce jako kariérní pora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úkoly výchovného porad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ostředkovávání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á komunikace se žáky a rodi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áce s třídními učiteli vycházejících žá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ministrativní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em výchovného poradce není hodnotit a doporučovat konkrétní střední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Legislativní zakotvení prob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on č. 561/2004 Sb. o předškolním, základním, středním, vyšším odborném a jiném vzdělání (školský zákon) 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§ 59 - §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yhláška č. 671/2004 Sb., kterou se stanoví podrobnosti o organizaci přijímacího řízení ke vzdělávání ve středních školách,ve znění vyhlášky č. 422/2006 Sb., č. 46/2008 Sb.,č. 394/2008 Sb. a č. 86/2012 - ukáz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y začít se žáky intenzivněji spolupracovat? Na počátku 8. roční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může výchovný poradce v oblasti po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i vzdělávaní po ukončení povinné školní dochá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středních škol a způsoby jejich ukon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žáci najdou k dané problematice infor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průzk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ím chceš bý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ý typ školy chceš stud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ou konkrétní školu chceš stud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528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Ve školském terénu je mnoho rozporuplných informací, na konci ledna objevila se informace, že inkluze se o 2 roky odklád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Aktuální stav – je schválená novela školského zákona i vyhláška č. 27/2016 o vzdělávání žáků se speciálními vzdělávacími potřebami a žáků nadaných – tyto dokumenty mají odloženou platnost  od 1. 9. 2016 a stanovují pravidla pro vzdělávání žáků s SVP, která budou pro školy závazná, od 1. 3. je platná upravená verze RVP – školy mají povinnost zajistit soulad se ŠVP do 1. 9. 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Do 1. 9. 2018 je prodloužen čas na rediagnostiku žáků se SVP – je to čas pro školská poradenská zařízení, nikoliv pro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Známe pravidla pro vzdělávání žáků s L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ktuální situace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– inkluze a společné vzdělá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y profesní orientace – psychologický test – spolupráce se školním psycholog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lizace testů – žáci 8. ročníku na  základě písemného přihlášení podepsaného zákonným zástup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1. pol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 realizována v rámci vyuč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ultace se žáky a rodiči – v průběhu 2. pololetí bez účasti výchovného porad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ci se SVP mohou test absolvovat individuálně v PPP – při skupinovém šetření může být jejich výsledek ovlivněn nedostatkem času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42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ktivity pro žáky 9. ročníku a jejich rodi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 počátku školního roku průzkum + informace o průběhu přijímacího ří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formace na webové stránky + informační nástěn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vodní třídní schůzky – informace pro rodiče o připravovaných aktivitách a průběhu přijímacího řízení, u žáků se SVP domluva na zajištění kontrolního vyšetření v P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dání atlasů středních škol – tištěná i elektronická verze – nabídka z více kraj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eletrh středních škol na Z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xkurze do informačního střediska Ú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alší průzkum – naprostá většina žáků má vybráno, někteří čekají na zveřejnění kritérií pro přijím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prava a vydání zápisových lístků - konzultační hodiny v lednu – vydání zápisových lístků zákonným zástupců – zajistí TU, VP zajistí přípravu podkladů pro evidenci – příkl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 31. 1. zveřejnění kritérií pro přijímací řízení, stanovení toho, zde se bude nebo nebude konat přijímací zkouš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dání přihlášek na stření školu – společně s pololetním vysvědčením 2 přihlášky se jménem a vyplněním prospěch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růběhu února kontrola a potvrzení přihlášek školou – využití je na rozhodnutí zákonných zástupc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uben – realizace přijímacího řízení – pomoc při odvolacím řízení, případně s podáváním přihlášek do dalších 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rven – vyhodnocení přijímacího řízení + příprava závěrečné zprávy – 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ivity je třeba nabízet i potenciálním zájemcům o studium na víceletých gymnáziích – žákům 5. a 7. roč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řípadě zájmu žáků i zákonných zástupců možnost individuální konzul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ýuka předmětu Volba povolání na základní šk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ematika volby povolání je zařazena do předmětu pracovní činnosti – oblast svět práce – povinně do 8. – 9. roč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ď je oblasti věnovaná část roku, nebo samostatný předmět Volba povolání – název předmětu volí škola, vše je součástí školního vzdělávacího programu školy – 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. ročník – zaměření na kompetence, které vedou k reálné vol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. ročník – zaměření na volbu konkrétní školy a problematiku dalšího uplatnění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předmět neučí výchovný poradce,je důležité s vyučujícím úzce spoluprac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kušenosti z výuky volby povolání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 9. ročn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mět je hodnocený na vysvědčení jako ostatní předměty – je vhodné stanovit kritéria pro hodnocení – příklad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Žáci si vedou sešit – evidují jednotlivé hodiny + buď stručný zápis, nebo přehled uskutečněných aktivit a portfolio – výsledky testů, informační letáky ze středních škol ap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minární práce – představení vybrané školy podle konkrétních kritérií – příkl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e sledovat aktuální situ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bové stránky MŠMT </a:t>
            </a:r>
            <a:r>
              <a:rPr b="0" lang="cs-CZ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sekce společné vzděl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bové stránky </a:t>
            </a:r>
            <a:r>
              <a:rPr b="0" lang="cs-CZ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rvp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sekce společné vzděl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1828800"/>
            <a:ext cx="6075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Legislativní změny spojené se společným vzdělávání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ečného vzdělávání se týkají paragrafy 16, 16a, 16b, které se věnují podpoře vzdělávání žáků se speciálními vzdělávacími potřebami – platné budou od 1. 9.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ragraf 16 – Podpora vzdělávání žáků se S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ší se pojmy zdravotní znevýhodnění + vyrovnávací opatření a zdravotní postižení + podpůrná opat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ě paragramy definují kdo je žák se speciálními vzdělávacími potřebami a co je to podpůrné opat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ůrná opatření spočívají 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oradenské podpoře školy a školského poradenského zaříze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úpravě organizace, obsahu, hodnocení, forem a metod vzdělávání včetně zabezpečení předmětů speciálně pedagogické péč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úpravě podmínek pro přijímaní a ukončování vzdělá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oužití kompenzačních pomůcek a speciálních učebnic a učebních pomůce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vela školského zákona 561/2004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platná od 1. 5.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ě očekávaných výstupů vzdělávání v mezích stanovených rámcovými vzdělávacími programy (na stránkách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rvp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acovní verze upraveného RVP ZV doplněného o minimální výstupy –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říkla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minimální výstupy se budou týkat žáků s LMP od 3. stupně podpůrných opatř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podle I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asistenta pedag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dalšího pedagogického pracovníka, příp. tlumočníka do znakového jazyka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kytování  vzdělávání v prostorách stavebně nebo technicky uprave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se člení do 5 stupňů podle organizační, pedagogické a finanční náročnosti, podpůrná opatření různých druhů a stupňů lze kombinov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1. stupně uplatňuje škola i bez doporučení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836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2. – 5. stupně lze uplatnit pouze s doporučením ŠPZ, podmínkou pro poskytnutí těchto opatření je vždy informovaný písemný souhlas zákonného zástupce žá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6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Poradenská pomoc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PZ poskytne poradenskou pomoc žákovi na základě žádosti zákonného zástupce nebo na základě rozhodnutí orgánu veřejné mo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em poradenské pomoci ŠPZ jsou zpráva a doporučen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áva – je určená pouze zákonnému zástupci žáka, uvádí se v ní skutečnosti podstatné pro doporučení podpůrných opatření (průběh a výsledek vyšetření) -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v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oručení – je určené škole; uvádí se v něm závěry vyšetření a podpůrná opatření  prvního až pátého stupně, která odpovídají zjištěným speciálním vzdělávacím potřebám -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v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6b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Rev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Žák nebo zákonný zástupce může do 30 dnů ode dne, kdy obdržel zprávu nebo doporučení ŠPZ, požádat právnickou osobu zřízenou a pověřenou MŠMT prováděním revizí o jejich reviz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 revizi může požádat také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ento paragraf určuje, co má obsahovat vyhláška, která problematiku vzdělávání žáků se SVP konkretizuje a specifik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kolní matrika obsahuje údaje o podpůrných opatřeních poskytovaných žákovi a o závěrech vyšetření uvedených v doporučení školského poradenského zařízení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Žák má právo vyjadřovat se ke všem podstatným záležitostem týkajícím se jeho vzdělávání – předpokládá se prohloubení spolupráce mezi školou, zákonnými zástupci žáků a žáky samotný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1. stupně představují minimální úpravu metod, organizace a hodnocení vzdělávání, nemají normovanou finanční náročnost, za jejich poskytování zodpovídá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2. – 5. stupně se poskytují na základě doporučení ŠZP a s informovaným souhlas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klady podpůrných opatření jsou příloh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hláška 27/2016 o vzdělávání žáků se SVP a žáků nadaný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03-10T23:05:26Z</dcterms:modified>
  <cp:revision>129</cp:revision>
  <dc:subject/>
  <dc:title>Výchovný poradce  v systému poradenských služeb na ZŠ Rosice</dc:title>
</cp:coreProperties>
</file>