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707-785E-4018-A342-6C4C75EF62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C67-A345-49B5-ABE5-21F0F840E9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0.11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ACC8-7471-4A8A-B6B8-D19228E4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4C09-F252-4009-9CF6-4BAA80A8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A48D-1C9B-44FA-B2C1-B3CC4661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3C0E-D4DD-4C90-9555-09948BC2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6410-F751-4331-BE33-BB1E703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F510-5639-44C9-BF8B-354C196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ED34-A0A8-492C-AE88-3D8F85A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8937-04C8-4C8C-9FA5-D875209F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A2B-7650-45A3-B299-9F8138CA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2B4-4F3A-4F40-A0E8-8EFCA817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1F52-3225-4DF8-A140-EC0F0BA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B6A2-418D-4FEB-907E-79F24DC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F726-6761-4898-80D8-D943D1C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FAD1-EAA4-407B-96C2-EB6B4CE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FD33-7ED1-4AEC-8700-72BB4D5E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09FE-93DF-47FC-9C90-F23DA974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36F9-11C5-4D96-9A4F-E52A0E69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0525-73A1-4B4F-B73B-836E29B5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3205-15CF-4F09-800B-61AACA9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F078-0EC7-446E-BC8A-226DB9F3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74F4-4092-44C0-9577-47B6F43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70EE-CD6E-4DC1-BCBE-2935DCCA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6DEB-5204-47E4-AF0F-83C12839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2D3E-7F69-4001-9013-34186E3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22EA-E1BE-4335-96FD-72CE2AD0FE2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F36-2351-45D9-8047-CD09DC5978A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kluze.upol.cz/porta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Individu&#225;ln&#237;%20vzd&#283;l&#225;vac&#237;%20pl&#225;n%20-%20vzor.pd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Pl&#225;n%20pedagogick&#233;%20podpory%20-%20vzor.pd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rvp.cz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vp.cz/" TargetMode="External"/><Relationship Id="rId2" Type="http://schemas.openxmlformats.org/officeDocument/2006/relationships/hyperlink" Target="file:///Nov&#225;%20legislativa/RVP%20ZV_2016%20(2)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Zpr&#225;va%20&#352;PZ%20-%20vzor.doc" TargetMode="External"/><Relationship Id="rId2" Type="http://schemas.openxmlformats.org/officeDocument/2006/relationships/hyperlink" Target="file:///Nov&#225;%20legislativa/Doporu&#269;en&#237;%20&#352;PZ%20-%20vzor.pd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11. 3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. blok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aktuální stav inkluze, nová legislativa a její aplikace do prax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2. blo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Kariérní poradenství – aktivity výchovného poradc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3. blo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 Výuka předmětu Volba povolání na základní škole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ůrná opatření mají být ve všech stupních poskytována v 10 oblaste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 výu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ace vyučovacích metod a f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ence – práce se žákem mimo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ů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y obsahu vzdělávání – spec. ped. předm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na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a sociální a zdravo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s třídním kolekti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informací na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inkluze.upol.cz/porta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IVP pro žáka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a zpracovává IVP, vyžadují-li to speciální vzdělávací potřeby žáka, zpracovává se na základě doporučení ŠPZ  a žádosti zákonného zástupce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obsahuje údaje o skladbě druhů a stupňů podpůrných opatření poskytovaných v kombinaci s tímto plá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obsahuje zejména informace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ách obsahu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Časovém a obsahovém rozvržení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ách metod a forem výuky a hodnocení žá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řípadné úpravě výstupů ze vzdělávání žá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se bude nově vyhodnocovat 1x ro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6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istent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 poskytuje jinému pedagogickému pracovníkovi podporu při vzdělávání žáka se SVP za účelem individualizace přístupu k těmto žá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 pomáhá pedagogovi při organizaci a realizaci vzdělávání, podporuje samostatnost a aktivní zapojení žáka do všech činností realizovaných v rámci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le potřeby pracuje s ostatními žáky třídy dle pokynů pedago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P může poskytovat podporu při vzdělávání žákovi nebo více žákům současně, nejvýše však 4 žákům ve tříd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1-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stup školy při poskytování podpůrných opatření 1. stup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 zahájením poskytování podpůrných opatření 1. stupně zpracuje škol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lán pedagogické podpory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rý zahrnu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 obtíží ž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ovaná podpůrná opatření 1. stup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 cílů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ůsob vyhodnocení pl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později po 3 měsících se vyhodnotí, zda podpůrná opatření vedou k naplnění stanovených cílů – není-li tomu tak, doporučí škola využití poradenské pomoci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 plánem pedagogické podpory seznámí škola žáka, zákonného zástupce a všechny vyučující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přík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stup před přiznáním podpůrného opatření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Š určí ve škole pedagogického pracovníka, který bude odpovídat za spolupráci  se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ou z věcí, které ŠPZ využívá při posuzování speciálních vzdělávacích potřeba žáka, je vyhodnocení plánu pedagogické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PZ projedná před vydáním doporučení návrh doporučených podpůrných opatření se školou, zletilým žákem nebo zákonným zástupcem žáka; povede-li to k naplňování vzdělávacích potřeb žáka, přihlédne k jejich vyjádř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y 14 a 15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práva a doporučení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ragrafy popisují, co mají tyto dokumenty obsahovat; vzory jsou přílohou vyhláš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skytování podpůrných opatření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škola poskytuje bezodkladně po obdržení doporučení ŠPZ a udělení informovaného souhlasu (co má obsahovat je součástí vyhláš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a ve spolupráci se ŠPZ, žákem a zákonným zástupcem průběžně vyhodnocuje poskytování PO, zhodnocení musí být nejpozději do 1 roku od vydání dop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y 17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rganizace vzdělávání žáků s 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třídě se může vzdělávat nejvýše 5 žáků s přiznaným podpůrným opatřením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žáků se SVP nesmí přesáhnout jednu třetinu žáků ve tříd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třídě mohou vykonávat pedagogickou činnost souběžně nejvýše 4 pedagogičtí pracovní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o vše znamená pro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ost zapojit do spolupráce při plánování a realizace péče o žáky VŠECHNY pedagogické pracovní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lak na růst odbornosti pedagogů a jejich profesionali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hloubení spolupráce a komunikace uvnitř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hloubení spolupráce mezi školami a ŠP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sokou míru zapojení samotných žáků a zákonných zástupců, dojednávání s ni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utnost budovat školní systém péče – výzva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ýchovný poradce jako kariérní pora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koly výchovného porad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ostředkovávání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á komunikace se žáky a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 s třídními učiteli vycházejících ž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ministrativní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em výchovného poradce není hodnotit a doporučovat konkrétní střední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Legislativní zakotvení prob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on č. 561/2004 Sb. o předškolním, základním, středním, vyšším odborném a jiném vzdělání (školský zákon)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§ 59 - §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hláška č. 671/2004 Sb., kterou se stanoví podrobnosti o organizaci přijímacího řízení ke vzdělávání ve středních školách,ve znění vyhlášky č. 422/2006 Sb., č. 46/2008 Sb.,č. 394/2008 Sb. a č. 86/2012 - ukáz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y začít se žáky intenzivněji spolupracovat? Na počátku 8. roční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 výchovný poradce v oblasti po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i vzdělávaní po ukončení povinné školní doch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středních škol a způsoby jejich ukon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žáci najdou k dané problematice in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růzk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ím chceš bý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typ školy chceš stud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ou konkrétní školu chceš stud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Ve školském terénu je mnoho rozporuplných informací, na konci ledna objevila se informace, že inkluze se o 2 roky odklád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Aktuální stav – je schválená novela školského zákona i vyhláška č. 27/2016 o vzdělávání žáků se speciálními vzdělávacími potřebami a žáků nadaných – tyto dokumenty mají odloženou platnost  od 1. 9. 2016 a stanovují pravidla pro vzdělávání žáků s SVP, která budou pro školy závazná, od 1. 3. je platná upravená verze RVP – školy mají povinnost zajistit soulad se ŠVP do 1. 9.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o 1. 9. 2018 je prodloužen čas na rediagnostiku žáků se SVP – je to čas pro školská poradenská zařízení, nikoliv pro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Známe pravidla pro vzdělávání žáků s L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ktuální situa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– inkluze a společné vzdělá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profesní orientace – psychologický test – spolupráce se školním psycholo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izace testů – žáci 8. ročníku na  základě písemného přihlášení podepsaného zákonným zástup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1. pol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 realizována v rámci vyu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ultace se žáky a rodiči – v průběhu 2. pololetí bez účasti výchovného porad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se SVP mohou test absolvovat individuálně v PPP – při skupinovém šetření může být jejich výsledek ovlivněn nedostatkem čas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ktivity pro žáky 9. ročníku a jejich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 počátku školního roku průzkum + informace o průběhu přijímacího ří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na webové stránky + informační nástě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vodní třídní schůzky – informace pro rodiče o připravovaných aktivitách a průběhu přijímacího řízení, u žáků se SVP domluva na zajištění kontrolního vyšetření v P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dání atlasů středních škol – tištěná i elektronická verze – nabídka z více kra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etrh středních škol na Z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xkurze do informačního střediska Ú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lší průzkum – naprostá většina žáků má vybráno, někteří čekají na zveřejnění kritérií pro přijím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prava a vydání zápisových lístků - konzultační hodiny v lednu – vydání zápisových lístků zákonným zástupců – zajistí TU, VP zajistí přípravu podkladů pro evidenci – příkl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 31. 1. zveřejnění kritérií pro přijímací řízení, stanovení toho, zde se bude nebo nebude konat přijímací zkouš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dání přihlášek na stření školu – společně s pololetním vysvědčením 2 přihlášky se jménem a vyplněním prospěch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ůběhu února kontrola a potvrzení přihlášek školou – využití je na rozhodnutí zákonných zástupc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ben – realizace přijímacího řízení – pomoc při odvolacím řízení, případně s podáváním přihlášek do dalších 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ven – vyhodnocení přijímacího řízení + příprava závěrečné zprávy – 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ity je třeba nabízet i potenciálním zájemcům o studium na víceletých gymnáziích – žákům 5. a 7. roč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ě zájmu žáků i zákonných zástupců možnost individuální konzul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uka předmětu Volba povolání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volby povolání je zařazena do předmětu pracovní činnosti – oblast svět práce – povinně do 8. – 9. roč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ď je oblasti věnovaná část roku, nebo samostatný předmět Volba povolání – název předmětu volí škola, vše je součástí školního vzdělávacího programu školy – 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. ročník – zaměření na kompetence, které vedou k reálné vol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. ročník – zaměření na volbu konkrétní školy a problematiku dalšího uplatnění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předmět neučí výchovný poradce,je důležité s vyučujícím úzce spoluprac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kušenosti z výuky volby povolán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9. roč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 je hodnocený na vysvědčení jako ostatní předměty – je vhodné stanovit kritéria pro hodnocení – příklad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Žáci si vedou sešit – evidují jednotlivé hodiny + buď stručný zápis, nebo přehled uskutečněných aktivit a portfolio – výsledky testů, informační letáky ze středních škol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minární práce – představení vybrané školy podle konkrétních kritérií – příkl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e sledovat aktuální situ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ové stránky MŠMT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ekce společné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ové stránky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rvp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ekce společné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1828800"/>
            <a:ext cx="6075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gislativní změny spojené se společným vzděláván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ného vzdělávání se týkají paragrafy 16, 16a, 16b, které se věnují podpoře vzdělávání žáků se speciálními vzdělávacími potřebami – platné budou od 1. 9.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16 – Podpora vzdělávání žáků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ší se pojmy zdravotní znevýhodnění + vyrovnávací opatření a zdravotní postižení + podpůrná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paragramy definují kdo je žák se speciálními vzdělávacími potřebami a co je to podpůrné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ůrná opatření spočívají 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radenské podpoře školy a školského poradenského zaříz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ě organizace, obsahu, hodnocení, forem a metod vzdělávání včetně zabezpečení předmětů speciálně pedagogické péč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ě podmínek pro přijímaní a ukončování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užití kompenzačních pomůcek a speciálních učebnic a učebních pomůc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ela školského zákona 561/2004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latná od 1. 5.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ě očekávaných výstupů vzdělávání v mezích stanovených rámcovými vzdělávacími programy (na stránkách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rvp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acovní verze upraveného RVP ZV doplněného o minimální výstupy –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říkla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inimální výstupy se budou týkat žáků s LMP od 3. stupně podpůrných opatř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podle I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asistenta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dalšího pedagogického pracovníka, příp. tlumočníka do znakového jazyka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ování  vzdělávání v prostorách stavebně nebo technicky uprav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se člení do 5 stupňů podle organizační, pedagogické a finanční náročnosti, podpůrná opatření různých druhů a stupňů lze kombinov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1. stupně uplatňuje škola i bez doporučení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2. – 5. stupně lze uplatnit pouze s doporučením ŠPZ, podmínkou pro poskytnutí těchto opatření je vždy informovaný písemný souhlas zákonného zástupce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radenská pomoc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PZ poskytne poradenskou pomoc žákovi na základě žádosti zákonného zástupce nebo na základě rozhodnutí orgánu veřejné mo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em poradenské pomoci ŠPZ jsou zpráva a doporuče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a – je určená pouze zákonnému zástupci žáka, uvádí se v ní skutečnosti podstatné pro doporučení podpůrných opatření (průběh a výsledek vyšetření)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oručení – je určené škole; uvádí se v něm závěry vyšetření a podpůrná opatření  prvního až pátého stupně, která odpovídají zjištěným speciálním vzdělávacím potřebám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b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Rev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ák nebo zákonný zástupce může do 30 dnů ode dne, kdy obdržel zprávu nebo doporučení ŠPZ, požádat právnickou osobu zřízenou a pověřenou MŠMT prováděním revizí o jejich revi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revizi může požádat také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nto paragraf určuje, co má obsahovat vyhláška, která problematiku vzdělávání žáků se SVP konkretizuje a specifik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ní matrika obsahuje údaje o podpůrných opatřeních poskytovaných žákovi a o závěrech vyšetření uvedených v doporučení školského poradenského zařízení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ák má právo vyjadřovat se ke všem podstatným záležitostem týkajícím se jeho vzdělávání – předpokládá se prohloubení spolupráce mezi školou, zákonnými zástupci žáků a žáky samotný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1. stupně představují minimální úpravu metod, organizace a hodnocení vzdělávání, nemají normovanou finanční náročnost, za jejich poskytování zodpovídá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2. – 5. stupně se poskytují na základě doporučení ŠZP a s informovaným souhla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podpůrných opatření jsou příloh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áška 27/2016 o vzdělávání žáků se SVP a žáků nada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3-10T23:05:26Z</dcterms:modified>
  <cp:revision>129</cp:revision>
  <dc:subject/>
  <dc:title>Výchovný poradce  v systému poradenských služeb na ZŠ Rosice</dc:title>
</cp:coreProperties>
</file>