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0BF1-408F-4796-8B50-4084243C41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85D0-3069-45B4-BC2C-189BEA7F2D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datum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0.11.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6CA4-244C-4AA9-B424-617FF256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1A77-6494-4E6C-B30D-86CA121C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7998-D9E7-4C92-B5B1-EF283F26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6CD7-1196-447C-A9C3-C74E1C67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63AB-08C8-4D7E-AAB2-DA5ECE99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BBE4-95D0-47AD-AD95-5A598EDC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E4A0-FA54-445A-B131-0A448D2D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F594-8F2E-4EC1-9EE9-D2FF19A0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53D5-48E8-4A76-A975-EB859B9F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1422-81B2-4D9C-B9BF-8DD77A7D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0B49-59B1-4054-9C47-9F1E5209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43A8-E290-4209-B381-7E5545DD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2022-2F6B-4255-BB35-14968FCB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1E18-264A-43C8-9EC1-7C418B7A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4413-7FC1-4DF7-8614-121D98CA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80C3-A2B7-4989-9A90-DB0D2BBB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E269-D109-4C7C-882F-0BD084EE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AB27-EBA3-43C5-AF46-8529424E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AFA4-0950-4F14-9BFB-7345F053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7655-497B-4EF2-AE61-2056C2FD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3EA7-CE55-4A79-95DD-6D35E25A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EEC4-1742-4AA8-A653-17538CD8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DF0E-17FD-49D6-A4F4-791D5CDF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A023-4253-40F3-9BF4-B16AD751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79A5-F401-4E12-9540-C225D5430B96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FDCF-5183-4A25-B79E-E270CAB65F8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kluze.upol.cz/portal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Nov&#225;%20legislativa/Individu&#225;ln&#237;%20vzd&#283;l&#225;vac&#237;%20pl&#225;n%20-%20vzor.pdf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Nov&#225;%20legislativa/Pl&#225;n%20pedagogick&#233;%20podpory%20-%20vzor.pdf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hyperlink" Target="http://www.rvp.cz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vp.cz/" TargetMode="External"/><Relationship Id="rId2" Type="http://schemas.openxmlformats.org/officeDocument/2006/relationships/hyperlink" Target="file:///Nov&#225;%20legislativa/RVP%20ZV_2016%20(2)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Nov&#225;%20legislativa/Zpr&#225;va%20&#352;PZ%20-%20vzor.doc" TargetMode="External"/><Relationship Id="rId2" Type="http://schemas.openxmlformats.org/officeDocument/2006/relationships/hyperlink" Target="file:///Nov&#225;%20legislativa/Doporu&#269;en&#237;%20&#352;PZ%20-%20vzor.pdf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11. 3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1. blok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aktuální stav inkluze, nová legislativa a její aplikace do prax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2. blok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Kariérní poradenství – aktivity výchovného poradce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3. blok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 Výuka předmětu Volba povolání na základní škole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ůrná opatření mají být ve všech stupních poskytována v 10 oblastec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 výu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ace vyučovacích metod a f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ence – práce se žákem mimo vý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ů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y obsahu vzdělávání – spec. ped. předmě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prava na výu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pora sociální a zdravo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s třídním kolektiv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informací na </a:t>
            </a:r>
            <a:r>
              <a:rPr b="0" lang="cs-CZ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inkluze.upol.cz/porta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964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agraf 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IVP pro žáka se S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kola zpracovává IVP, vyžadují-li to speciální vzdělávací potřeby žáka, zpracovává se na základě doporučení ŠPZ  a žádosti zákonného zástupce -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VP obsahuje údaje o skladbě druhů a stupňů podpůrných opatření poskytovaných v kombinaci s tímto plá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VP obsahuje zejména informace 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ách obsahu vzdělá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Časovém a obsahovém rozvržení vzdělá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ách metod a forem výuky a hodnocení žák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řípadné úpravě výstupů ze vzdělávání žák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VP se bude nově vyhodnocovat 1x ro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agraf 6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istent pedag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P poskytuje jinému pedagogickému pracovníkovi podporu při vzdělávání žáka se SVP za účelem individualizace přístupu k těmto žák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P pomáhá pedagogovi při organizaci a realizaci vzdělávání, podporuje samostatnost a aktivní zapojení žáka do všech činností realizovaných v rámci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964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le potřeby pracuje s ostatními žáky třídy dle pokynů pedago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P může poskytovat podporu při vzdělávání žákovi nebo více žákům současně, nejvýše však 4 žákům ve tříd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1-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stup školy při poskytování podpůrných opatření 1. stupně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 zahájením poskytování podpůrných opatření 1. stupně zpracuje škola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lán pedagogické podpory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terý zahrnuj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is obtíží žá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ánovaná podpůrná opatření 1. stup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 cílů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ůsob vyhodnocení plá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později po 3 měsících se vyhodnotí, zda podpůrná opatření vedou k naplnění stanovených cílů – není-li tomu tak, doporučí škola využití poradenské pomoci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 plánem pedagogické podpory seznámí škola žáka, zákonného zástupce a všechny vyučující žá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zor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přík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lnSpc>
                <a:spcPct val="90000"/>
              </a:lnSpc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964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Postup před přiznáním podpůrného opatření 2. – 5. stup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Š určí ve škole pedagogického pracovníka, který bude odpovídat za spolupráci  se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ou z věcí, které ŠPZ využívá při posuzování speciálních vzdělávacích potřeba žáka, je vyhodnocení plánu pedagogické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PZ projedná před vydáním doporučení návrh doporučených podpůrných opatření se školou, zletilým žákem nebo zákonným zástupcem žáka; povede-li to k naplňování vzdělávacích potřeb žáka, přihlédne k jejich vyjádřen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y 14 a 15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práva a doporučení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aragrafy popisují, co mají tyto dokumenty obsahovat; vzory jsou přílohou vyhláš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964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6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Poskytování podpůrných opatření 2. – 5. stup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 škola poskytuje bezodkladně po obdržení doporučení ŠPZ a udělení informovaného souhlasu (co má obsahovat je součástí vyhláš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kola ve spolupráci se ŠPZ, žákem a zákonným zástupcem průběžně vyhodnocuje poskytování PO, zhodnocení musí být nejpozději do 1 roku od vydání dop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y 17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rganizace vzdělávání žáků s 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třídě se může vzdělávat nejvýše 5 žáků s přiznaným podpůrným opatřením 2. – 5. stup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čet žáků se SVP nesmí přesáhnout jednu třetinu žáků ve tříd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třídě mohou vykonávat pedagogickou činnost souběžně nejvýše 4 pedagogičtí pracovní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to vše znamená pro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utnost zapojit do spolupráce při plánování a realizace péče o žáky VŠECHNY pedagogické pracovní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lak na růst odbornosti pedagogů a jejich profesionali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hloubení spolupráce a komunikace uvnitř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hloubení spolupráce mezi školami a ŠP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sokou míru zapojení samotných žáků a zákonných zástupců, dojednávání s ni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b0f0"/>
              </a:buClr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utnost budovat školní systém péče – výzva pro poradenské pracovníky ve 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ýchovný poradce jako kariérní pora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úkoly výchovného porad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ostředkovávání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á komunikace se žáky a rodi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áce s třídními učiteli vycházejících žá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ministrativní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em výchovného poradce není hodnotit a doporučovat konkrétní střední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Legislativní zakotvení prob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on č. 561/2004 Sb. o předškolním, základním, středním, vyšším odborném a jiném vzdělání (školský zákon) →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§ 59 - §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yhláška č. 671/2004 Sb., kterou se stanoví podrobnosti o organizaci přijímacího řízení ke vzdělávání ve středních školách,ve znění vyhlášky č. 422/2006 Sb., č. 46/2008 Sb.,č. 394/2008 Sb. a č. 86/2012 - ukáz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y začít se žáky intenzivněji spolupracovat? Na počátku 8. roční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může výchovný poradce v oblasti po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i vzdělávaní po ukončení povinné školní dochá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středních škol a způsoby jejich ukon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žáci najdou k dané problematice infor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průzk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ím chceš bý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ý typ školy chceš stud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ou konkrétní školu chceš stud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528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Ve školském terénu je mnoho rozporuplných informací, na konci ledna objevila se informace, že inkluze se o 2 roky odklád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Aktuální stav – je schválená novela školského zákona i vyhláška č. 27/2016 o vzdělávání žáků se speciálními vzdělávacími potřebami a žáků nadaných – tyto dokumenty mají odloženou platnost  od 1. 9. 2016 a stanovují pravidla pro vzdělávání žáků s SVP, která budou pro školy závazná, od 1. 3. je platná upravená verze RVP – školy mají povinnost zajistit soulad se ŠVP do 1. 9.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Do 1. 9. 2018 je prodloužen čas na rediagnostiku žáků se SVP – je to čas pro školská poradenská zařízení, nikoliv pro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Známe pravidla pro vzdělávání žáků s L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ktuální situace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– inkluze a společné vzdělá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y profesní orientace – psychologický test – spolupráce se školním psycholo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lizace testů – žáci 8. ročníku na  základě písemného přihlášení podepsaného zákonným zástup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1. pol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 realizována v rámci vyuč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ultace se žáky a rodiči – v průběhu 2. pololetí bez účasti výchovného porad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ci se SVP mohou test absolvovat individuálně v PPP – při skupinovém šetření může být jejich výsledek ovlivněn nedostatkem času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42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ktivity pro žáky 9. ročníku a jejich rodi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 počátku školního roku průzkum + informace o průběhu přijímacího ří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formace na webové stránky + informační nástě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vodní třídní schůzky – informace pro rodiče o připravovaných aktivitách a průběhu přijímacího řízení, u žáků se SVP domluva na zajištění kontrolního vyšetření v P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dání atlasů středních škol – tištěná i elektronická verze – nabídka z více kra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letrh středních škol na Z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xkurze do informačního střediska Ú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alší průzkum – naprostá většina žáků má vybráno, někteří čekají na zveřejnění kritérií pro přijím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prava a vydání zápisových lístků - konzultační hodiny v lednu – vydání zápisových lístků zákonným zástupců – zajistí TU, VP zajistí přípravu podkladů pro evidenci – příkl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 31. 1. zveřejnění kritérií pro přijímací řízení, stanovení toho, zde se bude nebo nebude konat přijímací zkouš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dání přihlášek na stření školu – společně s pololetním vysvědčením 2 přihlášky se jménem a vyplněním prospěch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růběhu února kontrola a potvrzení přihlášek školou – využití je na rozhodnutí zákonných zástupc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uben – realizace přijímacího řízení – pomoc při odvolacím řízení, případně s podáváním přihlášek do dalších 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rven – vyhodnocení přijímacího řízení + příprava závěrečné zprávy – 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ivity je třeba nabízet i potenciálním zájemcům o studium na víceletých gymnáziích – žákům 5. a 7. roč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řípadě zájmu žáků i zákonných zástupců možnost individuální konzul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ýuka předmětu Volba povolání na základní šk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ematika volby povolání je zařazena do předmětu pracovní činnosti – oblast svět práce – povinně do 8. – 9. roč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ď je oblasti věnovaná část roku, nebo samostatný předmět Volba povolání – název předmětu volí škola, vše je součástí školního vzdělávacího programu školy – 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. ročník – zaměření na kompetence, které vedou k reálné vol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. ročník – zaměření na volbu konkrétní školy a problematiku dalšího uplatnění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předmět neučí výchovný poradce,je důležité s vyučujícím úzce spoluprac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kušenosti z výuky volby povolání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 9. roč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 je hodnocený na vysvědčení jako ostatní předměty – je vhodné stanovit kritéria pro hodnocení – příklad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Žáci si vedou sešit – evidují jednotlivé hodiny + buď stručný zápis, nebo přehled uskutečněných aktivit a portfolio – výsledky testů, informační letáky ze středních škol ap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minární práce – představení vybrané školy podle konkrétních kritérií – příkl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e sledovat aktuální situ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068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bové stránky MŠMT </a:t>
            </a:r>
            <a:r>
              <a:rPr b="0" lang="cs-CZ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sekce společné vzděl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ebové stránky </a:t>
            </a:r>
            <a:r>
              <a:rPr b="0" lang="cs-CZ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rvp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sekce společné vzděl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1828800"/>
            <a:ext cx="6075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Legislativní změny spojené se společným vzdělávání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ečného vzdělávání se týkají paragrafy 16, 16a, 16b, které se věnují podpoře vzdělávání žáků se speciálními vzdělávacími potřebami – platné budou od 1. 9.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ragraf 16 – Podpora vzdělávání žáků se S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ší se pojmy zdravotní znevýhodnění + vyrovnávací opatření a zdravotní postižení + podpůrná opat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ě paragramy definují kdo je žák se speciálními vzdělávacími potřebami a co je to podpůrné opat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ůrná opatření spočívají 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radenské podpoře školy a školského poradenského zaříze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ě organizace, obsahu, hodnocení, forem a metod vzdělávání včetně zabezpečení předmětů speciálně pedagogické péč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úpravě podmínek pro přijímaní a ukončování vzdělá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použití kompenzačních pomůcek a speciálních učebnic a učebních pomůce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vela školského zákona 561/2004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platná od 1. 5.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ě očekávaných výstupů vzdělávání v mezích stanovených rámcovými vzdělávacími programy (na stránkách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rvp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acovní verze upraveného RVP ZV doplněného o minimální výstupy –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říkla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minimální výstupy se budou týkat žáků s LMP od 3. stupně podpůrných opatř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podle I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asistenta pedag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dalšího pedagogického pracovníka, příp. tlumočníka do znakového jazyka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kytování  vzdělávání v prostorách stavebně nebo technicky uprave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se člení do 5 stupňů podle organizační, pedagogické a finanční náročnosti, podpůrná opatření různých druhů a stupňů lze kombinov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1. stupně uplatňuje škola i bez doporučení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2. – 5. stupně lze uplatnit pouze s doporučením ŠPZ, podmínkou pro poskytnutí těchto opatření je vždy informovaný písemný souhlas zákonného zástupce žá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6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Poradenská pomoc ŠP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PZ poskytne poradenskou pomoc žákovi na základě žádosti zákonného zástupce nebo na základě rozhodnutí orgánu veřejné mo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em poradenské pomoci ŠPZ jsou zpráva a doporučen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áva – je určená pouze zákonnému zástupci žáka, uvádí se v ní skutečnosti podstatné pro doporučení podpůrných opatření (průběh a výsledek vyšetření) -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oručení – je určené škole; uvádí se v něm závěry vyšetření a podpůrná opatření  prvního až pátého stupně, která odpovídají zjištěným speciálním vzdělávacím potřebám -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vz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6b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Rev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ák nebo zákonný zástupce může do 30 dnů ode dne, kdy obdržel zprávu nebo doporučení ŠPZ, požádat právnickou osobu zřízenou a pověřenou MŠMT prováděním revizí o jejich reviz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 revizi může požádat také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ento paragraf určuje, co má obsahovat vyhláška, která problematiku vzdělávání žáků se SVP konkretizuje a specifik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b0f0"/>
              </a:buClr>
              <a:buSzPct val="120000"/>
              <a:buFont typeface="Lucida Sans Unico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kolní matrika obsahuje údaje o podpůrných opatřeních poskytovaných žákovi a o závěrech vyšetření uvedených v doporučení školského poradenského zařízení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>
              <a:spcBef>
                <a:spcPts val="400"/>
              </a:spcBef>
              <a:buClr>
                <a:srgbClr val="0070c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55600">
              <a:spcBef>
                <a:spcPts val="400"/>
              </a:spcBef>
              <a:buClr>
                <a:srgbClr val="00b0f0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ák má právo vyjadřovat se ke všem podstatným záležitostem týkajícím se jeho vzdělávání – předpokládá se prohloubení spolupráce mezi školou, zákonnými zástupci žáků a žáky samotný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aragraf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1. stupně představují minimální úpravu metod, organizace a hodnocení vzdělávání, nemají normovanou finanční náročnost, za jejich poskytování zodpovídá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ůrná opatření 2. – 5. stupně se poskytují na základě doporučení ŠZP a s informovaným souhlas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klady podpůrných opatření jsou příloh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láška 27/2016 o vzdělávání žáků se SVP a žáků nada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3-10T23:05:26Z</dcterms:modified>
  <cp:revision>129</cp:revision>
  <dc:subject/>
  <dc:title>Výchovný poradce  v systému poradenských služeb na ZŠ Rosice</dc:title>
</cp:coreProperties>
</file>