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8C39C-818A-49F5-98DA-AF0458E7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81F83-CE39-4437-B06D-304586C8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84A62-AA13-4EC1-ABE3-6241D8BC4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87858-E3A2-468A-A11A-4C2B0500B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A802-5EB8-453C-A75B-F7C0090D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FBCC-1486-4249-B76C-7D8D53A6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F5D3-E551-4600-988E-19B58B0F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EE66-4188-48DC-9679-2589B214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80B6-6B24-49F7-87E7-9C485A30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E633-DD72-4F69-9D2E-836AF4B5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6235-0C68-43FC-B50F-684C2A8C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72FCE-AB61-4A7A-9240-CCC1E034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4EBA-D9D5-4341-8014-172B484B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E2E2-EB54-4515-A417-9B1DE626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F4F9-5F3F-4BB3-ABD0-72D1A240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FFD9-93E2-4AC6-8813-A39DF599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B633-5DA2-488A-8CA7-D3E8FCF99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2ECAA-618E-49FA-910F-2F197CE0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C860A-4EA5-4850-86DE-5879D494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3C0DD-D66D-43DF-B3C9-D985B8E5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03A3C-C6D6-42EE-BBED-A193296D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F0CE4-BD7C-4790-B5C6-1539897E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8FEEC-A8C3-47CB-B36A-C3B49B9D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667CB-F535-4F4A-9E2B-97CF76BE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CC38-FA82-46F2-BE30-6980C03278DA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42DD-2A59-4BE4-B054-B22CEB65472F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Arial"/>
              </a:rPr>
              <a:t>Program – 20. 5.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9.00 – 10.1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→ novela vyhlášky 72/2005 o poskytování poradensk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10.15 – 10.3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→ přestávka </a:t>
            </a: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10.30 – 11.4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→ služebreflexe k realizaci seminárních prací, zkušenosti stud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11.45 – 12.0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→ přestávka </a:t>
            </a: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12.00 – 13.0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→ prezentace 4 vybraných seminárních prací z různých typů škol + disk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říloha č. 3 k vyhlášce č. 72/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andardní činnosti výchovného porad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andardní činnosti školního metodika          prev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andardní činnosti školního psycholo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andardní činnosti školního speciálního pedagog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ěkteré činnosti uvedené ve standardech pro jednotlivé poradenské pracovníky se překrývají, proto je důležité stanovit ve škole poradenským pracovníkům pracovní náplně, které budou co nejpřesněji vymezovat jejich činnost a odpovídat velikosti jejich pracovního úvazku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ho jste seznámili se závěry analýzy      a jak budou dále využ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s při realizaci analýzy nebo              z výsledků překvapil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 - 3 kroky, které byste teď chtěli udělat nebo už jste je uděl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Reflexe studentů – seminární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Legislativní zakotvení poradenských služeb ve škole – novela vyhlášky 72/20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jem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školní poradenské pracoviště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e poprvé objevil v roce 1999 v Metodickém listu MŠMT         k poskytování poradenských služeb ve školách       a školských zařízeních č.j. 13 4099/98-24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školní poradenská pracoviště vznikala ve školách především v rámci projektů VIP, RAM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elký důraz byl kladen na roli školních psychologů        a školních speciálních pedagogů ve školách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existuje žádná přesná metodika, jak by mělo školní poradenské pracoviště ve škole vypadat,   jak by mělo být řízeno, kde je jeho místo                v organizačním řádu ško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do školské legislativy se tento pojem dostává až ny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ony, vyhlášky a metodické pokyny vymezují rámec pro poskytování poradenských služeb – rámec se dá aplikovat na každé škole jinak,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ždá škola si musí vytvořit vlastní funkční model poradenských služeb podle svých potřeb a specif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zákonná norma věnovaná poradenským službám j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yhláška MŠMT č. 72/2005 Sb., o poskytování poradenských služeb ve školách a školských poradenských zařízeníc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poslední novela spojená se zapracování problematiky společného vzdělávání vyjde v nejbližších dnech,   k dispozici je v podobě po připomínkovém 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hláška vymezuje, kdo poradenské služby poskytuje, komu je poskytuje, co je jejich obsahem a jaké jsou standardní činnosti jednotlivých subjektů, nově se v ní objevuj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jem školní poradenské pracoviš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školu jsou nejdůležitější paragraf č. 7 a příloha č.3 této vyhlá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§ 7 – 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Ředitel základní, střední a vyšší odborné školy zabezpečuje poskytování poradenských služeb ve škole </a:t>
            </a:r>
            <a:r>
              <a:rPr b="1" lang="cs-CZ" sz="2200" spc="-1" strike="noStrike">
                <a:solidFill>
                  <a:srgbClr val="ff0000"/>
                </a:solidFill>
                <a:latin typeface="Arial"/>
              </a:rPr>
              <a:t>školním poradenským pracovištěm, ve kterém působí zpravidla výchovný poradce a školní metodik prevence</a:t>
            </a: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teří spolupracují zejména s třídními učiteli, učiteli výchov, případně dalšími pedagogickými pracovníky školy. Poskytování poradenských služeb ve škole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může být zajišťováno i školním psychologem nebo školním speciálním pedagogem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škole jsou zajišťovány poradenské služby v rozsahu odpovídajícím počtu a vzdělávacím potřebám žáků školy zaměřené n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poskytování podpůrných opatření pro žáky se speciálními vzdělávacími potřeba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Z vyhlášky č. 116/2011 o poskytování poradenských služeb ve školách a školských zařízen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sledování a vyhodnocování účinnosti zvolených podpůrných opatře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evenci školní neúspěš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ariérové poradenství integrující vzdělávací, informační a poradenskou podporu vhodné volbě vzdělávací cesty a pozdějšímu profesnímu uplatně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podporu vzdělávání a sociálního začleňování žáků  z odlišného kulturního prostřední a s odlišnými životními podmínka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poru vzdělávání žáků nadaných a mimořádně nadaný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ůběžnou a dlouhodobou péči o žáky s výchovnými či vzdělávacími obtížemi a vytváření příznivého </a:t>
            </a: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klimatu pro přijímání kulturních a jiných odlišností ve škole a školském zaříze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včasnou intervenci při aktuálních problémech         u jednotlivých žáků a třídních kolektiv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předcházení všem formám rizikového chování včetně různých forem šikany a diskrimin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průběžné vyhodnocování účinnosti preventivních programů uskutečňovaných škol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metodickou podporu učitelům při použití psychologických a speciálně pedagogických postupů ve vzdělávací činnosti šk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spolupráci a komunikaci mezi školou a zákonnými zástup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spolupráci školy při poskytování poradenských služeb se školskými poradenskými zařízení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Škola zpracovává a uskutečňuje program poradenských služeb ve škol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který zahrnuje popis činností a vymezení odpovědnosti pedagogických pracovníků uvedených v odstavci 1, preventivní program školy včetně strategie předcházení školní neúspěšnosti, šikaně a dalším projevům rizikového chová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edagogičtí pracovními uvedení v odstavci 1 se podílejí na zajišťování podpůrných opatření pro žáky se speciálními vzdělávacími potřebami, poskytují součinnost ŠPZ a spolupracují s orgány veřejné moci  za účelem ochrany práv žák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20:37:04Z</dcterms:created>
  <dc:creator>Uzivatel</dc:creator>
  <dc:description/>
  <dc:language>en-US</dc:language>
  <cp:lastModifiedBy>ION</cp:lastModifiedBy>
  <dcterms:modified xsi:type="dcterms:W3CDTF">2016-05-20T04:55:07Z</dcterms:modified>
  <cp:revision>89</cp:revision>
  <dc:subject/>
  <dc:title>Výchovný poradce  v systému poradenských služeb na ZŠ Rosice</dc:title>
</cp:coreProperties>
</file>