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7E934-7E0C-46D0-86D9-BE0BEFDD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3958B-F957-4496-AA15-44CECF80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D2DD8-F563-40B0-B01B-3FA15304F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1422-222E-4766-AA04-EE6C0F9D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404E-EDBA-4C07-99DF-C4ACC9593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62C3-194E-4277-B0F5-F8FE70A3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B2BA-8A0C-4AD8-A174-ADFB685C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09AE-1A77-4952-9DA7-075E8AA0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C6E6-829E-4070-8302-B30ACBE9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B477-AF12-44C9-972E-40DBA6DC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EBF7-6B52-4A5B-A2A7-55254CAF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6FD2C-F5C3-4D4E-AF7C-4FD2DD0C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B3C6-DC44-4B74-B1CE-893479A8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3304-E97E-41D4-9BC3-B9E695EA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2A5B-1F63-4AA7-8F45-B18487B5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146D-6A3A-4724-901A-9E6D5B42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BA31-7E52-44CD-AC94-DE4B85FCA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CFFB8-EFE4-4B05-90C7-CD9FBC44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C3CCB-3B33-4400-951C-78F8BAD47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C4BD7-1FFE-4674-A6F9-EAAC0F04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2912-A4ED-47F7-B169-00FC2B8F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B01F1-2AB0-41C1-8AF6-1B6CB763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9003F-3FD7-4DB3-ABB4-1A0EDD8D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202F0-DD65-49B7-ABDC-428ED5C7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86F4-585E-41EC-8F18-823F13672B86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1716-C5E2-4024-BD8C-DF9156847D03}" type="slidenum">
              <a:rPr b="0" lang="cs-CZ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 u="sng">
                <a:solidFill>
                  <a:srgbClr val="000000"/>
                </a:solidFill>
                <a:uFillTx/>
                <a:latin typeface="Arial"/>
              </a:rPr>
              <a:t>Program – 20. 5.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9.00 – 10.1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novela vyhlášky 72/2005 o poskytování poradenský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.15 – 10.3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0.30 – 11.45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služebreflexe k realizaci seminárních prací, zkušenosti stud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1.45 – 12.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řestávka </a:t>
            </a: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12.00 – 13.00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 → prezentace 4 vybraných seminárních prací z různých typů škol + disk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Příloha č. 3 k vyhlášce č. 72/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výchovného porad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metodika          pre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psycholo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andardní činnosti školního speciálního pedago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činnosti uvedené ve standardech pro jednotlivé poradenské pracovníky se překrývají, proto je důležité stanovit ve škole poradenským pracovníkům pracovní náplně, které budou co nejpřesněji vymezovat jejich činnost a odpovídat velikosti jejich pracovního úvazku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ho jste seznámili se závěry analýzy      a jak budou dále využ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s při realizaci analýzy nebo              z výsledků překvapil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 - 3 kroky, které byste teď chtěli udělat nebo už jste je uděl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Reflexe studentů – seminární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Arial"/>
              </a:rPr>
              <a:t>Legislativní zakotvení poradenských služeb ve škole – novela vyhlášky 72/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jem 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školní poradenské pracoviště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e poprvé objevil v roce 1999 v Metodickém listu MŠMT         k poskytování poradenských služeb ve školách       a školských zařízeních č.j. 13 4099/98-2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školní poradenská pracoviště vznikala ve školách především v rámci projektů VIP, RAM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elký důraz byl kladen na roli školních psychologů        a školních speciálních pedagogů ve školách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existuje žádná přesná metodika, jak by mělo školní poradenské pracoviště ve škole vypadat,   jak by mělo být řízeno, kde je jeho místo                v organizačním řádu ško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do školské legislativy se tento pojem dostává až ny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54936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y, vyhlášky a metodické pokyny vymezují rámec pro poskytování poradenských služeb – rámec se dá aplikovat na každé škole jinak,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ždá škola si musí vytvořit vlastní funkční model poradenských služeb podle svých potřeb a specif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zákonná norma věnovaná poradenským službám 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yhláška MŠMT č. 72/2005 Sb., o poskytování poradenských služeb ve školách a školských poradenských zařízeních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– poslední novela spojená se zapracování problematiky společného vzdělávání vyjde v nejbližších dnech,   k dispozici je v podobě po připomínkovém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49360"/>
            <a:ext cx="822960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vymezuje, kdo poradenské služby poskytuje, komu je poskytuje, co je jejich obsahem a jaké jsou standardní činnosti jednotlivých subjektů, nově se v ní objevuj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jem školní poradenské pracoviš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 školu jsou nejdůležitější paragraf č. 7 a příloha č.3 této vyhláš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§ 7 –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Ředitel základní, střední a vyšší odborné školy zabezpečuje poskytování poradenských služeb ve škole </a:t>
            </a:r>
            <a:r>
              <a:rPr b="1" lang="cs-CZ" sz="2200" spc="-1" strike="noStrike">
                <a:solidFill>
                  <a:srgbClr val="ff0000"/>
                </a:solidFill>
                <a:latin typeface="Arial"/>
              </a:rPr>
              <a:t>školním poradenským pracovištěm, ve kterém působí zpravidla výchovný poradce a školní metodik prevence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teří spolupracují zejména s třídními učiteli, učiteli výchov, případně dalšími pedagogickými pracovníky školy. Poskytování poradenských služeb ve škol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může být zajišťováno i školním psychologem nebo školním speciálním pedagoge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škole jsou zajišťovány poradenské služby v rozsahu odpovídajícím počtu a vzdělávacím potřebám žáků školy zaměřené n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oskytování podpůrných opatření pro žáky se speciálními vzdělávacími potřeb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Z vyhlášky č. 116/2011 o poskytování poradenských služeb ve školách a školských zaříze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ledování a vyhodnocování účinnosti zvolených podpůrných opatř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evenci školní neúspěš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ariérové poradenství integrující vzdělávací, informační a poradenskou podporu vhodné volbě vzdělávací cesty a pozdějšímu profesnímu uplat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odporu vzdělávání a sociálního začleňování žáků  z odlišného kulturního prostřední a s odlišnými životními podmínk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poru vzdělávání žáků nadaných a mimořádně nadaný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ůběžnou a dlouhodobou péči o žáky s výchovnými či vzdělávacími obtížemi a vytváření příznivého </a:t>
            </a: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klimatu pro přijímání kulturních a jiných odlišností ve škole a školském zaříz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včasnou intervenci při aktuálních problémech         u jednotlivých žáků a třídních kolektiv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ředcházení všem formám rizikového chování včetně různých forem šikany a diskrimin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průběžné vyhodnocování účinnosti preventivních programů uskutečňovaných škol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metodickou podporu učitelům při použití psychologických a speciálně pedagogických postupů ve vzdělávací činnosti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polupráci a komunikaci mezi školou a zákonnými zástup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spolupráci školy při poskytování poradenských služeb se školskými poradenskými zařízení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Arial"/>
              </a:rPr>
              <a:t>Škola zpracovává a uskutečňuje program poradenských služeb ve škol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který zahrnuje popis činností a vymezení odpovědnosti pedagogických pracovníků uvedených v odstavci 1, preventivní program školy včetně strategie předcházení školní neúspěšnosti, šikaně a dalším projevům rizikového cho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edagogičtí pracovními uvedení v odstavci 1 se podílejí na zajišťování podpůrných opatření pro žáky se speciálními vzdělávacími potřebami, poskytují součinnost ŠPZ a spolupracují s orgány veřejné moci  za účelem ochrany práv žák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7T20:37:04Z</dcterms:created>
  <dc:creator>Uzivatel</dc:creator>
  <dc:description/>
  <dc:language>en-US</dc:language>
  <cp:lastModifiedBy>ION</cp:lastModifiedBy>
  <dcterms:modified xsi:type="dcterms:W3CDTF">2016-05-20T04:55:07Z</dcterms:modified>
  <cp:revision>89</cp:revision>
  <dc:subject/>
  <dc:title>Výchovný poradce  v systému poradenských služeb na ZŠ Rosice</dc:title>
</cp:coreProperties>
</file>