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8CA-630E-456F-B677-E29D9DE4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920-9D0A-401F-8F3A-06EA71F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D33-F497-405D-B158-B6C867A1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496-F956-45E2-A8B8-FDB28C27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06D-271B-4553-928A-DA1AD521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202-2AF0-476C-9844-09F10C76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A31-83D8-427C-B557-F38AC446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EE1-C48D-44A4-8593-62324D64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F8A-D5CF-407F-8DFE-0D9B74B9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0CB-2F90-42E4-9155-F6920E1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813-C5D7-49F4-A14D-149859D4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871-5C21-45A6-AA8A-791EEF8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34F2-52D6-457A-98C6-01EBFE91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496800"/>
            <a:ext cx="8229600" cy="59457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chanické  vlastnosti  kov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užné (elastické) vlastnosti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1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 tahu, nebo tla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16000" y="3141720"/>
                <a:ext cx="914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916360" y="3141720"/>
                <a:ext cx="744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87280" y="4292640"/>
                <a:ext cx="2502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4788000" y="2924280"/>
            <a:ext cx="3674880" cy="323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496800"/>
            <a:ext cx="8280360" cy="6037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vrdost  materiá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116000" y="1268280"/>
            <a:ext cx="7058160" cy="475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-1611360"/>
            <a:ext cx="829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050920" y="260280"/>
            <a:ext cx="4826160" cy="6346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5480" y="476280"/>
            <a:ext cx="7977240" cy="5776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eformační stroj (typ INSTR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56000" y="1413000"/>
            <a:ext cx="3512880" cy="40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e smy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042920" y="1197000"/>
                <a:ext cx="590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84360" y="1197000"/>
                <a:ext cx="701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643280" y="1197000"/>
                <a:ext cx="2357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205000"/>
            <a:ext cx="635976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9840" y="404640"/>
            <a:ext cx="8408880" cy="620964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3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šestranný tl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2556000" y="1844640"/>
            <a:ext cx="3317760" cy="307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stické  vlastnosti 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664240" cy="471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404640"/>
            <a:ext cx="8353440" cy="59965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Arial"/>
              </a:rPr>
              <a:t>K určení meze klu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92360" y="1341360"/>
            <a:ext cx="5794200" cy="458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496800"/>
            <a:ext cx="8156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rava křivky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= f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 na skutečný průře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76280"/>
            <a:ext cx="8085240" cy="55494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Oprava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 na skutečný průřez vzor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197000"/>
            <a:ext cx="5703840" cy="408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68440"/>
            <a:ext cx="820728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Křivka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pro křehké a tažné materiá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979640" y="1125360"/>
            <a:ext cx="4937040" cy="450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liv teploty na tvar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268280"/>
            <a:ext cx="7456680" cy="435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9:55:45Z</dcterms:created>
  <dc:creator>Vladislav Navrátil</dc:creator>
  <dc:description/>
  <dc:language>en-US</dc:language>
  <cp:lastModifiedBy>Vladislav Navrátil</cp:lastModifiedBy>
  <dcterms:modified xsi:type="dcterms:W3CDTF">2006-03-05T12:42:54Z</dcterms:modified>
  <cp:revision>12</cp:revision>
  <dc:subject/>
  <dc:title>Snímek 1</dc:title>
</cp:coreProperties>
</file>