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347-DA9D-4BE9-BD20-672C1F8E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1BC-6BBE-4680-8C24-9D486DA7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D28-78B8-497C-857D-CD89CC84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C36-1EF8-4360-8F72-06A0F493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CDB-0847-47A7-B550-C3E215A1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904-6235-440B-8F97-3C1B8DE4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A50-8EFE-47AF-B624-42D98C70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187-DF97-482A-947C-60E5C9F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FEB-B29C-4AD7-8567-D87F077E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39A-9A4B-4964-A153-AFC00073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7D0-F9CF-477E-8AA9-8F01178A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E3A-6E7E-49EA-A73B-13A3B0C9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8663-434C-448B-AC65-6FC85A70F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496800"/>
            <a:ext cx="8011800" cy="60980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rchové napětí kapalin. Povrch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ie pevných látek. Tekuté krysta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vrchové napětí kap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znik povrchového napětí kapal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N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58920" y="3141720"/>
            <a:ext cx="2658960" cy="224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PN3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59280" y="3141720"/>
            <a:ext cx="3229200" cy="2228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639720"/>
            <a:ext cx="8064360" cy="49388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ůzná orientace smektických krysta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K2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826920" y="1484280"/>
            <a:ext cx="3832560" cy="2959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2" name="TK3" descr="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5076720" y="1484280"/>
            <a:ext cx="3141720" cy="291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3480" y="568440"/>
            <a:ext cx="8012160" cy="55184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olesterické tekuté kryst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K5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2484360" y="1125360"/>
            <a:ext cx="4232520" cy="40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92200" y="496800"/>
            <a:ext cx="7724880" cy="612900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N6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5981760" cy="421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700360" y="5589720"/>
                <a:ext cx="781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219640" y="5589720"/>
                <a:ext cx="781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940520" cy="558036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N1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79640" y="1197000"/>
            <a:ext cx="5197320" cy="1903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PN20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2124000" y="3500280"/>
            <a:ext cx="4865760" cy="208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568440"/>
            <a:ext cx="8011800" cy="56098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skyt a využití povrchov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e, biologie, domácnost, zemědělství, průmysl, přírodní je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N26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2349360"/>
            <a:ext cx="2914560" cy="271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5" name="PN21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76720" y="2205000"/>
            <a:ext cx="2551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2200" y="639720"/>
            <a:ext cx="7724880" cy="558036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N11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402444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N22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25765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549360"/>
            <a:ext cx="7940880" cy="57632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ěření povrchov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N8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87640" y="1700280"/>
            <a:ext cx="2624040" cy="363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3480" y="568440"/>
            <a:ext cx="7580520" cy="58546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N123" descr="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1979640" y="1268280"/>
            <a:ext cx="1957320" cy="395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N12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76720" y="1341360"/>
            <a:ext cx="2162160" cy="3837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7840" y="568440"/>
            <a:ext cx="8227800" cy="58222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4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ekuté krystal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 – azoxyanisol (357 K – 423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thylester p – anisalaminoskořicové kyseliny (356 K – 412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K2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68360" y="2133720"/>
            <a:ext cx="392436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6" name="TK2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4292640"/>
            <a:ext cx="468648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7940520" cy="503172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9.4.1.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ruktura tekutých krysta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matické tekuté krystaly                      Smektické tekuté kryst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K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116000" y="1628640"/>
            <a:ext cx="3011400" cy="268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9" name="TK1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859280" y="1628640"/>
            <a:ext cx="3076560" cy="2692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4:06:20Z</dcterms:created>
  <dc:creator>Vladislav Navrátil</dc:creator>
  <dc:description/>
  <dc:language>en-US</dc:language>
  <cp:lastModifiedBy>Vladislav Navrátil</cp:lastModifiedBy>
  <dcterms:modified xsi:type="dcterms:W3CDTF">2006-03-05T15:01:01Z</dcterms:modified>
  <cp:revision>5</cp:revision>
  <dc:subject/>
  <dc:title>Snímek 1</dc:title>
</cp:coreProperties>
</file>