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2291-2F2A-4B1A-BB0C-3B6275FE4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2EFD-7FD4-4603-85A3-0A4A4624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C410-08E2-4F33-916C-4E4607E3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3D9A-91FA-43A3-BCC2-7D8650F6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FED5-320D-48FB-A874-6DF33D42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8F19-1889-4B80-BC76-86AED9CD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37AD-3D62-4AB5-AA3C-FFAC6615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5FB8-1E2A-4D95-8C14-B7356B69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9DCD-3F5B-4AA7-8744-CFD731D1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B621-E0A7-4352-92D6-4A84F4EC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6470-5852-4AA0-A0A3-A6155F37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14AB-32F1-401D-AF7D-0E99CA9C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3933-9FFB-4946-9B98-F1214CEC3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2200" y="496800"/>
            <a:ext cx="7796160" cy="5824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rspektivní materiá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.1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ovová sk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332000" y="2276640"/>
            <a:ext cx="2950920" cy="3012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364000" y="1989000"/>
            <a:ext cx="2036880" cy="32943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19120" y="568440"/>
            <a:ext cx="8085240" cy="558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843280" y="1052640"/>
            <a:ext cx="3544920" cy="47466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63480" y="496800"/>
            <a:ext cx="7653600" cy="558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403280" y="2205000"/>
            <a:ext cx="6248520" cy="24973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19120" y="568440"/>
            <a:ext cx="7724880" cy="57632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.2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hlík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C1" descr=""/>
          <p:cNvPicPr/>
          <p:nvPr/>
        </p:nvPicPr>
        <p:blipFill>
          <a:blip r:embed="rId1">
            <a:lum contrast="66000"/>
          </a:blip>
          <a:stretch/>
        </p:blipFill>
        <p:spPr>
          <a:xfrm>
            <a:off x="2700360" y="1341360"/>
            <a:ext cx="4707000" cy="41925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63480" y="639720"/>
            <a:ext cx="7940880" cy="55184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Fázový diagram uhlí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>
            <a:lum contrast="78000"/>
          </a:blip>
          <a:stretch/>
        </p:blipFill>
        <p:spPr>
          <a:xfrm>
            <a:off x="1979640" y="1413000"/>
            <a:ext cx="5567400" cy="4408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47840" y="496800"/>
            <a:ext cx="8084880" cy="58546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Gra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2" descr=""/>
          <p:cNvPicPr/>
          <p:nvPr/>
        </p:nvPicPr>
        <p:blipFill>
          <a:blip r:embed="rId1">
            <a:lum contrast="78000"/>
          </a:blip>
          <a:stretch/>
        </p:blipFill>
        <p:spPr>
          <a:xfrm>
            <a:off x="2195640" y="1341360"/>
            <a:ext cx="4836960" cy="43419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7840" y="496800"/>
            <a:ext cx="7940520" cy="5823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Fulerény, fulerity, fuleri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ful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431172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19120" y="568440"/>
            <a:ext cx="7940520" cy="56718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2.3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Titan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2.4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Superplastic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2.5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Supravodivost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l28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30337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8T19:50:25Z</dcterms:created>
  <dc:creator>Vladislav Navrátil</dc:creator>
  <dc:description/>
  <dc:language>en-US</dc:language>
  <cp:lastModifiedBy>navratil</cp:lastModifiedBy>
  <dcterms:modified xsi:type="dcterms:W3CDTF">2006-03-30T11:57:55Z</dcterms:modified>
  <cp:revision>6</cp:revision>
  <dc:subject/>
  <dc:title>Snímek 1</dc:title>
</cp:coreProperties>
</file>