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C93-149E-4660-BB90-A7797965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7C1-4E21-4F71-A478-4481A359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729-BE5C-43F5-927B-8327EA2F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D8F-4B6F-46BC-BB7B-2FE75C6C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64-A96E-4552-8B88-69FBF9F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CCE-1113-4D1B-9A13-ADBAC49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329-A427-45A1-BD1B-81BF7CB2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4A8-9C85-4401-811C-3ADC8AA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53C-134E-4F4D-9175-73B2F90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158-273D-467D-BCBA-4CEC4C7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261-1B7D-4A90-B3F7-CE0206D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95D-42AA-4429-BE8C-1A0547F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8AD-BC63-4448-855B-381E433A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352440"/>
            <a:ext cx="8372160" cy="58845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pevnění 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hyb  dislok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2781360"/>
            <a:ext cx="788184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6280"/>
            <a:ext cx="8280360" cy="588420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áty 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v oceli (a) schematické znázornění, b) skutečný sním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evnění  pomocí  hranic  z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836640"/>
            <a:ext cx="714060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200" y="568440"/>
            <a:ext cx="815652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názornění pohybu dislo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755640" y="2421000"/>
            <a:ext cx="742788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47640" y="836640"/>
            <a:ext cx="6002640" cy="519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20640"/>
            <a:ext cx="784836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Kompresní a dilatační pole dislok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03720" cy="38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200" y="568440"/>
            <a:ext cx="7580160" cy="57927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rankův – Reedův zdroj dislo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11640" y="1125360"/>
            <a:ext cx="3645000" cy="472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6200" y="423720"/>
            <a:ext cx="8156520" cy="60670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kluzové pá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monokrystalech                            v  polykrystal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08000" y="1700280"/>
            <a:ext cx="1460520" cy="39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03640" y="1700280"/>
            <a:ext cx="1872000" cy="38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8227800" cy="585324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orm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válcování, b) kování, c) tažení, d) protlačování, e) hluboké taž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)  tváření tažením, g) ohýb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557360"/>
            <a:ext cx="660060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6200" y="281160"/>
            <a:ext cx="8156520" cy="63118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měsové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1052640"/>
            <a:ext cx="44863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423720"/>
            <a:ext cx="815652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pit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herentní (a) a koherentní (b) precipit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1916280"/>
            <a:ext cx="7035840" cy="322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7:26:49Z</dcterms:created>
  <dc:creator>Vladislav Navrátil</dc:creator>
  <dc:description/>
  <dc:language>en-US</dc:language>
  <cp:lastModifiedBy>Vladislav Navrátil</cp:lastModifiedBy>
  <dcterms:modified xsi:type="dcterms:W3CDTF">2006-02-25T18:11:41Z</dcterms:modified>
  <cp:revision>12</cp:revision>
  <dc:subject/>
  <dc:title>Snímek 1</dc:title>
</cp:coreProperties>
</file>