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E55-BE82-45BB-BA6F-A028177E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33C-DFE8-4A18-AC67-AAD5501F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914-9F71-455F-88F8-B13AFAFC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957-D608-4FD6-8FDE-9BA08EC2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447-494D-4CF1-8BAA-A0C18CF5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9E3-5611-47A5-BEED-C54ADF5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CFF-C984-4B2C-B4FA-CD3E16D8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8AD-482E-488C-9C95-7DFB2E35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40D-3676-4CFA-A24F-723FBA0F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D92-4A62-4A6A-AE71-BDB09267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AAA-A946-4133-ACC3-85251B2F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901-B147-4A8A-B987-FF597C19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60F3-4C7B-48DB-B8FE-45C787293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423720"/>
            <a:ext cx="7869240" cy="591408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3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79640" y="1700280"/>
            <a:ext cx="4815000" cy="334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9120" y="496800"/>
            <a:ext cx="8085240" cy="5509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uhy mazi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ální oleje, rostlinné oleje, syntetická maz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mpozitní maziva, vodní maziva, povrchové vrst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valitní mazi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valitní maz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T5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826920" y="1844640"/>
            <a:ext cx="3119760" cy="301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2" name="rt6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211640" y="2637000"/>
            <a:ext cx="4044960" cy="2228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620640"/>
            <a:ext cx="7581960" cy="576324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.5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okré (vazké) 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= 6.</a:t>
            </a:r>
            <a:r>
              <a:rPr b="1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.r.v = b.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= C.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RE1" descr="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2195640" y="1844640"/>
            <a:ext cx="379728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9120" y="639720"/>
            <a:ext cx="8013600" cy="5671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livé tř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332000" y="1557360"/>
            <a:ext cx="3090600" cy="411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96000" y="3068640"/>
                <a:ext cx="939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496800"/>
            <a:ext cx="8084880" cy="584604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ření (suché) smy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oulombův – Amontův zákon:    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RE6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209760" cy="318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5" name="TRE5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541680" cy="314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5120" y="568440"/>
            <a:ext cx="7508880" cy="582372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ávislost síly tření na velikosti tažné sí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1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76360" y="1700280"/>
            <a:ext cx="6157800" cy="3693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496800"/>
            <a:ext cx="8012160" cy="5509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kutečná a zdánlivá třecí plo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RE11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317000" cy="358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7840" y="496800"/>
            <a:ext cx="794052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kutečný povrch kov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RE1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395840" cy="365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ěření koeficientu tř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T1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800600" cy="3225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T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99520" cy="422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568440"/>
            <a:ext cx="779796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T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151760" cy="2200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7840" y="568440"/>
            <a:ext cx="8084880" cy="594612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nížení tření mazání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RR1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885000" cy="4148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1:47:03Z</dcterms:created>
  <dc:creator>Vladislav Navrátil</dc:creator>
  <dc:description/>
  <dc:language>en-US</dc:language>
  <cp:lastModifiedBy>Vladislav Navrátil</cp:lastModifiedBy>
  <dcterms:modified xsi:type="dcterms:W3CDTF">2006-03-05T12:38:06Z</dcterms:modified>
  <cp:revision>4</cp:revision>
  <dc:subject/>
  <dc:title>Snímek 1</dc:title>
</cp:coreProperties>
</file>