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677-A7FD-4F15-AB0D-FEBCD912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1C1-DCF5-4AA5-9B0D-03AD01CC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400-5CB4-4B4C-A5CA-BFAD7098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26C-27E0-4019-9A6A-1CDA2988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330-16AC-4693-9566-F5755CBD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FDD-221C-48FF-AA62-12BBFD3B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501-E57A-4E50-8D0F-46B42E58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552-6E7D-4F82-A7CB-4089FDEC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395-87E0-4923-9B23-D8D404B5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70D-2858-48CB-8817-C8FD6CD6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3FA-0116-4928-85FA-D982649B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B26-70D6-421D-B92F-52CB2A79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8A89-2DD4-4A45-BB42-B0AE3940D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06-03-05T15:47:37Z</dcterms:modified>
  <cp:revision>6</cp:revision>
  <dc:subject/>
  <dc:title>Snímek 1</dc:title>
</cp:coreProperties>
</file>