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3BD-7B6D-4501-B02C-58DDD795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3CB-F425-4BD6-A549-BF4A4599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A6D-E1F0-44AB-80E7-6BF08234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92A-8D79-44CD-A98F-81BB503C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04A-8A56-4E6F-8E75-2F45AA2E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198-90B5-405F-B83A-7541C747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006-27B2-422A-B5D2-DFDE6108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FB5-A93A-4B65-A080-45D1CBCF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E8C-3321-4F17-A44A-7845B19A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87C-78CE-407D-817D-EA987930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A68-DC40-4D6E-9F9D-F648BC4E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278-E380-4425-884F-815CB59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485-ADB8-43F1-B4CB-806A1616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06-03-05T15:47:37Z</dcterms:modified>
  <cp:revision>6</cp:revision>
  <dc:subject/>
  <dc:title>Snímek 1</dc:title>
</cp:coreProperties>
</file>