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F6CC-ACA4-43C4-ABA1-F6816567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83E-9966-44B4-A90F-17163459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602-0D0A-4669-AD9F-F1BF7687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108-22B4-4A74-A37B-7A3C5BCB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3FD-7106-41CE-9F60-CE9DCFAC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BEA-1D3F-453C-A3C0-D9C0E341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CAB-A988-46E8-A27A-36E74E88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AE1-4D46-46E0-8354-35872D96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851-CBA8-4F98-A1E0-9347D1A5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091-C3B9-4ED7-A3F1-A8A4F6AB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64B-2929-499F-A5EB-CA6E1ECD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63C-AD60-479F-80AB-F8E7BC5C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A0AB-44F9-4736-B95A-18B400E19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840" y="352440"/>
            <a:ext cx="8372160" cy="58845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pevnění  materiá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hyb  disloka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2781360"/>
            <a:ext cx="7881840" cy="3092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476280"/>
            <a:ext cx="8280360" cy="588420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áty F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v oceli (a) schematické znázornění, b) skutečný sním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5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pevnění  pomocí  hranic  z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00000" y="836640"/>
            <a:ext cx="7140600" cy="357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6200" y="568440"/>
            <a:ext cx="8156520" cy="55803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názornění pohybu dislok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contrast="34000"/>
          </a:blip>
          <a:stretch/>
        </p:blipFill>
        <p:spPr>
          <a:xfrm>
            <a:off x="755640" y="2421000"/>
            <a:ext cx="7427880" cy="203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547640" y="836640"/>
            <a:ext cx="6002640" cy="5192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620640"/>
            <a:ext cx="7848360" cy="55803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Kompresní a dilatační pole dislok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103720" cy="38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92200" y="568440"/>
            <a:ext cx="7580160" cy="57927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Frankův – Reedův zdroj dislokac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211640" y="1125360"/>
            <a:ext cx="3645000" cy="4724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6200" y="423720"/>
            <a:ext cx="8156520" cy="60670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Skluzové pá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monokrystalech                            v  polykrystal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908000" y="1700280"/>
            <a:ext cx="1460520" cy="391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03640" y="1700280"/>
            <a:ext cx="1872000" cy="38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7840" y="496800"/>
            <a:ext cx="8227800" cy="585324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ormační  zpev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) válcování, b) kování, c) tažení, d) protlačování, e) hluboké taže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)  tváření tažením, g) ohýb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1557360"/>
            <a:ext cx="6600600" cy="381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6200" y="281160"/>
            <a:ext cx="8156520" cy="63118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měsové  zpev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050920" y="1052640"/>
            <a:ext cx="4486320" cy="5257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7840" y="423720"/>
            <a:ext cx="8156520" cy="58546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cipitační  zpev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oherentní (a) a koherentní (b) precipit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1916280"/>
            <a:ext cx="7035840" cy="322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7:26:49Z</dcterms:created>
  <dc:creator>Vladislav Navrátil</dc:creator>
  <dc:description/>
  <dc:language>en-US</dc:language>
  <cp:lastModifiedBy>Vladislav Navrátil</cp:lastModifiedBy>
  <dcterms:modified xsi:type="dcterms:W3CDTF">2006-02-25T18:11:41Z</dcterms:modified>
  <cp:revision>12</cp:revision>
  <dc:subject/>
  <dc:title>Snímek 1</dc:title>
</cp:coreProperties>
</file>