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24E5-CFCC-4417-9E02-37204A5FB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ECAD-EF50-40D1-8627-45D1470F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BB46-556E-4BE5-91FB-AAD361597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C9A7-EBE9-4201-803C-69A09855D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B959-F888-4F97-8075-5AD56C34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E1E1-0EAA-45D3-A03D-50B1614A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0CDB-3DEB-43A1-9E2B-81CE8B71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0196-1141-4D33-94D4-9929C0AD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C81E-DB62-4661-8B1E-3E5EDE48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7DB1-5D52-4B7D-A265-18C7CFC6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F3B2-BEFF-418B-AADC-DE5D5631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CCB5-1E13-4523-AA62-E7918B9C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191C-749A-45B6-BE6C-865F3E764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7840" y="423720"/>
            <a:ext cx="7869240" cy="591408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ř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T3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979640" y="1700280"/>
            <a:ext cx="4815000" cy="3341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19120" y="496800"/>
            <a:ext cx="8085240" cy="550980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ruhy mazi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erální oleje, rostlinné oleje, syntetická maziv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ompozitní maziva, vodní maziva, povrchové vrstv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kvalitní maziv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valitní maz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RT5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826920" y="1844640"/>
            <a:ext cx="3119760" cy="3013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2" name="rt6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4211640" y="2637000"/>
            <a:ext cx="4044960" cy="2228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9640" y="620640"/>
            <a:ext cx="7581960" cy="576324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8.5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Mokré (vazké) t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cs-CZ" sz="9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= 6.</a:t>
            </a:r>
            <a:r>
              <a:rPr b="1" i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.r.v = b.v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cs-CZ" sz="9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= C.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TRE1" descr=""/>
          <p:cNvPicPr/>
          <p:nvPr/>
        </p:nvPicPr>
        <p:blipFill>
          <a:blip r:embed="rId1">
            <a:lum contrast="72000"/>
          </a:blip>
          <a:stretch/>
        </p:blipFill>
        <p:spPr>
          <a:xfrm>
            <a:off x="2195640" y="1844640"/>
            <a:ext cx="3797280" cy="295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19120" y="639720"/>
            <a:ext cx="8013600" cy="567180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5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alivé tř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T4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1332000" y="1557360"/>
            <a:ext cx="3090600" cy="411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796000" y="3068640"/>
                <a:ext cx="939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47840" y="496800"/>
            <a:ext cx="8084880" cy="584604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8.1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Tření (suché) smyk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Coulombův – Amontův zákon:     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cs-CZ" sz="9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.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TRE6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3209760" cy="3184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5" name="TRE5" descr=""/>
          <p:cNvPicPr/>
          <p:nvPr/>
        </p:nvPicPr>
        <p:blipFill>
          <a:blip r:embed="rId2"/>
          <a:stretch/>
        </p:blipFill>
        <p:spPr>
          <a:xfrm>
            <a:off x="4356000" y="1916280"/>
            <a:ext cx="3541680" cy="314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35120" y="568440"/>
            <a:ext cx="7508880" cy="582372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Závislost síly tření na velikosti tažné sí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T1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476360" y="1700280"/>
            <a:ext cx="6157800" cy="3693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92200" y="496800"/>
            <a:ext cx="8012160" cy="550980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kutečná a zdánlivá třecí ploc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TRE11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317000" cy="358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47840" y="496800"/>
            <a:ext cx="7940520" cy="558036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kutečný povrch kov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TRE12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395840" cy="365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19120" y="568440"/>
            <a:ext cx="7869240" cy="585468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2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ěření koeficientu tř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T1" descr=""/>
          <p:cNvPicPr/>
          <p:nvPr/>
        </p:nvPicPr>
        <p:blipFill>
          <a:blip r:embed="rId1"/>
          <a:stretch/>
        </p:blipFill>
        <p:spPr>
          <a:xfrm>
            <a:off x="1979640" y="1989000"/>
            <a:ext cx="4800600" cy="3225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92200" y="639720"/>
            <a:ext cx="7867440" cy="558036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RT2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499520" cy="4224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19120" y="568440"/>
            <a:ext cx="7797960" cy="558036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RT3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151760" cy="2200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47840" y="568440"/>
            <a:ext cx="8084880" cy="594612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3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nížení tření mazání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TRR1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6885000" cy="4148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11:47:03Z</dcterms:created>
  <dc:creator>Vladislav Navrátil</dc:creator>
  <dc:description/>
  <dc:language>en-US</dc:language>
  <cp:lastModifiedBy>Vladislav Navrátil</cp:lastModifiedBy>
  <dcterms:modified xsi:type="dcterms:W3CDTF">2006-03-05T12:38:06Z</dcterms:modified>
  <cp:revision>4</cp:revision>
  <dc:subject/>
  <dc:title>Snímek 1</dc:title>
</cp:coreProperties>
</file>