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B5D-478E-4F44-8FC6-02EE0C87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E01C-C846-4256-AAAE-4F2D5A4B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0542-020E-4147-B967-B13087D5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9891-2235-431C-81DB-C1B89F26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880A-407D-4FBF-8309-EED853AF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30D-4B88-499A-8012-2AF787BD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940-F8D2-41F0-8A47-B0C9D073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D582-A618-49D0-842D-BF0D3D2D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9CC-813F-4D59-80EC-9B515837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2CB-F70B-4BD1-B813-3DE4CA62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5231-9B38-440A-87DF-FD157017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933A-70CF-4AF7-ADB0-39BCB8FE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2841-1674-43C4-A960-EBC3DE350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2200" y="496800"/>
            <a:ext cx="7796160" cy="58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spektivní materi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.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ovová sk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332000" y="2276640"/>
            <a:ext cx="2950920" cy="3012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364000" y="1989000"/>
            <a:ext cx="2036880" cy="3294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9120" y="568440"/>
            <a:ext cx="8085240" cy="558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843280" y="1052640"/>
            <a:ext cx="3544920" cy="4746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63480" y="496800"/>
            <a:ext cx="7653600" cy="558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403280" y="2205000"/>
            <a:ext cx="6248520" cy="2497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9120" y="568440"/>
            <a:ext cx="7724880" cy="57632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.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hlí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1" descr=""/>
          <p:cNvPicPr/>
          <p:nvPr/>
        </p:nvPicPr>
        <p:blipFill>
          <a:blip r:embed="rId1">
            <a:lum contrast="66000"/>
          </a:blip>
          <a:stretch/>
        </p:blipFill>
        <p:spPr>
          <a:xfrm>
            <a:off x="2700360" y="1341360"/>
            <a:ext cx="4707000" cy="4192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63480" y="639720"/>
            <a:ext cx="7940880" cy="55184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ázový diagram uhlí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1979640" y="1413000"/>
            <a:ext cx="5567400" cy="4408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7840" y="496800"/>
            <a:ext cx="8084880" cy="5854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ra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2" descr="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2195640" y="1341360"/>
            <a:ext cx="4836960" cy="43419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7840" y="496800"/>
            <a:ext cx="7940520" cy="5823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Fulerény, fulerity, fuleri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ful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31172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9120" y="568440"/>
            <a:ext cx="7940520" cy="56718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2.3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itan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2.4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uperplastic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2.5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upravodivost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l28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30337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9:50:25Z</dcterms:created>
  <dc:creator>Vladislav Navrátil</dc:creator>
  <dc:description/>
  <dc:language>en-US</dc:language>
  <cp:lastModifiedBy>navratil</cp:lastModifiedBy>
  <dcterms:modified xsi:type="dcterms:W3CDTF">2006-03-30T11:57:55Z</dcterms:modified>
  <cp:revision>6</cp:revision>
  <dc:subject/>
  <dc:title>Snímek 1</dc:title>
</cp:coreProperties>
</file>