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B7C-382F-42EB-B9D8-ECFD13E1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4F7-3A1A-49D1-AAA3-AFB0B47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466-0E8F-4521-879D-FCA29F6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A88-95F0-4E6F-88C0-82915A17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183-F8B4-4B2B-AD67-09162AC8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829-EEA6-44EC-A4E1-6DBD46E8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356-5186-4BFA-92EB-85D92BBF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01A-DAE2-4691-AD5B-64F629F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83F-3BF5-47E5-9A73-651F3F3D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599-7E8C-4653-8C43-B9544F57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464-C639-4195-9A25-1594B08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255-E2E5-4F44-A347-7C430C2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2BC6-901D-4CB7-9291-546D3A57F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96800"/>
            <a:ext cx="8011800" cy="60980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. Povrc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ie pevných látek. Tekuté krysta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znik povrchového napětí kapal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N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3141720"/>
            <a:ext cx="2658960" cy="224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PN3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59280" y="3141720"/>
            <a:ext cx="322920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639720"/>
            <a:ext cx="8064360" cy="49388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ůzná orientace smektických krysta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K2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826920" y="1484280"/>
            <a:ext cx="3832560" cy="2959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" name="TK3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5076720" y="1484280"/>
            <a:ext cx="3141720" cy="291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3480" y="568440"/>
            <a:ext cx="8012160" cy="55184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lester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K5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2484360" y="1125360"/>
            <a:ext cx="4232520" cy="40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92200" y="496800"/>
            <a:ext cx="7724880" cy="612900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N6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981760" cy="421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70036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21964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94052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N1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79640" y="1197000"/>
            <a:ext cx="5197320" cy="1903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N20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2124000" y="3500280"/>
            <a:ext cx="4865760" cy="208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568440"/>
            <a:ext cx="8011800" cy="56098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skyt a využit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e, biologie, domácnost, zemědělství, průmysl, přírodní je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N26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349360"/>
            <a:ext cx="2914560" cy="27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5" name="PN21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2205000"/>
            <a:ext cx="2551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2200" y="639720"/>
            <a:ext cx="772488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N11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402444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N22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2576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49360"/>
            <a:ext cx="7940880" cy="57632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N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87640" y="1700280"/>
            <a:ext cx="2624040" cy="363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3480" y="568440"/>
            <a:ext cx="7580520" cy="58546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N123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1979640" y="1268280"/>
            <a:ext cx="1957320" cy="395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N12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1341360"/>
            <a:ext cx="2162160" cy="3837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7840" y="568440"/>
            <a:ext cx="8227800" cy="58222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ekuté krystal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 – azoxyanisol (357 K – 423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thylester p – anisalaminoskořicové kyseliny (356 K – 412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K2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68360" y="2133720"/>
            <a:ext cx="392436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TK2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4292640"/>
            <a:ext cx="46864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7940520" cy="503172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9.4.1.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uktura tekutých krysta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matické tekuté krystaly                      Smekt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K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116000" y="1628640"/>
            <a:ext cx="3011400" cy="268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" name="TK1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859280" y="1628640"/>
            <a:ext cx="3076560" cy="2692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4:06:20Z</dcterms:created>
  <dc:creator>Vladislav Navrátil</dc:creator>
  <dc:description/>
  <dc:language>en-US</dc:language>
  <cp:lastModifiedBy>Vladislav Navrátil</cp:lastModifiedBy>
  <dcterms:modified xsi:type="dcterms:W3CDTF">2006-03-05T15:01:01Z</dcterms:modified>
  <cp:revision>5</cp:revision>
  <dc:subject/>
  <dc:title>Snímek 1</dc:title>
</cp:coreProperties>
</file>