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1E2-5E25-43F6-A248-F349C7F1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CE-EB98-4723-8D8D-ED1CC34D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754-5F6F-4A6F-A4FB-8A095CAA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B4B-724A-42BF-8035-CA167CF9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EE7-8899-4072-9651-C5E84ED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BD3-1858-43FC-ACF4-AF660093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DAE-F06A-4614-98D4-CA303E6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432-5A35-4573-8955-6460D919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6CE-78A3-460F-97A0-2970680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166-AC52-4FF8-A356-0858A5F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628-9924-471A-8AA8-FDEC14E3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F5F-3709-4531-BAB7-005E980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F5C-96AB-47CF-8A5F-7137926FA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23720"/>
            <a:ext cx="7869240" cy="59140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1700280"/>
            <a:ext cx="4815000" cy="33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496800"/>
            <a:ext cx="808524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hy maz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ální oleje, rostlinné oleje, syntetická maz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ozitní maziva, vodní maziva, povrchové vrst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valitní mazi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valitní maz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T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844640"/>
            <a:ext cx="3119760" cy="301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rt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211640" y="2637000"/>
            <a:ext cx="404496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620640"/>
            <a:ext cx="7581960" cy="57632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kré (vazké) 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= 6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r.v = b.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= C.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RE1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195640" y="1844640"/>
            <a:ext cx="379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639720"/>
            <a:ext cx="8013600" cy="5671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vé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557360"/>
            <a:ext cx="3090600" cy="411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96000" y="3068640"/>
                <a:ext cx="93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496800"/>
            <a:ext cx="8084880" cy="58460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ření (suché) smy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ulombův – Amontův zákon:   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RE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209760" cy="31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TRE5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541680" cy="314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568440"/>
            <a:ext cx="7508880" cy="58237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ávislost síly tření na velikosti tažné s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76360" y="1700280"/>
            <a:ext cx="6157800" cy="3693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496800"/>
            <a:ext cx="801216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á a zdánlivá třecí pl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1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17000" cy="358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840" y="496800"/>
            <a:ext cx="794052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ý povrch kov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RE1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95840" cy="365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koeficientu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T1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00600" cy="32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T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99520" cy="422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79796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T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51760" cy="220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568440"/>
            <a:ext cx="8084880" cy="59461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nížení tření mazá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RR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5000" cy="414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47:03Z</dcterms:created>
  <dc:creator>Vladislav Navrátil</dc:creator>
  <dc:description/>
  <dc:language>en-US</dc:language>
  <cp:lastModifiedBy>Vladislav Navrátil</cp:lastModifiedBy>
  <dcterms:modified xsi:type="dcterms:W3CDTF">2006-03-05T12:38:06Z</dcterms:modified>
  <cp:revision>4</cp:revision>
  <dc:subject/>
  <dc:title>Snímek 1</dc:title>
</cp:coreProperties>
</file>