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3FD-2FFC-4D6D-8514-6953B6C7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7BF-D493-4A4C-AC3D-90F9D8F8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644-3D0D-438A-839E-982D0086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CD4-32F1-4DCD-8EB5-9CDF9614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C17-495C-41FD-BB71-85B8415B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AA6-E787-41F2-BE81-578F4E02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736-10D6-4D7B-A5D3-9B420D80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6FA-872F-42F8-B97B-E90E10CF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572-3620-4666-A6F9-0FEDE500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A82-CC0B-449F-A843-EC3B2DC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2AC-728C-4376-B566-212BB34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C06-7973-4FAB-9221-D7ED17A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B0C3-0095-428B-9165-F47A50139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496800"/>
            <a:ext cx="8229600" cy="59457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chanické  vlastnosti  kov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užné (elastické) vlastnosti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1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 tahu, nebo tla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16000" y="3141720"/>
                <a:ext cx="914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916360" y="3141720"/>
                <a:ext cx="744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87280" y="4292640"/>
                <a:ext cx="2502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4788000" y="2924280"/>
            <a:ext cx="3674880" cy="323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496800"/>
            <a:ext cx="8280360" cy="6037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vrdost  materiá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116000" y="1268280"/>
            <a:ext cx="7058160" cy="475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-1611360"/>
            <a:ext cx="829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050920" y="260280"/>
            <a:ext cx="4826160" cy="6346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5480" y="476280"/>
            <a:ext cx="7977240" cy="5776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eformační stroj (typ INSTR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56000" y="1413000"/>
            <a:ext cx="3512880" cy="40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e smy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042920" y="1197000"/>
                <a:ext cx="590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84360" y="1197000"/>
                <a:ext cx="701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643280" y="1197000"/>
                <a:ext cx="2357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205000"/>
            <a:ext cx="635976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9840" y="404640"/>
            <a:ext cx="8408880" cy="620964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3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šestranný tl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2556000" y="1844640"/>
            <a:ext cx="3317760" cy="307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stické  vlastnosti 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664240" cy="471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404640"/>
            <a:ext cx="8353440" cy="59965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Arial"/>
              </a:rPr>
              <a:t>K určení meze klu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92360" y="1341360"/>
            <a:ext cx="5794200" cy="458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496800"/>
            <a:ext cx="8156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rava křivky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= f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 na skutečný průře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76280"/>
            <a:ext cx="8085240" cy="55494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Oprava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 na skutečný průřez vzor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197000"/>
            <a:ext cx="5703840" cy="408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68440"/>
            <a:ext cx="820728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Křivka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pro křehké a tažné materiá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979640" y="1125360"/>
            <a:ext cx="4937040" cy="450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liv teploty na tvar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268280"/>
            <a:ext cx="7456680" cy="435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9:55:45Z</dcterms:created>
  <dc:creator>Vladislav Navrátil</dc:creator>
  <dc:description/>
  <dc:language>en-US</dc:language>
  <cp:lastModifiedBy>Vladislav Navrátil</cp:lastModifiedBy>
  <dcterms:modified xsi:type="dcterms:W3CDTF">2006-03-05T12:42:54Z</dcterms:modified>
  <cp:revision>12</cp:revision>
  <dc:subject/>
  <dc:title>Snímek 1</dc:title>
</cp:coreProperties>
</file>