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435-C2F4-423A-982B-B3F12CE9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DE55-344F-4C18-A121-2E9E4AB1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000-6D11-4050-8A6B-7775BE78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390E-573B-44AB-B716-C37D0A71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CFB-2A8B-45C0-8669-53EB3751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B90-C0F3-48F1-B153-D5512E73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26C2-C353-44FF-B814-02FC4E59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0FB-E64F-4AA0-99F4-BE8CCFD8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EE11-46CA-4696-90F4-DF757101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57F-449B-44F5-8E9B-BB096714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099-415F-4DF8-B2AB-BFD81A5E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968-E685-4FD2-8E3D-DE3AA90D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762D-B9AB-4D58-8351-9386C734E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840" y="496800"/>
            <a:ext cx="8011800" cy="609804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vrchové napětí kapalin. Povrch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ergie pevných látek. Tekuté krysta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vrchové napětí kapa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znik povrchového napětí kapal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N7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258920" y="3141720"/>
            <a:ext cx="2658960" cy="2244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3" name="PN3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859280" y="3141720"/>
            <a:ext cx="3229200" cy="2228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639720"/>
            <a:ext cx="8064360" cy="493884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ůzná orientace smektických krystal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K2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826920" y="1484280"/>
            <a:ext cx="3832560" cy="2959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2" name="TK3" descr=""/>
          <p:cNvPicPr/>
          <p:nvPr/>
        </p:nvPicPr>
        <p:blipFill>
          <a:blip r:embed="rId2">
            <a:lum contrast="72000"/>
          </a:blip>
          <a:stretch/>
        </p:blipFill>
        <p:spPr>
          <a:xfrm>
            <a:off x="5076720" y="1484280"/>
            <a:ext cx="3141720" cy="2913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63480" y="568440"/>
            <a:ext cx="8012160" cy="551844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holesterické tekuté krysta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TK5" descr="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2484360" y="1125360"/>
            <a:ext cx="4232520" cy="407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92200" y="496800"/>
            <a:ext cx="7724880" cy="612900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N6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5981760" cy="4210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700360" y="5589720"/>
                <a:ext cx="7812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219640" y="5589720"/>
                <a:ext cx="7812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9120" y="568440"/>
            <a:ext cx="7940520" cy="558036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N17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979640" y="1197000"/>
            <a:ext cx="5197320" cy="1903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2" name="PN20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2124000" y="3500280"/>
            <a:ext cx="4865760" cy="2082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7840" y="568440"/>
            <a:ext cx="8011800" cy="560988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ýskyt a využití povrchového napě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mie, biologie, domácnost, zemědělství, průmysl, přírodní je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N26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403280" y="2349360"/>
            <a:ext cx="2914560" cy="271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5" name="PN21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076720" y="2205000"/>
            <a:ext cx="2551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2200" y="639720"/>
            <a:ext cx="7724880" cy="558036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N11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4024440" cy="2247840"/>
          </a:xfrm>
          <a:prstGeom prst="rect">
            <a:avLst/>
          </a:prstGeom>
          <a:ln w="0">
            <a:noFill/>
          </a:ln>
        </p:spPr>
      </p:pic>
      <p:pic>
        <p:nvPicPr>
          <p:cNvPr id="58" name="PN22" descr=""/>
          <p:cNvPicPr/>
          <p:nvPr/>
        </p:nvPicPr>
        <p:blipFill>
          <a:blip r:embed="rId2"/>
          <a:stretch/>
        </p:blipFill>
        <p:spPr>
          <a:xfrm>
            <a:off x="5292720" y="2060640"/>
            <a:ext cx="257652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549360"/>
            <a:ext cx="7940880" cy="576324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3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ěření povrchového napě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N8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987640" y="1700280"/>
            <a:ext cx="2624040" cy="3635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63480" y="568440"/>
            <a:ext cx="7580520" cy="585468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N123" descr="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1979640" y="1268280"/>
            <a:ext cx="1957320" cy="3951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3" name="PN12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076720" y="1341360"/>
            <a:ext cx="2162160" cy="3837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47840" y="568440"/>
            <a:ext cx="8227800" cy="582228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9.4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ekuté krystal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 – azoxyanisol (357 K – 423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thylester p – anisalaminoskořicové kyseliny (356 K – 412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K2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268360" y="2133720"/>
            <a:ext cx="3924360" cy="1000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6" name="TK24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08000" y="4292640"/>
            <a:ext cx="468648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7840" y="568440"/>
            <a:ext cx="7940520" cy="503172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9.4.1.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truktura tekutých krysta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matické tekuté krystaly                      Smektické tekuté krysta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K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116000" y="1628640"/>
            <a:ext cx="3011400" cy="2681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9" name="TK1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4859280" y="1628640"/>
            <a:ext cx="3076560" cy="2692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4:06:20Z</dcterms:created>
  <dc:creator>Vladislav Navrátil</dc:creator>
  <dc:description/>
  <dc:language>en-US</dc:language>
  <cp:lastModifiedBy>Vladislav Navrátil</cp:lastModifiedBy>
  <dcterms:modified xsi:type="dcterms:W3CDTF">2006-03-05T15:01:01Z</dcterms:modified>
  <cp:revision>5</cp:revision>
  <dc:subject/>
  <dc:title>Snímek 1</dc:title>
</cp:coreProperties>
</file>