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25F-97CF-4BFF-9A90-22FBB40D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8BE-E089-487C-908C-C3107D95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1CD-C128-4D91-8208-2B372035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594-318F-4C89-9685-6E7FDD2D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B5B-DFC2-46BA-AF1B-E739279C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E17-FBF8-45F0-988E-70EC28CB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F66-E9CD-4B57-9CF8-77432C91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E30-3646-417D-BDBC-9B3DF70E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054-A3D2-4F23-91D1-F1E1CC18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DB5-A1D9-47FC-BA34-CD732065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D45-D632-48C6-ADD6-D564E36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7D7-1F66-4061-A482-50EE92B2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EC6-B955-43F7-81B1-B510DA1C9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06-03-05T15:47:37Z</dcterms:modified>
  <cp:revision>6</cp:revision>
  <dc:subject/>
  <dc:title>Snímek 1</dc:title>
</cp:coreProperties>
</file>