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303-925B-464C-B7D7-45F98B55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C31-92D3-4F8A-8AC5-DBC752B8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C9F-0D96-46B7-8F41-EC8E3DD7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AC70-B490-4C90-A49F-6321A7EF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FD2-8906-41A4-991E-DFA74BC5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BDC-FA14-419B-9CF6-9F82918D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DB7-90CA-4CE5-8D09-61A74AA9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8DB-804A-4CFB-8201-09A98663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16A-FDA8-4DF6-A9C0-3896420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8A4-E985-4BB6-855A-C26C9B44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8F9-2435-4321-8FDD-E56DADB4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F28-8E0F-40BA-827C-687B431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A31B-5385-4431-B201-32001C614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2200" y="496800"/>
            <a:ext cx="7796160" cy="58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pektivní materi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ovová sk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2000" y="2276640"/>
            <a:ext cx="2950920" cy="3012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64000" y="1989000"/>
            <a:ext cx="2036880" cy="329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568440"/>
            <a:ext cx="8085240" cy="558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843280" y="1052640"/>
            <a:ext cx="3544920" cy="4746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3480" y="496800"/>
            <a:ext cx="7653600" cy="558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403280" y="2205000"/>
            <a:ext cx="6248520" cy="2497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9120" y="568440"/>
            <a:ext cx="7724880" cy="57632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hlí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1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2700360" y="1341360"/>
            <a:ext cx="4707000" cy="4192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3480" y="639720"/>
            <a:ext cx="7940880" cy="5518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ázový diagram uhlí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1979640" y="1413000"/>
            <a:ext cx="5567400" cy="4408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7840" y="496800"/>
            <a:ext cx="8084880" cy="5854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ra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2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195640" y="1341360"/>
            <a:ext cx="4836960" cy="4341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7840" y="496800"/>
            <a:ext cx="7940520" cy="5823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Fulerény, fulerity, fuler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ful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31172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568440"/>
            <a:ext cx="7940520" cy="5671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3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itan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4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uperplastic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5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upravodivost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l28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30337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9:50:25Z</dcterms:created>
  <dc:creator>Vladislav Navrátil</dc:creator>
  <dc:description/>
  <dc:language>en-US</dc:language>
  <cp:lastModifiedBy>navratil</cp:lastModifiedBy>
  <dcterms:modified xsi:type="dcterms:W3CDTF">2006-03-30T11:57:55Z</dcterms:modified>
  <cp:revision>6</cp:revision>
  <dc:subject/>
  <dc:title>Snímek 1</dc:title>
</cp:coreProperties>
</file>