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6D7-E4FD-480E-9D2F-AF4D2D09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2A2-660C-436A-A42C-9D80D42C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A13-A09B-4BC6-813F-189DFA41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FED-88AA-47E3-9591-F4FEE7BF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AA0-32A1-42C6-8956-3BAD56D1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706-8DBA-4D31-B1A9-69AE3CF8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7D5-3C46-4112-8E7D-E257BE86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E67-C5C1-4B48-AF28-9ECD2AD9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839-3BAA-427D-A21C-62A58769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D89-4C1E-4367-A250-3E442931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36E-7B0A-455D-8A88-413055A4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59E-F87F-4FA0-A655-35F1FF18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E663-1DDD-4BB0-80BF-F198969FF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352440"/>
            <a:ext cx="8372160" cy="58845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pevnění  materiá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hyb  disloka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2781360"/>
            <a:ext cx="7881840" cy="309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476280"/>
            <a:ext cx="8280360" cy="588420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áty F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v oceli (a) schematické znázornění, b) skutečný sním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pevnění  pomocí  hranic  z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00000" y="836640"/>
            <a:ext cx="7140600" cy="357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6200" y="568440"/>
            <a:ext cx="8156520" cy="55803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názornění pohybu dislok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34000"/>
          </a:blip>
          <a:stretch/>
        </p:blipFill>
        <p:spPr>
          <a:xfrm>
            <a:off x="755640" y="2421000"/>
            <a:ext cx="7427880" cy="203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547640" y="836640"/>
            <a:ext cx="6002640" cy="519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620640"/>
            <a:ext cx="7848360" cy="55803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Kompresní a dilatační pole dislok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103720" cy="38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2200" y="568440"/>
            <a:ext cx="7580160" cy="57927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Frankův – Reedův zdroj disloka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211640" y="1125360"/>
            <a:ext cx="3645000" cy="472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6200" y="423720"/>
            <a:ext cx="8156520" cy="60670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Skluzové pá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monokrystalech                            v  polykrystal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908000" y="1700280"/>
            <a:ext cx="1460520" cy="391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03640" y="1700280"/>
            <a:ext cx="1872000" cy="38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7840" y="496800"/>
            <a:ext cx="8227800" cy="585324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ormační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válcování, b) kování, c) tažení, d) protlačování, e) hluboké taž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)  tváření tažením, g) ohýb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557360"/>
            <a:ext cx="6600600" cy="381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6200" y="281160"/>
            <a:ext cx="8156520" cy="63118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měsové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050920" y="1052640"/>
            <a:ext cx="4486320" cy="5257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7840" y="423720"/>
            <a:ext cx="8156520" cy="58546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pitační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herentní (a) a koherentní (b) precipit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1916280"/>
            <a:ext cx="7035840" cy="322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7:26:49Z</dcterms:created>
  <dc:creator>Vladislav Navrátil</dc:creator>
  <dc:description/>
  <dc:language>en-US</dc:language>
  <cp:lastModifiedBy>Vladislav Navrátil</cp:lastModifiedBy>
  <dcterms:modified xsi:type="dcterms:W3CDTF">2006-02-25T18:11:41Z</dcterms:modified>
  <cp:revision>12</cp:revision>
  <dc:subject/>
  <dc:title>Snímek 1</dc:title>
</cp:coreProperties>
</file>