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1FE-21FF-473B-B266-93FCB32A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E76-FCF9-4993-AE35-5F16E0B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851-85BC-4900-BD00-03004904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BAB-5F01-4659-844B-9967D10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11A-CA25-4E14-9149-0E92CAE8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DC2-1F5A-49DD-A6A2-FBCBB00D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0FC-EC7C-4068-BC7C-4012B22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089-970C-49C7-BA1F-E22D358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6AF-F16E-4475-A743-D9714A9A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FF0-5A63-461D-AD1A-098C6694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552-A072-407F-8AFC-DF592C1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722-EB69-4BDA-B4D5-C7B651F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6F6A-C1A7-45AD-A0F2-66215B0DD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96800"/>
            <a:ext cx="8011800" cy="60980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. Povrc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ie pevných látek. Tekuté krysta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znik povrchového napětí kapa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N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3141720"/>
            <a:ext cx="2658960" cy="224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N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3141720"/>
            <a:ext cx="322920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39720"/>
            <a:ext cx="8064360" cy="49388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zná orientace smektických kryst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K2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826920" y="1484280"/>
            <a:ext cx="3832560" cy="29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TK3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076720" y="1484280"/>
            <a:ext cx="3141720" cy="291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3480" y="568440"/>
            <a:ext cx="8012160" cy="55184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ster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K5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484360" y="1125360"/>
            <a:ext cx="4232520" cy="40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2200" y="496800"/>
            <a:ext cx="7724880" cy="612900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N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81760" cy="421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1964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94052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N1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79640" y="1197000"/>
            <a:ext cx="5197320" cy="190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N20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24000" y="3500280"/>
            <a:ext cx="4865760" cy="208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568440"/>
            <a:ext cx="8011800" cy="56098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skyt a využit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e, biologie, domácnost, zemědělství, průmysl, přírodní je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N2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349360"/>
            <a:ext cx="2914560" cy="27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" name="PN21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2205000"/>
            <a:ext cx="2551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639720"/>
            <a:ext cx="772488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N11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402444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N2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576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7940880" cy="57632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N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1700280"/>
            <a:ext cx="2624040" cy="36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68440"/>
            <a:ext cx="7580520" cy="58546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N123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1979640" y="1268280"/>
            <a:ext cx="1957320" cy="395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N1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1341360"/>
            <a:ext cx="2162160" cy="383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7840" y="568440"/>
            <a:ext cx="8227800" cy="58222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kuté krystal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 – azoxyanisol (357 K – 423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thylester p – anisalaminoskořicové kyseliny (356 K – 412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K2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68360" y="2133720"/>
            <a:ext cx="392436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TK2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4292640"/>
            <a:ext cx="46864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7940520" cy="503172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.4.1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uktura tekutých kryst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matické tekuté krystaly                      Smekt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K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1628640"/>
            <a:ext cx="3011400" cy="26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TK1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59280" y="1628640"/>
            <a:ext cx="3076560" cy="269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06:20Z</dcterms:created>
  <dc:creator>Vladislav Navrátil</dc:creator>
  <dc:description/>
  <dc:language>en-US</dc:language>
  <cp:lastModifiedBy>Vladislav Navrátil</cp:lastModifiedBy>
  <dcterms:modified xsi:type="dcterms:W3CDTF">2006-03-05T15:01:01Z</dcterms:modified>
  <cp:revision>5</cp:revision>
  <dc:subject/>
  <dc:title>Snímek 1</dc:title>
</cp:coreProperties>
</file>