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DBFE-FB0A-4816-B893-A2E0272E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113C-55FD-4A7E-8145-4871892C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E88F-5E58-4F8B-91B9-65EBF38E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1B51-601D-4E19-8436-F959B5D8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744D-FAFC-4845-9337-8B9EE79E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A508-BB48-43B1-88F4-DC1A28B7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63B-8126-4CA7-B033-2F4C155A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E048-62DB-49D9-9FA0-D677322C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2E3C-97E0-4476-AC95-A41FF49B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1AC7-C057-4C70-9E04-019A8E40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5909-4F45-4162-BED1-F9DB291E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B7B5-3422-4A14-82E2-2B0FFF80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F956-17FD-499F-B57C-F995F5831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2200" y="496800"/>
            <a:ext cx="7796160" cy="5824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rspektivní materiá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.1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ovová sk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332000" y="2276640"/>
            <a:ext cx="2950920" cy="3012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364000" y="1989000"/>
            <a:ext cx="2036880" cy="3294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9120" y="568440"/>
            <a:ext cx="8085240" cy="558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843280" y="1052640"/>
            <a:ext cx="3544920" cy="47466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63480" y="496800"/>
            <a:ext cx="7653600" cy="558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403280" y="2205000"/>
            <a:ext cx="6248520" cy="24973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19120" y="568440"/>
            <a:ext cx="7724880" cy="57632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.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hlík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C1" descr=""/>
          <p:cNvPicPr/>
          <p:nvPr/>
        </p:nvPicPr>
        <p:blipFill>
          <a:blip r:embed="rId1">
            <a:lum contrast="66000"/>
          </a:blip>
          <a:stretch/>
        </p:blipFill>
        <p:spPr>
          <a:xfrm>
            <a:off x="2700360" y="1341360"/>
            <a:ext cx="4707000" cy="41925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63480" y="639720"/>
            <a:ext cx="7940880" cy="55184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ázový diagram uhlí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1979640" y="1413000"/>
            <a:ext cx="5567400" cy="4408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47840" y="496800"/>
            <a:ext cx="8084880" cy="5854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ra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2" descr="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2195640" y="1341360"/>
            <a:ext cx="4836960" cy="43419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7840" y="496800"/>
            <a:ext cx="7940520" cy="5823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Fulerény, fulerity, fuleri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ful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431172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19120" y="568440"/>
            <a:ext cx="7940520" cy="56718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2.3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itan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2.4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uperplastic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2.5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upravodivost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l28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30337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19:50:25Z</dcterms:created>
  <dc:creator>Vladislav Navrátil</dc:creator>
  <dc:description/>
  <dc:language>en-US</dc:language>
  <cp:lastModifiedBy>navratil</cp:lastModifiedBy>
  <dcterms:modified xsi:type="dcterms:W3CDTF">2006-03-30T11:57:55Z</dcterms:modified>
  <cp:revision>6</cp:revision>
  <dc:subject/>
  <dc:title>Snímek 1</dc:title>
</cp:coreProperties>
</file>