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A51A-32B9-4E48-9EE2-09C9BF01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2E0-4467-4907-8FA1-A99BDCB5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4FC-ECAF-44B2-8AD3-E5788D42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560-8357-4013-83C5-CA90D652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739-607E-42D1-8EAD-2E5DD601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A7B-0680-4C8E-9B73-9A451CC1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F156-6FF3-4F0D-998F-D683DCFC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BDB5-0C7E-40DB-863F-9F09D20E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97E4-E40B-4457-A59A-19A91E5A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286E-B596-432A-A79F-7AA7F049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005-23BA-4E9C-B4FB-8CA503BD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2710-8C2C-4939-88CD-91D92B29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12B8-C981-4F1A-8437-3DF65AB83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9120" y="189000"/>
            <a:ext cx="8013600" cy="6215760"/>
          </a:xfrm>
          <a:prstGeom prst="rect">
            <a:avLst/>
          </a:prstGeom>
          <a:solidFill>
            <a:srgbClr val="f0fda1">
              <a:alpha val="8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ískávání a měření nízkých tl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Jednotky tla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Pa = N /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 = kp / cm2 = 0,9807.105 Pa (technická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b = 105 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m = 760 torr = 1,01325.105 Pa (fyzikální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torr = 1,3332.102 Pa = tlak 1 mm sloupce H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ývě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odní a pístová vývě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92360" y="3213000"/>
          <a:ext cx="1638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13000"/>
                    <a:ext cx="1638360" cy="31244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5" name="V2" descr="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788000" y="3213000"/>
            <a:ext cx="2171520" cy="18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084880" cy="496980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ngmuirův – Dushmanův vakuoměr              Penning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VA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125360"/>
            <a:ext cx="194004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VRAK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356000" y="2205000"/>
            <a:ext cx="3811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99560" y="568440"/>
            <a:ext cx="7605720" cy="55803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patková rotač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V6" descr=""/>
          <p:cNvPicPr/>
          <p:nvPr/>
        </p:nvPicPr>
        <p:blipFill>
          <a:blip r:embed="rId1">
            <a:biLevel thresh="50000"/>
            <a:lum contrast="100000"/>
          </a:blip>
          <a:stretch/>
        </p:blipFill>
        <p:spPr>
          <a:xfrm>
            <a:off x="2050920" y="1557360"/>
            <a:ext cx="4934160" cy="4054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ývěva s kolujícím rot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V7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700280"/>
            <a:ext cx="6046920" cy="34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9120" y="56844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ootsova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V9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843280" y="1484280"/>
            <a:ext cx="4228920" cy="407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urbomolekulár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V10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11640" y="1052640"/>
            <a:ext cx="1743120" cy="204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4" name="V1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258920" y="3429000"/>
            <a:ext cx="63054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fúz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denzační a getrovací vývě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V1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56000" y="1052640"/>
            <a:ext cx="5035320" cy="46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96800"/>
            <a:ext cx="8156520" cy="594612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2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ěření nízkých tla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cleod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VA1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32000" y="1844640"/>
            <a:ext cx="2116080" cy="416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VA2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780000" y="2708280"/>
            <a:ext cx="4559040" cy="255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63480" y="63972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ránové man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VA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2133720"/>
            <a:ext cx="7359480" cy="206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19120" y="568440"/>
            <a:ext cx="8156520" cy="54874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lekulární vakuoměr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Ionizační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VA4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907920"/>
            <a:ext cx="1485720" cy="404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VA5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64000" y="1628640"/>
            <a:ext cx="2732400" cy="300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5:05:11Z</dcterms:created>
  <dc:creator>Vladislav Navrátil</dc:creator>
  <dc:description/>
  <dc:language>en-US</dc:language>
  <cp:lastModifiedBy>Vladislav Navrátil</cp:lastModifiedBy>
  <dcterms:modified xsi:type="dcterms:W3CDTF">2006-03-05T15:47:37Z</dcterms:modified>
  <cp:revision>6</cp:revision>
  <dc:subject/>
  <dc:title>Snímek 1</dc:title>
</cp:coreProperties>
</file>