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6C5-6522-4C26-88D3-E8579A55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64F-8CBB-443F-BC29-BE49C25C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0ED-D285-4BE5-86C4-B1F633EB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7F1-A9FF-45AA-946F-C2B6D340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7DF-C072-4CF2-BC5E-5EC9E9B5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343-373E-46EB-846A-6BFD3DA1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E48-E96E-4370-A32D-1836C64A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2E0-E880-4060-9269-89DE463B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B2A-6CD2-4796-9C4E-D4291CE2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591-A721-4A12-B0A0-BC0E9266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D28-5310-4814-8293-93F45B6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FBA-433E-4852-8ADC-119A3EE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B389-2940-47FE-B057-CC3A0AB5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352440"/>
            <a:ext cx="8372160" cy="58845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pevnění  materiá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hyb  disloka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2781360"/>
            <a:ext cx="7881840" cy="309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76280"/>
            <a:ext cx="8280360" cy="588420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áty F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v oceli (a) schematické znázornění, b) skutečný sním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pevnění  pomocí  hranic  z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00000" y="836640"/>
            <a:ext cx="714060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6200" y="568440"/>
            <a:ext cx="815652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názornění pohybu dislo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755640" y="2421000"/>
            <a:ext cx="7427880" cy="203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47640" y="836640"/>
            <a:ext cx="6002640" cy="519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620640"/>
            <a:ext cx="784836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Kompresní a dilatační pole dislok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103720" cy="38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2200" y="568440"/>
            <a:ext cx="7580160" cy="57927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rankův – Reedův zdroj disloka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211640" y="1125360"/>
            <a:ext cx="3645000" cy="472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6200" y="423720"/>
            <a:ext cx="8156520" cy="60670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Skluzové pá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monokrystalech                            v  polykrystal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908000" y="1700280"/>
            <a:ext cx="1460520" cy="391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03640" y="1700280"/>
            <a:ext cx="1872000" cy="38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8227800" cy="585324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orm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válcování, b) kování, c) tažení, d) protlačování, e) hluboké taž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)  tváření tažením, g) ohýb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557360"/>
            <a:ext cx="6600600" cy="381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6200" y="281160"/>
            <a:ext cx="8156520" cy="63118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měsové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050920" y="1052640"/>
            <a:ext cx="4486320" cy="525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423720"/>
            <a:ext cx="815652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pit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herentní (a) a koherentní (b) precipit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1916280"/>
            <a:ext cx="7035840" cy="322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7:26:49Z</dcterms:created>
  <dc:creator>Vladislav Navrátil</dc:creator>
  <dc:description/>
  <dc:language>en-US</dc:language>
  <cp:lastModifiedBy>Vladislav Navrátil</cp:lastModifiedBy>
  <dcterms:modified xsi:type="dcterms:W3CDTF">2006-02-25T18:11:41Z</dcterms:modified>
  <cp:revision>12</cp:revision>
  <dc:subject/>
  <dc:title>Snímek 1</dc:title>
</cp:coreProperties>
</file>