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A88-FE73-4048-80DD-D8D1EF6C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164-0474-4751-BBF0-8A80E262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9C7-600F-4314-87B3-8D154364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038D-B59F-4E80-8187-6ABBFD81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3B7-EBA1-4741-9E25-3E911AB6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FAC-FB38-419F-80F5-9431DF96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3AA-4E6C-40DB-82D4-959DEA5C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0F2-4203-46F5-8ECE-9A0B6327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A326-498C-477F-890B-177E4BDA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368-EB58-43F0-A3E3-07175E93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C2C-765E-4B54-A31E-FB97CD85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BCF-034F-4EF4-8D1D-40C05B7E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9312-6AEB-4919-93FD-EA97156B6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120" y="496800"/>
            <a:ext cx="8229600" cy="594576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chanické  vlastnosti  kov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užné (elastické) vlastnosti kov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1.1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formace v tahu, nebo tla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116000" y="3141720"/>
                <a:ext cx="914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916360" y="3141720"/>
                <a:ext cx="7444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187280" y="4292640"/>
                <a:ext cx="2502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>
            <a:lum contrast="90000"/>
          </a:blip>
          <a:stretch/>
        </p:blipFill>
        <p:spPr>
          <a:xfrm>
            <a:off x="4788000" y="2924280"/>
            <a:ext cx="3674880" cy="3230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360" y="496800"/>
            <a:ext cx="8280360" cy="603756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vrdost  materiá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116000" y="1268280"/>
            <a:ext cx="7058160" cy="475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-1611360"/>
            <a:ext cx="8299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050920" y="260280"/>
            <a:ext cx="4826160" cy="6346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55480" y="476280"/>
            <a:ext cx="7977240" cy="577656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Deformační stroj (typ INSTR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556000" y="1413000"/>
            <a:ext cx="3512880" cy="40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1.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formace ve smy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042920" y="1197000"/>
                <a:ext cx="590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484360" y="1197000"/>
                <a:ext cx="701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643280" y="1197000"/>
                <a:ext cx="2357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403280" y="2205000"/>
            <a:ext cx="6359760" cy="357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39840" y="404640"/>
            <a:ext cx="8408880" cy="620964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1.3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šestranný tl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2556000" y="1844640"/>
            <a:ext cx="3317760" cy="3079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2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stické  vlastnosti  kov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664240" cy="4718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404640"/>
            <a:ext cx="8353440" cy="599652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 u="sng">
                <a:solidFill>
                  <a:srgbClr val="ffffff"/>
                </a:solidFill>
                <a:uFillTx/>
                <a:latin typeface="Arial"/>
              </a:rPr>
              <a:t>K určení meze klu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692360" y="1341360"/>
            <a:ext cx="5794200" cy="458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496800"/>
            <a:ext cx="8156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rava křivky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= f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) na skutečný průře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76280"/>
            <a:ext cx="8085240" cy="55494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Oprava křivky 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= f(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)  na skutečný průřez vzor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92360" y="1197000"/>
            <a:ext cx="5703840" cy="4086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568440"/>
            <a:ext cx="8207280" cy="582372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Křivka 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= f(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) pro křehké a tažné materiá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1979640" y="1125360"/>
            <a:ext cx="4937040" cy="450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47840" y="568440"/>
            <a:ext cx="8227800" cy="582372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Vliv teploty na tvar křivky 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= f(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1268280"/>
            <a:ext cx="7456680" cy="435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9:55:45Z</dcterms:created>
  <dc:creator>Vladislav Navrátil</dc:creator>
  <dc:description/>
  <dc:language>en-US</dc:language>
  <cp:lastModifiedBy>Vladislav Navrátil</cp:lastModifiedBy>
  <dcterms:modified xsi:type="dcterms:W3CDTF">2006-03-05T12:42:54Z</dcterms:modified>
  <cp:revision>12</cp:revision>
  <dc:subject/>
  <dc:title>Snímek 1</dc:title>
</cp:coreProperties>
</file>