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685-FB85-4286-9FB0-E1050AB7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ED3-6D91-489C-BB7B-ECBEB3AB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BB6-1B7C-4BF4-B722-AB7B6D98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3EA-5F66-47F3-9957-DD9FD2D7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5FD-C520-4E8D-B753-81908882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DF8-2AFE-4110-B125-618D653B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466-BB79-4140-8A9A-79636506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62B-A0C1-4D4D-80E0-0C8EB56D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DE0-3E4E-43F5-A4A4-1BF0DA4D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119-64C0-4098-9933-17CCC064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A05-A501-40BF-AC04-E4EA0E92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DB1-619D-455D-903F-E445269A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E1AA-148C-49E7-91B3-F29CC45FC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840" y="423720"/>
            <a:ext cx="7869240" cy="591408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3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979640" y="1700280"/>
            <a:ext cx="4815000" cy="334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9120" y="496800"/>
            <a:ext cx="8085240" cy="550980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ruhy mazi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erální oleje, rostlinné oleje, syntetická mazi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mpozitní maziva, vodní maziva, povrchové vrst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valitní mazi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valitní maz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T5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826920" y="1844640"/>
            <a:ext cx="3119760" cy="3013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2" name="rt6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211640" y="2637000"/>
            <a:ext cx="4044960" cy="2228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620640"/>
            <a:ext cx="7581960" cy="576324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8.5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okré (vazké) 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= 6.</a:t>
            </a:r>
            <a:r>
              <a:rPr b="1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.r.v = b.v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= C.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TRE1" descr="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2195640" y="1844640"/>
            <a:ext cx="3797280" cy="29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9120" y="639720"/>
            <a:ext cx="8013600" cy="567180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5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livé tř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T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332000" y="1557360"/>
            <a:ext cx="3090600" cy="411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96000" y="3068640"/>
                <a:ext cx="939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7840" y="496800"/>
            <a:ext cx="8084880" cy="584604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8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ření (suché) smy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oulombův – Amontův zákon:    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RE6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209760" cy="318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5" name="TRE5" descr=""/>
          <p:cNvPicPr/>
          <p:nvPr/>
        </p:nvPicPr>
        <p:blipFill>
          <a:blip r:embed="rId2"/>
          <a:stretch/>
        </p:blipFill>
        <p:spPr>
          <a:xfrm>
            <a:off x="4356000" y="1916280"/>
            <a:ext cx="3541680" cy="314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5120" y="568440"/>
            <a:ext cx="7508880" cy="582372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ávislost síly tření na velikosti tažné sí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1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76360" y="1700280"/>
            <a:ext cx="6157800" cy="3693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496800"/>
            <a:ext cx="8012160" cy="550980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kutečná a zdánlivá třecí plo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RE11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317000" cy="358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7840" y="496800"/>
            <a:ext cx="7940520" cy="558036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kutečný povrch kov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RE12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395840" cy="365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19120" y="568440"/>
            <a:ext cx="7869240" cy="585468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ěření koeficientu tř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T1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4800600" cy="3225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2200" y="639720"/>
            <a:ext cx="7867440" cy="558036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T2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499520" cy="4224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568440"/>
            <a:ext cx="7797960" cy="558036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T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151760" cy="2200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7840" y="568440"/>
            <a:ext cx="8084880" cy="594612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nížení tření mazání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RR1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885000" cy="4148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1:47:03Z</dcterms:created>
  <dc:creator>Vladislav Navrátil</dc:creator>
  <dc:description/>
  <dc:language>en-US</dc:language>
  <cp:lastModifiedBy>Vladislav Navrátil</cp:lastModifiedBy>
  <dcterms:modified xsi:type="dcterms:W3CDTF">2006-03-05T12:38:06Z</dcterms:modified>
  <cp:revision>4</cp:revision>
  <dc:subject/>
  <dc:title>Snímek 1</dc:title>
</cp:coreProperties>
</file>