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47BD-9260-47D8-811D-EE2F97BF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727-BD7F-4A8E-8858-24A53664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D90-C813-48B4-B43B-A8CC7E440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C1DE-E6EE-480A-B1C0-93A8F1B1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E0DB-158F-4D46-A3F5-61E3E91E7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78A7-C973-4E0C-ACF8-41E00F97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A90C-C25D-48CE-8E74-C977C3E5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D36D-1AD9-4D02-B06E-F910AF33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FB75-6E4F-4E65-B8AB-AF2425024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0307-5BB5-451C-8247-6D4702DEA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D479-4B6F-420D-9097-415AC7DF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BCAB-0814-4CFE-9547-D1E2AFB6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987A-AB4C-4163-A8AB-B5039EF39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47840" y="352440"/>
            <a:ext cx="8372160" cy="58845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Zpevnění  materiál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ohyb  dislokac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2781360"/>
            <a:ext cx="7881840" cy="3092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68360" y="476280"/>
            <a:ext cx="8280360" cy="588420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cipitáty F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v oceli (a) schematické znázornění, b) skutečný sním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5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pevnění  pomocí  hranic  z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00000" y="836640"/>
            <a:ext cx="7140600" cy="357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76200" y="568440"/>
            <a:ext cx="815652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Znázornění pohybu dislok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contrast="34000"/>
          </a:blip>
          <a:stretch/>
        </p:blipFill>
        <p:spPr>
          <a:xfrm>
            <a:off x="755640" y="2421000"/>
            <a:ext cx="7427880" cy="203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47840" y="496800"/>
            <a:ext cx="822780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547640" y="836640"/>
            <a:ext cx="6002640" cy="5192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4360" y="620640"/>
            <a:ext cx="7848360" cy="55803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Kompresní a dilatační pole disloka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195640" y="1557360"/>
            <a:ext cx="5103720" cy="385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92200" y="568440"/>
            <a:ext cx="7580160" cy="579276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rankův – Reedův zdroj dislokac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211640" y="1125360"/>
            <a:ext cx="3645000" cy="4724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76200" y="423720"/>
            <a:ext cx="8156520" cy="60670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Skluzové pá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monokrystalech                            v  polykrystale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>
            <a:lum contrast="36000"/>
          </a:blip>
          <a:stretch/>
        </p:blipFill>
        <p:spPr>
          <a:xfrm>
            <a:off x="1908000" y="1700280"/>
            <a:ext cx="1460520" cy="3911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5003640" y="1700280"/>
            <a:ext cx="1872000" cy="389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8227800" cy="585324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orm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) válcování, b) kování, c) tažení, d) protlačování, e) hluboké tažení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)  tváření tažením, g) ohýb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84360" y="1557360"/>
            <a:ext cx="6600600" cy="3811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76200" y="281160"/>
            <a:ext cx="8156520" cy="63118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5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Příměsové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2050920" y="1052640"/>
            <a:ext cx="4486320" cy="5257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47840" y="423720"/>
            <a:ext cx="8156520" cy="5854680"/>
          </a:xfrm>
          <a:prstGeom prst="rect">
            <a:avLst/>
          </a:prstGeom>
          <a:solidFill>
            <a:srgbClr val="f1ade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4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ecipitační  zpevněn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ekoherentní (a) a koherentní (b) precipit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71640" y="1916280"/>
            <a:ext cx="7035840" cy="3225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7:26:49Z</dcterms:created>
  <dc:creator>Vladislav Navrátil</dc:creator>
  <dc:description/>
  <dc:language>en-US</dc:language>
  <cp:lastModifiedBy>Vladislav Navrátil</cp:lastModifiedBy>
  <dcterms:modified xsi:type="dcterms:W3CDTF">2006-02-25T18:11:41Z</dcterms:modified>
  <cp:revision>12</cp:revision>
  <dc:subject/>
  <dc:title>Snímek 1</dc:title>
</cp:coreProperties>
</file>