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BF82-DE14-4C9F-8CAF-15749E84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6D37-9E37-47A3-9082-8822FE36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938C-6FAC-4167-B770-CCC122875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BC95-3010-48DE-921D-EC9B852B8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8AAD-51FE-4D64-9913-13048C94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178C-40D4-4E4D-A75B-8AD2212C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95AB-13B8-431C-BAA7-C1B485BA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4B83-1C5C-4945-ADE2-2132704B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6F8D-DD08-4EED-A452-F50199EE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DDA7-E9F1-4A5C-84FB-7A21B703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377-0E02-4762-A982-88ED12C6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45AF-D31C-4F81-8C91-4246BFA9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58C16-521F-4478-A3EB-2BAE8A565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2200" y="496800"/>
            <a:ext cx="7796160" cy="58240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.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erspektivní materiá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1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Kovová sk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332000" y="2276640"/>
            <a:ext cx="2950920" cy="3012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43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5364000" y="1989000"/>
            <a:ext cx="2036880" cy="32943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19120" y="568440"/>
            <a:ext cx="808524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843280" y="1052640"/>
            <a:ext cx="3544920" cy="47466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63480" y="496800"/>
            <a:ext cx="7653600" cy="558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403280" y="2205000"/>
            <a:ext cx="6248520" cy="249732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19120" y="568440"/>
            <a:ext cx="7724880" cy="57632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.2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Uhlí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C1" descr="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2700360" y="1341360"/>
            <a:ext cx="4707000" cy="41925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63480" y="639720"/>
            <a:ext cx="7940880" cy="5518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Fázový diagram uhlí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1979640" y="1413000"/>
            <a:ext cx="5567400" cy="44082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47840" y="496800"/>
            <a:ext cx="8084880" cy="585468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Graf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2" descr=""/>
          <p:cNvPicPr/>
          <p:nvPr/>
        </p:nvPicPr>
        <p:blipFill>
          <a:blip r:embed="rId1">
            <a:lum contrast="78000"/>
          </a:blip>
          <a:stretch/>
        </p:blipFill>
        <p:spPr>
          <a:xfrm>
            <a:off x="2195640" y="1341360"/>
            <a:ext cx="4836960" cy="434196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47840" y="496800"/>
            <a:ext cx="7940520" cy="5823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Fulerény, fulerity, fuler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ful" descr=""/>
          <p:cNvPicPr/>
          <p:nvPr/>
        </p:nvPicPr>
        <p:blipFill>
          <a:blip r:embed="rId1"/>
          <a:stretch/>
        </p:blipFill>
        <p:spPr>
          <a:xfrm>
            <a:off x="2700360" y="1341360"/>
            <a:ext cx="431172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519120" y="568440"/>
            <a:ext cx="7940520" cy="56718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3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Titan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4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erplastic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2.5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Supravodivost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l28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303372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9:50:25Z</dcterms:created>
  <dc:creator>Vladislav Navrátil</dc:creator>
  <dc:description/>
  <dc:language>en-US</dc:language>
  <cp:lastModifiedBy>navratil</cp:lastModifiedBy>
  <dcterms:modified xsi:type="dcterms:W3CDTF">2006-03-30T11:57:55Z</dcterms:modified>
  <cp:revision>6</cp:revision>
  <dc:subject/>
  <dc:title>Snímek 1</dc:title>
</cp:coreProperties>
</file>