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83A-8401-4038-834F-2868FF312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8D5C-99C9-4DA1-A17C-2E213B09E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1795-5445-4A96-A83C-BED1E695B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1CCA-390F-49C8-97BA-675E42B2E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7B59-659F-4426-94C9-597D3420A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84F0-4E08-4A38-AA82-5598D87D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15EC-64B0-42F7-B48B-1F93E642A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ED2F-0A29-47D9-A32D-0C6C4845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64E-9E40-4C5D-B975-3875024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4CCB-F875-4A3D-9EA6-923D624E0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D00-2386-4A8D-9097-493A00FE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18EF-758B-4037-9A83-5E688234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1E917-CA8D-45A0-9BE6-F7AD9DB791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496800"/>
            <a:ext cx="8229600" cy="59457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.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echanické  vlastnosti  kov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1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užné (elastické) vlastnosti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1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 tahu, nebo tla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16000" y="3141720"/>
                <a:ext cx="91440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2916360" y="3141720"/>
                <a:ext cx="7444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187280" y="4292640"/>
                <a:ext cx="2502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l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8" name="" descr=""/>
          <p:cNvPicPr/>
          <p:nvPr/>
        </p:nvPicPr>
        <p:blipFill>
          <a:blip r:embed="rId1">
            <a:lum contrast="90000"/>
          </a:blip>
          <a:stretch/>
        </p:blipFill>
        <p:spPr>
          <a:xfrm>
            <a:off x="4788000" y="2924280"/>
            <a:ext cx="3674880" cy="3230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68360" y="496800"/>
            <a:ext cx="8280360" cy="6037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3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vrdost  materiál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>
            <a:lum contrast="60000"/>
          </a:blip>
          <a:stretch/>
        </p:blipFill>
        <p:spPr>
          <a:xfrm>
            <a:off x="1116000" y="1268280"/>
            <a:ext cx="7058160" cy="4751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4000" y="-1611360"/>
            <a:ext cx="829944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2050920" y="260280"/>
            <a:ext cx="4826160" cy="6346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55480" y="476280"/>
            <a:ext cx="7977240" cy="577656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Deformační stroj (typ INSTR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2556000" y="1413000"/>
            <a:ext cx="3512880" cy="40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2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eformace ve smyk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1042920" y="1197000"/>
                <a:ext cx="59076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484360" y="1197000"/>
                <a:ext cx="70164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4643280" y="1197000"/>
                <a:ext cx="2357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f>
                      <m:num>
                        <m:r>
                          <m:t xml:space="preserve">F</m:t>
                        </m:r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j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τ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403280" y="2205000"/>
            <a:ext cx="635976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39840" y="404640"/>
            <a:ext cx="8408880" cy="620964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.1.3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šestranný tl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>
            <a:lum contrast="54000"/>
          </a:blip>
          <a:stretch/>
        </p:blipFill>
        <p:spPr>
          <a:xfrm>
            <a:off x="2556000" y="1844640"/>
            <a:ext cx="3317760" cy="3079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9120" y="568440"/>
            <a:ext cx="8013600" cy="585468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2.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lastické  vlastnosti  kov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664240" cy="4718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95280" y="404640"/>
            <a:ext cx="8353440" cy="59965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ffffff"/>
                </a:solidFill>
                <a:uFillTx/>
                <a:latin typeface="Arial"/>
              </a:rPr>
              <a:t>K určení meze kluz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1692360" y="1341360"/>
            <a:ext cx="5794200" cy="458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496800"/>
            <a:ext cx="815652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prava křivky 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= f(</a:t>
            </a:r>
            <a:r>
              <a:rPr b="0" lang="el-GR" sz="1600" spc="-1" strike="noStrike">
                <a:solidFill>
                  <a:srgbClr val="000000"/>
                </a:solidFill>
                <a:latin typeface="Arial"/>
                <a:ea typeface="Arial"/>
              </a:rPr>
              <a:t>ε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) na skutečný průře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76280"/>
            <a:ext cx="8085240" cy="55494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Oprava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 na skutečný průřez vzor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692360" y="1197000"/>
            <a:ext cx="5703840" cy="4086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68360" y="568440"/>
            <a:ext cx="820728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Křivka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 pro křehké a tažné materiá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lum contrast="84000"/>
          </a:blip>
          <a:stretch/>
        </p:blipFill>
        <p:spPr>
          <a:xfrm>
            <a:off x="1979640" y="1125360"/>
            <a:ext cx="4937040" cy="4500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7840" y="568440"/>
            <a:ext cx="8227800" cy="582372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</a:rPr>
              <a:t>Vliv teploty na tvar křivky  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σ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 = f(</a:t>
            </a:r>
            <a:r>
              <a:rPr b="1" lang="el-GR" sz="1600" spc="-1" strike="noStrike">
                <a:solidFill>
                  <a:srgbClr val="ffffff"/>
                </a:solidFill>
                <a:latin typeface="Arial"/>
                <a:ea typeface="Arial"/>
              </a:rPr>
              <a:t>ε</a:t>
            </a:r>
            <a:r>
              <a:rPr b="1" lang="cs-CZ" sz="16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826920" y="1268280"/>
            <a:ext cx="7456680" cy="435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9:55:45Z</dcterms:created>
  <dc:creator>Vladislav Navrátil</dc:creator>
  <dc:description/>
  <dc:language>en-US</dc:language>
  <cp:lastModifiedBy>Vladislav Navrátil</cp:lastModifiedBy>
  <dcterms:modified xsi:type="dcterms:W3CDTF">2006-03-05T12:42:54Z</dcterms:modified>
  <cp:revision>12</cp:revision>
  <dc:subject/>
  <dc:title>Snímek 1</dc:title>
</cp:coreProperties>
</file>