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4F25-8870-4A1F-A895-B351E7255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25AA-E15D-4E76-BDE4-455B651C3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BB7D-BECC-4A02-9EE8-ACF6E1436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6D12-B380-4F78-98C4-2608F21C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8859-8BB2-44AF-8657-4D6252062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2FB4-8F64-4307-9D57-7B320F5A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9B99-753E-4808-96BD-6F609D18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57E9-F9B4-4992-8D60-0DB6744B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CF1E-D436-41A4-9768-AC161AEE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78C6-0951-41B5-B152-F3DC8148C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06E4-8B6C-4A0B-B1D4-7BB4163DD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2FEF-683B-40B6-9253-43FFE90C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53E5-A1D7-4F92-99A3-E1B07467E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19120" y="189000"/>
            <a:ext cx="8013600" cy="6215760"/>
          </a:xfrm>
          <a:prstGeom prst="rect">
            <a:avLst/>
          </a:prstGeom>
          <a:solidFill>
            <a:srgbClr val="f0fda1">
              <a:alpha val="83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Získávání a měření nízkých tla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 u="sng">
                <a:solidFill>
                  <a:srgbClr val="000000"/>
                </a:solidFill>
                <a:uFillTx/>
                <a:latin typeface="Arial"/>
              </a:rPr>
              <a:t>Jednotky tlaku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Pa = N / 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 = kp / cm2 = 0,9807.105 Pa (technická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b = 105 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atm = 760 torr = 1,01325.105 Pa (fyzikální atmosfér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 torr = 1,3332.102 Pa = tlak 1 mm sloupce H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1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Vývě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Vodní a pístová vývě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692360" y="3213000"/>
          <a:ext cx="163836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3213000"/>
                    <a:ext cx="1638360" cy="312444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45" name="V2" descr=""/>
          <p:cNvPicPr/>
          <p:nvPr/>
        </p:nvPicPr>
        <p:blipFill>
          <a:blip r:embed="rId3">
            <a:lum contrast="66000"/>
          </a:blip>
          <a:stretch/>
        </p:blipFill>
        <p:spPr>
          <a:xfrm>
            <a:off x="4788000" y="3213000"/>
            <a:ext cx="2171520" cy="180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47840" y="568440"/>
            <a:ext cx="8084880" cy="496980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Langmuirův – Dushmanův vakuoměr              Penning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VA6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125360"/>
            <a:ext cx="1940040" cy="3505320"/>
          </a:xfrm>
          <a:prstGeom prst="rect">
            <a:avLst/>
          </a:prstGeom>
          <a:ln w="0">
            <a:noFill/>
          </a:ln>
        </p:spPr>
      </p:pic>
      <p:pic>
        <p:nvPicPr>
          <p:cNvPr id="67" name="VRAK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4356000" y="2205000"/>
            <a:ext cx="381168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99560" y="568440"/>
            <a:ext cx="7605720" cy="55803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patková rotač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V6" descr=""/>
          <p:cNvPicPr/>
          <p:nvPr/>
        </p:nvPicPr>
        <p:blipFill>
          <a:blip r:embed="rId1">
            <a:biLevel thresh="50000"/>
            <a:lum contrast="100000"/>
          </a:blip>
          <a:stretch/>
        </p:blipFill>
        <p:spPr>
          <a:xfrm>
            <a:off x="2050920" y="1557360"/>
            <a:ext cx="4934160" cy="40543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ývěva s kolujícím rotor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V7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1700280"/>
            <a:ext cx="6046920" cy="34542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9120" y="56844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Rootsova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V9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843280" y="1484280"/>
            <a:ext cx="4228920" cy="407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92200" y="568440"/>
            <a:ext cx="78674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Turbomolekulár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V10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4211640" y="1052640"/>
            <a:ext cx="1743120" cy="20476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4" name="V11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258920" y="3429000"/>
            <a:ext cx="6305400" cy="2333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19120" y="496800"/>
            <a:ext cx="8085240" cy="58546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Difúzní vývě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Kondenzační a getrovací vývěv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V12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556000" y="1052640"/>
            <a:ext cx="5035320" cy="462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9120" y="496800"/>
            <a:ext cx="8156520" cy="594612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0.2. </a:t>
            </a:r>
            <a:r>
              <a:rPr b="1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Měření nízkých tla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acleodův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VA1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332000" y="1844640"/>
            <a:ext cx="2116080" cy="4164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9" name="VA2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3780000" y="2708280"/>
            <a:ext cx="4559040" cy="2558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63480" y="639720"/>
            <a:ext cx="7869240" cy="575316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mbránové manom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VA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971640" y="2133720"/>
            <a:ext cx="7359480" cy="206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19120" y="568440"/>
            <a:ext cx="8156520" cy="5487480"/>
          </a:xfrm>
          <a:prstGeom prst="rect">
            <a:avLst/>
          </a:prstGeom>
          <a:solidFill>
            <a:srgbClr val="f0fda1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Molekulární vakuoměr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                        Ionizační vakuomě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VA4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19280" y="907920"/>
            <a:ext cx="1485720" cy="4044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64" name="VA5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5364000" y="1628640"/>
            <a:ext cx="2732400" cy="3002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15:05:11Z</dcterms:created>
  <dc:creator>Vladislav Navrátil</dc:creator>
  <dc:description/>
  <dc:language>en-US</dc:language>
  <cp:lastModifiedBy>Vladislav Navrátil</cp:lastModifiedBy>
  <dcterms:modified xsi:type="dcterms:W3CDTF">2006-03-05T15:47:37Z</dcterms:modified>
  <cp:revision>6</cp:revision>
  <dc:subject/>
  <dc:title>Snímek 1</dc:title>
</cp:coreProperties>
</file>