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C2D-34C0-44D4-A8E3-871DE6F1D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429-214D-4FA7-9893-62956FFDC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23B-3C07-4CA2-A916-84AEBA9F7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BED-955E-409B-A607-5B2A582F0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142F-E64D-4BE4-8A86-0EB0D6BE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0684-AA88-437B-8677-C3183B86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DACF-EF01-40CD-970A-40A80D45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459E-8E62-4211-A9E9-B95D5FFCB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29FE-4716-466A-93C3-9DBE8B78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22B1-451B-47AD-A900-ADC90BBD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02F3-8AC8-43C6-8A7D-9EF5C0FE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81FC-7E28-422D-86FD-0C0ED4327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F0F4-38F4-4578-B699-0987208BFE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840" y="496800"/>
            <a:ext cx="8011800" cy="60980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vrchové napětí kapalin. Povrch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nergie pevných látek. Tekuté krysta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vrchové napětí kapal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znik povrchového napětí kapal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N7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1258920" y="3141720"/>
            <a:ext cx="2658960" cy="2244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3" name="PN3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859280" y="3141720"/>
            <a:ext cx="3229200" cy="2228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1280" y="639720"/>
            <a:ext cx="8064360" cy="49388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ůzná orientace smektických krystal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K2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826920" y="1484280"/>
            <a:ext cx="3832560" cy="2959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72" name="TK3" descr=""/>
          <p:cNvPicPr/>
          <p:nvPr/>
        </p:nvPicPr>
        <p:blipFill>
          <a:blip r:embed="rId2">
            <a:lum contrast="72000"/>
          </a:blip>
          <a:stretch/>
        </p:blipFill>
        <p:spPr>
          <a:xfrm>
            <a:off x="5076720" y="1484280"/>
            <a:ext cx="3141720" cy="2913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63480" y="568440"/>
            <a:ext cx="8012160" cy="55184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holesterické tekuté kryst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TK5" descr="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2484360" y="1125360"/>
            <a:ext cx="4232520" cy="4077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92200" y="496800"/>
            <a:ext cx="7724880" cy="612900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N6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5981760" cy="4210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700360" y="5589720"/>
                <a:ext cx="781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5219640" y="5589720"/>
                <a:ext cx="78120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940520" cy="558036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N1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979640" y="1197000"/>
            <a:ext cx="5197320" cy="1903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2" name="PN20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2124000" y="3500280"/>
            <a:ext cx="4865760" cy="2082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7840" y="568440"/>
            <a:ext cx="8011800" cy="560988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ýskyt a využití povrchového napě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emie, biologie, domácnost, zemědělství, průmysl, přírodní je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N26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03280" y="2349360"/>
            <a:ext cx="2914560" cy="271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5" name="PN21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76720" y="2205000"/>
            <a:ext cx="2551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92200" y="639720"/>
            <a:ext cx="7724880" cy="558036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N11" descr=""/>
          <p:cNvPicPr/>
          <p:nvPr/>
        </p:nvPicPr>
        <p:blipFill>
          <a:blip r:embed="rId1"/>
          <a:stretch/>
        </p:blipFill>
        <p:spPr>
          <a:xfrm>
            <a:off x="1116000" y="2205000"/>
            <a:ext cx="4024440" cy="2247840"/>
          </a:xfrm>
          <a:prstGeom prst="rect">
            <a:avLst/>
          </a:prstGeom>
          <a:ln w="0">
            <a:noFill/>
          </a:ln>
        </p:spPr>
      </p:pic>
      <p:pic>
        <p:nvPicPr>
          <p:cNvPr id="58" name="PN22" descr=""/>
          <p:cNvPicPr/>
          <p:nvPr/>
        </p:nvPicPr>
        <p:blipFill>
          <a:blip r:embed="rId2"/>
          <a:stretch/>
        </p:blipFill>
        <p:spPr>
          <a:xfrm>
            <a:off x="5292720" y="2060640"/>
            <a:ext cx="257652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9640" y="549360"/>
            <a:ext cx="7940880" cy="576324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.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ěření povrchového napě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N8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987640" y="1700280"/>
            <a:ext cx="2624040" cy="3635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663480" y="568440"/>
            <a:ext cx="7580520" cy="585468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N123" descr="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1979640" y="1268280"/>
            <a:ext cx="1957320" cy="3951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3" name="PN12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76720" y="1341360"/>
            <a:ext cx="2162160" cy="38372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47840" y="568440"/>
            <a:ext cx="8227800" cy="582228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9.4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ekuté krystaly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 – azoxyanisol (357 K – 423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Ethylester p – anisalaminoskořicové kyseliny (356 K – 412 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K2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68360" y="2133720"/>
            <a:ext cx="3924360" cy="1000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6" name="TK24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908000" y="4292640"/>
            <a:ext cx="4686480" cy="99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7840" y="568440"/>
            <a:ext cx="7940520" cy="5031720"/>
          </a:xfrm>
          <a:prstGeom prst="rect">
            <a:avLst/>
          </a:prstGeom>
          <a:solidFill>
            <a:srgbClr val="8efcc8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9.4.1. 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ruktura tekutých krystal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Nematické tekuté krystaly                      Smektické tekuté krysta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K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116000" y="1628640"/>
            <a:ext cx="3011400" cy="2681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9" name="TK1" descr=""/>
          <p:cNvPicPr/>
          <p:nvPr/>
        </p:nvPicPr>
        <p:blipFill>
          <a:blip r:embed="rId2">
            <a:lum contrast="48000"/>
          </a:blip>
          <a:stretch/>
        </p:blipFill>
        <p:spPr>
          <a:xfrm>
            <a:off x="4859280" y="1628640"/>
            <a:ext cx="3076560" cy="2692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4:06:20Z</dcterms:created>
  <dc:creator>Vladislav Navrátil</dc:creator>
  <dc:description/>
  <dc:language>en-US</dc:language>
  <cp:lastModifiedBy>Vladislav Navrátil</cp:lastModifiedBy>
  <dcterms:modified xsi:type="dcterms:W3CDTF">2006-03-05T15:01:01Z</dcterms:modified>
  <cp:revision>5</cp:revision>
  <dc:subject/>
  <dc:title>Snímek 1</dc:title>
</cp:coreProperties>
</file>