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232D-1282-41B5-930F-9D61BBD6D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61D2-F77A-4548-ACC2-D8724DD3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4CDB-59F1-4753-AFB9-8727961FA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6262-2C9E-4969-82E8-DAA262C5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65C-9BA4-40F5-B80F-660CCA06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38DD-EC1D-4847-A5B2-221F39D28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DF12-F57D-4EC7-BE6C-B688D058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A701-8393-4D36-9610-5F7B55AE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435F-E1AF-490E-9567-5F83B6179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7718-9500-4B4C-BFDB-D72F8AB8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B4FF-2913-4D08-B6CC-3107A7CF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523E-8D47-4954-BE93-C3212D27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496F-44D3-46D6-8615-3FC6616F50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840" y="423720"/>
            <a:ext cx="7869240" cy="591408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T3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979640" y="1700280"/>
            <a:ext cx="4815000" cy="3341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19120" y="496800"/>
            <a:ext cx="8085240" cy="550980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ruhy mazi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nerální oleje, rostlinné oleje, syntetická maziv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ompozitní maziva, vodní maziva, povrchové vrst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kvalitní maziva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valitní mazi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RT5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826920" y="1844640"/>
            <a:ext cx="3119760" cy="3013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2" name="rt6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4211640" y="2637000"/>
            <a:ext cx="4044960" cy="22287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39640" y="620640"/>
            <a:ext cx="7581960" cy="576324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8.5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okré (vazké) tř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9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= 6.</a:t>
            </a:r>
            <a:r>
              <a:rPr b="1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i="1" lang="cs-CZ" sz="1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.r.v = b.v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 = C.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TRE1" descr=""/>
          <p:cNvPicPr/>
          <p:nvPr/>
        </p:nvPicPr>
        <p:blipFill>
          <a:blip r:embed="rId1">
            <a:lum contrast="72000"/>
          </a:blip>
          <a:stretch/>
        </p:blipFill>
        <p:spPr>
          <a:xfrm>
            <a:off x="2195640" y="1844640"/>
            <a:ext cx="3797280" cy="29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9120" y="639720"/>
            <a:ext cx="8013600" cy="567180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5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Valivé tř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T4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332000" y="1557360"/>
            <a:ext cx="3090600" cy="411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796000" y="3068640"/>
                <a:ext cx="9396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47840" y="496800"/>
            <a:ext cx="8084880" cy="584604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8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ření (suché) smyk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oulombův – Amontův zákon:    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9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.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TRE6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3209760" cy="318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5" name="TRE5" descr=""/>
          <p:cNvPicPr/>
          <p:nvPr/>
        </p:nvPicPr>
        <p:blipFill>
          <a:blip r:embed="rId2"/>
          <a:stretch/>
        </p:blipFill>
        <p:spPr>
          <a:xfrm>
            <a:off x="4356000" y="1916280"/>
            <a:ext cx="3541680" cy="314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35120" y="568440"/>
            <a:ext cx="7508880" cy="582372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Závislost síly tření na velikosti tažné sí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T1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476360" y="1700280"/>
            <a:ext cx="6157800" cy="3693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2200" y="496800"/>
            <a:ext cx="8012160" cy="550980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kutečná a zdánlivá třecí plo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TRE11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317000" cy="358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47840" y="496800"/>
            <a:ext cx="7940520" cy="558036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Skutečný povrch kovů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TRE12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395840" cy="365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19120" y="568440"/>
            <a:ext cx="7869240" cy="585468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ěření koeficientu tře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RT1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4800600" cy="3225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92200" y="639720"/>
            <a:ext cx="7867440" cy="558036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RT2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499520" cy="4224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9120" y="568440"/>
            <a:ext cx="7797960" cy="558036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RT3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151760" cy="2200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7840" y="568440"/>
            <a:ext cx="8084880" cy="5946120"/>
          </a:xfrm>
          <a:prstGeom prst="rect">
            <a:avLst/>
          </a:prstGeom>
          <a:solidFill>
            <a:srgbClr val="42fc6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.3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nížení tření mazání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TRR1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885000" cy="4148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1:47:03Z</dcterms:created>
  <dc:creator>Vladislav Navrátil</dc:creator>
  <dc:description/>
  <dc:language>en-US</dc:language>
  <cp:lastModifiedBy>Vladislav Navrátil</cp:lastModifiedBy>
  <dcterms:modified xsi:type="dcterms:W3CDTF">2006-03-05T12:38:06Z</dcterms:modified>
  <cp:revision>4</cp:revision>
  <dc:subject/>
  <dc:title>Snímek 1</dc:title>
</cp:coreProperties>
</file>