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7053-CE03-4B27-B630-1F6CABF8B6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64C0-5CA0-4DD1-94EC-C61220F46E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FDB-4949-4C99-BFF1-AB37D02D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755-9AF1-4398-97FD-5C1CEB7F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3EA-6D5B-4404-AACE-3A51B731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7BE-D380-4580-AAD5-5F30F61D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B4DD-D84E-42B2-9957-1E69D92B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1DB8-E7F1-4A04-BDB5-899EAF02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2D80-413F-4C03-9B74-3292FBCE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DF26-D417-4BE9-BC45-2252E79E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8F8F-4779-4357-99C6-6661CB90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8BDA-DB46-4040-9683-30F17D4D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D7BF-FABD-4ED1-98C6-F191373C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255-3B80-49C3-B6C9-71047DF3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C279-F3D4-4B83-9C58-EC658603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B651-82B8-44B9-B3E6-6F52D8BF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2356-8A27-425E-AD93-81BC8D5A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B8AF-383F-453F-B335-5CDF2BC0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4BCC-67D8-4307-A03D-F4D722E8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FA7BC-DCD6-45CB-83CD-F3D4F71F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025C0-2410-4CF7-863F-64BCF5C0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3BD5D-046D-4D58-8BD4-9C810F65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33702-0700-46D3-AE14-91D59641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8E961-F83F-4835-A3AA-0400070C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B23-E464-4E49-9FF8-6979B59D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892D4-CC1F-4DB9-986D-40CAD07B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49C2E-039E-4934-8266-6CD837B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1CE6C-524D-41E6-B143-1D6D8198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6FE82-B159-4046-A3DC-D4CDE340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99A2C-F831-4D48-BAA0-C9153BF1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7CB10-85D4-4ECD-A845-1B1DB58E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8057D-7551-4BFA-957E-9B7846F4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BA48-FF3D-4546-927A-40248F5D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4A68-694C-4D20-8435-14ECC296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B95BF-89F0-41D7-9F5E-C83ABCF9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664-4C4F-4CF3-B375-79210F7C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31AC4-B4CE-44C7-A7B6-9A109B75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25622-4920-4A08-8C8F-463B8D58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7DEE3-819A-447B-8CD9-4E59A0B9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FCFE-F286-4A6E-8733-58C1E933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9CF2-A6A6-4B46-827D-3F49304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6F123-4046-4404-AEC0-7ED16716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EB84A-D1EA-4079-84D5-6CAB5FC2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EF37-1641-48ED-A40B-EE2A0AA7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8A28-2598-4CA2-B2E0-C8C2D061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33947-7D26-415C-9214-3D43FF92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A50-BD93-4C21-97F6-248C86C1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34F12-A633-44E1-8693-66D44E7B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FD9AB-C29A-4ACF-B64A-F6916390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F0AA9-E49A-4EE1-96BC-1B1EB919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B74D6-4698-463C-A042-96A92113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4171A-C06B-4BF5-82DE-90875BC1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6B91F-9A52-4414-BA00-4424E14A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837AE-8A25-4329-A8F1-F4F69959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F6540-5980-4BFC-8882-116CE62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F675B-1741-497A-A150-1839A109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0E7C9-FF9B-4200-87FE-49AB7FDF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C09-3848-4D34-8F33-9B860E38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F3692-7DFB-462B-BEB4-1D5BBB83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BE08A-DE13-4BCD-8F4E-2EF0519B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D7845-2AA9-40F5-97BD-FCDC4C15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21C34E-22CC-471D-8C3A-718F9E2D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43C2D-7BD3-4569-B45A-2ACAD633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1B671-4E2A-46D9-A9EB-73BAAB82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C96C4-00F4-4853-8578-47E87769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FAAEA-83D4-41A2-9920-7FF993A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8470B-3995-46F1-BF1B-2C057C2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92925-8129-4934-BBC6-8B157DB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8AB-7E61-4A9E-920D-1704081C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D9A30-3388-4F90-932A-22050C8F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91BCFF-1B74-4500-B5E4-84C1EDBF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47730-B47D-4ADF-B538-B2BADF07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6AF4D-ED12-4FD9-A22A-F29F8663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AC2E6-0D72-45E6-9367-F7CC2464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660D1-6B4E-4F29-B780-362C2338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D3F55-C89B-4E4A-8FC9-C7846478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50B6C-5606-49E2-8054-C3B7CF60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32620-2521-43A3-A958-AA9B4B18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C960F-5585-4A5E-8F24-6FB389D6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9C3-D027-4689-B973-98B62768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D99643-5B3F-485E-91E6-A22C69AC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5DC24-334B-46D1-AF79-D408B215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A00FB-165B-49AC-BE38-612ED5DC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4F2FE-E658-4B25-A59D-2EE7AFC6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49CC4-AE46-4FFA-9677-25B5E78E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09E-DF92-43E1-833D-F8B7F325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9A22-473E-405B-9E7B-D5E054E34BE1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CE6D-8920-49FF-8F88-5226308DE641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8529-8137-4C35-9797-432E564C9791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7001-4495-4A30-A392-22EDDE87481C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46F6-17CA-4E1A-BBC5-B8BA7A818A31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D827-BD41-47CF-B029-867860AA6098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B9AC-6AA5-475C-8E8C-75924624A187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MULTIDISCIPLINÁRNÍ SPOLUPRÁCE V SOCIÁLNĚ-PRÁVNÍ OCHRANĚ DĚTÍ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42926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Brno,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INTERDISCIPLINÁRNÍ SPOLUPRÁ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Je nezbytná a nemůže být pouze formál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Cílem je ochrana jedince a ohrožené rodiny, popř.možnosti sanace rodin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Tvorba a realizace preventivních opatření ve všech úrovní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Rychlá, adekvátní a účinná reakce (školy, OSPOD, PČR, NNO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dborné služby pracující 24 hodin denně v každém regionu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ebevzdělávání, specializační vzdělávání a výcvik pracovník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OMUNIKACE mezi jednotlivými složkami a odborníky, která vede ke kvalitní spoluprác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DRO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izikové chování dětí a jeho právní dopady (Martina Jindrová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. LF UK Praha klinika adiktiologie – možnost volného stahování publikac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etodiky MŠMT a MPS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IOD, o.p.s. – Práva dětí, Dítě jako svědek v trestním říz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MUS – Centrum pro rodinu Plzeň – projekt „Hlasy dětí – a co s tím uděláme?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entrum poradenských služeb UNA DOMO, s.r.o. Br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LEGISLATIVA A METODIKY MŠM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Úmluva o právech dítět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istina základních práv a svob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kon č.218/2003 Sb. – Zákon o soudnictví ve věcech mládež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kon  č. 40/2009 Sb. – Trestní zákoní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kon č. 273/2008 Sb. – Zákon o Policii České republ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kon č. 561/2004 Sb. – Školský zák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kon č. 359/1999 Sb. – Zákon o sociálně právní ochraně dě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etodické doporučení k primární prevenci rizikového chování u dětí, žáků a studentů ve školách a školských zařízeních č. 21 291/2010-2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etodický pokyn k jednotnému postupu při uvolňování a omlouvání žáků z vyučování, prevenci a postihu záškoláctví č. 10 194/2002-1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vazný pokyn policejního prezidenta č. 167/20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pecialisté, kteří mají zvláštní průpravu pro zacházení s mládež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SPOLUPRÁCE ŠKOL A ŠKOLSKÝCH ZAŘÍZENÍ S POLICIÍ ČR A OSP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zitivní x negativ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rčité nedostatky při vyšetřování delikventní čin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přesné znalosti zákonů a jiných právních předpis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jasnění součinnosti škol s Policí ČR a OSPOD, zejména při vyšetřování kriminality mládeže a trestných činů páchaných na mládeži včetně D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etodický pokyn MŠMT č. 25 884/2003 -24 – téměř archaický vzhledem k legislativním změnám v posledních lete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 toho vyplývá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znal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jisto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řípadně nedůvěra ke spolupráci s Policií ČR a OSP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stup Policie ČR do škol a školských zaříz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ůběh šetření ve ško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dvedení žáka ze ško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rozumění či přítomnost zákonných zástupc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dání vysvětlení žá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Osoba mladší 15ti let – svědek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Novelou Tr.ř. v souvislosti s přijetím zákona o obětech tr.činů (zák.č.45/2013 Sb.) bylo vypuštěno slovo pedagog a nahrazeno orgánem soc.právní ochrany dětí. Pedagog se může zúčastnit –podřadí se pod pojem „osoba mající zkušenost s výchovou mládeže. Může navrhnout přerušení nebo odložení úkonu. 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licejní orgán 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může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 žádosti vyhovět. Jedná se o úkon na služebnách PČ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Spolupráce škol a školských zařízení a Policie České republiky- sedmé aktualizované vydání – duben 2015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Rizikové chování dětí a jeho právní dopady –UK 1.LF – klinika adiktologi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cs-CZ" sz="2700" spc="-1" strike="noStrike">
                <a:solidFill>
                  <a:srgbClr val="575f6d"/>
                </a:solidFill>
                <a:latin typeface="Century Schoolbook"/>
              </a:rPr>
              <a:t>OZNAMOVÁNÍ NEDOVOLENÉHO JEDNÁNÍ ŽÁKŮ , OZNAMOVACÍ POVINNOST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oblematické určit, zda se jedná o čin jinak trestný, provinění, přestupek, výchovný problé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ožnost konzultace a spolupráce s PČ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požděné nahlaš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le Trestního zákoníku –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bez odkladu oznamovací povin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93 – zneužití dítěte k výrobě pornograf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98 – týrání svěřené osob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87 - pohlavní zneužívání – povinnost překažení tohoto tr.čin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IVÝP – METODICKÉ DOPORUČENÍ  MŠM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dividuální výchovná pomo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mlouvy s rodiči – individuální výchovná pomoc pro žáka. V rámci IVýP by měl mít pedagog v rukou účinný nástroj k zapojení žáka do řešení vlastního RC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astolení systematické komunikace s rodiči, žákem, OSPODem, PČR, popř. lékař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avidelné hodnocení cílů IVý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případě neplnění – lze využít dostupných sankcí  zejména výchovného charakter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575f6d"/>
                </a:solidFill>
                <a:latin typeface="Century Schoolbook"/>
              </a:rPr>
              <a:t>PRÁVNÍ POVĚDOMÍ PEDAGOGŮ A PRACOVNÍKŮ NNO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sílení právního povědom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ejména spolupráce pedagogů a pracovníků s PČR a OSP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é formy rizikového ch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é typy závisl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egislativní změn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8:18:44Z</dcterms:created>
  <dc:creator>Studovna</dc:creator>
  <dc:description/>
  <dc:language>en-US</dc:language>
  <cp:lastModifiedBy>Alena Plšková</cp:lastModifiedBy>
  <dcterms:modified xsi:type="dcterms:W3CDTF">2018-04-14T20:45:51Z</dcterms:modified>
  <cp:revision>94</cp:revision>
  <dc:subject/>
  <dc:title>Násilí mezi partnery příčiny a formy násilí a jeho výskyt  ve společnosti</dc:title>
</cp:coreProperties>
</file>