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87B-00C4-4900-BFD8-AE304EB166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3341-1E47-493A-A118-969F13A6EF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5F3-8C8F-4678-A2F9-09211B14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95C-A23A-4ED1-8894-12B4D7F8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D8A-713A-4500-B6D0-B6CC421C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CC5-2DB3-43CF-8ABE-15D91A57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24AF-2F7B-4E72-96F5-69D47562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3FA6-E22D-48CD-94A0-606FC745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B85-8CDE-4291-871F-25C070E9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6FA0-9B49-4C8F-90BB-C317DBDD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6BD7-0F3D-4668-B90E-3DD51BE6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C0F9-E998-4E92-81EA-0360F3AD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BB6D-6DD3-471C-AB99-F685EE66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4DD-6068-4A8B-A276-B7B5FF56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CDE2-8521-4D44-9800-CE7C2F2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906A-586B-48CE-8FC0-2734B4A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BC57-6F41-4B65-A1B2-73542FC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2AF3-3902-44C2-81CE-566BCF53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F7BE-9968-441C-8D74-82FD0B0E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9B9B7-2EB9-41FF-A5E7-0D25E693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1C064-E633-49E2-8667-FD2ECF92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2DF14-66EF-493E-B786-D60BE98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93779-C218-40A8-98CC-1DED9DA6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7D05F-E2C0-45BE-8C0B-1D4F5CDD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45F-7B6E-4B01-B1D8-2BB2D64F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8704A-63F6-42EC-AAD6-26C6427F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86F51-F391-4D16-B3BE-D80514EE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C9AE4-84F4-4715-8357-A2050A23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20298-96F9-40A1-A751-920C81F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081C9-8800-4E0E-8002-2FA08C4D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8BA38-6C34-42E6-8B88-AC759704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1097C-DCE5-451C-A5C0-80FEE1B2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24D34-B426-4BC4-827B-70324874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F8EC2-FF95-433E-92C0-90AAE024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543F-3C83-44FB-A9E4-45A7174E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D36-AEFB-4435-AD30-B17B1F8F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B8D57-14B2-4AD9-808F-CF34BD73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2F00-857D-428E-A64F-29981175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63E0-31B5-4F7E-ACF7-B675379E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9F52E-6430-4C5B-8E31-3C49F10E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5887-1115-4835-9B6C-0C2CFE96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B8855-1847-4102-89E0-A9302FD7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FBBAA-773C-4E55-8BD2-699922E2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5ED9-30BE-4F06-A065-9EA346E0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347F8-513A-47EC-B51B-202FF26F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C85CA-A74B-42AA-96D6-79193491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B77-CAE3-4899-94F8-C94D8D50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DDDD0-4D04-4B1B-A9B0-06FFDA2F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F9E6D-5179-4E90-BDEB-439F04BE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A53FA-2E17-4750-8AA1-64878449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85D3A-2F26-43BE-9B0B-B3C5A228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36A60-897B-4343-9DD2-D4C66E4B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FA988-0E01-4834-B920-FFFE2CC9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33787-D3AE-4CFF-95C9-4BF89589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D3EDB-D176-4E0C-BF05-929F2FAA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A469B-BA76-4E3A-B37C-7F6AD197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BC54A-9214-4DA7-9E49-22A5A7C0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7BA-825A-44AC-9134-5C5A35FB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C0AA7-1448-422C-A1D3-6F475FA8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39068-E188-4660-AA59-FD8B2FE3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55994-BD32-4935-80D2-031756BC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1D997-B4CC-4860-B151-9F46F35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5C871-8A34-4601-8421-CE435FE4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0E60E-681E-4C7D-B53E-F0DA2AA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B5365-192A-46D5-A90A-BFDA4814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1DF17-C965-4FED-9F57-1468BEF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F5763-6BA6-469B-AC57-9D8176C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4D693-2E4A-4854-8720-1A8BE755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8E0-5511-4E55-B22C-1F05430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0C5AF-E43C-4C12-AE92-E97F964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DE8D7-64E0-4DAC-B939-B1AAEFEC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99EF5-5D25-4844-B9B8-7F91AE03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6EE2A-72E4-40BC-9C42-5B5BB42E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6342B-DD86-49D2-9AF1-E9D6BD5C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2F78B-E37E-4D39-908E-236B3961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39580-4B73-44FA-A474-9DDDB489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FAAE8-A496-4A0B-910B-72804BEB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6D661-443A-41E3-952B-67A06557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4DC21-9207-41D9-9E09-BBC70065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701-B276-499F-B6EB-18C100E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8A162-B616-49D3-944C-238390FF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15E785-1A6B-41DA-B9C0-B872886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D2451-E2BA-4029-9010-6BCCFA0A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FC8CC-1274-4595-A9BD-7281668D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DCA27-3BB9-4777-94FA-520C1932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A5C-7694-4B55-B771-70D8D3E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B31C-120D-4C9E-A0C4-FB934EE6E16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33E-E46A-49C8-B2F4-56EF00ADE29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3056-E7EF-418B-91B9-1A9422C7EDB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BC45-3FB0-4354-BA81-7FEF5B0BBA9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3FAD-665E-4B94-A386-12295FA7044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9821-88B9-405E-A90D-9BDCAFD1E49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715D-E98D-4072-A412-1CD6C62D981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TRESTNÁ ČINNOST PÁCHANÁ NA DĚTECH A </a:t>
            </a: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DĚTMI</a:t>
            </a: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4292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Brno,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FÁZE ŠIKANY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.     Ostrak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I.    Přitvrzování – ojedinělá fyzická agre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II.   Vytvoření jádra agresorů-klíčový mo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V.    Většina přijímá normy agresor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.      Totalita – dokonalá šika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cký pokyn MŠM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MOBBING, BOSS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OBBING– lze charakterizovat jako systematické zákulisní intrikování, omezování, teror řízený kolegy na pracoviš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OSSING – je obdobou mobbingu, avšak šikanování se dopouští přímý nadřízený – nesmyslné úkoly či požadavky na splnění nereálných termínů, vylučování z kolektivu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EXUAL HARASSMENT –veškeré sexuálně motivované jednání, které uráží důstojnost zaměstnanců na pracoviš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7, odst. 3 Zákoníku prá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381 tr.z. – násilí vůči nadřízeném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 POHLEDU TRESTNÍHO ZÁKONÍK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46 Ublížení na zdrav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71 Omezování osobní svobod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73 Loupe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75 Vydír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76 Úti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84 Pomlu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185 Znásilně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187 Pohlavní zneužití (dě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05 Kráde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28 Poškození cizí vě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CITOVÉ TÝRÁNÍ A VYDÍRÁ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itové týrání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 takové chování dospělé osoby , které má vážný negativní vliv na citový vývoj a vývoj jeho ch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ůže mít formu verbálních útoků (ponižování, zatracování, zavrhování, zesměšňová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Forma fyzických útoků a fyzického násilí (rodinné konflikty, násilná izolace, omezování pohybu, vyvolávání pocitu strachu) – často propojeno s 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itové týrání může vyústit až po sebevraždu a jinou násilnou trestnou či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dírání : kladení podmín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TÝRÁNÍ A SEXUÁLNÍ ZNEUŽÍVÁNÍ DĚTÍ  - C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92 – zdravotní komise Rady Evrop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de o veškeré vědomé  či nevědomé aktivity, kterých se dopouští dospělý člověk (rodič, učitel, vychovatel,trenér, vedoucí….) na dítě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87 tr.z. Pohlavní zneužití - nepřekaž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98 tr.z. Týrání svěřené osoby-oznamovací   povi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99 tr.z. Týrání osoby žijící ve společném obydl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01 tr.z. Ohrožování výchovy dítě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02 tr.z. Svádění k pohlavnímu sty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04 tr.z. Podání alkoholu dítě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SYSTÉMOVÉ A SYSTEMATICKÉ TÝRÁ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ystémové týrání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 způsobeno tím systémem, který byl vytvořen pro pomoc a ochranu dětí a jejich rodin (instituce, které mají občanovi pomáh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citlivé lékařské prohlídky, dítě je neprávem odděleno od svých rodičů, upírání práva na poskytování informací, právo být slyšen,nedostatečné poskytování služeb apo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ystematické týrání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pakované , trvalé v intervalu nabývá na intenzit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8:18:44Z</dcterms:created>
  <dc:creator>Studovna</dc:creator>
  <dc:description/>
  <dc:language>en-US</dc:language>
  <cp:lastModifiedBy>Alena Plšková</cp:lastModifiedBy>
  <dcterms:modified xsi:type="dcterms:W3CDTF">2018-04-14T20:42:02Z</dcterms:modified>
  <cp:revision>39</cp:revision>
  <dc:subject/>
  <dc:title>Násilí mezi partnery příčiny a formy násilí a jeho výskyt  ve společnosti</dc:title>
</cp:coreProperties>
</file>