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68B-474F-468C-9EF7-EA5B900D58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146-E8A8-409A-A627-51CDE3CE3A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B87-A0B8-4809-B3FD-4442BEA4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A9E-F0B7-4B4E-904B-DB7B6E6A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3C7-2865-494F-A47C-B746B44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56E-C040-4A81-9D1B-7A71D670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092-B061-4AFF-9CBA-9A58DEF9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BD2F-4DB3-48E7-83FF-E181306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4F5E-2ECF-4ACC-91D9-B60AD82A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8806-B48C-4FF7-97A0-098EE03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22AA-D7CB-456E-86F1-B1F0C71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B4B5-BBDC-4EF1-AE94-4BC700A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0109-A1AF-4B75-8C68-DED247F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368-0488-48B9-AFC2-E850788B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0ADB-44C1-4D6D-9887-347687C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DE80-C7C7-4DAF-A260-28278AF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F46E-7B97-49EB-A54C-70B1FCD4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EF04-8A06-4F27-9A5F-5ED08ADC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523B-71E1-4CE5-AFB8-D88203B9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E97A0-F951-4B1A-ADD2-46F5F424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13991-AAF0-46F6-8DF2-19EAA5E6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5A694-DDBF-4943-B7E2-FC96BCC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47F89-A2AA-4F08-82BB-68794417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9282B-5F02-4EE1-BCF0-38246D5E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451-172B-46C0-8127-79230CFE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689E3-7A5C-4A31-B9AF-772CB766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3F69D-C7E3-4E25-B024-5BAA6EA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6B957-684B-4C91-97A4-960B1E8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58DD1-4B33-4661-8BF6-9822DB3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3ED12-9921-4650-ACDD-1DDC237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887C2-23AE-4869-B7CF-607F666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3C365-974D-4DAA-98B8-67ACD934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2559-F7F8-4E99-A473-7438A276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A508-0FA0-41E8-BDA4-AA9C3EA1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564C-EB5C-4758-A3CA-47B4EE3D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1EA-79DF-467B-B9C1-81CB4AC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02C7-AFEE-4013-ACBF-6A13CCC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EC4E-8180-4D15-A8E3-2405FCD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7627-874D-4D69-9787-7D9ADA23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B9F0-864A-42CE-A9BC-F94D814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F675-0ED8-443A-ACC8-D7A07DB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627C-89DA-463D-8ACB-B59A5D8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109B-4E7E-48A7-AF8F-2BC6226A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D777-53A3-446C-93B9-1167C053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787AF-15A9-423A-87FD-6A8E90BF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3EC7C-CF82-4B90-AE81-E9364C32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B30-D2D8-450E-933D-56173F0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399F2-8B6B-497D-9564-211F6F3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CCC7E-5742-4F03-9B58-93FEEC83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966E2-EBC9-41FB-96F3-83450A1D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1AEFD-00CE-43BC-930E-03433602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46680-7B1B-4917-8783-679E4C90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4ABC0-A959-4CED-922A-E955ACB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46BC0-05D0-4AF5-AD6C-0A453CF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09BAB-C35C-4B12-8BF5-7EDCDA1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807BA-2AAC-4B7D-A85D-0EF263BE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391B1-6883-4571-B832-A846D051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270-6454-46C8-9727-0AAC633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29092-7FF8-4128-9BCD-289ECE41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DB711-BEB5-41AC-9399-27D9216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D7C15-172C-429C-ACF3-9E5D0A4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A62B9-17ED-4D51-914B-0258F037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8543A-97EB-4531-AFC8-6490D8F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3D85D-F1D6-41E7-B7D0-0CDE7F44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322AA-AD52-4727-8D36-DA43C94D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2EA99-41C0-454B-AE77-7E6A8C1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EF64E-3809-4860-B5BB-67113E0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00D1A-59B1-4C2C-968D-58C2866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4FE-6F0B-49D8-83BE-3B6F6C1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AF913-A501-4C2E-8FD8-2FAB3CF8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69C0B-A194-4300-BBE2-6E25B664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68A33-D5CD-4404-A435-EB4B778B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5D571-B468-4A1D-B92C-80AAEAD4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939F6-52DA-4CA3-9846-41B156E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EFF6E-775B-4DCC-A041-B5233EAC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4A29B-C152-448E-955B-1D28A3E7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68A4B-015C-4FA7-BFE1-47E78DB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F616E-A269-4527-882D-D9E9B9E7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65687-16B3-4C96-A3C8-527E42B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C31-BD3E-4CF2-B3B8-0C8ADD6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499D3-D58B-4B92-A64A-0B931C6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30D03-404D-4659-8FCC-960A7F4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599BE-5B4C-42F5-BC08-804335F1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15FE0-35BB-4D02-B8E1-0AC91E94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645A6-4265-4EC2-9704-AAD94F4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81B-3724-4F6F-B592-D7FC5FA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DC77-E7C3-4001-8424-9326DB8A471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A7A-0E3E-4251-95AE-733FAB8F413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A04E-90C8-4CAF-9A70-77D8C74B058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EB5-F9B7-40AC-AE89-49770361B31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825-CF3D-4E2E-98C7-169C03295F0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E4B-2DC8-419A-917B-6A02DC24B3D4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F834-A5F4-46B6-A497-D9F5F3CE7B2C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MULTIDISCIPLINÁRNÍ SPOLUPRÁCE V SOCIÁLNĚ-PRÁVNÍ OCHRANĚ DĚTÍ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Brno,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INTERDISCIPLINÁRNÍ SPOLUPRÁ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e nezbytná a nemůže být pouze formál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Cílem je ochrana jedince a ohrožené rodiny, popř.možnosti sanace rodi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Tvorba a realizace preventivních opatření ve všech úrovní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Rychlá, adekvátní a účinná reakce (školy, OSPOD, PČR, NNO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dborné služby pracující 24 hodin denně v každém regionu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ebevzdělávání, specializační vzdělávání a výcvik pracovník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OMUNIKACE mezi jednotlivými složkami a odborníky, která vede ke kvalitní spoluprá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DRO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izikové chování dětí a jeho právní dopady (Martina Jindrová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. LF UK Praha klinika adiktiologie – možnost volného stahování publikac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ky MŠMT a MPS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IOD, o.p.s. – Práva dětí, Dítě jako svědek v trestním říz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US – Centrum pro rodinu Plzeň – projekt „Hlasy dětí – a co s tím uděláme?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entrum poradenských služeb UNA DOMO, s.r.o. Br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LEGISLATIVA A METODIKY MŠM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Úmluva o právech dítě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istina základních práv a svob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218/2003 Sb. – Zákon o soudnictví ve věcech mládež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 č. 40/2009 Sb. – Trestní zákoní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 273/2008 Sb. – Zákon o Policii České republ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 561/2004 Sb. – Školský zák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kon č. 359/1999 Sb. – Zákon o sociálně právní ochraně dě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é doporučení k primární prevenci rizikového chování u dětí, žáků a studentů ve školách a školských zařízeních č. 21 291/2010-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ý pokyn k jednotnému postupu při uvolňování a omlouvání žáků z vyučování, prevenci a postihu záškoláctví č. 10 194/2002-1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ávazný pokyn policejního prezidenta č. 167/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alisté, kteří mají zvláštní průpravu pro zacházení s mládež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POLUPRÁCE ŠKOL A ŠKOLSKÝCH ZAŘÍZENÍ S POLICIÍ ČR A OSP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zitivní x nega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rčité nedostatky při vyšetřování delikventní čin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přesné znalosti zákonů a jiných právních předpis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jasnění součinnosti škol s Policí ČR a OSPOD, zejména při vyšetřování kriminality mládeže a trestných činů páchaných na mládeži včetně D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ý pokyn MŠMT č. 25 884/2003 -24 – téměř archaický vzhledem k legislativním změnám v posledních lete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 toho vyplývá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znal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řípadně nedůvěra ke spolupráci s Policií ČR a OSP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stup Policie ČR do škol a školských zaříz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ůběh šetření ve ško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vedení žáka ze ško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rozumění či přítomnost zákonných zástupc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ání vysvětlení žá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Osoba mladší 15ti let – svědek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Novelou Tr.ř. v souvislosti s přijetím zákona o obětech tr.činů (zák.č.45/2013 Sb.) bylo vypuštěno slovo pedagog a nahrazeno orgánem soc.právní ochrany dětí. Pedagog se může zúčastnit –podřadí se pod pojem „osoba mající zkušenost s výchovou mládeže. Může navrhnout přerušení nebo odložení úkonu. 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licejní orgán 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může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 žádosti vyhovět. Jedná se o úkon na služebnách PČ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Spolupráce škol a školských zařízení a Policie České republiky- sedmé aktualizované vydání – duben 201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Rizikové chování dětí a jeho právní dopady –UK 1.LF – klinika adiktologi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OZNAMOVÁNÍ NEDOVOLENÉHO JEDNÁNÍ ŽÁKŮ , OZNAMOVACÍ POVINNOST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oblematické určit, zda se jedná o čin jinak trestný, provinění, přestupek, výchovný problé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žnost konzultace a spolupráce s PČ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požděné nahlaš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le Trestního zákoníku – </a:t>
            </a: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bez odkladu oznamovací povi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3 – zneužití dítěte k výrobě pornograf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8 – týrání svěřené oso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87 - pohlavní zneužívání – povinnost překažení tohoto tr.čin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IVÝP – METODICKÉ DOPORUČENÍ  MŠM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dividuální výchovná pomo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mlouvy s rodiči – individuální výchovná pomoc pro žáka. V rámci IVýP by měl mít pedagog v rukou účinný nástroj k zapojení žáka do řešení vlastního RC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stolení systematické komunikace s rodiči, žákem, OSPODem, PČR, popř. lékař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avidelné hodnocení cílů IVý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případě neplnění – lze využít dostupných sankcí  zejména výchovného charakte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PRÁVNÍ POVĚDOMÍ PEDAGOGŮ A PRACOVNÍKŮ NNO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sílení právního povědom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ejména spolupráce pedagogů a pracovníků s PČR a OSP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é formy rizikového ch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é typy závisl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egislativní změn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18:44Z</dcterms:created>
  <dc:creator>Studovna</dc:creator>
  <dc:description/>
  <dc:language>en-US</dc:language>
  <cp:lastModifiedBy>Alena Plšková</cp:lastModifiedBy>
  <dcterms:modified xsi:type="dcterms:W3CDTF">2018-04-14T20:45:51Z</dcterms:modified>
  <cp:revision>94</cp:revision>
  <dc:subject/>
  <dc:title>Násilí mezi partnery příčiny a formy násilí a jeho výskyt  ve společnosti</dc:title>
</cp:coreProperties>
</file>