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DF43-0656-4190-A387-956D7B16F0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E12-6CF8-4B79-9850-B01CEE525C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D23-873D-4E6F-8D7B-60362F27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230-B22D-4427-9441-8348574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48C-2509-4C45-8F9D-51C9E690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AA5-23F8-4F29-BA51-A65284D9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25A-ABC6-4CA6-94A7-D7EA24ED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30E-3191-49CB-8E9F-409894B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C299-8049-417F-890E-C818AF2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B654-5510-4B43-B515-1E2B8B49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303A-FE7A-4747-8360-9B44D87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E835-142E-4B01-8F56-BDB4081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737-3A20-4994-AA16-167BA4F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5C1-B898-47D7-9B91-4F44972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39E-5681-4843-88CC-19B6720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07DC-7553-48C0-A381-D2F9372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E395-0BF8-4E7D-AC4C-217ADB3A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E03-EBEB-4A63-9425-250F936C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095-DC3D-4D18-B8D4-89136113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9F8DE-6AED-4B87-A09A-27357CC5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59478-D0BC-44CB-9338-412F657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07988-36FB-4AE2-8E00-0CE2F93E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8B15C-9242-46CE-ABA0-B177A7B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8558A-E2D0-4263-932C-E7AFC5B4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2A1-49BC-49BC-BCAD-3404E688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DA422-0729-4644-AADB-C4B26BF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53415-FD98-4FD4-9F36-7DCF06A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DE02B-4E35-48C4-B6E3-EB79B527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4A2D8-E144-48E4-815D-4DAD1AF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272DB-425F-4B3A-875B-D203BDE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5C271-4CF7-4C22-BA13-1EA03F4D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B6A2D-E075-4D34-8244-06695284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4764-A692-4D82-BA2F-A06EC102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4920-6C05-43E7-9C2F-12F20637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C501-A369-4705-9536-1F2128C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691-9B1D-40BC-B142-AB422A3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C709-4F2B-4370-9EEF-D086096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DE10-1917-478E-B456-B72B42C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4571-25EF-4190-9A0C-FC5C20D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C43E-B33A-4577-9CB1-12BE7A3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19AD-C418-4532-A8EE-E18FA38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29A2-862C-4219-A493-12CBB1D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9A15-E09E-446B-A7DB-1532D72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DFEC-F00C-4D37-B4D8-557F62A4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8FC9-5CB9-47DC-8347-032B7B88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7B927-7CDE-43DB-8427-0B36FD94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C52-BEED-4986-B21F-1355C06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50FA9-7AA1-4161-8544-9F94AC8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BFC96-555D-439C-A2F9-D180BC1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C68C5-9726-4063-9660-43EC25DF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19CE6-D7C2-45C0-B0E8-A0BB7161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8CAB5-4FB1-4F9E-8019-A1B1E0D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DC3C0-BFA2-417D-9F1D-0FF4B6D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8650B-D7B1-437C-93CF-C656E95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C738B-9A6F-4FDE-9AC9-B9BCB72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A6DBC-BDFE-4A86-9AEA-9CB8C036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9BBFD-FEAD-4936-AC63-751449E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C72-8B1A-405D-8D48-27761C0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533E8-6C20-4766-9F8D-235ABDD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25A45-FB83-4EFF-B339-9618DF19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4D0E6-EF79-4520-BADA-D03B562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82BFF-FD32-4DDF-A7FD-63CAF9C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2A4A0-83BD-4223-8D2D-EDB5C4E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F8850-B021-4506-80D2-7336581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5355B-7CEC-48FA-9088-4ECE7D2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06278-0D34-41CF-8435-3FE0E92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223C2-C84D-42AA-A5F2-723E8057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E9446-8996-442A-A5FE-4B82B4B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173-83CF-43E1-A0E1-16F8B23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815A5-C538-497E-9451-10392972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67E56-0FE5-4953-ABF0-53BE842A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CF5E5-A05F-4BBB-875C-B44DC04E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14FAE-DEB9-4D40-88C0-227DCE52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1D1FB-959C-489D-B7E8-E5E14D8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DE3C8-F1E6-4919-8952-6858AB59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016CB-EB11-425F-8510-F7C07AB0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32971-5ED6-4D32-AA00-BC2F5CF2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18AC3-D2C5-4494-A998-9CB160E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8E1EC-9D67-49A1-9166-1B6DAED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297-BA18-4D4E-A711-EC5C8A2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C64F0-8CD5-4949-8E2E-A9DE42F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6ABE1-4C63-419D-9A30-A4A1B86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BF05B-B341-4978-A810-7993863F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7762A-AA4F-4308-98D1-B830A385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A078E-E947-447B-9777-D314A9FD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FCD-366C-4459-ABA0-1223CFB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941-46D2-4A27-920E-8F2D651700D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EC17-71FC-4D49-90A9-5935426189B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D3C0-7309-4F28-8BA4-2F5DD60488F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F1D-34A7-4ED0-B683-20166E3A2D7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994D-0CE3-409F-9B0E-9168E8CC487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A97-ACE4-4A34-8A15-B96C031D604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472-2766-4E1B-B495-A9ED49BBAFE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TRESTNÁ ČINNOST PÁCHANÁ NA DĚTECH A </a:t>
            </a: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DĚTMI</a:t>
            </a: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</a:t>
            </a: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Brno,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FÁZE ŠIKANY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.     Ostrak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I.    Přitvrzování – ojedinělá fyzická agre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II.   Vytvoření jádra agresorů-klíčový mo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V.    Většina přijímá normy agresor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.      Totalita – dokonalá šik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etodický pokyn MŠM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MOBBING, BOSS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BBING– lze charakterizovat jako systematické zákulisní intrikování, omezování, teror řízený kolegy na pracoviš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OSSING – je obdobou mobbingu, avšak šikanování se dopouští přímý nadřízený – nesmyslné úkoly či požadavky na splnění nereálných termínů, vylučování z kolektivu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EXUAL HARASSMENT –veškeré sexuálně motivované jednání, které uráží důstojnost zaměstnanců na pracoviš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7, odst. 3 Zákoníku 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381 tr.z. – násilí vůči nadřízeném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 POHLEDU TRESTNÍHO ZÁKONÍK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46 Ublížení na zdrav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1 Omezování osobní svo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3 Loupe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5 Vydír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76 Úti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4 Pomlu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185 Znásilně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187 Pohlavní zneužití (dě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5 Kráde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28 Poškození cizí vě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ITOVÉ TÝRÁNÍ A VYDÍR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itové týrání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takové chování dospělé osoby , které má vážný negativní vliv na citový vývoj a vývoj jeho ch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ůže mít formu verbálních útoků (ponižování, zatracování, zavrhování, zesměšňová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Forma fyzických útoků a fyzického násilí (rodinné konflikty, násilná izolace, omezování pohybu, vyvolávání pocitu strachu) – často propojeno s 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itové týrání může vyústit až po sebevraždu a jinou násilnou trestnou č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dírání : kladení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TÝRÁNÍ A SEXUÁLNÍ ZNEUŽÍVÁNÍ DĚTÍ  - C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2 – zdravotní komise Rady Evrop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de o veškeré vědomé  či nevědomé aktivity, kterých se dopouští dospělý člověk (rodič, učitel, vychovatel,trenér, vedoucí….) na dítě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87 tr.z. Pohlavní zneužití - nepřekaž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8 tr.z. Týrání svěřené osoby-oznamovací   povi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199 tr.z. Týrání osoby žijící ve společném obydl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1 tr.z. Ohrožování výchovy dítě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2 tr.z. Svádění k pohlavnímu sty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§ 204 tr.z. Podání alkoholu dítě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YSTÉMOVÉ A SYSTEMATICKÉ TÝRÁNÍ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ystémové týrání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e způsobeno tím systémem, který byl vytvořen pro pomoc a ochranu dětí a jejich rodin (instituce, které mají občanovi pomáh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citlivé lékařské prohlídky, dítě je neprávem odděleno od svých rodičů, upírání práva na poskytování informací, právo být slyšen,nedostatečné poskytování služeb apo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ystematické týrání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pakované , trvalé v intervalu nabývá na intenzit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18:44Z</dcterms:created>
  <dc:creator>Studovna</dc:creator>
  <dc:description/>
  <dc:language>en-US</dc:language>
  <cp:lastModifiedBy>Alena Plšková</cp:lastModifiedBy>
  <dcterms:modified xsi:type="dcterms:W3CDTF">2018-04-14T20:42:02Z</dcterms:modified>
  <cp:revision>39</cp:revision>
  <dc:subject/>
  <dc:title>Násilí mezi partnery příčiny a formy násilí a jeho výskyt  ve společnosti</dc:title>
</cp:coreProperties>
</file>