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869D-3D41-473C-8ADB-F37B751E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0A0-9AF1-4765-B4D6-1F62F167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911D-E1B2-47A4-B6FD-D5C93B17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401-F6AE-4281-A900-ED9AC9BC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9685-A107-4D1B-B424-E6E4E111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3617-F455-4C7F-AA4A-DE97F467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4AEC-A7EC-4C24-B657-6B64F4BE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17F0-7494-4C75-A54A-FEFC7088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503-A09D-4E36-B201-1608826E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144-0EB6-4645-B2A9-F26AF249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87AD-72CA-4493-A2B7-F99B3BC1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6420-D3DA-4D57-8E18-2B036289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3C61-643D-48D9-A3E8-B36F9324D3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idskaprava.cz/student/uvod-do-lidskych-prav/hry-a-kvizy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lidskaprava.cz/student/uvod-do-lidskych-prav/hry-a-kvizy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adpis 1" descr=""/>
          <p:cNvPicPr/>
          <p:nvPr/>
        </p:nvPicPr>
        <p:blipFill>
          <a:blip r:embed="rId1"/>
          <a:stretch/>
        </p:blipFill>
        <p:spPr>
          <a:xfrm>
            <a:off x="1523880" y="1122480"/>
            <a:ext cx="9144000" cy="2388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e699"/>
                </a:solidFill>
                <a:latin typeface="Calibri"/>
              </a:rPr>
              <a:t>9. roční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e699"/>
                </a:solidFill>
                <a:latin typeface="Calibri Light"/>
              </a:rPr>
              <a:t>Promysli odpovědi na otázky …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2f2f2"/>
                </a:solidFill>
                <a:latin typeface="Calibri"/>
              </a:rPr>
              <a:t>Kde se lidská práva vzala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2f2f2"/>
                </a:solidFill>
                <a:latin typeface="Calibri"/>
              </a:rPr>
              <a:t>Čím se lidská práva liší od ostatních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2f2f2"/>
                </a:solidFill>
                <a:latin typeface="Calibri"/>
              </a:rPr>
              <a:t>Jak ovlivňují každého z nás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2f2f2"/>
                </a:solidFill>
                <a:latin typeface="Calibri"/>
              </a:rPr>
              <a:t>Proč jsou tak významná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2f2f2"/>
                </a:solidFill>
                <a:latin typeface="Calibri"/>
              </a:rPr>
              <a:t>A jaký je vztah mezi právy, požadavky a potřebami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1219212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  <a:gridCol w="30481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Všichni jsme svobodní a sobě rovn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o na život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Nediskriminuj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avedlivé zacházení před nestrannými soud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kaz otroctví – minulost a současno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Zákaz mučení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o na sociální zabezpečení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Všichni máme stejné právo použít zák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Všichni jsme pod ochranou záko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kaz nespravedlivého zadržování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Presumpce neviny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oboda pohybu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o na azyl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Právo na státní příslušnost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želství a rodina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Právo na soukromý majetek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Svoboda myšlení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oboda projevu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Svoboda shromažďování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o na demokracii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městnanecká práv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Právo na soukromí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o na hr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Obydlí a výživa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Právo na vzdělání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tura a autorská práv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Svobodný a spravedlivý svět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46" name="TextovéPole 4"/>
          <p:cNvSpPr/>
          <p:nvPr/>
        </p:nvSpPr>
        <p:spPr>
          <a:xfrm>
            <a:off x="1060560" y="3206880"/>
            <a:ext cx="1007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2f2f2"/>
                </a:solidFill>
                <a:latin typeface="Calibri"/>
              </a:rPr>
              <a:t>Z následující nabídky práv vyber </a:t>
            </a:r>
            <a:r>
              <a:rPr b="1" lang="cs-CZ" sz="2400" spc="-1" strike="noStrike">
                <a:solidFill>
                  <a:srgbClr val="ffe699"/>
                </a:solidFill>
                <a:latin typeface="Calibri"/>
              </a:rPr>
              <a:t>3</a:t>
            </a:r>
            <a:r>
              <a:rPr b="1" lang="cs-CZ" sz="2400" spc="-1" strike="noStrike">
                <a:solidFill>
                  <a:srgbClr val="f2f2f2"/>
                </a:solidFill>
                <a:latin typeface="Calibri"/>
              </a:rPr>
              <a:t> a napiš</a:t>
            </a:r>
            <a:r>
              <a:rPr b="1" lang="cs-CZ" sz="2400" spc="-1" strike="noStrike">
                <a:solidFill>
                  <a:srgbClr val="ffe699"/>
                </a:solidFill>
                <a:latin typeface="Calibri"/>
              </a:rPr>
              <a:t> jakým způsobem každé z těchto práv ovlivňuje jejich každodenní život</a:t>
            </a:r>
            <a:r>
              <a:rPr b="1" lang="cs-CZ" sz="2400" spc="-1" strike="noStrike">
                <a:solidFill>
                  <a:srgbClr val="f2f2f2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38080" y="361800"/>
            <a:ext cx="10515600" cy="613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2f2f2"/>
                </a:solidFill>
                <a:latin typeface="Calibri"/>
              </a:rPr>
              <a:t>Uvědomění </a:t>
            </a:r>
            <a:r>
              <a:rPr b="0" lang="cs-CZ" sz="2800" spc="-1" strike="noStrike">
                <a:solidFill>
                  <a:srgbClr val="f2f2f2"/>
                </a:solidFill>
                <a:latin typeface="Calibri"/>
              </a:rPr>
              <a:t>– volné psaní, čas 2 minuty, každý jeden pojem (po řadách, dvojicích, lose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2f2f2"/>
                </a:solidFill>
                <a:latin typeface="Calibri"/>
              </a:rPr>
              <a:t>Ve dvojicích si vzájemně přečtěte, co jste napsali, doplňte, zakroužkujte společná slov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2f2f2"/>
                </a:solidFill>
                <a:latin typeface="Calibri"/>
              </a:rPr>
              <a:t>Na tabuli dáme 4 velké papíry s názvy. Děti doplňují hesla ze svých textů (třídění informací), můžu připsat pojmy ze své tabul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e699"/>
                </a:solidFill>
                <a:latin typeface="Calibri"/>
              </a:rPr>
              <a:t>Do seši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e699"/>
                </a:solidFill>
                <a:latin typeface="Calibri"/>
              </a:rPr>
              <a:t>Dodržování lidských práv prolíná všemi činnostmi lidského konání, má vliv na fungování státu, má rovněž vliv na bezpečnost v regionu, státu i kontinen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1219212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  <a:gridCol w="3048120"/>
              </a:tblGrid>
              <a:tr h="12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2cc"/>
                          </a:solidFill>
                          <a:latin typeface="Calibri"/>
                        </a:rPr>
                        <a:t>PRÁVNÍ STÁ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2cc"/>
                          </a:solidFill>
                          <a:latin typeface="Calibri"/>
                        </a:rPr>
                        <a:t>DEMOKRAC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2cc"/>
                          </a:solidFill>
                          <a:latin typeface="Calibri"/>
                        </a:rPr>
                        <a:t>MÍR V EVROP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2cc"/>
                          </a:solidFill>
                          <a:latin typeface="Calibri"/>
                        </a:rPr>
                        <a:t>OCHRANA LIDSKÝCH PRÁ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559116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2f2f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2f2f2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2f2f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2f2f2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1219212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  <a:gridCol w="3048120"/>
              </a:tblGrid>
              <a:tr h="12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2cc"/>
                          </a:solidFill>
                          <a:latin typeface="Calibri"/>
                        </a:rPr>
                        <a:t>PRÁVNÍ STÁ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2cc"/>
                          </a:solidFill>
                          <a:latin typeface="Calibri"/>
                        </a:rPr>
                        <a:t>DEMOKRAC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2cc"/>
                          </a:solidFill>
                          <a:latin typeface="Calibri"/>
                        </a:rPr>
                        <a:t>MÍR V EVROP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2cc"/>
                          </a:solidFill>
                          <a:latin typeface="Calibri"/>
                        </a:rPr>
                        <a:t>OCHRANA LIDSKÝCH PRÁ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559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ko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držování zákon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stní řá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id, poho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hrana lidských prá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2f2f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uralita názor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l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tické str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držování pravi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hrana lidských prá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2f2f2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řehká rov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u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le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odnos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držování lidských prá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lou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2f2f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mbuds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át a záko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ládní organiz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2f2f2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kupina 4"/>
          <p:cNvGrpSpPr/>
          <p:nvPr/>
        </p:nvGrpSpPr>
        <p:grpSpPr>
          <a:xfrm>
            <a:off x="2489040" y="2212920"/>
            <a:ext cx="7213680" cy="2432160"/>
            <a:chOff x="2489040" y="2212920"/>
            <a:chExt cx="7213680" cy="2432160"/>
          </a:xfrm>
        </p:grpSpPr>
        <p:pic>
          <p:nvPicPr>
            <p:cNvPr id="51" name="Picture 2" descr="LidskÃ¡ prÃ¡va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2489040" y="2641320"/>
              <a:ext cx="2019960" cy="1575000"/>
            </a:xfrm>
            <a:prstGeom prst="rect">
              <a:avLst/>
            </a:prstGeom>
            <a:ln cap="sq" w="444600">
              <a:solidFill>
                <a:srgbClr val="000000"/>
              </a:solidFill>
              <a:miter/>
            </a:ln>
            <a:effectLst>
              <a:outerShdw dist="190409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52" name="Pětiúhelník 3">
              <a:hlinkClick r:id="rId3"/>
            </p:cNvPr>
            <p:cNvSpPr/>
            <p:nvPr/>
          </p:nvSpPr>
          <p:spPr>
            <a:xfrm>
              <a:off x="4893480" y="2212920"/>
              <a:ext cx="4809240" cy="2432160"/>
            </a:xfrm>
            <a:custGeom>
              <a:avLst/>
              <a:gdLst>
                <a:gd name="textAreaLeft" fmla="*/ 0 w 4809240"/>
                <a:gd name="textAreaRight" fmla="*/ 4809240 w 480924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36" y="0"/>
                  </a:lnTo>
                  <a:lnTo>
                    <a:pt x="21600" y="10800"/>
                  </a:lnTo>
                  <a:lnTo>
                    <a:pt x="1613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Calibri"/>
                </a:rPr>
                <a:t>KVÍZY NA TÉMATA O LIDSKÝCH PRÁVE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2T13:34:14Z</dcterms:created>
  <dc:creator>Josef Strouhal</dc:creator>
  <dc:description/>
  <dc:language>en-US</dc:language>
  <cp:lastModifiedBy>Josef Strouhal</cp:lastModifiedBy>
  <dcterms:modified xsi:type="dcterms:W3CDTF">2019-03-12T14:54:49Z</dcterms:modified>
  <cp:revision>6</cp:revision>
  <dc:subject/>
  <dc:title>Cvičení lidská práva</dc:title>
</cp:coreProperties>
</file>