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483-7AEF-45A2-AC3B-43C734EB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ECE-EAB1-47CC-AF05-BFC6EC4F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1F7-C7A1-4CA7-A283-5B4ECA90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316-6A5B-4A71-91D2-0E730601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720-76C3-4103-9CBC-58629F13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E83-9D2A-4FAA-9B07-F78C37A1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EA9-81CD-4CB7-BAF7-A1A5F2C9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60E-96A4-446A-ABC7-1D5416A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DFA-B2B1-4921-8500-785AB731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539-5C3B-45A7-89EA-E943F5E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4DB-B200-475B-B94E-AA6269D5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4BA-AA49-4791-9F6F-21E99369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E0AE-A1FF-474F-A5E2-46AD5D0D7F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dskaprava.cz/student/uvod-do-lidskych-prav/hry-a-kvizy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lidskaprava.cz/student/uvod-do-lidskych-prav/hry-a-kvizy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adpis 1" descr=""/>
          <p:cNvPicPr/>
          <p:nvPr/>
        </p:nvPicPr>
        <p:blipFill>
          <a:blip r:embed="rId1"/>
          <a:stretch/>
        </p:blipFill>
        <p:spPr>
          <a:xfrm>
            <a:off x="1523880" y="1122480"/>
            <a:ext cx="9144000" cy="2388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e699"/>
                </a:solidFill>
                <a:latin typeface="Calibri"/>
              </a:rPr>
              <a:t>9. roč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e699"/>
                </a:solidFill>
                <a:latin typeface="Calibri Light"/>
              </a:rPr>
              <a:t>Promysli odpovědi na otázky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Kde se lidská práva vzal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Čím se lidská práva liší od ostatní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Jak ovlivňují každého z ná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Proč jsou tak významná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A jaký je vztah mezi právy, požadavky a potřebami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Všichni jsme svobodní a sobě rovn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život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Nediskriminuj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avedlivé zacházení před nestrannými soud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otroctví – minulost a současno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Zákaz muče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sociální zabezpečení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Všichni máme stejné právo použít zák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Všichni jsme pod ochranou záko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nespravedlivého zadržován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esumpce neviny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oboda pohybu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azyl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státní příslušnost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želství a rodina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soukromý majetek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voboda myšle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oboda projevu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voboda shromažďová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demokracii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anecká prá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soukrom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hr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Obydlí a výživa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vzdělá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 a autorská práv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vobodný a spravedlivý svět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46" name="TextovéPole 4"/>
          <p:cNvSpPr/>
          <p:nvPr/>
        </p:nvSpPr>
        <p:spPr>
          <a:xfrm>
            <a:off x="1060560" y="3206880"/>
            <a:ext cx="100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2f2f2"/>
                </a:solidFill>
                <a:latin typeface="Calibri"/>
              </a:rPr>
              <a:t>Z následující nabídky práv vyber </a:t>
            </a:r>
            <a:r>
              <a:rPr b="1" lang="cs-CZ" sz="2400" spc="-1" strike="noStrike">
                <a:solidFill>
                  <a:srgbClr val="ffe699"/>
                </a:solidFill>
                <a:latin typeface="Calibri"/>
              </a:rPr>
              <a:t>3</a:t>
            </a:r>
            <a:r>
              <a:rPr b="1" lang="cs-CZ" sz="2400" spc="-1" strike="noStrike">
                <a:solidFill>
                  <a:srgbClr val="f2f2f2"/>
                </a:solidFill>
                <a:latin typeface="Calibri"/>
              </a:rPr>
              <a:t> a napiš</a:t>
            </a:r>
            <a:r>
              <a:rPr b="1" lang="cs-CZ" sz="2400" spc="-1" strike="noStrike">
                <a:solidFill>
                  <a:srgbClr val="ffe699"/>
                </a:solidFill>
                <a:latin typeface="Calibri"/>
              </a:rPr>
              <a:t> jakým způsobem každé z těchto práv ovlivňuje jejich každodenní život</a:t>
            </a:r>
            <a:r>
              <a:rPr b="1" lang="cs-CZ" sz="2400" spc="-1" strike="noStrike">
                <a:solidFill>
                  <a:srgbClr val="f2f2f2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38080" y="361800"/>
            <a:ext cx="10515600" cy="613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2f2f2"/>
                </a:solidFill>
                <a:latin typeface="Calibri"/>
              </a:rPr>
              <a:t>Uvědomění </a:t>
            </a:r>
            <a:r>
              <a:rPr b="0" lang="cs-CZ" sz="2800" spc="-1" strike="noStrike">
                <a:solidFill>
                  <a:srgbClr val="f2f2f2"/>
                </a:solidFill>
                <a:latin typeface="Calibri"/>
              </a:rPr>
              <a:t>– volné psaní, čas 2 minuty, každý jeden pojem (po řadách, dvojicích, los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2f2f2"/>
                </a:solidFill>
                <a:latin typeface="Calibri"/>
              </a:rPr>
              <a:t>Ve dvojicích si vzájemně přečtěte, co jste napsali, doplňte, zakroužkujte společná slo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2f2f2"/>
                </a:solidFill>
                <a:latin typeface="Calibri"/>
              </a:rPr>
              <a:t>Na tabuli dáme 4 velké papíry s názvy. Děti doplňují hesla ze svých textů (třídění informací), můžu připsat pojmy ze své tabul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e699"/>
                </a:solidFill>
                <a:latin typeface="Calibri"/>
              </a:rPr>
              <a:t>Do seši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e699"/>
                </a:solidFill>
                <a:latin typeface="Calibri"/>
              </a:rPr>
              <a:t>Dodržování lidských práv prolíná všemi činnostmi lidského konání, má vliv na fungování státu, má rovněž vliv na bezpečnost v regionu, státu i kontinen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12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PRÁVNÍ ST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DEMOKRA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MÍR V EVROP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5591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12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PRÁVNÍ ST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DEMOKRA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MÍR V EVROP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559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o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ržování zákon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řá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id, poh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uralita názor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ké str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ržování pravi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ehká rov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e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os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ržování lidských prá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lou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bud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át a záko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ládní organiz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kupina 4"/>
          <p:cNvGrpSpPr/>
          <p:nvPr/>
        </p:nvGrpSpPr>
        <p:grpSpPr>
          <a:xfrm>
            <a:off x="2489040" y="2212920"/>
            <a:ext cx="7213680" cy="2432160"/>
            <a:chOff x="2489040" y="2212920"/>
            <a:chExt cx="7213680" cy="2432160"/>
          </a:xfrm>
        </p:grpSpPr>
        <p:pic>
          <p:nvPicPr>
            <p:cNvPr id="51" name="Picture 2" descr="LidskÃ¡ prÃ¡v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489040" y="2641320"/>
              <a:ext cx="2019960" cy="1575000"/>
            </a:xfrm>
            <a:prstGeom prst="rect">
              <a:avLst/>
            </a:prstGeom>
            <a:ln cap="sq" w="444600">
              <a:solidFill>
                <a:srgbClr val="000000"/>
              </a:solidFill>
              <a:miter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52" name="Pětiúhelník 3">
              <a:hlinkClick r:id="rId3"/>
            </p:cNvPr>
            <p:cNvSpPr/>
            <p:nvPr/>
          </p:nvSpPr>
          <p:spPr>
            <a:xfrm>
              <a:off x="4893480" y="2212920"/>
              <a:ext cx="4809240" cy="2432160"/>
            </a:xfrm>
            <a:custGeom>
              <a:avLst/>
              <a:gdLst>
                <a:gd name="textAreaLeft" fmla="*/ 0 w 4809240"/>
                <a:gd name="textAreaRight" fmla="*/ 4809240 w 48092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36" y="0"/>
                  </a:lnTo>
                  <a:lnTo>
                    <a:pt x="21600" y="10800"/>
                  </a:lnTo>
                  <a:lnTo>
                    <a:pt x="161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Calibri"/>
                </a:rPr>
                <a:t>KVÍZY NA TÉMATA O LIDSKÝCH PRÁVE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2T13:34:14Z</dcterms:created>
  <dc:creator>Josef Strouhal</dc:creator>
  <dc:description/>
  <dc:language>en-US</dc:language>
  <cp:lastModifiedBy>Josef Strouhal</cp:lastModifiedBy>
  <dcterms:modified xsi:type="dcterms:W3CDTF">2019-03-12T14:54:49Z</dcterms:modified>
  <cp:revision>6</cp:revision>
  <dc:subject/>
  <dc:title>Cvičení lidská práva</dc:title>
</cp:coreProperties>
</file>